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373-4E0F-474C-9BD9-C8D34E22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C5F-0F0F-4984-9FD6-49A4B171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587-A738-44D3-8AFC-B175BA6D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1F3-40C3-4C72-AB7A-483910F2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4437-E635-4DC4-B41C-43B5ED08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731D-F827-4055-A0AA-803FBF09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06F2-2AFF-47E8-B5BF-BF7998C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D5C-2C72-4C08-8E47-291A6D9F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E712-E87F-4A4B-A648-5CED4E24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839E-7DE0-4708-8D1E-B2FE46C5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8EFC-F2F4-45F0-8DA2-1613B924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F1E-05D7-44B6-BCCE-916286A4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0F05-83DD-49D5-BAFC-B3FEC4AA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E397-0EE6-4E49-881E-B6E06887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4B9A-B886-42C8-928A-E9299CCF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768C-A446-492B-B227-D4839859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843C-776A-43D4-B1A4-9E877180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0D5-5C1C-4761-9D52-78D490AC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A10-7483-4256-9C5E-AC9F371D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78C-7BE7-4C45-B7C5-F2901AA0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E24-D672-4E95-B37F-0C202617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F2A-20CD-4C62-96E3-9BAE04A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E6D-E65F-4C13-B731-1F1CD1A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028-3DB1-40AD-809E-E00A505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F0C-7A6E-4F22-9F5C-CAD43BC43C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EF59-4727-4168-AABB-7146510EF30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000" y="692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Возраст первой любв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3168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ле пробле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знать в чем состоят особенности подросткового чувства первой влюблен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явить проблемы которые возникают в семье в связи с первой влюбленностью ребен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67640" y="5086440"/>
            <a:ext cx="2376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ысказывания дете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Я иногда не понимаю, что со мной происходит. Увидев ее я начинаю вести себя странно. Кривляюсь, бью ее книгой по голове…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Я некогда не скажу родителям о своем чувстве, потому что наверняка они меня засмеют: какие мальчики нам в институт надо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Завидую подруге, она с матерью говорит на любые темы, «даже про это», а я и представить себе не могу эту тему в общении со своими родителями. Они, бедные, думают, что я еще «не в курсе»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Для меня эта тема закрыта. Человек, который мне нравится, меня никогда не полюбит. Он сам мне это сказал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еня достал П. Он мне неприятен, но постоянно пристает с какими-то дурацкими знаками внимания. И вообще… Никакой любви нет. Просто надо удачно выйти замуж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Ну что за мучение, всем разрешают на дискотеку, а мне нет. А все потому, что мальчик с которым я встречаюсь из плохой семьи…, но он то хороший!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«Все эти шуры-муры – глупости. Я хочу получить хорошую профессию, Поэтому нужно заниматься.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b0f"/>
                </a:solidFill>
                <a:latin typeface="Garamond"/>
              </a:rPr>
              <a:t>В чем особенность юношеской любви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Хрупкая ее легко разруши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жет нанести душевную рану на всю жизн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ескорыстная, читая, без расч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е существует, это выдум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анная с разочарования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чти всегда приносит б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латоническая, в ней нет гряз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амоотверженная, способная на любые глуп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ервый «клин» между родителями и деть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скренняя поэтому вмешательство опас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ревата последствиями из-за неопыт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7905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50b0f"/>
                </a:solidFill>
                <a:latin typeface="Garamond"/>
              </a:rPr>
              <a:t>Запрещать, разрешать или не замечать первой юношеской влюбленности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50b0f"/>
                </a:solidFill>
                <a:latin typeface="Garamond"/>
              </a:rPr>
              <a:t>Выводы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аршеклассники остро нуждаются в </a:t>
            </a:r>
            <a:r>
              <a:rPr b="1" i="1" lang="ru-RU" sz="2400" spc="-1" strike="noStrike" u="sng">
                <a:solidFill>
                  <a:srgbClr val="b50b0f"/>
                </a:solidFill>
                <a:uFillTx/>
                <a:latin typeface="Garamond"/>
              </a:rPr>
              <a:t>помощ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тарших, прежде всего родител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неситесь с пониманием к тому, что ваш ребенок стремиться обращаться с противоположным пол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держите стремление ребенка в период влюбленности хорошо выгляде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Если ребенок разочарован, не понят объектом обожания. Попробуйте вместе с ним найти выход из этой ситуации, не оставляй те ребенка на едине с его проблем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ключите из практике семейного воспитания язвительные замечания, назидания, насмешки, бестактные намеки, слеж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гласите к себе домой друга (подругу), который является предметом его (ее) грез. Пообщайтесь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50b0f"/>
                </a:solidFill>
                <a:latin typeface="Garamond"/>
              </a:rPr>
              <a:t>Яркие и дерзкие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1600200"/>
            <a:ext cx="8280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9:42:58Z</dcterms:created>
  <dc:creator>user</dc:creator>
  <dc:description/>
  <dc:language>en-US</dc:language>
  <cp:lastModifiedBy>user</cp:lastModifiedBy>
  <dcterms:modified xsi:type="dcterms:W3CDTF">2002-01-01T20:29:40Z</dcterms:modified>
  <cp:revision>2</cp:revision>
  <dc:subject/>
  <dc:title>Слайд 1</dc:title>
</cp:coreProperties>
</file>