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000-743B-440B-9941-94B0F93D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2CC-8449-4C34-BC3B-7864809B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3EE-ADA8-4A77-9007-36A78644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43F-9A76-4859-AD79-5CEC98AD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654F-875C-42AC-9091-877DCDB4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B127-7F3E-4B3C-9872-BDE7253A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B08C-E3FC-4461-B001-0BA90746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267F-D586-4A46-88E7-E1ED29EE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5126-DD37-4233-9D47-A2CC5D53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8C96-6486-459A-9B03-D90EE600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6E70-5218-47C2-8D7A-C525BF04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084-8637-4DBF-9EFC-DFDD71C6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D97D-4FDA-4B63-9E0E-EA1CE52E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9FC2-F69A-4A96-87EE-34D836A4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855F-3A87-4DD0-8AC2-8938C2A8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83F8-4DD6-4857-A4D2-A77D04BE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8112-05AC-48F5-9AF6-A6BADF38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99B-647E-45C8-8899-D2D06373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28A-208A-43F0-A440-33400AC4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2DB-84AA-4E0B-91DF-B94C5938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8D5-03F0-4DF1-BD1C-3BFE1B16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B5E-49E9-43BE-BFFD-8C059504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C74-2EE3-4219-B03F-AFD19AB6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B82-C55B-48BD-BC39-B3B1FD58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3CD2-6912-48DC-8E79-C13DF18569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4FD3-D30C-4270-8724-4DCC168DD5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000" y="69228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Возраст первой любв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3168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ле пробл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знать в чем состоят особенности подросткового чувства первой влюблен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явить проблемы которые возникают в семье в связи с первой влюбленностью ребен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67640" y="5086440"/>
            <a:ext cx="23763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ысказывания дете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Я иногда не понимаю, что со мной происходит. Увидев ее я начинаю вести себя странно. Кривляюсь, бью ее книгой по голове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Я некогда не скажу родителям о своем чувстве, потому что наверняка они меня засмеют: какие мальчики нам в институт надо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Завидую подруге, она с матерью говорит на любые темы, «даже про это», а я и представить себе не могу эту тему в общении со своими родителями. Они, бедные, думают, что я еще «не в курсе»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Для меня эта тема закрыта. Человек, который мне нравится, меня никогда не полюбит. Он сам мне это сказал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еня достал П. Он мне неприятен, но постоянно пристает с какими-то дурацкими знаками внимания. И вообще… Никакой любви нет. Просто надо удачно выйти замуж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Ну что за мучение, всем разрешают на дискотеку, а мне нет. А все потому, что мальчик с которым я встречаюсь из плохой семьи…, но он то хороший!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Все эти шуры-муры – глупости. Я хочу получить хорошую профессию, Поэтому нужно заниматься.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b0f"/>
                </a:solidFill>
                <a:latin typeface="Garamond"/>
              </a:rPr>
              <a:t>В чем особенность юношеской любви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рупкая ее легко разруши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ожет нанести душевную рану на всю жизн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скорыстная, читая, без расче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существует, это выдум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анная с разочарования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чти всегда приносит бо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латоническая, в ней нет гряз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амоотверженная, способная на любые глуп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ервый «клин» между родителями и деть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скренняя поэтому вмешательство опас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ревата последствиями из-за неопыт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7905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b0f"/>
                </a:solidFill>
                <a:latin typeface="Garamond"/>
              </a:rPr>
              <a:t>Запрещать, разрешать или не замечать первой юношеской влюбленности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b0f"/>
                </a:solidFill>
                <a:latin typeface="Garamond"/>
              </a:rPr>
              <a:t>Выводы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аршеклассники остро нуждаются в </a:t>
            </a:r>
            <a:r>
              <a:rPr b="1" i="1" lang="ru-RU" sz="2400" spc="-1" strike="noStrike" u="sng">
                <a:solidFill>
                  <a:srgbClr val="b50b0f"/>
                </a:solidFill>
                <a:uFillTx/>
                <a:latin typeface="Garamond"/>
              </a:rPr>
              <a:t>помощ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тарших, прежде всего родител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неситесь с пониманием к тому, что ваш ребенок стремиться обращаться с противоположным пол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держите стремление ребенка в период влюбленности хорошо выгляде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ребенок разочарован, не понят объектом обожания. Попробуйте вместе с ним найти выход из этой ситуации, не оставляй те ребенка на едине с его проблем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ключите из практике семейного воспитания язвительные замечания, назидания, насмешки, бестактные намеки, слеж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гласите к себе домой друга (подругу), который является предметом его (ее) грез. Пообщайтесь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50b0f"/>
                </a:solidFill>
                <a:latin typeface="Garamond"/>
              </a:rPr>
              <a:t>Яркие и дерзк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4000" y="1600200"/>
            <a:ext cx="8280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9:42:58Z</dcterms:created>
  <dc:creator>user</dc:creator>
  <dc:description/>
  <dc:language>en-US</dc:language>
  <cp:lastModifiedBy>user</cp:lastModifiedBy>
  <dcterms:modified xsi:type="dcterms:W3CDTF">2002-01-01T20:29:40Z</dcterms:modified>
  <cp:revision>2</cp:revision>
  <dc:subject/>
  <dc:title>Слайд 1</dc:title>
</cp:coreProperties>
</file>