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gif" ContentType="image/gi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2AA-8A7D-49A8-8269-1371089B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7A77-4571-4551-B1B0-6DAD8FFE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1B35-4A84-42C3-B5C8-61935C70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B99-BE52-4C23-81AC-28A6DB19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7590-C009-4B6B-88E6-ECC7A72A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118E-9F79-4725-A315-DE650B22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B831-9913-479D-B16A-560ACA18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60F8-5DC4-4F30-8E99-6B9DCF7B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8B25-D8DC-45BB-84E0-5D63785B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D626-2E25-4B98-B11B-A37D2F80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0F82-282A-48B8-A2D5-7DF39BAB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A9E-DA99-4C84-814F-1CF62FC7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61E5-C9DA-4462-A012-1C189CE1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0ED4-8670-4C0C-BB9F-DA1B7C52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3179-837F-438B-A242-2BA26706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F9F5-9623-43A6-BA02-913034ED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34F3-B709-4DCA-BF39-51BDA1ED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33A-41BC-4FA8-BB85-B81B4995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8DB-83C5-4DDA-9605-C40B8317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D62-4395-4AB5-992D-632EAFC6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A66-9D0F-48DF-93A6-82FE5A48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A7B-1F1A-4719-9B1B-F73EAFFB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818-E3D6-4C84-8CA0-E6796D88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5BC5-4DC2-4474-A439-24057474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C231-A848-4194-AB52-B9B9887B1BE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3C60-49F0-4D0A-B0CC-B2DB645A87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00000" y="692280"/>
            <a:ext cx="727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Возраст первой любв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03640" y="2781360"/>
            <a:ext cx="3168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ле пробле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знать в чем состоят особенности подросткового чувства первой влюблен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явить проблемы которые возникают в семье в связи с первой влюбленностью ребен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67640" y="5086440"/>
            <a:ext cx="23763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ысказывания дете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Я иногда не понимаю, что со мной происходит. Увидев ее я начинаю вести себя странно. Кривляюсь, бью ее книгой по голове…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Я некогда не скажу родителям о своем чувстве, потому что наверняка они меня засмеют: какие мальчики нам в институт надо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Завидую подруге, она с матерью говорит на любые темы, «даже про это», а я и представить себе не могу эту тему в общении со своими родителями. Они, бедные, думают, что я еще «не в курсе»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Для меня эта тема закрыта. Человек, который мне нравится, меня никогда не полюбит. Он сам мне это сказал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Меня достал П. Он мне неприятен, но постоянно пристает с какими-то дурацкими знаками внимания. И вообще… Никакой любви нет. Просто надо удачно выйти замуж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Ну что за мучение, всем разрешают на дискотеку, а мне нет. А все потому, что мальчик с которым я встречаюсь из плохой семьи…, но он то хороший!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Все эти шуры-муры – глупости. Я хочу получить хорошую профессию, Поэтому нужно заниматься.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40360" y="538164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b0f"/>
                </a:solidFill>
                <a:latin typeface="Garamond"/>
              </a:rPr>
              <a:t>В чем особенность юношеской любви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Хрупкая ее легко разруши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Может нанести душевную рану на всю жизн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ескорыстная, читая, без расче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 существует, это выдум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вязанная с разочарования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чти всегда приносит бол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латоническая, в ней нет гряз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амоотверженная, способная на любые глуп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ервый «клин» между родителями и деть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скренняя поэтому вмешательство опас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Чревата последствиями из-за неопыт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956720" y="5877000"/>
            <a:ext cx="7905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b0f"/>
                </a:solidFill>
                <a:latin typeface="Garamond"/>
              </a:rPr>
              <a:t>Запрещать, разрешать или не замечать первой юношеской влюбленности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b0f"/>
                </a:solidFill>
                <a:latin typeface="Garamond"/>
              </a:rPr>
              <a:t>Выводы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таршеклассники остро нуждаются в </a:t>
            </a:r>
            <a:r>
              <a:rPr b="1" i="1" lang="ru-RU" sz="2400" spc="-1" strike="noStrike" u="sng">
                <a:solidFill>
                  <a:srgbClr val="b50b0f"/>
                </a:solidFill>
                <a:uFillTx/>
                <a:latin typeface="Garamond"/>
              </a:rPr>
              <a:t>помощи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тарших, прежде всего родител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неситесь с пониманием к тому, что ваш ребенок стремиться обращаться с противоположным пол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ддержите стремление ребенка в период влюбленности хорошо выгляде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Если ребенок разочарован, не понят объектом обожания. Попробуйте вместе с ним найти выход из этой ситуации, не оставляй те ребенка на едине с его проблем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сключите из практике семейного воспитания язвительные замечания, назидания, насмешки, бестактные намеки, слежк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гласите к себе домой друга (подругу), который является предметом его (ее) грез. Пообщайтесь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50b0f"/>
                </a:solidFill>
                <a:latin typeface="Garamond"/>
              </a:rPr>
              <a:t>Яркие и дерзкие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4000" y="1600200"/>
            <a:ext cx="8280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19:42:58Z</dcterms:created>
  <dc:creator>user</dc:creator>
  <dc:description/>
  <dc:language>en-US</dc:language>
  <cp:lastModifiedBy>user</cp:lastModifiedBy>
  <dcterms:modified xsi:type="dcterms:W3CDTF">2002-01-01T20:29:40Z</dcterms:modified>
  <cp:revision>2</cp:revision>
  <dc:subject/>
  <dc:title>Слайд 1</dc:title>
</cp:coreProperties>
</file>