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EF1-1800-46BA-AFFE-E1EDE34A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2EB-718D-40EF-8BDF-F2C4835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E7A-81F1-4D25-B920-DCF90A3C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277-96ED-4C3B-9BEE-BC512986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FA55-16C6-4F42-9111-591927FB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D3E-86D6-4569-8EB5-86C140A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AF0-51AF-4D94-BF0C-1874BB9E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0021-5F7F-4CC0-BE31-9FE33C0A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5A60-F4F5-4CE7-B2D7-C2CFA227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5DCA-D7C8-4949-8FEE-88750826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9180-7B55-4DFA-AE09-ED0A74B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DE3-C813-4DC0-8FE0-4458F696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B6D-02AE-420B-A41F-9EA8822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5179-E173-46AD-8844-AD469CC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8786-0128-418D-B92B-7CA05D8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7B4B-FC8E-4265-880A-F3777ABC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1E1-EF81-4140-A5BE-99A361CB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3CB1-EB28-483D-AEFC-4945DA49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AC5F-3FAF-430D-9B86-0253FB47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6515-E5A3-4ECB-B5F1-FA0F1055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EAF5-9E0B-4216-8746-418B9677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A551-2901-4A24-ADB9-5AB379CC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6F6-575D-4847-9B8B-AD7BB4B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875B-6942-4EC3-A00F-A0BC9850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44F7-5522-4DEE-9011-C456EA6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ED3C-3FBD-4A19-B305-2FA0BA7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59CC-2556-44B5-A7E3-869CE3C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974E-D6C4-4295-B633-79845B21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9332-5438-4758-82B8-9A7589FD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0BB5-A9FA-496D-8064-95ABF4CE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C187B-97C7-4169-84F3-81D1383F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B02B-1036-428B-866C-A3EA80EC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426B-0452-4216-B06B-CF4B6E0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63D-E2EC-44BD-9FEF-6BB565C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EB38-6300-4862-9FCE-6F800589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92C9-24AC-4CB7-80DB-50B5353A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AD29-B7CD-4D76-9AF0-B608C14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CEF2-3936-4F54-9159-B28673C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E56D-2ECC-451E-BFA3-CECA0816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5BC2-F13E-4601-8841-BFB14EF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3261-713E-40B4-9CFB-990C1826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775F-E31D-44D2-A47E-15614B41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0F41-B280-493B-940E-83394331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0EA-5A8F-4640-B7B9-89D89DD9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454-6472-41F1-89D8-0225CBB8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E49-CE46-4FD5-B03B-D936A88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FDF-B240-4EC3-83C2-98F03C8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1C3-E8FE-47A5-A0C5-715F079C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0C42-7615-43D0-BDEB-7344D2D76F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6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D3E-9940-4EBC-851D-F74690E5DD6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37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40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1B6-F6FA-45A5-9D35-34B47B6839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87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188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0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06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10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1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2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042B-9575-4941-8411-B7AF9CC29CF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5370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тодические подходы к преподаванию темы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Логические основы информатик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527280" y="5214960"/>
            <a:ext cx="56167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втор Кулешова О.В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ам. директора по ИКТ и учитель информатики школы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№1929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2007 г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34920" y="1773000"/>
            <a:ext cx="7057800" cy="4824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 качестве основных методов проверки теоретических знаний используется устный опрос, диктант,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9900"/>
                </a:solidFill>
                <a:latin typeface="Times New Roman"/>
              </a:rPr>
              <a:t>тестирование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ли письменная работа. Большая роль отводится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99ccff"/>
                </a:solidFill>
                <a:latin typeface="Times New Roman"/>
              </a:rPr>
              <a:t>с</a:t>
            </a:r>
            <a:r>
              <a:rPr b="1" lang="ru-RU" sz="2600" spc="-1" strike="noStrike">
                <a:solidFill>
                  <a:srgbClr val="99ccff"/>
                </a:solidFill>
                <a:latin typeface="Times New Roman"/>
              </a:rPr>
              <a:t>амоконтролю</a:t>
            </a:r>
            <a:r>
              <a:rPr b="0" lang="ru-RU" sz="26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Для закрепления навыков работы с программными средствами используется </a:t>
            </a:r>
            <a:r>
              <a:rPr b="1" lang="ru-RU" sz="2600" spc="-1" strike="noStrike">
                <a:solidFill>
                  <a:srgbClr val="ff9900"/>
                </a:solidFill>
                <a:latin typeface="Times New Roman"/>
              </a:rPr>
              <a:t>лабораторная работа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Итоговый контроль по теме проводится в виде </a:t>
            </a:r>
            <a:r>
              <a:rPr b="1" lang="ru-RU" sz="2600" spc="-1" strike="noStrike">
                <a:solidFill>
                  <a:srgbClr val="ff9900"/>
                </a:solidFill>
                <a:latin typeface="Times New Roman"/>
              </a:rPr>
              <a:t>контрольной работы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или </a:t>
            </a: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зачёта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6984720" cy="482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еоретический и практический материал для уроков не привязан к одному учебнику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Основной учебный материал для организации уроков взят из учебников информатик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.Д. Угринович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и следующих книг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В.Ю. Лыскова, Е.А. Ракитина «Логика в информатике»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ff"/>
                </a:solidFill>
                <a:latin typeface="Times New Roman"/>
              </a:rPr>
              <a:t>С.Н. Тур, Т.П. Бокучава «Первые шаги в мире информатики»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imes New Roman"/>
              </a:rPr>
              <a:t>Л.Л. Босова «Арифметические и логические основы ЭВМ».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4"/>
          <p:cNvSpPr/>
          <p:nvPr/>
        </p:nvSpPr>
        <p:spPr>
          <a:xfrm>
            <a:off x="2050920" y="404640"/>
            <a:ext cx="7093080" cy="2953080"/>
          </a:xfrm>
          <a:custGeom>
            <a:avLst/>
            <a:gdLst>
              <a:gd name="textAreaLeft" fmla="*/ 1773360 w 7093080"/>
              <a:gd name="textAreaRight" fmla="*/ 5320080 w 7093080"/>
              <a:gd name="textAreaTop" fmla="*/ 369000 h 2953080"/>
              <a:gd name="textAreaBottom" fmla="*/ 295344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95280" y="981000"/>
            <a:ext cx="33130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 организаци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роков можно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пользова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c5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0" name="Group 18"/>
          <p:cNvGrpSpPr/>
          <p:nvPr/>
        </p:nvGrpSpPr>
        <p:grpSpPr>
          <a:xfrm>
            <a:off x="250920" y="4221000"/>
            <a:ext cx="1944720" cy="1303560"/>
            <a:chOff x="250920" y="4221000"/>
            <a:chExt cx="1944720" cy="1303560"/>
          </a:xfrm>
        </p:grpSpPr>
        <p:sp>
          <p:nvSpPr>
            <p:cNvPr id="311" name="Cloud"/>
            <p:cNvSpPr/>
            <p:nvPr/>
          </p:nvSpPr>
          <p:spPr>
            <a:xfrm>
              <a:off x="250920" y="4221000"/>
              <a:ext cx="1944720" cy="1303560"/>
            </a:xfrm>
            <a:custGeom>
              <a:avLst/>
              <a:gdLst>
                <a:gd name="textAreaLeft" fmla="*/ 268200 w 1944720"/>
                <a:gd name="textAreaRight" fmla="*/ 1538280 w 1944720"/>
                <a:gd name="textAreaTop" fmla="*/ 196560 h 1303560"/>
                <a:gd name="textAreaBottom" fmla="*/ 1046520 h 13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68360" y="465300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3" name="Group 19"/>
          <p:cNvGrpSpPr/>
          <p:nvPr/>
        </p:nvGrpSpPr>
        <p:grpSpPr>
          <a:xfrm>
            <a:off x="2124000" y="5373720"/>
            <a:ext cx="1800360" cy="1206360"/>
            <a:chOff x="2124000" y="5373720"/>
            <a:chExt cx="1800360" cy="1206360"/>
          </a:xfrm>
        </p:grpSpPr>
        <p:sp>
          <p:nvSpPr>
            <p:cNvPr id="314" name="Cloud"/>
            <p:cNvSpPr/>
            <p:nvPr/>
          </p:nvSpPr>
          <p:spPr>
            <a:xfrm>
              <a:off x="2124000" y="5373720"/>
              <a:ext cx="1800360" cy="1206360"/>
            </a:xfrm>
            <a:custGeom>
              <a:avLst/>
              <a:gdLst>
                <a:gd name="textAreaLeft" fmla="*/ 247680 w 1800360"/>
                <a:gd name="textAreaRight" fmla="*/ 1424160 w 1800360"/>
                <a:gd name="textAreaTop" fmla="*/ 182520 h 1206360"/>
                <a:gd name="textAreaBottom" fmla="*/ 968400 h 12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Text Box 8"/>
            <p:cNvSpPr/>
            <p:nvPr/>
          </p:nvSpPr>
          <p:spPr>
            <a:xfrm>
              <a:off x="2411280" y="573408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067280" y="3716280"/>
            <a:ext cx="2016000" cy="1351080"/>
            <a:chOff x="4067280" y="3716280"/>
            <a:chExt cx="2016000" cy="1351080"/>
          </a:xfrm>
        </p:grpSpPr>
        <p:sp>
          <p:nvSpPr>
            <p:cNvPr id="317" name="Cloud"/>
            <p:cNvSpPr/>
            <p:nvPr/>
          </p:nvSpPr>
          <p:spPr>
            <a:xfrm>
              <a:off x="4067280" y="3716280"/>
              <a:ext cx="2016000" cy="1351080"/>
            </a:xfrm>
            <a:custGeom>
              <a:avLst/>
              <a:gdLst>
                <a:gd name="textAreaLeft" fmla="*/ 277560 w 2016000"/>
                <a:gd name="textAreaRight" fmla="*/ 1595520 w 2016000"/>
                <a:gd name="textAreaTop" fmla="*/ 204840 h 1351080"/>
                <a:gd name="textAreaBottom" fmla="*/ 1084320 h 13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4427640" y="3933720"/>
              <a:ext cx="129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4356000" y="4076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0" name="File"/>
          <p:cNvSpPr/>
          <p:nvPr/>
        </p:nvSpPr>
        <p:spPr>
          <a:xfrm>
            <a:off x="6588000" y="4869000"/>
            <a:ext cx="2392560" cy="1809720"/>
          </a:xfrm>
          <a:custGeom>
            <a:avLst/>
            <a:gdLst>
              <a:gd name="textAreaLeft" fmla="*/ 120240 w 2392560"/>
              <a:gd name="textAreaRight" fmla="*/ 2286000 w 2392560"/>
              <a:gd name="textAreaTop" fmla="*/ 387720 h 1809720"/>
              <a:gd name="textAreaBottom" fmla="*/ 1699920 h 1809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6732720" y="5300640"/>
            <a:ext cx="2411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№</a:t>
            </a: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1 и №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Основы формальной лог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  №</a:t>
            </a: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Логические                                                                                                       элементы компьют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bb96"/>
                </a:solidFill>
                <a:latin typeface="Times New Roman"/>
              </a:rPr>
              <a:t>Преимущества изучения данной темы в курсе информатик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4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зучение </a:t>
            </a:r>
            <a:r>
              <a:rPr b="1" lang="ru-RU" sz="2000" spc="-1" strike="noStrike">
                <a:solidFill>
                  <a:srgbClr val="ffffcc"/>
                </a:solidFill>
                <a:latin typeface="Monotype Corsiva"/>
              </a:rPr>
              <a:t>Логических основ информатики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 школьном курсе несёт большую методическую и познавательную нагрузк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Знакомство с терминологией и символикой алгебры логики, с ее понятиями помогает развитию мыслительных способностей, развивает логическое мышление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При решении логических задач учащиеся достаточно легко привыкают к требованию формализации условий задачи и построению модели решения задач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Знание логических операций и умение строить сложные логические выражения помогают ребятам быстрее изучить условные выражения и условные операторы языка программирования и меньше ошибаться при их использовани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Самостоятельно построив логическую схему хотя бы одного простого устройства, учащиеся лучше представляют себе архитектуру и принцип функционирования компьютер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лгебра логики- это мощный инструмент пользователя в базах данных и информационно-поисковых системах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8"/>
          <p:cNvGrpSpPr/>
          <p:nvPr/>
        </p:nvGrpSpPr>
        <p:grpSpPr>
          <a:xfrm>
            <a:off x="2556000" y="1197000"/>
            <a:ext cx="5976720" cy="1213200"/>
            <a:chOff x="2556000" y="1197000"/>
            <a:chExt cx="5976720" cy="1213200"/>
          </a:xfrm>
        </p:grpSpPr>
        <p:sp>
          <p:nvSpPr>
            <p:cNvPr id="274" name="AutoShape 6"/>
            <p:cNvSpPr/>
            <p:nvPr/>
          </p:nvSpPr>
          <p:spPr>
            <a:xfrm>
              <a:off x="2556000" y="1197000"/>
              <a:ext cx="5976720" cy="863640"/>
            </a:xfrm>
            <a:prstGeom prst="bevel">
              <a:avLst>
                <a:gd name="adj" fmla="val 12500"/>
              </a:avLst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1341360"/>
              <a:ext cx="532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Monotype Corsiva"/>
                </a:rPr>
                <a:t>Логические основы информатики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6" name="AutoShape 13"/>
          <p:cNvSpPr/>
          <p:nvPr/>
        </p:nvSpPr>
        <p:spPr>
          <a:xfrm>
            <a:off x="2843280" y="2133720"/>
            <a:ext cx="792000" cy="1655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AutoShape 15"/>
          <p:cNvSpPr/>
          <p:nvPr/>
        </p:nvSpPr>
        <p:spPr>
          <a:xfrm flipH="1">
            <a:off x="7524720" y="2133720"/>
            <a:ext cx="720720" cy="1655640"/>
          </a:xfrm>
          <a:custGeom>
            <a:avLst/>
            <a:gdLst>
              <a:gd name="textAreaLeft" fmla="*/ 96480 w 720720"/>
              <a:gd name="textAreaRight" fmla="*/ 624240 w 72072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8" name="Group 19"/>
          <p:cNvGrpSpPr/>
          <p:nvPr/>
        </p:nvGrpSpPr>
        <p:grpSpPr>
          <a:xfrm>
            <a:off x="1908000" y="3933720"/>
            <a:ext cx="2951280" cy="1224000"/>
            <a:chOff x="1908000" y="3933720"/>
            <a:chExt cx="2951280" cy="1224000"/>
          </a:xfrm>
        </p:grpSpPr>
        <p:sp>
          <p:nvSpPr>
            <p:cNvPr id="279" name="AutoShape 8"/>
            <p:cNvSpPr/>
            <p:nvPr/>
          </p:nvSpPr>
          <p:spPr>
            <a:xfrm>
              <a:off x="1908000" y="3933720"/>
              <a:ext cx="2951280" cy="1224000"/>
            </a:xfrm>
            <a:prstGeom prst="flowChartPredefinedProcess">
              <a:avLst/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2411280" y="407664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Times New Roman"/>
                </a:rPr>
                <a:t>Элементы математической логики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1" name="Group 20"/>
          <p:cNvGrpSpPr/>
          <p:nvPr/>
        </p:nvGrpSpPr>
        <p:grpSpPr>
          <a:xfrm>
            <a:off x="6012000" y="3933720"/>
            <a:ext cx="2952720" cy="1224000"/>
            <a:chOff x="6012000" y="3933720"/>
            <a:chExt cx="2952720" cy="1224000"/>
          </a:xfrm>
        </p:grpSpPr>
        <p:sp>
          <p:nvSpPr>
            <p:cNvPr id="282" name="AutoShape 11"/>
            <p:cNvSpPr/>
            <p:nvPr/>
          </p:nvSpPr>
          <p:spPr>
            <a:xfrm>
              <a:off x="6012000" y="3933720"/>
              <a:ext cx="2952720" cy="1224000"/>
            </a:xfrm>
            <a:prstGeom prst="flowChartPredefinedProcess">
              <a:avLst/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6443640" y="4076640"/>
              <a:ext cx="194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Times New Roman"/>
                </a:rPr>
                <a:t>Логические основы компьютера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личные подходы к рассмотрению данной темы в современных авторских программах основной школы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81960" cy="3468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ff"/>
                </a:solidFill>
                <a:latin typeface="Times New Roman"/>
              </a:rPr>
              <a:t>Основы математической логики не изучаются в качестве отдельной темы, а вводятся по мере необходимости при работе с конкретным практическим модулем. Логические основы ЭВМ не рассматриваются вообще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Авторский коллектив Семакина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Учащиеся знакомятся с элементами формальной логики в виде самостоятельной темы, а уже закрепление и использование полученных знаний  происходит при работе с модулями: «Моделирование и формализация», «Базы данных» 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Н.Д. Угриновича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; «Освоение среды табличного процессора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xcel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» (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вт. коллектив Н.В. Макаровой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; «Программирование логических задач» ( 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С.Н.Тур, Т.П. Бокучава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ff"/>
                </a:solidFill>
                <a:latin typeface="Times New Roman"/>
              </a:rPr>
              <a:t>Наряду с основами логики рассматриваются Логические основы компьютера (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вт. коллектив Н.В. Макаровой, авторская программа С.Н. Тур, Т.П. Бокучава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68360" y="5300640"/>
            <a:ext cx="867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ca8c"/>
                </a:solidFill>
                <a:latin typeface="Times New Roman"/>
              </a:rPr>
              <a:t>Более эффективными</a:t>
            </a: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 на мой взгляд являются  второй и третий подходы, поскольку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у учащихся формируется целостное представление о логике как науке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учащиеся не отвлекаются на введение дополнительной информации при работе с практическими модулями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легче усваиваются условные выражения и операторы языка программир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Содержание блока</a:t>
            </a:r>
            <a:br>
              <a:rPr sz="3400"/>
            </a:b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eaeaea"/>
                </a:solidFill>
                <a:latin typeface="Monotype Corsiva"/>
              </a:rPr>
              <a:t>Логические основы информатики </a:t>
            </a:r>
            <a:br>
              <a:rPr sz="3400"/>
            </a:b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в курсе ИиИКТ </a:t>
            </a:r>
            <a:r>
              <a:rPr b="0" lang="ru-RU" sz="22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ой</a:t>
            </a: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 школы (всего 8 часов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92360" y="1844640"/>
          <a:ext cx="7127640" cy="5014800"/>
        </p:xfrm>
        <a:graphic>
          <a:graphicData uri="http://schemas.openxmlformats.org/drawingml/2006/table">
            <a:tbl>
              <a:tblPr/>
              <a:tblGrid>
                <a:gridCol w="71276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Введение в логику. Знакомство с формальной логикой</a:t>
                      </a:r>
                      <a:r>
                        <a:rPr b="1" lang="ru-RU" sz="23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 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тория становления логики как науки. Формы человеческого мышления и их характеристики. Круги Эйлера для отображения объёмов понятий и отношений между ними. Основной принцип формальной логики.</a:t>
                      </a:r>
                      <a:r>
                        <a:rPr b="0" i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Знакомство с алгеброй высказываний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ятие об алгебре высказываний. Логические операции. Построение таблиц истинности сложных высказываний. Тождественно истинные и тождественно ложные высказывания. Логические функции. Построение таблиц истинности с помощью электронных таблиц.</a:t>
                      </a:r>
                      <a:r>
                        <a:rPr b="1" lang="ru-RU" sz="1800" spc="-1" strike="noStrike">
                          <a:solidFill>
                            <a:srgbClr val="71bb9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Логические основы ЭВМ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ческие элементы и схемы. Сумматор. Триггер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Содержание блока</a:t>
            </a:r>
            <a:br>
              <a:rPr sz="3400"/>
            </a:b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eaeaea"/>
                </a:solidFill>
                <a:latin typeface="Monotype Corsiva"/>
              </a:rPr>
              <a:t>Логические основы информатики </a:t>
            </a:r>
            <a:br>
              <a:rPr sz="3400"/>
            </a:b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в курсе ИиИКТ </a:t>
            </a:r>
            <a:r>
              <a:rPr b="0" lang="ru-RU" sz="2200" spc="-1" strike="noStrike" u="sng">
                <a:solidFill>
                  <a:srgbClr val="cc3300"/>
                </a:solidFill>
                <a:uFillTx/>
                <a:latin typeface="Times New Roman"/>
              </a:rPr>
              <a:t>старшей </a:t>
            </a: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школы (всего 12 часов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1844640"/>
          <a:ext cx="7057800" cy="479412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Основы математической логики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ка как наука. Диаграммы Эйлера-Венна для отображения логических операций. Связь между алгеброй логики и теорией множеств. Логические переменные и логические функции. Построение таблиц истинности, проверка правильности преобразования логических выражений с использованием электронных таблиц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rOffice Calc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 Законы формальной логики. Законы алгебры высказываний. Доказательство логических законов. Упрощение сложных высказываний. Программирование логических задач. Решение логических содержательных задач разными способами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Логические основы компьютера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оль математической логики в создании ЭВМ. Простейшие преобразователи информации. СДНФ. СКНФ. Типовые логические устройства ЭВМ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33680" y="1773360"/>
            <a:ext cx="7331040" cy="50846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еподавание данной темы строиться на принципах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развивающего и эвристического обучения.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вристическая форма обучения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расширяет возможности развивающего обучения, в основе её лежит идея самореализации личностного потенциала каждого учащегос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и введении нового материала, повторении и закреплении ранее изученных вопросов, а так же во время текущего контроля можно использовать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вристическую беседу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авильно организованная эвристическая бесе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это лучшая форма обучения для формирования у детей системно-информационной картины мира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Times New Roman"/>
              </a:rPr>
              <a:t>создаёт в классе атмосферу сотрудничества и творчества, доставляет детям удовольствие от учебной деятель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66ff"/>
                </a:solidFill>
                <a:latin typeface="Times New Roman"/>
              </a:rPr>
              <a:t>одно из самых сильных средств стимуляции познавательной деятельности дете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10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гмент урока </a:t>
            </a:r>
            <a:br>
              <a:rPr sz="24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по теме: </a:t>
            </a:r>
            <a:r>
              <a:rPr b="0" i="1" lang="ru-RU" sz="16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Связь между алгеброй логики и теорией множеств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»</a:t>
            </a:r>
            <a:br>
              <a:rPr sz="2400"/>
            </a:br>
            <a:r>
              <a:rPr b="0" lang="ru-RU" sz="1500" spc="-1" strike="noStrike">
                <a:solidFill>
                  <a:srgbClr val="006666"/>
                </a:solidFill>
                <a:latin typeface="Verdana"/>
              </a:rPr>
              <a:t>профильного курса ИиИКТ в старшей школе</a:t>
            </a:r>
            <a:br>
              <a:rPr sz="2400"/>
            </a:br>
            <a:endParaRPr b="0" lang="en-US" sz="15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24000" y="981000"/>
          <a:ext cx="8497800" cy="576108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57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 курсе основной школы вы уже встречались с кругами Эйлера и знаете какие между множествами могут быть отноше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ля графической иллюстрации логических операций можно также воспользоваться диаграммами Эйлера-Венн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ак вы думаете какие операции в теории множеств соответствуют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инверс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онъюнкц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 и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дизъюнкц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? Приведите конкретные примеры. 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ами рисую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нверсия                                         Конъюнкция                               Дизъюнкц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полнение к множеству              Пересечение множеств         Объединение множеств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ак бы вы с помощью диаграмм Эйлера-Венна отобразили бы логические операции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импликации и эквивалентност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? Задание не простое и конечно можно воспользоваться таблицами истинности для данных операций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Ответы учеников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для импликации заштрихуем на диаграмме три области, в которых значения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      В равно 1; для эквивалентности две области, для которых значения А     В равны 1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пликация                                                   Эквивалентность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Учитель подводит итог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для импликации в теории множеств соответствующей операции нет, тем не менее можно отобразить импликацию с помощью диаграммы Эйлера-Венна; логической операции эквивалентности в теории множеств соответствует </a:t>
                      </a:r>
                      <a:r>
                        <a:rPr b="1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операция эквивалентности множеств</a:t>
                      </a:r>
                      <a:r>
                        <a:rPr b="0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22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06640" cy="112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4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206280" cy="112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306440" cy="741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"/>
          <p:cNvPicPr/>
          <p:nvPr/>
        </p:nvPicPr>
        <p:blipFill>
          <a:blip r:embed="rId4"/>
          <a:stretch/>
        </p:blipFill>
        <p:spPr>
          <a:xfrm>
            <a:off x="3780000" y="2565360"/>
            <a:ext cx="1223640" cy="75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0" descr=""/>
          <p:cNvPicPr/>
          <p:nvPr/>
        </p:nvPicPr>
        <p:blipFill>
          <a:blip r:embed="rId5"/>
          <a:stretch/>
        </p:blipFill>
        <p:spPr>
          <a:xfrm>
            <a:off x="6588000" y="2637000"/>
            <a:ext cx="1243080" cy="631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2" descr=""/>
          <p:cNvPicPr/>
          <p:nvPr/>
        </p:nvPicPr>
        <p:blipFill>
          <a:blip r:embed="rId6"/>
          <a:stretch/>
        </p:blipFill>
        <p:spPr>
          <a:xfrm>
            <a:off x="1763640" y="4869000"/>
            <a:ext cx="1656000" cy="888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"/>
          <p:cNvPicPr/>
          <p:nvPr/>
        </p:nvPicPr>
        <p:blipFill>
          <a:blip r:embed="rId7"/>
          <a:stretch/>
        </p:blipFill>
        <p:spPr>
          <a:xfrm>
            <a:off x="5796000" y="4869000"/>
            <a:ext cx="142560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129440" cy="4608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ля организации продуктивной работы на каждом уроке учащимся предлагаетс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Листок для работы в классе    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арточка для домашней работ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 ходу урока в тетрадях учащихся создаётс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порный конспект урока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организации уроков используется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дифференциальный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ндивидуальный подходы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11:13Z</dcterms:created>
  <dc:creator>Кулешова</dc:creator>
  <dc:description/>
  <dc:language>en-US</dc:language>
  <cp:lastModifiedBy>Коля</cp:lastModifiedBy>
  <dcterms:modified xsi:type="dcterms:W3CDTF">2013-07-10T08:18:46Z</dcterms:modified>
  <cp:revision>8</cp:revision>
  <dc:subject/>
  <dc:title>Слайд 1</dc:title>
</cp:coreProperties>
</file>