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A9B2-0433-4A03-B787-27BDEC18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B1D0-69E5-48E6-8BBF-6F125118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79C-F54F-4ECB-83F7-059ED45B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0AE-DFF2-4178-AE6D-0071B1C2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453D-1770-4EFB-BF0E-A8FAE9D9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8BE9-480C-4E8E-ACFD-9879036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07A6-DDBE-449E-89B5-B0C41E6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6EC3-B6F0-48F1-B61A-B8734E88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53C7-5EE3-4C15-92A8-33A0ACD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68ED-4EF4-4346-99A2-355A9FC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4DB1-EDBD-4049-84AE-F438F736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0D-6472-4AF0-AE83-8887961D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FD3-73B4-4162-9D5B-0A66D507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55F-24B8-4701-A08D-F2020D6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0FE6-FE20-4D0F-8B59-F3875D0A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F09-C189-4857-BB11-7DE2330E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53C-D706-45D5-8184-D4460B37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8C16-4406-47D1-88CE-D099B2DF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5815-8DBC-408D-AB48-1A68110B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8FF7-DAD2-43FD-AEF1-38BCD4EB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B3416-9D12-4E94-818F-C5DCEF23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7089-4C3C-48A6-A7BE-7BD10C5B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926-78CF-41DE-B966-9CB74A5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E30E-BC86-4321-8779-5E3E1383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7C0C-0443-46DE-BCC5-AB217DCA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2A7E-8D3D-41D3-84C9-9265C6D7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19B8-03AD-426F-BB37-FC32DB33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F2C2-9B68-40D7-A517-4E255CBF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F5EE-86D0-440C-A3C0-8C9522B6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13B4-78D7-4B61-A0B4-5099DD3B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2284-97D7-437B-B847-C792555D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6ED13-EA78-4845-AF5F-553A00C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E85A-BE46-4100-BA87-21D5A4B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25E-F52D-4C79-B31F-E5E2D27A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DEA6-1BDC-4903-88C1-775F1832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6D6A-786B-4529-B5B1-8119524D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7D1DC-3A1B-4849-9FFC-058D604D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CE25-551A-4C2D-844E-3DF1026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2D19F-D5DE-45E2-81A2-C68D3FED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7D3D-AC40-4DAA-AE69-1E53F271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F040E-A932-4362-B9BC-6CC2732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237A-9A91-4F61-87B6-0B56B4A1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9092-7912-4073-A501-90ACD1E0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486-ED17-4AAD-9E45-34A5020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53C-4017-4F03-AF89-5E076259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2A8-6D32-41A9-9605-AB021B88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A2A-51FA-4323-A2EC-A016AAF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DDE-B60B-42F0-8878-BD28F5A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B8D-3865-481D-A3EE-7672DC8C0B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6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C56C-E273-4BD4-92F6-3F4B7967A79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37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9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40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1277-5E43-4007-BE37-DDA25983B1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188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0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06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10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9840"/>
                  <a:gd name="textAreaBottom" fmla="*/ 250200 h 2498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1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2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D8D-CC73-4ABA-BCC9-70895B6CBE2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5370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етодические подходы к преподаванию темы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Логические основы информатик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527280" y="5214960"/>
            <a:ext cx="56167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Автор Кулешова О.В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Зам. директора по ИКТ и учитель информатики школы </a:t>
            </a: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№1929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Times New Roman"/>
              </a:rPr>
              <a:t>2007 г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34920" y="1773000"/>
            <a:ext cx="7057800" cy="4824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 качестве основных методов проверки теоретических знаний используется устный опрос, диктант,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9900"/>
                </a:solidFill>
                <a:latin typeface="Times New Roman"/>
              </a:rPr>
              <a:t>тестирование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ли письменная работа. Большая роль отводится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с</a:t>
            </a:r>
            <a:r>
              <a:rPr b="1" lang="ru-RU" sz="2600" spc="-1" strike="noStrike">
                <a:solidFill>
                  <a:srgbClr val="99ccff"/>
                </a:solidFill>
                <a:latin typeface="Times New Roman"/>
              </a:rPr>
              <a:t>амоконтролю</a:t>
            </a:r>
            <a:r>
              <a:rPr b="0" lang="ru-RU" sz="2600" spc="-1" strike="noStrike">
                <a:solidFill>
                  <a:srgbClr val="99cc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Для закрепления навыков работы с программными средствами используется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лабораторная рабо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Итоговый контроль по теме проводится в виде </a:t>
            </a:r>
            <a:r>
              <a:rPr b="1" lang="ru-RU" sz="2600" spc="-1" strike="noStrike">
                <a:solidFill>
                  <a:srgbClr val="ff9900"/>
                </a:solidFill>
                <a:latin typeface="Times New Roman"/>
              </a:rPr>
              <a:t>контрольной работы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или </a:t>
            </a: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зачёта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6984720" cy="4824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еоретический и практический материал для уроков не привязан к одному учебнику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Times New Roman"/>
              </a:rPr>
              <a:t>Основной учебный материал для организации уроков взят из учебников информатик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Н.Д. Угринович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и следующих книг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Times New Roman"/>
              </a:rPr>
              <a:t>В.Ю. Лыскова, Е.А. Ракитина «Логика в информатике»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ff"/>
                </a:solidFill>
                <a:latin typeface="Times New Roman"/>
              </a:rPr>
              <a:t>С.Н. Тур, Т.П. Бокучава «Первые шаги в мире информатики»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Times New Roman"/>
              </a:rPr>
              <a:t>Л.Л. Босова «Арифметические и логические основы ЭВМ».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4"/>
          <p:cNvSpPr/>
          <p:nvPr/>
        </p:nvSpPr>
        <p:spPr>
          <a:xfrm>
            <a:off x="2050920" y="404640"/>
            <a:ext cx="7093080" cy="2953080"/>
          </a:xfrm>
          <a:custGeom>
            <a:avLst/>
            <a:gdLst>
              <a:gd name="textAreaLeft" fmla="*/ 1773360 w 7093080"/>
              <a:gd name="textAreaRight" fmla="*/ 5320080 w 7093080"/>
              <a:gd name="textAreaTop" fmla="*/ 369000 h 2953080"/>
              <a:gd name="textAreaBottom" fmla="*/ 2953440 h 295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95280" y="981000"/>
            <a:ext cx="33130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и организаци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уроков можно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пользова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c5"/>
                </a:solidFill>
                <a:latin typeface="Times New Roman"/>
              </a:rPr>
              <a:t>презента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0" name="Group 18"/>
          <p:cNvGrpSpPr/>
          <p:nvPr/>
        </p:nvGrpSpPr>
        <p:grpSpPr>
          <a:xfrm>
            <a:off x="250920" y="4221000"/>
            <a:ext cx="1944720" cy="1303560"/>
            <a:chOff x="250920" y="4221000"/>
            <a:chExt cx="1944720" cy="1303560"/>
          </a:xfrm>
        </p:grpSpPr>
        <p:sp>
          <p:nvSpPr>
            <p:cNvPr id="311" name="Cloud"/>
            <p:cNvSpPr/>
            <p:nvPr/>
          </p:nvSpPr>
          <p:spPr>
            <a:xfrm>
              <a:off x="250920" y="4221000"/>
              <a:ext cx="1944720" cy="1303560"/>
            </a:xfrm>
            <a:custGeom>
              <a:avLst/>
              <a:gdLst>
                <a:gd name="textAreaLeft" fmla="*/ 268200 w 1944720"/>
                <a:gd name="textAreaRight" fmla="*/ 1538280 w 1944720"/>
                <a:gd name="textAreaTop" fmla="*/ 196560 h 1303560"/>
                <a:gd name="textAreaBottom" fmla="*/ 1046520 h 130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68360" y="465300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1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3" name="Group 19"/>
          <p:cNvGrpSpPr/>
          <p:nvPr/>
        </p:nvGrpSpPr>
        <p:grpSpPr>
          <a:xfrm>
            <a:off x="2124000" y="5373720"/>
            <a:ext cx="1800360" cy="1206360"/>
            <a:chOff x="2124000" y="5373720"/>
            <a:chExt cx="1800360" cy="1206360"/>
          </a:xfrm>
        </p:grpSpPr>
        <p:sp>
          <p:nvSpPr>
            <p:cNvPr id="314" name="Cloud"/>
            <p:cNvSpPr/>
            <p:nvPr/>
          </p:nvSpPr>
          <p:spPr>
            <a:xfrm>
              <a:off x="2124000" y="5373720"/>
              <a:ext cx="1800360" cy="1206360"/>
            </a:xfrm>
            <a:custGeom>
              <a:avLst/>
              <a:gdLst>
                <a:gd name="textAreaLeft" fmla="*/ 247680 w 1800360"/>
                <a:gd name="textAreaRight" fmla="*/ 1424160 w 1800360"/>
                <a:gd name="textAreaTop" fmla="*/ 182520 h 1206360"/>
                <a:gd name="textAreaBottom" fmla="*/ 968400 h 12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Text Box 8"/>
            <p:cNvSpPr/>
            <p:nvPr/>
          </p:nvSpPr>
          <p:spPr>
            <a:xfrm>
              <a:off x="2411280" y="57340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2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067280" y="3716280"/>
            <a:ext cx="2016000" cy="1351080"/>
            <a:chOff x="4067280" y="3716280"/>
            <a:chExt cx="2016000" cy="1351080"/>
          </a:xfrm>
        </p:grpSpPr>
        <p:sp>
          <p:nvSpPr>
            <p:cNvPr id="317" name="Cloud"/>
            <p:cNvSpPr/>
            <p:nvPr/>
          </p:nvSpPr>
          <p:spPr>
            <a:xfrm>
              <a:off x="4067280" y="3716280"/>
              <a:ext cx="2016000" cy="1351080"/>
            </a:xfrm>
            <a:custGeom>
              <a:avLst/>
              <a:gdLst>
                <a:gd name="textAreaLeft" fmla="*/ 277560 w 2016000"/>
                <a:gd name="textAreaRight" fmla="*/ 1595520 w 2016000"/>
                <a:gd name="textAreaTop" fmla="*/ 204840 h 1351080"/>
                <a:gd name="textAreaBottom" fmla="*/ 1084320 h 13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Text Box 10"/>
            <p:cNvSpPr/>
            <p:nvPr/>
          </p:nvSpPr>
          <p:spPr>
            <a:xfrm>
              <a:off x="4427640" y="3933720"/>
              <a:ext cx="129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Text Box 11"/>
            <p:cNvSpPr/>
            <p:nvPr/>
          </p:nvSpPr>
          <p:spPr>
            <a:xfrm>
              <a:off x="4356000" y="407664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к №6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20" name="File"/>
          <p:cNvSpPr/>
          <p:nvPr/>
        </p:nvSpPr>
        <p:spPr>
          <a:xfrm>
            <a:off x="6588000" y="4869000"/>
            <a:ext cx="2392560" cy="1809720"/>
          </a:xfrm>
          <a:custGeom>
            <a:avLst/>
            <a:gdLst>
              <a:gd name="textAreaLeft" fmla="*/ 120240 w 2392560"/>
              <a:gd name="textAreaRight" fmla="*/ 2286000 w 2392560"/>
              <a:gd name="textAreaTop" fmla="*/ 387720 h 1809720"/>
              <a:gd name="textAreaBottom" fmla="*/ 1699920 h 1809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6732720" y="5300640"/>
            <a:ext cx="24112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1 и №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Основы формальной логи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  №</a:t>
            </a:r>
            <a:r>
              <a:rPr b="1" lang="ru-RU" sz="1400" spc="-1" strike="noStrike">
                <a:solidFill>
                  <a:srgbClr val="2125c5"/>
                </a:solidFill>
                <a:latin typeface="Arial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Логические                                                                                                       элементы компьюте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1bb96"/>
                </a:solidFill>
                <a:latin typeface="Times New Roman"/>
              </a:rPr>
              <a:t>Преимущества изучения данной темы в курсе информатики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49780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зучение </a:t>
            </a:r>
            <a:r>
              <a:rPr b="1" lang="ru-RU" sz="2000" spc="-1" strike="noStrike">
                <a:solidFill>
                  <a:srgbClr val="ffffcc"/>
                </a:solidFill>
                <a:latin typeface="Monotype Corsiva"/>
              </a:rPr>
              <a:t>Логических основ информатики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в школьном курсе несёт большую методическую и познавательную нагрузку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комство с терминологией и символикой алгебры логики, с ее понятиями помогает развитию мыслительных способностей, развивает логическое мышление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При решении логических задач учащиеся достаточно легко привыкают к требованию формализации условий задачи и построению модели решения задач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Знание логических операций и умение строить сложные логические выражения помогают ребятам быстрее изучить условные выражения и условные операторы языка программирования и меньше ошибаться при их использовани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Самостоятельно построив логическую схему хотя бы одного простого устройства, учащиеся лучше представляют себе архитектуру и принцип функционирования компьютер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лгебра логики- это мощный инструмент пользователя в базах данных и информационно-поисковых системах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8"/>
          <p:cNvGrpSpPr/>
          <p:nvPr/>
        </p:nvGrpSpPr>
        <p:grpSpPr>
          <a:xfrm>
            <a:off x="2556000" y="1197000"/>
            <a:ext cx="5976720" cy="1213200"/>
            <a:chOff x="2556000" y="1197000"/>
            <a:chExt cx="5976720" cy="1213200"/>
          </a:xfrm>
        </p:grpSpPr>
        <p:sp>
          <p:nvSpPr>
            <p:cNvPr id="274" name="AutoShape 6"/>
            <p:cNvSpPr/>
            <p:nvPr/>
          </p:nvSpPr>
          <p:spPr>
            <a:xfrm>
              <a:off x="2556000" y="1197000"/>
              <a:ext cx="5976720" cy="863640"/>
            </a:xfrm>
            <a:prstGeom prst="bevel">
              <a:avLst>
                <a:gd name="adj" fmla="val 12500"/>
              </a:avLst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1341360"/>
              <a:ext cx="5327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eaeaea"/>
                  </a:solidFill>
                  <a:latin typeface="Monotype Corsiva"/>
                </a:rPr>
                <a:t>Логические основы информатики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6" name="AutoShape 13"/>
          <p:cNvSpPr/>
          <p:nvPr/>
        </p:nvSpPr>
        <p:spPr>
          <a:xfrm>
            <a:off x="2843280" y="2133720"/>
            <a:ext cx="792000" cy="1655640"/>
          </a:xfrm>
          <a:custGeom>
            <a:avLst/>
            <a:gdLst>
              <a:gd name="textAreaLeft" fmla="*/ 105840 w 792000"/>
              <a:gd name="textAreaRight" fmla="*/ 686160 w 79200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AutoShape 15"/>
          <p:cNvSpPr/>
          <p:nvPr/>
        </p:nvSpPr>
        <p:spPr>
          <a:xfrm flipH="1">
            <a:off x="7524720" y="2133720"/>
            <a:ext cx="720720" cy="1655640"/>
          </a:xfrm>
          <a:custGeom>
            <a:avLst/>
            <a:gdLst>
              <a:gd name="textAreaLeft" fmla="*/ 96480 w 720720"/>
              <a:gd name="textAreaRight" fmla="*/ 624240 w 720720"/>
              <a:gd name="textAreaTop" fmla="*/ 289800 h 1655640"/>
              <a:gd name="textAreaBottom" fmla="*/ 12006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1908000" y="3933720"/>
            <a:ext cx="2951280" cy="1224000"/>
            <a:chOff x="1908000" y="3933720"/>
            <a:chExt cx="2951280" cy="1224000"/>
          </a:xfrm>
        </p:grpSpPr>
        <p:sp>
          <p:nvSpPr>
            <p:cNvPr id="279" name="AutoShape 8"/>
            <p:cNvSpPr/>
            <p:nvPr/>
          </p:nvSpPr>
          <p:spPr>
            <a:xfrm>
              <a:off x="1908000" y="3933720"/>
              <a:ext cx="295128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2411280" y="407664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Элементы математической логики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81" name="Group 20"/>
          <p:cNvGrpSpPr/>
          <p:nvPr/>
        </p:nvGrpSpPr>
        <p:grpSpPr>
          <a:xfrm>
            <a:off x="6012000" y="3933720"/>
            <a:ext cx="2952720" cy="1224000"/>
            <a:chOff x="6012000" y="3933720"/>
            <a:chExt cx="2952720" cy="1224000"/>
          </a:xfrm>
        </p:grpSpPr>
        <p:sp>
          <p:nvSpPr>
            <p:cNvPr id="282" name="AutoShape 11"/>
            <p:cNvSpPr/>
            <p:nvPr/>
          </p:nvSpPr>
          <p:spPr>
            <a:xfrm>
              <a:off x="6012000" y="3933720"/>
              <a:ext cx="2952720" cy="1224000"/>
            </a:xfrm>
            <a:prstGeom prst="flowChartPredefinedProcess">
              <a:avLst/>
            </a:prstGeom>
            <a:solidFill>
              <a:srgbClr val="cc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6443640" y="4076640"/>
              <a:ext cx="194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aeaea"/>
                  </a:solidFill>
                  <a:latin typeface="Times New Roman"/>
                </a:rPr>
                <a:t>Логические основы компьютера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личные подходы к рассмотрению данной темы в современных авторских программах основной школы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81960" cy="3468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Основы математической логики не изучаются в качестве отдельной темы, а вводятся по мере необходимости при работе с конкретным практическим модулем. Логические основы ЭВМ не рассматриваются вообще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Авторский коллектив Семакина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Учащиеся знакомятся с элементами формальной логики в виде самостоятельной темы, а уже закрепление и использование полученных знаний  происходит при работе с модулями: «Моделирование и формализация», «Базы данных» 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Н.Д. Угринович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Освоение среды табличного процессора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xcel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»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; «Программирование логических задач» ( </a:t>
            </a:r>
            <a:r>
              <a:rPr b="0" i="1" lang="ru-RU" sz="1600" spc="-1" strike="noStrike">
                <a:solidFill>
                  <a:srgbClr val="ff9900"/>
                </a:solidFill>
                <a:latin typeface="Times New Roman"/>
              </a:rPr>
              <a:t>С.Н.Тур, Т.П. Бокучава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ff"/>
                </a:solidFill>
                <a:latin typeface="Times New Roman"/>
              </a:rPr>
              <a:t>Наряду с основами логики рассматриваются Логические основы компьютера (</a:t>
            </a:r>
            <a:r>
              <a:rPr b="0" lang="ru-RU" sz="1600" spc="-1" strike="noStrike">
                <a:solidFill>
                  <a:srgbClr val="ff9900"/>
                </a:solidFill>
                <a:latin typeface="Times New Roman"/>
              </a:rPr>
              <a:t>авт. коллектив Н.В. Макаровой, авторская программа С.Н. Тур, Т.П. Бокучава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68360" y="5300640"/>
            <a:ext cx="867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ca8c"/>
                </a:solidFill>
                <a:latin typeface="Times New Roman"/>
              </a:rPr>
              <a:t>Более эффективными</a:t>
            </a: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 на мой взгляд являются  второй и третий подходы, поскольку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 учащихся формируется целостное представление о логике как науке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учащиеся не отвлекаются на введение дополнительной информации при работе с практическими модулями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ca8c"/>
                </a:solidFill>
                <a:latin typeface="Times New Roman"/>
              </a:rPr>
              <a:t>легче усваиваются условные выражения и операторы языка программировани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62ca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1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основной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 школы (всего 8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692360" y="1844640"/>
          <a:ext cx="7127640" cy="5014800"/>
        </p:xfrm>
        <a:graphic>
          <a:graphicData uri="http://schemas.openxmlformats.org/drawingml/2006/table">
            <a:tbl>
              <a:tblPr/>
              <a:tblGrid>
                <a:gridCol w="71276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Введение в логику. Знакомство с формальной логикой</a:t>
                      </a:r>
                      <a:r>
                        <a:rPr b="1" lang="ru-RU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 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стория становления логики как науки. Формы человеческого мышления и их характеристики. Круги Эйлера для отображения объёмов понятий и отношений между ними. Основной принцип формальной логики.</a:t>
                      </a:r>
                      <a:r>
                        <a:rPr b="0" i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Знакомство с алгеброй высказываний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нятие об алгебре высказываний. Логические операции. Построение таблиц истинности сложных высказываний. Тождественно истинные и тождественно ложные высказывания. Логические функции. Построение таблиц истинности с помощью электронных таблиц.</a:t>
                      </a:r>
                      <a:r>
                        <a:rPr b="1" lang="ru-RU" sz="1800" spc="-1" strike="noStrike">
                          <a:solidFill>
                            <a:srgbClr val="71bb9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ЭВМ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ческие элементы и схемы. Сумматор. Триггер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Содержание блока</a:t>
            </a:r>
            <a:br>
              <a:rPr sz="3400"/>
            </a:b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eaeaea"/>
                </a:solidFill>
                <a:latin typeface="Monotype Corsiva"/>
              </a:rPr>
              <a:t>Логические основы информатики </a:t>
            </a:r>
            <a:br>
              <a:rPr sz="3400"/>
            </a:b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в курсе ИиИКТ </a:t>
            </a:r>
            <a:r>
              <a:rPr b="0" lang="ru-RU" sz="2200" spc="-1" strike="noStrike" u="sng">
                <a:solidFill>
                  <a:srgbClr val="cc3300"/>
                </a:solidFill>
                <a:uFillTx/>
                <a:latin typeface="Times New Roman"/>
              </a:rPr>
              <a:t>старшей </a:t>
            </a:r>
            <a:r>
              <a:rPr b="0" lang="ru-RU" sz="2200" spc="-1" strike="noStrike">
                <a:solidFill>
                  <a:srgbClr val="cc3300"/>
                </a:solidFill>
                <a:latin typeface="Times New Roman"/>
              </a:rPr>
              <a:t>школы (всего 12 часов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1844640"/>
          <a:ext cx="7057800" cy="479412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Основы математической логики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Логика как наука. Диаграммы Эйлера-Венна для отображения логических операций. Связь между алгеброй логики и теорией множеств. Логические переменные и логические функции. Построение таблиц истинности, проверка правильности преобразования логических выражений с использованием электронных таблиц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rOffice Calc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. Законы формальной логики. Законы алгебры высказываний. Доказательство логических законов. Упрощение сложных высказываний. Программирование логических задач. Решение логических содержательных задач разными способами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II</a:t>
                      </a:r>
                      <a:r>
                        <a:rPr b="1" lang="ru-RU" sz="23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. Логические основы компьютера</a:t>
                      </a:r>
                      <a:endParaRPr b="0" lang="en-US" sz="2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оль математической логики в создании ЭВМ. Простейшие преобразователи информации. СДНФ. СКНФ. Типовые логические устройства ЭВМ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33680" y="1773360"/>
            <a:ext cx="7331040" cy="50846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еподавание данной темы строиться на принципах 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развивающего и эвристического обучения.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ая форма обучения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расширяет возможности развивающего обучения, в основе её лежит идея самореализации личностного потенциала каждого учащегося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и введении нового материала, повторении и закреплении ранее изученных вопросов, а так же во время текущего контроля можно использовать </a:t>
            </a: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эвристическую беседу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Правильно организованная эвристическая бесе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это лучшая форма обучения для формирования у детей системно-информационной картины мира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Times New Roman"/>
              </a:rPr>
              <a:t>создаёт в классе атмосферу сотрудничества и творчества, доставляет детям удовольствие от учебной деятельност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66ff"/>
                </a:solidFill>
                <a:latin typeface="Times New Roman"/>
              </a:rPr>
              <a:t>одно из самых сильных средств стимуляции познавательной деятельности дете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" dur="10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" dur="10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66"/>
                </a:solidFill>
                <a:latin typeface="Verdana"/>
              </a:rPr>
              <a:t>Фрагмент урока </a:t>
            </a:r>
            <a:br>
              <a:rPr sz="24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по теме: </a:t>
            </a:r>
            <a:r>
              <a:rPr b="0" i="1" lang="ru-RU" sz="1600" spc="-1" strike="noStrike">
                <a:solidFill>
                  <a:srgbClr val="006666"/>
                </a:solidFill>
                <a:latin typeface="Verdana"/>
              </a:rPr>
              <a:t>«</a:t>
            </a:r>
            <a:r>
              <a:rPr b="1" i="1" lang="ru-RU" sz="1600" spc="-1" strike="noStrike">
                <a:solidFill>
                  <a:srgbClr val="006666"/>
                </a:solidFill>
                <a:latin typeface="Verdana"/>
              </a:rPr>
              <a:t>Связь между алгеброй логики и теорией множеств</a:t>
            </a: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»</a:t>
            </a:r>
            <a:br>
              <a:rPr sz="2400"/>
            </a:br>
            <a:r>
              <a:rPr b="0" lang="ru-RU" sz="1500" spc="-1" strike="noStrike">
                <a:solidFill>
                  <a:srgbClr val="006666"/>
                </a:solidFill>
                <a:latin typeface="Verdana"/>
              </a:rPr>
              <a:t>профильного курса ИиИКТ в старшей школе</a:t>
            </a:r>
            <a:br>
              <a:rPr sz="2400"/>
            </a:br>
            <a:endParaRPr b="0" lang="en-US" sz="15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24000" y="981000"/>
          <a:ext cx="8497800" cy="576108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57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 курсе основной школы вы уже встречались с кругами Эйлера и знаете какие между множествами могут быть отноше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ля графической иллюстрации логических операций можно также воспользоваться диаграммами Эйлера-Венна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вы думаете какие операции в теории множеств соответствуют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нверс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он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 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дизъюнкци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Приведите конкретные примеры. 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ами рисую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нверсия                                         Конъюнкция                               Дизъюнкция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Дополнение к множеству              Пересечение множеств         Объединение множест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Как бы вы с помощью диаграмм Эйлера-Венна отобразили бы логические операции </a:t>
                      </a:r>
                      <a:r>
                        <a:rPr b="1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импликации и эквивалентности</a:t>
                      </a:r>
                      <a:r>
                        <a:rPr b="0" lang="ru-RU" sz="1200" spc="-1" strike="noStrike">
                          <a:solidFill>
                            <a:srgbClr val="37a363"/>
                          </a:solidFill>
                          <a:latin typeface="Verdana"/>
                        </a:rPr>
                        <a:t>? Задание не простое и конечно можно воспользоваться таблицами истинности для данных операций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Ответы учеников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для импликации заштрихуем на диаграмме три области, в которых значения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      В равно 1; для эквивалентности две области, для которых значения А     В равны 1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Импликация                                                   Эквивалентность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Учитель подводит итог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для импликации в теории множеств соответствующей операции нет, тем не менее можно отобразить импликацию с помощью диаграммы Эйлера-Венна; логической операции эквивалентности в теории множеств соответствует </a:t>
                      </a:r>
                      <a:r>
                        <a:rPr b="1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операция эквивалентности множеств</a:t>
                      </a:r>
                      <a:r>
                        <a:rPr b="0" lang="ru-RU" sz="1200" spc="-1" strike="noStrike">
                          <a:solidFill>
                            <a:srgbClr val="996633"/>
                          </a:solidFill>
                          <a:latin typeface="Verdana"/>
                        </a:rPr>
                        <a:t>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5" name="Picture 22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206640" cy="112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4" descr=""/>
          <p:cNvPicPr/>
          <p:nvPr/>
        </p:nvPicPr>
        <p:blipFill>
          <a:blip r:embed="rId2"/>
          <a:stretch/>
        </p:blipFill>
        <p:spPr>
          <a:xfrm>
            <a:off x="6804000" y="4653000"/>
            <a:ext cx="206280" cy="112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306440" cy="7416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8" descr=""/>
          <p:cNvPicPr/>
          <p:nvPr/>
        </p:nvPicPr>
        <p:blipFill>
          <a:blip r:embed="rId4"/>
          <a:stretch/>
        </p:blipFill>
        <p:spPr>
          <a:xfrm>
            <a:off x="3780000" y="2565360"/>
            <a:ext cx="1223640" cy="75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0" descr=""/>
          <p:cNvPicPr/>
          <p:nvPr/>
        </p:nvPicPr>
        <p:blipFill>
          <a:blip r:embed="rId5"/>
          <a:stretch/>
        </p:blipFill>
        <p:spPr>
          <a:xfrm>
            <a:off x="6588000" y="2637000"/>
            <a:ext cx="1243080" cy="631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2" descr=""/>
          <p:cNvPicPr/>
          <p:nvPr/>
        </p:nvPicPr>
        <p:blipFill>
          <a:blip r:embed="rId6"/>
          <a:stretch/>
        </p:blipFill>
        <p:spPr>
          <a:xfrm>
            <a:off x="1763640" y="4869000"/>
            <a:ext cx="1656000" cy="888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"/>
          <p:cNvPicPr/>
          <p:nvPr/>
        </p:nvPicPr>
        <p:blipFill>
          <a:blip r:embed="rId7"/>
          <a:stretch/>
        </p:blipFill>
        <p:spPr>
          <a:xfrm>
            <a:off x="5796000" y="4869000"/>
            <a:ext cx="142560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eaeaea"/>
                </a:solidFill>
                <a:latin typeface="Times New Roman"/>
              </a:rPr>
              <a:t>Методические особенности организации уроков по данной теме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35280" y="1773000"/>
            <a:ext cx="7129440" cy="4608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ля организации продуктивной работы на каждом уроке учащимся предлагае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Листок для работы в классе    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арточка для домашней работ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 ходу урока в тетрадях учащихся создаётся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порный конспект урока</a:t>
            </a:r>
            <a:r>
              <a:rPr b="0" lang="ru-RU" sz="28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организации уроков используется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дифференциальный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индивидуальный подходы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11:13Z</dcterms:created>
  <dc:creator>Кулешова</dc:creator>
  <dc:description/>
  <dc:language>en-US</dc:language>
  <cp:lastModifiedBy>Коля</cp:lastModifiedBy>
  <dcterms:modified xsi:type="dcterms:W3CDTF">2013-07-10T08:18:46Z</dcterms:modified>
  <cp:revision>8</cp:revision>
  <dc:subject/>
  <dc:title>Слайд 1</dc:title>
</cp:coreProperties>
</file>