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2E23-1E69-4E80-910E-B5E9F4C1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D6B6-FAB6-40A0-843C-A99C2C6D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1572-066F-499C-BA95-F5128018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223C-7F6F-4C8E-8D77-FCEDCECE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121B-6983-4CFB-99EC-58578ECB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09F0-7F24-4F72-B1EA-07A07E69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010E-87FB-4765-BE97-3CE0D95C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4D3E-C1E0-4A32-A24B-706D0C6A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F909-9D51-4E71-9723-3F9BFE49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A869-B74E-4D24-8588-72527C25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1F4C-3C0C-44C8-A443-A5287C03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AB4B-46F0-4FB6-8849-C9A0B5F2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F543-52DF-4CC4-B5FA-337A4854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6904-39B0-4D57-B980-7BA64D58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5E3E-E2CB-4A86-B779-72450CD5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6E5F-6A70-49D9-906F-70BFC1B1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6B9C-0BEA-45EB-97D0-3948DD1CF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F591D-ED2A-47F0-AE4B-81CC026E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D417E-F03A-4D5A-959F-1624C683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BD693-A0E5-408D-9D19-1B7A332D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A298A-6CEB-4B3B-AE7F-DF1A097F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EDEBD-1353-4FF2-AC4E-8889BB28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AC49-CAF7-4108-BF39-45BE050F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770E1-F42C-446F-91B6-8D2BEBD9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44A66-2B6C-4143-998E-C60FE534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315BA-2C59-4A57-A969-93F20077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9FDE2-003B-4EF6-B46B-758DA122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1C234-DFD5-48DF-97A6-63B76AC0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6ACCE-F66F-416B-9812-5C6E3682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BBEDE-6C3E-4E09-B0EA-5C47584C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CA07D-6F72-4D7E-ABCA-5F90AEED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D3A96-8AB2-4AE1-924B-7D27F7E2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C42F8-EF57-411E-9D7B-7D968ACB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C2C-8FE2-44FC-A9AC-4E82D2ED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09DCD-2AD8-4BCC-98D0-5700DF07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397BA-6361-45ED-B28D-58A9A8FA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6A610-FC38-42CD-BA9F-0DC2F1E2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AB04A-C45F-4BE7-BDB1-3D35D2D3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154F3-4069-4470-98FA-ACFCD1E6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28B76-4CB5-4319-AF33-65EC9891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D5FE5-D727-4281-8932-593254D7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B0565-3194-4582-A73D-E41A70EC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69EB6-F736-447D-A645-9F4681C7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35C4-397F-4779-BBEE-8CB00EDF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FE6A-65D5-4D99-A4F2-C1741F4B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7CDF-3FF7-433F-83C0-A6D436DA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2D77-22C0-44DA-88E5-F019AB7D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FC28-4F58-4D12-8BA5-E907BFBE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C6F6-46FF-4A6A-A25A-BDC5C568DC5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440" cy="648000"/>
            <a:chOff x="-19080" y="203040"/>
            <a:chExt cx="918144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360" cy="648000"/>
              <a:chOff x="-19080" y="203040"/>
              <a:chExt cx="916236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8720" y="247320"/>
              <a:ext cx="9181080" cy="562680"/>
              <a:chOff x="-18720" y="247320"/>
              <a:chExt cx="9181080" cy="56268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7320"/>
                <a:ext cx="9165240" cy="56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36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46E4-F55E-49BB-91A5-2501EE10973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587B-2504-444A-A231-9D2D3E75542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F075-A347-4687-A791-1B8AA6DF213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athforall.narod.ru/scinse/1.16.htm" TargetMode="External"/><Relationship Id="rId2" Type="http://schemas.openxmlformats.org/officeDocument/2006/relationships/hyperlink" Target="http://bse.sci-lib.com/article062284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3181320" y="596880"/>
            <a:ext cx="6248520" cy="20131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786120" y="3142800"/>
            <a:ext cx="46022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КОВАЛЕВСКАЯ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Софья Васильевн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(1850-1891)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285840" y="1111320"/>
            <a:ext cx="3143160" cy="3498840"/>
          </a:xfrm>
          <a:prstGeom prst="rect">
            <a:avLst/>
          </a:prstGeom>
          <a:ln w="28440">
            <a:solidFill>
              <a:srgbClr val="0b5395"/>
            </a:solidFill>
            <a:miter/>
          </a:ln>
        </p:spPr>
      </p:pic>
      <p:sp>
        <p:nvSpPr>
          <p:cNvPr id="198" name="TextBox 4"/>
          <p:cNvSpPr/>
          <p:nvPr/>
        </p:nvSpPr>
        <p:spPr>
          <a:xfrm>
            <a:off x="785880" y="5357880"/>
            <a:ext cx="76438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 160-летию со дня рождения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дготовила учитель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ОУ СОШ №36 г. Калининг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овальчук Лариса Леонид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28760" y="714240"/>
            <a:ext cx="82296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1888г. Ковалевская написала работу «Задача о вращении твердого тела вокруг неподвижной точки», присоединив к двум движениям гироскопа, открытым Л. Эйлером и Ж. Лагранжем, еще одно. За эту работу ей была присуждена премия Парижской академии наук, премия Бордена, причем сумма премии была увеличена ввиду высокого качества работ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428640" y="642600"/>
            <a:ext cx="5329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ерез год по настоянию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. Л. Чебышева и других русских математиков Петербургская академия наук избрала Ковалевскую своим членом-корреспондентом.  Предварительно для этого было принято специальное постановление о присуждении женщинам академических зван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357120" y="1112760"/>
            <a:ext cx="2786040" cy="3816360"/>
          </a:xfrm>
          <a:prstGeom prst="rect">
            <a:avLst/>
          </a:prstGeom>
          <a:ln w="28440">
            <a:solidFill>
              <a:srgbClr val="0b5395"/>
            </a:solidFill>
            <a:miter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56760" y="785520"/>
            <a:ext cx="47149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. В. Ковалевская мечтала о научной работе в России, но ее мечта не сбылась, в 1891 г. она умерла в Стокгольм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2143080" y="2857680"/>
            <a:ext cx="6715080" cy="3751560"/>
          </a:xfrm>
          <a:prstGeom prst="rect">
            <a:avLst/>
          </a:prstGeom>
          <a:solidFill>
            <a:srgbClr val="dbf5f9"/>
          </a:solidFill>
          <a:ln w="93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«Я чувствую, что предназначена служить истине — науке и прокладывать новый путь женщинам, потому что это значит — служить справедливости. Я очень рада, что родилась женщиной, так как это даёт мне возможность одновременно служить истине и справедливост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. В. Ковалев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28760" y="50004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Внезапная смерть Софьи Васильевны Ковалевской потрясла всех. На её похоронах Густав Миттаг-Леффлер сказал краткое прочувствованное слово: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«От имени работников на поприще математических наук во всех странах, от имени всех близких и далёких учеников и друзей обращаюсь к тебе с последним прощанием и благодарностью. Благодарю за глубину и ясность, с которыми ты направляла умственную жизнь юношества, за что потомство, как и современники, будут почитать твоё имя. Благодарю и за сокровища дружбы, которыми ты оделяла всех близких твоему сердцу». Позднее, в 1893 году, на страницах журнала «Акта Математика» он писал: «Она явилась к нам провозвестницей новых научных идей; какое значение она придавала им для разрешения самых существенных жизненных задач, как охотно делилась необыкновенно богатым запасом знаний и своими идеями с каждым своим учеником!»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4929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узей-усадьба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Софьи Ковалевской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4214880" y="4357800"/>
            <a:ext cx="1763640" cy="2279520"/>
          </a:xfrm>
          <a:prstGeom prst="rect">
            <a:avLst/>
          </a:prstGeom>
          <a:ln w="9360">
            <a:solidFill>
              <a:srgbClr val="0b5395"/>
            </a:solidFill>
            <a:miter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6572160" y="3143160"/>
            <a:ext cx="2286000" cy="3429000"/>
          </a:xfrm>
          <a:prstGeom prst="rect">
            <a:avLst/>
          </a:prstGeom>
          <a:ln w="9360">
            <a:solidFill>
              <a:srgbClr val="0b5395"/>
            </a:solidFill>
            <a:miter/>
          </a:ln>
        </p:spPr>
      </p:pic>
      <p:pic>
        <p:nvPicPr>
          <p:cNvPr id="225" name="Picture 2" descr=""/>
          <p:cNvPicPr/>
          <p:nvPr/>
        </p:nvPicPr>
        <p:blipFill>
          <a:blip r:embed="rId3"/>
          <a:stretch/>
        </p:blipFill>
        <p:spPr>
          <a:xfrm>
            <a:off x="5072040" y="285840"/>
            <a:ext cx="3751200" cy="2500200"/>
          </a:xfrm>
          <a:prstGeom prst="rect">
            <a:avLst/>
          </a:prstGeom>
          <a:ln w="9360">
            <a:solidFill>
              <a:srgbClr val="0b5395"/>
            </a:solidFill>
            <a:miter/>
          </a:ln>
        </p:spPr>
      </p:pic>
      <p:sp>
        <p:nvSpPr>
          <p:cNvPr id="226" name="Прямоугольник 6"/>
          <p:cNvSpPr/>
          <p:nvPr/>
        </p:nvSpPr>
        <p:spPr>
          <a:xfrm>
            <a:off x="428760" y="121428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Мемориальный музей располагается в селе Полибино в 25 км от Великих Лук в бывшем имении отца С.В. Ковалевской генерала Василия Васильевича Корвин-Круковского. Сохранился главный усадебный дом и флигель сер. 19 века, построенные по проекту выдающегося русского художника и архитектора А.П. Брюллова. Сохранилась также часть мемориального усадебного пар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4"/>
          <a:stretch/>
        </p:blipFill>
        <p:spPr>
          <a:xfrm>
            <a:off x="642960" y="4357800"/>
            <a:ext cx="3119400" cy="2246040"/>
          </a:xfrm>
          <a:prstGeom prst="rect">
            <a:avLst/>
          </a:prstGeom>
          <a:ln w="9360">
            <a:solidFill>
              <a:srgbClr val="0b5395"/>
            </a:solidFill>
            <a:miter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420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Источники информаци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0b5395"/>
          </a:solidFill>
          <a:ln w="9360">
            <a:solidFill>
              <a:srgbClr val="0b5395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mathforall.narod.ru/scinse/1.16.ht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bse.sci-lib.com/article062284.htm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www.zateevo.ru/userfiles/image/Geroi%20Rossii/Kovalevskaya/kovalevskaya03.jp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www.rulex.ru/rpg/WebPict/fullpic/0076-018.jp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www.serednikovo.ru/history/lermontovy/lermontova_j_v/kovalevskie_s.jp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www.ruschudo.ru/miracles/1111/photos/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logariett.livejournal.com/1225.htm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voshod.sibro.ru/article/2239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57120" y="999720"/>
            <a:ext cx="8444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ервая русская женщина математик С. В. Ковалевская родилась в Москве в богатой семье генерал-лейтенанта артиллерии в отставке Корвин -Круковского. Девочка росла разносторонне способной, но особенно ее увлекала математика. Ее первое знакомство с математикой произошло, когда ей было 8 лет. Для оклейки комнат не хватило обоев, и стены комнаты маленькой Сони оклеили листами лекций М. В. Остроградского по математическому анализу. С. В. Ковалевская вспомнила, что «от долгого  ежедневного  созерцания внешний вид многих из формул так и врезался в моей памяти...»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14200" y="1071360"/>
            <a:ext cx="5143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то время в России женщинам было запрещено учиться в университетах и высших школах, и, чтобы уехать за границу и получить там высшее образование, С. В. Ковалевская вступила в фиктивный брак с молодым ученым-биологом В. О. Ковалевски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5072040" y="785880"/>
            <a:ext cx="3790800" cy="523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28760" y="928800"/>
            <a:ext cx="59292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1869 г. молодые супруги уезжают в Германию, Ковалевская посещает лекции крупнейших ученых, а с 1870г. она добивается права заниматься под руководством немецкого ученого Карла  Вейерштрасса. Занятия носили частный характер, так как и в Берлинский университет женщин не принимал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6643800" y="2000160"/>
            <a:ext cx="1857240" cy="2524320"/>
          </a:xfrm>
          <a:prstGeom prst="rect">
            <a:avLst/>
          </a:prstGeom>
          <a:ln w="9360">
            <a:solidFill>
              <a:srgbClr val="0b5395"/>
            </a:solidFill>
            <a:miter/>
          </a:ln>
        </p:spPr>
      </p:pic>
      <p:sp>
        <p:nvSpPr>
          <p:cNvPr id="204" name="TextBox 4"/>
          <p:cNvSpPr/>
          <p:nvPr/>
        </p:nvSpPr>
        <p:spPr>
          <a:xfrm>
            <a:off x="6357960" y="5000760"/>
            <a:ext cx="2571840" cy="733320"/>
          </a:xfrm>
          <a:prstGeom prst="rect">
            <a:avLst/>
          </a:prstGeom>
          <a:solidFill>
            <a:srgbClr val="dbf5f9"/>
          </a:solidFill>
          <a:ln w="93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офья Васильевна Ковалевская с дочерью Софь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00040" y="7142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1874 г. Вейерштрасс представляет три работы своей ученицы в Геттингенский университет для присуждения степени доктора философии, подчеркивая, что для получения степени достаточно любой из этих работ. Работа «К теории дифференциальных уравнений в частных производных» содержала доказательство решений таких уравнений. В наши дни эта важнейшая теорема о дифференциальных уравнениях называется теоремой Коши-Ковалевской. Другая работа содержала продолжение исследований Лапласа о структуре колец Сатурна, в третьей излагались труднейшие теоремы математического анализа. Степень была присуждена Ковалевской «с высшей похвалой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85480" y="428400"/>
            <a:ext cx="4686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 дипломом доктора философии она возвращается в Петербург и почти на 6 лет оставляет занятия математикой. В это время начинается ее литературно-публицистическая деятельнос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000760" y="285840"/>
            <a:ext cx="3857400" cy="5989680"/>
          </a:xfrm>
          <a:prstGeom prst="rect">
            <a:avLst/>
          </a:prstGeom>
          <a:ln w="9360">
            <a:solidFill>
              <a:srgbClr val="0b5395"/>
            </a:solidFill>
            <a:miter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3143160" y="4214880"/>
            <a:ext cx="1739880" cy="2428920"/>
          </a:xfrm>
          <a:prstGeom prst="rect">
            <a:avLst/>
          </a:prstGeom>
          <a:ln w="9360">
            <a:solidFill>
              <a:srgbClr val="0b5395"/>
            </a:solidFill>
            <a:miter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5214960" y="142920"/>
            <a:ext cx="3654360" cy="4389480"/>
          </a:xfrm>
          <a:prstGeom prst="rect">
            <a:avLst/>
          </a:prstGeom>
          <a:ln w="9360">
            <a:solidFill>
              <a:srgbClr val="0b5395"/>
            </a:solidFill>
            <a:miter/>
          </a:ln>
        </p:spPr>
      </p:pic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5357880" y="5000760"/>
            <a:ext cx="3357360" cy="1292040"/>
          </a:xfrm>
          <a:prstGeom prst="rect">
            <a:avLst/>
          </a:prstGeom>
          <a:ln w="9360">
            <a:solidFill>
              <a:srgbClr val="0b5395"/>
            </a:solidFill>
            <a:miter/>
          </a:ln>
        </p:spPr>
      </p:pic>
      <p:sp>
        <p:nvSpPr>
          <p:cNvPr id="211" name="TextBox 5"/>
          <p:cNvSpPr/>
          <p:nvPr/>
        </p:nvSpPr>
        <p:spPr>
          <a:xfrm>
            <a:off x="428760" y="785880"/>
            <a:ext cx="4357440" cy="5447880"/>
          </a:xfrm>
          <a:prstGeom prst="rect">
            <a:avLst/>
          </a:prstGeom>
          <a:solidFill>
            <a:srgbClr val="dbf5f9"/>
          </a:solidFill>
          <a:ln w="93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ишлось ли раз вам безучаст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Бездельно средь толпы гуля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 вдруг какой-то песни страст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лучайно звуки услыха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На вас нежданною волно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ахнула память прежних л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 что-то милое, род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 душе откликнулось в отв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Казалось вам, что эти зву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ы в детстве слышали не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Как много счастья, неги, му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 них вспоминалося для в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пешили вы привычным слух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Напев знакомый улови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Хотелось Вам за каждым зву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За каждым словом услед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13840" y="428400"/>
            <a:ext cx="4357800" cy="5925960"/>
          </a:xfrm>
          <a:prstGeom prst="rect">
            <a:avLst/>
          </a:prstGeom>
          <a:solidFill>
            <a:srgbClr val="dbf5f9"/>
          </a:solidFill>
          <a:ln w="9360">
            <a:solidFill>
              <a:srgbClr val="0b5395"/>
            </a:solidFill>
            <a:miter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ЕСЛИ ТЫ В ЖИЗНИ..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Если ты в жизни хотя на мгновенье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стину в сердце твоём ощутил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Если луч правды сквозь мрак и сомненье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Ярким сияньем твой путь озарил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Что бы, в решенье своём неизменном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Рок ни назначил тебе впереди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амять об этом мгновенье священном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ечно храни, как святыню, в груд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учи сберутся громадой нестройной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Небо покроется чёрною мглой —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 ясной решимостью, с верой спокойной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Бурю ты встреть и померься с грозой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Лживые призраки, злые видень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бить тебя будут пытаться с пут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тив всех вражеских козней спасенье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 собственном сердце ты сможешь найт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714560" y="428400"/>
            <a:ext cx="4143240" cy="5925960"/>
          </a:xfrm>
          <a:prstGeom prst="rect">
            <a:avLst/>
          </a:prstGeom>
          <a:solidFill>
            <a:srgbClr val="dbf5f9"/>
          </a:solidFill>
          <a:ln w="9360">
            <a:solidFill>
              <a:srgbClr val="0b5395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Если хранится в нём искра святая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ы всемогущ и всесилен, но знай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Горе тебе, коль, врагам уступая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Дашь ты похитить её невзначай!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Лучше бы было тебе не родиться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Лучше бы истины вовсе не знать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Нежели, зная, от ней отступиться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Чем первенство за похлёбку продать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едь грозные боги ревнивы и строги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х приговор ясен, решенье одно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 того человека и взыщется много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Кому было много талантов дано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ы знаешь в писанье суровое слово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щенье замолит за всё человек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Но только за грех против духа святог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щения нет и не будет вовек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.В. Ковалевска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00040" y="142884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1880г. Ковалевская переезжает в Москву, но там ей не разрешили сдавать в университете магистерские экзамены. Не удалось ей получить также место профессора на Высших женских курсах в Париже. Только в 1883 г. она переезжает в Швецию и начинает работать в Стокгольмском университете, где через год становится профессором. В течение 8 лет она прочитала 12 курсов лекций. Годы работы в Стокгольмском университете период расцвета ее научной и литературной деятель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4429080" y="285840"/>
            <a:ext cx="42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Каждый обязан свои лучш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илы посвятить делу большин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.В. Ковале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9:05:43Z</dcterms:created>
  <dc:creator>SamLab.ws</dc:creator>
  <dc:description/>
  <dc:language>en-US</dc:language>
  <cp:lastModifiedBy>Admin</cp:lastModifiedBy>
  <dcterms:modified xsi:type="dcterms:W3CDTF">2010-02-20T07:15:56Z</dcterms:modified>
  <cp:revision>20</cp:revision>
  <dc:subject/>
  <dc:title>Галерея великих математиков</dc:title>
</cp:coreProperties>
</file>