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7C5A-FD3B-4406-8B70-B047E6E39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EF92-0A9C-476B-BB15-DB7EB020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07CB-6673-436E-85C3-5902C86EB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2E17-9257-4F9E-9AFF-407BA71C0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BD3D-12D4-4AAB-81C4-27D6C9D4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8CD8-7C49-4098-9402-58D055E0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63AB-88DC-46CE-A776-40C87E53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8A8F-94C5-4365-A26C-3ED7F9F4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4E8F-7080-4C91-BB72-14147050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FE95-C58E-499D-924E-82D360CB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73F7-BD73-46CC-820B-BA913742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A4E1-ED89-4BB9-BB40-4F96F004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53AA-1E00-470D-A274-559CF2F7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36DE-D040-4314-AD71-E3883E30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32B8-F889-41A6-BB63-DAE8D87B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FEB2-BEA7-4C1B-B416-055FF1A3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F9E7-9311-4D81-AD10-4B5271DA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A78D3-FB3C-4158-9C2C-26629F46A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41C6C-E343-45BF-A0CE-803F6517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597A6-498F-41E6-8104-D245DCEA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5B4C4-ABF0-4866-B9D5-06E38704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21FB0-4CD8-49A8-A972-146820FE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A57E-4895-4B5D-9EBF-ACDB456F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9EF1E-B7C8-44E7-B2C3-E98466B3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A90DF-722E-4F30-8AFE-109960DB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769BF-9BE0-4B91-9C3B-17544EA4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63CF4-D135-4EF6-8910-D1CC077C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B6454-FB98-41B6-ABEA-FD8B59C6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F5970-8F20-4002-AEA8-B1E1EABE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92796-EFE4-4A7B-8670-10260B71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A9FFD-5449-4CD7-9608-5047B5DAB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8E3DB-F26E-4B66-BFF0-59076A8B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E2721-D50F-4989-A99D-38BEF6D8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5498-89A7-482F-9455-3F5F2981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5D36D-F063-41FA-9DE3-A21BFF5F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654FF-4610-4D2E-AC29-4BEA924F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42554-D564-49B6-AF04-363F94A2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EF506-1A69-4A51-A6E5-C16D9917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F78B1-F832-4CFD-B0AC-6FD50138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D9192-2C8D-408A-B38F-98A3D7DF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791A4-6D17-4363-BFE9-CB869EE5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E66BF-811E-469D-9DFA-F03754527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3A822-05E4-4C17-BC92-29955D05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F676-76C6-4224-9FAB-73F495E7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E76B-67E8-48CE-8CC2-19AA1F46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49CC-F78B-4722-963E-24CD8AA6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6D6A-3ED4-4009-A37B-89A59233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9590-1E4F-4BEA-AA96-3189DA74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E87F-A01F-429A-B1D0-915E45135AE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440" cy="648000"/>
            <a:chOff x="-19080" y="203040"/>
            <a:chExt cx="918144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360" cy="648000"/>
              <a:chOff x="-19080" y="203040"/>
              <a:chExt cx="916236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3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8720" y="247320"/>
              <a:ext cx="9181080" cy="562680"/>
              <a:chOff x="-18720" y="247320"/>
              <a:chExt cx="9181080" cy="56268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7320"/>
                <a:ext cx="9165240" cy="56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36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46DB-37EC-4D62-910C-4A081292E10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B692-80D7-44DA-AA78-D0C645E9B7F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A036-21E0-4673-A8A4-262C665F334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mathforall.narod.ru/scinse/1.16.htm" TargetMode="External"/><Relationship Id="rId2" Type="http://schemas.openxmlformats.org/officeDocument/2006/relationships/hyperlink" Target="http://bse.sci-lib.com/article062284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3181320" y="596880"/>
            <a:ext cx="6248520" cy="20131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786120" y="3142800"/>
            <a:ext cx="46022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КОВАЛЕВСКАЯ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Софья Васильевн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(1850-1891)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285840" y="1111320"/>
            <a:ext cx="3143160" cy="3498840"/>
          </a:xfrm>
          <a:prstGeom prst="rect">
            <a:avLst/>
          </a:prstGeom>
          <a:ln w="28440">
            <a:solidFill>
              <a:srgbClr val="0b5395"/>
            </a:solidFill>
            <a:miter/>
          </a:ln>
        </p:spPr>
      </p:pic>
      <p:sp>
        <p:nvSpPr>
          <p:cNvPr id="198" name="TextBox 4"/>
          <p:cNvSpPr/>
          <p:nvPr/>
        </p:nvSpPr>
        <p:spPr>
          <a:xfrm>
            <a:off x="785880" y="5357880"/>
            <a:ext cx="76438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 160-летию со дня рождения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одготовила учитель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МОУ СОШ №36 г. Калинингр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овальчук Лариса Леонид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28760" y="714240"/>
            <a:ext cx="82296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1888г. Ковалевская написала работу «Задача о вращении твердого тела вокруг неподвижной точки», присоединив к двум движениям гироскопа, открытым Л. Эйлером и Ж. Лагранжем, еще одно. За эту работу ей была присуждена премия Парижской академии наук, премия Бордена, причем сумма премии была увеличена ввиду высокого качества работ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428640" y="642600"/>
            <a:ext cx="5329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ерез год по настоянию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. Л. Чебышева и других русских математиков Петербургская академия наук избрала Ковалевскую своим членом-корреспондентом.  Предварительно для этого было принято специальное постановление о присуждении женщинам академических звани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357120" y="1112760"/>
            <a:ext cx="2786040" cy="3816360"/>
          </a:xfrm>
          <a:prstGeom prst="rect">
            <a:avLst/>
          </a:prstGeom>
          <a:ln w="28440">
            <a:solidFill>
              <a:srgbClr val="0b5395"/>
            </a:solidFill>
            <a:miter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56760" y="785520"/>
            <a:ext cx="47149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. В. Ковалевская мечтала о научной работе в России, но ее мечта не сбылась, в 1891 г. она умерла в Стокгольм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2143080" y="2857680"/>
            <a:ext cx="6715080" cy="3751560"/>
          </a:xfrm>
          <a:prstGeom prst="rect">
            <a:avLst/>
          </a:prstGeom>
          <a:solidFill>
            <a:srgbClr val="dbf5f9"/>
          </a:solidFill>
          <a:ln w="9360">
            <a:solidFill>
              <a:srgbClr val="0b5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«Я чувствую, что предназначена служить истине — науке и прокладывать новый путь женщинам, потому что это значит — служить справедливости. Я очень рада, что родилась женщиной, так как это даёт мне возможность одновременно служить истине и справедливост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. В. Ковалев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28760" y="50004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Внезапная смерть Софьи Васильевны Ковалевской потрясла всех. На её похоронах Густав Миттаг-Леффлер сказал краткое прочувствованное слово: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«От имени работников на поприще математических наук во всех странах, от имени всех близких и далёких учеников и друзей обращаюсь к тебе с последним прощанием и благодарностью. Благодарю за глубину и ясность, с которыми ты направляла умственную жизнь юношества, за что потомство, как и современники, будут почитать твоё имя. Благодарю и за сокровища дружбы, которыми ты оделяла всех близких твоему сердцу». Позднее, в 1893 году, на страницах журнала «Акта Математика» он писал: «Она явилась к нам провозвестницей новых научных идей; какое значение она придавала им для разрешения самых существенных жизненных задач, как охотно делилась необыкновенно богатым запасом знаний и своими идеями с каждым своим учеником!»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4929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Музей-усадьба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Софьи Ковалевской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4214880" y="4357800"/>
            <a:ext cx="1763640" cy="2279520"/>
          </a:xfrm>
          <a:prstGeom prst="rect">
            <a:avLst/>
          </a:prstGeom>
          <a:ln w="9360">
            <a:solidFill>
              <a:srgbClr val="0b5395"/>
            </a:solidFill>
            <a:miter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6572160" y="3143160"/>
            <a:ext cx="2286000" cy="3429000"/>
          </a:xfrm>
          <a:prstGeom prst="rect">
            <a:avLst/>
          </a:prstGeom>
          <a:ln w="9360">
            <a:solidFill>
              <a:srgbClr val="0b5395"/>
            </a:solidFill>
            <a:miter/>
          </a:ln>
        </p:spPr>
      </p:pic>
      <p:pic>
        <p:nvPicPr>
          <p:cNvPr id="225" name="Picture 2" descr=""/>
          <p:cNvPicPr/>
          <p:nvPr/>
        </p:nvPicPr>
        <p:blipFill>
          <a:blip r:embed="rId3"/>
          <a:stretch/>
        </p:blipFill>
        <p:spPr>
          <a:xfrm>
            <a:off x="5072040" y="285840"/>
            <a:ext cx="3751200" cy="2500200"/>
          </a:xfrm>
          <a:prstGeom prst="rect">
            <a:avLst/>
          </a:prstGeom>
          <a:ln w="9360">
            <a:solidFill>
              <a:srgbClr val="0b5395"/>
            </a:solidFill>
            <a:miter/>
          </a:ln>
        </p:spPr>
      </p:pic>
      <p:sp>
        <p:nvSpPr>
          <p:cNvPr id="226" name="Прямоугольник 6"/>
          <p:cNvSpPr/>
          <p:nvPr/>
        </p:nvSpPr>
        <p:spPr>
          <a:xfrm>
            <a:off x="428760" y="121428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Мемориальный музей располагается в селе Полибино в 25 км от Великих Лук в бывшем имении отца С.В. Ковалевской генерала Василия Васильевича Корвин-Круковского. Сохранился главный усадебный дом и флигель сер. 19 века, построенные по проекту выдающегося русского художника и архитектора А.П. Брюллова. Сохранилась также часть мемориального усадебного пар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4"/>
          <a:stretch/>
        </p:blipFill>
        <p:spPr>
          <a:xfrm>
            <a:off x="642960" y="4357800"/>
            <a:ext cx="3119400" cy="2246040"/>
          </a:xfrm>
          <a:prstGeom prst="rect">
            <a:avLst/>
          </a:prstGeom>
          <a:ln w="9360">
            <a:solidFill>
              <a:srgbClr val="0b5395"/>
            </a:solidFill>
            <a:miter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420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Источники информаци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0b5395"/>
          </a:solidFill>
          <a:ln w="9360">
            <a:solidFill>
              <a:srgbClr val="0b5395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mathforall.narod.ru/scinse/1.16.ht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bse.sci-lib.com/article062284.htm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www.zateevo.ru/userfiles/image/Geroi%20Rossii/Kovalevskaya/kovalevskaya03.jp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www.rulex.ru/rpg/WebPict/fullpic/0076-018.jp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www.serednikovo.ru/history/lermontovy/lermontova_j_v/kovalevskie_s.jp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www.ruschudo.ru/miracles/1111/photos/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logariett.livejournal.com/1225.htm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voshod.sibro.ru/article/2239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57120" y="999720"/>
            <a:ext cx="8444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ервая русская женщина математик С. В. Ковалевская родилась в Москве в богатой семье генерал-лейтенанта артиллерии в отставке Корвин -Круковского. Девочка росла разносторонне способной, но особенно ее увлекала математика. Ее первое знакомство с математикой произошло, когда ей было 8 лет. Для оклейки комнат не хватило обоев, и стены комнаты маленькой Сони оклеили листами лекций М. В. Остроградского по математическому анализу. С. В. Ковалевская вспомнила, что «от долгого  ежедневного  созерцания внешний вид многих из формул так и врезался в моей памяти...»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14200" y="1071360"/>
            <a:ext cx="51436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то время в России женщинам было запрещено учиться в университетах и высших школах, и, чтобы уехать за границу и получить там высшее образование, С. В. Ковалевская вступила в фиктивный брак с молодым ученым-биологом В. О. Ковалевски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5072040" y="785880"/>
            <a:ext cx="3790800" cy="523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28760" y="928800"/>
            <a:ext cx="59292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1869 г. молодые супруги уезжают в Германию, Ковалевская посещает лекции крупнейших ученых, а с 1870г. она добивается права заниматься под руководством немецкого ученого Карла  Вейерштрасса. Занятия носили частный характер, так как и в Берлинский университет женщин не принимал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6643800" y="2000160"/>
            <a:ext cx="1857240" cy="2524320"/>
          </a:xfrm>
          <a:prstGeom prst="rect">
            <a:avLst/>
          </a:prstGeom>
          <a:ln w="9360">
            <a:solidFill>
              <a:srgbClr val="0b5395"/>
            </a:solidFill>
            <a:miter/>
          </a:ln>
        </p:spPr>
      </p:pic>
      <p:sp>
        <p:nvSpPr>
          <p:cNvPr id="204" name="TextBox 4"/>
          <p:cNvSpPr/>
          <p:nvPr/>
        </p:nvSpPr>
        <p:spPr>
          <a:xfrm>
            <a:off x="6357960" y="5000760"/>
            <a:ext cx="2571840" cy="733320"/>
          </a:xfrm>
          <a:prstGeom prst="rect">
            <a:avLst/>
          </a:prstGeom>
          <a:solidFill>
            <a:srgbClr val="dbf5f9"/>
          </a:solidFill>
          <a:ln w="9360">
            <a:solidFill>
              <a:srgbClr val="0b5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офья Васильевна Ковалевская с дочерью Софь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00040" y="7142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1874 г. Вейерштрасс представляет три работы своей ученицы в Геттингенский университет для присуждения степени доктора философии, подчеркивая, что для получения степени достаточно любой из этих работ. Работа «К теории дифференциальных уравнений в частных производных» содержала доказательство решений таких уравнений. В наши дни эта важнейшая теорема о дифференциальных уравнениях называется теоремой Коши-Ковалевской. Другая работа содержала продолжение исследований Лапласа о структуре колец Сатурна, в третьей излагались труднейшие теоремы математического анализа. Степень была присуждена Ковалевской «с высшей похвалой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85480" y="428400"/>
            <a:ext cx="46861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 дипломом доктора философии она возвращается в Петербург и почти на 6 лет оставляет занятия математикой. В это время начинается ее литературно-публицистическая деятельнос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5000760" y="285840"/>
            <a:ext cx="3857400" cy="5989680"/>
          </a:xfrm>
          <a:prstGeom prst="rect">
            <a:avLst/>
          </a:prstGeom>
          <a:ln w="9360">
            <a:solidFill>
              <a:srgbClr val="0b5395"/>
            </a:solidFill>
            <a:miter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3143160" y="4214880"/>
            <a:ext cx="1739880" cy="2428920"/>
          </a:xfrm>
          <a:prstGeom prst="rect">
            <a:avLst/>
          </a:prstGeom>
          <a:ln w="9360">
            <a:solidFill>
              <a:srgbClr val="0b5395"/>
            </a:solidFill>
            <a:miter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5214960" y="142920"/>
            <a:ext cx="3654360" cy="4389480"/>
          </a:xfrm>
          <a:prstGeom prst="rect">
            <a:avLst/>
          </a:prstGeom>
          <a:ln w="9360">
            <a:solidFill>
              <a:srgbClr val="0b5395"/>
            </a:solidFill>
            <a:miter/>
          </a:ln>
        </p:spPr>
      </p:pic>
      <p:pic>
        <p:nvPicPr>
          <p:cNvPr id="210" name="Picture 3" descr=""/>
          <p:cNvPicPr/>
          <p:nvPr/>
        </p:nvPicPr>
        <p:blipFill>
          <a:blip r:embed="rId2"/>
          <a:stretch/>
        </p:blipFill>
        <p:spPr>
          <a:xfrm>
            <a:off x="5357880" y="5000760"/>
            <a:ext cx="3357360" cy="1292040"/>
          </a:xfrm>
          <a:prstGeom prst="rect">
            <a:avLst/>
          </a:prstGeom>
          <a:ln w="9360">
            <a:solidFill>
              <a:srgbClr val="0b5395"/>
            </a:solidFill>
            <a:miter/>
          </a:ln>
        </p:spPr>
      </p:pic>
      <p:sp>
        <p:nvSpPr>
          <p:cNvPr id="211" name="TextBox 5"/>
          <p:cNvSpPr/>
          <p:nvPr/>
        </p:nvSpPr>
        <p:spPr>
          <a:xfrm>
            <a:off x="428760" y="785880"/>
            <a:ext cx="4357440" cy="5447880"/>
          </a:xfrm>
          <a:prstGeom prst="rect">
            <a:avLst/>
          </a:prstGeom>
          <a:solidFill>
            <a:srgbClr val="dbf5f9"/>
          </a:solidFill>
          <a:ln w="9360">
            <a:solidFill>
              <a:srgbClr val="0b5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ишлось ли раз вам безучаст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Бездельно средь толпы гуля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 вдруг какой-то песни страст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лучайно звуки услыха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На вас нежданною волно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ахнула память прежних ле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 что-то милое, род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 душе откликнулось в отв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Казалось вам, что эти зву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ы в детстве слышали не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Как много счастья, неги, му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 них вспоминалося для ва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пешили вы привычным слух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Напев знакомый улови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Хотелось Вам за каждым зву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За каждым словом уследи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13840" y="428400"/>
            <a:ext cx="4357800" cy="5925960"/>
          </a:xfrm>
          <a:prstGeom prst="rect">
            <a:avLst/>
          </a:prstGeom>
          <a:solidFill>
            <a:srgbClr val="dbf5f9"/>
          </a:solidFill>
          <a:ln w="9360">
            <a:solidFill>
              <a:srgbClr val="0b5395"/>
            </a:solidFill>
            <a:miter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ЕСЛИ ТЫ В ЖИЗНИ..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Если ты в жизни хотя на мгновенье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стину в сердце твоём ощутил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Если луч правды сквозь мрак и сомненье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Ярким сияньем твой путь озарил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Что бы, в решенье своём неизменном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Рок ни назначил тебе впереди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амять об этом мгновенье священном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ечно храни, как святыню, в груди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Тучи сберутся громадой нестройной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Небо покроется чёрною мглой —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 ясной решимостью, с верой спокойной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Бурю ты встреть и померься с грозой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Лживые призраки, злые виденья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бить тебя будут пытаться с пут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тив всех вражеских козней спасенье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 собственном сердце ты сможешь найт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714560" y="428400"/>
            <a:ext cx="4143240" cy="5925960"/>
          </a:xfrm>
          <a:prstGeom prst="rect">
            <a:avLst/>
          </a:prstGeom>
          <a:solidFill>
            <a:srgbClr val="dbf5f9"/>
          </a:solidFill>
          <a:ln w="9360">
            <a:solidFill>
              <a:srgbClr val="0b5395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Если хранится в нём искра святая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Ты всемогущ и всесилен, но знай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Горе тебе, коль, врагам уступая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Дашь ты похитить её невзначай!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Лучше бы было тебе не родиться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Лучше бы истины вовсе не знать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Нежели, зная, от ней отступиться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Чем первенство за похлёбку продать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едь грозные боги ревнивы и строги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х приговор ясен, решенье одно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 того человека и взыщется много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Кому было много талантов дано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Ты знаешь в писанье суровое слово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щенье замолит за всё человек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Но только за грех против духа святог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щения нет и не будет вовек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.В. Ковалевская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00040" y="142884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1880г. Ковалевская переезжает в Москву, но там ей не разрешили сдавать в университете магистерские экзамены. Не удалось ей получить также место профессора на Высших женских курсах в Париже. Только в 1883 г. она переезжает в Швецию и начинает работать в Стокгольмском университете, где через год становится профессором. В течение 8 лет она прочитала 12 курсов лекций. Годы работы в Стокгольмском университете период расцвета ее научной и литературной деятельн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4429080" y="285840"/>
            <a:ext cx="42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Каждый обязан свои лучш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илы посвятить делу большин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.В. Ковале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9:05:43Z</dcterms:created>
  <dc:creator>SamLab.ws</dc:creator>
  <dc:description/>
  <dc:language>en-US</dc:language>
  <cp:lastModifiedBy>Admin</cp:lastModifiedBy>
  <dcterms:modified xsi:type="dcterms:W3CDTF">2010-02-20T07:15:56Z</dcterms:modified>
  <cp:revision>20</cp:revision>
  <dc:subject/>
  <dc:title>Галерея великих математиков</dc:title>
</cp:coreProperties>
</file>