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A185-8F98-4728-BDB7-E24EDB4A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C1F0-85D9-4907-9574-5AEEBE96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3A79-9C87-4C67-948A-823D5AB2F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DA97-5808-40BA-89D3-B5AE28173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6D8F-4F7C-48DF-827F-CF7ADBAC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1913-361F-43DB-B933-E7B2388A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E973-98E8-405A-86FD-10BA0AD3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28A7-7B65-4857-860E-35387AB5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4833-D184-4482-922A-134B5F24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803D-802B-4741-94D9-605AD600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E65C-7845-4191-8073-AECBBF74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FA74-24C0-4E58-976A-FE162C18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88AF-221A-4AE7-A59F-BE822B27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FCFD-6BBB-4951-B6CB-B5493BC7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CD07-EC9F-4B1C-9B95-A74DA404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2363-2A33-4CCD-B400-043353F25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A842-CBCE-435B-8A1B-4552549B6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D2FF7-DAB4-43B5-98B8-68BB5D766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1934E-4648-4B77-89EF-80CF6823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58DE3-97F0-48E4-A662-AB19FD84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F825F-36E4-43E5-9205-8C786757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2434D-F7E0-4C2D-91EB-7960DF76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20B8-84BD-4518-87FF-B193507B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3CB53-AD30-401F-8896-0B6C9E0C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47894-4980-40C6-B3ED-D3929B2E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0EF9E-98F1-424C-AD48-6017D026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46DA3-D0F1-4443-8F6B-6192A563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29F3E-F7A5-4914-A807-568BC90D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0267D-3D23-44A2-B63C-7D838E530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603EA-92D4-4AD6-853F-F76EACA72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6DFCF-DA47-4E7D-9715-C90E42EA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68993-0FDA-4407-AD4A-68EA354F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B8295-9FF7-47CA-B563-42174A47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948A-4857-4193-A39E-611D9430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512B6-6E40-4A92-8343-4AE7BA5A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7D9F0-10FE-431B-8F1E-8112D3F1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B5925-6CD0-4E46-90B8-2D849B23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8080E-390E-40E0-B554-637DC937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B266A-7C64-40C8-A44A-46251849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63531-9E7C-4733-BA93-C160FEF2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13469-1CB8-4882-A479-EC772FE0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A9368-2059-4D6F-A0F8-067CE669A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17FAF-2A31-42C9-876E-C5D0350C5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1BE8-05E3-4935-A895-39CFB901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9D0B-8A47-4363-BB00-B93FBA8F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A873-7DAB-4E39-869A-3CAF5896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127D-FFEC-4B61-BAD4-E4784B37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70ED-2982-4E41-9683-728AEF1D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CC22-3F9E-4912-8F5B-7DEAD9A7197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440" cy="648000"/>
            <a:chOff x="-19080" y="203040"/>
            <a:chExt cx="918144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360" cy="648000"/>
              <a:chOff x="-19080" y="203040"/>
              <a:chExt cx="916236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3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8720" y="247320"/>
              <a:ext cx="9181080" cy="562680"/>
              <a:chOff x="-18720" y="247320"/>
              <a:chExt cx="9181080" cy="56268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47320"/>
                <a:ext cx="9165240" cy="56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36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B81A-E625-4CA2-A8E3-97E27989ADE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1B85-34B8-4E2E-B502-CE0D6F6C57B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4320-BB9A-42C5-AEE5-647A8462015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mathforall.narod.ru/scinse/1.16.htm" TargetMode="External"/><Relationship Id="rId2" Type="http://schemas.openxmlformats.org/officeDocument/2006/relationships/hyperlink" Target="http://bse.sci-lib.com/article062284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3181320" y="596880"/>
            <a:ext cx="6248520" cy="20131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786120" y="3142800"/>
            <a:ext cx="46022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КОВАЛЕВСКАЯ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Софья Васильевн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(1850-1891)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285840" y="1111320"/>
            <a:ext cx="3143160" cy="3498840"/>
          </a:xfrm>
          <a:prstGeom prst="rect">
            <a:avLst/>
          </a:prstGeom>
          <a:ln w="28440">
            <a:solidFill>
              <a:srgbClr val="0b5395"/>
            </a:solidFill>
            <a:miter/>
          </a:ln>
        </p:spPr>
      </p:pic>
      <p:sp>
        <p:nvSpPr>
          <p:cNvPr id="198" name="TextBox 4"/>
          <p:cNvSpPr/>
          <p:nvPr/>
        </p:nvSpPr>
        <p:spPr>
          <a:xfrm>
            <a:off x="785880" y="5357880"/>
            <a:ext cx="76438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 160-летию со дня рождения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одготовила учитель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МОУ СОШ №36 г. Калинингр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овальчук Лариса Леонид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28760" y="714240"/>
            <a:ext cx="82296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1888г. Ковалевская написала работу «Задача о вращении твердого тела вокруг неподвижной точки», присоединив к двум движениям гироскопа, открытым Л. Эйлером и Ж. Лагранжем, еще одно. За эту работу ей была присуждена премия Парижской академии наук, премия Бордена, причем сумма премии была увеличена ввиду высокого качества работ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428640" y="642600"/>
            <a:ext cx="5329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ерез год по настоянию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. Л. Чебышева и других русских математиков Петербургская академия наук избрала Ковалевскую своим членом-корреспондентом.  Предварительно для этого было принято специальное постановление о присуждении женщинам академических звани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357120" y="1112760"/>
            <a:ext cx="2786040" cy="3816360"/>
          </a:xfrm>
          <a:prstGeom prst="rect">
            <a:avLst/>
          </a:prstGeom>
          <a:ln w="28440">
            <a:solidFill>
              <a:srgbClr val="0b5395"/>
            </a:solidFill>
            <a:miter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56760" y="785520"/>
            <a:ext cx="47149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. В. Ковалевская мечтала о научной работе в России, но ее мечта не сбылась, в 1891 г. она умерла в Стокгольм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2143080" y="2857680"/>
            <a:ext cx="6715080" cy="3751560"/>
          </a:xfrm>
          <a:prstGeom prst="rect">
            <a:avLst/>
          </a:prstGeom>
          <a:solidFill>
            <a:srgbClr val="dbf5f9"/>
          </a:solidFill>
          <a:ln w="9360">
            <a:solidFill>
              <a:srgbClr val="0b5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«Я чувствую, что предназначена служить истине — науке и прокладывать новый путь женщинам, потому что это значит — служить справедливости. Я очень рада, что родилась женщиной, так как это даёт мне возможность одновременно служить истине и справедливост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. В. Ковалев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28760" y="50004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Внезапная смерть Софьи Васильевны Ковалевской потрясла всех. На её похоронах Густав Миттаг-Леффлер сказал краткое прочувствованное слово: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«От имени работников на поприще математических наук во всех странах, от имени всех близких и далёких учеников и друзей обращаюсь к тебе с последним прощанием и благодарностью. Благодарю за глубину и ясность, с которыми ты направляла умственную жизнь юношества, за что потомство, как и современники, будут почитать твоё имя. Благодарю и за сокровища дружбы, которыми ты оделяла всех близких твоему сердцу». Позднее, в 1893 году, на страницах журнала «Акта Математика» он писал: «Она явилась к нам провозвестницей новых научных идей; какое значение она придавала им для разрешения самых существенных жизненных задач, как охотно делилась необыкновенно богатым запасом знаний и своими идеями с каждым своим учеником!»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4929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Музей-усадьба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Софьи Ковалевской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4214880" y="4357800"/>
            <a:ext cx="1763640" cy="2279520"/>
          </a:xfrm>
          <a:prstGeom prst="rect">
            <a:avLst/>
          </a:prstGeom>
          <a:ln w="9360">
            <a:solidFill>
              <a:srgbClr val="0b5395"/>
            </a:solidFill>
            <a:miter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6572160" y="3143160"/>
            <a:ext cx="2286000" cy="3429000"/>
          </a:xfrm>
          <a:prstGeom prst="rect">
            <a:avLst/>
          </a:prstGeom>
          <a:ln w="9360">
            <a:solidFill>
              <a:srgbClr val="0b5395"/>
            </a:solidFill>
            <a:miter/>
          </a:ln>
        </p:spPr>
      </p:pic>
      <p:pic>
        <p:nvPicPr>
          <p:cNvPr id="225" name="Picture 2" descr=""/>
          <p:cNvPicPr/>
          <p:nvPr/>
        </p:nvPicPr>
        <p:blipFill>
          <a:blip r:embed="rId3"/>
          <a:stretch/>
        </p:blipFill>
        <p:spPr>
          <a:xfrm>
            <a:off x="5072040" y="285840"/>
            <a:ext cx="3751200" cy="2500200"/>
          </a:xfrm>
          <a:prstGeom prst="rect">
            <a:avLst/>
          </a:prstGeom>
          <a:ln w="9360">
            <a:solidFill>
              <a:srgbClr val="0b5395"/>
            </a:solidFill>
            <a:miter/>
          </a:ln>
        </p:spPr>
      </p:pic>
      <p:sp>
        <p:nvSpPr>
          <p:cNvPr id="226" name="Прямоугольник 6"/>
          <p:cNvSpPr/>
          <p:nvPr/>
        </p:nvSpPr>
        <p:spPr>
          <a:xfrm>
            <a:off x="428760" y="121428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Мемориальный музей располагается в селе Полибино в 25 км от Великих Лук в бывшем имении отца С.В. Ковалевской генерала Василия Васильевича Корвин-Круковского. Сохранился главный усадебный дом и флигель сер. 19 века, построенные по проекту выдающегося русского художника и архитектора А.П. Брюллова. Сохранилась также часть мемориального усадебного пар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4"/>
          <a:stretch/>
        </p:blipFill>
        <p:spPr>
          <a:xfrm>
            <a:off x="642960" y="4357800"/>
            <a:ext cx="3119400" cy="2246040"/>
          </a:xfrm>
          <a:prstGeom prst="rect">
            <a:avLst/>
          </a:prstGeom>
          <a:ln w="9360">
            <a:solidFill>
              <a:srgbClr val="0b5395"/>
            </a:solidFill>
            <a:miter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420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Источники информаци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0b5395"/>
          </a:solidFill>
          <a:ln w="9360">
            <a:solidFill>
              <a:srgbClr val="0b5395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mathforall.narod.ru/scinse/1.16.ht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bse.sci-lib.com/article062284.htm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www.zateevo.ru/userfiles/image/Geroi%20Rossii/Kovalevskaya/kovalevskaya03.jp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www.rulex.ru/rpg/WebPict/fullpic/0076-018.jp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www.serednikovo.ru/history/lermontovy/lermontova_j_v/kovalevskie_s.jp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www.ruschudo.ru/miracles/1111/photos/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logariett.livejournal.com/1225.htm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ttp://voshod.sibro.ru/article/2239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57120" y="999720"/>
            <a:ext cx="8444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ервая русская женщина математик С. В. Ковалевская родилась в Москве в богатой семье генерал-лейтенанта артиллерии в отставке Корвин -Круковского. Девочка росла разносторонне способной, но особенно ее увлекала математика. Ее первое знакомство с математикой произошло, когда ей было 8 лет. Для оклейки комнат не хватило обоев, и стены комнаты маленькой Сони оклеили листами лекций М. В. Остроградского по математическому анализу. С. В. Ковалевская вспомнила, что «от долгого  ежедневного  созерцания внешний вид многих из формул так и врезался в моей памяти...»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14200" y="1071360"/>
            <a:ext cx="51436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то время в России женщинам было запрещено учиться в университетах и высших школах, и, чтобы уехать за границу и получить там высшее образование, С. В. Ковалевская вступила в фиктивный брак с молодым ученым-биологом В. О. Ковалевски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5072040" y="785880"/>
            <a:ext cx="3790800" cy="523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28760" y="928800"/>
            <a:ext cx="59292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1869 г. молодые супруги уезжают в Германию, Ковалевская посещает лекции крупнейших ученых, а с 1870г. она добивается права заниматься под руководством немецкого ученого Карла  Вейерштрасса. Занятия носили частный характер, так как и в Берлинский университет женщин не принимал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6643800" y="2000160"/>
            <a:ext cx="1857240" cy="2524320"/>
          </a:xfrm>
          <a:prstGeom prst="rect">
            <a:avLst/>
          </a:prstGeom>
          <a:ln w="9360">
            <a:solidFill>
              <a:srgbClr val="0b5395"/>
            </a:solidFill>
            <a:miter/>
          </a:ln>
        </p:spPr>
      </p:pic>
      <p:sp>
        <p:nvSpPr>
          <p:cNvPr id="204" name="TextBox 4"/>
          <p:cNvSpPr/>
          <p:nvPr/>
        </p:nvSpPr>
        <p:spPr>
          <a:xfrm>
            <a:off x="6357960" y="5000760"/>
            <a:ext cx="2571840" cy="733320"/>
          </a:xfrm>
          <a:prstGeom prst="rect">
            <a:avLst/>
          </a:prstGeom>
          <a:solidFill>
            <a:srgbClr val="dbf5f9"/>
          </a:solidFill>
          <a:ln w="9360">
            <a:solidFill>
              <a:srgbClr val="0b5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Софья Васильевна Ковалевская с дочерью Софь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00040" y="7142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1874 г. Вейерштрасс представляет три работы своей ученицы в Геттингенский университет для присуждения степени доктора философии, подчеркивая, что для получения степени достаточно любой из этих работ. Работа «К теории дифференциальных уравнений в частных производных» содержала доказательство решений таких уравнений. В наши дни эта важнейшая теорема о дифференциальных уравнениях называется теоремой Коши-Ковалевской. Другая работа содержала продолжение исследований Лапласа о структуре колец Сатурна, в третьей излагались труднейшие теоремы математического анализа. Степень была присуждена Ковалевской «с высшей похвалой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85480" y="428400"/>
            <a:ext cx="46861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 дипломом доктора философии она возвращается в Петербург и почти на 6 лет оставляет занятия математикой. В это время начинается ее литературно-публицистическая деятельнос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5000760" y="285840"/>
            <a:ext cx="3857400" cy="5989680"/>
          </a:xfrm>
          <a:prstGeom prst="rect">
            <a:avLst/>
          </a:prstGeom>
          <a:ln w="9360">
            <a:solidFill>
              <a:srgbClr val="0b5395"/>
            </a:solidFill>
            <a:miter/>
          </a:ln>
        </p:spPr>
      </p:pic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3143160" y="4214880"/>
            <a:ext cx="1739880" cy="2428920"/>
          </a:xfrm>
          <a:prstGeom prst="rect">
            <a:avLst/>
          </a:prstGeom>
          <a:ln w="9360">
            <a:solidFill>
              <a:srgbClr val="0b5395"/>
            </a:solidFill>
            <a:miter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5214960" y="142920"/>
            <a:ext cx="3654360" cy="4389480"/>
          </a:xfrm>
          <a:prstGeom prst="rect">
            <a:avLst/>
          </a:prstGeom>
          <a:ln w="9360">
            <a:solidFill>
              <a:srgbClr val="0b5395"/>
            </a:solidFill>
            <a:miter/>
          </a:ln>
        </p:spPr>
      </p:pic>
      <p:pic>
        <p:nvPicPr>
          <p:cNvPr id="210" name="Picture 3" descr=""/>
          <p:cNvPicPr/>
          <p:nvPr/>
        </p:nvPicPr>
        <p:blipFill>
          <a:blip r:embed="rId2"/>
          <a:stretch/>
        </p:blipFill>
        <p:spPr>
          <a:xfrm>
            <a:off x="5357880" y="5000760"/>
            <a:ext cx="3357360" cy="1292040"/>
          </a:xfrm>
          <a:prstGeom prst="rect">
            <a:avLst/>
          </a:prstGeom>
          <a:ln w="9360">
            <a:solidFill>
              <a:srgbClr val="0b5395"/>
            </a:solidFill>
            <a:miter/>
          </a:ln>
        </p:spPr>
      </p:pic>
      <p:sp>
        <p:nvSpPr>
          <p:cNvPr id="211" name="TextBox 5"/>
          <p:cNvSpPr/>
          <p:nvPr/>
        </p:nvSpPr>
        <p:spPr>
          <a:xfrm>
            <a:off x="428760" y="785880"/>
            <a:ext cx="4357440" cy="5447880"/>
          </a:xfrm>
          <a:prstGeom prst="rect">
            <a:avLst/>
          </a:prstGeom>
          <a:solidFill>
            <a:srgbClr val="dbf5f9"/>
          </a:solidFill>
          <a:ln w="9360">
            <a:solidFill>
              <a:srgbClr val="0b5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ишлось ли раз вам безучаст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Бездельно средь толпы гуля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 вдруг какой-то песни страст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лучайно звуки услыха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На вас нежданною волно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ахнула память прежних ле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 что-то милое, род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 душе откликнулось в отв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Казалось вам, что эти зву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ы в детстве слышали не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Как много счастья, неги, му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 них вспоминалося для ва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пешили вы привычным слух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Напев знакомый улови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Хотелось Вам за каждым зву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За каждым словом уследи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13840" y="428400"/>
            <a:ext cx="4357800" cy="5925960"/>
          </a:xfrm>
          <a:prstGeom prst="rect">
            <a:avLst/>
          </a:prstGeom>
          <a:solidFill>
            <a:srgbClr val="dbf5f9"/>
          </a:solidFill>
          <a:ln w="9360">
            <a:solidFill>
              <a:srgbClr val="0b5395"/>
            </a:solidFill>
            <a:miter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ЕСЛИ ТЫ В ЖИЗНИ..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Если ты в жизни хотя на мгновенье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стину в сердце твоём ощутил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Если луч правды сквозь мрак и сомненье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Ярким сияньем твой путь озарил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Что бы, в решенье своём неизменном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Рок ни назначил тебе впереди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амять об этом мгновенье священном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ечно храни, как святыню, в груди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Тучи сберутся громадой нестройной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Небо покроется чёрною мглой —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 ясной решимостью, с верой спокойной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Бурю ты встреть и померься с грозой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Лживые призраки, злые виденья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бить тебя будут пытаться с пут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тив всех вражеских козней спасенье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 собственном сердце ты сможешь найт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714560" y="428400"/>
            <a:ext cx="4143240" cy="5925960"/>
          </a:xfrm>
          <a:prstGeom prst="rect">
            <a:avLst/>
          </a:prstGeom>
          <a:solidFill>
            <a:srgbClr val="dbf5f9"/>
          </a:solidFill>
          <a:ln w="9360">
            <a:solidFill>
              <a:srgbClr val="0b5395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Если хранится в нём искра святая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Ты всемогущ и всесилен, но знай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Горе тебе, коль, врагам уступая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Дашь ты похитить её невзначай!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Лучше бы было тебе не родиться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Лучше бы истины вовсе не знать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Нежели, зная, от ней отступиться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Чем первенство за похлёбку продать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едь грозные боги ревнивы и строги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х приговор ясен, решенье одно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 того человека и взыщется много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Кому было много талантов дано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Ты знаешь в писанье суровое слово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щенье замолит за всё человек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Но только за грех против духа святог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щения нет и не будет вовек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.В. Ковалевская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00040" y="142884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1880г. Ковалевская переезжает в Москву, но там ей не разрешили сдавать в университете магистерские экзамены. Не удалось ей получить также место профессора на Высших женских курсах в Париже. Только в 1883 г. она переезжает в Швецию и начинает работать в Стокгольмском университете, где через год становится профессором. В течение 8 лет она прочитала 12 курсов лекций. Годы работы в Стокгольмском университете период расцвета ее научной и литературной деятельно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4429080" y="285840"/>
            <a:ext cx="42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Каждый обязан свои лучш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илы посвятить делу большин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.В. Ковале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9:05:43Z</dcterms:created>
  <dc:creator>SamLab.ws</dc:creator>
  <dc:description/>
  <dc:language>en-US</dc:language>
  <cp:lastModifiedBy>Admin</cp:lastModifiedBy>
  <dcterms:modified xsi:type="dcterms:W3CDTF">2010-02-20T07:15:56Z</dcterms:modified>
  <cp:revision>20</cp:revision>
  <dc:subject/>
  <dc:title>Галерея великих математиков</dc:title>
</cp:coreProperties>
</file>