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7CC-F8E1-4C20-A13E-1C4419F9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20C-1A7A-4843-976F-BDC2E1E4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07D-F0FD-4DAE-B0A8-6E833E37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08C-BE04-41E9-B162-409673E7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6DC4-0746-4771-A213-50526681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0D68-DAD0-4B69-B3D5-3DB46D69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17B0-E4D8-4F61-A8C9-B6AAF502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CABD-6A6A-4A6C-9FF0-A0B4D2FA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1859-6BED-41D9-BA12-7B4A8AA1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96ED-02E9-40C4-89B1-6DE2018F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83A4-36AC-4476-98A6-96029898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EC5-71FB-4C0F-96EB-8A399947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D1DF-1A75-469D-B7FE-A4B51ED7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727C-2CAB-475F-9EF9-BA3C0187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6981-EB0E-45D1-92CC-D279BFF7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3187-24A2-48D8-B8C7-CB7D864B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3132-7FFD-40CB-A563-D90EE4E2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13B-5A77-496A-8AA9-DE42B84D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4A6-B96F-435D-8300-4245EB85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2AE-27F7-4553-94BD-2CFBE842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30A-BAF6-4FE1-9237-D3EE764D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F47-8136-4F02-9B85-857884D2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823-7DA4-4493-A21F-44D0D7B7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8C2-DB55-4BD9-8F1A-A246602D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7D2C-9812-4F92-8D29-09F68E805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079E-532F-4806-A92D-63A911AA388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Внутриквартальная спортивно-игровая площадка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с организацией ночной автостоянки.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258920" y="908640"/>
            <a:ext cx="72738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и проек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занятости и физического оздоровления населения г. Зареч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ичное решение проблемы ночной парковки автомобилей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е проблемы (частично) занятости населения и организация летнего трудоустройства подростк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187280" y="693720"/>
            <a:ext cx="756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иск территории для организации спортивно-игровой площад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е кадровых вопросов (возможно привлечение Центра занятости населен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. Заречного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ормление договоров аренды земли, регистрация ООО и оформление других сопутствующих докумен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иск менторов (возможно соучредителей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214720" y="92880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сверху дн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Рисунок 2" descr="для проекта11.jpg"/>
          <p:cNvPicPr/>
          <p:nvPr/>
        </p:nvPicPr>
        <p:blipFill>
          <a:blip r:embed="rId1"/>
          <a:srcRect l="9199" t="11114" r="2257" b="4164"/>
          <a:stretch/>
        </p:blipFill>
        <p:spPr>
          <a:xfrm>
            <a:off x="1285920" y="2000160"/>
            <a:ext cx="7286760" cy="43578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2786040" y="1785960"/>
            <a:ext cx="5572080" cy="28584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реклам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Прямоугольник 4" descr=""/>
          <p:cNvPicPr/>
          <p:nvPr/>
        </p:nvPicPr>
        <p:blipFill>
          <a:blip r:embed="rId2"/>
          <a:stretch/>
        </p:blipFill>
        <p:spPr>
          <a:xfrm>
            <a:off x="8459640" y="2060640"/>
            <a:ext cx="420840" cy="42498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2771640" y="6308640"/>
            <a:ext cx="5643720" cy="28584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а и телефоны учреждений город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для проекта1.jpg"/>
          <p:cNvPicPr/>
          <p:nvPr/>
        </p:nvPicPr>
        <p:blipFill>
          <a:blip r:embed="rId1"/>
          <a:srcRect l="8683" t="8336" r="4514" b="4164"/>
          <a:stretch/>
        </p:blipFill>
        <p:spPr>
          <a:xfrm>
            <a:off x="1357200" y="1857240"/>
            <a:ext cx="7143840" cy="45007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214720" y="92880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сверху ночь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rcRect l="15192" t="3134" r="11348" b="8752"/>
          <a:stretch/>
        </p:blipFill>
        <p:spPr>
          <a:xfrm>
            <a:off x="4500720" y="5143680"/>
            <a:ext cx="433080" cy="1071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rcRect l="3142" t="11359" r="8759" b="15233"/>
          <a:stretch/>
        </p:blipFill>
        <p:spPr>
          <a:xfrm>
            <a:off x="7358040" y="3429000"/>
            <a:ext cx="1000080" cy="40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4"/>
          <a:srcRect l="15192" t="3134" r="11348" b="8752"/>
          <a:stretch/>
        </p:blipFill>
        <p:spPr>
          <a:xfrm>
            <a:off x="3857760" y="5143680"/>
            <a:ext cx="433080" cy="1071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5"/>
          <a:srcRect l="15192" t="3134" r="11348" b="8752"/>
          <a:stretch/>
        </p:blipFill>
        <p:spPr>
          <a:xfrm>
            <a:off x="5786280" y="5143680"/>
            <a:ext cx="433440" cy="107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6"/>
          <a:srcRect l="15192" t="3134" r="11348" b="8752"/>
          <a:stretch/>
        </p:blipFill>
        <p:spPr>
          <a:xfrm>
            <a:off x="6357960" y="5143680"/>
            <a:ext cx="433440" cy="1071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7"/>
          <a:srcRect l="3142" t="11359" r="8759" b="15233"/>
          <a:stretch/>
        </p:blipFill>
        <p:spPr>
          <a:xfrm>
            <a:off x="7358040" y="4429080"/>
            <a:ext cx="1000080" cy="40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8"/>
          <a:srcRect l="3142" t="11359" r="8759" b="15233"/>
          <a:stretch/>
        </p:blipFill>
        <p:spPr>
          <a:xfrm>
            <a:off x="4357800" y="3929040"/>
            <a:ext cx="1000080" cy="405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9"/>
          <a:srcRect l="3142" t="11359" r="8759" b="15233"/>
          <a:stretch/>
        </p:blipFill>
        <p:spPr>
          <a:xfrm>
            <a:off x="5857920" y="3429000"/>
            <a:ext cx="1000080" cy="40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10"/>
          <a:srcRect l="3142" t="11359" r="8759" b="15233"/>
          <a:stretch/>
        </p:blipFill>
        <p:spPr>
          <a:xfrm>
            <a:off x="5857920" y="3929040"/>
            <a:ext cx="1000080" cy="405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11"/>
          <a:srcRect l="11359" t="8759" r="15233" b="3142"/>
          <a:stretch/>
        </p:blipFill>
        <p:spPr>
          <a:xfrm>
            <a:off x="7500960" y="2000160"/>
            <a:ext cx="404640" cy="100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12"/>
          <a:srcRect l="11359" t="8759" r="15233" b="3142"/>
          <a:stretch/>
        </p:blipFill>
        <p:spPr>
          <a:xfrm>
            <a:off x="6286680" y="2000160"/>
            <a:ext cx="404640" cy="1000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13"/>
          <a:srcRect l="11359" t="8759" r="15233" b="3142"/>
          <a:stretch/>
        </p:blipFill>
        <p:spPr>
          <a:xfrm>
            <a:off x="6858000" y="2000160"/>
            <a:ext cx="4046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547640" y="693000"/>
            <a:ext cx="6634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дровый соста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2 человек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ководитель – бухгалтер - 1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рож – дворник -  4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авец -  3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лектрик – автомеханик - 2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иматор 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1116000" y="766800"/>
            <a:ext cx="741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хнологии и методики, используемые в рамках проек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проведения социологического исследования (методики проведения анкетирования, интервьюирования, фото- и видео-репортаж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маркетингового исслед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составления портфоли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составления презентаций и методика ее провед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900000" y="7927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анируемые показатели эффективност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ощадка станет любимым местом отдыха взрослых и де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астичное разрешение проблемы ночной парковки автомобил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уществление мелкого ремонта автомобиля (электрика, подкачка шин) станет возможна на территории своего микрорайо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ходы превысят расходы, станет возможно расширение данного экономического прое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быль частично можно будет тратить на проведение благотворительных мероприятий социальной направленно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09:23:38Z</dcterms:created>
  <dc:creator>чернышёва</dc:creator>
  <dc:description/>
  <dc:language>en-US</dc:language>
  <cp:lastModifiedBy>Admin</cp:lastModifiedBy>
  <dcterms:modified xsi:type="dcterms:W3CDTF">2010-07-02T07:28:06Z</dcterms:modified>
  <cp:revision>8</cp:revision>
  <dc:subject/>
  <dc:title>Внутриквартальная спортивно-игровая площадка  с организацией ночной автостоянки. </dc:title>
</cp:coreProperties>
</file>