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0C3-19CF-4446-A94A-FF196D5F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205-C594-4E81-8A7A-AAAE1622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07A-4EC8-4331-A505-9C7C37EB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2D9-335B-472C-ACE1-42B980C8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0E35-E411-43FF-8EE8-186AB3ED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A818-E594-4463-8B57-15D08025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3F08-C6DF-4F75-A283-0F39C38E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D018-8565-4864-B8F4-129B9D79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5802-1B1F-4E9E-9A81-2D1CBD7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5619-10C5-4E4D-BCB3-F7F4CFA8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7006-95BD-404C-B76B-060EBFDE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810-D247-4A7F-99EB-72A08082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CB94-D34E-4EA7-91B5-83111484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02D-084E-4A2A-B437-5D465D01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2F29-A9C3-4585-ADE6-E67B23DB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66EB-0ECC-42A6-9BE3-BB72D28B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4E72-9EF0-4B72-BDF3-539ABBCD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BE1-2584-4901-ACEB-54FB877F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75E-DB20-4479-98A5-EB09CEBF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5A8-2F0C-47FB-BCC8-F930BA72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40D-B617-4924-933C-64B7192E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12D-8A6E-4029-A895-B29030C9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2AD-E8E9-4B26-AC4C-AD5F36B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DE6-D9EC-4E3B-B0BE-BFA1696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1BED-9A4C-4F9C-B2AA-D8969C2E6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92CE-B43B-475F-B183-544B8C26AC0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Внутриквартальная спортивно-игровая площадка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с организацией ночной автостоянки.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258920" y="908640"/>
            <a:ext cx="72738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и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занятости и физического оздоровления населения г. Зареч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ичное решение проблемы ночной парковки автомобилей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 проблемы (частично) занятости населения и организация летнего трудоустройства подростк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187280" y="693720"/>
            <a:ext cx="756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территории для организации спортивно-игровой площад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 кадровых вопросов (возможно привлечение Центра занятости населе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. Заречног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ормление договоров аренды земли, регистрация ООО и оформление других сопутствующих доку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менторов (возможно соучредителе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14720" y="92880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сверху дн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Рисунок 2" descr="для проекта11.jpg"/>
          <p:cNvPicPr/>
          <p:nvPr/>
        </p:nvPicPr>
        <p:blipFill>
          <a:blip r:embed="rId1"/>
          <a:srcRect l="9199" t="11114" r="2257" b="4164"/>
          <a:stretch/>
        </p:blipFill>
        <p:spPr>
          <a:xfrm>
            <a:off x="1285920" y="2000160"/>
            <a:ext cx="7286760" cy="4357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2786040" y="1785960"/>
            <a:ext cx="5572080" cy="28584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рекла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Прямоугольник 4" descr=""/>
          <p:cNvPicPr/>
          <p:nvPr/>
        </p:nvPicPr>
        <p:blipFill>
          <a:blip r:embed="rId2"/>
          <a:stretch/>
        </p:blipFill>
        <p:spPr>
          <a:xfrm>
            <a:off x="8459640" y="2060640"/>
            <a:ext cx="420840" cy="42498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2771640" y="6308640"/>
            <a:ext cx="5643720" cy="28584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 и телефоны учреждений горо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для проекта1.jpg"/>
          <p:cNvPicPr/>
          <p:nvPr/>
        </p:nvPicPr>
        <p:blipFill>
          <a:blip r:embed="rId1"/>
          <a:srcRect l="8683" t="8336" r="4514" b="4164"/>
          <a:stretch/>
        </p:blipFill>
        <p:spPr>
          <a:xfrm>
            <a:off x="1357200" y="1857240"/>
            <a:ext cx="7143840" cy="4500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214720" y="92880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сверху ночь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rcRect l="15192" t="3134" r="11348" b="8752"/>
          <a:stretch/>
        </p:blipFill>
        <p:spPr>
          <a:xfrm>
            <a:off x="4500720" y="5143680"/>
            <a:ext cx="433080" cy="1071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rcRect l="3142" t="11359" r="8759" b="15233"/>
          <a:stretch/>
        </p:blipFill>
        <p:spPr>
          <a:xfrm>
            <a:off x="7358040" y="3429000"/>
            <a:ext cx="1000080" cy="40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4"/>
          <a:srcRect l="15192" t="3134" r="11348" b="8752"/>
          <a:stretch/>
        </p:blipFill>
        <p:spPr>
          <a:xfrm>
            <a:off x="3857760" y="5143680"/>
            <a:ext cx="433080" cy="1071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5"/>
          <a:srcRect l="15192" t="3134" r="11348" b="8752"/>
          <a:stretch/>
        </p:blipFill>
        <p:spPr>
          <a:xfrm>
            <a:off x="5786280" y="5143680"/>
            <a:ext cx="433440" cy="107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6"/>
          <a:srcRect l="15192" t="3134" r="11348" b="8752"/>
          <a:stretch/>
        </p:blipFill>
        <p:spPr>
          <a:xfrm>
            <a:off x="6357960" y="5143680"/>
            <a:ext cx="433440" cy="107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7"/>
          <a:srcRect l="3142" t="11359" r="8759" b="15233"/>
          <a:stretch/>
        </p:blipFill>
        <p:spPr>
          <a:xfrm>
            <a:off x="7358040" y="4429080"/>
            <a:ext cx="1000080" cy="40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8"/>
          <a:srcRect l="3142" t="11359" r="8759" b="15233"/>
          <a:stretch/>
        </p:blipFill>
        <p:spPr>
          <a:xfrm>
            <a:off x="4357800" y="3929040"/>
            <a:ext cx="1000080" cy="40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9"/>
          <a:srcRect l="3142" t="11359" r="8759" b="15233"/>
          <a:stretch/>
        </p:blipFill>
        <p:spPr>
          <a:xfrm>
            <a:off x="5857920" y="3429000"/>
            <a:ext cx="1000080" cy="40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10"/>
          <a:srcRect l="3142" t="11359" r="8759" b="15233"/>
          <a:stretch/>
        </p:blipFill>
        <p:spPr>
          <a:xfrm>
            <a:off x="5857920" y="3929040"/>
            <a:ext cx="1000080" cy="405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11"/>
          <a:srcRect l="11359" t="8759" r="15233" b="3142"/>
          <a:stretch/>
        </p:blipFill>
        <p:spPr>
          <a:xfrm>
            <a:off x="7500960" y="2000160"/>
            <a:ext cx="404640" cy="10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12"/>
          <a:srcRect l="11359" t="8759" r="15233" b="3142"/>
          <a:stretch/>
        </p:blipFill>
        <p:spPr>
          <a:xfrm>
            <a:off x="6286680" y="2000160"/>
            <a:ext cx="404640" cy="100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13"/>
          <a:srcRect l="11359" t="8759" r="15233" b="3142"/>
          <a:stretch/>
        </p:blipFill>
        <p:spPr>
          <a:xfrm>
            <a:off x="6858000" y="2000160"/>
            <a:ext cx="4046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547640" y="693000"/>
            <a:ext cx="6634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дровый соста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2 челове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ководитель – бухгалтер - 1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рож – дворник -  4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вец -  3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лектрик – автомеханик - 2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иматор 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1116000" y="766800"/>
            <a:ext cx="741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хнологии и методики, используемые в рамках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роведения социологического исследования (методики проведения анкетирования, интервьюирования, фото- и видео-репортаж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маркетингового исслед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составления портфоли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составления презентаций и методика ее провед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900000" y="7927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нируемые показатели эффективнос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ощадка станет любимым местом отдыха взрослых и д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ичное разрешение проблемы ночной парковки автомоби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уществление мелкого ремонта автомобиля (электрика, подкачка шин) станет возможна на территории своего микрорай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ходы превысят расходы, станет возможно расширение данного экономического про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быль частично можно будет тратить на проведение благотворительных мероприятий социальной направленно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09:23:38Z</dcterms:created>
  <dc:creator>чернышёва</dc:creator>
  <dc:description/>
  <dc:language>en-US</dc:language>
  <cp:lastModifiedBy>Admin</cp:lastModifiedBy>
  <dcterms:modified xsi:type="dcterms:W3CDTF">2010-07-02T07:28:06Z</dcterms:modified>
  <cp:revision>8</cp:revision>
  <dc:subject/>
  <dc:title>Внутриквартальная спортивно-игровая площадка  с организацией ночной автостоянки. </dc:title>
</cp:coreProperties>
</file>