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F493-1D2F-4E77-A5E3-F9AE5DDA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EF70-37DE-41DE-86E5-ED107438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45E5-EE33-4208-9495-60C5DD5C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2D7-7F6B-4723-A34B-014347A6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1A20-4487-438B-A295-BF33AEDC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A8D3-E130-44C0-89FC-5FA7BEE7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B563-5F03-48EA-A9C1-C363C55A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04DF-0C5C-46CD-92DC-34E47229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EDB0-F76D-49FD-B39E-1DB90A45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85D7-267E-4FC0-9C8A-7255030B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C341-19C8-4C45-BB6A-EC768501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8C11-4293-42CD-B88F-F463780B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D67C-A390-4527-AA74-3D008D69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E806-A6D2-4CA7-B12E-953E5152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1F4D-C4D2-4118-A009-A6BBCC99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FA10-5891-4F26-A9E9-1A46E02E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0A6B-4896-4E1A-A444-A0D5F7F6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483-F080-4E31-BD1C-4DACA497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6DA3-D26B-4950-A2C2-4383AD83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2975-324B-4CB1-B142-49F52F26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970A-34CE-49AC-899E-B805D3F2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47A-C2A2-4A5E-B92D-DC99A473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E2F1-9CDD-41ED-8615-72D16CC1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5707-EC2C-4DCF-AE3D-9DFF46B0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3C63-27C6-4414-85A5-E17DD1DF9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AFEC-D535-45CD-9562-E6F502CAE23D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Внутриквартальная спортивно-игровая площадка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с организацией ночной автостоянки.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258920" y="908640"/>
            <a:ext cx="72738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и проек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ация занятости и физического оздоровления населения г. Зареч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ичное решение проблемы ночной парковки автомобилей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шение проблемы (частично) занятости населения и организация летнего трудоустройства подростко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1187280" y="693720"/>
            <a:ext cx="7561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и проек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иск территории для организации спортивно-игровой площад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шение кадровых вопросов (возможно привлечение Центра занятости населен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. Заречного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формление договоров аренды земли, регистрация ООО и оформление других сопутствующих докумен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иск менторов (возможно соучредителей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214720" y="92880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сверху дне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Рисунок 2" descr="для проекта11.jpg"/>
          <p:cNvPicPr/>
          <p:nvPr/>
        </p:nvPicPr>
        <p:blipFill>
          <a:blip r:embed="rId1"/>
          <a:srcRect l="9199" t="11114" r="2257" b="4164"/>
          <a:stretch/>
        </p:blipFill>
        <p:spPr>
          <a:xfrm>
            <a:off x="1285920" y="2000160"/>
            <a:ext cx="7286760" cy="43578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3"/>
          <p:cNvSpPr/>
          <p:nvPr/>
        </p:nvSpPr>
        <p:spPr>
          <a:xfrm>
            <a:off x="2786040" y="1785960"/>
            <a:ext cx="5572080" cy="28584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реклам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Прямоугольник 4" descr=""/>
          <p:cNvPicPr/>
          <p:nvPr/>
        </p:nvPicPr>
        <p:blipFill>
          <a:blip r:embed="rId2"/>
          <a:stretch/>
        </p:blipFill>
        <p:spPr>
          <a:xfrm>
            <a:off x="8459640" y="2060640"/>
            <a:ext cx="420840" cy="424980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5"/>
          <p:cNvSpPr/>
          <p:nvPr/>
        </p:nvSpPr>
        <p:spPr>
          <a:xfrm>
            <a:off x="2771640" y="6308640"/>
            <a:ext cx="5643720" cy="28584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а и телефоны учреждений город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для проекта1.jpg"/>
          <p:cNvPicPr/>
          <p:nvPr/>
        </p:nvPicPr>
        <p:blipFill>
          <a:blip r:embed="rId1"/>
          <a:srcRect l="8683" t="8336" r="4514" b="4164"/>
          <a:stretch/>
        </p:blipFill>
        <p:spPr>
          <a:xfrm>
            <a:off x="1357200" y="1857240"/>
            <a:ext cx="7143840" cy="45007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2214720" y="92880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сверху ночь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rcRect l="15192" t="3134" r="11348" b="8752"/>
          <a:stretch/>
        </p:blipFill>
        <p:spPr>
          <a:xfrm>
            <a:off x="4500720" y="5143680"/>
            <a:ext cx="433080" cy="1071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rcRect l="3142" t="11359" r="8759" b="15233"/>
          <a:stretch/>
        </p:blipFill>
        <p:spPr>
          <a:xfrm>
            <a:off x="7358040" y="3429000"/>
            <a:ext cx="1000080" cy="404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4"/>
          <a:srcRect l="15192" t="3134" r="11348" b="8752"/>
          <a:stretch/>
        </p:blipFill>
        <p:spPr>
          <a:xfrm>
            <a:off x="3857760" y="5143680"/>
            <a:ext cx="433080" cy="1071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5"/>
          <a:srcRect l="15192" t="3134" r="11348" b="8752"/>
          <a:stretch/>
        </p:blipFill>
        <p:spPr>
          <a:xfrm>
            <a:off x="5786280" y="5143680"/>
            <a:ext cx="433440" cy="1071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6"/>
          <a:srcRect l="15192" t="3134" r="11348" b="8752"/>
          <a:stretch/>
        </p:blipFill>
        <p:spPr>
          <a:xfrm>
            <a:off x="6357960" y="5143680"/>
            <a:ext cx="433440" cy="1071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7"/>
          <a:srcRect l="3142" t="11359" r="8759" b="15233"/>
          <a:stretch/>
        </p:blipFill>
        <p:spPr>
          <a:xfrm>
            <a:off x="7358040" y="4429080"/>
            <a:ext cx="1000080" cy="40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8"/>
          <a:srcRect l="3142" t="11359" r="8759" b="15233"/>
          <a:stretch/>
        </p:blipFill>
        <p:spPr>
          <a:xfrm>
            <a:off x="4357800" y="3929040"/>
            <a:ext cx="1000080" cy="405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9"/>
          <a:srcRect l="3142" t="11359" r="8759" b="15233"/>
          <a:stretch/>
        </p:blipFill>
        <p:spPr>
          <a:xfrm>
            <a:off x="5857920" y="3429000"/>
            <a:ext cx="1000080" cy="40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10"/>
          <a:srcRect l="3142" t="11359" r="8759" b="15233"/>
          <a:stretch/>
        </p:blipFill>
        <p:spPr>
          <a:xfrm>
            <a:off x="5857920" y="3929040"/>
            <a:ext cx="1000080" cy="405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11"/>
          <a:srcRect l="11359" t="8759" r="15233" b="3142"/>
          <a:stretch/>
        </p:blipFill>
        <p:spPr>
          <a:xfrm>
            <a:off x="7500960" y="2000160"/>
            <a:ext cx="404640" cy="100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12"/>
          <a:srcRect l="11359" t="8759" r="15233" b="3142"/>
          <a:stretch/>
        </p:blipFill>
        <p:spPr>
          <a:xfrm>
            <a:off x="6286680" y="2000160"/>
            <a:ext cx="404640" cy="1000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13"/>
          <a:srcRect l="11359" t="8759" r="15233" b="3142"/>
          <a:stretch/>
        </p:blipFill>
        <p:spPr>
          <a:xfrm>
            <a:off x="6858000" y="2000160"/>
            <a:ext cx="4046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1547640" y="693000"/>
            <a:ext cx="6634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дровый соста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2 человек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уководитель – бухгалтер - 1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рож – дворник -  4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авец -  3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лектрик – автомеханик - 2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иматор 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1116000" y="766800"/>
            <a:ext cx="741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хнологии и методики, используемые в рамках проек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проведения социологического исследования (методики проведения анкетирования, интервьюирования, фото- и видео-репортаж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маркетингового исслед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составления портфоли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составления презентаций и методика ее провед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900000" y="79272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ланируемые показатели эффективност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лощадка станет любимым местом отдыха взрослых и де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астичное разрешение проблемы ночной парковки автомобил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уществление мелкого ремонта автомобиля (электрика, подкачка шин) станет возможна на территории своего микрорайо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ходы превысят расходы, станет возможно расширение данного экономического проек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быль частично можно будет тратить на проведение благотворительных мероприятий социальной направленност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1T09:23:38Z</dcterms:created>
  <dc:creator>чернышёва</dc:creator>
  <dc:description/>
  <dc:language>en-US</dc:language>
  <cp:lastModifiedBy>Admin</cp:lastModifiedBy>
  <dcterms:modified xsi:type="dcterms:W3CDTF">2010-07-02T07:28:06Z</dcterms:modified>
  <cp:revision>8</cp:revision>
  <dc:subject/>
  <dc:title>Внутриквартальная спортивно-игровая площадка  с организацией ночной автостоянки. </dc:title>
</cp:coreProperties>
</file>