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E9F-A2D6-439F-8598-95DD06C7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5B4-62E8-4093-BB64-7D94BEF8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734-FE93-4197-B6B0-4CE14CAB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A0C-1BE1-424D-9EA0-BC133840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9CB-572E-43E9-BDC1-19DB01E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BF8-3A81-4F38-BB27-1879844E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76B-741D-424D-B161-1B6A898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1FC-70C6-4ABD-905E-BC5E30D1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FD8-1206-458E-8B3E-9B1AB426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B2A-85F5-46AC-AC24-A38D1E1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E66-049F-46B1-B365-B1F17D0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73B-582E-4347-B82B-610108A2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68F4-5659-48BD-BE20-6147D4A4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атели о пт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жнева Елена, Ишкова Полина, Киценко Анастас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1773360"/>
            <a:ext cx="31813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кормите птиц зи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Покормите птиц зим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сть со всех кон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вам слетятся, как дом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йки на крыльц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богаты их кор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сть одна нуж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сть одн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е страш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дет им з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ко гибнет и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че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ать тяжел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едь в вашем серд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ля них теп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е можно забыв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ететь мог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остались зим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одно с людьми." (А. Яш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гай поскор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еть на снегир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етели! Приле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йку встретили мете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Мороз Красный 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 рябинки прин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угост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подслас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м вечером поздн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о-алые гроз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роко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заранок скачут пт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снеженным ветвям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тогрудые с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етели в гости к 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нь-тень, тилли-те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короче зимний день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пеешь пообед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сядет за пле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комар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м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ду только снег да сн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, что нам корм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л добрый человек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.Синицы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говорят  поэ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гей Есенин «Воробышк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робышки игрив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детки сиротлив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жались у ок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зябли пташки мал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лодные, устал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жмутся поплотн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ворона сидит на заб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амбары давно на зап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обозы прошли, все подв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ступила пора непог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етится она на заборе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е ей, настоящее гор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ь ни зернышка нет у в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т холода нет оборо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. Рубц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с модницей эт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о, знак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тушке на мес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ак не сидится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хваст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м своим сюрту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шапочкой си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дится... (синиц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. Иль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 простуд он не страд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трашится злобных вью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к зиме не улет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алекий знойный ю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сть покроют снега гру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пригорок, и пустырь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 красавец прилетел к н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тель севера... (снегир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. Иль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эты о вороб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ть жи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чирикает да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рзает совсем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заметит подводу с поклаж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-под крыши бросается к 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ожит он над зернышком, бед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етит к чердаку сво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гляди, не становится вре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того, что так трудно ем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.Рубц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 по луж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ет и круж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ышки взъерошил 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ик распуш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ода хорош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л-чив-чил! (Агния Бар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 мой, воробьиш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ый, юркий, словно мы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 — бисер, лапки — вроз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и — боком, лапки — вко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й, прыгай, я не трону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хлебца накроши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нь-ка клювом в бок воро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ее сюда просил? … (Саша Че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 разны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чет шустрая син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й на месте не си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ыг-скок, прыг-ск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ертелась как волч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присела на минут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сала клювом груд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 дорожки на плет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и-тири, тень-тень-т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 Бар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ношу со вку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нтики и бу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йду за околиц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бела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х, какая модница!»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жут про меня. (В. Степано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Р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розы жестокие в этом год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вожно за яблоньку в нашем са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вожно за Жучк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ее кон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ой же морозищ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на дв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больше всего беспокойно за пт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наших воробышков, галок, сини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дь очень уж холодно в воздухе 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можем ли мы беззащитным так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можем! Их надо корм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т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 будет легко пережить хол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. Благ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ПТИЦЕ ПЕРЕЗИМОВАТЬ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птице перезим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вестно, что у пта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т ни халатов ва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 байковых руб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многих даже нет гнез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и в грозу и гра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под дождем, и в хо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ветках сидя сп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кто же им дает прию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гда снега ме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вают птицы разны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дни боятся вью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улетают на зи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добрый, теплый ю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ие – те народ ин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мороз над лесом кружа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них разлука с роди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шнее лютой сту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их перышкам взъероше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пристают снежин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и и под порош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звятся для разми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ят вороны по столб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лдят на ветках га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льно прыгать воробья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бы крутя скака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если долго снег ид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олго длится вьюг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, друзья, приход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чугам нашим ту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ами засып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ры, дворы, дорож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пташки отыск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зернышка, ни кро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т летают все слаб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рона, галка, воробе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ей на помощь, де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в этот самый трудный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енье птицы ждут от в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мите их! Согрей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сьте домик на сук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ыпьте крошки на снег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 и манной каш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живут бедняж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небу весело скольз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летят пернатые друз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поют, чирика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великое!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Мухам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лубая спин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ыженький боч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стволу оси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скачком скач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олзень вертля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ачет вверх и вни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твол залез дыряв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вом вниз пови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ртит он голов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дятлам заглян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-под черной бр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оркой сверкн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истнул: “Эй вы, дятл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вом вниз скач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м такое вряд 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ятлам по плечу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ИРИС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ять осеннею пор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нам в гости приле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ели дружною семь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етках свирис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далека летят о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зь ветры, дождь и гр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бины красные ог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верно, их ман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ы гроздь рябины за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сим для гос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друг и к нам заглянет в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селый свирис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января 2010 года, января 2010 года, писателю-фронтовику Евгению Носову исполнилось бы 85 л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27280" y="1052640"/>
            <a:ext cx="6059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вгений Носов - писатель, фронтов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зыва 1943 года. Умер летом 2003 года. Среди его послед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зведений есть рассказ "Покормите птиц".Прочи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ихотворение Александра Яшина "Покормите птиц зимой...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вгений Носов в память о поэте каждую осень стал вывеш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рмушки. Он пытался привлечь к этому делу и жителей Курс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клеивал на видных местах листовки со стихотворением Яш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кция "Покормите птиц!" была проведена впервые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ркутской области зимой 2002-2003 годов. Ее иницииров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блицист Анатолий Сосунов и крупнейшие областные газеты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мять о писателе Евгении Носове. В январе 2003 года к а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соединился город Курск - родина писа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гда же иркутяне предложили внести в Россий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логический календарь 12 ноября как Осенний день птиц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читать его началом общероссийской культурно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логической акции "Покормите птиц!", а 15 января – д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ния Евгения Носова - объявить Днем зимующих пт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и. Союз охраны птиц России полностью поддержал э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ициатив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жалуйста, покормите пти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читайте фразу из выделенных букв. О чем 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тра и до позднего вечера,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адуют снова перн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ив полянки страниц,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адами сердце и слу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яйствует в книжке доверчиво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репче подружат с юнн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дольная музыка птиц.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чушка, и роща, и 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жет быть, с этого времени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неба до мира подв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тупит иная пора –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айте ж, как Родины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анет для птичьего племени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м и душой благород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ее еще детвора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овье планеты бе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ое мног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 будем ценить нес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бя и Европу, и Аз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ши родные мес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9:16:16Z</dcterms:created>
  <dc:creator>Общий</dc:creator>
  <dc:description/>
  <dc:language>en-US</dc:language>
  <cp:lastModifiedBy>Общий</cp:lastModifiedBy>
  <dcterms:modified xsi:type="dcterms:W3CDTF">2011-03-24T18:47:11Z</dcterms:modified>
  <cp:revision>8</cp:revision>
  <dc:subject/>
  <dc:title>Писатели о птицах</dc:title>
</cp:coreProperties>
</file>