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1BC-DC4F-4D42-8CFE-F6A543A9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5A1-197D-4016-A902-34C76B37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30F-39A4-4B8A-A4F2-FE063A66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522-8008-4A28-8DB0-7E598DA9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392-D0E2-4216-96F8-4E1E4CF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B01-B69D-4FE6-9ACE-5D410406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942-31A3-4E47-BB80-A10D701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BF8-2D5A-49F1-9C96-54765019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9CA-2D35-4175-89CF-0DB21312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640-A77C-4D30-88D2-0FC2199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303-DE3A-4108-BB10-BF97104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A5D-FEF7-48CD-A88A-20EA3E6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8A83-CDB7-471D-8D75-D73727E7E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атели о пт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жнева Елена, Ишкова Полина, Киценко Анаста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1773360"/>
            <a:ext cx="31813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кормите птиц зи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Покормите птиц зим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со всех кон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вам слетятся, как дом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йки на крыльц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богаты их кор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нуж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е страш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ет им з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ко гибнет и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че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ать тяжел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едь в вашем серд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ля них теп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е можно забыв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ететь мог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остались зим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одно с людьми." (А. Яш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гай поско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еть на снеги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! Приле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йку встретили мете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Мороз Красный 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 рябинки прин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угост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подслас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м вечером поздн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о-алые гроз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роко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заранок скачут пт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снеженным ветвям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тогрудые 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 в гости к 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нь-тень, тилли-те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ороче зимний день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пеешь пообед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сядет за пле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комар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м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ду только снег да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, что нам корм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л добрый человек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.Синицы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говорят  поэ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гей Есенин «Воробышк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робышки игр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детки сиротл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жались у ок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зябли пташки м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лодные, уст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жмутся поплотн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ворона сидит на заб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амбары давно на зап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обозы прошли, все подв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тупила пора непог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етится она на заборе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е ей, настоящее гор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ни зернышка нет у в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т холода нет оборо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. Рубц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с модницей эт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о, знак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тушке на мес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ак не сидится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хваст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м своим сюрту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шапочкой си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дится... (синиц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. Иль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 простуд он не страд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трашится злобных вью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к зиме не уле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алекий знойный ю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покроют снега гру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пригорок, и пустырь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 красавец прилетел к н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тель севера... (снегир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Иль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эты о вороб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ть жи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чирикает д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рзает совсем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заметит подводу с поклаж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-под крыши бросается к 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ожит он над зернышком, бе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етит к чердаку сво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гляди, не становится вре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того, что так трудно ем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.Рубц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по луж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ет и круж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ышки взъерошил 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ик распуш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ода хорош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л-чив-чил! (Агния Бар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мой, воробьи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ый, юркий, словно м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 — бисер, лапки — вроз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и — боком, лапки — вко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й, прыгай, я не трону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хлебца накроши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нь-ка клювом в бок воро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ее сюда просил? … (Саша Че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 разны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чет шустрая син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й на месте не си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ыг-скок, прыг-ск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ертелась как вол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присела на минут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сала клювом гру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 дорожки на плет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и-тири, тень-тень-т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 Бар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ношу со вку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тики и бу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йду за околиц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бела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х, какая модница!»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жут про меня. (В. Степан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Р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розы жестокие в этом год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яблоньку в нашем са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Жуч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ее кон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ой же морозищ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на дв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больше всего беспокойно за пт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наших воробышков, галок, сини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дь очень уж холодно в воздухе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 ли мы беззащитным так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! Их надо корм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т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 будет легко пережить хол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Благ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вестно, что у пта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т ни халатов ва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 байковых руб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многих даже нет гнез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в грозу и гра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од дождем, и в хо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ветках сидя сп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кто же им дает прию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снега ме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вают птицы разны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дни боятся вью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улетают на зи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добрый, теплый ю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ие – те народ ин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мороз над лесом кружа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их разлука с роди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шнее лютой сту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их перышкам взъероше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пристают снежин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и под порош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звятся для разм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ят вороны по столб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лдят на ветках га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льно прыгать воробья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бы крутя скака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если долго снег ид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олго длится вьюг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, друзья, приход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чугам нашим ту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ами засып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ры, дворы, дорож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пташки отыск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зернышка, ни кро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 летают все сла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рона, галка, воробе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ей на помощь, де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в этот самый трудный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енье птицы ждут от в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мите их! Согрей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сьте домик на с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ыпьте крошки на снег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 и манной каш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живут бедняж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небу весело скольз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летят пернатые друз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поют, чирика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великое!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Мухам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лубая спин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ыженький бо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тволу оси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скачком скач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 вертля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ачет вверх и вни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твол залез дыряв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пови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тит он голов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дятлам загля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-под черной б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оркой сверк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стнул: “Эй вы, дятл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скач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м такое вряд 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ятлам по плечу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РИС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ять осеннею пор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нам в гости приле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ели дружною семь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етках свирис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далека летят о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зь ветры, дождь и гр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бины красные ог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верно, их ман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ы гроздь рябины за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сим для гос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друг и к нам заглянет в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елый свирис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января 2010 года, января 2010 года, писателю-фронтовику Евгению Носову исполнилось бы 85 л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059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- писатель, фронтов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зыва 1943 года. Умер летом 2003 года. Среди его послед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зведений есть рассказ "Покормите птиц".Прочи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ихотворение Александра Яшина "Покормите птиц зимой...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в память о поэте каждую осень стал вывеш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рмушки. Он пытался привлечь к этому делу и жителей Курс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клеивал на видных местах листовки со стихотворением Яш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кция "Покормите птиц!" была проведена впервы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ркутской области зимой 2002-2003 годов. Ее иницииро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блицист Анатолий Сосунов и крупнейшие областные газеты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мять о писателе Евгении Носове. В январе 2003 года к а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соединился город Курск - родина писа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гда же иркутяне предложили внести в Россий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ий календарь 12 ноября как Осенний день птиц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читать его началом общероссийской культурно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ой акции "Покормите птиц!", а 15 января – д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ния Евгения Носова - объявить Днем зимующих пт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и. Союз охраны птиц России полностью поддержал э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ициатив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жалуйста, покормите пти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итайте фразу из выделенных букв. О чем 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тра и до позднего вечера,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адуют снова перн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ив полянки страниц,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адами сердце и сл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яйствует в книжке доверчиво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епче подружат с юн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дольная музыка птиц.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чушка, и роща, и 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ет быть, с этого вр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неба до мира подв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тупит иная пора –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айте ж, как Родины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анет для птичьего пл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м и душой благород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ее еще детвора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овье планеты бе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ое мног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 будем ценить нес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бя и Европу, и Аз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ши родные мес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9:16:16Z</dcterms:created>
  <dc:creator>Общий</dc:creator>
  <dc:description/>
  <dc:language>en-US</dc:language>
  <cp:lastModifiedBy>Общий</cp:lastModifiedBy>
  <dcterms:modified xsi:type="dcterms:W3CDTF">2011-03-24T18:47:11Z</dcterms:modified>
  <cp:revision>8</cp:revision>
  <dc:subject/>
  <dc:title>Писатели о птицах</dc:title>
</cp:coreProperties>
</file>