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240-6BB6-4BC4-A29C-D028A105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7B2-0113-4B53-A338-D5EEF099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B8A-139A-4A95-938D-D73DC498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4A1-6B6F-4DF8-8CCC-CC05161F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8AB-4C86-4B7D-AADF-5DE9EBB8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FD1-453C-4E18-BFAE-74A39C3E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71D-A66D-48C1-A5A7-C9D8FF6D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F9B-588C-4D8C-8340-E9168FBD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715-5CB2-4279-8498-43CF2C7A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F28-F3D9-49A5-82CD-27FAECB0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517-0082-4786-8EB3-F60936C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B3F-49E7-4A2C-9DEE-FFCBBD77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546B-E8B3-41A5-832B-22EF11B13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сатели о пт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ежнева Елена, Ишкова Полина, Киценко Анастас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0" y="1773360"/>
            <a:ext cx="318132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кормите птиц зи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Покормите птиц зим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усть со всех кон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вам слетятся, как дом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йки на крыльц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богаты их корм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сть одна нуж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рсть одн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не страш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удет им з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ко гибнет и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сче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дать тяжел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ведь в вашем серд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для них теп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е можно забыв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лететь мог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остались зим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одно с людьми." (А. Яш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НЕГИ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гай поскор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еть на снегире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етели! Прилетел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йку встретили мете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Мороз Красный 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 рябинки прин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угости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подслас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м вечером поздн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о-алые грозд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роко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заранок скачут пт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снеженным ветвям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тогрудые си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етели в гости к 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нь-тень, тилли-тен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короче зимний день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успеешь пообед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сядет за пле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комар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му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ду только снег да сн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, что нам корм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л добрый человек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.Синицы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что говорят  поэты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ргей Есенин «Воробышк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робышки игрив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детки сиротлив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жались у ок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зябли пташки мал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лодные, устал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жмутся поплотн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ворона сидит на забо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амбары давно на запор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обозы прошли, все подвод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ступила пора непог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етится она на заборе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е ей, настоящее гор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дь ни зернышка нет у в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от холода нет оборо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. Рубц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с модницей эт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о, знак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ртушке на мес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как не сидится 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хваст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ним своим сюртук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шапочкой син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рдится... (синиц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. Иль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 простуд он не страда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страшится злобных вью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к зиме не улет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алекий знойный ю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усть покроют снега гру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пригорок, и пустырь 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 красавец прилетел к на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тель севера... (снегир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. Иль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эты о вороб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уть жи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чирикает да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мерзает совсем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заметит подводу с поклаж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-под крыши бросается к н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ожит он над зернышком, бед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летит к чердаку сво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гляди, не становится вре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того, что так трудно ем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.Рубц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ей по луж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гает и круж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ышки взъерошил 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ик распуш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ода хорош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л-чив-чил! (Агния Бар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ей мой, воробьиш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ый, юркий, словно мы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ки — бисер, лапки — вроз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пки — боком, лапки — вко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гай, прыгай, я не трону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шь, хлебца накрошил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нь-ка клювом в бок воро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ее сюда просил? … (Саша Чер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и разные 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4038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чет шустрая синиц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й на месте не си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ыг-скок, прыг-ск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ертелась как волч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присела на минут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сала клювом груд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 дорожки на плет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ри-тири, тень-тень-т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А. Бар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ношу со вкус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нтики и бу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йду за околиц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и бела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х, какая модница!»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жут про меня. (В. Степано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РО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розы жестокие в этом год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вожно за яблоньку в нашем сад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евожно за Жучк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ее кон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ой же морозищ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на дв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больше всего беспокойно за пт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наших воробышков, галок, сини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дь очень уж холодно в воздухе 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можем ли мы беззащитным таки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можем! Их надо корм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то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 будет легко пережить хол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. Благ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ПТИЦЕ ПЕРЕЗИМОВАТЬ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птице перезимов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вестно, что у пта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т ни халатов ватных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 байковых руб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многих даже нет гнез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и в грозу и гра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под дождем, и в хол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ветках сидя сп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 кто же им дает прию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гда снега мет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ывают птицы разны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дни боятся вью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улетают на зи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добрый, теплый ю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угие – те народ ин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мороз над лесом кружа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них разлука с роди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шнее лютой сту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 их перышкам взъероше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пристают снежин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ни и под порош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звятся для разми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ят вороны по столб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лдят на ветках гал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льно прыгать воробья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бы крутя скака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если долго снег ид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олго длится вьюг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, друзья, приход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чугам нашим ту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гробами засып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ры, дворы, дорож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пташки отыск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зернышка, ни кро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т летают все слаб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рона, галка, воробе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ей на помощь, де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в этот самый трудный ча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енье птицы ждут от в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мите их! Согрейт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сьте домик на сук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ыпьте крошки на снег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 и манной каш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живут бедняж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небу весело скольз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летят пернатые друз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поют, чирика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великое!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 Мухамм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ПОЛЗ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лубая спин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ыженький боч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стволу осин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 скачком скач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ползень вертля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ачет вверх и вни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ствол залез дыряв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ювом вниз пови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ртит он головк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дятлам загляну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-под черной бров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коркой сверкну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истнул: “Эй вы, дятлы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ювом вниз скач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ам такое вряд 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ятлам по плечу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ВИРИС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ять осеннею пор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нам в гости приле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сели дружною семь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ветках свирист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далека летят о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возь ветры, дождь и гр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бины красные ог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верно, их ман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ы гроздь рябины за ок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есим для госте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вдруг и к нам заглянет в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селый свирис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января 2010 года, января 2010 года, писателю-фронтовику Евгению Носову исполнилось бы 85 лет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27280" y="1052640"/>
            <a:ext cx="6059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вгений Носов - писатель, фронтов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зыва 1943 года. Умер летом 2003 года. Среди его последн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изведений есть рассказ "Покормите птиц".Прочита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ихотворение Александра Яшина "Покормите птиц зимой...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вгений Носов в память о поэте каждую осень стал вывеши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рмушки. Он пытался привлечь к этому делу и жителей Курс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клеивал на видных местах листовки со стихотворением Яш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кция "Покормите птиц!" была проведена впервые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ркутской области зимой 2002-2003 годов. Ее инициирова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ублицист Анатолий Сосунов и крупнейшие областные газеты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мять о писателе Евгении Носове. В январе 2003 года к ак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соединился город Курск - родина писате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гда же иркутяне предложили внести в Россий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кологический календарь 12 ноября как Осенний день птиц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читать его началом общероссийской культурно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кологической акции "Покормите птиц!", а 15 января – ден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ждения Евгения Носова - объявить Днем зимующих пти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и. Союз охраны птиц России полностью поддержал э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ициатив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жалуйста, покормите птиц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читайте фразу из выделенных букв. О чем о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тра и до позднего вечера,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адуют снова перн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ив полянки страниц,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адами сердце и слу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зяйствует в книжке доверчиво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репче подружат с юнна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дольная музыка птиц.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чушка, и роща, и 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жет быть, с этого времени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 неба до мира подв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тупит иная пора –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айте ж, как Родины реч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танет для птичьего племени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м и душой благород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ее еще детвора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ровье планеты береч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ное мног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 будем ценить неспр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бя и Европу, и Аз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аши родные мес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9:16:16Z</dcterms:created>
  <dc:creator>Общий</dc:creator>
  <dc:description/>
  <dc:language>en-US</dc:language>
  <cp:lastModifiedBy>Общий</cp:lastModifiedBy>
  <dcterms:modified xsi:type="dcterms:W3CDTF">2011-03-24T18:47:11Z</dcterms:modified>
  <cp:revision>8</cp:revision>
  <dc:subject/>
  <dc:title>Писатели о птицах</dc:title>
</cp:coreProperties>
</file>