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D45-D64F-48DA-AB25-F986A7AF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894-FC97-4316-A1E0-BBC4D695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DA4-70C6-4ABD-8E51-493226C5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D20-8070-4054-BCF8-D910DF0A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5380-8D98-4C1B-9A19-D10AA8A2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B02F-8535-4443-B1FA-44F41E8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4F6-D0E1-4DF5-A550-6C4A9D92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F1C3-F397-4A2E-A28D-45A69F22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7D92-4D3D-410C-9327-9EFD22F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B3AE-286D-4AB3-AD1E-6C5F400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7CBB-F1D8-4BB6-9AB8-8604849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CCF-30FD-4C22-B2F4-98851EEA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E652-118E-49DC-A555-29987D1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020-2932-4891-9A44-84FF2C37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1A15-E3A0-4DD3-A8BB-DC361E5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91A-743F-40A6-9C9B-987B0190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EE09-FCA9-478F-93DE-09E1B3BC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6146-779D-4CAF-BAC8-04C2BEA4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88FE-1761-495D-8CBA-2C85638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CC35-C220-4FBA-835C-808E680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7775-FDBD-4FCA-8DC7-B703E4EA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E455-50A3-4F57-96D4-A9BEC279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405-F110-48AE-8D55-B451D47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522F-83AF-41BE-9E4B-48E9D841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5544-5670-45D9-B1F5-0549977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A3EB-EAD4-457E-8B31-5D97B65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BF0D-024A-4488-87CB-89ADB82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F5B9-1A52-4EC6-BD7F-DBCF1696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1BCC-E31A-47B8-81BE-78F24968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738D-8E00-4FA4-8918-E18A2C81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AE29-B567-4EFB-AB81-E242FEB4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4204-849A-428D-ADE4-51D28366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E83D-B322-4457-92AE-C47E9B4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B10-1662-46E5-8286-7A3B5EAE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27ED-D6EB-49B2-A33B-DEA704BC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F565-05D1-4A5D-8D2D-3FAEB6E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186B-CA2E-4AC1-8399-9156CAFE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0718-D9B9-4548-806C-B5FD644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43E7-D158-4B15-B0DB-723C916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A95A-0F95-4978-AB99-82A93922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719D-DA1F-43D0-9291-3505AAC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E662-C92A-4A51-B7E3-C858DAB5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BF71-E568-44CA-B58F-E39AC1C0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94E5-820A-4247-A745-B2C5AE8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1A4-7E84-4612-B7A3-3145D35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3BF7-32C8-4ECA-939E-45C58CE9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E96C0-0D24-414B-AB99-B11B12F2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359F-4859-42A5-A323-369AE811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E038-32F6-4B2B-AF50-71CC4F77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EA78-60BC-428F-B469-F6A7E987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9A20-98D5-4C92-933C-0AE8029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D1CE-541F-4EDD-9EE3-C78B40E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FB61-C8A6-4765-905F-D287B76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443F-5B4C-427B-9207-F4B9E797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3C3C-71EE-4188-9EF1-6C83EB9E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A96-5A1E-49B8-BC4A-F73C0D1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9476-4E1D-440A-B7FA-71120805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9A0F-9755-4276-8145-D113F906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2FA8-433C-4A03-A5E8-17B589E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028D-DCB8-47EE-945F-273B1F2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1FD16-67F5-412C-B06A-631198E7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B87E-8CED-4997-968B-D9002AA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A5B90-8BF3-4B98-B4FC-CF0E488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666A-6F09-45C7-A95C-ED44220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0071C-545C-43BA-A093-C8A5AE0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5CBA-0AF6-41A5-82B0-1999E39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707-02BB-4953-8D22-F72E3E8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2E1C4-6CEC-4D12-A259-3F75344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8908-FE27-4D9A-A5DF-901E2B8F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FFC22-47C7-478D-AAF8-DC4E8954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44C-8BE0-4E66-B755-891B169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B6D-3689-4A46-BD8D-950ED9F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81F8-0903-457F-A360-A2B8D5EF3F64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34F-6D50-46D4-870D-8415AAAD5597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02A-6184-4415-95BF-005AA262C7FC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F14-0072-4AFF-BE56-F9C13AAC2953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3E6-3B37-4BCA-9A38-C03D8599F22D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F3E0-C806-4231-8FD8-EC021ADDD8B4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193840" y="-176040"/>
            <a:ext cx="6956640" cy="2011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-360" y="3499920"/>
            <a:ext cx="5072040" cy="335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Выполнил: Крушельницкий В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Руководитель: Семёнова В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33873"/>
          <p:cNvPicPr/>
          <p:nvPr/>
        </p:nvPicPr>
        <p:blipFill>
          <a:blip r:embed="rId2"/>
          <a:stretch/>
        </p:blipFill>
        <p:spPr>
          <a:xfrm>
            <a:off x="5786280" y="2279520"/>
            <a:ext cx="3357720" cy="45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тличии от аккумулятора и батареек, ТЭ не истощается и не требует перезарядки; он работает, пока подается топли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сия имеет уникальные достижения в области разработки ТЭ. Однако пока что свои возможности мы не используем в достаточной мере, обрекая себя не только на отставание в перспективной области энергетики, но в будущем ставим себя в зависимость от мировой экономической и политической конъюнкту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ерить утверждению крупнейшего воротилы мобильного бизнеса, компании Nokia, от топливных элементов в качестве аккумуляторов для сотовых телефонов нас отделяет какая-то пара лет. В топливных элементах источником энергии является водород, метанол или этиловый спирт, которые окисляются кислородом при участии платинового катализа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электричество из водорода для мобильных устройств"/>
          <p:cNvPicPr/>
          <p:nvPr/>
        </p:nvPicPr>
        <p:blipFill>
          <a:blip r:embed="rId1"/>
          <a:stretch/>
        </p:blipFill>
        <p:spPr>
          <a:xfrm>
            <a:off x="3786120" y="0"/>
            <a:ext cx="5357880" cy="3929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81650"/>
          <p:cNvPicPr/>
          <p:nvPr/>
        </p:nvPicPr>
        <p:blipFill>
          <a:blip r:embed="rId2"/>
          <a:stretch/>
        </p:blipFill>
        <p:spPr>
          <a:xfrm>
            <a:off x="0" y="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обиль Toyota FCHV, работающий на водороде, проехал расстояние в 560 км между Осака и Токио без последующей дозаправки. В июле японские инженеры разработали технологию, которая позволяет увеличить давление в баке с водородом до 70 МПа. Новшество позволяет увеличить расстояние, которое автомобиль может проехать без дозаправки, на 660 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351b_news"/>
          <p:cNvPicPr/>
          <p:nvPr/>
        </p:nvPicPr>
        <p:blipFill>
          <a:blip r:embed="rId1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водородный скорпион"/>
          <p:cNvPicPr/>
          <p:nvPr/>
        </p:nvPicPr>
        <p:blipFill>
          <a:blip r:embed="rId1"/>
          <a:stretch/>
        </p:blipFill>
        <p:spPr>
          <a:xfrm>
            <a:off x="4140360" y="28558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трактор на водороде"/>
          <p:cNvPicPr/>
          <p:nvPr/>
        </p:nvPicPr>
        <p:blipFill>
          <a:blip r:embed="rId2"/>
          <a:stretch/>
        </p:blipFill>
        <p:spPr>
          <a:xfrm>
            <a:off x="0" y="0"/>
            <a:ext cx="5114880" cy="37814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6" descr=""/>
          <p:cNvPicPr/>
          <p:nvPr/>
        </p:nvPicPr>
        <p:blipFill>
          <a:blip r:embed="rId3"/>
          <a:stretch/>
        </p:blipFill>
        <p:spPr>
          <a:xfrm>
            <a:off x="5145120" y="-122400"/>
            <a:ext cx="4419720" cy="21891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3785760"/>
            <a:ext cx="4143240" cy="3071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a010"/>
                </a:solidFill>
                <a:latin typeface="Arial"/>
              </a:rPr>
              <a:t>Автомобиль </a:t>
            </a:r>
            <a:r>
              <a:rPr b="0" lang="en-US" sz="4000" spc="-1" strike="noStrike">
                <a:solidFill>
                  <a:srgbClr val="25a010"/>
                </a:solidFill>
                <a:latin typeface="Arial"/>
              </a:rPr>
              <a:t>Scorpion </a:t>
            </a:r>
            <a:r>
              <a:rPr b="0" lang="ru-RU" sz="4000" spc="-1" strike="noStrike">
                <a:solidFill>
                  <a:srgbClr val="25a010"/>
                </a:solidFill>
                <a:latin typeface="Arial"/>
              </a:rPr>
              <a:t>на водо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27840" cy="32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Существуют много способов добычи экологически чистой энергии, это такие как солнце, ветер, геотермальные источники, вода, водород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Picture 4" descr="25586"/>
          <p:cNvPicPr/>
          <p:nvPr/>
        </p:nvPicPr>
        <p:blipFill>
          <a:blip r:embed="rId1"/>
          <a:stretch/>
        </p:blipFill>
        <p:spPr>
          <a:xfrm>
            <a:off x="6012000" y="3500280"/>
            <a:ext cx="253368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9,-47,127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9,-47,127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407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Одно из главных задач ученых и инженеров было изобретение «чистого двигателя»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    «Топливный элемент- это устройство, которое вырабатывает электричество из водорода, но не путем сжигания, а путем соединения его с кислородом в ходе управляемой химической реакции. При использовании чистого водорода, в отличии от обогащенного водородом ископаемого топлива, выделяется только тепло и вода. Современные авиационные, ракетные и автомобильные двигатели, топливные элементы все чаще начинают возвращаться к частичному или полному использованию водорода. Водород обладает целым набором качеств, делающих сегодня его употребление выгодным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авиация"/>
          <p:cNvPicPr/>
          <p:nvPr/>
        </p:nvPicPr>
        <p:blipFill>
          <a:blip r:embed="rId1"/>
          <a:stretch/>
        </p:blipFill>
        <p:spPr>
          <a:xfrm>
            <a:off x="0" y="1773360"/>
            <a:ext cx="4552920" cy="2762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двигатель бмв2"/>
          <p:cNvPicPr/>
          <p:nvPr/>
        </p:nvPicPr>
        <p:blipFill>
          <a:blip r:embed="rId2"/>
          <a:stretch/>
        </p:blipFill>
        <p:spPr>
          <a:xfrm>
            <a:off x="5164200" y="0"/>
            <a:ext cx="3979800" cy="5013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4652640"/>
            <a:ext cx="5219640" cy="10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Авиадвигатель на                   водород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148000" y="5013360"/>
            <a:ext cx="39956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вигатель для машины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M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116000" y="0"/>
            <a:ext cx="7843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ородные топливные элементы считаются будущим мировой энергетики благодаря своей эффективности и экологической безопас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55640" y="1986120"/>
            <a:ext cx="7632720" cy="43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187280" y="4941360"/>
            <a:ext cx="795672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имические реакции в ТЭ идут на специальных пористых электродах (аноде и катоде), активированных палладием (или другими металлами платиновой группы), где химическая энергия, запасенная в водороде и кислороде, эффективно преобразуется в электрическую энергию. Водород окисляется на аноде, а кислород (или воздух) восстанавливается на кат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4346640" y="0"/>
            <a:ext cx="4797360" cy="4941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26920" y="4292640"/>
            <a:ext cx="8128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тализатор на аноде ускоряет окисление водородных молекул в водородные ионы (Н+) и электроны. Водородные ионы (протоны) через мембрану мигрируют к катоду, где катализатор катода вызывает образование воды из комбинации протонов, электронов и кислорода. Поток электронов через внешний кругооборот производит электрический ток, который используется различными потребител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Прототип генератора водорода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в том, что для эффективной работы ТЭ нужны катализаторы. В качестве катализаторов в топливных элементах чаще всего применяют платину и её сплавы с не менее драгоценным палладием. Этот материал позволяет значительно облегчить процесс ионизации водорода. Однако в процессе нанесения дорогостоящей платины наиболее распространенным методом аэрографии её потери достаточно велики, что еще более удорожает конечный продук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78198-main_Full"/>
          <p:cNvPicPr/>
          <p:nvPr/>
        </p:nvPicPr>
        <p:blipFill>
          <a:blip r:embed="rId1"/>
          <a:stretch/>
        </p:blipFill>
        <p:spPr>
          <a:xfrm>
            <a:off x="0" y="0"/>
            <a:ext cx="428472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асские специалисты во главе с Питером Страссером предлагают использовать сплав платины с кобальтом и медью. Новый катализатор представляет собой частицы сплава, содержание металла в которых изменяется от поверхности к ядру: поверхность частиц обогащена платиной, а ядро состоит преимущественно из меди и кобальта. Первые испытания этого катализатора показали эффективность, превышающую аналогичный показатель современных катализаторов для топливных элементов в 4–5 раз. Вдобавок нанокатализатор оказался существенно дешев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52:12Z</dcterms:created>
  <dc:creator>STALKER</dc:creator>
  <dc:description/>
  <dc:language>en-US</dc:language>
  <cp:lastModifiedBy>User</cp:lastModifiedBy>
  <dcterms:modified xsi:type="dcterms:W3CDTF">2010-01-26T05:17:18Z</dcterms:modified>
  <cp:revision>9</cp:revision>
  <dc:subject/>
  <dc:title>Водород-источник энергии</dc:title>
</cp:coreProperties>
</file>