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B0F-6946-4AF3-B15C-45314EA6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FF8-0EE2-4F99-A9AC-A958E52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86A-6364-4129-970C-37B9D8D0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AB2-F5DA-4823-8B6D-EC4C646A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EDF4-A8CC-47DD-9999-A2F77457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B7E7-90F6-4DED-9103-D4B47ACB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0505-FB00-4AD3-B32A-CD963C48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BFFF-21CD-4EF7-B881-ADD5FDB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4685-FF0E-4359-8F62-CF5F6226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B1E0-747E-472B-B318-3CEC8BC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5DE-6B41-45C8-8C5F-071224A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D24-7283-4E5B-867F-F021AB2D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487D-8747-484A-9A11-6C8BE288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36C-B5B7-453E-B614-56F0095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7A2F-D595-498B-95F3-DB65CDFA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368B-403A-41B2-92CF-B33707D6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32C2-0117-4924-8843-B5416628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3F88-3169-482E-8925-CA67057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E4E0-B1CD-4AA4-9B01-0355F5E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E28F-A1FB-4BC3-9F9A-51F7AABC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3371-429D-4FCE-B09B-CE6D1380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1D41-314E-4F78-A4B5-90E1E43C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F09-0019-490F-9C80-AEF8A681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41B0-C42B-4379-809D-3DA4B7E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52C8-328F-4B29-BA43-6541F22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B804-F1FE-4B06-81C4-28BB855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8272-4C9A-47D4-B564-96FA42D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10120-64CB-4F0C-82C2-8955465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2A18-787F-4393-93CA-BD9751C6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8994-8DF2-41CA-AA24-AEA2C110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A853-BF89-40B9-8E77-1CF8728E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2B6D-0DCC-4D2C-8AD6-587013E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098F-A0C0-4343-A453-D451234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949-3525-4F71-9538-049CECB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92A9-EE45-46B7-856A-EB190F8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969C-2800-4FD7-A5AA-C2F417A1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ACFD5-B83A-4AA7-811B-D574710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168C-9ECF-4D44-8563-40C766B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0BA0-0FDB-4921-BC79-7E656A9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18FE-254D-42AC-BF45-9572EF0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205B-8A7D-42AB-8265-A41B3DD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53A9-320F-4555-9E2F-F1A38E92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B2CC-1EDF-4854-AD20-E47605B6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E660-9847-4C45-B2F3-06F556C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8DE-F920-4DBF-A16E-BB12DFE2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D986-33F3-4FD7-A4D3-87590441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F5B4-3DB2-4E6F-96DF-77878B4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3E99-B847-4BD8-AE13-E803C4F6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AC81-179C-4FD2-B721-37A4337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9D74-1469-4E8C-BFA4-6B56B8D8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923A-0C3C-4CCC-9A58-97C0183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8B1F-AD41-4E03-A62B-A8497C3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6066-F0E2-4BF8-B211-B1DE0F6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F858-EC26-43A4-BE33-A5DDFC2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DF32-46E1-45F5-A4EB-59140574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C2A-1D7A-406C-B77F-515977B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E2AF1-4DC9-4435-8C5F-5B9674BA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2442-139D-4134-AF7E-E4D8289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C4E6-105A-4932-A78F-1299FE2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C6EF-014D-42D8-AF54-4FDF8F9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A494-5202-487A-8D3E-F99F202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7C77-97F6-4D93-A1C9-6B6B39C9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08D5-78B1-449B-AEF1-858FF7B9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63B3-B921-49D8-8E06-ACB4787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34DB-83FC-4E4C-8BDA-2E553F1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504F-2EB7-43FE-89D0-A49B3E3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A29-3544-45C9-9CF2-1BBBE14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10956-EF82-484D-BA2F-A4A1D5CF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9494-364B-4817-8744-0A173B1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09A4-920B-49B1-976C-DFE1C42E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1AC-1118-474E-B1DF-A5F3ACC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727-8D04-4301-B1CD-B08F8D86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A68A-3254-43A9-B657-7D66C19A7C0B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8523-7E7C-4C8B-9DDB-A97312501F5C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4664-645B-4AC3-AEB3-979FEB9D9C68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A50C-F934-4D79-B2F2-084085F30BCD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B25-FED4-48D7-B164-083E6BCB91F3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F54-78F3-41EC-BEA8-7217610068C3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193840" y="-176040"/>
            <a:ext cx="6956640" cy="2011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5072040" cy="335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Выполнил: Крушельницкий В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Руководитель: Семёнова В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33873"/>
          <p:cNvPicPr/>
          <p:nvPr/>
        </p:nvPicPr>
        <p:blipFill>
          <a:blip r:embed="rId2"/>
          <a:stretch/>
        </p:blipFill>
        <p:spPr>
          <a:xfrm>
            <a:off x="5786280" y="2279520"/>
            <a:ext cx="3357720" cy="45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тличии от аккумулятора и батареек, ТЭ не истощается и не требует перезарядки; он работает, пока подается топли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я имеет уникальные достижения в области разработки ТЭ. Однако пока что свои возможности мы не используем в достаточной мере, обрекая себя не только на отставание в перспективной области энергетики, но в будущем ставим себя в зависимость от мировой экономической и политической конъюнкту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ерить утверждению крупнейшего воротилы мобильного бизнеса, компании Nokia, от топливных элементов в качестве аккумуляторов для сотовых телефонов нас отделяет какая-то пара лет. В топливных элементах источником энергии является водород, метанол или этиловый спирт, которые окисляются кислородом при участии платинового катализ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электричество из водорода для мобильных устройств"/>
          <p:cNvPicPr/>
          <p:nvPr/>
        </p:nvPicPr>
        <p:blipFill>
          <a:blip r:embed="rId1"/>
          <a:stretch/>
        </p:blipFill>
        <p:spPr>
          <a:xfrm>
            <a:off x="3786120" y="0"/>
            <a:ext cx="5357880" cy="3929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81650"/>
          <p:cNvPicPr/>
          <p:nvPr/>
        </p:nvPicPr>
        <p:blipFill>
          <a:blip r:embed="rId2"/>
          <a:stretch/>
        </p:blipFill>
        <p:spPr>
          <a:xfrm>
            <a:off x="0" y="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обиль Toyota FCHV, работающий на водороде, проехал расстояние в 560 км между Осака и Токио без последующей дозаправки. В июле японские инженеры разработали технологию, которая позволяет увеличить давление в баке с водородом до 70 МПа. Новшество позволяет увеличить расстояние, которое автомобиль может проехать без дозаправки, на 660 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351b_news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водородный скорпион"/>
          <p:cNvPicPr/>
          <p:nvPr/>
        </p:nvPicPr>
        <p:blipFill>
          <a:blip r:embed="rId1"/>
          <a:stretch/>
        </p:blipFill>
        <p:spPr>
          <a:xfrm>
            <a:off x="4140360" y="28558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трактор на водороде"/>
          <p:cNvPicPr/>
          <p:nvPr/>
        </p:nvPicPr>
        <p:blipFill>
          <a:blip r:embed="rId2"/>
          <a:stretch/>
        </p:blipFill>
        <p:spPr>
          <a:xfrm>
            <a:off x="0" y="0"/>
            <a:ext cx="5114880" cy="37814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6" descr=""/>
          <p:cNvPicPr/>
          <p:nvPr/>
        </p:nvPicPr>
        <p:blipFill>
          <a:blip r:embed="rId3"/>
          <a:stretch/>
        </p:blipFill>
        <p:spPr>
          <a:xfrm>
            <a:off x="5145120" y="-122400"/>
            <a:ext cx="4419720" cy="2189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3785760"/>
            <a:ext cx="4143240" cy="3071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Автомобиль </a:t>
            </a:r>
            <a:r>
              <a:rPr b="0" lang="en-US" sz="4000" spc="-1" strike="noStrike">
                <a:solidFill>
                  <a:srgbClr val="25a010"/>
                </a:solidFill>
                <a:latin typeface="Arial"/>
              </a:rPr>
              <a:t>Scorpion </a:t>
            </a: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на водо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27840" cy="32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Существуют много способов добычи экологически чистой энергии, это такие как солнце, ветер, геотермальные источники, вода, водород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Picture 4" descr="25586"/>
          <p:cNvPicPr/>
          <p:nvPr/>
        </p:nvPicPr>
        <p:blipFill>
          <a:blip r:embed="rId1"/>
          <a:stretch/>
        </p:blipFill>
        <p:spPr>
          <a:xfrm>
            <a:off x="6012000" y="3500280"/>
            <a:ext cx="253368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407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Одно из главных задач ученых и инженеров было изобретение «чистого двигателя»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«Топливный элемент- это устройство, которое вырабатывает электричество из водорода, но не путем сжигания, а путем соединения его с кислородом в ходе управляемой химической реакции. При использовании чистого водорода, в отличии от обогащенного водородом ископаемого топлива, выделяется только тепло и вода. Современные авиационные, ракетные и автомобильные двигатели, топливные элементы все чаще начинают возвращаться к частичному или полному использованию водорода. Водород обладает целым набором качеств, делающих сегодня его употребление выгодным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авиация"/>
          <p:cNvPicPr/>
          <p:nvPr/>
        </p:nvPicPr>
        <p:blipFill>
          <a:blip r:embed="rId1"/>
          <a:stretch/>
        </p:blipFill>
        <p:spPr>
          <a:xfrm>
            <a:off x="0" y="1773360"/>
            <a:ext cx="4552920" cy="2762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двигатель бмв2"/>
          <p:cNvPicPr/>
          <p:nvPr/>
        </p:nvPicPr>
        <p:blipFill>
          <a:blip r:embed="rId2"/>
          <a:stretch/>
        </p:blipFill>
        <p:spPr>
          <a:xfrm>
            <a:off x="5164200" y="0"/>
            <a:ext cx="3979800" cy="5013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5219640" cy="10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Авиадвигатель на                   водород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9956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вигатель для машины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M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116000" y="0"/>
            <a:ext cx="7843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ородные топливные элементы считаются будущим мировой энергетики благодаря своей эффективности и экологической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55640" y="1986120"/>
            <a:ext cx="7632720" cy="43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187280" y="4941360"/>
            <a:ext cx="795672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имические реакции в ТЭ идут на специальных пористых электродах (аноде и катоде), активированных палладием (или другими металлами платиновой группы), где химическая энергия, запасенная в водороде и кислороде, эффективно преобразуется в электрическую энергию. Водород окисляется на аноде, а кислород (или воздух) восстанавливается на кат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4346640" y="0"/>
            <a:ext cx="4797360" cy="49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26920" y="4292640"/>
            <a:ext cx="8128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тализатор на аноде ускоряет окисление водородных молекул в водородные ионы (Н+) и электроны. Водородные ионы (протоны) через мембрану мигрируют к катоду, где катализатор катода вызывает образование воды из комбинации протонов, электронов и кислорода. Поток электронов через внешний кругооборот производит электрический ток, который используется различными потребител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Прототип генератора водорода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в том, что для эффективной работы ТЭ нужны катализаторы. В качестве катализаторов в топливных элементах чаще всего применяют платину и её сплавы с не менее драгоценным палладием. Этот материал позволяет значительно облегчить процесс ионизации водорода. Однако в процессе нанесения дорогостоящей платины наиболее распространенным методом аэрографии её потери достаточно велики, что еще более удорожает конечный продук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78198-main_Full"/>
          <p:cNvPicPr/>
          <p:nvPr/>
        </p:nvPicPr>
        <p:blipFill>
          <a:blip r:embed="rId1"/>
          <a:stretch/>
        </p:blipFill>
        <p:spPr>
          <a:xfrm>
            <a:off x="0" y="0"/>
            <a:ext cx="42847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асские специалисты во главе с Питером Страссером предлагают использовать сплав платины с кобальтом и медью. Новый катализатор представляет собой частицы сплава, содержание металла в которых изменяется от поверхности к ядру: поверхность частиц обогащена платиной, а ядро состоит преимущественно из меди и кобальта. Первые испытания этого катализатора показали эффективность, превышающую аналогичный показатель современных катализаторов для топливных элементов в 4–5 раз. Вдобавок нанокатализатор оказался существенно дешев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52:12Z</dcterms:created>
  <dc:creator>STALKER</dc:creator>
  <dc:description/>
  <dc:language>en-US</dc:language>
  <cp:lastModifiedBy>User</cp:lastModifiedBy>
  <dcterms:modified xsi:type="dcterms:W3CDTF">2010-01-26T05:17:18Z</dcterms:modified>
  <cp:revision>9</cp:revision>
  <dc:subject/>
  <dc:title>Водород-источник энергии</dc:title>
</cp:coreProperties>
</file>