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F79-C9BE-4568-8057-4993D505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AA0-0FB4-49DC-9078-C737CCC6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E65-9335-448B-B1CE-C8D07014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F23-D3A7-426B-9BA5-019E548D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D463-2629-4603-8886-A22F6399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7315-B43A-4313-B931-484D75CA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F676-B7C8-435E-8EE7-8DAD3E0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0208-8179-43E4-B415-69A084C4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621-32E4-48D5-8FCC-69F3547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49DF-94D8-4239-88D6-790C916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DDED-5632-4F64-BC11-F8AEB358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A7C-3400-49D2-8CAA-F2A6856A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B6F0-3486-4629-83AB-81BEDF9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03BF-48DF-4BD0-A3A8-55369CA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D62-3528-43FE-AB76-93EA6D53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CB68-3209-4ED8-B5B8-B6F85673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50B-BD2F-409E-BE6C-4A090F44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10D9-07C8-4C38-AD0E-129B4D92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54A0-4457-4C31-B06B-63C25C27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1FCE-7C4B-46F1-9A83-0B2B6951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660DD-312D-4796-9033-A7C0D31B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8075-DF25-4F24-8E22-45CEEA5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EF0-E888-4110-8E05-DE7445C1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A3A8-16C2-409C-9619-C47D6EF8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55CF-69FE-4B9B-84C3-27479FEC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D608-E719-45C2-8251-C557F11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E18DC-889D-4E97-A78D-B11927A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ACB5-A9A3-4BAE-8108-80D9C696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4BDF-1296-45FF-BDE5-2E2243CA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E088-00C5-4D0D-9E65-E42B4E1F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D78D3-9458-423F-BA0B-D6AAE3C0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335EA-6518-49C9-A5FE-3261DF19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3CBD-4DE0-4779-AFF4-DAF020D0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9D3-F8C6-4DE0-B102-9111A360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6B90-DE89-4B40-A2A5-4407BEBF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7CEB-17C0-429F-82E7-68B8C7C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38C3E-54ED-4741-95FB-A6E9C804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57A3-5E82-4A87-9419-04D528F2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0CEC-BD18-4DA5-A737-FB6B890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97DD-7F2C-4960-BA3B-C39D4181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86C6-DD28-4E2F-AB65-92608DD4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7C95-6B49-459E-9608-C38BC419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F887-BB25-47BB-AA4A-1A324840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7E9E-AB29-4DCF-BC3A-FB9A663B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154-16A7-42D6-9975-7D0F3264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533E-B648-47D3-B60A-CE8CB6B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A9F6-54B5-4E86-9641-25E665CB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98CB-530B-4084-A565-A114B8C0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48F0-7977-4F29-B81B-E096A26A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972A3-57D2-4155-8F1A-DCF829B0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EBCF-C57C-408E-BFD7-406AB751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BCE5-8A25-4A43-A241-A264592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31D4-14C9-4850-9297-9B3C6F4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51F0C-3425-40C4-8AA3-FD0D1202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8D32-CD10-48A5-9878-1CE1E0E5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4FD-493A-44DD-8B45-33C0F4EE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C10FE-B75F-4F91-851D-24C663F0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FE9F5-437F-44FB-A312-7B0DE79B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6E9DB-AE4D-4E9D-8410-9B30525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3BD18-608E-4B3C-A5A0-1B0D73E2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DDC8B-FB22-4FEC-97E6-C7E72467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4343-F974-40A4-8A1A-00BE2E25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D704-EDB6-4395-B59A-16E54CB3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F7353-A6A4-4623-9085-7AF7E78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3B472-4A3D-4147-9D23-D42701B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038E-AE20-4DC4-866C-30E4C1D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8D3-F851-435F-8AE3-1272BB0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513D-6984-4CC8-8CF3-B5B57D4A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AB666-57EE-466C-8502-BC1841B0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0E684-232B-4B6A-B613-700A3521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900-2BF3-4ADE-8FF2-4808F5F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3C3-9514-4F40-84CA-5DAE596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4F58-D3D6-41F3-8E67-3861C27003AA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106D-EF6B-454C-9154-CD02A94CC5D6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FDF7-A569-487C-A5D6-944CA39AF50D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A344-2921-4867-A565-3C08CD4C0B27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29F9-D25F-40EB-BBA2-B436B1C2C036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fd13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ea157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b80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add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dad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D31C-F1E3-4FD7-9127-146F38A07466}" type="slidenum">
              <a:rPr b="0" lang="en-US" sz="1000" spc="-1" strike="noStrike">
                <a:solidFill>
                  <a:srgbClr val="9dadb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193840" y="-176040"/>
            <a:ext cx="6956640" cy="2011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-360" y="3499920"/>
            <a:ext cx="5072040" cy="335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Выполнил: Крушельницкий В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Руководитель: Семёнова В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33873"/>
          <p:cNvPicPr/>
          <p:nvPr/>
        </p:nvPicPr>
        <p:blipFill>
          <a:blip r:embed="rId2"/>
          <a:stretch/>
        </p:blipFill>
        <p:spPr>
          <a:xfrm>
            <a:off x="5786280" y="2279520"/>
            <a:ext cx="3357720" cy="45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отличии от аккумулятора и батареек, ТЭ не истощается и не требует перезарядки; он работает, пока подается топли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сия имеет уникальные достижения в области разработки ТЭ. Однако пока что свои возможности мы не используем в достаточной мере, обрекая себя не только на отставание в перспективной области энергетики, но в будущем ставим себя в зависимость от мировой экономической и политической конъюнкту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ерить утверждению крупнейшего воротилы мобильного бизнеса, компании Nokia, от топливных элементов в качестве аккумуляторов для сотовых телефонов нас отделяет какая-то пара лет. В топливных элементах источником энергии является водород, метанол или этиловый спирт, которые окисляются кислородом при участии платинового катализа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4" descr="электричество из водорода для мобильных устройств"/>
          <p:cNvPicPr/>
          <p:nvPr/>
        </p:nvPicPr>
        <p:blipFill>
          <a:blip r:embed="rId1"/>
          <a:stretch/>
        </p:blipFill>
        <p:spPr>
          <a:xfrm>
            <a:off x="3786120" y="0"/>
            <a:ext cx="5357880" cy="39290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81650"/>
          <p:cNvPicPr/>
          <p:nvPr/>
        </p:nvPicPr>
        <p:blipFill>
          <a:blip r:embed="rId2"/>
          <a:stretch/>
        </p:blipFill>
        <p:spPr>
          <a:xfrm>
            <a:off x="0" y="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обиль Toyota FCHV, работающий на водороде, проехал расстояние в 560 км между Осака и Токио без последующей дозаправки. В июле японские инженеры разработали технологию, которая позволяет увеличить давление в баке с водородом до 70 МПа. Новшество позволяет увеличить расстояние, которое автомобиль может проехать без дозаправки, на 660 к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351b_news"/>
          <p:cNvPicPr/>
          <p:nvPr/>
        </p:nvPicPr>
        <p:blipFill>
          <a:blip r:embed="rId1"/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384d"/>
            </a:gs>
            <a:gs pos="100000">
              <a:srgbClr val="7c889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водородный скорпион"/>
          <p:cNvPicPr/>
          <p:nvPr/>
        </p:nvPicPr>
        <p:blipFill>
          <a:blip r:embed="rId1"/>
          <a:stretch/>
        </p:blipFill>
        <p:spPr>
          <a:xfrm>
            <a:off x="4140360" y="28558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трактор на водороде"/>
          <p:cNvPicPr/>
          <p:nvPr/>
        </p:nvPicPr>
        <p:blipFill>
          <a:blip r:embed="rId2"/>
          <a:stretch/>
        </p:blipFill>
        <p:spPr>
          <a:xfrm>
            <a:off x="0" y="0"/>
            <a:ext cx="5114880" cy="378144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6" descr=""/>
          <p:cNvPicPr/>
          <p:nvPr/>
        </p:nvPicPr>
        <p:blipFill>
          <a:blip r:embed="rId3"/>
          <a:stretch/>
        </p:blipFill>
        <p:spPr>
          <a:xfrm>
            <a:off x="5145120" y="-122400"/>
            <a:ext cx="4419720" cy="21891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3785760"/>
            <a:ext cx="4143240" cy="3071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a010"/>
                </a:solidFill>
                <a:latin typeface="Arial"/>
              </a:rPr>
              <a:t>Автомобиль </a:t>
            </a:r>
            <a:r>
              <a:rPr b="0" lang="en-US" sz="4000" spc="-1" strike="noStrike">
                <a:solidFill>
                  <a:srgbClr val="25a010"/>
                </a:solidFill>
                <a:latin typeface="Arial"/>
              </a:rPr>
              <a:t>Scorpion </a:t>
            </a:r>
            <a:r>
              <a:rPr b="0" lang="ru-RU" sz="4000" spc="-1" strike="noStrike">
                <a:solidFill>
                  <a:srgbClr val="25a010"/>
                </a:solidFill>
                <a:latin typeface="Arial"/>
              </a:rPr>
              <a:t>на водо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27840" cy="32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Существуют много способов добычи экологически чистой энергии, это такие как солнце, ветер, геотермальные источники, вода, водород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Picture 4" descr="25586"/>
          <p:cNvPicPr/>
          <p:nvPr/>
        </p:nvPicPr>
        <p:blipFill>
          <a:blip r:embed="rId1"/>
          <a:stretch/>
        </p:blipFill>
        <p:spPr>
          <a:xfrm>
            <a:off x="6012000" y="3500280"/>
            <a:ext cx="253368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9,-47,127)"/>
                                      </p:to>
                                    </p:se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9,-47,127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407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Одно из главных задач ученых и инженеров было изобретение «чистого двигателя»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     «Топливный элемент- это устройство, которое вырабатывает электричество из водорода, но не путем сжигания, а путем соединения его с кислородом в ходе управляемой химической реакции. При использовании чистого водорода, в отличии от обогащенного водородом ископаемого топлива, выделяется только тепло и вода. Современные авиационные, ракетные и автомобильные двигатели, топливные элементы все чаще начинают возвращаться к частичному или полному использованию водорода. Водород обладает целым набором качеств, делающих сегодня его употребление выгодным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авиация"/>
          <p:cNvPicPr/>
          <p:nvPr/>
        </p:nvPicPr>
        <p:blipFill>
          <a:blip r:embed="rId1"/>
          <a:stretch/>
        </p:blipFill>
        <p:spPr>
          <a:xfrm>
            <a:off x="0" y="1773360"/>
            <a:ext cx="4552920" cy="2762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двигатель бмв2"/>
          <p:cNvPicPr/>
          <p:nvPr/>
        </p:nvPicPr>
        <p:blipFill>
          <a:blip r:embed="rId2"/>
          <a:stretch/>
        </p:blipFill>
        <p:spPr>
          <a:xfrm>
            <a:off x="5164200" y="0"/>
            <a:ext cx="3979800" cy="5013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4652640"/>
            <a:ext cx="5219640" cy="108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Авиадвигатель на                   водород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148000" y="5013360"/>
            <a:ext cx="39956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вигатель для машины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M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116000" y="0"/>
            <a:ext cx="7843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ородные топливные элементы считаются будущим мировой энергетики благодаря своей эффективности и экологической безопас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55640" y="1986120"/>
            <a:ext cx="7632720" cy="43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187280" y="4941360"/>
            <a:ext cx="795672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Химические реакции в ТЭ идут на специальных пористых электродах (аноде и катоде), активированных палладием (или другими металлами платиновой группы), где химическая энергия, запасенная в водороде и кислороде, эффективно преобразуется в электрическую энергию. Водород окисляется на аноде, а кислород (или воздух) восстанавливается на кат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4346640" y="0"/>
            <a:ext cx="4797360" cy="4941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26920" y="4292640"/>
            <a:ext cx="812808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тализатор на аноде ускоряет окисление водородных молекул в водородные ионы (Н+) и электроны. Водородные ионы (протоны) через мембрану мигрируют к катоду, где катализатор катода вызывает образование воды из комбинации протонов, электронов и кислорода. Поток электронов через внешний кругооборот производит электрический ток, который используется различными потребителя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Прототип генератора водорода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4292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блема в том, что для эффективной работы ТЭ нужны катализаторы. В качестве катализаторов в топливных элементах чаще всего применяют платину и её сплавы с не менее драгоценным палладием. Этот материал позволяет значительно облегчить процесс ионизации водорода. Однако в процессе нанесения дорогостоящей платины наиболее распространенным методом аэрографии её потери достаточно велики, что еще более удорожает конечный продук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78198-main_Full"/>
          <p:cNvPicPr/>
          <p:nvPr/>
        </p:nvPicPr>
        <p:blipFill>
          <a:blip r:embed="rId1"/>
          <a:stretch/>
        </p:blipFill>
        <p:spPr>
          <a:xfrm>
            <a:off x="0" y="0"/>
            <a:ext cx="428472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асские специалисты во главе с Питером Страссером предлагают использовать сплав платины с кобальтом и медью. Новый катализатор представляет собой частицы сплава, содержание металла в которых изменяется от поверхности к ядру: поверхность частиц обогащена платиной, а ядро состоит преимущественно из меди и кобальта. Первые испытания этого катализатора показали эффективность, превышающую аналогичный показатель современных катализаторов для топливных элементов в 4–5 раз. Вдобавок нанокатализатор оказался существенно дешев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52:12Z</dcterms:created>
  <dc:creator>STALKER</dc:creator>
  <dc:description/>
  <dc:language>en-US</dc:language>
  <cp:lastModifiedBy>User</cp:lastModifiedBy>
  <dcterms:modified xsi:type="dcterms:W3CDTF">2010-01-26T05:17:18Z</dcterms:modified>
  <cp:revision>9</cp:revision>
  <dc:subject/>
  <dc:title>Водород-источник энергии</dc:title>
</cp:coreProperties>
</file>