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2.jpeg" ContentType="image/jpeg"/>
  <Override PartName="/ppt/media/image21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23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E6701-08FC-4CB7-851C-066949F5E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76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30080" y="4586760"/>
            <a:ext cx="86076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E040F-85E7-4E8A-A0BD-15B65AE79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0800" y="209988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30080" y="458676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0800" y="458676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23E05-A7B9-4212-94E8-666C0CDC9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0320" y="209988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50560" y="209988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30080" y="458676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0320" y="458676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50560" y="458676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05580-6C6A-4AA7-AD0A-B7F1DE185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730080" y="209988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0800" y="209988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730080" y="639360"/>
            <a:ext cx="86076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0800" y="209988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730080" y="458676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30080" y="209988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620EF-8225-440C-9A69-6F6628CA4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0800" y="209988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0800" y="458676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0800" y="209988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30080" y="4586760"/>
            <a:ext cx="86076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76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30080" y="4586760"/>
            <a:ext cx="86076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0800" y="209988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30080" y="458676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0800" y="458676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40320" y="209988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550560" y="209988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730080" y="458676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40320" y="458676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550560" y="458676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7F2A8-7A52-4C1A-AC89-04CE447B2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0800" y="209988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6C0DA-588E-44CF-88DC-2E3CF5B2D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77EC6-F7C1-4C41-8A82-06BA5F233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30080" y="639360"/>
            <a:ext cx="86076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82D11-7C85-42D6-B9AA-7D4E62C86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0800" y="209988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30080" y="458676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97DEB-E7DA-44E4-A980-690359A94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0800" y="209988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0800" y="458676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0F36F-1B3E-4E7E-8C79-F3705977B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0800" y="209988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30080" y="4586760"/>
            <a:ext cx="86076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662FE-6891-494E-B305-14909F94E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3A0EDA-FE95-4B34-9F2B-878EABA3595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30080" y="209988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1512720" cy="7559640"/>
          </a:xfrm>
          <a:custGeom>
            <a:avLst/>
            <a:gdLst>
              <a:gd name="textAreaLeft" fmla="*/ 360 w 1512720"/>
              <a:gd name="textAreaRight" fmla="*/ 1512360 w 1512720"/>
              <a:gd name="textAreaTop" fmla="*/ 360 h 7559640"/>
              <a:gd name="textAreaBottom" fmla="*/ 7559280 h 7559640"/>
            </a:gdLst>
            <a:ahLst/>
            <a:rect l="textAreaLeft" t="textAreaTop" r="textAreaRight" b="textAreaBottom"/>
            <a:pathLst>
              <a:path w="21600" h="107923">
                <a:moveTo>
                  <a:pt x="22" y="0"/>
                </a:moveTo>
                <a:arcTo wR="22" hR="22" stAng="16200000" swAng="-5400000"/>
                <a:lnTo>
                  <a:pt x="0" y="107901"/>
                </a:lnTo>
                <a:arcTo wR="22" hR="22" stAng="10800000" swAng="-5400000"/>
                <a:lnTo>
                  <a:pt x="21578" y="107923"/>
                </a:lnTo>
                <a:arcTo wR="22" hR="22" stAng="5400000" swAng="-5400000"/>
                <a:lnTo>
                  <a:pt x="21600" y="22"/>
                </a:lnTo>
                <a:arcTo wR="22" hR="22" stAng="0" swAng="-5400000"/>
                <a:close/>
              </a:path>
            </a:pathLst>
          </a:custGeom>
          <a:solidFill>
            <a:srgbClr val="00008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527120" y="0"/>
            <a:ext cx="38160" cy="7559640"/>
          </a:xfrm>
          <a:custGeom>
            <a:avLst/>
            <a:gdLst>
              <a:gd name="textAreaLeft" fmla="*/ 360 w 38160"/>
              <a:gd name="textAreaRight" fmla="*/ 37800 w 38160"/>
              <a:gd name="textAreaTop" fmla="*/ 360 h 7559640"/>
              <a:gd name="textAreaBottom" fmla="*/ 7559280 h 7559640"/>
            </a:gdLst>
            <a:ahLst/>
            <a:rect l="textAreaLeft" t="textAreaTop" r="textAreaRight" b="textAreaBottom"/>
            <a:pathLst>
              <a:path w="21600" h="4239252">
                <a:moveTo>
                  <a:pt x="900" y="0"/>
                </a:moveTo>
                <a:arcTo wR="900" hR="900" stAng="16200000" swAng="-5400000"/>
                <a:lnTo>
                  <a:pt x="0" y="4238352"/>
                </a:lnTo>
                <a:arcTo wR="900" hR="900" stAng="10800000" swAng="-5400000"/>
                <a:lnTo>
                  <a:pt x="20700" y="4239252"/>
                </a:lnTo>
                <a:arcTo wR="900" hR="900" stAng="5400000" swAng="-5400000"/>
                <a:lnTo>
                  <a:pt x="21600" y="900"/>
                </a:lnTo>
                <a:arcTo wR="900" hR="900" stAng="0" swAng="-5400000"/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6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6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6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6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30080" y="612720"/>
            <a:ext cx="8609040" cy="13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471680" y="2160360"/>
            <a:ext cx="860904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34200" bIns="0" anchor="t">
            <a:normAutofit/>
          </a:bodyPr>
          <a:p>
            <a:pPr marL="431640" indent="-323640">
              <a:lnSpc>
                <a:spcPct val="95000"/>
              </a:lnSpc>
              <a:spcAft>
                <a:spcPts val="1412"/>
              </a:spcAft>
              <a:buClr>
                <a:srgbClr val="00ffff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Автор:Коршунова Алена 8а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12"/>
              </a:spcAft>
              <a:buClr>
                <a:srgbClr val="00ffff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Школа №11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12"/>
              </a:spcAft>
              <a:buClr>
                <a:srgbClr val="00ffff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Город Жуковский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12"/>
              </a:spcAft>
              <a:buClr>
                <a:srgbClr val="00ffff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2013год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440000" y="53964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95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700" spc="-1" strike="noStrike">
                <a:solidFill>
                  <a:srgbClr val="ff0000"/>
                </a:solidFill>
                <a:latin typeface="Times New Roman"/>
              </a:rPr>
              <a:t>Музей в городе Зарайске.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649600" y="2257560"/>
            <a:ext cx="6350040" cy="47624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11320" y="53964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95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700" spc="-1" strike="noStrike">
                <a:solidFill>
                  <a:srgbClr val="ff0000"/>
                </a:solidFill>
                <a:latin typeface="Times New Roman"/>
              </a:rPr>
              <a:t>Краевеческий музей.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962000" y="2048040"/>
            <a:ext cx="3436920" cy="22716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2160720" y="4500720"/>
            <a:ext cx="3028680" cy="22716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5580000" y="2160720"/>
            <a:ext cx="4200480" cy="46796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92040" y="538200"/>
            <a:ext cx="860868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95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700" spc="-1" strike="noStrike">
                <a:solidFill>
                  <a:srgbClr val="ff0000"/>
                </a:solidFill>
                <a:latin typeface="Times New Roman"/>
              </a:rPr>
              <a:t>Дмитрий Пожарский.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800360" y="2610000"/>
            <a:ext cx="4200480" cy="31492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148440" y="1979640"/>
            <a:ext cx="3571920" cy="47624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30080" y="63972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95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700" spc="-1" strike="noStrike">
                <a:solidFill>
                  <a:srgbClr val="ff0000"/>
                </a:solidFill>
                <a:latin typeface="Times New Roman"/>
              </a:rPr>
              <a:t>Кремль.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619280" y="2700360"/>
            <a:ext cx="4200480" cy="32400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5880240" y="2700360"/>
            <a:ext cx="4200480" cy="32400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440000" y="360360"/>
            <a:ext cx="860904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Зарайск происходит от мученического подвига княгини Евпраксии, которая чтобы не достаться воинам Батыя выбросилась со своим сыном из окна крепостной башни (или терема), и упав "заразилась о землю", т.е. убилась насмерть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3419640" y="2436840"/>
            <a:ext cx="3574800" cy="47624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79640" y="539640"/>
            <a:ext cx="8609040" cy="1317600"/>
          </a:xfrm>
          <a:prstGeom prst="rect">
            <a:avLst/>
          </a:prstGeom>
          <a:noFill/>
          <a:ln w="0">
            <a:noFill/>
          </a:ln>
        </p:spPr>
        <p:txBody>
          <a:bodyPr lIns="0" rIns="0" tIns="295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700" spc="-1" strike="noStrike">
                <a:solidFill>
                  <a:srgbClr val="ff0000"/>
                </a:solidFill>
                <a:latin typeface="Times New Roman"/>
              </a:rPr>
              <a:t>Зарайск,  </a:t>
            </a:r>
            <a:br>
              <a:rPr sz="4700"/>
            </a:br>
            <a:r>
              <a:rPr b="0" lang="ru-RU" sz="4700" spc="-1" strike="noStrike">
                <a:solidFill>
                  <a:srgbClr val="ff0000"/>
                </a:solidFill>
                <a:latin typeface="Times New Roman"/>
              </a:rPr>
              <a:t>Церковь Иоанна Предтечи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2160720" y="2436840"/>
            <a:ext cx="7138800" cy="47624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40000" y="184320"/>
            <a:ext cx="8609040" cy="1976400"/>
          </a:xfrm>
          <a:prstGeom prst="rect">
            <a:avLst/>
          </a:prstGeom>
          <a:noFill/>
          <a:ln w="0">
            <a:noFill/>
          </a:ln>
        </p:spPr>
        <p:txBody>
          <a:bodyPr lIns="0" rIns="0" tIns="295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700" spc="-1" strike="noStrike">
                <a:solidFill>
                  <a:srgbClr val="ff0000"/>
                </a:solidFill>
                <a:latin typeface="Times New Roman"/>
              </a:rPr>
              <a:t>Памятник воинам-зарайцам, погибшим во время Великой Отечественной войны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2619360" y="2257560"/>
            <a:ext cx="6350040" cy="47624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619280" y="53964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95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700" spc="-1" strike="noStrike">
                <a:solidFill>
                  <a:srgbClr val="ff0000"/>
                </a:solidFill>
                <a:latin typeface="Times New Roman"/>
              </a:rPr>
              <a:t>Здание администрации зарайска.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935000" y="2160720"/>
            <a:ext cx="7243920" cy="47624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71680" y="53964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95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700" spc="-1" strike="noStrike">
                <a:solidFill>
                  <a:srgbClr val="ff0000"/>
                </a:solidFill>
                <a:latin typeface="Times New Roman"/>
              </a:rPr>
              <a:t>Культурный центр города.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979640" y="2160720"/>
            <a:ext cx="7121520" cy="47624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619280" y="71748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95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700" spc="-1" strike="noStrike">
                <a:solidFill>
                  <a:srgbClr val="ff0000"/>
                </a:solidFill>
                <a:latin typeface="Times New Roman"/>
              </a:rPr>
              <a:t>Памятник В.И.Ленину.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205000" y="2436840"/>
            <a:ext cx="7155000" cy="47624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30080" y="63972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700" spc="-1" strike="noStrike">
                <a:solidFill>
                  <a:srgbClr val="ff420e"/>
                </a:solidFill>
                <a:latin typeface="AR BERKLEY"/>
              </a:rPr>
              <a:t>Город Зарайск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860480" y="2039760"/>
            <a:ext cx="7164360" cy="47628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30080" y="63972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95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700" spc="-1" strike="noStrike">
                <a:solidFill>
                  <a:srgbClr val="ff0000"/>
                </a:solidFill>
                <a:latin typeface="Times New Roman"/>
              </a:rPr>
              <a:t>Торговая площадь.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468520" y="1897200"/>
            <a:ext cx="6350040" cy="47624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739880" y="1619280"/>
            <a:ext cx="4200480" cy="279540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60360" y="35712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95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700" spc="-1" strike="noStrike">
                <a:solidFill>
                  <a:srgbClr val="ff0000"/>
                </a:solidFill>
                <a:latin typeface="Times New Roman"/>
              </a:rPr>
              <a:t>Белый святой источник.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5759280" y="4583160"/>
            <a:ext cx="4200840" cy="27954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471680" y="482760"/>
            <a:ext cx="8609040" cy="1317600"/>
          </a:xfrm>
          <a:prstGeom prst="rect">
            <a:avLst/>
          </a:prstGeom>
          <a:noFill/>
          <a:ln w="0">
            <a:noFill/>
          </a:ln>
        </p:spPr>
        <p:txBody>
          <a:bodyPr lIns="0" rIns="0" tIns="295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700" spc="-1" strike="noStrike">
                <a:solidFill>
                  <a:srgbClr val="ff0000"/>
                </a:solidFill>
                <a:latin typeface="Times New Roman"/>
              </a:rPr>
              <a:t>Сей крест установлен на месте разрушенной церкви в 1938 году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340000" y="2076480"/>
            <a:ext cx="7155000" cy="47624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11320" y="71748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95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700" spc="-1" strike="noStrike">
                <a:solidFill>
                  <a:srgbClr val="ff0000"/>
                </a:solidFill>
                <a:latin typeface="Times New Roman"/>
              </a:rPr>
              <a:t>Водонапорная башня.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205000" y="2160720"/>
            <a:ext cx="7155000" cy="47624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471680" y="53964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95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700" spc="-1" strike="noStrike">
                <a:solidFill>
                  <a:srgbClr val="ff0000"/>
                </a:solidFill>
                <a:latin typeface="Times New Roman"/>
              </a:rPr>
              <a:t>Автостоянка.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781280" y="2257560"/>
            <a:ext cx="8118360" cy="47624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92040" y="717480"/>
            <a:ext cx="860868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95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700" spc="-1" strike="noStrike">
                <a:solidFill>
                  <a:srgbClr val="ff0000"/>
                </a:solidFill>
                <a:latin typeface="Times New Roman"/>
              </a:rPr>
              <a:t>Приезжайте в город Зарайск!!!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rcRect l="2516" t="1741" r="2562" b="3774"/>
          <a:stretch/>
        </p:blipFill>
        <p:spPr>
          <a:xfrm>
            <a:off x="2163600" y="1979640"/>
            <a:ext cx="7016760" cy="47624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30080" y="612720"/>
            <a:ext cx="8609040" cy="13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1859040" y="720720"/>
            <a:ext cx="7680240" cy="61437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30080" y="612720"/>
            <a:ext cx="8609040" cy="13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rcRect l="0" t="0" r="0" b="8214"/>
          <a:stretch/>
        </p:blipFill>
        <p:spPr>
          <a:xfrm>
            <a:off x="1619280" y="1004760"/>
            <a:ext cx="8474040" cy="60152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30080" y="63972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95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700" spc="-1" strike="noStrike">
                <a:solidFill>
                  <a:srgbClr val="ff0000"/>
                </a:solidFill>
                <a:latin typeface="Times New Roman"/>
              </a:rPr>
              <a:t>Основание города.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440000" y="1709280"/>
            <a:ext cx="8609040" cy="54896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431640" indent="-323640">
              <a:lnSpc>
                <a:spcPct val="95000"/>
              </a:lnSpc>
              <a:spcAft>
                <a:spcPts val="1412"/>
              </a:spcAft>
              <a:buClr>
                <a:srgbClr val="00ffff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первые Зарайск упоминается в Никоновской (как град Осётр) и Ипатьевской (под названием Осётр) летописях в 1146 году. Впоследствии он, по всей видимости, был сожжен кочевниками. Следующее упоминание вновь отстроенного города относится к 1225 году: в «Повести о принесении иконы Николы Заразского из Корсуня» будущий Зарайск назван Красным. В этом году из Корсуня (Херсонеса) в Красный был перенесен чудотворный образ святителя Николая Чудотворца (Корсунского). Вскоре был построен деревянный храм в честь этого святого. Позже в этом храме был создан цикл «Повестей о Николе Заразском», к которому относится, в частности, Повесть о разорении Рязани Батыем. Первым известным удельным князем города был Фёдор Юрьевич, сын Рязанского князя Юрия Игоревича. При нём в городе был возведен дерево-земляной Острог, обнесенный валами и рвами с водо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30080" y="63972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95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700" spc="-1" strike="noStrike">
                <a:solidFill>
                  <a:srgbClr val="ff0000"/>
                </a:solidFill>
                <a:latin typeface="Times New Roman"/>
              </a:rPr>
              <a:t>Герб.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554120" y="2341440"/>
            <a:ext cx="456552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rmAutofit/>
          </a:bodyPr>
          <a:p>
            <a:pPr marL="43164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Геральдическое описание герба Зарайска, высочайше утверждённого 29 марта 1779 года (повторно утвержден в 1991 году), гласит: «В первой части щита, в золотом поле, часть герба Рязанского: серебряный меч и ножны, положенные накрест; над ними зелёная шапка, какова на князе в наместническом гербе. Во второй части щита, на голубом поле, старая городская башня, освещённая восходящим солнцем, означающим, что сей город новым учреждением паки возобновлён»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6119640" y="2160720"/>
            <a:ext cx="3780000" cy="45241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30080" y="63972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95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700" spc="-1" strike="noStrike">
                <a:solidFill>
                  <a:srgbClr val="ff0000"/>
                </a:solidFill>
                <a:latin typeface="Times New Roman"/>
              </a:rPr>
              <a:t>Стоянка в Зарайске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619280" y="2257200"/>
            <a:ext cx="484992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10080" bIns="0" anchor="t">
            <a:normAutofit/>
          </a:bodyPr>
          <a:p>
            <a:pPr marL="431640" indent="-323640">
              <a:lnSpc>
                <a:spcPct val="95000"/>
              </a:lnSpc>
              <a:spcAft>
                <a:spcPts val="1412"/>
              </a:spcAft>
              <a:buClr>
                <a:srgbClr val="00ffff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Зарайская стоянка эпохи верхнего палеолита. Это — наиболее древнее из ныне обнаруженных поселений человека на территории к северу от Костёнок. Открыта в 1980 году. Регулярные раскопки ведутся Зарайской верхнепалеолитической экспедицией Института археологии РАН. Стоянка является памятником истории, археологии и культуры федерального значения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12"/>
              </a:spcAft>
              <a:buClr>
                <a:srgbClr val="00ffff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 2008 году на стоянке были найдены ребро мамонта с нарисованными на нём фигурками, предположительно, изображающих трёх мамонтов; небольшая кость с x-образным орнаментом; две человеческие фигурки (вероятно — женские) и конусообразный предмет, вырезанный из кости мамонта, чьё назначение представляет собой настоящую загадку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6485040" y="2160720"/>
            <a:ext cx="3414600" cy="45003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558800" y="2660760"/>
            <a:ext cx="4200480" cy="363852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92040" y="539640"/>
            <a:ext cx="860868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95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700" spc="-1" strike="noStrike">
                <a:solidFill>
                  <a:srgbClr val="ff0000"/>
                </a:solidFill>
                <a:latin typeface="Times New Roman"/>
              </a:rPr>
              <a:t>Раскопки.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5759280" y="2700360"/>
            <a:ext cx="4200840" cy="36003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30080" y="63972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95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700" spc="-1" strike="noStrike">
                <a:solidFill>
                  <a:srgbClr val="ff0000"/>
                </a:solidFill>
                <a:latin typeface="Times New Roman"/>
              </a:rPr>
              <a:t>Расположение города.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739880" y="2367000"/>
            <a:ext cx="4200480" cy="285444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758920" y="1979280"/>
            <a:ext cx="420084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marL="431640" indent="-323640">
              <a:lnSpc>
                <a:spcPct val="95000"/>
              </a:lnSpc>
              <a:spcAft>
                <a:spcPts val="1412"/>
              </a:spcAft>
              <a:buClr>
                <a:srgbClr val="00ffff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Город расположен в центре европейской части России, на северо-восточном склоне Среднерусской возвышенности в 162 км от Москвы. Площадь города составляет 2046 га[2], по его территории протекает река Осётр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11320" y="53964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95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700" spc="-1" strike="noStrike">
                <a:solidFill>
                  <a:srgbClr val="ff0000"/>
                </a:solidFill>
                <a:latin typeface="Times New Roman"/>
              </a:rPr>
              <a:t>Название города.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471680" y="2160720"/>
            <a:ext cx="860904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431640" indent="-323640">
              <a:lnSpc>
                <a:spcPct val="95000"/>
              </a:lnSpc>
              <a:spcAft>
                <a:spcPts val="1412"/>
              </a:spcAft>
              <a:buClr>
                <a:srgbClr val="00ffff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звание города происходит от древнерусского слова «зараз», означающего «обрыв берега реки»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12"/>
              </a:spcAft>
              <a:buClr>
                <a:srgbClr val="00ffff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звание «Зарайск» происходит от слова «ряса» (болото): город относительно Рязани находился за болотами, или «за рясками»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12"/>
              </a:spcAft>
              <a:buClr>
                <a:srgbClr val="00ffff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звание пошло от места в городе, где во время эпидемий холеры и чумы хоронили умерши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12"/>
              </a:spcAft>
              <a:buClr>
                <a:srgbClr val="00ffff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 версии историка М. Н. Тихомирова, название города произошло от слова «зараза» (непроходимый, заповедный лес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60360" y="53820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95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700" spc="-1" strike="noStrike">
                <a:solidFill>
                  <a:srgbClr val="ff0000"/>
                </a:solidFill>
                <a:latin typeface="Times New Roman"/>
              </a:rPr>
              <a:t>Река Осетр.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025720" y="2160720"/>
            <a:ext cx="7154640" cy="47624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9T05:38:08Z</dcterms:created>
  <dc:creator/>
  <dc:description/>
  <dc:language>en-US</dc:language>
  <cp:lastModifiedBy/>
  <cp:revision>0</cp:revision>
  <dc:subject/>
  <dc:title/>
</cp:coreProperties>
</file>