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765-CB2C-4C70-ACC3-C42572DB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5A4-1869-474E-BA6B-2D25CC4C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47F-5FE5-437F-B199-733078D2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7F3-FA35-4264-8694-1938F198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B18-B987-49A7-94A3-5D8F12FD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9F2-6AA9-432C-9D5B-40DE011F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E3F-9AD9-4141-865F-753670A6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C13-9AD9-4D70-80A8-2454C6D7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0FB-5BC7-4D50-B351-43BA077C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9A7-235B-4CA5-AF9C-F041576E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5D1-BFC8-4BF0-9DF4-501A2E33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0FB-0B64-4DEF-8CCF-E7EC0E9C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D915E-6EF1-46F6-A66D-2F78539838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0080" y="61272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71680" y="216036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втор:Коршунова Алена 8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Школа №11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Город Жуковский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013год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000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Музей в городе Зарайске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49600" y="225756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132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Краевеческий музей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62000" y="2048040"/>
            <a:ext cx="3436920" cy="227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60720" y="4500720"/>
            <a:ext cx="3028680" cy="2271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580000" y="2160720"/>
            <a:ext cx="4200480" cy="467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2040" y="538200"/>
            <a:ext cx="8608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Дмитрий Пожарский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00360" y="2610000"/>
            <a:ext cx="4200480" cy="3149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48440" y="197964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Кремль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2700360"/>
            <a:ext cx="420048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880240" y="2700360"/>
            <a:ext cx="420048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0000" y="360360"/>
            <a:ext cx="860904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райск происходит от мученического подвига княгини Евпраксии, которая чтобы не достаться воинам Батыя выбросилась со своим сыном из окна крепостной башни (или терема), и упав "заразилась о землю", т.е. убилась насмерт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419640" y="2436840"/>
            <a:ext cx="357480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640" y="53964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Зарайск,  </a:t>
            </a:r>
            <a:br>
              <a:rPr sz="4700"/>
            </a:b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Церковь Иоанна Предтечи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60720" y="2436840"/>
            <a:ext cx="713880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0000" y="184320"/>
            <a:ext cx="860904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Памятник воинам-зарайцам, погибшим во время Великой Отечественной войн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19360" y="225756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928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Здание администрации зарайск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35000" y="2160720"/>
            <a:ext cx="724392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168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Культурный центр город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79640" y="2160720"/>
            <a:ext cx="712152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717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Памятник В.И.Ленину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05000" y="2436840"/>
            <a:ext cx="715500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420e"/>
                </a:solidFill>
                <a:latin typeface="AR BERKLEY"/>
              </a:rPr>
              <a:t>Город Зарайск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60480" y="2039760"/>
            <a:ext cx="716436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Торговая площадь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68520" y="189720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39880" y="1619280"/>
            <a:ext cx="4200480" cy="2795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0360" y="357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Белый святой источник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59280" y="4583160"/>
            <a:ext cx="4200840" cy="2795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1680" y="48276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Сей крест установлен на месте разрушенной церкви в 1938 году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40000" y="2076480"/>
            <a:ext cx="715500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1320" y="717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Водонапорная башня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05000" y="2160720"/>
            <a:ext cx="715500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168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Автостоянк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81280" y="2257560"/>
            <a:ext cx="811836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2040" y="717480"/>
            <a:ext cx="8608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Приезжайте в город Зарайск!!!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516" t="1741" r="2562" b="3774"/>
          <a:stretch/>
        </p:blipFill>
        <p:spPr>
          <a:xfrm>
            <a:off x="2163600" y="1979640"/>
            <a:ext cx="701676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0080" y="61272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59040" y="720720"/>
            <a:ext cx="7680240" cy="6143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080" y="61272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0" r="0" b="8214"/>
          <a:stretch/>
        </p:blipFill>
        <p:spPr>
          <a:xfrm>
            <a:off x="1619280" y="1004760"/>
            <a:ext cx="8474040" cy="6015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Основание город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0000" y="1709280"/>
            <a:ext cx="860904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Зарайск упоминается в Никоновской (как град Осётр) и Ипатьевской (под названием Осётр) летописях в 1146 году. Впоследствии он, по всей видимости, был сожжен кочевниками. Следующее упоминание вновь отстроенного города относится к 1225 году: в «Повести о принесении иконы Николы Заразского из Корсуня» будущий Зарайск назван Красным. В этом году из Корсуня (Херсонеса) в Красный был перенесен чудотворный образ святителя Николая Чудотворца (Корсунского). Вскоре был построен деревянный храм в честь этого святого. Позже в этом храме был создан цикл «Повестей о Николе Заразском», к которому относится, в частности, Повесть о разорении Рязани Батыем. Первым известным удельным князем города был Фёдор Юрьевич, сын Рязанского князя Юрия Игоревича. При нём в городе был возведен дерево-земляной Острог, обнесенный валами и рвами с вод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Герб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54120" y="2341440"/>
            <a:ext cx="45655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альдическое описание герба Зарайска, высочайше утверждённого 29 марта 1779 года (повторно утвержден в 1991 году), гласит: «В первой части щита, в золотом поле, часть герба Рязанского: серебряный меч и ножны, положенные накрест; над ними зелёная шапка, какова на князе в наместническом гербе. Во второй части щита, на голубом поле, старая городская башня, освещённая восходящим солнцем, означающим, что сей город новым учреждением паки возобновлён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9640" y="2160720"/>
            <a:ext cx="3780000" cy="4524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Стоянка в Зарайске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2257200"/>
            <a:ext cx="48499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райская стоянка эпохи верхнего палеолита. Это — наиболее древнее из ныне обнаруженных поселений человека на территории к северу от Костёнок. Открыта в 1980 году. Регулярные раскопки ведутся Зарайской верхнепалеолитической экспедицией Института археологии РАН. Стоянка является памятником истории, археологии и культуры федерального знач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2008 году на стоянке были найдены ребро мамонта с нарисованными на нём фигурками, предположительно, изображающих трёх мамонтов; небольшая кость с x-образным орнаментом; две человеческие фигурки (вероятно — женские) и конусообразный предмет, вырезанный из кости мамонта, чьё назначение представляет собой настоящую загадк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85040" y="2160720"/>
            <a:ext cx="341460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58800" y="2660760"/>
            <a:ext cx="4200480" cy="3638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2040" y="539640"/>
            <a:ext cx="8608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Раскопки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59280" y="2700360"/>
            <a:ext cx="420084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Расположение город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39880" y="2367000"/>
            <a:ext cx="4200480" cy="285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58920" y="1979280"/>
            <a:ext cx="42008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род расположен в центре европейской части России, на северо-восточном склоне Среднерусской возвышенности в 162 км от Москвы. Площадь города составляет 2046 га[2], по его территории протекает река Осёт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132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Название город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71680" y="2160720"/>
            <a:ext cx="86090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ние города происходит от древнерусского слова «зараз», означающего «обрыв берега реки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ние «Зарайск» происходит от слова «ряса» (болото): город относительно Рязани находился за болотами, или «за рясками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ние пошло от места в городе, где во время эпидемий холеры и чумы хоронили умерш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версии историка М. Н. Тихомирова, название города произошло от слова «зараза» (непроходимый, заповедный лес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0360" y="5382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Река Осетр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25720" y="2160720"/>
            <a:ext cx="715464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05:38:08Z</dcterms:created>
  <dc:creator/>
  <dc:description/>
  <dc:language>en-US</dc:language>
  <cp:lastModifiedBy/>
  <cp:revision>0</cp:revision>
  <dc:subject/>
  <dc:title/>
</cp:coreProperties>
</file>