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C7C-7203-45E4-91B9-B4DB781F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D365-A634-46DB-B146-FC3B9445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9D0-7E1E-4324-AA33-1D42AE9D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A5E7-E814-4C70-BAF6-6B56FF15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C99-630A-4546-99A6-CEA5BFD4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032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58676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1E3-8279-481D-85E4-4CBC9BDD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753-53FB-402E-8FF7-1E4B3D9D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41C-676A-4F66-A1F3-E725E7F2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4A9-6F2D-4B3B-8E2E-27037B6A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5381-446C-484B-80F1-4002BC79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58676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351-544F-466D-8470-D1522E3C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58676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96F-7908-451D-9DC0-0092A0F3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C8F3D-8EF9-4B8A-A71F-C99F65355E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0080" y="612720"/>
            <a:ext cx="8609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71680" y="216036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втор:Коршунова Алена 8а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Школа №11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Город Жуковский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2013год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000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Музей в городе Зарайске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49600" y="225756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132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Краевеческий музей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62000" y="2048040"/>
            <a:ext cx="3436920" cy="227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60720" y="4500720"/>
            <a:ext cx="3028680" cy="2271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580000" y="2160720"/>
            <a:ext cx="4200480" cy="467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2040" y="538200"/>
            <a:ext cx="8608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Дмитрий Пожарский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00360" y="2610000"/>
            <a:ext cx="4200480" cy="3149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48440" y="197964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Кремль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2700360"/>
            <a:ext cx="420048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880240" y="2700360"/>
            <a:ext cx="420048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0000" y="360360"/>
            <a:ext cx="860904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райск происходит от мученического подвига княгини Евпраксии, которая чтобы не достаться воинам Батыя выбросилась со своим сыном из окна крепостной башни (или терема), и упав "заразилась о землю", т.е. убилась насмерт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419640" y="2436840"/>
            <a:ext cx="357480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640" y="539640"/>
            <a:ext cx="8609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Зарайск,  </a:t>
            </a:r>
            <a:br>
              <a:rPr sz="4700"/>
            </a:b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Церковь Иоанна Предтечи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60720" y="2436840"/>
            <a:ext cx="713880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0000" y="184320"/>
            <a:ext cx="8609040" cy="19764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Памятник воинам-зарайцам, погибшим во время Великой Отечественной войн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19360" y="225756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928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Здание администрации зарайск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35000" y="2160720"/>
            <a:ext cx="724392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168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Культурный центр город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79640" y="2160720"/>
            <a:ext cx="712152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9280" y="717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Памятник В.И.Ленину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05000" y="2436840"/>
            <a:ext cx="715500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420e"/>
                </a:solidFill>
                <a:latin typeface="AR BERKLEY"/>
              </a:rPr>
              <a:t>Город Зарайск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60480" y="2039760"/>
            <a:ext cx="7164360" cy="4762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Торговая площадь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68520" y="189720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39880" y="1619280"/>
            <a:ext cx="4200480" cy="2795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0360" y="3571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Белый святой источник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59280" y="4583160"/>
            <a:ext cx="4200840" cy="2795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1680" y="482760"/>
            <a:ext cx="8609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Сей крест установлен на месте разрушенной церкви в 1938 году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340000" y="2076480"/>
            <a:ext cx="715500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1320" y="717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Водонапорная башня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05000" y="2160720"/>
            <a:ext cx="715500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168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Автостоянк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81280" y="2257560"/>
            <a:ext cx="811836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2040" y="717480"/>
            <a:ext cx="8608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Приезжайте в город Зарайск!!!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516" t="1741" r="2562" b="3774"/>
          <a:stretch/>
        </p:blipFill>
        <p:spPr>
          <a:xfrm>
            <a:off x="2163600" y="1979640"/>
            <a:ext cx="701676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0080" y="612720"/>
            <a:ext cx="8609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59040" y="720720"/>
            <a:ext cx="7680240" cy="6143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0080" y="612720"/>
            <a:ext cx="86090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0" r="0" b="8214"/>
          <a:stretch/>
        </p:blipFill>
        <p:spPr>
          <a:xfrm>
            <a:off x="1619280" y="1004760"/>
            <a:ext cx="8474040" cy="6015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Основание город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0000" y="1709280"/>
            <a:ext cx="860904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вые Зарайск упоминается в Никоновской (как град Осётр) и Ипатьевской (под названием Осётр) летописях в 1146 году. Впоследствии он, по всей видимости, был сожжен кочевниками. Следующее упоминание вновь отстроенного города относится к 1225 году: в «Повести о принесении иконы Николы Заразского из Корсуня» будущий Зарайск назван Красным. В этом году из Корсуня (Херсонеса) в Красный был перенесен чудотворный образ святителя Николая Чудотворца (Корсунского). Вскоре был построен деревянный храм в честь этого святого. Позже в этом храме был создан цикл «Повестей о Николе Заразском», к которому относится, в частности, Повесть о разорении Рязани Батыем. Первым известным удельным князем города был Фёдор Юрьевич, сын Рязанского князя Юрия Игоревича. При нём в городе был возведен дерево-земляной Острог, обнесенный валами и рвами с вод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Герб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54120" y="2341440"/>
            <a:ext cx="45655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альдическое описание герба Зарайска, высочайше утверждённого 29 марта 1779 года (повторно утвержден в 1991 году), гласит: «В первой части щита, в золотом поле, часть герба Рязанского: серебряный меч и ножны, положенные накрест; над ними зелёная шапка, какова на князе в наместническом гербе. Во второй части щита, на голубом поле, старая городская башня, освещённая восходящим солнцем, означающим, что сей город новым учреждением паки возобновлён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9640" y="2160720"/>
            <a:ext cx="3780000" cy="4524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Стоянка в Зарайске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2257200"/>
            <a:ext cx="48499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райская стоянка эпохи верхнего палеолита. Это — наиболее древнее из ныне обнаруженных поселений человека на территории к северу от Костёнок. Открыта в 1980 году. Регулярные раскопки ведутся Зарайской верхнепалеолитической экспедицией Института археологии РАН. Стоянка является памятником истории, археологии и культуры федерального знач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2008 году на стоянке были найдены ребро мамонта с нарисованными на нём фигурками, предположительно, изображающих трёх мамонтов; небольшая кость с x-образным орнаментом; две человеческие фигурки (вероятно — женские) и конусообразный предмет, вырезанный из кости мамонта, чьё назначение представляет собой настоящую загадк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85040" y="2160720"/>
            <a:ext cx="341460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58800" y="2660760"/>
            <a:ext cx="4200480" cy="3638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2040" y="539640"/>
            <a:ext cx="86086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Раскопки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759280" y="2700360"/>
            <a:ext cx="420084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Расположение город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39880" y="2367000"/>
            <a:ext cx="4200480" cy="2854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58920" y="1979280"/>
            <a:ext cx="42008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род расположен в центре европейской части России, на северо-восточном склоне Среднерусской возвышенности в 162 км от Москвы. Площадь города составляет 2046 га[2], по его территории протекает река Осёт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1320" y="5396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Название города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71680" y="2160720"/>
            <a:ext cx="86090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ание города происходит от древнерусского слова «зараз», означающего «обрыв берега реки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ание «Зарайск» происходит от слова «ряса» (болото): город относительно Рязани находился за болотами, или «за рясками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ание пошло от места в городе, где во время эпидемий холеры и чумы хоронили умерш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версии историка М. Н. Тихомирова, название города произошло от слова «зараза» (непроходимый, заповедный лес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0360" y="5382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0000"/>
                </a:solidFill>
                <a:latin typeface="Times New Roman"/>
              </a:rPr>
              <a:t>Река Осетр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25720" y="2160720"/>
            <a:ext cx="715464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9T05:38:08Z</dcterms:created>
  <dc:creator/>
  <dc:description/>
  <dc:language>en-US</dc:language>
  <cp:lastModifiedBy/>
  <cp:revision>0</cp:revision>
  <dc:subject/>
  <dc:title/>
</cp:coreProperties>
</file>