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5F20-6AF4-4007-9DB1-9F9D9B77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C645-C4B4-4EF3-B4B2-0314709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4F12-6DCB-449A-B009-DDF06F79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6D67-0087-4971-8E0D-2B5850AE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5254-D1EA-4973-8A2C-8C1FB430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39B5-76A9-4803-A149-E7F6B74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3714B-E95D-4454-AC4E-517D56B0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6FAA3-1CD2-45C2-9C02-A3C8618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1322A-3182-4CA3-921C-205A7DE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D6FF-E0C4-4DAF-8F36-9F6297F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01D9-AE22-42C0-B925-6E1FF1A8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F82A-2151-4F98-A526-036C96F5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D1DDA-BE4D-4490-8403-730012D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BCBC-BCE8-4A0A-B419-D7CC929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7D59-F156-4F62-A757-B4405551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01B4F-C8A2-44E9-B59A-F656377F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14B5-39B8-4DCC-BFF7-2ABED8A4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779A8-F10F-4A9F-A815-20E0F95C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E8490-6800-4661-ACFC-9DD0929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5076D-1D8B-4639-B85F-7B881E6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179AA-8E9A-455D-8C1C-9A7FF6D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AB464-7223-480F-907F-BDA3874B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A92F-4D6D-478B-8B30-841B26A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67177-4CCD-4294-A732-C0AA4046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038CD-3923-4347-B3A7-F937287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1252A-5D94-4534-B378-D1B02E03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8614F-6F4D-43E2-A300-EA0440AC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43832-4CA0-42CB-AE82-A6048E03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AB11B-B361-4EE1-B169-B59AC127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104AA-A598-494F-925A-CD5FBF36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7827-CAF3-459C-BCC0-C5404309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90E3-F30B-47E7-A680-E5738C2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E10D-F391-45FE-B85E-C3C1F15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0485-9A6B-47E0-8329-F91BC4C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BFC7-A0CD-492C-B764-E570F84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FE70-378C-4131-BA22-0636B71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92E1-1BDE-4D40-AEE8-C9BF1B9237FD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36A-EB7C-47F8-940F-00663C9A6558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AB0-86E6-4DA6-9F02-2FDF3D444977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39640" y="2133360"/>
            <a:ext cx="583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Обучение приёмам создания коллажа в среде </a:t>
            </a:r>
            <a:r>
              <a:rPr b="0" lang="en-US" sz="2000" spc="-1" strike="noStrike">
                <a:solidFill>
                  <a:srgbClr val="5b6973"/>
                </a:solidFill>
                <a:latin typeface="Calibri"/>
              </a:rPr>
              <a:t>Adobe PhotoShop</a:t>
            </a: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 с использованием элементов деловой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6553440" cy="18781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4"/>
          <p:cNvSpPr/>
          <p:nvPr/>
        </p:nvSpPr>
        <p:spPr>
          <a:xfrm>
            <a:off x="1071720" y="1989000"/>
            <a:ext cx="590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692360" y="60055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амский Сергей Сергееви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группы 09П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Объект 8"/>
          <p:cNvGraphicFramePr/>
          <p:nvPr/>
        </p:nvGraphicFramePr>
        <p:xfrm>
          <a:off x="793800" y="3467160"/>
          <a:ext cx="200016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3800" y="3467160"/>
                    <a:ext cx="20001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Рисунок 2" descr="Описание: Картинка 6 из 96000"/>
          <p:cNvPicPr/>
          <p:nvPr/>
        </p:nvPicPr>
        <p:blipFill>
          <a:blip r:embed="rId4"/>
          <a:srcRect l="14483" t="0" r="15322" b="0"/>
          <a:stretch/>
        </p:blipFill>
        <p:spPr>
          <a:xfrm>
            <a:off x="1585800" y="2890800"/>
            <a:ext cx="1995480" cy="284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5"/>
          <a:srcRect l="24419" t="36492" r="48487" b="17721"/>
          <a:stretch/>
        </p:blipFill>
        <p:spPr>
          <a:xfrm>
            <a:off x="4184640" y="3789360"/>
            <a:ext cx="1611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Завершение самостоятельной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ведение итогов всего занятия 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1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SeventhEVIL\AppData\Local\Microsoft\Windows\Temporary Internet Files\Content.IE5\T0Q5NG4X\MC900279672[1].wmf"/>
          <p:cNvPicPr/>
          <p:nvPr/>
        </p:nvPicPr>
        <p:blipFill>
          <a:blip r:embed="rId2"/>
          <a:stretch/>
        </p:blipFill>
        <p:spPr>
          <a:xfrm>
            <a:off x="5508720" y="2924280"/>
            <a:ext cx="2654280" cy="282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SeventhEVIL\AppData\Local\Microsoft\Windows\Temporary Internet Files\Content.IE5\Q6MRE6RU\MC900230516[1].wmf"/>
          <p:cNvPicPr/>
          <p:nvPr/>
        </p:nvPicPr>
        <p:blipFill>
          <a:blip r:embed="rId3"/>
          <a:stretch/>
        </p:blipFill>
        <p:spPr>
          <a:xfrm>
            <a:off x="971640" y="2924280"/>
            <a:ext cx="2482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1125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и приобретены навыки построения коллажа сначала без привязки к ПК, а затем при решении данной задачи в виртуальной сре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ы ЗУН работы с объектами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ы навыки работы в творческом коллекти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результатам деловой игры созданы: 2-3 коллажа в виде апплик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де урока каждый обучающийся создал свой собственный коллаж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-19080" y="115920"/>
            <a:ext cx="82612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66952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урока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и контроль ЗУН работы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 выделенными объ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 урока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бинирова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 урок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еловая иг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тельност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занят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практические навыки работы с инструментами выделения в Adobe PhotoShop и копированием фрагментов изображения на новый ли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ЗУН работы с инструментом движения выделенного фрагмента изображ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учить построению художественной композиции – колла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развитие памяти, внимания, творческого мышления, самостоятельности при работе с программным продук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в коллективе; продолжить воспитание аккуратности, терпения, усидчив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гляд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монстрация, иллюстрация, маке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ловая иг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ес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раткая обзорная лекция, бесед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оздание коллажа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е сред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, оборудованный П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dobe PhotoSho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ы изобра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ечатанные изоб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Введение в 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кая информация о требованиях на данном уроке и поставленной цел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 мину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знаний о видах художественных композиций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ъяснение основных понятий по теме с наглядной демонстрацией: фрагмент, коллаж, стиль, стили коллаж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79280" y="6021360"/>
            <a:ext cx="1297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ивка обучающихся на 2-3 мини групп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правил деловой игр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9280" y="6021360"/>
            <a:ext cx="208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Users\SeventhEVIL\AppData\Local\Microsoft\Windows\Temporary Internet Files\Content.IE5\5JNDTK54\MC900297565[1].wmf"/>
          <p:cNvPicPr/>
          <p:nvPr/>
        </p:nvPicPr>
        <p:blipFill>
          <a:blip r:embed="rId2"/>
          <a:stretch/>
        </p:blipFill>
        <p:spPr>
          <a:xfrm>
            <a:off x="900000" y="3543480"/>
            <a:ext cx="2970360" cy="190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SeventhEVIL\AppData\Local\Microsoft\Windows\Temporary Internet Files\Content.IE5\0A4L2QRP\MP900433159[1].jpg"/>
          <p:cNvPicPr/>
          <p:nvPr/>
        </p:nvPicPr>
        <p:blipFill>
          <a:blip r:embed="rId3"/>
          <a:stretch/>
        </p:blipFill>
        <p:spPr>
          <a:xfrm>
            <a:off x="4427640" y="3213000"/>
            <a:ext cx="3959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родуктивная колле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мини групп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ие выполненной рабо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79280" y="6021360"/>
            <a:ext cx="49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4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SeventhEVIL\AppData\Local\Microsoft\Windows\Temporary Internet Files\Content.IE5\U3WG3E42\MC900231714[1].wmf"/>
          <p:cNvPicPr/>
          <p:nvPr/>
        </p:nvPicPr>
        <p:blipFill>
          <a:blip r:embed="rId2"/>
          <a:stretch/>
        </p:blipFill>
        <p:spPr>
          <a:xfrm>
            <a:off x="2978280" y="3357720"/>
            <a:ext cx="2755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Дискуссионная ча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результатов творческого взаимодействи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 на понятие «фон для коллажа» через постановку проблемного вопрос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вариантов возможного фона для созданных коллаже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179280" y="6021360"/>
            <a:ext cx="67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2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SeventhEVIL\AppData\Local\Microsoft\Windows\Temporary Internet Files\Content.IE5\X1789JTX\MC900289982[1].wmf"/>
          <p:cNvPicPr/>
          <p:nvPr/>
        </p:nvPicPr>
        <p:blipFill>
          <a:blip r:embed="rId1"/>
          <a:stretch/>
        </p:blipFill>
        <p:spPr>
          <a:xfrm>
            <a:off x="6315120" y="4056120"/>
            <a:ext cx="2433600" cy="1965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оздание коллажа в графическом редак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ение с учащимися материала, изученного на предыдущих занятиях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нового задания – создать «тематический» коллаж и фон для него из доступных образцов графических изобра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ая зачётная работа учащихс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0 минут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Заголовок 2" descr=""/>
          <p:cNvPicPr/>
          <p:nvPr/>
        </p:nvPicPr>
        <p:blipFill>
          <a:blip r:embed="rId2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179280" y="6021360"/>
            <a:ext cx="806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3:55:25Z</dcterms:created>
  <dc:creator>SeventhEVIL</dc:creator>
  <dc:description/>
  <dc:language>en-US</dc:language>
  <cp:lastModifiedBy>SeventhEVIL</cp:lastModifiedBy>
  <cp:lastPrinted>2011-05-11T04:53:44Z</cp:lastPrinted>
  <dcterms:modified xsi:type="dcterms:W3CDTF">2011-05-11T04:57:24Z</dcterms:modified>
  <cp:revision>7</cp:revision>
  <dc:subject/>
  <dc:title>Урок по дисциплине ИКТ «Дизайнерский отдел»</dc:title>
</cp:coreProperties>
</file>