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A69A-4365-4FB7-B9F1-08BB3D98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1BE0-CDA7-4AA9-8C47-ED181FA9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5D93-A0B7-49D1-A580-8DEFEC4A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75A6-67F0-402C-9488-E05BAE06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07973-8B46-47EE-8538-234F4942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183A-0128-4166-84E3-E0A7A887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EE7E8-C593-402B-AD54-B0F91650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7612-025A-464E-AE0A-8BB441E1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3474B-95EB-429E-8A63-7517A9E2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F5CC3-4082-4042-BFEA-F94BB0C5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F672B-C665-426B-B2CE-8F89932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9480-500D-4552-8E13-0A58FDAD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2E63-ACB0-4990-BDCB-B10C5D0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D9D33-46A8-484C-A601-8B830458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AE5B1-8FFF-4E0E-810B-0EF10A3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BEAF-7E2D-4C40-AC50-D1F57753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CBA8B-7939-4F21-BD72-3254A6A1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99EB5-A019-48E9-A9F6-18B6F9FC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521A3-EBD5-4ECB-9240-2B98FCD2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2189D-AE4A-43ED-890F-416DFAB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6D335-A744-4A4D-9E3F-4A9D5E5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2ECA6-A2BD-46FC-B51B-1362E1E2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D1A2-E0CC-479C-8DB9-CDA1F036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58678-2A6B-4698-8C10-BE819D8D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C6BD2-BCCF-4659-AA1F-AF582E6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97391-FDC7-45A6-B53D-1A7766C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362C8-2187-4BB3-A89C-ECEE103E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57C98-2B20-49B1-A640-69123975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DD06A-E1B7-4272-9FF3-8D749245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2E04D-3307-403B-8139-2CA713FE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B3E0-0D26-4FAB-A735-93AFD32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DD1A-05F6-43C4-9D53-CBE97236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31D1-7EB2-4509-85CA-7F1A156B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9E2F-FDAA-42FA-BE56-ACC46985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BFBA-E413-41DF-AAEC-8728D19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EA42-1839-4F01-9A19-775C4F3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90B-3B84-4BA0-902A-C73AAF057A1A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7E2-4012-4B5F-A103-2DE5A0AFEC78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C69-BC60-46E2-A274-DBD854BEB64C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39640" y="2133360"/>
            <a:ext cx="583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6973"/>
                </a:solidFill>
                <a:latin typeface="Calibri"/>
              </a:rPr>
              <a:t>Обучение приёмам создания коллажа в среде </a:t>
            </a:r>
            <a:r>
              <a:rPr b="0" lang="en-US" sz="2000" spc="-1" strike="noStrike">
                <a:solidFill>
                  <a:srgbClr val="5b6973"/>
                </a:solidFill>
                <a:latin typeface="Calibri"/>
              </a:rPr>
              <a:t>Adobe PhotoShop</a:t>
            </a:r>
            <a:r>
              <a:rPr b="0" lang="ru-RU" sz="2000" spc="-1" strike="noStrike">
                <a:solidFill>
                  <a:srgbClr val="5b6973"/>
                </a:solidFill>
                <a:latin typeface="Calibri"/>
              </a:rPr>
              <a:t> с использованием элементов деловой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6553440" cy="18781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4"/>
          <p:cNvSpPr/>
          <p:nvPr/>
        </p:nvSpPr>
        <p:spPr>
          <a:xfrm>
            <a:off x="1071720" y="1989000"/>
            <a:ext cx="590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692360" y="60055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амский Сергей Сергеевич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группы 09П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Объект 8"/>
          <p:cNvGraphicFramePr/>
          <p:nvPr/>
        </p:nvGraphicFramePr>
        <p:xfrm>
          <a:off x="793800" y="3467160"/>
          <a:ext cx="200016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3800" y="3467160"/>
                    <a:ext cx="20001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Рисунок 2" descr="Описание: Картинка 6 из 96000"/>
          <p:cNvPicPr/>
          <p:nvPr/>
        </p:nvPicPr>
        <p:blipFill>
          <a:blip r:embed="rId4"/>
          <a:srcRect l="14483" t="0" r="15322" b="0"/>
          <a:stretch/>
        </p:blipFill>
        <p:spPr>
          <a:xfrm>
            <a:off x="1585800" y="2890800"/>
            <a:ext cx="1995480" cy="284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5"/>
          <a:srcRect l="24419" t="36492" r="48487" b="17721"/>
          <a:stretch/>
        </p:blipFill>
        <p:spPr>
          <a:xfrm>
            <a:off x="4184640" y="3789360"/>
            <a:ext cx="1611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Завершение самостоятельной раб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ведение итогов всего занятия 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1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SeventhEVIL\AppData\Local\Microsoft\Windows\Temporary Internet Files\Content.IE5\T0Q5NG4X\MC900279672[1].wmf"/>
          <p:cNvPicPr/>
          <p:nvPr/>
        </p:nvPicPr>
        <p:blipFill>
          <a:blip r:embed="rId2"/>
          <a:stretch/>
        </p:blipFill>
        <p:spPr>
          <a:xfrm>
            <a:off x="5508720" y="2924280"/>
            <a:ext cx="2654280" cy="282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SeventhEVIL\AppData\Local\Microsoft\Windows\Temporary Internet Files\Content.IE5\Q6MRE6RU\MC900230516[1].wmf"/>
          <p:cNvPicPr/>
          <p:nvPr/>
        </p:nvPicPr>
        <p:blipFill>
          <a:blip r:embed="rId3"/>
          <a:stretch/>
        </p:blipFill>
        <p:spPr>
          <a:xfrm>
            <a:off x="971640" y="2924280"/>
            <a:ext cx="2482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1125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и приобретены навыки построения коллажа сначала без привязки к ПК, а затем при решении данной задачи в виртуальной сре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ы ЗУН работы с объектами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ы навыки работы в творческом коллекти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результатам деловой игры созданы: 2-3 коллажа в виде апплик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ходе урока каждый обучающийся создал свой собственный коллаж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-19080" y="115920"/>
            <a:ext cx="82612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66952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урока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и контроль ЗУН работы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с выделенными объ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 урока: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бинирова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 урок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еловая иг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ительност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занят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50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репить практические навыки работы с инструментами выделения в Adobe PhotoShop и копированием фрагментов изображения на новый ли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репить ЗУН работы с инструментом движения выделенного фрагмента изображ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учить построению художественной композиции – колла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развитие памяти, внимания, творческого мышления, самостоятельности при работе с программным продук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в коллективе; продолжить воспитание аккуратности, терпения, усидчив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гляд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емонстрация, иллюстрация, маке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еловая иг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ес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раткая обзорная лекция, бесед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оздание коллажа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е сред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, оборудованный П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dobe PhotoSho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йлы изобра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ечатанные изоб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Введение в 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кая информация о требованиях на данном уроке и поставленной цели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1 мину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знаний о видах художественных композиций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ъяснение основных понятий по теме с наглядной демонстрацией: фрагмент, коллаж, стиль, стили коллаж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5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179280" y="6021360"/>
            <a:ext cx="1297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дготовительный эта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бивка обучающихся на 2-3 мини групп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правил деловой игр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79280" y="6021360"/>
            <a:ext cx="208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Users\SeventhEVIL\AppData\Local\Microsoft\Windows\Temporary Internet Files\Content.IE5\5JNDTK54\MC900297565[1].wmf"/>
          <p:cNvPicPr/>
          <p:nvPr/>
        </p:nvPicPr>
        <p:blipFill>
          <a:blip r:embed="rId2"/>
          <a:stretch/>
        </p:blipFill>
        <p:spPr>
          <a:xfrm>
            <a:off x="900000" y="3543480"/>
            <a:ext cx="2970360" cy="190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SeventhEVIL\AppData\Local\Microsoft\Windows\Temporary Internet Files\Content.IE5\0A4L2QRP\MP900433159[1].jpg"/>
          <p:cNvPicPr/>
          <p:nvPr/>
        </p:nvPicPr>
        <p:blipFill>
          <a:blip r:embed="rId3"/>
          <a:stretch/>
        </p:blipFill>
        <p:spPr>
          <a:xfrm>
            <a:off x="4427640" y="3213000"/>
            <a:ext cx="3959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родуктивная коллективн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в мини группа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8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ие выполненной работ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4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179280" y="6021360"/>
            <a:ext cx="496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4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SeventhEVIL\AppData\Local\Microsoft\Windows\Temporary Internet Files\Content.IE5\U3WG3E42\MC900231714[1].wmf"/>
          <p:cNvPicPr/>
          <p:nvPr/>
        </p:nvPicPr>
        <p:blipFill>
          <a:blip r:embed="rId2"/>
          <a:stretch/>
        </p:blipFill>
        <p:spPr>
          <a:xfrm>
            <a:off x="2978280" y="3357720"/>
            <a:ext cx="2755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Дискуссионная ча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ение результатов творческого взаимодействи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3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 на понятие «фон для коллажа» через постановку проблемного вопрос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ение вариантов возможного фона для созданных коллаже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3 мину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179280" y="6021360"/>
            <a:ext cx="676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2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SeventhEVIL\AppData\Local\Microsoft\Windows\Temporary Internet Files\Content.IE5\X1789JTX\MC900289982[1].wmf"/>
          <p:cNvPicPr/>
          <p:nvPr/>
        </p:nvPicPr>
        <p:blipFill>
          <a:blip r:embed="rId1"/>
          <a:stretch/>
        </p:blipFill>
        <p:spPr>
          <a:xfrm>
            <a:off x="6315120" y="4056120"/>
            <a:ext cx="2433600" cy="1965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оздание коллажа в графическом редак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ение с учащимися материала, изученного на предыдущих занятиях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4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нового задания – создать «тематический» коллаж и фон для него из доступных образцов графических изобра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ьная зачётная работа учащихс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10 минут)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Заголовок 2" descr=""/>
          <p:cNvPicPr/>
          <p:nvPr/>
        </p:nvPicPr>
        <p:blipFill>
          <a:blip r:embed="rId2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179280" y="6021360"/>
            <a:ext cx="806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8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3:55:25Z</dcterms:created>
  <dc:creator>SeventhEVIL</dc:creator>
  <dc:description/>
  <dc:language>en-US</dc:language>
  <cp:lastModifiedBy>SeventhEVIL</cp:lastModifiedBy>
  <cp:lastPrinted>2011-05-11T04:53:44Z</cp:lastPrinted>
  <dcterms:modified xsi:type="dcterms:W3CDTF">2011-05-11T04:57:24Z</dcterms:modified>
  <cp:revision>7</cp:revision>
  <dc:subject/>
  <dc:title>Урок по дисциплине ИКТ «Дизайнерский отдел»</dc:title>
</cp:coreProperties>
</file>