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BDB-22B3-47F0-A529-94C818DD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71C-2EBF-4AD3-8B34-4D1039AF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E44-4C9F-4BCF-A04A-5B7D4DD2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6B9-365E-47F1-BE46-57315930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595A-46FA-4E29-8D72-21213080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1026-6D5C-4D51-A464-E6B16161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6E82-FDCA-4356-9F56-6F0B76EF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0790-E3DE-4773-99B2-732144B8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8F1D-288A-4A3D-B147-A1A30CC0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DFC4-AB51-4FF8-A33E-49701640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7122-18AF-4C5D-B90B-01ED7D61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423-98BA-4C8F-B3A2-85215A44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1001-AD59-4E14-89CC-1F19CC9C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A564-2DCA-4A86-84F7-E5909742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BF58-2E8F-4469-99B4-120B4412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5A23-A850-4B86-B993-9EBE7C6E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BD6D-A258-499B-8CE8-13C6AD2E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DAFA-F3EA-4FF0-94D5-92E273CA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949E-A1EB-4223-B955-DBB31677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79D7-B172-4B9C-9725-1321F964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5A1F-63F9-4FF2-B97A-1FB0A8FE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4749A-E6CA-4E6F-B01B-60AB201A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2C9-7889-4780-9B44-554598C3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8C19-1A2F-4BBD-80F3-6541CBF5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2DC11-47CC-4932-A427-7BE85FB1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9A69-2B76-4E29-8286-1BDD5D05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31B3-E6DB-4CBE-B19B-ACCD9EBB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4A43A-A60C-4483-9B8F-8CEE9D61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8A11-626D-4B5D-BCF5-35940C72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AB9F-0900-449E-88DE-E1365ADA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FACE1-389F-4445-A02A-16328648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66C8E-5F54-49F7-BF56-E9D48486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95680-1B8B-4AFD-91B9-5498E78F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B7A-D122-4D29-837B-7BC20B9F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DD623-83AC-4D14-852E-78DFE002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7647B-25DF-4AFB-8DC6-FBE70370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4BFCE-2E60-4655-885B-5BFAD238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6DD70-5066-4D3C-9BF5-D7EDF97F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69E20-7FD0-424D-B17F-795109A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D5D9-7E8E-4A83-8834-0F73A8B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B62AD-C8E5-4355-AD65-FABC0D71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E32E3-3A7B-4956-8F7C-2078D707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44655-4A7A-4929-983B-43C8C70E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10C60-5F5D-4D6F-A0A0-3FCCBD87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A87-B5DC-40CA-8C8D-AEB2487F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BA69D-099E-4DCF-992A-3C85934B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DD4E-FDB9-4077-834A-2A8762E7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4E08A-E9BE-416B-8695-DB906C35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81534-5417-4B72-A50D-C37BC35C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72827-9A42-4CA3-8A17-3DCA8E8E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1FC3D-789C-4363-B0F0-8731682E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9F861-B158-41A2-B2E1-8496E549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8CC48-5F53-426D-BC63-1B67C7A0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018B2-C8F9-4AEF-A982-2E3706E0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4BCFD-1313-4D0A-8B5B-9442AEE6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93C-B72A-4143-AD0E-9ADAE789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3C72B-2F55-4B1B-ACA8-A7F1E1FE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AD5B8-F3A7-47A3-A71D-05F1647F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4907E-111B-48FE-BD94-EEA2AB01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38212-1CF8-48D3-87EF-819BFC0E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1A323-283C-4652-A75A-A1BB35F3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481BC-11CE-4ABD-B3E3-2A9056EE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5A0E8-4EC2-4A9C-8B45-279BF305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9A6A9-9DA1-4FC0-A6AB-0988FCA0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6418F-E5A6-43B1-83B1-E25B8EFE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FAC43-7FCF-4495-8E52-8E0AA874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B19-E123-4B7C-870C-49F9A6E7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AA103-18A8-4D52-A9D8-9CE9372C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C1116-FAC9-4D61-B1E5-299C1DE3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4B39D-0B5F-4E84-B08F-81A6C3F5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2BF6F-5326-43BA-9940-6787D228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6E98F-E26A-413C-9406-05278F0A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B9987-C1CD-4C63-BF9C-55719C83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A0A82-D336-4A3C-9292-813D6E5A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F05D7-5897-4EFD-A5B0-49C79CE2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26EB6-E3E5-49B5-8D01-123FCE80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ACD1D-608A-45FC-BC1D-16619BB2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DFB-8528-499D-AF28-51A94583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FD7C2-3E39-44AB-8BAA-D00A3EF2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ED9AA-4292-45D1-96F4-288DF54F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6575E-C2DC-46F1-B4B0-005369AA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D3487-FAD3-4BBF-9FD7-E47D5462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8B06F-86AF-42E0-8F07-8127F85C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4E8A-40F6-4198-A9DE-7700F299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8F10-30C5-4AE5-BD69-F2C51F239E3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5F10-8139-404B-B7CE-CD6B171370F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1A50-01CB-4A05-8D9E-DD41C155305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5DCF-88C9-40D9-BF81-8FAD5D8035D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7F74-E8B5-4AFB-865D-8E4F4FAFBF7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ABB4-1978-40A1-8EF6-49A44030469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06BA-FCD7-4336-83DA-41667EFF867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266920" y="3535200"/>
            <a:ext cx="6243840" cy="3133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2"/>
          <a:stretch/>
        </p:blipFill>
        <p:spPr>
          <a:xfrm>
            <a:off x="3214800" y="714240"/>
            <a:ext cx="28098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цетилхол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7877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ыброс ацетилхолина в синаптическую щ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940040" y="1571760"/>
            <a:ext cx="58467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цетилхолин влияет на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57160" y="142884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строение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нтеллектуальную работоспособность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ышечный тонус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боту многих внутренних органов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ексуальную потенцию у мужчин и характер менструального цикла у женщин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стояние кожи и всех её дериватов – потовых, сальных желёз, волосяного покрова;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боту сердечно-сосудистой систем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икот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1157400" y="2341440"/>
            <a:ext cx="72864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422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икотиновый ацетилхолиновый рецептор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5715000" y="428760"/>
            <a:ext cx="24192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28800" y="1000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вязывание никотина с рецепторами приводит к повышению активности так называемых холинергических нейронов.  Это заставляет организм и мозг работать быстрее. Таким образом, никотин повышает внимание и работоспособност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3214800" y="4500720"/>
            <a:ext cx="32734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28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тимулирование холинергических нейронов обеспечивает освобождение нейромедиаторов в мозге. Это приносит чувство радости, удовлетворённости. Возникает желание получить дозу никотина ещё раз.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3414600" y="4357800"/>
            <a:ext cx="26146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28800" y="1071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икотин повышает концентрацию других медиаторов, которые отвечают за работу мозга. Например, в результате употребления никотина в мозге образуется больше эндорфинов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3429000" y="3929040"/>
            <a:ext cx="2806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28440" y="71424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здействие никотина на ацетилхолиновые рецепторы вызывает выделение  в мозге других веществ: гамма-аминомасляной кислоты, дофамина, серотонина, норадреналина, глутамата и эндорфинов. Курящий человек старается постоянно поддерживать уровень этих веществ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2786040" y="4214880"/>
            <a:ext cx="3767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57160" y="857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тобы защитить себя от чрезмерного возбуждения никотином, организм уменьшает выработку ацетилхолина, и понижает чувствительность к нему нейронов. Чем дольше человек курит, тем больше подавляется выработка ацетилхолин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1"/>
          <a:stretch/>
        </p:blipFill>
        <p:spPr>
          <a:xfrm>
            <a:off x="2786040" y="4286160"/>
            <a:ext cx="384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238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ейромедиатор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Picture 2" descr="F:\Скачки\Эв\8.gif"/>
          <p:cNvPicPr/>
          <p:nvPr/>
        </p:nvPicPr>
        <p:blipFill>
          <a:blip r:embed="rId1"/>
          <a:stretch/>
        </p:blipFill>
        <p:spPr>
          <a:xfrm>
            <a:off x="4929120" y="928800"/>
            <a:ext cx="3810240" cy="328608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5"/>
          <p:cNvSpPr/>
          <p:nvPr/>
        </p:nvSpPr>
        <p:spPr>
          <a:xfrm>
            <a:off x="357120" y="100008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йромедиа́то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биологически активные химические вещества, посредством которых осуществляется передача электрического импульса с нервной клетки через синаптическое пространство между нейронами. Нервный импульс, поступающий в пресинаптическое окончание, вызывает освобождение в синаптическую щель медиатора. Молекулы медиаторов реагируют со специфическими рецепторными белками клеточной мембраны, инициируя цепь биохимических реакций, вызывающих изменение трансмембранного тока ионов, что приводит к деполяризации мембраны и возникновению потенциала действ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85880" y="857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 курильщиков чувствительные к никотину центры мозга, находятся в угнетённом состоянии, а потому и на концах связанных с ними нервов нарушается синтез веществ. В результате во многих тканях и органах наблюдается нервная дистрофия, а на фоне неё складывается предрасположенность к различным заболеваниям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3214800" y="4464000"/>
            <a:ext cx="31906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Заболевания, характерные для курильщик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57120" y="128556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 бронхах – хронический бронхит курильщика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лизистая оболочка пищевода истончена, повышенно ранима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 желудке – хронический гастрит курильщика или даже язва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лизистая оболочка толстого кишечника тоже изменена, нарушена его моторика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мелкие артерии, артериолы – повышенно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озбудимы, склонны к спазмам..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расстроена работа потовых и сальных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желёз кожи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олосы истончены, секутся и выпадают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нижается сексуальная потенция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оголяются шейки зубов, развивается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ародонтоз..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6127920" y="3786120"/>
            <a:ext cx="3016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икотин как наркотик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Прямоугольник 4"/>
          <p:cNvSpPr/>
          <p:nvPr/>
        </p:nvSpPr>
        <p:spPr>
          <a:xfrm>
            <a:off x="642960" y="92880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тин действует как наркотик, который нужен попавшему в зависимость человеку уже не столько для того, чтобы почувствовать бодрость и эйфорию, сколько для возврата хотя бы к относительно нормальному уровню жизне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1857240" y="3971880"/>
            <a:ext cx="58579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Генетические отличия по чувствительности к никотину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Э. Топпер из Калифорнийского технологического института (США) в 2004 г. обнаружил мутацию в рецепторе ацетилхолина (замена остатка лейцина на аланин). В результате этой мутации очень резко повышается способность рецептора связываться с никотином. Это приводит к гиперчувствительности человека к этому алкалоиду, из-за которой возникает такая зависимость от него, что человек не может отказаться от табака. 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ка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4296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Кокаин действует на три нейромедиаторные системы: дофаминовую, норадреналиновую и серотониновую. Связывая транспортеры нейромедиаторов , кокаин нарушает их обратный захват пресинаптической мембраной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результате нейромедиатор остаётся в синаптической щели, и с каждым прохождением нервного импульса его концентрация растёт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дновременно с этим истощается запас нейромедиатора в депо пресинаптической мембраны. С каждым нервным импульсом выделяется все меньше нейромедиатор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3786120" y="5000760"/>
            <a:ext cx="1906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СД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857160" y="121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ЛСД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занимает серотониновые рецепторные участки и мешает серотонину затормаживать приток сенсорных сигналов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3286080" y="2928960"/>
            <a:ext cx="30798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Амфетамин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28800" y="785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мфетамины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зывает высвобождение дофамина и норадреналина. В результате накопление избыточного количества медиатора приводит к чрезмерной степени активации мозговой кор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2319480" y="3357720"/>
            <a:ext cx="49273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пиа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57120" y="928440"/>
            <a:ext cx="8786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е опиаты, в том числе и героин, имеют определённое структурное сходство с эндорфинами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 эндогенных (произведённых организмом) опиатов структура молекулы позволяет точно взаимодействовать с нужным рецептором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 экзогенных совпадение молекулы и рецептора относительно невелико, что значительно сказывается на эффективности их действия и селективности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286080" y="4622760"/>
            <a:ext cx="33577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Генетическая природа кокаиновой зависимост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57120" y="1214280"/>
            <a:ext cx="87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40920" indent="-284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ксперименты на мышах показали, что вероятность развития зависимости связана с активностью гена, кодирующего фермент кальций-кальмодулинзависимую протеинкиназу IV (CaMKIV). Этот фермент присутствует в дофаминовых нейронах мозга, на которые действует кокаин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равнение кокаиновых наркоманов и людей, не принимающих кокаин, показало, что мутантный вариант гена CaMKIV повышает риск кокаиновой зависимости на 25%. При наличии двух копий такого гена риск возрастает до 47%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пасибо за вним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1571760" y="1643040"/>
            <a:ext cx="6038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имбическая система – центр формирования эмоций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Picture 2" descr="F:\Скачки\Эв\clip_image002_0010.jpg"/>
          <p:cNvPicPr/>
          <p:nvPr/>
        </p:nvPicPr>
        <p:blipFill>
          <a:blip r:embed="rId1"/>
          <a:stretch/>
        </p:blipFill>
        <p:spPr>
          <a:xfrm>
            <a:off x="1214280" y="1643040"/>
            <a:ext cx="63644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хема опыта с вживлением электрод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F:\Скачки\Эв\3.jpg"/>
          <p:cNvPicPr/>
          <p:nvPr/>
        </p:nvPicPr>
        <p:blipFill>
          <a:blip r:embed="rId1"/>
          <a:stretch/>
        </p:blipFill>
        <p:spPr>
          <a:xfrm>
            <a:off x="1428840" y="1306440"/>
            <a:ext cx="61434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F:\Скачки\Эв\image002.jpg"/>
          <p:cNvPicPr/>
          <p:nvPr/>
        </p:nvPicPr>
        <p:blipFill>
          <a:blip r:embed="rId1"/>
          <a:stretch/>
        </p:blipFill>
        <p:spPr>
          <a:xfrm>
            <a:off x="3940200" y="0"/>
            <a:ext cx="5203800" cy="4143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F:\Скачки\Эв\image001.jpg"/>
          <p:cNvPicPr/>
          <p:nvPr/>
        </p:nvPicPr>
        <p:blipFill>
          <a:blip r:embed="rId2"/>
          <a:stretch/>
        </p:blipFill>
        <p:spPr>
          <a:xfrm>
            <a:off x="357120" y="3429000"/>
            <a:ext cx="4562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ейромедиатор </a:t>
            </a:r>
            <a:r>
              <a:rPr b="0" lang="ru-RU" sz="4000" spc="-1" strike="noStrike">
                <a:solidFill>
                  <a:srgbClr val="ff0000"/>
                </a:solidFill>
                <a:latin typeface="Consolas"/>
              </a:rPr>
              <a:t>дофам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Picture 2" descr="F:\Скачки\Эв\Dopamine.svg.png"/>
          <p:cNvPicPr/>
          <p:nvPr/>
        </p:nvPicPr>
        <p:blipFill>
          <a:blip r:embed="rId1"/>
          <a:stretch/>
        </p:blipFill>
        <p:spPr>
          <a:xfrm>
            <a:off x="2071800" y="2286000"/>
            <a:ext cx="54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ецептор дофамина 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D4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7194240" cy="48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клонность к риску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77234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357120" y="3090960"/>
            <a:ext cx="5143680" cy="37670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5143680" y="0"/>
            <a:ext cx="4000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2:28:06Z</dcterms:created>
  <dc:creator>User</dc:creator>
  <dc:description/>
  <dc:language>en-US</dc:language>
  <cp:lastModifiedBy>User</cp:lastModifiedBy>
  <dcterms:modified xsi:type="dcterms:W3CDTF">2011-03-13T13:16:57Z</dcterms:modified>
  <cp:revision>39</cp:revision>
  <dc:subject/>
  <dc:title>Слайд 1</dc:title>
</cp:coreProperties>
</file>