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81A-0074-4EE4-A2B2-857EDF92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E14-0870-44E1-AF8E-0CB388E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C8B-9346-4252-BE24-7BDDF335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50D-570C-494C-81AC-DB8B1DCD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EEA-E252-4B80-8176-7B4DD69F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941C-79A6-40AC-957E-4672D4D5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D298-9F8C-4815-9DC5-1D26B25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7C71-36FA-4583-A441-F2677EB2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BAF5-1ABD-4218-B933-DCF556DE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17BC-643D-4EB2-8A05-6B52F9FD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F00E-3EEE-4A93-8D8F-455CF39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734-2A1E-4418-A28D-34FD985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0DAA-F15B-4491-9960-26D501F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73A6-D5B1-4568-BFF2-3681B1F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0C50-E012-4662-A1C9-F0523355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8F66-5D26-49AE-9F6D-00D8427F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F767-C61E-4CC3-8BAE-3860AF70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DAC6-3E3F-4105-B5DA-43CAC3B6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59F8-7BEF-4FB5-A6CF-802FA2E0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BD7D-B6CC-4804-B58E-00976554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D0E96-D9F6-40F4-9C9A-83E3652E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57B9-6004-4025-93E5-620C1205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647-2D4A-48CC-B68B-D1D188BE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8F72-7DDC-4295-8018-577DA0B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7813-B1FF-41C4-BCA8-1DB1E5F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B26A-A410-4B9E-8C79-32EFC7C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3803-EED4-44C3-8B35-6D91712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718FD-8E4C-4DEE-82F3-6AEDCCD9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3E9C-F6EF-431E-813B-2F9F4D0B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30DD-4A03-4340-B75C-1239134E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13774-FCF7-4766-A8B2-883C6A64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9065-75BE-46DA-A256-2009033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D7D1-2F19-46C6-82BA-976FE1B5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30C-8CC1-4C09-8434-FD96E540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8687-4DEF-4A53-B19B-C9FA419B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1810F-4774-42B3-A8F1-12C6D34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B0BF1-51D2-46F9-AFBB-244B0DDB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6043-1A44-4491-A853-8DD7149C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CC1F-5A76-48EF-BCFE-D7049C3F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C127-4891-4C88-855B-210F19F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2091-CF40-48FB-B0CB-ED1A1C04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E7A8A-1BD2-4A92-9EFB-550DA489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89686-875E-452E-83FD-BB82920E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ADFD-F06E-4FED-9B73-B60FB65F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6A6-4F7C-4269-9E86-5237CA2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711EB-8A9A-42E0-A1D2-4F34FC9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CBAF-74F3-4CCF-89AA-5489B477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609F-2508-42F7-9AAE-6E9534E1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AAE8C-27F8-4588-B6C6-F4C643AF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001C9-E44D-485B-8A0D-A9BACAD3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054C-4D5F-46A8-95B4-BCEFD63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7C4E-A610-4990-A4CA-FD32E549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C12D-D1FD-4431-B9EE-77E8ABF0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09BD6-4B8C-4EA3-BC19-1BAB0F9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2D67-DEA8-4C98-AE36-FD038072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6AA-6402-4878-A237-F0BDA2C8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EBA3-8AF3-46A6-BDFF-A887211F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421F-09B6-4772-9184-633D0027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884D-C8EA-4AF9-B4AE-07B99DB4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25FD-8E2D-4761-9A41-FE55F54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20B0-8368-4553-A8F7-28E84817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A805-735C-43CE-A994-D648906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79C2-5DEA-4584-81B5-8A4AFAE2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02A5-3EF3-41F1-8C8B-9A7D653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E973-9A34-4427-9AA1-858829F3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FD7EB-EB49-4EBA-8F20-6BE2BBD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F93-FA7C-40FC-A49E-1E4430D3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E36AC-D256-49EF-944C-B1D52ADD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B154-D0A9-41C0-930A-E204B2B6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5C56-DDD6-4B05-B541-64C212E1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53BF-3BD5-4187-850B-84255E1F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59D7B-696C-4A89-8C4C-5034FB6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89607-FA87-44D7-9F50-20B0A260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46179-0E9C-4224-90F2-FFCF616B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5C0B0-CE43-44EF-9E37-632BE222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A5C17-1951-4F9B-8824-8A749F72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CC59-491F-40C0-85E5-AF5BAED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A19-2435-49D5-B24C-A678182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0DE90-7E67-4636-83A1-CD76EFA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B8C9-BA25-41BD-B7D6-4EC76747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5F31-1AAC-4E3A-81B4-C3529F4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F0C1-14D9-48C4-9608-16A83B95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EE2EE-158E-4BF0-8259-7584EA83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B0F-FB71-40C1-A352-64D5E85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8269-94EE-4736-B441-3EF4F3B75CA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370A-8233-4AEE-A2DA-F410FBDE9D9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1311-D0FF-497D-9D58-447C0D21AA8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82C7-AC2D-4D38-98E2-FF893F2D887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C583-656A-4BEB-81F7-E84B50C3B1F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12D9-D1E6-4302-A11F-6603217DC49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2DE-1267-4DD7-9F1A-F56DAAFCAED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266920" y="3535200"/>
            <a:ext cx="6243840" cy="3133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3214800" y="714240"/>
            <a:ext cx="2809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цетилхол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877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ыброс ацетилхолина в синаптическую щ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940040" y="1571760"/>
            <a:ext cx="5846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цетилхолин влияет н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57160" y="142884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строени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теллектуальную работоспособность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шечный тонус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боту многих внутренних орган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ксуальную потенцию у мужчин и характер менструального цикла у женщин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стояние кожи и всех её дериватов – потовых, сальных желёз, волосяного покрова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боту сердечно-сосудистой систем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1157400" y="2341440"/>
            <a:ext cx="7286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422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овый ацетилхолиновый рецептор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5715000" y="428760"/>
            <a:ext cx="24192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28800" y="1000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вязывание никотина с рецепторами приводит к повышению активности так называемых холинергических нейронов.  Это заставляет организм и мозг работать быстрее. Таким образом, никотин повышает внимание и работоспособнос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3214800" y="4500720"/>
            <a:ext cx="3273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28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имулирование холинергических нейронов обеспечивает освобождение нейромедиаторов в мозге. Это приносит чувство радости, удовлетворённости. Возникает желание получить дозу никотина ещё раз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3414600" y="4357800"/>
            <a:ext cx="2614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28800" y="1071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икотин повышает концентрацию других медиаторов, которые отвечают за работу мозга. Например, в результате употребления никотина в мозге образуется больше эндорфин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3429000" y="3929040"/>
            <a:ext cx="2806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28440" y="7142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здействие никотина на ацетилхолиновые рецепторы вызывает выделение  в мозге других веществ: гамма-аминомасляной кислоты, дофамина, серотонина, норадреналина, глутамата и эндорфинов. Курящий человек старается постоянно поддерживать уровень этих вещест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2786040" y="4214880"/>
            <a:ext cx="3767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57160" y="857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тобы защитить себя от чрезмерного возбуждения никотином, организм уменьшает выработку ацетилхолина, и понижает чувствительность к нему нейронов. Чем дольше человек курит, тем больше подавляется выработка ацетилхоли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2786040" y="4286160"/>
            <a:ext cx="384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238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ейромедиато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Picture 2" descr="F:\Скачки\Эв\8.gif"/>
          <p:cNvPicPr/>
          <p:nvPr/>
        </p:nvPicPr>
        <p:blipFill>
          <a:blip r:embed="rId1"/>
          <a:stretch/>
        </p:blipFill>
        <p:spPr>
          <a:xfrm>
            <a:off x="4929120" y="92880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"/>
          <p:cNvSpPr/>
          <p:nvPr/>
        </p:nvSpPr>
        <p:spPr>
          <a:xfrm>
            <a:off x="357120" y="100008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йромедиа́то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биологически активные химические вещества, посредством которых осуществляется передача электрического импульса с нервной клетки через синаптическое пространство между нейронами. Нервный импульс, поступающий в пресинаптическое окончание, вызывает освобождение в синаптическую щель медиатора. Молекулы медиаторов реагируют со специфическими рецепторными белками клеточной мембраны, инициируя цепь биохимических реакций, вызывающих изменение трансмембранного тока ионов, что приводит к деполяризации мембраны и возникновению потенциала действ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85880" y="857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курильщиков чувствительные к никотину центры мозга, находятся в угнетённом состоянии, а потому и на концах связанных с ними нервов нарушается синтез веществ. В результате во многих тканях и органах наблюдается нервная дистрофия, а на фоне неё складывается предрасположенность к различным заболевания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3214800" y="4464000"/>
            <a:ext cx="31906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Заболевания, характерные для курильщи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57120" y="128556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бронхах – хронический бронхит курильщик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лизистая оболочка пищевода истончена, повышенно раним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желудке – хронический гастрит курильщика или даже язв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лизистая оболочка толстого кишечника тоже изменена, нарушена его моторик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елкие артерии, артериолы – повышенно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озбудимы, склонны к спазмам..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расстроена работа потовых и сальных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желёз кожи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олосы истончены, секутся и выпадают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нижается сексуальная потенция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оголяются шейки зубов, развивается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ародонтоз..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6127920" y="3786120"/>
            <a:ext cx="301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 как наркотик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642960" y="92880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действует как наркотик, который нужен попавшему в зависимость человеку уже не столько для того, чтобы почувствовать бодрость и эйфорию, сколько для возврата хотя бы к относительно нормальному уровню жизне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1857240" y="3971880"/>
            <a:ext cx="5857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енетические отличия по чувствительности к никотин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. Топпер из Калифорнийского технологического института (США) в 2004 г. обнаружил мутацию в рецепторе ацетилхолина (замена остатка лейцина на аланин). В результате этой мутации очень резко повышается способность рецептора связываться с никотином. Это приводит к гиперчувствительности человека к этому алкалоиду, из-за которой возникает такая зависимость от него, что человек не может отказаться от табака. 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ка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429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каин действует на три нейромедиаторные системы: дофаминовую, норадреналиновую и серотониновую. Связывая транспортеры нейромедиаторов , кокаин нарушает их обратный захват пресинаптической мембраной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результате нейромедиатор остаётся в синаптической щели, и с каждым прохождением нервного импульса его концентрация растёт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дновременно с этим истощается запас нейромедиатора в депо пресинаптической мембраны. С каждым нервным импульсом выделяется все меньше нейромедиатор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3786120" y="5000760"/>
            <a:ext cx="1906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СД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5716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ЛСД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занимает серотониновые рецепторные участки и мешает серотонину затормаживать приток сенсорных сигнал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3286080" y="2928960"/>
            <a:ext cx="3079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Амфетамин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28800" y="785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мфетамины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зывает высвобождение дофамина и норадреналина. В результате накопление избыточного количества медиатора приводит к чрезмерной степени активации мозговой кор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2319480" y="3357720"/>
            <a:ext cx="4927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пиа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57120" y="92844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опиаты, в том числе и героин, имеют определённое структурное сходство с эндорфинам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эндогенных (произведённых организмом) опиатов структура молекулы позволяет точно взаимодействовать с нужным рецепторо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экзогенных совпадение молекулы и рецептора относительно невелико, что значительно сказывается на эффективности их действия и селективност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286080" y="4622760"/>
            <a:ext cx="3357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Генетическая природа кокаиновой зависимост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57120" y="121428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сперименты на мышах показали, что вероятность развития зависимости связана с активностью гена, кодирующего фермент кальций-кальмодулинзависимую протеинкиназу IV (CaMKIV). Этот фермент присутствует в дофаминовых нейронах мозга, на которые действует кокаи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равнение кокаиновых наркоманов и людей, не принимающих кокаин, показало, что мутантный вариант гена CaMKIV повышает риск кокаиновой зависимости на 25%. При наличии двух копий такого гена риск возрастает до 47%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пасибо за вним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6038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имбическая система – центр формирования эмоц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Picture 2" descr="F:\Скачки\Эв\clip_image002_0010.jpg"/>
          <p:cNvPicPr/>
          <p:nvPr/>
        </p:nvPicPr>
        <p:blipFill>
          <a:blip r:embed="rId1"/>
          <a:stretch/>
        </p:blipFill>
        <p:spPr>
          <a:xfrm>
            <a:off x="1214280" y="1643040"/>
            <a:ext cx="6364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хема опыта с вживлением электрод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F:\Скачки\Эв\3.jpg"/>
          <p:cNvPicPr/>
          <p:nvPr/>
        </p:nvPicPr>
        <p:blipFill>
          <a:blip r:embed="rId1"/>
          <a:stretch/>
        </p:blipFill>
        <p:spPr>
          <a:xfrm>
            <a:off x="1428840" y="1306440"/>
            <a:ext cx="61434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F:\Скачки\Эв\image002.jpg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4143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F:\Скачки\Эв\image001.jpg"/>
          <p:cNvPicPr/>
          <p:nvPr/>
        </p:nvPicPr>
        <p:blipFill>
          <a:blip r:embed="rId2"/>
          <a:stretch/>
        </p:blipFill>
        <p:spPr>
          <a:xfrm>
            <a:off x="357120" y="3429000"/>
            <a:ext cx="4562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ейромедиатор </a:t>
            </a: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дофам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Picture 2" descr="F:\Скачки\Эв\Dopamine.svg.png"/>
          <p:cNvPicPr/>
          <p:nvPr/>
        </p:nvPicPr>
        <p:blipFill>
          <a:blip r:embed="rId1"/>
          <a:stretch/>
        </p:blipFill>
        <p:spPr>
          <a:xfrm>
            <a:off x="2071800" y="2286000"/>
            <a:ext cx="54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цептор дофамина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D4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719424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клонность к риск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723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357120" y="3090960"/>
            <a:ext cx="5143680" cy="3767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2:28:06Z</dcterms:created>
  <dc:creator>User</dc:creator>
  <dc:description/>
  <dc:language>en-US</dc:language>
  <cp:lastModifiedBy>User</cp:lastModifiedBy>
  <dcterms:modified xsi:type="dcterms:W3CDTF">2011-03-13T13:16:57Z</dcterms:modified>
  <cp:revision>39</cp:revision>
  <dc:subject/>
  <dc:title>Слайд 1</dc:title>
</cp:coreProperties>
</file>