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B33-F54F-4C72-A206-1007B0EB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EA4-BDFD-4E3C-9C31-D84E1B6C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26D-8A08-43B5-9664-A70AADB4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D48-A961-4C6F-BD72-EC07F8AF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E0FA-AEF7-4101-9F54-5E09108E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E73F-1BAD-4F9D-AA1E-43DB1894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7940-23E9-492A-9B2C-07A2F240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0EC3-48AF-4CA3-86F0-58F2A5BC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9870-E56F-421A-BEFA-7A9D9C3C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FB94-EE89-47FD-BF8D-BE265514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D823-56EB-45E8-8C2A-72A19DE3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7CC-CB79-4941-A5A4-EB5AB895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88A8-6B5F-45F3-AB67-70EB2A35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2165-EAE6-4274-A9E5-A8924308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13DF-C0C8-4DFC-907F-02DC4B29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0B88-3EDE-4F29-A90D-27369676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2DC4-767A-4560-8048-A06C1143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724F-326E-4BBC-91FA-1E0DFD0B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85718-F0C1-47BA-B500-046FE50A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E304F-9772-47E8-8570-4CD2411A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DB7B-1B1B-4436-84AA-8D37B4CA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FFAC1-0B9B-40C8-9D19-BEC8F26D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5EE-1528-4E1D-A6EF-62CD045D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8CB7-F2B7-4AED-B041-7AED819E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AA446-5F7A-405F-9CD4-2C81346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CBA2E-4186-4FAF-B84F-CA2DB9DB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D4AD-B9E8-4831-BDD4-2314E4B7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FDB06-4746-4E0B-ABFF-530B573A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993F-8A8C-4B7E-8FF1-063F51B2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8E57-5243-4EBF-925E-7F289282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E2A14-8C45-4A33-9295-997C558A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059D3-6A7F-4831-A35B-B3ABD029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6A20-A25B-4A28-956C-029C59F1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825-671C-4FF3-9C2D-9223AF29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C5FD7-64CB-49C0-B0C2-F20F64F7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77ED3-2990-435A-8D97-5E96A8E7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2F6B4-5CD5-481C-AF54-E61C1691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D9F5A-4DB3-4B46-9EF1-FF10AC9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B998-B70A-4208-A7D7-8F2C8BB0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1994-B5FF-4DE8-9450-D62B5C5C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D6279-6CB1-44FC-94BD-14B8A395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70DF-DFBE-423B-990F-B70DEF0C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E04A7-C13C-4958-A056-2ACF6856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996AD-97F0-445E-B975-422A670B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20F-33FF-48BD-B3F4-1EB3373C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56446-6A7C-4273-A04D-B6184452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87C03-F3FE-4BAC-AE97-4BBB1385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7335F-74BF-4E82-B9FC-91B0CE92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2831-A169-48A2-89B3-C97D713D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88B3D-0C0B-4A01-8A04-B99AB2A8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D0FB0-67C1-4663-8FD0-50EFE55B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38CB2-6541-4C11-ACAF-253929D9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1C061-63A6-4C56-80EF-63B41529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5F78A-BDEB-4E32-BE2D-7D3E60AB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2B38-2190-4FDD-9391-87D99BA1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054-76E8-43FA-A0C6-B571D95C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0C9B1-7FCF-483C-AE7D-41EBD689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6218C-EECB-48C3-B8CE-0FD3E532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F6644-85CE-4BBC-B155-F9F6B459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0C01A-85E1-4DFC-8ED3-EDE89BD1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42088-A212-4A66-A1FD-929EE830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7700D-B8A4-4D95-9D34-9A033CCC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5C3A-1ECF-46CA-A9BA-57A77D20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DF5E2-AC07-4659-ADA8-C31A6120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358F6-B78C-4F6E-8DA8-2E348F60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65517-362C-428A-ADB5-34883979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DED-3B9D-44B7-A09C-5DABCA8B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C9358-EAA7-4FC4-A7C5-6B619E7A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B334E-129C-46E4-A104-AB4EE5D3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CC723-4EF2-4A63-ADEB-2B06D5B5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4FC40-ECF2-4041-BCBD-88363176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4C43B-AF39-43D7-ABC0-554CD48B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86369-1C97-458E-879D-D2F0CCD2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86DC0-7752-4658-BFB4-7B417DC1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D6161-A1B9-480D-8939-8845B040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4B478-C4C4-4252-B55E-695E930A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FA77A-4480-48A4-A6AE-F02DCAD2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E47-7637-405E-AC70-B6F1B5CD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06C92-3C9F-42A6-A75E-55C92FBE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1416-CDC7-4F3F-A3BF-75D5A833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E22F4-7A56-448C-BDF7-FB3325FA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78A5C-F33C-482A-A2FC-BFE78AF4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FDB27-9417-480A-8560-F1D997BA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3C2-4B3E-4D30-A509-9318FAF8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1012-DA72-4000-BDF9-C092DC19D62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71BD-5E0C-4620-BCC8-6DE66E0D1B7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9212-B584-44A6-A325-14F0FFB81A3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A389-AA72-48D7-899F-346645D771C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CF2C-1236-465A-AAD7-A7F3B7BF06C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F739-BDCD-44DC-8A1A-F22A5F53C69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EBCC-249E-4BCB-A92C-1C7AE868F46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266920" y="3535200"/>
            <a:ext cx="6243840" cy="3133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2"/>
          <a:stretch/>
        </p:blipFill>
        <p:spPr>
          <a:xfrm>
            <a:off x="3214800" y="714240"/>
            <a:ext cx="28098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цетилхол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877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ыброс ацетилхолина в синаптическую щ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940040" y="1571760"/>
            <a:ext cx="58467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цетилхолин влияет на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57160" y="1428840"/>
            <a:ext cx="77724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строение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теллектуальную работоспособность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ышечный тонус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боту многих внутренних органов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ексуальную потенцию у мужчин и характер менструального цикла у женщин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стояние кожи и всех её дериватов – потовых, сальных желёз, волосяного покрова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боту сердечно-сосудистой систем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икот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1157400" y="2341440"/>
            <a:ext cx="72864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422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икотиновый ацетилхолиновый рецептор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5715000" y="428760"/>
            <a:ext cx="24192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28800" y="1000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вязывание никотина с рецепторами приводит к повышению активности так называемых холинергических нейронов.  Это заставляет организм и мозг работать быстрее. Таким образом, никотин повышает внимание и работоспособност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3214800" y="4500720"/>
            <a:ext cx="32734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28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тимулирование холинергических нейронов обеспечивает освобождение нейромедиаторов в мозге. Это приносит чувство радости, удовлетворённости. Возникает желание получить дозу никотина ещё раз.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3414600" y="4357800"/>
            <a:ext cx="26146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28800" y="1071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икотин повышает концентрацию других медиаторов, которые отвечают за работу мозга. Например, в результате употребления никотина в мозге образуется больше эндорфинов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3429000" y="3929040"/>
            <a:ext cx="2806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28440" y="71424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здействие никотина на ацетилхолиновые рецепторы вызывает выделение  в мозге других веществ: гамма-аминомасляной кислоты, дофамина, серотонина, норадреналина, глутамата и эндорфинов. Курящий человек старается постоянно поддерживать уровень этих вещест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2786040" y="4214880"/>
            <a:ext cx="3767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57160" y="857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тобы защитить себя от чрезмерного возбуждения никотином, организм уменьшает выработку ацетилхолина, и понижает чувствительность к нему нейронов. Чем дольше человек курит, тем больше подавляется выработка ацетилхолин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1"/>
          <a:stretch/>
        </p:blipFill>
        <p:spPr>
          <a:xfrm>
            <a:off x="2786040" y="4286160"/>
            <a:ext cx="384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7238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ейромедиатор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Picture 2" descr="F:\Скачки\Эв\8.gif"/>
          <p:cNvPicPr/>
          <p:nvPr/>
        </p:nvPicPr>
        <p:blipFill>
          <a:blip r:embed="rId1"/>
          <a:stretch/>
        </p:blipFill>
        <p:spPr>
          <a:xfrm>
            <a:off x="4929120" y="92880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5"/>
          <p:cNvSpPr/>
          <p:nvPr/>
        </p:nvSpPr>
        <p:spPr>
          <a:xfrm>
            <a:off x="357120" y="100008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йромедиа́то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— биологически активные химические вещества, посредством которых осуществляется передача электрического импульса с нервной клетки через синаптическое пространство между нейронами. Нервный импульс, поступающий в пресинаптическое окончание, вызывает освобождение в синаптическую щель медиатора. Молекулы медиаторов реагируют со специфическими рецепторными белками клеточной мембраны, инициируя цепь биохимических реакций, вызывающих изменение трансмембранного тока ионов, что приводит к деполяризации мембраны и возникновению потенциала действ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йствие никоти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85880" y="8571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 курильщиков чувствительные к никотину центры мозга, находятся в угнетённом состоянии, а потому и на концах связанных с ними нервов нарушается синтез веществ. В результате во многих тканях и органах наблюдается нервная дистрофия, а на фоне неё складывается предрасположенность к различным заболеваниям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3214800" y="4464000"/>
            <a:ext cx="31906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Заболевания, характерные для курильщи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57120" y="128556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бронхах – хронический бронхит курильщик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лизистая оболочка пищевода истончена, повышенно раним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желудке – хронический гастрит курильщика или даже язв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лизистая оболочка толстого кишечника тоже изменена, нарушена его моторика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мелкие артерии, артериолы – повышенно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озбудимы, склонны к спазмам..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расстроена работа потовых и сальных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желёз кожи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олосы истончены, секутся и выпадают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снижается сексуальная потенция;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оголяются шейки зубов, развивается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ародонтоз..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6127920" y="3786120"/>
            <a:ext cx="3016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икотин как наркотик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Прямоугольник 4"/>
          <p:cNvSpPr/>
          <p:nvPr/>
        </p:nvSpPr>
        <p:spPr>
          <a:xfrm>
            <a:off x="642960" y="92880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отин действует как наркотик, который нужен попавшему в зависимость человеку уже не столько для того, чтобы почувствовать бодрость и эйфорию, сколько для возврата хотя бы к относительно нормальному уровню жизне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1857240" y="3971880"/>
            <a:ext cx="58579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Генетические отличия по чувствительности к никотин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Э. Топпер из Калифорнийского технологического института (США) в 2004 г. обнаружил мутацию в рецепторе ацетилхолина (замена остатка лейцина на аланин). В результате этой мутации очень резко повышается способность рецептора связываться с никотином. Это приводит к гиперчувствительности человека к этому алкалоиду, из-за которой возникает такая зависимость от него, что человек не может отказаться от табака. 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ка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42960" y="7142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окаин действует на три нейромедиаторные системы: дофаминовую, норадреналиновую и серотониновую. Связывая транспортеры нейромедиаторов , кокаин нарушает их обратный захват пресинаптической мембраной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результате нейромедиатор остаётся в синаптической щели, и с каждым прохождением нервного импульса его концентрация растёт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дновременно с этим истощается запас нейромедиатора в депо пресинаптической мембраны. С каждым нервным импульсом выделяется все меньше нейромедиатор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3786120" y="5000760"/>
            <a:ext cx="1906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СД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857160" y="121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ЛСД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занимает серотониновые рецепторные участки и мешает серотонину затормаживать приток сенсорных сигналов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3286080" y="2928960"/>
            <a:ext cx="30798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Амфетамин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928800" y="785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мфетамины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ызывает высвобождение дофамина и норадреналина. В результате накопление избыточного количества медиатора приводит к чрезмерной степени активации мозговой кор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2319480" y="3357720"/>
            <a:ext cx="4927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пиа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57120" y="92844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опиаты, в том числе и героин, имеют определённое структурное сходство с эндорфинам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 эндогенных (произведённых организмом) опиатов структура молекулы позволяет точно взаимодействовать с нужным рецептором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 экзогенных совпадение молекулы и рецептора относительно невелико, что значительно сказывается на эффективности их действия и селективности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286080" y="4622760"/>
            <a:ext cx="33577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Генетическая природа кокаиновой зависимост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57120" y="1214280"/>
            <a:ext cx="87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40920" indent="-284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Эксперименты на мышах показали, что вероятность развития зависимости связана с активностью гена, кодирующего фермент кальций-кальмодулинзависимую протеинкиназу IV (CaMKIV). Этот фермент присутствует в дофаминовых нейронах мозга, на которые действует кокаин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равнение кокаиновых наркоманов и людей, не принимающих кокаин, показало, что мутантный вариант гена CaMKIV повышает риск кокаиновой зависимости на 25%. При наличии двух копий такого гена риск возрастает до 47%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40920" indent="-2844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пасибо за вним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571760" y="1643040"/>
            <a:ext cx="6038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имбическая система – центр формирования эмоций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4" name="Picture 2" descr="F:\Скачки\Эв\clip_image002_0010.jpg"/>
          <p:cNvPicPr/>
          <p:nvPr/>
        </p:nvPicPr>
        <p:blipFill>
          <a:blip r:embed="rId1"/>
          <a:stretch/>
        </p:blipFill>
        <p:spPr>
          <a:xfrm>
            <a:off x="1214280" y="1643040"/>
            <a:ext cx="63644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хема опыта с вживлением электрод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F:\Скачки\Эв\3.jpg"/>
          <p:cNvPicPr/>
          <p:nvPr/>
        </p:nvPicPr>
        <p:blipFill>
          <a:blip r:embed="rId1"/>
          <a:stretch/>
        </p:blipFill>
        <p:spPr>
          <a:xfrm>
            <a:off x="1428840" y="1306440"/>
            <a:ext cx="61434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F:\Скачки\Эв\image002.jpg"/>
          <p:cNvPicPr/>
          <p:nvPr/>
        </p:nvPicPr>
        <p:blipFill>
          <a:blip r:embed="rId1"/>
          <a:stretch/>
        </p:blipFill>
        <p:spPr>
          <a:xfrm>
            <a:off x="3940200" y="0"/>
            <a:ext cx="5203800" cy="4143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F:\Скачки\Эв\image001.jpg"/>
          <p:cNvPicPr/>
          <p:nvPr/>
        </p:nvPicPr>
        <p:blipFill>
          <a:blip r:embed="rId2"/>
          <a:stretch/>
        </p:blipFill>
        <p:spPr>
          <a:xfrm>
            <a:off x="357120" y="3429000"/>
            <a:ext cx="4562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Нейромедиатор </a:t>
            </a:r>
            <a:r>
              <a:rPr b="0" lang="ru-RU" sz="4000" spc="-1" strike="noStrike">
                <a:solidFill>
                  <a:srgbClr val="ff0000"/>
                </a:solidFill>
                <a:latin typeface="Consolas"/>
              </a:rPr>
              <a:t>дофами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Picture 2" descr="F:\Скачки\Эв\Dopamine.svg.png"/>
          <p:cNvPicPr/>
          <p:nvPr/>
        </p:nvPicPr>
        <p:blipFill>
          <a:blip r:embed="rId1"/>
          <a:stretch/>
        </p:blipFill>
        <p:spPr>
          <a:xfrm>
            <a:off x="2071800" y="2286000"/>
            <a:ext cx="5472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ецептор дофамина 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D4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7194240" cy="48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клонность к риску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77234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357120" y="3090960"/>
            <a:ext cx="5143680" cy="37670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5143680" y="0"/>
            <a:ext cx="4000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2:28:06Z</dcterms:created>
  <dc:creator>User</dc:creator>
  <dc:description/>
  <dc:language>en-US</dc:language>
  <cp:lastModifiedBy>User</cp:lastModifiedBy>
  <dcterms:modified xsi:type="dcterms:W3CDTF">2011-03-13T13:16:57Z</dcterms:modified>
  <cp:revision>39</cp:revision>
  <dc:subject/>
  <dc:title>Слайд 1</dc:title>
</cp:coreProperties>
</file>