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5FF18-4531-4B99-815D-FE438E2FF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6A948-BC1A-4DA8-97FC-E2E32E9B2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95262-DAAE-4B92-B8C1-173252657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93F8C-E25D-40D3-96A2-509E901BF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AA2A7-EF13-40DF-931D-05D33F563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BF59E-DE64-49FB-A7C4-951E3DB45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54356-7652-4C14-B608-6F733F071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46161-7DD7-4ED6-8E04-0B87A8375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215F8-080D-462E-A2CA-8A2F1249F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92F82-67BC-44F0-84FC-F64A98914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05160-151D-457D-8D36-FCE04F29E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B37FA-C6D3-4B6E-B7FD-47D7915A4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FBC20-BC25-42E6-A738-D15090D96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5B6D5-A374-437F-BED0-9464265B4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68003-0D02-49BA-BB46-F7169FD64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32FF4-452F-462F-A350-714ED29D2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0AF0D-0B3A-4847-8FA2-792EE568FE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CA753-E933-46E7-84E0-BE837F529C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64EE2-1FB6-4B7B-B342-59AA876C4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C9720-3CC9-48AE-9D97-42C6CD94AB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0097E-D817-4493-A2D1-4BBC7FD60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83F45-2A19-4A1B-A0E3-415F09CBE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42614-DC80-43AE-994A-A26984F3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8101F-1550-4D82-A121-B14B72E7D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1FFAC-A5F3-459C-916D-55C293F0E0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D53D2-BFFD-4C5A-8331-D72BCF148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231E7-260C-4F5F-BEA9-B4E751751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04D3AB-C6B1-43F1-A88D-62B92BD87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99D3A-8455-4072-A63C-930958AD3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6BAD5-31E9-432E-9133-B3D3401EDC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83A394-D567-4D85-B68E-B0BE825CD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A9A5D-C8E5-46D4-8174-185FFEE28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7764C-C9F4-458F-B61F-A85262CC2C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B662F-5F03-4D99-8145-7C64CB62D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E9F04D-0BC0-4A01-AB8D-09AC416F7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A27E5-FE8F-4BC3-9ABC-F960D4F92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72747F-7367-4E68-ACED-AC67E2202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F084F-7E69-4CB2-BFAE-F5E9A86B90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0A251-F5FC-48F4-94D7-64E8A8E6D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B322A-E8EB-47DC-9383-7BA36FEC0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D587A-39C6-4171-87F1-A3B8D44C43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89F912-CA92-43B8-B5F7-BC121CFFEC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B56C40-7A78-424A-8F74-CAC781AAD8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F5F237-EC06-4584-BCCC-E954EFDB3D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55F5E-6E08-4D85-9DBC-F516187D3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E1636-2D93-4C2E-B216-81F7BDD51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C2ACE2-053A-480F-BCC6-5D7F0DBE9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24511-5040-4B62-BCA8-E328240F2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18887-E123-4F3D-9ADD-C51CDA04F5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8E417-85B5-45CB-BD34-E883C2D25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BF467-62DA-4D04-92AF-7B8E94654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F5D8C-0FD8-4E22-B0E2-B284092F8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21109-5D8E-4725-8B18-8C97E8190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F82484-853C-4480-BAD7-939C4B0B37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6B890B-0071-424F-9B87-F9B99B6A9A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204BF-CBAE-4E4F-B62B-9A7341D41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534741-6C34-427B-ADBE-DC2FE09026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59C140-7A3A-4EB8-980F-DBF20DFCF0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14844B-5C8B-431C-8A60-197EEF298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55A83-75F7-40CC-B015-70FD546DF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C2D5C-860B-4659-8412-B25C9A1B2D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E75362-3AA5-43EA-9C4B-0B73E655E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06976A-B2CD-4678-B4B2-5EC146E491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18B8F-134F-4623-84D9-D383756AC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AB657-0BDC-44AC-A58D-C9EF66585C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E40FD-28C8-4CBF-BA5D-7F7D60B5A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18B19-3FF2-492E-8BA0-96EE59D7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0378B7-AEF6-44C5-9AC8-BF2DE05D2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698EC8-95A9-49A7-AECB-52C5D4B5DA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D08888-4F77-4E37-851E-E4685BCB84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E23271-797F-4119-8416-ABD504AF3D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FE658-826C-4CFF-A43C-B773B3A54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EDE23-C47C-49FB-85D5-27E0A85E9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26244-22A2-4222-9E25-7DA49F9E09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E6A79-C27C-47CE-90F1-BB8003531D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836578-4CFC-4412-8815-5BF2ABB4DB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B9B53-9DFF-4095-A03D-B985911B5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7A01A-2732-46C8-AA07-C439CD07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538A4-5B7B-45B4-8802-8C98D6EF78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E692F-9944-414C-ABF9-7FBF2FFAF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D488B-3476-4618-B81D-D1EC7D0E4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95B094-11EA-4BDF-86D7-93BC18415D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441645-4DC9-4639-9FB1-E9FE205B43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4A7F-DBC9-42F3-A458-82850007B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ABD9-88BD-4E13-95F0-73FAE2E22BD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2925-36E3-4FD8-9213-3EED34AF4ACE}"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C09E-F35C-4BEC-84CD-18EEABA1983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60BC-8DBD-4767-938B-70DD3C56C0A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1E3E-D40D-495B-806B-90AA845C9BC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DB37-37E5-4EDE-9F41-6EFCE432FC6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6FC8-D304-43F0-9984-1AD75FEF2DB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143240" y="285480"/>
            <a:ext cx="4786560" cy="38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300" spc="-1" strike="noStrike">
                <a:solidFill>
                  <a:srgbClr val="c00000"/>
                </a:solidFill>
                <a:latin typeface="Corbel"/>
              </a:rPr>
              <a:t>«Нейроспид. Неврологические расстройства при ВИЧ-инфекции»</a:t>
            </a:r>
            <a:br>
              <a:rPr sz="4300"/>
            </a:br>
            <a:endParaRPr b="0" lang="en-US" sz="4300" spc="-1" strike="noStrike">
              <a:solidFill>
                <a:srgbClr val="572314"/>
              </a:solidFill>
              <a:latin typeface="Corbel"/>
            </a:endParaRPr>
          </a:p>
        </p:txBody>
      </p:sp>
      <p:sp>
        <p:nvSpPr>
          <p:cNvPr id="319" name="PlaceHolder 2"/>
          <p:cNvSpPr>
            <a:spLocks noGrp="1"/>
          </p:cNvSpPr>
          <p:nvPr>
            <p:ph type="subTitle"/>
          </p:nvPr>
        </p:nvSpPr>
        <p:spPr>
          <a:xfrm>
            <a:off x="5572080" y="4785840"/>
            <a:ext cx="3214800" cy="1714680"/>
          </a:xfrm>
          <a:prstGeom prst="rect">
            <a:avLst/>
          </a:prstGeom>
          <a:noFill/>
          <a:ln w="0">
            <a:noFill/>
          </a:ln>
        </p:spPr>
        <p:txBody>
          <a:bodyPr lIns="90000" rIns="90000" tIns="0" bIns="46800" anchor="t">
            <a:noAutofit/>
          </a:bodyPr>
          <a:p>
            <a:pPr marL="27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Gill Sans MT"/>
              </a:rPr>
              <a:t>515-</a:t>
            </a:r>
            <a:r>
              <a:rPr b="0" lang="ru-RU" sz="2600" spc="-1" strike="noStrike">
                <a:solidFill>
                  <a:srgbClr val="002060"/>
                </a:solidFill>
                <a:latin typeface="Corbel"/>
              </a:rPr>
              <a:t>группа 1-ПФ</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rbel"/>
              </a:rPr>
              <a:t>Рустамова</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rbel"/>
              </a:rPr>
              <a:t>Дилором </a:t>
            </a:r>
            <a:endParaRPr b="0" lang="en-US" sz="2600" spc="-1" strike="noStrike">
              <a:solidFill>
                <a:srgbClr val="000000"/>
              </a:solidFill>
              <a:latin typeface="Corbel"/>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pic>
        <p:nvPicPr>
          <p:cNvPr id="320" name="Picture 2" descr="C:\Users\1\Desktop\images%5b1%5d.jpg"/>
          <p:cNvPicPr/>
          <p:nvPr/>
        </p:nvPicPr>
        <p:blipFill>
          <a:blip r:embed="rId1"/>
          <a:stretch/>
        </p:blipFill>
        <p:spPr>
          <a:xfrm>
            <a:off x="357120" y="714240"/>
            <a:ext cx="3571920" cy="535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Содержимое 2"/>
          <p:cNvGrpSpPr/>
          <p:nvPr/>
        </p:nvGrpSpPr>
        <p:grpSpPr>
          <a:xfrm>
            <a:off x="-79200" y="-152280"/>
            <a:ext cx="9356400" cy="7113600"/>
            <a:chOff x="-79200" y="-152280"/>
            <a:chExt cx="9356400" cy="7113600"/>
          </a:xfrm>
        </p:grpSpPr>
        <p:pic>
          <p:nvPicPr>
            <p:cNvPr id="334" name="Содержимое 2" descr=""/>
            <p:cNvPicPr/>
            <p:nvPr/>
          </p:nvPicPr>
          <p:blipFill>
            <a:blip r:embed="rId1"/>
            <a:stretch/>
          </p:blipFill>
          <p:spPr>
            <a:xfrm>
              <a:off x="-79200" y="-152280"/>
              <a:ext cx="9356400" cy="7113600"/>
            </a:xfrm>
            <a:prstGeom prst="rect">
              <a:avLst/>
            </a:prstGeom>
            <a:ln w="0">
              <a:noFill/>
            </a:ln>
          </p:spPr>
        </p:pic>
        <p:sp>
          <p:nvSpPr>
            <p:cNvPr id="33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Непосредственное воздействие вируса на нервную ткань является следствием биохимических изменений в пораженных клетках и развитием аутоиммунных реакций на антигены мозга. Причиной развития неврологической симптоматики является как прямой цитопатический эффект, так и нарушения взаимодействия между клетками нервной системы по типу дисбаланса в иммунной системе.</a:t>
              </a:r>
              <a:endParaRPr b="0" lang="en-US" sz="25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Среди оппортунистических инфекций наиболее часто наблюдается поражение мозга цитомегаловирусами, вирусами группы пегреа, токсоплазмой, гистоплазмой, грибами. Многие заболевания, например первичная лимфома ЦНС или криптококковый менингит, наблюдаются только у больных СПИДом. Некоторые заболевания развиваются при одновременном инфицировании мозга ВИЧ и другими инфекционными агентами, например прогрессирующая мультифокальная лейкоэнцефалопатия связана с одновременным воздействием ВИЧ и 1С-вируса, а саркома Капоши, вероятно, развивается при одновременном воздействии на эндотелий сосудов ВИЧ и вируса Эпштейна–Барра.</a:t>
              </a:r>
              <a:endParaRPr b="0" lang="en-US" sz="2500" spc="-1" strike="noStrike">
                <a:solidFill>
                  <a:srgbClr val="000000"/>
                </a:solidFill>
                <a:latin typeface="Corbe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Классификация</a:t>
            </a:r>
            <a:br>
              <a:rPr sz="3900"/>
            </a:br>
            <a:endParaRPr b="0" lang="en-US" sz="3900" spc="-1" strike="noStrike">
              <a:solidFill>
                <a:srgbClr val="572314"/>
              </a:solidFill>
              <a:latin typeface="Corbel"/>
            </a:endParaRPr>
          </a:p>
        </p:txBody>
      </p:sp>
      <p:pic>
        <p:nvPicPr>
          <p:cNvPr id="337" name="Содержимое 3" descr=""/>
          <p:cNvPicPr/>
          <p:nvPr/>
        </p:nvPicPr>
        <p:blipFill>
          <a:blip r:embed="rId1"/>
          <a:stretch/>
        </p:blipFill>
        <p:spPr>
          <a:xfrm>
            <a:off x="195120" y="993600"/>
            <a:ext cx="8826480" cy="56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Содержимое 3" descr=""/>
          <p:cNvPicPr/>
          <p:nvPr/>
        </p:nvPicPr>
        <p:blipFill>
          <a:blip r:embed="rId1"/>
          <a:stretch/>
        </p:blipFill>
        <p:spPr>
          <a:xfrm>
            <a:off x="122400" y="133200"/>
            <a:ext cx="8832600" cy="659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142560"/>
            <a:ext cx="879156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rbel"/>
              </a:rPr>
              <a:t>         </a:t>
            </a:r>
            <a:r>
              <a:rPr b="1" i="1" lang="ru-RU" sz="2000" spc="-1" strike="noStrike" u="sng">
                <a:solidFill>
                  <a:srgbClr val="000000"/>
                </a:solidFill>
                <a:uFillTx/>
                <a:latin typeface="Corbel"/>
              </a:rPr>
              <a:t>2. </a:t>
            </a:r>
            <a:r>
              <a:rPr b="1" i="1" lang="ru-RU" sz="2000" spc="-1" strike="noStrike">
                <a:solidFill>
                  <a:srgbClr val="ff0000"/>
                </a:solidFill>
                <a:latin typeface="Corbel"/>
              </a:rPr>
              <a:t>Первичный нейроСПИД, обусловленный воздействием самого ВИЧ, без клинико-лабораторных признаков иммунодефицита, симптоматики поражения других органов и систем. </a:t>
            </a:r>
            <a:br>
              <a:rPr sz="3900"/>
            </a:br>
            <a:endParaRPr b="0" lang="en-US" sz="2000" spc="-1" strike="noStrike">
              <a:solidFill>
                <a:srgbClr val="572314"/>
              </a:solidFill>
              <a:latin typeface="Corbel"/>
            </a:endParaRPr>
          </a:p>
        </p:txBody>
      </p:sp>
      <p:sp>
        <p:nvSpPr>
          <p:cNvPr id="340" name=""/>
          <p:cNvSpPr txBox="1"/>
          <p:nvPr/>
        </p:nvSpPr>
        <p:spPr>
          <a:xfrm>
            <a:off x="142560" y="1447560"/>
            <a:ext cx="8791560" cy="5267160"/>
          </a:xfrm>
          <a:prstGeom prst="rect">
            <a:avLst/>
          </a:prstGeom>
          <a:noFill/>
          <a:ln w="0">
            <a:noFill/>
          </a:ln>
        </p:spPr>
        <p:txBody>
          <a:bodyPr lIns="90000" rIns="90000" tIns="46800" bIns="46800"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orbel"/>
              </a:rPr>
              <a:t>2.1. ВИЧ-энцефалопатия (СПИД-Д) </a:t>
            </a:r>
            <a:endParaRPr b="0" lang="en-US" sz="32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Морфологическим субстратом СПИД-Д является первичное поражение белого вещества больших полушарий воспалительного и демиелинизирующего характера, преимущественно в подкорковых структурах, обусловленное многоочаговым гигантоклеточным энцефалитом и прогрессирующей диффузной (многоочаговой) лейкоэнцефалопатией</a:t>
            </a:r>
            <a:endParaRPr b="0" lang="en-US" sz="32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28400" y="214200"/>
            <a:ext cx="8505720" cy="150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rbel"/>
              </a:rPr>
              <a:t>Клинико-инструментальные критерии диагностики ВИЧ-энцефалопатии:</a:t>
            </a:r>
            <a:br>
              <a:rPr sz="2800"/>
            </a:br>
            <a:endParaRPr b="0" lang="en-US" sz="2800" spc="-1" strike="noStrike">
              <a:solidFill>
                <a:srgbClr val="572314"/>
              </a:solidFill>
              <a:latin typeface="Corbel"/>
            </a:endParaRPr>
          </a:p>
        </p:txBody>
      </p:sp>
      <p:pic>
        <p:nvPicPr>
          <p:cNvPr id="342" name="Схема 6" descr=""/>
          <p:cNvPicPr/>
          <p:nvPr/>
        </p:nvPicPr>
        <p:blipFill>
          <a:blip r:embed="rId1"/>
          <a:stretch/>
        </p:blipFill>
        <p:spPr>
          <a:xfrm>
            <a:off x="-79200" y="1206360"/>
            <a:ext cx="9144000" cy="55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85480" y="142920"/>
            <a:ext cx="864396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2. ВИЧ-ассоциированный менингит </a:t>
            </a:r>
            <a:endParaRPr b="0" lang="en-US" sz="3900" spc="-1" strike="noStrike">
              <a:solidFill>
                <a:srgbClr val="572314"/>
              </a:solidFill>
              <a:latin typeface="Corbel"/>
            </a:endParaRPr>
          </a:p>
        </p:txBody>
      </p:sp>
      <p:sp>
        <p:nvSpPr>
          <p:cNvPr id="344" name=""/>
          <p:cNvSpPr txBox="1"/>
          <p:nvPr/>
        </p:nvSpPr>
        <p:spPr>
          <a:xfrm>
            <a:off x="428400" y="1447560"/>
            <a:ext cx="8505720" cy="519588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Клиническая картина чаще всего стертая, может проявляться только головной болью гипертензионно-ликворного характера. Протекает она под маской постгриппозного энцефалита, мигренеподобного синдрома, церебрального арахноидита.</a:t>
            </a:r>
            <a:endParaRPr b="0" lang="en-US" sz="25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Описаны варианты серозного менингита с отсутствием менингеальных знаков, единственным проявлением может быть интенсивная головная боль распирающего характера, шум в ушах, головокружение, болезненность при движении глазных яблок. Иногда имеются симптомы интоксикации в виде общего недомогания, слабости, бессонницы, раздражительности.</a:t>
            </a:r>
            <a:endParaRPr b="0" lang="en-US" sz="25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Диагноз менингита устанавливается на основании сочетания трех синдромов: 1) общеинфекционного; 2) оболочечного (менингеального); 3) воспалительных изменений СМЖ.</a:t>
            </a:r>
            <a:endParaRPr b="0" lang="en-US" sz="2500" spc="-1" strike="noStrike">
              <a:solidFill>
                <a:srgbClr val="000000"/>
              </a:solidFill>
              <a:latin typeface="Corbel"/>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99680" y="274320"/>
            <a:ext cx="843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3. Васкулярный нейроСПИД </a:t>
            </a:r>
            <a:br>
              <a:rPr sz="3900"/>
            </a:br>
            <a:endParaRPr b="0" lang="en-US" sz="3900" spc="-1" strike="noStrike">
              <a:solidFill>
                <a:srgbClr val="572314"/>
              </a:solidFill>
              <a:latin typeface="Corbel"/>
            </a:endParaRPr>
          </a:p>
        </p:txBody>
      </p:sp>
      <p:grpSp>
        <p:nvGrpSpPr>
          <p:cNvPr id="346" name="Прямоугольник 3"/>
          <p:cNvGrpSpPr/>
          <p:nvPr/>
        </p:nvGrpSpPr>
        <p:grpSpPr>
          <a:xfrm>
            <a:off x="195120" y="1085760"/>
            <a:ext cx="8710920" cy="5302440"/>
            <a:chOff x="195120" y="1085760"/>
            <a:chExt cx="8710920" cy="5302440"/>
          </a:xfrm>
        </p:grpSpPr>
        <p:pic>
          <p:nvPicPr>
            <p:cNvPr id="347" name="Прямоугольник 3" descr=""/>
            <p:cNvPicPr/>
            <p:nvPr/>
          </p:nvPicPr>
          <p:blipFill>
            <a:blip r:embed="rId1"/>
            <a:stretch/>
          </p:blipFill>
          <p:spPr>
            <a:xfrm>
              <a:off x="195120" y="1085760"/>
              <a:ext cx="8710920" cy="5302440"/>
            </a:xfrm>
            <a:prstGeom prst="rect">
              <a:avLst/>
            </a:prstGeom>
            <a:ln w="0">
              <a:noFill/>
            </a:ln>
          </p:spPr>
        </p:pic>
        <p:sp>
          <p:nvSpPr>
            <p:cNvPr id="348" name=""/>
            <p:cNvSpPr/>
            <p:nvPr/>
          </p:nvSpPr>
          <p:spPr>
            <a:xfrm>
              <a:off x="357120" y="1143000"/>
              <a:ext cx="8358120" cy="5143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Malgun Gothic"/>
                </a:rPr>
                <a:t>Сегодня имеется достаточно данных о том, что рецепторы CD4 расположены не только в клетках нейроглии, но и эндотелиальные клетки сосудистых сплетений оболочек мозга и эпендимы желудочков на своей поверхности несут рецепторы CD4, что может приводить к развитию вирусиндуцированного васкулита головного и спинного мозга. Результат собственных наблюдений дал нам основание говорить не просто о васкулите, а о менинговаскулярной продуктивной форме нейроСПИДа. Тромбоцитопения, которая нередко развивается при СПИДе, повышает риск развития интрацеребральных геморрагий.</a:t>
              </a:r>
              <a:endParaRPr b="0" lang="en-US" sz="2400" spc="-1" strike="noStrike">
                <a:solidFill>
                  <a:srgbClr val="000000"/>
                </a:solidFill>
                <a:latin typeface="Corbe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14200" y="214200"/>
            <a:ext cx="8786880" cy="18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4. Вакуолярные миелопатии (ВИЧ-миелопатия) </a:t>
            </a:r>
            <a:br>
              <a:rPr sz="3900"/>
            </a:br>
            <a:endParaRPr b="0" lang="en-US" sz="3900" spc="-1" strike="noStrike">
              <a:solidFill>
                <a:srgbClr val="572314"/>
              </a:solidFill>
              <a:latin typeface="Corbel"/>
            </a:endParaRPr>
          </a:p>
        </p:txBody>
      </p:sp>
      <p:sp>
        <p:nvSpPr>
          <p:cNvPr id="350" name=""/>
          <p:cNvSpPr txBox="1"/>
          <p:nvPr/>
        </p:nvSpPr>
        <p:spPr>
          <a:xfrm>
            <a:off x="213840" y="1928880"/>
            <a:ext cx="8720280" cy="428616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акуолярные миелопатии — основная причина поражения спинного мозга при ВИЧ-инфекции. К сожалению, может длительно имитировать миелит, спинальную форму рассеянного склероза, спондилогенную миелопатию, интрамедуллярную опухоль и др.</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2920" y="142560"/>
            <a:ext cx="885816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2.5. Воспалительные полинейропатии (ВПНП) </a:t>
            </a:r>
            <a:endParaRPr b="0" lang="en-US" sz="3900" spc="-1" strike="noStrike">
              <a:solidFill>
                <a:srgbClr val="572314"/>
              </a:solidFill>
              <a:latin typeface="Corbel"/>
            </a:endParaRPr>
          </a:p>
        </p:txBody>
      </p:sp>
      <p:sp>
        <p:nvSpPr>
          <p:cNvPr id="352" name=""/>
          <p:cNvSpPr txBox="1"/>
          <p:nvPr/>
        </p:nvSpPr>
        <p:spPr>
          <a:xfrm>
            <a:off x="142920" y="1571400"/>
            <a:ext cx="8858160" cy="5143320"/>
          </a:xfrm>
          <a:prstGeom prst="rect">
            <a:avLst/>
          </a:prstGeom>
          <a:noFill/>
          <a:ln w="0">
            <a:noFill/>
          </a:ln>
        </p:spPr>
        <p:txBody>
          <a:bodyPr lIns="90000" rIns="90000" tIns="46800" bIns="46800"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rbel"/>
              </a:rPr>
              <a:t>        </a:t>
            </a:r>
            <a:r>
              <a:rPr b="0" lang="ru-RU" sz="3000" spc="-1" strike="noStrike">
                <a:solidFill>
                  <a:srgbClr val="000000"/>
                </a:solidFill>
                <a:latin typeface="Corbel"/>
              </a:rPr>
              <a:t>Воспалительные полинейропатии (ВПНП) могут наблюдаться на любой стадии развития ВИЧ-инфекции. Чаще они обусловлены прямым нейроцитопатическим воздействием ВИЧ, реже — результатом иммунологически обусловленного поражения периферических нервов.</a:t>
            </a:r>
            <a:endParaRPr b="0" lang="en-US" sz="3000" spc="-1" strike="noStrike">
              <a:solidFill>
                <a:srgbClr val="000000"/>
              </a:solidFill>
              <a:latin typeface="Corbel"/>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Большинство случаев ВПНП регистрируется на начальных стадиях развития ВИЧ-инфекции, но иногда они могут становиться первым признаком клинической манифестации этой инфекции.</a:t>
            </a:r>
            <a:endParaRPr b="0" lang="en-US" sz="3000" spc="-1" strike="noStrike">
              <a:solidFill>
                <a:srgbClr val="000000"/>
              </a:solidFill>
              <a:latin typeface="Corbel"/>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2920" y="142920"/>
            <a:ext cx="8858160" cy="128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ru-RU" sz="3900" spc="-1" strike="noStrike" u="sng">
                <a:solidFill>
                  <a:srgbClr val="000000"/>
                </a:solidFill>
                <a:uFillTx/>
                <a:latin typeface="Corbel"/>
              </a:rPr>
              <a:t>2.6.Энцефаломиелополирадикулонейропатии </a:t>
            </a:r>
            <a:br>
              <a:rPr sz="3900"/>
            </a:br>
            <a:endParaRPr b="0" lang="en-US" sz="3900" spc="-1" strike="noStrike">
              <a:solidFill>
                <a:srgbClr val="572314"/>
              </a:solidFill>
              <a:latin typeface="Corbel"/>
            </a:endParaRPr>
          </a:p>
        </p:txBody>
      </p:sp>
      <p:sp>
        <p:nvSpPr>
          <p:cNvPr id="354" name=""/>
          <p:cNvSpPr txBox="1"/>
          <p:nvPr/>
        </p:nvSpPr>
        <p:spPr>
          <a:xfrm>
            <a:off x="142920" y="1285560"/>
            <a:ext cx="8858160" cy="5429160"/>
          </a:xfrm>
          <a:prstGeom prst="rect">
            <a:avLst/>
          </a:prstGeom>
          <a:noFill/>
          <a:ln w="0">
            <a:noFill/>
          </a:ln>
        </p:spPr>
        <p:txBody>
          <a:bodyPr lIns="90000" rIns="90000" tIns="46800" bIns="46800" anchor="t">
            <a:normAutofit fontScale="93000"/>
          </a:bodyPr>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По нашим наблюдениям, синдром энцефаломиелополирадикулонейропатии (ЭМПРНП) встречается наиболее часто, в большинстве случаев являясь дебютом проявлений ВИЧ-инфекции. В 20 % случаев он имитирует клинику острого рассеянного энцефаломиелита, рассеянного склероза. Однако неуклонная прогредиентность процесса, отсутствие ремиссии или хотя бы стойкой стабилизации, несмотря на проведение адекватно назначенной терапии, мало характерны для указанных заболеваний. Это должно нацеливать клиницистов-неврологов на тщательный сбор анамнеза у таких пациентов, особенно молодого возраста, с целью активного выявления факторов повышенного риска ВИЧ, что является показанием к тестированию на выявление антител к данному возбудителю.</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85520" y="274680"/>
            <a:ext cx="814860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Что такое нейроСПИД </a:t>
            </a:r>
            <a:br>
              <a:rPr sz="3900"/>
            </a:br>
            <a:endParaRPr b="0" lang="en-US" sz="3900" spc="-1" strike="noStrike">
              <a:solidFill>
                <a:srgbClr val="572314"/>
              </a:solidFill>
              <a:latin typeface="Corbel"/>
            </a:endParaRPr>
          </a:p>
        </p:txBody>
      </p:sp>
      <p:sp>
        <p:nvSpPr>
          <p:cNvPr id="322" name=""/>
          <p:cNvSpPr txBox="1"/>
          <p:nvPr/>
        </p:nvSpPr>
        <p:spPr>
          <a:xfrm>
            <a:off x="285840" y="1599840"/>
            <a:ext cx="8572320" cy="4971960"/>
          </a:xfrm>
          <a:prstGeom prst="rect">
            <a:avLst/>
          </a:prstGeom>
          <a:noFill/>
          <a:ln w="0">
            <a:noFill/>
          </a:ln>
        </p:spPr>
        <p:txBody>
          <a:bodyPr lIns="90000" rIns="90000" tIns="46800" bIns="46800" anchor="t">
            <a:normAutofit fontScale="91000"/>
          </a:bodyPr>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0" lang="ru-RU" sz="2500" spc="-1" strike="noStrike">
                <a:solidFill>
                  <a:srgbClr val="000000"/>
                </a:solidFill>
                <a:latin typeface="Corbel"/>
              </a:rPr>
              <a:t>Инфицирование вирусом иммунодефицита человека (ВИЧ-инфекция) может протекать в виде латентного вирусоносительства и в виде синдрома приобретенного иммунодефицита (СПИД), являющегося конечной стадией ВИЧ-инфекции. ВИЧ-инфекция, как правило, сопровождается разнообразной неврологической симптоматикой. Выделяют две группы неврологических проявлений, связанных с ВИЧ-инфекцией. Первая группа – следствие непосредственного, прямого поражения ЦНС и периферической нервной системы ретровирусом. Вторая группа включает патологические состояния, являющиеся следствием иммунодефицита. Это оппортунистические (вторичные или параллельные) инфекции с поражением центральной и периферической нервной системы, саркома Капоши с локализацией в ткани мозга, первичные лимфомы ЦНС.</a:t>
            </a:r>
            <a:endParaRPr b="0" lang="en-US" sz="2500" spc="-1" strike="noStrike">
              <a:solidFill>
                <a:srgbClr val="000000"/>
              </a:solidFill>
              <a:latin typeface="Corbel"/>
            </a:endParaRPr>
          </a:p>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2560" y="142560"/>
            <a:ext cx="87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3. </a:t>
            </a:r>
            <a:r>
              <a:rPr b="1" i="1" lang="ru-RU" sz="3900" spc="-1" strike="noStrike">
                <a:solidFill>
                  <a:srgbClr val="ff0000"/>
                </a:solidFill>
                <a:latin typeface="Corbel"/>
              </a:rPr>
              <a:t>Вторичный нейроСПИД </a:t>
            </a:r>
            <a:br>
              <a:rPr sz="3900"/>
            </a:br>
            <a:endParaRPr b="0" lang="en-US" sz="3900" spc="-1" strike="noStrike">
              <a:solidFill>
                <a:srgbClr val="572314"/>
              </a:solidFill>
              <a:latin typeface="Corbel"/>
            </a:endParaRPr>
          </a:p>
        </p:txBody>
      </p:sp>
      <p:sp>
        <p:nvSpPr>
          <p:cNvPr id="356" name=""/>
          <p:cNvSpPr txBox="1"/>
          <p:nvPr/>
        </p:nvSpPr>
        <p:spPr>
          <a:xfrm>
            <a:off x="142920" y="857160"/>
            <a:ext cx="8858160" cy="5857920"/>
          </a:xfrm>
          <a:prstGeom prst="rect">
            <a:avLst/>
          </a:prstGeom>
          <a:noFill/>
          <a:ln w="0">
            <a:noFill/>
          </a:ln>
        </p:spPr>
        <p:txBody>
          <a:bodyPr lIns="90000" rIns="90000" tIns="46800" bIns="46800"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Вторичный нейроСПИД — это поражения НС, обусловленные оппортунистическими инфекциями и опухолями НС, которые развиваются у больных СПИДом в условиях иммунодефицита.</a:t>
            </a:r>
            <a:endParaRPr b="0" lang="en-US" sz="3200" spc="-1" strike="noStrike">
              <a:solidFill>
                <a:srgbClr val="000000"/>
              </a:solidFill>
              <a:latin typeface="Corbel"/>
            </a:endParaRPr>
          </a:p>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Оппортунистическими инфекциями называют инфекции, вызываемые условно-патогенными микробами, заражение которыми у здорового человека не сопровождается патологическими явлениями (т.е. протекает инаппарантно), а при угнетении иммунной системы вызывает заболевание.</a:t>
            </a:r>
            <a:endParaRPr b="0" lang="en-US" sz="3200" spc="-1" strike="noStrike">
              <a:solidFill>
                <a:srgbClr val="000000"/>
              </a:solidFill>
              <a:latin typeface="Corbel"/>
            </a:endParaRPr>
          </a:p>
          <a:p>
            <a:pPr marL="335520" indent="-2599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2920" y="142920"/>
            <a:ext cx="8858160" cy="15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400" spc="-1" strike="noStrike" u="sng">
                <a:solidFill>
                  <a:srgbClr val="000000"/>
                </a:solidFill>
                <a:uFillTx/>
                <a:latin typeface="Corbel"/>
              </a:rPr>
              <a:t>3.1. Прогрессирующая мультифокальная лейкоэнцефалопатия (ПМЛ) с подкорковыми гиперкинезами и нарастающей деменцией </a:t>
            </a:r>
            <a:br>
              <a:rPr sz="3900"/>
            </a:br>
            <a:endParaRPr b="0" lang="en-US" sz="2400" spc="-1" strike="noStrike">
              <a:solidFill>
                <a:srgbClr val="572314"/>
              </a:solidFill>
              <a:latin typeface="Corbel"/>
            </a:endParaRPr>
          </a:p>
        </p:txBody>
      </p:sp>
      <p:pic>
        <p:nvPicPr>
          <p:cNvPr id="358" name="Содержимое 3" descr=""/>
          <p:cNvPicPr/>
          <p:nvPr/>
        </p:nvPicPr>
        <p:blipFill>
          <a:blip r:embed="rId1"/>
          <a:stretch/>
        </p:blipFill>
        <p:spPr>
          <a:xfrm>
            <a:off x="353880" y="1494000"/>
            <a:ext cx="8656920" cy="523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57120" y="274320"/>
            <a:ext cx="8577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u="sng">
                <a:solidFill>
                  <a:srgbClr val="000000"/>
                </a:solidFill>
                <a:uFillTx/>
                <a:latin typeface="Corbel"/>
              </a:rPr>
              <a:t>3.2.1. Токсоплазмозный энцефалит </a:t>
            </a:r>
            <a:br>
              <a:rPr sz="3900"/>
            </a:br>
            <a:endParaRPr b="0" lang="en-US" sz="3900" spc="-1" strike="noStrike">
              <a:solidFill>
                <a:srgbClr val="572314"/>
              </a:solidFill>
              <a:latin typeface="Corbel"/>
            </a:endParaRPr>
          </a:p>
        </p:txBody>
      </p:sp>
      <p:sp>
        <p:nvSpPr>
          <p:cNvPr id="360" name=""/>
          <p:cNvSpPr txBox="1"/>
          <p:nvPr/>
        </p:nvSpPr>
        <p:spPr>
          <a:xfrm>
            <a:off x="499680" y="1447560"/>
            <a:ext cx="843444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Токсоплазмозный энцефалит чаще всего является основной причиной локальных внутримозговых поражений при СПИДе, вызываемых возбудителями оппортунистических инфекций, и едва ли не единственным видом патологии ЦНС при СПИДе. Развивается при снижении количества CD4 клеток до 100 и менее в 1 мм</a:t>
            </a:r>
            <a:r>
              <a:rPr b="0" lang="ru-RU" sz="3200" spc="-1" strike="noStrike" baseline="30000">
                <a:solidFill>
                  <a:srgbClr val="000000"/>
                </a:solidFill>
                <a:latin typeface="Corbel"/>
              </a:rPr>
              <a:t>3</a:t>
            </a:r>
            <a:r>
              <a:rPr b="0" lang="ru-RU" sz="3200" spc="-1" strike="noStrike">
                <a:solidFill>
                  <a:srgbClr val="000000"/>
                </a:solidFill>
                <a:latin typeface="Corbel"/>
              </a:rPr>
              <a:t>.</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13840" y="142560"/>
            <a:ext cx="872028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ru-RU" sz="3900" spc="-1" strike="noStrike" u="sng">
                <a:solidFill>
                  <a:srgbClr val="000000"/>
                </a:solidFill>
                <a:uFillTx/>
                <a:latin typeface="Corbel"/>
              </a:rPr>
              <a:t>3.2.2. Криптококковый менингит (менингоэнцефалит) </a:t>
            </a:r>
            <a:br>
              <a:rPr sz="3900"/>
            </a:br>
            <a:endParaRPr b="0" lang="en-US" sz="3900" spc="-1" strike="noStrike">
              <a:solidFill>
                <a:srgbClr val="572314"/>
              </a:solidFill>
              <a:latin typeface="Corbel"/>
            </a:endParaRPr>
          </a:p>
        </p:txBody>
      </p:sp>
      <p:sp>
        <p:nvSpPr>
          <p:cNvPr id="362" name=""/>
          <p:cNvSpPr txBox="1"/>
          <p:nvPr/>
        </p:nvSpPr>
        <p:spPr>
          <a:xfrm>
            <a:off x="285840" y="1447560"/>
            <a:ext cx="8648640" cy="5195880"/>
          </a:xfrm>
          <a:prstGeom prst="rect">
            <a:avLst/>
          </a:prstGeom>
          <a:noFill/>
          <a:ln w="0">
            <a:noFill/>
          </a:ln>
        </p:spPr>
        <p:txBody>
          <a:bodyPr lIns="90000" rIns="90000" tIns="46800" bIns="46800"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Криптококковый менингит занимает третье место среди причин поражения нервной системы больных СПИДом, уступая лишь ВИЧ-энцефалопатии и токсоплазмозному энцефалиту.</a:t>
            </a:r>
            <a:endParaRPr b="0" lang="en-US" sz="32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Клиническая картина в основном определяется не спецификой возбудителя, а интенсивностью и распространенностью патологического процесса. Неврологические симптомы выявляются довольно поздно.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99680" y="142560"/>
            <a:ext cx="843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Лечение нейроСПИДа</a:t>
            </a:r>
            <a:br>
              <a:rPr sz="3900"/>
            </a:br>
            <a:endParaRPr b="0" lang="en-US" sz="3900" spc="-1" strike="noStrike">
              <a:solidFill>
                <a:srgbClr val="572314"/>
              </a:solidFill>
              <a:latin typeface="Corbel"/>
            </a:endParaRPr>
          </a:p>
        </p:txBody>
      </p:sp>
      <p:sp>
        <p:nvSpPr>
          <p:cNvPr id="364" name=""/>
          <p:cNvSpPr txBox="1"/>
          <p:nvPr/>
        </p:nvSpPr>
        <p:spPr>
          <a:xfrm>
            <a:off x="142920" y="857160"/>
            <a:ext cx="8858160" cy="5857920"/>
          </a:xfrm>
          <a:prstGeom prst="rect">
            <a:avLst/>
          </a:prstGeom>
          <a:noFill/>
          <a:ln w="0">
            <a:noFill/>
          </a:ln>
        </p:spPr>
        <p:txBody>
          <a:bodyPr lIns="90000" rIns="90000" tIns="46800" bIns="46800"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Тактика лечения нейроСПИДа вытекает из лечения самого СПИДа и особенностей поражений НС.</a:t>
            </a:r>
            <a:endParaRPr b="0" lang="en-US" sz="22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При первичном нейроСПИДе назначение специфической ВААРТ может оказать значимый эффект, замедлив прогрессирование заболевания, и временно стабилизировать состояние больного [12, 16, 19, 22]. И все же на первом этапе симптоматическая терапия является определяющей. В частности, при лечении проявлений ВИЧ-энцефалопатии можно использовать мягкие ноотропы типа цераксона (цитиколин), ноофена, адаптола, тиоцетама. При лечении ишемических инсультов (как проявления менинговаскулярной формы нейроСПИДа) следует с осторожностью относиться к применению преимущественно антиагрегантов типа курантила, аспирина, цитохрома С, больших доз аскорбиновой кислоты, аскорутина. Лучше использовать мягкие антикоагулянты. При полинейропатиях рекомендуем мильгамму, цитиколин, нуклео-ЦМВ. Установлено, что обычный трентал уменьшает содержание ФНО-альфа в тканях мозга, предупреждая повреждения нейронов, и оказывает достаточно хороший эффект при инсультах.</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85840" y="285480"/>
            <a:ext cx="8648640" cy="6357960"/>
          </a:xfrm>
          <a:prstGeom prst="rect">
            <a:avLst/>
          </a:prstGeom>
          <a:noFill/>
          <a:ln w="0">
            <a:noFill/>
          </a:ln>
        </p:spPr>
        <p:txBody>
          <a:bodyPr lIns="90000" rIns="90000" tIns="46800" bIns="46800"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Для лечения вторичного нейроСПИДа помимо ВААРТ необходимо назначение специфической терапии поражений нервной системы, вызываемых оппортунистическими инфекциями.</a:t>
            </a:r>
            <a:endParaRPr b="0" lang="en-US" sz="30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0000"/>
                </a:solidFill>
                <a:latin typeface="Corbel"/>
              </a:rPr>
              <a:t>При токсоплазменных энцефалитах применяются пириметамин (25–150 мг/сут.) и сульфадиазин (2–4 мг/сут. в 4 приема) либо клиндамицин, или азитромицин 1200 мг однократно в течение 6 недель, затем 600 мг в сутки пожизненно; либо кларитромицин 500 мг 2 раза в сутки в течение 6 недель, затем 500 мг в сутки однократно пожизненно; ровамицин — 600 мг 1 раз в день в течение 6 недель, затем 300 мг 1 раз в сутки пожизненно.</a:t>
            </a:r>
            <a:endParaRPr b="0" lang="en-US" sz="30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13840" y="214200"/>
            <a:ext cx="8720280" cy="6429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При криптококовых менингитах — амфотерицин В 0,5—1,0 мг/кг/сут. в течение 2 недель одновременно с фторцитозином 0,5 мг/кг/сут. в/в, затем — переход на дифлюкан по 400 мг/сут. в течение 10–12 недель; либо дифлюкан по 800–1200 мг/сут.; либо интраконазол (низорал) по 200–400 мг/сут.</a:t>
            </a:r>
            <a:endParaRPr b="0" lang="en-US" sz="32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0" lang="ru-RU" sz="3200" spc="-1" strike="noStrike">
                <a:solidFill>
                  <a:srgbClr val="000000"/>
                </a:solidFill>
                <a:latin typeface="Corbel"/>
              </a:rPr>
              <a:t>При ЦМВ-энцефалитах — ацикловир (зовиракс) 10–12,5 мг/кг в/в капельно медленно в течение 60 мин через 8 часов — 10–14 суток. </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500040"/>
            <a:ext cx="4214880" cy="5929200"/>
          </a:xfrm>
          <a:prstGeom prst="rect">
            <a:avLst/>
          </a:prstGeom>
          <a:noFill/>
          <a:ln w="0">
            <a:noFill/>
          </a:ln>
        </p:spPr>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ru-RU" sz="2800" spc="-1" strike="noStrike">
                <a:solidFill>
                  <a:srgbClr val="000000"/>
                </a:solidFill>
                <a:latin typeface="Corbel"/>
              </a:rPr>
              <a:t>Вальтрекс внутрь 3000 мг в сутки в 3 приема. Цимивен 5 мг/кг веса в/в — 10–14 дней. Затем — поддерживающая терапия 25–30 мг/кг в неделю. В/в введение специфического иммуноглобулина (цитотека) 2–4 мг/кг.</a:t>
            </a:r>
            <a:endParaRPr b="0" lang="en-US" sz="2800" spc="-1" strike="noStrike">
              <a:solidFill>
                <a:srgbClr val="000000"/>
              </a:solidFill>
              <a:latin typeface="Corbel"/>
            </a:endParaRPr>
          </a:p>
        </p:txBody>
      </p:sp>
      <p:pic>
        <p:nvPicPr>
          <p:cNvPr id="368" name="Picture 2" descr="C:\Users\1\Desktop\images%5b2%5d.jpg"/>
          <p:cNvPicPr/>
          <p:nvPr/>
        </p:nvPicPr>
        <p:blipFill>
          <a:blip r:embed="rId1"/>
          <a:stretch/>
        </p:blipFill>
        <p:spPr>
          <a:xfrm>
            <a:off x="4500720" y="928800"/>
            <a:ext cx="4429080" cy="50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285840" y="285840"/>
            <a:ext cx="8648640" cy="6286320"/>
          </a:xfrm>
          <a:prstGeom prst="rect">
            <a:avLst/>
          </a:prstGeom>
          <a:noFill/>
          <a:ln w="0">
            <a:noFill/>
          </a:ln>
        </p:spPr>
        <p:txBody>
          <a:bodyPr lIns="90000" rIns="90000" tIns="46800" bIns="46800"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Показана симптоматическая терапия (кортикостероиды, противосудорожные, дезинтоксикационные средства).</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Необходимо избегать назначения иммуностимуляторов типа тимогена, тимолина, Т-активина.</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Мы убеждены и наш опыт подтверждает, что возникновение любых ранних признаков поражения НС при ВИЧ-инфекции и СПИДе должно быть абсолютным показанием для начала проведения специфической антиретровирусной терапии, несмотря на нормальное содержание CD4+ лимфоцитов в периферической крови.</a:t>
            </a:r>
            <a:endParaRPr b="0" lang="en-US" sz="27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Учитывая трудность проникновения лекарств к зараженным забарьерным клеткам глии, необходим поиск новых нейроактивных препаратов.</a:t>
            </a:r>
            <a:endParaRPr b="0" lang="en-US" sz="27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886360" y="1066320"/>
            <a:ext cx="3043440" cy="314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572314"/>
                </a:solidFill>
                <a:latin typeface="Corbel"/>
              </a:rPr>
              <a:t>Спасибо за внимание.</a:t>
            </a:r>
            <a:endParaRPr b="0" lang="en-US" sz="4400" spc="-1" strike="noStrike">
              <a:solidFill>
                <a:srgbClr val="572314"/>
              </a:solidFill>
              <a:latin typeface="Corbel"/>
            </a:endParaRPr>
          </a:p>
        </p:txBody>
      </p:sp>
      <p:pic>
        <p:nvPicPr>
          <p:cNvPr id="371" name="Рисунок 4" descr="Hydrangeas.jpg"/>
          <p:cNvPicPr/>
          <p:nvPr/>
        </p:nvPicPr>
        <p:blipFill>
          <a:blip r:embed="rId1"/>
          <a:stretch/>
        </p:blipFill>
        <p:spPr>
          <a:xfrm>
            <a:off x="835200" y="1139760"/>
            <a:ext cx="4431960" cy="386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28800" y="274320"/>
            <a:ext cx="800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Что провоцирует нейроСПИД:</a:t>
            </a:r>
            <a:br>
              <a:rPr sz="3900"/>
            </a:br>
            <a:endParaRPr b="0" lang="en-US" sz="3900" spc="-1" strike="noStrike">
              <a:solidFill>
                <a:srgbClr val="572314"/>
              </a:solidFill>
              <a:latin typeface="Corbel"/>
            </a:endParaRPr>
          </a:p>
        </p:txBody>
      </p:sp>
      <p:sp>
        <p:nvSpPr>
          <p:cNvPr id="324" name=""/>
          <p:cNvSpPr txBox="1"/>
          <p:nvPr/>
        </p:nvSpPr>
        <p:spPr>
          <a:xfrm>
            <a:off x="142560" y="999720"/>
            <a:ext cx="8791560" cy="571500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orbel"/>
              </a:rPr>
              <a:t>              </a:t>
            </a:r>
            <a:r>
              <a:rPr b="1" lang="ru-RU" sz="2500" spc="-1" strike="noStrike">
                <a:solidFill>
                  <a:srgbClr val="000000"/>
                </a:solidFill>
                <a:latin typeface="Corbel"/>
              </a:rPr>
              <a:t>Вирус СПИДа</a:t>
            </a:r>
            <a:r>
              <a:rPr b="0" lang="ru-RU" sz="2500" spc="-1" strike="noStrike">
                <a:solidFill>
                  <a:srgbClr val="000000"/>
                </a:solidFill>
                <a:latin typeface="Corbel"/>
              </a:rPr>
              <a:t> был описан в 1983 г. одновременно во Франции (в институте им. Л. Пастера) и в США (в лаборатории Р. Галло). Этот вирус из группы ретровирусов обладает очень высокой вариабельнотью. В настоящее время описано несколько основных типов ВИЧ. В качестве генетического материала вирус содержит РНК, которая легко встраивается в геномный материал клетки человека с помощью специального вирусного фермента – вирусной транскриптазы. ВИЧ активно размножается в клетке, некоторые инфицированные клетки под влиянием вируса сливаются, становясь гигантскими и многоядерными. ВИЧ способен долгое время циркулировать в крови человека, в его клетках, не оказывая при этом патогенного действия. Не у всех носителей ВИЧ развивается СПИД, хотя все они составляют группу риска. Механизмы поддержания этого латентного периода, как и причины актив ации вируса, по ка не со всем ясны . </a:t>
            </a:r>
            <a:endParaRPr b="0" lang="en-US" sz="25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Схема 3" descr=""/>
          <p:cNvPicPr/>
          <p:nvPr/>
        </p:nvPicPr>
        <p:blipFill>
          <a:blip r:embed="rId1"/>
          <a:stretch/>
        </p:blipFill>
        <p:spPr>
          <a:xfrm>
            <a:off x="493560" y="353880"/>
            <a:ext cx="8229600" cy="615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Содержимое 2" descr=""/>
          <p:cNvPicPr/>
          <p:nvPr/>
        </p:nvPicPr>
        <p:blipFill>
          <a:blip r:embed="rId1"/>
          <a:stretch/>
        </p:blipFill>
        <p:spPr>
          <a:xfrm>
            <a:off x="133200" y="298440"/>
            <a:ext cx="8931600" cy="660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42560" y="285480"/>
            <a:ext cx="8791560" cy="6429240"/>
          </a:xfrm>
          <a:prstGeom prst="rect">
            <a:avLst/>
          </a:prstGeom>
          <a:noFill/>
          <a:ln w="0">
            <a:noFill/>
          </a:ln>
        </p:spPr>
        <p:txBody>
          <a:bodyPr lIns="90000" rIns="90000" tIns="46800" bIns="46800" anchor="t">
            <a:normAutofit fontScale="96000"/>
          </a:bodyPr>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     </a:t>
            </a:r>
            <a:r>
              <a:rPr b="0" lang="ru-RU" sz="3000" spc="-1" strike="noStrike">
                <a:solidFill>
                  <a:srgbClr val="0070c0"/>
                </a:solidFill>
                <a:latin typeface="Corbel"/>
              </a:rPr>
              <a:t>ВИЧ тропен к клеткам иммунной и нервной систем. Вирус направленно поражает клетки, имеющие на своей мембране молекулу СD4-рецептора. Среди клеток иммунной системы этот рецептор имеют в основном Т-лимфоциты, выполняющие функции хелперных клеток. В меньшей степени этот бело к представ лен на мембранах других клеток, в частности клето к нервной системы, особенно микроглии, клеток сосудисто й стенки и др. ВИЧ связывается с СD4-рецептором клетки при участии своего поверхностного белка, который в последующем может экспрессироваться на поверхности инфицированной клетки</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Эпидемиология</a:t>
            </a:r>
            <a:br>
              <a:rPr sz="3900"/>
            </a:br>
            <a:endParaRPr b="0" lang="en-US" sz="3900" spc="-1" strike="noStrike">
              <a:solidFill>
                <a:srgbClr val="572314"/>
              </a:solidFill>
              <a:latin typeface="Corbel"/>
            </a:endParaRPr>
          </a:p>
        </p:txBody>
      </p:sp>
      <p:sp>
        <p:nvSpPr>
          <p:cNvPr id="329" name=""/>
          <p:cNvSpPr txBox="1"/>
          <p:nvPr/>
        </p:nvSpPr>
        <p:spPr>
          <a:xfrm>
            <a:off x="357120" y="1447920"/>
            <a:ext cx="8577360" cy="5124240"/>
          </a:xfrm>
          <a:prstGeom prst="rect">
            <a:avLst/>
          </a:prstGeom>
          <a:noFill/>
          <a:ln w="0">
            <a:noFill/>
          </a:ln>
        </p:spPr>
        <p:txBody>
          <a:bodyPr lIns="90000" rIns="90000" tIns="46800" bIns="46800"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Сегодня совершенно очевидно, что ВИЧ-инфекция из стадии бессимптомного носительства перешла в стадию клинических проявлений и вошла в наши поликлиники и стационары. Опыт показал, что данная категория пациентов в настоящее время концентрируется не только в центрах и кабинетах по профилактике СПИДа, а все чаще обращается к неврологам поликлиник и при неэффективности проводимой терапии госпитализируется в стационары с диагнозами дисциркуляторной энцефалопатии, полинейропатии неуточненного генеза, синдрома рассеянного энцефаломиелита, инсульта, прогрессирующей миелопатии, очагового поражения головного мозга, лейкоэнцефалопатии и др.</a:t>
            </a:r>
            <a:endParaRPr b="0" lang="en-US" sz="2700" spc="-1" strike="noStrike">
              <a:solidFill>
                <a:srgbClr val="000000"/>
              </a:solidFill>
              <a:latin typeface="Corbel"/>
            </a:endParaRPr>
          </a:p>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285840" y="285480"/>
            <a:ext cx="8648640" cy="642924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    </a:t>
            </a:r>
            <a:r>
              <a:rPr b="0" lang="ru-RU" sz="2700" spc="-1" strike="noStrike">
                <a:solidFill>
                  <a:srgbClr val="000000"/>
                </a:solidFill>
                <a:latin typeface="Corbel"/>
              </a:rPr>
              <a:t>К сожалению, и до настоящего времени нет единого мнения о номенклатуре и классификации болезней ВИЧ-носительства и СПИДа/нейроСПИДа, а следовательно, нет четких рекомендаций для практических врачей.</a:t>
            </a:r>
            <a:endParaRPr b="0" lang="en-US" sz="2700" spc="-1" strike="noStrike">
              <a:solidFill>
                <a:srgbClr val="000000"/>
              </a:solidFill>
              <a:latin typeface="Corbel"/>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В Международной классификации 10-го пересмотра поражения нервной системы при ВИЧ отнесены к классу «Некоторые инфекционные и паразитарные болезни», блок В20–В24, где в графе В22.0 предусмотрено только общее поражение нервной системы (болезнь, вызванная ВИЧ, с проявлениями энцефалопатии), и к F02.4 (болезнь, вызванная ВИЧ, с проявлениями СПИД-деменции). А ведь знание различных клинических форм заболевания определяет особенности терапии. По многообразию клинических форм первичный и вторичный нейроСПИД близки, но этиологические факторы различны, а следовательно, и тактика курации подобных больных разная.</a:t>
            </a:r>
            <a:endParaRPr b="0" lang="en-US" sz="2700" spc="-1" strike="noStrike">
              <a:solidFill>
                <a:srgbClr val="000000"/>
              </a:solidFill>
              <a:latin typeface="Corbel"/>
            </a:endParaRPr>
          </a:p>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85480" y="142560"/>
            <a:ext cx="8715240" cy="150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Патогенез (что происходит?) во время нейроСПИДа:</a:t>
            </a:r>
            <a:br>
              <a:rPr sz="3900"/>
            </a:br>
            <a:endParaRPr b="0" lang="en-US" sz="3900" spc="-1" strike="noStrike">
              <a:solidFill>
                <a:srgbClr val="572314"/>
              </a:solidFill>
              <a:latin typeface="Corbel"/>
            </a:endParaRPr>
          </a:p>
        </p:txBody>
      </p:sp>
      <p:sp>
        <p:nvSpPr>
          <p:cNvPr id="332" name=""/>
          <p:cNvSpPr txBox="1"/>
          <p:nvPr/>
        </p:nvSpPr>
        <p:spPr>
          <a:xfrm>
            <a:off x="214200" y="1447560"/>
            <a:ext cx="8786880" cy="5195880"/>
          </a:xfrm>
          <a:prstGeom prst="rect">
            <a:avLst/>
          </a:prstGeom>
          <a:noFill/>
          <a:ln w="0">
            <a:noFill/>
          </a:ln>
        </p:spPr>
        <p:txBody>
          <a:bodyPr lIns="90000" rIns="90000" tIns="46800" bIns="46800"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          </a:t>
            </a:r>
            <a:r>
              <a:rPr b="0" lang="ru-RU" sz="2200" spc="-1" strike="noStrike">
                <a:solidFill>
                  <a:srgbClr val="000000"/>
                </a:solidFill>
                <a:latin typeface="Corbel"/>
              </a:rPr>
              <a:t>Поражение иммунной системы при ВИЧ-инфекции связано не только с прямым или непрямым (при участии иммунных механизмов) цитотоксическим влиянием вируса на Т-хелперные клетки, но и нарушением регуляции иммунного ответа. Т-лимфоциты-хелперы осуществляют координацию и стимуляцию пролиферации и дифференцировки всех клеток иммунной системы, стимулируют продукцию антител В-клетками, продуцируют различные цитокины. координирующие работу иммунной системы. Недостаток и/или изменения активности хелперов приводят к нарушению иммунного ответа на многие вирусы, бактерии, простейшие, многие из которых при отсутствии иммунодефицита имеют условно-патогенное значение. Дисрегуляция в работе иммунной системы проявляется и тем, что наряду с иммунодефицитом у больных СПИДом отмечаются аутоиммунные реакции, т.е. неконтролируемые реакции на собственные антигены. Некоторые неврологические проявления СПИДа также связаны с аутоиммунными реакциями, например полиневропатия и асептический менингит.</a:t>
            </a:r>
            <a:endParaRPr b="0" lang="en-US" sz="2200" spc="-1" strike="noStrike">
              <a:solidFill>
                <a:srgbClr val="000000"/>
              </a:solidFill>
              <a:latin typeface="Corbel"/>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7:58:51Z</dcterms:created>
  <dc:creator>1</dc:creator>
  <dc:description/>
  <dc:language>en-US</dc:language>
  <cp:lastModifiedBy>1</cp:lastModifiedBy>
  <dcterms:modified xsi:type="dcterms:W3CDTF">2011-11-18T02:06:28Z</dcterms:modified>
  <cp:revision>10</cp:revision>
  <dc:subject/>
  <dc:title>«Нейроспид. Неврологические расстройства при ВИЧ-инфекции»</dc:title>
</cp:coreProperties>
</file>