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6181-5C42-44FC-9F7B-FDCB52548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7A16-CB99-4A2E-A1DF-1BE182CCD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0232-6B4B-42CB-A2A5-917E666DA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AD2-70B3-4F78-B1C8-6684B0C49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150-97C5-4B4E-B00C-62D8365D4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1F4-82E8-4470-8E7E-A67BB4664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185F-3195-42D4-9A09-F631AFD21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9F21-4C2E-4D8F-A5CF-344F51AC3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CC18-926B-4220-89B9-EF4801939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05F-0744-4F4D-AD85-9AEB672BA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9DC-124C-4388-9FEF-DD2827842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1CA-B480-4BA7-AE03-BBC7CF439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2593-DB29-4B0C-9A6F-1EC814FF1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06A1-20B6-412B-AC4F-3EBA48BE2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AAE-B4D7-446B-83E7-4A0153D9D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05D-3D00-4350-93B2-36894FE35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217-6A8C-463B-A7CB-4A3568A9B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09B-0571-493A-9006-311FA35CD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C5BA-FF3E-4AFF-9533-DA92898CB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9C7-032A-4DE4-A927-7485EAA93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C117-44A4-41F6-9DC0-FF259B9DD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174-DD45-4FDD-86BD-9DF00CD32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BE4-9A23-44D7-A853-5F1DE2DD3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EB68-EE5D-4C03-9534-AF13CEF55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6EE-D9A9-444D-86A4-ACD185562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3B0-2B55-461B-AD77-D3D4CC0A4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DB6-918D-4C07-9499-6124349AF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FFC-150F-4A64-AB8A-D7C7F4831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A6B-BA51-4381-8397-A9E072043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748C-45D1-424F-A64B-A062FAAF0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7E9-7407-4BD4-A4E7-9E1F8ABDB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BA83-1864-4B88-81CA-6D059AA9B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37D2-D245-4DAC-A685-FDDD6B928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D6B-2AC6-481A-A670-46FC13190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A1D-01FA-404A-B371-C0296757A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7C7-5524-48A2-AA6B-3FFF65AA3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2F3-36E5-4D35-96A3-FAEF45A5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50F-3C51-4B36-A5D1-7C6669E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8E4-FA84-419C-83FD-129AA345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2C7-36EA-4835-B2AB-FFFBAA19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8D3-E3AF-43A3-B8F9-806631EE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743-6EF9-4471-89E9-7380583F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044-9795-4AED-AAC6-B19EC6B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919-698C-480D-A854-D1A7B71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BA0-64DA-4810-A1FE-A0061B8A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926-FC91-4EF7-B0F3-6B971B5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DF9-4B4D-4549-A513-DA11908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F89-F7D4-4EC7-B437-FF671E7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413-3A45-48E0-9789-2E1C846E5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3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Admin</cp:lastModifiedBy>
  <dcterms:modified xsi:type="dcterms:W3CDTF">2013-01-19T13:35:16Z</dcterms:modified>
  <cp:revision>67</cp:revision>
  <dc:subject>История русской философии - Лекция 3</dc:subject>
  <dc:title>Западники</dc:title>
</cp:coreProperties>
</file>