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5B36-1726-4A3C-AD68-DF1252A83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AB98-48DD-4EF5-B693-840AFC7A4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164B-95B9-40F1-9054-C65079FE3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FED4-3CAC-4AB2-B29E-4B6DBB266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6E2-5E25-4AFF-8C55-29561483A1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EF6A-A6F9-40CE-80E6-4B7B55C15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9E3F-AEBD-412D-A4D8-FF49FCB76A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91DF-DF90-40B3-9506-D2026323C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F1D-5A97-48E7-96E0-84CC9A873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0A8-5D59-49CF-A0B4-EA67E5A1D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1E34-9040-44AF-9DA8-F4600BAF1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33C5-CA71-4ABB-ACD9-B67C3C847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4BDC-065A-4D96-968A-1586B3751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AA30-3908-42C3-B254-EE932424B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C8B8-6672-4230-9EA2-22D8D04A0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FE8-EA62-4ECA-8109-428B22B36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0477-AE23-4AA5-A505-86853ACC6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0C01-205D-4825-84AC-F8204CB97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A9E0-7DA9-478D-817D-9450768BD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0F71-EAE4-4C0E-BFC6-641357FF7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8ABE-2832-465E-9CE0-BA6643AC3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B690-D8C9-4862-B9E4-418C541D1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C5B5-660D-4C3C-87CA-F25AB1B97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9640-47E7-4412-9853-F4017400C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EFC-349F-455C-BB76-0E35F2095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3DA-3A5C-4D01-8359-8EDEE99F9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8C79-6202-4EED-8184-CD3F90912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5DF9-260B-4A3A-BDFC-CCA0C640D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586-E76C-4DA7-B701-CC2D6DE52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87D4-5EC0-49A1-9F01-36C367949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BCFB-4653-4589-83CD-98BAB3ED7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DC28-E85C-4C91-A31C-612F06562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2D9-D760-40AA-9296-02B03A28B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10DD-189C-4005-9555-3B50730291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D36-4E20-4081-B237-71FCD4685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17B8-6D4D-41B3-8E65-B7D929DD7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EC1-96FF-427C-89E0-D3D0650E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457-89D8-4312-81E8-E5F5455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C5F-8B35-4A17-B1FC-F1BBFB26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DB2-6D51-4D0E-BC63-B2B82312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863-8793-413B-BC6B-27359BE3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294-4C19-4D17-94C6-2C93F3B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BDC-BBAD-44F3-8846-3C224EFC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C51-E45A-482C-9FED-A2350055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9E6-A27B-439D-93CE-16FFB83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719-E6BA-415D-AD87-87D652A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8D0-8BA4-4C48-AEDA-8749C42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A8C-200A-42AC-8559-3684F753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FB72-3BC2-47D2-ABF6-8DF2209FB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3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2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Admin</cp:lastModifiedBy>
  <dcterms:modified xsi:type="dcterms:W3CDTF">2013-01-19T13:35:16Z</dcterms:modified>
  <cp:revision>67</cp:revision>
  <dc:subject>История русской философии - Лекция 3</dc:subject>
  <dc:title>Западники</dc:title>
</cp:coreProperties>
</file>