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D92-4FF3-410A-B6F9-7E3A5FD7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466-FF12-4CE5-A802-C5B30569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452-C334-4EAC-8BF7-0BE02CF9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B1E-1359-457C-B891-351B67E2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127-A846-42D0-91F9-4885915D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880-2C53-4ED2-8E3D-46EE21F7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FED-2123-4D5F-92B5-F2EE891B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3C2-1F31-4C78-B4C3-4C7DC303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97C-F221-401E-82ED-3B7F2389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5CC-3002-444B-A2CB-76AB6A8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C2C-C3B8-42AA-9AF7-38F36B34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030-71B5-41F4-87EA-6F3681E0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34D3-859F-45BC-9B17-F5C05FAB5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7"/>
          <p:cNvSpPr/>
          <p:nvPr/>
        </p:nvSpPr>
        <p:spPr>
          <a:xfrm>
            <a:off x="2428920" y="907920"/>
            <a:ext cx="60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i="1" lang="ru-RU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Русский язы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в 3 «Г» класс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Подберите однокоренные слов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ь библиотеч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Испокон  века  книга  растит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Monotype Corsiva"/>
              </a:rPr>
              <a:t>Испокон  века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книга  растит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92844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ущ.       гл.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4"/>
          <p:cNvSpPr/>
          <p:nvPr/>
        </p:nvSpPr>
        <p:spPr>
          <a:xfrm>
            <a:off x="5214960" y="3357720"/>
            <a:ext cx="17859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"/>
          <p:cNvSpPr/>
          <p:nvPr/>
        </p:nvSpPr>
        <p:spPr>
          <a:xfrm>
            <a:off x="5286240" y="3143160"/>
            <a:ext cx="17859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"/>
          <p:cNvSpPr/>
          <p:nvPr/>
        </p:nvSpPr>
        <p:spPr>
          <a:xfrm>
            <a:off x="3643200" y="3214800"/>
            <a:ext cx="12859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7"/>
          <p:cNvSpPr/>
          <p:nvPr/>
        </p:nvSpPr>
        <p:spPr>
          <a:xfrm flipV="1">
            <a:off x="8897760" y="3142800"/>
            <a:ext cx="492480" cy="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9"/>
          <p:cNvSpPr/>
          <p:nvPr/>
        </p:nvSpPr>
        <p:spPr>
          <a:xfrm flipV="1">
            <a:off x="8072280" y="3142800"/>
            <a:ext cx="490680" cy="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0"/>
          <p:cNvSpPr/>
          <p:nvPr/>
        </p:nvSpPr>
        <p:spPr>
          <a:xfrm flipV="1">
            <a:off x="7215120" y="3142800"/>
            <a:ext cx="490680" cy="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17"/>
          <p:cNvCxnSpPr/>
          <p:nvPr/>
        </p:nvCxnSpPr>
        <p:spPr>
          <a:xfrm flipH="1">
            <a:off x="7929000" y="2214720"/>
            <a:ext cx="108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Прямая соединительная линия 22"/>
          <p:cNvSpPr/>
          <p:nvPr/>
        </p:nvSpPr>
        <p:spPr>
          <a:xfrm>
            <a:off x="6000840" y="221472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9"/>
          <p:cNvSpPr/>
          <p:nvPr/>
        </p:nvSpPr>
        <p:spPr>
          <a:xfrm>
            <a:off x="6000840" y="2286000"/>
            <a:ext cx="19288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хотник  шёл пешком.</a:t>
            </a:r>
            <a:br>
              <a:rPr sz="72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л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ар.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хотник  шёл пешком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1357200" y="2143080"/>
            <a:ext cx="23576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7"/>
          <p:cNvSpPr/>
          <p:nvPr/>
        </p:nvSpPr>
        <p:spPr>
          <a:xfrm>
            <a:off x="4214880" y="2143080"/>
            <a:ext cx="10713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8"/>
          <p:cNvSpPr/>
          <p:nvPr/>
        </p:nvSpPr>
        <p:spPr>
          <a:xfrm>
            <a:off x="4214880" y="2286000"/>
            <a:ext cx="1071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>
            <a:off x="728676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642924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>
            <a:off x="550080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л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ар.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хотник  шёл пешком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5"/>
          <p:cNvSpPr/>
          <p:nvPr/>
        </p:nvSpPr>
        <p:spPr>
          <a:xfrm>
            <a:off x="1357200" y="2143080"/>
            <a:ext cx="23576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7"/>
          <p:cNvSpPr/>
          <p:nvPr/>
        </p:nvSpPr>
        <p:spPr>
          <a:xfrm>
            <a:off x="4214880" y="2143080"/>
            <a:ext cx="10713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8"/>
          <p:cNvSpPr/>
          <p:nvPr/>
        </p:nvSpPr>
        <p:spPr>
          <a:xfrm>
            <a:off x="4214880" y="2286000"/>
            <a:ext cx="1071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728676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1"/>
          <p:cNvSpPr/>
          <p:nvPr/>
        </p:nvSpPr>
        <p:spPr>
          <a:xfrm>
            <a:off x="642924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2"/>
          <p:cNvSpPr/>
          <p:nvPr/>
        </p:nvSpPr>
        <p:spPr>
          <a:xfrm>
            <a:off x="550080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714240" y="3078000"/>
            <a:ext cx="77155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бстоятельство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образа действ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бсудим с товарищем: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. на какой вопрос отвечает</a:t>
            </a:r>
            <a:br>
              <a:rPr sz="6000"/>
            </a:br>
            <a:r>
              <a:rPr b="1" lang="ru-RU" sz="6000" spc="-1" strike="noStrike">
                <a:solidFill>
                  <a:srgbClr val="003a1a"/>
                </a:solidFill>
                <a:latin typeface="Arial"/>
              </a:rPr>
              <a:t>2. что обозначает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. какой частью речи выраже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есной возвращаются птицы.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 осени стояла тишин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есной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когда?)</a:t>
            </a:r>
            <a:br>
              <a:rPr sz="5400"/>
            </a:b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озвращаются птицы.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 осени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с каких пор?)</a:t>
            </a:r>
            <a:br>
              <a:rPr sz="5400"/>
            </a:b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тояла тишин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26"/>
          <p:cNvSpPr/>
          <p:nvPr/>
        </p:nvSpPr>
        <p:spPr>
          <a:xfrm>
            <a:off x="6407280" y="2924280"/>
            <a:ext cx="2736720" cy="177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27"/>
          <p:cNvSpPr/>
          <p:nvPr/>
        </p:nvSpPr>
        <p:spPr>
          <a:xfrm>
            <a:off x="4716360" y="4292640"/>
            <a:ext cx="273528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29"/>
          <p:cNvSpPr/>
          <p:nvPr/>
        </p:nvSpPr>
        <p:spPr>
          <a:xfrm>
            <a:off x="5796000" y="1197000"/>
            <a:ext cx="273672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30"/>
          <p:cNvSpPr/>
          <p:nvPr/>
        </p:nvSpPr>
        <p:spPr>
          <a:xfrm>
            <a:off x="3203640" y="2205000"/>
            <a:ext cx="2881080" cy="2303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28"/>
          <p:cNvSpPr/>
          <p:nvPr/>
        </p:nvSpPr>
        <p:spPr>
          <a:xfrm>
            <a:off x="2124000" y="4724280"/>
            <a:ext cx="273528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25"/>
          <p:cNvSpPr/>
          <p:nvPr/>
        </p:nvSpPr>
        <p:spPr>
          <a:xfrm>
            <a:off x="539640" y="3068640"/>
            <a:ext cx="273708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24"/>
          <p:cNvSpPr/>
          <p:nvPr/>
        </p:nvSpPr>
        <p:spPr>
          <a:xfrm>
            <a:off x="755640" y="1268280"/>
            <a:ext cx="273672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20"/>
          <p:cNvSpPr/>
          <p:nvPr/>
        </p:nvSpPr>
        <p:spPr>
          <a:xfrm>
            <a:off x="3348000" y="260280"/>
            <a:ext cx="2736720" cy="1917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3214800" y="2781360"/>
            <a:ext cx="3000240" cy="9349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БРОГО ЗДОРО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900000" y="1628640"/>
            <a:ext cx="244800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ELLO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357120" y="3429000"/>
            <a:ext cx="270216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OOD MOR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1643040" y="5084640"/>
            <a:ext cx="385776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00000"/>
                </a:solidFill>
                <a:latin typeface="Arial"/>
              </a:rPr>
              <a:t>АМАНСЫҢ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5572080" y="1557360"/>
            <a:ext cx="3286080" cy="9349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Л ЖАНЫҢ АМАН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6072120" y="3357720"/>
            <a:ext cx="3357720" cy="9349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УСТЬ БУДЕТ МИ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4643280" y="4724280"/>
            <a:ext cx="314352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Я ТЕБЯ ВИЖ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2928960" y="692280"/>
            <a:ext cx="3357720" cy="93636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ДРАВСТВУ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времени действ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ыползают из-под земли жуки. 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3a1a"/>
                </a:solidFill>
                <a:latin typeface="Arial"/>
              </a:rPr>
              <a:t>В чащу спрятался медведь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ыползают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откуда?)</a:t>
            </a:r>
            <a:br>
              <a:rPr sz="5400"/>
            </a:b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из-под земли жуки. 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3a1a"/>
                </a:solidFill>
                <a:latin typeface="Arial"/>
              </a:rPr>
              <a:t>В чащу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куда?)</a:t>
            </a:r>
            <a:br>
              <a:rPr sz="5400"/>
            </a:br>
            <a:r>
              <a:rPr b="1" i="1" lang="ru-RU" sz="5400" spc="-1" strike="noStrike">
                <a:solidFill>
                  <a:srgbClr val="003a1a"/>
                </a:solidFill>
                <a:latin typeface="Arial"/>
              </a:rPr>
              <a:t>спрятался медведь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места действ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ерёжа молчал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из вежливости. </a:t>
            </a:r>
            <a:br>
              <a:rPr sz="5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ерёжа молчал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почему?)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из вежливости.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причин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уристы остановились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на ночлег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уристы остановились 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зачем?)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на ночлег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причин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2600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2600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kinofilms.tv/images/films/49/48278/pict/2.jpg"/>
          <p:cNvPicPr/>
          <p:nvPr/>
        </p:nvPicPr>
        <p:blipFill>
          <a:blip r:embed="rId2"/>
          <a:stretch/>
        </p:blipFill>
        <p:spPr>
          <a:xfrm>
            <a:off x="1214280" y="1214280"/>
            <a:ext cx="6901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7840" y="274320"/>
            <a:ext cx="382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е № 282, с. 1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pics.tinypic.pl/i/00259/po86l0wafdop.gif"/>
          <p:cNvPicPr/>
          <p:nvPr/>
        </p:nvPicPr>
        <p:blipFill>
          <a:blip r:embed="rId2"/>
          <a:stretch/>
        </p:blipFill>
        <p:spPr>
          <a:xfrm>
            <a:off x="500040" y="0"/>
            <a:ext cx="51436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оятельств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stat17.privet.ru/lr/0913accabace18969065374fa321c66b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оятельство места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img0.liveinternet.ru/images/attach/c/3/83/511/83511320_c729c240a199.jpg"/>
          <p:cNvPicPr/>
          <p:nvPr/>
        </p:nvPicPr>
        <p:blipFill>
          <a:blip r:embed="rId2"/>
          <a:stretch/>
        </p:blipFill>
        <p:spPr>
          <a:xfrm>
            <a:off x="0" y="1638360"/>
            <a:ext cx="914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оятельство образа действ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www.proza.ru/pics/2011/02/22/1030.jpg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2600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400068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Д.з.(уч.)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.120пр, №28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7"/>
          <p:cNvSpPr/>
          <p:nvPr/>
        </p:nvSpPr>
        <p:spPr>
          <a:xfrm>
            <a:off x="2928960" y="907920"/>
            <a:ext cx="557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Тема урока::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Обстоя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2500200" y="907920"/>
            <a:ext cx="6000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Шес</a:t>
            </a:r>
            <a:r>
              <a:rPr b="1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т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надцатое апр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Кла</a:t>
            </a:r>
            <a:r>
              <a:rPr b="1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с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ная р</a:t>
            </a:r>
            <a:r>
              <a:rPr b="1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2500200" y="907920"/>
            <a:ext cx="600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6" descr="53001.JPG">
            <a:hlinkClick r:id="" action="ppaction://hlinkshowjump?jump=nextslide"/>
          </p:cNvPr>
          <p:cNvPicPr/>
          <p:nvPr/>
        </p:nvPicPr>
        <p:blipFill>
          <a:blip r:embed="rId1"/>
          <a:srcRect l="28858" t="3029" r="87" b="22369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" descr=""/>
          <p:cNvPicPr/>
          <p:nvPr/>
        </p:nvPicPr>
        <p:blipFill>
          <a:blip r:embed="rId2"/>
          <a:stretch/>
        </p:blipFill>
        <p:spPr>
          <a:xfrm>
            <a:off x="396720" y="85680"/>
            <a:ext cx="8558280" cy="1176480"/>
          </a:xfrm>
          <a:prstGeom prst="rect">
            <a:avLst/>
          </a:prstGeom>
          <a:ln w="0">
            <a:noFill/>
          </a:ln>
        </p:spPr>
      </p:pic>
      <p:pic>
        <p:nvPicPr>
          <p:cNvPr id="74" name="Text Box 11" descr=""/>
          <p:cNvPicPr/>
          <p:nvPr/>
        </p:nvPicPr>
        <p:blipFill>
          <a:blip r:embed="rId3"/>
          <a:stretch/>
        </p:blipFill>
        <p:spPr>
          <a:xfrm>
            <a:off x="-6480" y="208080"/>
            <a:ext cx="311400" cy="718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468000" y="3071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8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Л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О</a:t>
            </a:r>
            <a:r>
              <a:rPr b="1" lang="ru-RU" sz="8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Е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6" descr="53001.JPG">
            <a:hlinkClick r:id="" action="ppaction://hlinkshowjump?jump=nextslide"/>
          </p:cNvPr>
          <p:cNvPicPr/>
          <p:nvPr/>
        </p:nvPicPr>
        <p:blipFill>
          <a:blip r:embed="rId4"/>
          <a:srcRect l="28858" t="3029" r="1104" b="45476"/>
          <a:stretch/>
        </p:blipFill>
        <p:spPr>
          <a:xfrm>
            <a:off x="0" y="1857240"/>
            <a:ext cx="9001080" cy="8575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6" descr="53001.JPG">
            <a:hlinkClick r:id="" action="ppaction://hlinkshowjump?jump=nextslide"/>
          </p:cNvPr>
          <p:cNvPicPr/>
          <p:nvPr/>
        </p:nvPicPr>
        <p:blipFill>
          <a:blip r:embed="rId5"/>
          <a:srcRect l="28858" t="660" r="1395" b="45476"/>
          <a:stretch/>
        </p:blipFill>
        <p:spPr>
          <a:xfrm>
            <a:off x="428760" y="3714840"/>
            <a:ext cx="7358040" cy="89676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6" descr="53001.JPG">
            <a:hlinkClick r:id="" action="ppaction://hlinkshowjump?jump=nextslide"/>
          </p:cNvPr>
          <p:cNvPicPr/>
          <p:nvPr/>
        </p:nvPicPr>
        <p:blipFill>
          <a:blip r:embed="rId6"/>
          <a:srcRect l="28858" t="3029" r="1395" b="45476"/>
          <a:stretch/>
        </p:blipFill>
        <p:spPr>
          <a:xfrm>
            <a:off x="428760" y="4857840"/>
            <a:ext cx="7072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библиотека\0_590c7_424ef11a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5138640"/>
            <a:ext cx="92548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библиотека\Lletter33.jpg"/>
          <p:cNvPicPr/>
          <p:nvPr/>
        </p:nvPicPr>
        <p:blipFill>
          <a:blip r:embed="rId1"/>
          <a:stretch/>
        </p:blipFill>
        <p:spPr>
          <a:xfrm>
            <a:off x="0" y="-23760"/>
            <a:ext cx="9180360" cy="69325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49320" y="1159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блиоте́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греч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бл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ни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 -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сто 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) — учреждение, собирающее и хранящее произведения печати и письменности для общественного поль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:\библиотека\350px-Bibliotheque_alencon_670px.jpg"/>
          <p:cNvPicPr/>
          <p:nvPr/>
        </p:nvPicPr>
        <p:blipFill>
          <a:blip r:embed="rId2"/>
          <a:stretch/>
        </p:blipFill>
        <p:spPr>
          <a:xfrm>
            <a:off x="179280" y="2682720"/>
            <a:ext cx="5086440" cy="366408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3166920" cy="421956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grpSp>
        <p:nvGrpSpPr>
          <p:cNvPr id="86" name="TextBox 3"/>
          <p:cNvGrpSpPr/>
          <p:nvPr/>
        </p:nvGrpSpPr>
        <p:grpSpPr>
          <a:xfrm>
            <a:off x="5284800" y="1468440"/>
            <a:ext cx="3298680" cy="781200"/>
            <a:chOff x="5284800" y="1468440"/>
            <a:chExt cx="3298680" cy="781200"/>
          </a:xfrm>
        </p:grpSpPr>
        <p:pic>
          <p:nvPicPr>
            <p:cNvPr id="87" name="TextBox 3" descr=""/>
            <p:cNvPicPr/>
            <p:nvPr/>
          </p:nvPicPr>
          <p:blipFill>
            <a:blip r:embed="rId4"/>
            <a:stretch/>
          </p:blipFill>
          <p:spPr>
            <a:xfrm>
              <a:off x="5284800" y="1468440"/>
              <a:ext cx="32986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345280" y="1531800"/>
              <a:ext cx="31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Старинная библиотека монастыря в Авст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TextBox 4"/>
          <p:cNvGrpSpPr/>
          <p:nvPr/>
        </p:nvGrpSpPr>
        <p:grpSpPr>
          <a:xfrm>
            <a:off x="407880" y="1962000"/>
            <a:ext cx="4164120" cy="506520"/>
            <a:chOff x="407880" y="1962000"/>
            <a:chExt cx="4164120" cy="506520"/>
          </a:xfrm>
        </p:grpSpPr>
        <p:pic>
          <p:nvPicPr>
            <p:cNvPr id="90" name="TextBox 4" descr=""/>
            <p:cNvPicPr/>
            <p:nvPr/>
          </p:nvPicPr>
          <p:blipFill>
            <a:blip r:embed="rId5"/>
            <a:stretch/>
          </p:blipFill>
          <p:spPr>
            <a:xfrm>
              <a:off x="407880" y="1962000"/>
              <a:ext cx="4164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6560" y="2023920"/>
              <a:ext cx="405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Одна из библиотек Фр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41:03Z</dcterms:created>
  <dc:creator>ingen</dc:creator>
  <dc:description/>
  <dc:language>en-US</dc:language>
  <cp:lastModifiedBy>LogCom</cp:lastModifiedBy>
  <dcterms:modified xsi:type="dcterms:W3CDTF">2013-04-15T15:16:34Z</dcterms:modified>
  <cp:revision>54</cp:revision>
  <dc:subject/>
  <dc:title>Слайд 1</dc:title>
</cp:coreProperties>
</file>