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966-DDB3-4425-B48B-03B8FFE7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FFE-A18A-4A37-AD39-03DEB53E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91A-CD0E-45A7-8AFF-A0611C10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31C-514D-4CB9-B592-169C595D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FA82-F3FB-4E73-A295-AD4221C7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9583-E465-4F64-A2B0-1F379612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BE94-3AC0-48FA-92A4-1784B1A6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FA9B-DBE2-40DC-B3C5-1C493649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DDB1-24D6-4960-A928-E1DEC050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E56B-6FDC-4335-989A-75F9794E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BAD2-64C2-4B26-96AE-0EFDF73E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092-AC29-4E23-AF2E-C3C1CEF7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15E1-E7D9-4341-8894-4C172333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3AB3-BF0B-4532-A2C4-0364F309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7CA9-3617-4B76-868F-E932D7D4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CE27-EF52-4C45-B5E8-D10EDA93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5093-5D53-4F75-90D0-12A4624A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F8C-7BC4-4FD3-B590-1A9E6B66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1E0-6900-405E-88DB-4CAEA1BD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B7E-110E-4FD7-8166-BF376C78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C7C-6B4C-4405-A90E-994CAAF2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3BD-288D-44A1-A059-48E4943A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889-88DC-4F3C-92CF-EECAF89F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E5B-4082-4F81-8F06-AFF6291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A7A0-B318-437E-BDBD-E3C93DC99B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C370-3419-4942-927B-14FE34D292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-316440"/>
            <a:ext cx="67323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Script MT Bold"/>
              </a:rPr>
              <a:t>Жизнь и творчество</a:t>
            </a:r>
            <a:br>
              <a:rPr sz="4400"/>
            </a:b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Script MT Bold"/>
              </a:rPr>
              <a:t>Ивана Сергеевича Тургене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987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Авторы: Чекасина Кат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Чекасина Ю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529080" cy="3873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907920"/>
            <a:ext cx="8280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ван Сергеевич Тургенев родился в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18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, в городе Орле, но большая часть времени прошла в имении Спасское – Лутовиново (имение матери). Мать Варвара Петровна Лутовинова, отец Сергей Николаевич Турген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27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Иван Тургенев поступил в пансион при Лазаревском институ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784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4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5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569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3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поступает в МГУ на словесное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тделение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834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. – уезжает в Петербург и продолжает обучение на философском факультете. Одновременно пишет поэм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Стено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41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. – сдаёт экзамены на знание магистра философских нау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4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- пишет поэму «Параша». Знакомится с французской певицей Полиной Виардо (Виардо – Гарсия)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947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Тургенев приносит Некрасову в «Современник» свой рассказ «Хорь и Калиныч», к которому Некрасов сделал подзаголовок «Из записок охотника». Этим рассказом началась литературная деятельность Тургене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789360"/>
            <a:ext cx="43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6407280" cy="4751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640" y="537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Бежин луг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848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. – видел революцию во Фран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849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. – живет во Франции и покупает дом в местечке Куртавиль чтобы быть ближе к Виард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850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. – получает наследство после смерти мате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850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. – пишет пьесы «Завтрак у предводителя», «Холостя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5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был арестован, а потом б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слан на 1 год в своё имение, причиной этому стала его книга «Записки охотни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50-е годы, Тургенев создал целый ряд роман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56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«Руди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58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«Дворянское гнезд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6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«Накануне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6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«Отцы и дети»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68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. – вернулся  к романам «Дым», «Новь» (187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883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г. – умер от рака позвоноч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 завещанию тело было перевезено в Россию, похоронен в Петербурге на Волковском кладбище  рядом с Белинск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8:16:14Z</dcterms:created>
  <dc:creator>Test</dc:creator>
  <dc:description/>
  <dc:language>en-US</dc:language>
  <cp:lastModifiedBy>анатолий</cp:lastModifiedBy>
  <dcterms:modified xsi:type="dcterms:W3CDTF">2007-10-14T17:08:28Z</dcterms:modified>
  <cp:revision>4</cp:revision>
  <dc:subject/>
  <dc:title>Жизнь и творчество Ивана Сергеевича Тургенева</dc:title>
</cp:coreProperties>
</file>