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53F-4CF3-4A97-A66F-8B24761C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CEE-0065-45EA-A541-E645B5D5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BF3-7266-4896-9C5F-9BA56B3A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63A-7FCF-4863-A1C7-079368BE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E239-FE0C-4F12-B0DE-0B63DC61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8652-182B-488A-940D-140323DF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360D-5FBF-4366-A097-345EF67F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8CB3-BF3C-4537-87EB-780A2E46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000F-23E3-40BC-924D-13AE44B8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89FC-E358-4CA9-A50B-671DBB5C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6BB2-2997-4A50-A177-53B630C1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08A-660F-4225-8B47-DBDB214D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D5CF-FB46-4C08-AB6F-3187311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B1F5-60A4-4692-83CB-D1E3F9F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A430-D58F-4FE2-9EB8-BDF34B65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93AF-0117-440F-ACFE-D649A76E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90FB-868C-44FC-8A7D-80F11C66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335-CC01-44CB-9E11-5E4B0FFA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AE9-1439-46BC-A2A1-9818A8EC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E2F-EEB4-40DC-ACCF-DBCF0EA9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3B2-455A-4AE9-B6D0-61314192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9CD-E22A-4C0C-A2E9-51ACE83D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CA7-5715-4C55-9E8B-F9C26859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1E8-9019-48FE-9C7D-7C46C570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AA22-5021-4B67-8AEC-05E2C97F48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D3E6-F8E3-4748-A40B-C16C17CECA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-316440"/>
            <a:ext cx="67323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Script MT Bold"/>
              </a:rPr>
              <a:t>Жизнь и творчество</a:t>
            </a:r>
            <a:br>
              <a:rPr sz="4400"/>
            </a:b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Script MT Bold"/>
              </a:rPr>
              <a:t>Ивана Сергеевича Тургене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98764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Авторы: Чекасина Кат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Чекасина Ю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529080" cy="3873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907920"/>
            <a:ext cx="8280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ван Сергеевич Тургенев родился в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18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, в городе Орле, но большая часть времени прошла в имении Спасское – Лутовиново (имение матери). Мать Варвара Петровна Лутовинова, отец Сергей Николаевич Турген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27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Иван Тургенев поступил в пансион при Лазаревском институ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784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4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5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569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33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поступает в МГУ на словесное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тделение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834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. – уезжает в Петербург и продолжает обучение на философском факультете. Одновременно пишет поэм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Стено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41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. – сдаёт экзамены на знание магистра философских нау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43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- пишет поэму «Параша». Знакомится с французской певицей Полиной Виардо (Виардо – Гарсия)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947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Тургенев приносит Некрасову в «Современник» свой рассказ «Хорь и Калиныч», к которому Некрасов сделал подзаголовок «Из записок охотника». Этим рассказом началась литературная деятельность Тургене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789360"/>
            <a:ext cx="43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6407280" cy="4751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640" y="537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Бежин луг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848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. – видел революцию во Фран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849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. – живет во Франции и покупает дом в местечке Куртавиль чтобы быть ближе к Виард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850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. – получает наследство после смерти мате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850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52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. – пишет пьесы «Завтрак у предводителя», «Холостяк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5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был арестован, а потом бы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слан на 1 год в своё имение, причиной этому стала его книга «Записки охотни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 50-е годы, Тургенев создал целый ряд роман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56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«Руди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58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«Дворянское гнезд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6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«Накануне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6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«Отцы и дети»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68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вернулся  к романам «Дым», «Новь» (187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883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г. – умер от рака позвоноч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 завещанию тело было перевезено в Россию, похоронен в Петербурге на Волковском кладбище  рядом с Белинск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8:16:14Z</dcterms:created>
  <dc:creator>Test</dc:creator>
  <dc:description/>
  <dc:language>en-US</dc:language>
  <cp:lastModifiedBy>анатолий</cp:lastModifiedBy>
  <dcterms:modified xsi:type="dcterms:W3CDTF">2007-10-14T17:08:28Z</dcterms:modified>
  <cp:revision>4</cp:revision>
  <dc:subject/>
  <dc:title>Жизнь и творчество Ивана Сергеевича Тургенева</dc:title>
</cp:coreProperties>
</file>