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21-5D3A-4338-B2D6-50CA245D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E35-4CC6-4CD0-99C9-38BCB2E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B66-A33D-4AC9-A902-0E5AA875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004-E51C-44F7-AAA0-F5F6D1C1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BF9-343A-4E12-99B8-3C6B7C2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F9A-5DB7-40B6-A4AA-747C09E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E961-A61F-44B3-9343-9BE2527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E4AE-6C0A-4E6E-A389-108CA0B2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2C3-2937-49BF-ABDF-53CBC96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CBD-7F95-4862-9837-C953A17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0A8C-08AD-4E06-9A4F-37CCAADA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051-ECE3-433E-A514-AC99232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0160-5C19-4080-B4AB-BB51A29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5558-F9E9-47F3-8C6B-1555D6F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941-4071-4885-BCBD-5511074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DCE-AC3B-4699-B2F2-1D980CCE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A123-8AE3-44A9-A77B-3602A2FD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9CC-173B-4063-A33C-14E68D84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898-5C99-4E65-B762-F95A031B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7EA-C43E-4DFE-9909-2EBC4EC9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F2F-9700-4454-8B87-5FFED51C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23A-84E4-4813-B199-5CCD9E6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E29-B3F6-4F58-B742-5814C9C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A54-095C-482C-84B6-E896CCD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C55-FD36-476C-8FB7-543ADDA311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EC0-334B-4581-8D5C-4A21C45567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4/mor-vikt2008.1/0_3e0c_118fb021_X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380880"/>
            <a:ext cx="7391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бор детской организ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Автограф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6668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Посвященный сняти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блокады Ленингр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5943600" cy="4257720"/>
          </a:xfrm>
          <a:prstGeom prst="rect">
            <a:avLst/>
          </a:prstGeom>
          <a:ln w="0">
            <a:noFill/>
          </a:ln>
        </p:spPr>
      </p:pic>
      <p:pic>
        <p:nvPicPr>
          <p:cNvPr id="112" name="i-main-pic" descr="Картинка 74 из 9301"/>
          <p:cNvPicPr/>
          <p:nvPr/>
        </p:nvPicPr>
        <p:blipFill>
          <a:blip r:embed="rId2"/>
          <a:stretch/>
        </p:blipFill>
        <p:spPr>
          <a:xfrm>
            <a:off x="380880" y="0"/>
            <a:ext cx="3473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-main-pic" descr="Картинка 807 из 6424"/>
          <p:cNvPicPr/>
          <p:nvPr/>
        </p:nvPicPr>
        <p:blipFill>
          <a:blip r:embed="rId1"/>
          <a:stretch/>
        </p:blipFill>
        <p:spPr>
          <a:xfrm>
            <a:off x="2438280" y="1600200"/>
            <a:ext cx="6248520" cy="4151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«Паёк ленинградца в сутк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4952880"/>
            <a:ext cx="29908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5 гр.-хл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7" name="i-main-pic" descr="Картинка 219 из 9301"/>
          <p:cNvPicPr/>
          <p:nvPr/>
        </p:nvPicPr>
        <p:blipFill>
          <a:blip r:embed="rId2"/>
          <a:stretch/>
        </p:blipFill>
        <p:spPr>
          <a:xfrm>
            <a:off x="1522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ецепт блокадного хлеб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ука ржаная – 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люлоза – 15 %(20-25% иногда больш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евая мука, отруби и обойная пыль–2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13890" r="0" b="0"/>
          <a:stretch/>
        </p:blipFill>
        <p:spPr>
          <a:xfrm>
            <a:off x="685800" y="533520"/>
            <a:ext cx="4889520" cy="5867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091400">
            <a:off x="6019560" y="-152280"/>
            <a:ext cx="2895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н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лебза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Жертвы первых обстрелов Ленинграда"/>
          <p:cNvPicPr/>
          <p:nvPr/>
        </p:nvPicPr>
        <p:blipFill>
          <a:blip r:embed="rId1"/>
          <a:stretch/>
        </p:blipFill>
        <p:spPr>
          <a:xfrm>
            <a:off x="1143000" y="990720"/>
            <a:ext cx="73915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Картинка 2 из 74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762120"/>
            <a:ext cx="71629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34240" cy="369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6 из 9301"/>
          <p:cNvPicPr/>
          <p:nvPr/>
        </p:nvPicPr>
        <p:blipFill>
          <a:blip r:embed="rId2"/>
          <a:stretch/>
        </p:blipFill>
        <p:spPr>
          <a:xfrm>
            <a:off x="3276720" y="2666880"/>
            <a:ext cx="5076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311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олонна грузовиков передвигающаяся                          по «Дороге жизн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957240"/>
            <a:ext cx="71629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5495760" cy="3695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59 из 9301"/>
          <p:cNvPicPr/>
          <p:nvPr/>
        </p:nvPicPr>
        <p:blipFill>
          <a:blip r:embed="rId2"/>
          <a:stretch/>
        </p:blipFill>
        <p:spPr>
          <a:xfrm>
            <a:off x="304920" y="304920"/>
            <a:ext cx="5076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-main-pic" descr="Картинка 807 из 6424"/>
          <p:cNvPicPr/>
          <p:nvPr/>
        </p:nvPicPr>
        <p:blipFill>
          <a:blip r:embed="rId1"/>
          <a:stretch/>
        </p:blipFill>
        <p:spPr>
          <a:xfrm>
            <a:off x="2438280" y="1600200"/>
            <a:ext cx="6248520" cy="4151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«Паёк ленинградца в сутк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52880" y="4952880"/>
            <a:ext cx="29908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5 гр.-хл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6" name="i-main-pic" descr="Картинка 219 из 9301"/>
          <p:cNvPicPr/>
          <p:nvPr/>
        </p:nvPicPr>
        <p:blipFill>
          <a:blip r:embed="rId2"/>
          <a:stretch/>
        </p:blipFill>
        <p:spPr>
          <a:xfrm>
            <a:off x="152280" y="4038480"/>
            <a:ext cx="3524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невник    Тани Савичев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32 из 9301"/>
          <p:cNvPicPr/>
          <p:nvPr/>
        </p:nvPicPr>
        <p:blipFill>
          <a:blip r:embed="rId1"/>
          <a:stretch/>
        </p:blipFill>
        <p:spPr>
          <a:xfrm>
            <a:off x="914400" y="1447920"/>
            <a:ext cx="73915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010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-main-pic" descr="Картинка 177 из 9301"/>
          <p:cNvPicPr/>
          <p:nvPr/>
        </p:nvPicPr>
        <p:blipFill>
          <a:blip r:embed="rId1"/>
          <a:stretch/>
        </p:blipFill>
        <p:spPr>
          <a:xfrm>
            <a:off x="1219320" y="1371600"/>
            <a:ext cx="7162560" cy="4871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Жертвы блокадного Ленингра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311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олонна грузовиков передвигающаяся                          по «Дороге жизни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7820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5638680" cy="3817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49480" y="1978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37059--14375706-" descr=""/>
          <p:cNvPicPr/>
          <p:nvPr/>
        </p:nvPicPr>
        <p:blipFill>
          <a:blip r:embed="rId2"/>
          <a:stretch/>
        </p:blipFill>
        <p:spPr>
          <a:xfrm>
            <a:off x="3886200" y="162000"/>
            <a:ext cx="5029200" cy="3687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73600" y="4342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02160" cy="6172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 rot="917400">
            <a:off x="4143240" y="287280"/>
            <a:ext cx="4552920" cy="678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а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За оборон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енингра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46 из 7457"/>
          <p:cNvPicPr/>
          <p:nvPr/>
        </p:nvPicPr>
        <p:blipFill>
          <a:blip r:embed="rId1"/>
          <a:stretch/>
        </p:blipFill>
        <p:spPr>
          <a:xfrm>
            <a:off x="1600200" y="1523880"/>
            <a:ext cx="3076560" cy="5105520"/>
          </a:xfrm>
          <a:prstGeom prst="rect">
            <a:avLst/>
          </a:prstGeom>
          <a:ln w="0">
            <a:noFill/>
          </a:ln>
        </p:spPr>
      </p:pic>
      <p:pic>
        <p:nvPicPr>
          <p:cNvPr id="154" name="i-main-pic" descr="Картинка 14 из 7457"/>
          <p:cNvPicPr/>
          <p:nvPr/>
        </p:nvPicPr>
        <p:blipFill>
          <a:blip r:embed="rId2"/>
          <a:stretch/>
        </p:blipFill>
        <p:spPr>
          <a:xfrm>
            <a:off x="5486400" y="1523880"/>
            <a:ext cx="3083040" cy="5181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четный знак жителю блокадного  Ленингра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-main-pic" descr="Картинка 4 из 7457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4973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8 сентября 1941 года началась блокада города Ленингра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-main-pic" descr="Картинка 115 из 9301"/>
          <p:cNvPicPr/>
          <p:nvPr/>
        </p:nvPicPr>
        <p:blipFill>
          <a:blip r:embed="rId1"/>
          <a:stretch/>
        </p:blipFill>
        <p:spPr>
          <a:xfrm>
            <a:off x="1447920" y="235080"/>
            <a:ext cx="6705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бедоносный Ленингра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096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143"/>
          <p:cNvPicPr/>
          <p:nvPr/>
        </p:nvPicPr>
        <p:blipFill>
          <a:blip r:embed="rId1"/>
          <a:stretch/>
        </p:blipFill>
        <p:spPr>
          <a:xfrm>
            <a:off x="152280" y="990720"/>
            <a:ext cx="7239240" cy="560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8 из 60314"/>
          <p:cNvPicPr/>
          <p:nvPr/>
        </p:nvPicPr>
        <p:blipFill>
          <a:blip r:embed="rId2"/>
          <a:stretch/>
        </p:blipFill>
        <p:spPr>
          <a:xfrm>
            <a:off x="4648320" y="457200"/>
            <a:ext cx="4238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15338" r="0" b="0"/>
          <a:stretch/>
        </p:blipFill>
        <p:spPr>
          <a:xfrm>
            <a:off x="457200" y="914400"/>
            <a:ext cx="83818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434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искаревское Мемориальное кладбищ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отомок знай!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В суровые года,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Верны народу долгу и Отчизне…»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39621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0 дней героической оборо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 месяцев из 49 месяцев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262 из 8943"/>
          <p:cNvPicPr/>
          <p:nvPr/>
        </p:nvPicPr>
        <p:blipFill>
          <a:blip r:embed="rId1"/>
          <a:stretch/>
        </p:blipFill>
        <p:spPr>
          <a:xfrm>
            <a:off x="2057400" y="2209680"/>
            <a:ext cx="5257800" cy="442764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256 из 8943"/>
          <p:cNvPicPr/>
          <p:nvPr/>
        </p:nvPicPr>
        <p:blipFill>
          <a:blip r:embed="rId2"/>
          <a:srcRect l="6579" t="20696" r="16669" b="32500"/>
          <a:stretch/>
        </p:blipFill>
        <p:spPr>
          <a:xfrm>
            <a:off x="609480" y="228600"/>
            <a:ext cx="80010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-main-pic" descr="Картинка 283 из 8943"/>
          <p:cNvPicPr/>
          <p:nvPr/>
        </p:nvPicPr>
        <p:blipFill>
          <a:blip r:embed="rId1"/>
          <a:srcRect l="0" t="17242" r="0" b="12070"/>
          <a:stretch/>
        </p:blipFill>
        <p:spPr>
          <a:xfrm>
            <a:off x="1295280" y="304920"/>
            <a:ext cx="6510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-main-pic" descr="Картинка 20 из 745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62120" y="685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ыступая в Мюнхене 8 ноября 1941 года, Гитлер заявил: - «Ленинграду суждено погибнуть от голода»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676520"/>
          <a:ext cx="8381520" cy="4900320"/>
        </p:xfrm>
        <a:graphic>
          <a:graphicData uri="http://schemas.openxmlformats.org/drawingml/2006/table">
            <a:tbl>
              <a:tblPr/>
              <a:tblGrid>
                <a:gridCol w="1742760"/>
                <a:gridCol w="1050840"/>
                <a:gridCol w="1397520"/>
                <a:gridCol w="1396440"/>
                <a:gridCol w="1397160"/>
                <a:gridCol w="1396800"/>
              </a:tblGrid>
              <a:tr h="12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продажи хлеба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ы, не работающие иждивен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сент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но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ноя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ая часть населения погиб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декабря 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января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февраля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 из 7457"/>
          <p:cNvPicPr/>
          <p:nvPr/>
        </p:nvPicPr>
        <p:blipFill>
          <a:blip r:embed="rId1"/>
          <a:stretch/>
        </p:blipFill>
        <p:spPr>
          <a:xfrm>
            <a:off x="1447920" y="838080"/>
            <a:ext cx="6858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волуцкаяНВ</cp:lastModifiedBy>
  <dcterms:modified xsi:type="dcterms:W3CDTF">2010-02-18T04:54:4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