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297-334C-435F-928C-63E58F41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D3B-3555-475C-A9B9-4E9870E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83D-4B39-480C-95E9-455328C4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1D7-6659-42D9-970F-7F999CC2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429-B54B-4B3F-8E05-7F6C1D0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033B-3CCC-4732-B371-5B63E44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D0DD-92FF-457D-A0E9-9E23794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C6AB-7AAB-43C4-AB5F-79AE3CD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1E4F-BDC3-40CA-8731-12B874D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EC2-1357-4938-B951-A211238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F238-9A09-4399-ABA5-EC4B6D9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0FF-91E9-4179-B805-CB95E9C9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AC4-151B-4D40-A353-39B0BFD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D98-FE13-4E92-9A99-029E879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B91C-B2F0-41F2-93B3-68EF791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4A0-4778-4915-9BC8-D461298F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7CB-2E0A-4A5D-9068-B543BF1F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3EB-FB49-499A-AA31-65D4ECA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529-DBB2-40C8-BB0F-0B06EB3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1D8-3F60-41C4-BC8A-0B421DF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939-26F3-4DAE-97E9-636C6C74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6E6-7EFB-4E2C-BC44-13F23FD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49E-4FCD-4380-AD33-6A7888C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B0D-874A-4E0F-9100-F4A1C08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A36-B156-439A-B152-D16EA014EC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47CE-C075-4F7D-878A-50C56D4353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4/mor-vikt2008.1/0_3e0c_118fb021_X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380880"/>
            <a:ext cx="7391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бор детской организ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Автограф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6668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Посвященный сняти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блокады Ленингр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5943600" cy="4257720"/>
          </a:xfrm>
          <a:prstGeom prst="rect">
            <a:avLst/>
          </a:prstGeom>
          <a:ln w="0">
            <a:noFill/>
          </a:ln>
        </p:spPr>
      </p:pic>
      <p:pic>
        <p:nvPicPr>
          <p:cNvPr id="112" name="i-main-pic" descr="Картинка 74 из 9301"/>
          <p:cNvPicPr/>
          <p:nvPr/>
        </p:nvPicPr>
        <p:blipFill>
          <a:blip r:embed="rId2"/>
          <a:stretch/>
        </p:blipFill>
        <p:spPr>
          <a:xfrm>
            <a:off x="380880" y="0"/>
            <a:ext cx="3473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-main-pic" descr="Картинка 807 из 6424"/>
          <p:cNvPicPr/>
          <p:nvPr/>
        </p:nvPicPr>
        <p:blipFill>
          <a:blip r:embed="rId1"/>
          <a:stretch/>
        </p:blipFill>
        <p:spPr>
          <a:xfrm>
            <a:off x="2438280" y="1600200"/>
            <a:ext cx="6248520" cy="4151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«Паёк ленинградца в сутк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4952880"/>
            <a:ext cx="29908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5 гр.-хл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7" name="i-main-pic" descr="Картинка 219 из 9301"/>
          <p:cNvPicPr/>
          <p:nvPr/>
        </p:nvPicPr>
        <p:blipFill>
          <a:blip r:embed="rId2"/>
          <a:stretch/>
        </p:blipFill>
        <p:spPr>
          <a:xfrm>
            <a:off x="1522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ецепт блокадного хлеб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ука ржаная – 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люлоза – 15 %(20-25% иногда больш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евая мука, отруби и обойная пыль–2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13890" r="0" b="0"/>
          <a:stretch/>
        </p:blipFill>
        <p:spPr>
          <a:xfrm>
            <a:off x="685800" y="533520"/>
            <a:ext cx="4889520" cy="5867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091400">
            <a:off x="6019560" y="-152280"/>
            <a:ext cx="2895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н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лебза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Жертвы первых обстрелов Ленинграда"/>
          <p:cNvPicPr/>
          <p:nvPr/>
        </p:nvPicPr>
        <p:blipFill>
          <a:blip r:embed="rId1"/>
          <a:stretch/>
        </p:blipFill>
        <p:spPr>
          <a:xfrm>
            <a:off x="1143000" y="990720"/>
            <a:ext cx="73915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Картинка 2 из 74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762120"/>
            <a:ext cx="71629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34240" cy="369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6 из 9301"/>
          <p:cNvPicPr/>
          <p:nvPr/>
        </p:nvPicPr>
        <p:blipFill>
          <a:blip r:embed="rId2"/>
          <a:stretch/>
        </p:blipFill>
        <p:spPr>
          <a:xfrm>
            <a:off x="3276720" y="2666880"/>
            <a:ext cx="5076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311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олонна грузовиков передвигающаяся                          по «Дороге жизн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957240"/>
            <a:ext cx="71629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5495760" cy="3695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59 из 9301"/>
          <p:cNvPicPr/>
          <p:nvPr/>
        </p:nvPicPr>
        <p:blipFill>
          <a:blip r:embed="rId2"/>
          <a:stretch/>
        </p:blipFill>
        <p:spPr>
          <a:xfrm>
            <a:off x="304920" y="304920"/>
            <a:ext cx="5076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-main-pic" descr="Картинка 807 из 6424"/>
          <p:cNvPicPr/>
          <p:nvPr/>
        </p:nvPicPr>
        <p:blipFill>
          <a:blip r:embed="rId1"/>
          <a:stretch/>
        </p:blipFill>
        <p:spPr>
          <a:xfrm>
            <a:off x="2438280" y="1600200"/>
            <a:ext cx="6248520" cy="4151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«Паёк ленинградца в сутк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52880" y="4952880"/>
            <a:ext cx="29908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5 гр.-хл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6" name="i-main-pic" descr="Картинка 219 из 9301"/>
          <p:cNvPicPr/>
          <p:nvPr/>
        </p:nvPicPr>
        <p:blipFill>
          <a:blip r:embed="rId2"/>
          <a:stretch/>
        </p:blipFill>
        <p:spPr>
          <a:xfrm>
            <a:off x="1522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невник    Тани Савичев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32 из 9301"/>
          <p:cNvPicPr/>
          <p:nvPr/>
        </p:nvPicPr>
        <p:blipFill>
          <a:blip r:embed="rId1"/>
          <a:stretch/>
        </p:blipFill>
        <p:spPr>
          <a:xfrm>
            <a:off x="914400" y="1447920"/>
            <a:ext cx="73915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010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-main-pic" descr="Картинка 177 из 9301"/>
          <p:cNvPicPr/>
          <p:nvPr/>
        </p:nvPicPr>
        <p:blipFill>
          <a:blip r:embed="rId1"/>
          <a:stretch/>
        </p:blipFill>
        <p:spPr>
          <a:xfrm>
            <a:off x="1219320" y="1371600"/>
            <a:ext cx="7162560" cy="4871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Жертвы блокадного Ленингра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311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олонна грузовиков передвигающаяся                          по «Дороге жизн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7820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5638680" cy="3817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49480" y="1978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37059--14375706-" descr=""/>
          <p:cNvPicPr/>
          <p:nvPr/>
        </p:nvPicPr>
        <p:blipFill>
          <a:blip r:embed="rId2"/>
          <a:stretch/>
        </p:blipFill>
        <p:spPr>
          <a:xfrm>
            <a:off x="3886200" y="162000"/>
            <a:ext cx="5029200" cy="3687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73600" y="4342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02160" cy="6172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 rot="917400">
            <a:off x="4143240" y="287280"/>
            <a:ext cx="4552920" cy="678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а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За оборон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нингра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46 из 7457"/>
          <p:cNvPicPr/>
          <p:nvPr/>
        </p:nvPicPr>
        <p:blipFill>
          <a:blip r:embed="rId1"/>
          <a:stretch/>
        </p:blipFill>
        <p:spPr>
          <a:xfrm>
            <a:off x="1600200" y="1523880"/>
            <a:ext cx="3076560" cy="5105520"/>
          </a:xfrm>
          <a:prstGeom prst="rect">
            <a:avLst/>
          </a:prstGeom>
          <a:ln w="0">
            <a:noFill/>
          </a:ln>
        </p:spPr>
      </p:pic>
      <p:pic>
        <p:nvPicPr>
          <p:cNvPr id="154" name="i-main-pic" descr="Картинка 14 из 7457"/>
          <p:cNvPicPr/>
          <p:nvPr/>
        </p:nvPicPr>
        <p:blipFill>
          <a:blip r:embed="rId2"/>
          <a:stretch/>
        </p:blipFill>
        <p:spPr>
          <a:xfrm>
            <a:off x="5486400" y="1523880"/>
            <a:ext cx="3083040" cy="5181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четный знак жителю блокадного  Ленингра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-main-pic" descr="Картинка 4 из 7457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4973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8 сентября 1941 года началась блокада города Ленингра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-main-pic" descr="Картинка 115 из 9301"/>
          <p:cNvPicPr/>
          <p:nvPr/>
        </p:nvPicPr>
        <p:blipFill>
          <a:blip r:embed="rId1"/>
          <a:stretch/>
        </p:blipFill>
        <p:spPr>
          <a:xfrm>
            <a:off x="1447920" y="235080"/>
            <a:ext cx="6705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бедоносный Ленингра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096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143"/>
          <p:cNvPicPr/>
          <p:nvPr/>
        </p:nvPicPr>
        <p:blipFill>
          <a:blip r:embed="rId1"/>
          <a:stretch/>
        </p:blipFill>
        <p:spPr>
          <a:xfrm>
            <a:off x="152280" y="990720"/>
            <a:ext cx="7239240" cy="560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8 из 60314"/>
          <p:cNvPicPr/>
          <p:nvPr/>
        </p:nvPicPr>
        <p:blipFill>
          <a:blip r:embed="rId2"/>
          <a:stretch/>
        </p:blipFill>
        <p:spPr>
          <a:xfrm>
            <a:off x="4648320" y="457200"/>
            <a:ext cx="4238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15338" r="0" b="0"/>
          <a:stretch/>
        </p:blipFill>
        <p:spPr>
          <a:xfrm>
            <a:off x="457200" y="914400"/>
            <a:ext cx="83818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434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искаревское Мемориальное кладбищ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отомок знай!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В суровые года,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Верны народу долгу и Отчизне…»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39621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0 дней героической оборо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 месяцев из 49 месяцев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262 из 8943"/>
          <p:cNvPicPr/>
          <p:nvPr/>
        </p:nvPicPr>
        <p:blipFill>
          <a:blip r:embed="rId1"/>
          <a:stretch/>
        </p:blipFill>
        <p:spPr>
          <a:xfrm>
            <a:off x="2057400" y="2209680"/>
            <a:ext cx="5257800" cy="442764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256 из 8943"/>
          <p:cNvPicPr/>
          <p:nvPr/>
        </p:nvPicPr>
        <p:blipFill>
          <a:blip r:embed="rId2"/>
          <a:srcRect l="6579" t="20696" r="16669" b="32500"/>
          <a:stretch/>
        </p:blipFill>
        <p:spPr>
          <a:xfrm>
            <a:off x="609480" y="228600"/>
            <a:ext cx="80010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-main-pic" descr="Картинка 283 из 8943"/>
          <p:cNvPicPr/>
          <p:nvPr/>
        </p:nvPicPr>
        <p:blipFill>
          <a:blip r:embed="rId1"/>
          <a:srcRect l="0" t="17242" r="0" b="12070"/>
          <a:stretch/>
        </p:blipFill>
        <p:spPr>
          <a:xfrm>
            <a:off x="1295280" y="304920"/>
            <a:ext cx="6510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-main-pic" descr="Картинка 20 из 745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62120" y="685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ыступая в Мюнхене 8 ноября 1941 года, Гитлер заявил: - «Ленинграду суждено погибнуть от голода»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676520"/>
          <a:ext cx="8381520" cy="4900320"/>
        </p:xfrm>
        <a:graphic>
          <a:graphicData uri="http://schemas.openxmlformats.org/drawingml/2006/table">
            <a:tbl>
              <a:tblPr/>
              <a:tblGrid>
                <a:gridCol w="1742760"/>
                <a:gridCol w="1050840"/>
                <a:gridCol w="1397520"/>
                <a:gridCol w="1396440"/>
                <a:gridCol w="1397160"/>
                <a:gridCol w="1396800"/>
              </a:tblGrid>
              <a:tr h="12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продажи хлеба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ы, не работающие иждивен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сент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но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но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ая часть населения погиб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дека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января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февраля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 из 7457"/>
          <p:cNvPicPr/>
          <p:nvPr/>
        </p:nvPicPr>
        <p:blipFill>
          <a:blip r:embed="rId1"/>
          <a:stretch/>
        </p:blipFill>
        <p:spPr>
          <a:xfrm>
            <a:off x="1447920" y="838080"/>
            <a:ext cx="6858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волуцкаяНВ</cp:lastModifiedBy>
  <dcterms:modified xsi:type="dcterms:W3CDTF">2010-02-18T04:54:4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