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F152D-CA39-4867-AC52-4760017D6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ab0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C0472-50FB-48F9-9FFB-B63DF5BB8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ab0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06423-2CB9-4E08-8F53-35734D744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ab0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0C6D9-F0AE-4FAF-8330-CC944B7D1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3028E-0557-40FA-B712-6025B36A1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ab0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1AFFE-65D6-4896-A052-1E3678891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ab0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93244-790D-424A-83A3-03858B5F1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ab0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09415-663E-4D0D-A010-4FF7F7D24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ab0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C5339-72E6-4B6B-AF64-2B7472BA1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D9920-44FC-4797-B070-2583C3670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ab0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7A987-39A9-45A0-9C0F-05E1A5283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ab0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D9575-44CC-4AA9-ADD4-2FF6F724A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ab0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F46A2-E271-4F1D-A04C-7AABD1867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ab0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348BC-0247-483D-BDC4-7FCF62E8E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ab0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95857-4D58-49CB-8882-CE71C6DF1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ab0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4798F-138D-48FD-86AE-3AAFCE98A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ab0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A1BD4-67B9-45B5-B3E9-445D9B932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17FC66-E5E8-4C36-A5CD-7FB9FDC41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ab0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6EFC33-8FCD-4194-B3FC-7A6B7CDDD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ab0"/>
              </a:solidFill>
              <a:latin typeface="Consola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B5F7F7-A98F-4670-9BAE-0DE7C0725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ab0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AA44FB-CC71-4DF7-803B-FE4B64B67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ab0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5986B9-3C9F-4C69-9994-88836ED39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ab0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7161D-26B1-4C94-A90D-054B77B11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1E25EC-EB1E-49D0-B391-E00ABB925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ab0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03EAB7-5A82-407F-B0A7-3558C7EC0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ab0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37E81E-2524-4E35-A0BC-01118E51D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ab0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9A637C-3ACC-4D5F-89F1-B890817AE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ab0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8BCE00-6F5A-4181-9829-B459F666C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ab0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FF2F79-1A96-4E16-917E-E70CDA351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ab0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409405-A016-4EC9-BE70-8D058C7A1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2EDC9D-0E95-4ED8-B394-0A32F2751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ab0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B830CD-D341-4817-97D4-C7988368E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ab0"/>
              </a:solidFill>
              <a:latin typeface="Consola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20AEDC-E0D6-4D5E-8745-AC09CBDBF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ab0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CFF19-90CC-4DEC-BEBE-2A47B70B7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ab0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E68554-3E25-45A4-BDC8-F7A28A394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ab0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0E5B18-DE1F-4AB3-A3BC-B530F9119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43120D-496C-4063-B48F-0C8E9532B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ab0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608874-4EF0-42C3-8D36-71F492B0C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ab0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796688-3799-43A6-B4EF-ACAA9692A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ab0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C36E7B-7043-4ED6-9EA0-5934CB4B2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ab0"/>
              </a:solidFill>
              <a:latin typeface="Consola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A2A5A2-A391-45A7-913B-F04A40E67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ab0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C4E6ED-F7B0-4E09-A77A-CE040ECF0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ab0"/>
              </a:solidFill>
              <a:latin typeface="Consola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89B458-F76A-4D15-BE7C-4FF65CE46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5F9E8C-541E-49E7-9173-C333A701F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ab0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67652-638B-471C-AE49-19708E50F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ab0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04445F-CA1A-4B32-A310-0C72237DA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ab0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607197-C47D-451F-979D-96BB80583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ab0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7C0385-783C-4EF8-8336-10434297A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ab0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229E92-A673-4C63-A250-60B558A10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B89E15-B500-4D9D-9C45-CD9DFE817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ab0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DAF1EA-3886-47C4-AB3D-4FC8521CA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ab0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530585-5DBB-40FB-A741-1A91AD373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ab0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C7B398-CE48-488A-B82D-B7DDD6EBD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ab0"/>
              </a:solidFill>
              <a:latin typeface="Consola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AEAAD6-D2CB-4D1F-B7A8-0AF264418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ab0"/>
              </a:solidFill>
              <a:latin typeface="Consola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6FEAD2-AD60-4BD0-AD3A-205161C8A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0B912-EF1B-490A-9051-D430455F3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ab0"/>
              </a:solidFill>
              <a:latin typeface="Consola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342931-26F9-4F70-98B8-CB3580CD7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DED6F3-3D3C-434D-8339-319091AD1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ab0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AD2826-0957-49B8-BE8F-70E79D930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ab0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6BD081-D3B8-4E14-8B86-50E2BA0DC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ab0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818FA9-4963-416B-B580-D2FBA0966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ab0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7E76E4-88D1-4B47-B285-C82720C7E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C7429D-47FB-414A-AFD6-B8E19ED37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ab0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F3D5EF-06AD-407A-A937-6B1AF7497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ab0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D2CCF5-D6AB-4ED0-9741-ADAF8923C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ab0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D8AA68-4E32-4FD0-A052-724B66AEB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ab0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ED2C2-FAB3-4E44-B4E4-037770E66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ab0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A9B3AD-2503-40A9-9861-6D9A66FB6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ab0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8B31DA-6D69-4689-A2D4-0CC24F6A3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ab0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7BC709-E1E1-471A-9CB6-CED8787A1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AA593E-D2C5-4F9F-B593-91414CDC6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ab0"/>
              </a:solidFill>
              <a:latin typeface="Consola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33EB70-D99F-48BC-A0F7-85545E812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ab0"/>
              </a:solidFill>
              <a:latin typeface="Consola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538A8E-4500-4343-903A-6B938A37B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ab0"/>
              </a:solidFill>
              <a:latin typeface="Consola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FADD51-A81D-4AF6-9324-CF2B44944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ab0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F0E465-B69C-4F95-BA03-57882EC2E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C6CE5F-85E4-4DCE-941A-FB5F0F020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ab0"/>
              </a:solidFill>
              <a:latin typeface="Consola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D978F1-C30C-4A5F-BDF6-E15FAECB2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ab0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394B1-5339-4729-9637-881574966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ab0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626EE9-17BA-4A55-A6A4-1A74D512A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ab0"/>
              </a:solidFill>
              <a:latin typeface="Consola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EA1FB0-2416-4B5B-BE6D-A3559475D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ab0"/>
              </a:solidFill>
              <a:latin typeface="Consola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7F05CB-3FD7-4376-A984-48F2BA371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ab0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E683C8-1B51-4B3C-8AE8-BC0AFCBEE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ab0"/>
              </a:solidFill>
              <a:latin typeface="Consola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5CC87E-40DA-422C-853B-E47FFA9C7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ab0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87784-9A85-4BA4-A5FE-F8059121C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b685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a564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b58b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3b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a564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ab0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fffab0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fbeec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a5644e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a5644e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b58b8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b58b8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beec9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beec9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beec9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AF4BA-247A-4F35-AC13-A081A46D6AC2}" type="slidenum">
              <a:rPr b="0" lang="ru-RU" sz="1200" spc="-1" strike="noStrike">
                <a:solidFill>
                  <a:srgbClr val="fbeec9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b685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Прямоугольник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Прямоугольник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Прямоугольник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Прямоугольник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Прямоугольник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a564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Прямоугольник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b58b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3b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Прямоугольник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a564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ab0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fffab0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fbeec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a5644e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a5644e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b58b8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b58b8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beec9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beec9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beec9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11D98-336A-40D2-A7D8-2CDBEBB4050C}" type="slidenum">
              <a:rPr b="0" lang="ru-RU" sz="1200" spc="-1" strike="noStrike">
                <a:solidFill>
                  <a:srgbClr val="fbeec9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b685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a564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b58b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3b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a564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Полилиния 17"/>
          <p:cNvSpPr/>
          <p:nvPr/>
        </p:nvSpPr>
        <p:spPr>
          <a:xfrm>
            <a:off x="4829040" y="1073160"/>
            <a:ext cx="4321440" cy="5791320"/>
          </a:xfrm>
          <a:prstGeom prst="pie">
            <a:avLst/>
          </a:prstGeom>
          <a:noFill/>
          <a:ln w="3240">
            <a:solidFill>
              <a:srgbClr val="a5644e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Полилиния 18"/>
          <p:cNvSpPr/>
          <p:nvPr/>
        </p:nvSpPr>
        <p:spPr>
          <a:xfrm>
            <a:off x="374760" y="0"/>
            <a:ext cx="5513400" cy="6615000"/>
          </a:xfrm>
          <a:prstGeom prst="pie">
            <a:avLst/>
          </a:prstGeom>
          <a:noFill/>
          <a:ln w="3240">
            <a:solidFill>
              <a:srgbClr val="a5644e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Полилиния 19"/>
          <p:cNvSpPr/>
          <p:nvPr/>
        </p:nvSpPr>
        <p:spPr>
          <a:xfrm rot="5236200">
            <a:off x="4461120" y="1483200"/>
            <a:ext cx="4114800" cy="1189080"/>
          </a:xfrm>
          <a:prstGeom prst="pie">
            <a:avLst/>
          </a:prstGeom>
          <a:solidFill>
            <a:srgbClr val="6a5347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Полилиния 20"/>
          <p:cNvSpPr/>
          <p:nvPr/>
        </p:nvSpPr>
        <p:spPr>
          <a:xfrm>
            <a:off x="5943600" y="0"/>
            <a:ext cx="2743200" cy="4267080"/>
          </a:xfrm>
          <a:prstGeom prst="pie">
            <a:avLst/>
          </a:prstGeom>
          <a:solidFill>
            <a:srgbClr val="6c52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Полилиния 23"/>
          <p:cNvSpPr/>
          <p:nvPr/>
        </p:nvSpPr>
        <p:spPr>
          <a:xfrm>
            <a:off x="5943600" y="4267080"/>
            <a:ext cx="3200400" cy="1143000"/>
          </a:xfrm>
          <a:prstGeom prst="pie">
            <a:avLst/>
          </a:prstGeom>
          <a:solidFill>
            <a:srgbClr val="6c52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Полилиния 24"/>
          <p:cNvSpPr/>
          <p:nvPr/>
        </p:nvSpPr>
        <p:spPr>
          <a:xfrm>
            <a:off x="5943600" y="0"/>
            <a:ext cx="1371600" cy="4267080"/>
          </a:xfrm>
          <a:prstGeom prst="pie">
            <a:avLst/>
          </a:prstGeom>
          <a:solidFill>
            <a:srgbClr val="6c52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Полилиния 25"/>
          <p:cNvSpPr/>
          <p:nvPr/>
        </p:nvSpPr>
        <p:spPr>
          <a:xfrm>
            <a:off x="5948280" y="4246560"/>
            <a:ext cx="2090880" cy="2611440"/>
          </a:xfrm>
          <a:prstGeom prst="pie">
            <a:avLst/>
          </a:prstGeom>
          <a:solidFill>
            <a:srgbClr val="6c52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Полилиния 26"/>
          <p:cNvSpPr/>
          <p:nvPr/>
        </p:nvSpPr>
        <p:spPr>
          <a:xfrm>
            <a:off x="5943600" y="4267080"/>
            <a:ext cx="1600200" cy="2590920"/>
          </a:xfrm>
          <a:prstGeom prst="pie">
            <a:avLst/>
          </a:prstGeom>
          <a:solidFill>
            <a:srgbClr val="6c52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Полилиния 27"/>
          <p:cNvSpPr/>
          <p:nvPr/>
        </p:nvSpPr>
        <p:spPr>
          <a:xfrm>
            <a:off x="5943600" y="1371600"/>
            <a:ext cx="3200400" cy="2895480"/>
          </a:xfrm>
          <a:prstGeom prst="pie">
            <a:avLst/>
          </a:prstGeom>
          <a:solidFill>
            <a:srgbClr val="6c52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Полилиния 28"/>
          <p:cNvSpPr/>
          <p:nvPr/>
        </p:nvSpPr>
        <p:spPr>
          <a:xfrm>
            <a:off x="5943600" y="1752480"/>
            <a:ext cx="3200400" cy="2514600"/>
          </a:xfrm>
          <a:prstGeom prst="pie">
            <a:avLst/>
          </a:prstGeom>
          <a:solidFill>
            <a:srgbClr val="6c52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Полилиния 29"/>
          <p:cNvSpPr/>
          <p:nvPr/>
        </p:nvSpPr>
        <p:spPr>
          <a:xfrm>
            <a:off x="990720" y="4267080"/>
            <a:ext cx="4952880" cy="2590920"/>
          </a:xfrm>
          <a:prstGeom prst="pie">
            <a:avLst/>
          </a:prstGeom>
          <a:solidFill>
            <a:srgbClr val="6c52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Полилиния 30"/>
          <p:cNvSpPr/>
          <p:nvPr/>
        </p:nvSpPr>
        <p:spPr>
          <a:xfrm>
            <a:off x="533520" y="4267080"/>
            <a:ext cx="5333760" cy="2590920"/>
          </a:xfrm>
          <a:prstGeom prst="pie">
            <a:avLst/>
          </a:prstGeom>
          <a:solidFill>
            <a:srgbClr val="6c52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Полилиния 31"/>
          <p:cNvSpPr/>
          <p:nvPr/>
        </p:nvSpPr>
        <p:spPr>
          <a:xfrm>
            <a:off x="366840" y="2438280"/>
            <a:ext cx="5638680" cy="1828800"/>
          </a:xfrm>
          <a:prstGeom prst="pie">
            <a:avLst/>
          </a:prstGeom>
          <a:solidFill>
            <a:srgbClr val="6c52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Полилиния 32"/>
          <p:cNvSpPr/>
          <p:nvPr/>
        </p:nvSpPr>
        <p:spPr>
          <a:xfrm>
            <a:off x="366840" y="2133720"/>
            <a:ext cx="5638680" cy="2133360"/>
          </a:xfrm>
          <a:prstGeom prst="pie">
            <a:avLst/>
          </a:prstGeom>
          <a:solidFill>
            <a:srgbClr val="6c52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Полилиния 33"/>
          <p:cNvSpPr/>
          <p:nvPr/>
        </p:nvSpPr>
        <p:spPr>
          <a:xfrm>
            <a:off x="4572000" y="4267080"/>
            <a:ext cx="1371600" cy="2590920"/>
          </a:xfrm>
          <a:prstGeom prst="pie">
            <a:avLst/>
          </a:prstGeom>
          <a:solidFill>
            <a:srgbClr val="6a5347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Прямоугольник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6a5347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Прямоугольник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Прямоугольник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Прямоугольник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Прямоугольник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Прямоугольник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ab0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fffab0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fbeec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a5644e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a5644e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b58b8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b58b8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beec9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beec9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beec9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19DD4-26C8-491F-BC18-010472C8ED81}" type="slidenum">
              <a:rPr b="0" lang="ru-RU" sz="1200" spc="-1" strike="noStrike">
                <a:solidFill>
                  <a:srgbClr val="fbeec9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b685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ab0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fffab0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fbeec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a5644e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a5644e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b58b8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b58b8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beec9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beec9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beec9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47B61-EDAA-402E-91DE-84A73C3C4CC3}" type="slidenum">
              <a:rPr b="0" lang="ru-RU" sz="1200" spc="-1" strike="noStrike">
                <a:solidFill>
                  <a:srgbClr val="fbeec9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b685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Прямоугольник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6a5347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Прямоугольник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3b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Прямоугольник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3b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Прямоугольник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3b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Прямоугольник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3b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Прямоугольник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3b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Прямоугольник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3b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Прямоугольник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3b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Прямоугольник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3b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Прямоугольник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3b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ab0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fffab0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fbeec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a5644e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a5644e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b58b8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b58b8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beec9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beec9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beec9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48D81-D342-4CDE-BFD9-850F9136A3E0}" type="slidenum">
              <a:rPr b="0" lang="ru-RU" sz="1200" spc="-1" strike="noStrike">
                <a:solidFill>
                  <a:srgbClr val="fbeec9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b685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ab0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fffab0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fbeec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a5644e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a5644e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b58b8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b58b8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beec9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beec9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beec9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CA398-EDBB-47F3-A8F1-3DD8CC3C3E63}" type="slidenum">
              <a:rPr b="0" lang="ru-RU" sz="1200" spc="-1" strike="noStrike">
                <a:solidFill>
                  <a:srgbClr val="fbeec9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b685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a564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b58b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3b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a564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Прямоугольник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Прямая соединительная линия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5" name="Группа 19"/>
          <p:cNvGrpSpPr/>
          <p:nvPr/>
        </p:nvGrpSpPr>
        <p:grpSpPr>
          <a:xfrm>
            <a:off x="8516880" y="1217520"/>
            <a:ext cx="128160" cy="131400"/>
            <a:chOff x="8516880" y="1217520"/>
            <a:chExt cx="128160" cy="131400"/>
          </a:xfrm>
        </p:grpSpPr>
        <p:sp>
          <p:nvSpPr>
            <p:cNvPr id="316" name="Прямая соединительная линия 20"/>
            <p:cNvSpPr/>
            <p:nvPr/>
          </p:nvSpPr>
          <p:spPr>
            <a:xfrm>
              <a:off x="8573040" y="1217520"/>
              <a:ext cx="7200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Прямая соединительная линия 23"/>
            <p:cNvSpPr/>
            <p:nvPr/>
          </p:nvSpPr>
          <p:spPr>
            <a:xfrm>
              <a:off x="8516880" y="1282680"/>
              <a:ext cx="1018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Прямая соединительная линия 24"/>
            <p:cNvSpPr/>
            <p:nvPr/>
          </p:nvSpPr>
          <p:spPr>
            <a:xfrm flipV="1">
              <a:off x="8573040" y="1282320"/>
              <a:ext cx="7200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9" name="Группа 25"/>
          <p:cNvGrpSpPr/>
          <p:nvPr/>
        </p:nvGrpSpPr>
        <p:grpSpPr>
          <a:xfrm>
            <a:off x="8669160" y="1370160"/>
            <a:ext cx="129240" cy="131400"/>
            <a:chOff x="8669160" y="1370160"/>
            <a:chExt cx="129240" cy="131400"/>
          </a:xfrm>
        </p:grpSpPr>
        <p:sp>
          <p:nvSpPr>
            <p:cNvPr id="320" name="Прямая соединительная линия 26"/>
            <p:cNvSpPr/>
            <p:nvPr/>
          </p:nvSpPr>
          <p:spPr>
            <a:xfrm>
              <a:off x="8726040" y="1370160"/>
              <a:ext cx="7236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Прямая соединительная линия 27"/>
            <p:cNvSpPr/>
            <p:nvPr/>
          </p:nvSpPr>
          <p:spPr>
            <a:xfrm>
              <a:off x="8669160" y="1435320"/>
              <a:ext cx="10224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Прямая соединительная линия 28"/>
            <p:cNvSpPr/>
            <p:nvPr/>
          </p:nvSpPr>
          <p:spPr>
            <a:xfrm flipV="1">
              <a:off x="8726040" y="1434960"/>
              <a:ext cx="7236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3" name="Группа 29"/>
          <p:cNvGrpSpPr/>
          <p:nvPr/>
        </p:nvGrpSpPr>
        <p:grpSpPr>
          <a:xfrm>
            <a:off x="8321760" y="1473120"/>
            <a:ext cx="128160" cy="131400"/>
            <a:chOff x="8321760" y="1473120"/>
            <a:chExt cx="128160" cy="131400"/>
          </a:xfrm>
        </p:grpSpPr>
        <p:sp>
          <p:nvSpPr>
            <p:cNvPr id="324" name="Прямая соединительная линия 30"/>
            <p:cNvSpPr/>
            <p:nvPr/>
          </p:nvSpPr>
          <p:spPr>
            <a:xfrm>
              <a:off x="8377920" y="1473120"/>
              <a:ext cx="7200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Прямая соединительная линия 31"/>
            <p:cNvSpPr/>
            <p:nvPr/>
          </p:nvSpPr>
          <p:spPr>
            <a:xfrm>
              <a:off x="8321760" y="1538280"/>
              <a:ext cx="1018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Прямая соединительная линия 32"/>
            <p:cNvSpPr/>
            <p:nvPr/>
          </p:nvSpPr>
          <p:spPr>
            <a:xfrm flipV="1">
              <a:off x="8377920" y="1537920"/>
              <a:ext cx="7200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ab0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fffab0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fbeec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a5644e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a5644e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b58b8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b58b8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beec9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beec9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beec9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8E592-0126-479A-BE07-ED804435ACB4}" type="slidenum">
              <a:rPr b="0" lang="ru-RU" sz="1200" spc="-1" strike="noStrike">
                <a:solidFill>
                  <a:srgbClr val="fbeec9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Заголовок 1" descr=""/>
          <p:cNvPicPr/>
          <p:nvPr/>
        </p:nvPicPr>
        <p:blipFill>
          <a:blip r:embed="rId1"/>
          <a:stretch/>
        </p:blipFill>
        <p:spPr>
          <a:xfrm>
            <a:off x="407880" y="3419640"/>
            <a:ext cx="8766360" cy="2908080"/>
          </a:xfrm>
          <a:prstGeom prst="rect">
            <a:avLst/>
          </a:prstGeom>
          <a:ln w="0">
            <a:noFill/>
          </a:ln>
        </p:spPr>
      </p:pic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914400" y="1071720"/>
            <a:ext cx="7772400" cy="2428560"/>
          </a:xfrm>
          <a:prstGeom prst="rect">
            <a:avLst/>
          </a:prstGeom>
          <a:noFill/>
          <a:ln w="0">
            <a:noFill/>
          </a:ln>
        </p:spPr>
        <p:txBody>
          <a:bodyPr lIns="10044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ffff"/>
                </a:solidFill>
                <a:latin typeface="Corbel"/>
              </a:rPr>
              <a:t>Портрет в творчестве</a:t>
            </a:r>
            <a:endParaRPr b="0" lang="en-US" sz="7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ab0"/>
                </a:solidFill>
                <a:latin typeface="Consolas"/>
              </a:rPr>
              <a:t>«Портрет мамы» </a:t>
            </a:r>
            <a:r>
              <a:rPr b="0" lang="ru-RU" sz="3200" spc="-1" strike="noStrike">
                <a:solidFill>
                  <a:srgbClr val="fffab0"/>
                </a:solidFill>
                <a:latin typeface="Consolas"/>
              </a:rPr>
              <a:t>(1961г)</a:t>
            </a:r>
            <a:endParaRPr b="0" lang="en-US" sz="3200" spc="-1" strike="noStrike">
              <a:solidFill>
                <a:srgbClr val="fffab0"/>
              </a:solidFill>
              <a:latin typeface="Consolas"/>
            </a:endParaRPr>
          </a:p>
        </p:txBody>
      </p:sp>
      <p:pic>
        <p:nvPicPr>
          <p:cNvPr id="371" name="Содержимое 3" descr="селищев 029.jpg"/>
          <p:cNvPicPr/>
          <p:nvPr/>
        </p:nvPicPr>
        <p:blipFill>
          <a:blip r:embed="rId1"/>
          <a:srcRect l="0" t="0" r="4921" b="0"/>
          <a:stretch/>
        </p:blipFill>
        <p:spPr>
          <a:xfrm>
            <a:off x="3000240" y="1571760"/>
            <a:ext cx="4143600" cy="52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51264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ab0"/>
                </a:solidFill>
                <a:latin typeface="Consolas"/>
              </a:rPr>
              <a:t>«Портрет актрисы» </a:t>
            </a:r>
            <a:r>
              <a:rPr b="0" lang="ru-RU" sz="3200" spc="-1" strike="noStrike">
                <a:solidFill>
                  <a:srgbClr val="fffab0"/>
                </a:solidFill>
                <a:latin typeface="Consolas"/>
              </a:rPr>
              <a:t>(1968 г.)</a:t>
            </a:r>
            <a:endParaRPr b="0" lang="en-US" sz="3200" spc="-1" strike="noStrike">
              <a:solidFill>
                <a:srgbClr val="fffab0"/>
              </a:solidFill>
              <a:latin typeface="Consolas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0" y="1643040"/>
            <a:ext cx="428616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fbeec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Перед нами изображение молодой красивой женщины уверенной в себе и смело смотрящей на жизнь. Чувствуется внутренняя уверенность, вдохновенность и душевная открытость. В красках ее палитры ощущается искреннее чувство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fbeec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74" name="Содержимое 4" descr="селищев.jpg"/>
          <p:cNvPicPr/>
          <p:nvPr/>
        </p:nvPicPr>
        <p:blipFill>
          <a:blip r:embed="rId1"/>
          <a:stretch/>
        </p:blipFill>
        <p:spPr>
          <a:xfrm>
            <a:off x="4929120" y="1928880"/>
            <a:ext cx="38577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ab0"/>
                </a:solidFill>
                <a:latin typeface="Consolas"/>
              </a:rPr>
              <a:t>«Портрет Попова» </a:t>
            </a:r>
            <a:r>
              <a:rPr b="0" lang="ru-RU" sz="3200" spc="-1" strike="noStrike">
                <a:solidFill>
                  <a:srgbClr val="fffab0"/>
                </a:solidFill>
                <a:latin typeface="Consolas"/>
              </a:rPr>
              <a:t>(1974 г.)</a:t>
            </a:r>
            <a:endParaRPr b="0" lang="en-US" sz="3200" spc="-1" strike="noStrike">
              <a:solidFill>
                <a:srgbClr val="fffab0"/>
              </a:solidFill>
              <a:latin typeface="Consolas"/>
            </a:endParaRPr>
          </a:p>
        </p:txBody>
      </p:sp>
      <p:pic>
        <p:nvPicPr>
          <p:cNvPr id="376" name="Содержимое 3" descr="селищев 037.jpg"/>
          <p:cNvPicPr/>
          <p:nvPr/>
        </p:nvPicPr>
        <p:blipFill>
          <a:blip r:embed="rId1"/>
          <a:stretch/>
        </p:blipFill>
        <p:spPr>
          <a:xfrm>
            <a:off x="2428920" y="1357200"/>
            <a:ext cx="450036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51264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ab0"/>
                </a:solidFill>
                <a:latin typeface="Consolas"/>
              </a:rPr>
              <a:t>«Мужеству посвящается»</a:t>
            </a:r>
            <a:endParaRPr b="0" lang="en-US" sz="4000" spc="-1" strike="noStrike">
              <a:solidFill>
                <a:srgbClr val="fffab0"/>
              </a:solidFill>
              <a:latin typeface="Consolas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-360" y="1643040"/>
            <a:ext cx="378612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06800" indent="-339120">
              <a:lnSpc>
                <a:spcPct val="80000"/>
              </a:lnSpc>
              <a:spcBef>
                <a:spcPts val="700"/>
              </a:spcBef>
              <a:buClr>
                <a:srgbClr val="fbeec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rbel"/>
              </a:rPr>
              <a:t>Перед нами изображение молодой красивой женщины уверенной в себе и смело смотрящей на жизнь. Чувствуется внутренняя уверенность, вдохновенность и душевная открытость. В красках ее палитры ощущается искреннее чувство.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06800" indent="-339120">
              <a:lnSpc>
                <a:spcPct val="80000"/>
              </a:lnSpc>
              <a:spcBef>
                <a:spcPts val="700"/>
              </a:spcBef>
              <a:buClr>
                <a:srgbClr val="fbeec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79" name="Содержимое 4" descr="селищев 030.jpg"/>
          <p:cNvPicPr/>
          <p:nvPr/>
        </p:nvPicPr>
        <p:blipFill>
          <a:blip r:embed="rId1"/>
          <a:stretch/>
        </p:blipFill>
        <p:spPr>
          <a:xfrm>
            <a:off x="3857760" y="2286000"/>
            <a:ext cx="4929120" cy="32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51264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ab0"/>
                </a:solidFill>
                <a:latin typeface="Consolas"/>
              </a:rPr>
              <a:t>«Портрет Галины» (1995г)</a:t>
            </a:r>
            <a:endParaRPr b="0" lang="en-US" sz="3200" spc="-1" strike="noStrike">
              <a:solidFill>
                <a:srgbClr val="fffab0"/>
              </a:solidFill>
              <a:latin typeface="Consolas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0" y="1571760"/>
            <a:ext cx="385776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fbeec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Художник пишет учителя музыки, после выступления. Это произведение пленяет одухотворенностью и изысканностью колористического мастерства.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fbeec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82" name="Содержимое 6" descr="селищев 032.jpg"/>
          <p:cNvPicPr/>
          <p:nvPr/>
        </p:nvPicPr>
        <p:blipFill>
          <a:blip r:embed="rId1"/>
          <a:stretch/>
        </p:blipFill>
        <p:spPr>
          <a:xfrm>
            <a:off x="4572000" y="1571760"/>
            <a:ext cx="4000680" cy="48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51264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ab0"/>
                </a:solidFill>
                <a:latin typeface="Consolas"/>
              </a:rPr>
              <a:t>«Нина» </a:t>
            </a:r>
            <a:r>
              <a:rPr b="0" lang="ru-RU" sz="3200" spc="-1" strike="noStrike">
                <a:solidFill>
                  <a:srgbClr val="fffab0"/>
                </a:solidFill>
                <a:latin typeface="Consolas"/>
              </a:rPr>
              <a:t>(1997г)</a:t>
            </a:r>
            <a:endParaRPr b="0" lang="en-US" sz="3200" spc="-1" strike="noStrike">
              <a:solidFill>
                <a:srgbClr val="fffab0"/>
              </a:solidFill>
              <a:latin typeface="Consolas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465120" y="17701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86280" indent="-321840">
              <a:spcBef>
                <a:spcPts val="700"/>
              </a:spcBef>
              <a:buClr>
                <a:srgbClr val="fbeec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Скромное по композиции произведение пленяет  также своей одухотворенностью, фон трактуется в оранжево-коричневых тонах без резких переходов.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85" name="Содержимое 4" descr="селищев 031.jpg"/>
          <p:cNvPicPr/>
          <p:nvPr/>
        </p:nvPicPr>
        <p:blipFill>
          <a:blip r:embed="rId1"/>
          <a:srcRect l="0" t="2859" r="0" b="0"/>
          <a:stretch/>
        </p:blipFill>
        <p:spPr>
          <a:xfrm>
            <a:off x="4643280" y="1714680"/>
            <a:ext cx="4000680" cy="46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ab0"/>
                </a:solidFill>
                <a:latin typeface="Consolas"/>
              </a:rPr>
              <a:t>«Портрет сына» (1981г)</a:t>
            </a:r>
            <a:endParaRPr b="0" lang="en-US" sz="3200" spc="-1" strike="noStrike">
              <a:solidFill>
                <a:srgbClr val="fffab0"/>
              </a:solidFill>
              <a:latin typeface="Consolas"/>
            </a:endParaRPr>
          </a:p>
        </p:txBody>
      </p:sp>
      <p:pic>
        <p:nvPicPr>
          <p:cNvPr id="387" name="Содержимое 3" descr="селищев 035.jpg"/>
          <p:cNvPicPr/>
          <p:nvPr/>
        </p:nvPicPr>
        <p:blipFill>
          <a:blip r:embed="rId1"/>
          <a:stretch/>
        </p:blipFill>
        <p:spPr>
          <a:xfrm>
            <a:off x="2928960" y="1785960"/>
            <a:ext cx="38577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51264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ab0"/>
                </a:solidFill>
                <a:latin typeface="Consolas"/>
              </a:rPr>
              <a:t>«Родина-мать зовет» </a:t>
            </a:r>
            <a:r>
              <a:rPr b="0" lang="ru-RU" sz="3200" spc="-1" strike="noStrike">
                <a:solidFill>
                  <a:srgbClr val="fffab0"/>
                </a:solidFill>
                <a:latin typeface="Consolas"/>
              </a:rPr>
              <a:t>(1981г)</a:t>
            </a:r>
            <a:endParaRPr b="0" lang="en-US" sz="3200" spc="-1" strike="noStrike">
              <a:solidFill>
                <a:srgbClr val="fffab0"/>
              </a:solidFill>
              <a:latin typeface="Consolas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465120" y="17701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fbeec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Судьбы человеческие очень сложны. Это пытался художник показать в работе: «Родина мать – зовет!».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90" name="Содержимое 6" descr="селищев 033.jpg"/>
          <p:cNvPicPr/>
          <p:nvPr/>
        </p:nvPicPr>
        <p:blipFill>
          <a:blip r:embed="rId1"/>
          <a:stretch/>
        </p:blipFill>
        <p:spPr>
          <a:xfrm>
            <a:off x="4429080" y="1428840"/>
            <a:ext cx="4143600" cy="51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3T10:03:45Z</dcterms:created>
  <dc:creator>1</dc:creator>
  <dc:description/>
  <dc:language>en-US</dc:language>
  <cp:lastModifiedBy>User</cp:lastModifiedBy>
  <dcterms:modified xsi:type="dcterms:W3CDTF">2012-05-28T14:44:13Z</dcterms:modified>
  <cp:revision>7</cp:revision>
  <dc:subject/>
  <dc:title>М.Г.Селищева</dc:title>
</cp:coreProperties>
</file>