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481A-F74F-4BDC-9C63-FF9A5A94A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ab0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E7DB-14E7-4A2D-A5F9-A22FF10FC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ab0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F21B-5884-4BAA-A363-6529A8A75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ab0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CAD4-7B4F-4A0F-9264-621A6E3DF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86641-EC91-4C48-885A-055FBF92B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ab0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EA681-93AC-4E89-AE53-7A3B97D5B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ab0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004C4-2D0F-47A0-903D-9C05D3C39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ab0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5083F-0BA4-463B-AB22-14E231D12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ab0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CB739-8F9F-4F95-8CF7-0D49AE456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66FD5-E31F-4AB6-8575-593E84CBA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ab0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2A3E7-4CC3-4248-ABEC-28E97E766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ab0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7582-B9F7-49E5-B32B-B44CD80BC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ab0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17B05-F77E-4F12-81F6-9F8CB0142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ab0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8D4E7-EA8F-4232-B921-BF83A2D86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ab0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9E61F-65AE-4CA2-A38E-4CC3625BC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ab0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12F57-CBDD-45D5-91AE-A361DAE83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ab0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CF270-F334-493D-B4E2-5866D02CB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A030B6-B177-4A51-A35D-8B4474CFF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ab0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D77AAF-0276-4696-B9BF-359BB5A82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ab0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56D4F8-9D6F-4EF0-A939-AA7613BFD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ab0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F9B96A-CC1C-41A7-B796-479EA3692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ab0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C02AC5-30D2-49B6-878F-157C009CC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ab0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DA6F-D8A4-4093-A7A3-27DBBB9B3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F4673A-3955-4998-9261-D50E47BF5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ab0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8E7B33-00F7-48B0-B138-DC40767CD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ab0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C00126-B806-447C-B18C-AED4C71CF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ab0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16365F-79BE-4DF1-A70D-5B8A0707F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ab0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6A58CF-00FE-468E-8D32-35AEA5AF2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ab0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013B0E-B6EB-4C23-8B6B-CBF7E6A82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ab0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3B8877-7CEA-4CA3-A94E-C7E199F16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57025E-D667-4AD1-9E6C-F5F5EAB25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ab0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A0AD92-9EFD-4B10-A69D-9F349D284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ab0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C188C7-45E6-42C4-866A-4583B96CA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ab0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7F20-493A-4D6F-AB8E-5C54CEA97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ab0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6BECA5-E468-47E4-991F-8D6848EE3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ab0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9F8505-CFA2-4F87-B8FE-3AFC49513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995C6B-ECBA-4E79-859F-83EAC39B7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ab0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783F56-173B-4242-85A0-39ADA9C95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ab0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D7B374-D9A1-47DE-B714-F824AA256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ab0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051823-BCF7-45CF-9DF2-1091E31AB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ab0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70A2A5-D9D5-46A9-96A9-CADC29734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ab0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7E5151-EF00-49F6-BB9B-2A72C4D87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ab0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BAA58D-C31B-48D9-AF81-B2A7B0237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7367B0-4A31-469D-B32A-F7B849B56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ab0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ED92-2C2F-42E7-AE61-9244246A9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ab0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2403ED-9BE3-43AD-B88D-88240AFDE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ab0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DA107B-ED00-41F7-A2D4-E94CCFC5E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ab0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71CE96-E0BB-4B6E-ACC1-6A17F6F89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ab0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FC4228-1C3D-4D9C-91BB-485287F64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D1A51F-8F4F-41C2-98E9-A7C55EECB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ab0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D3B2D1-5182-494B-9D38-C32E2831B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ab0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557E0C-9C7E-49E7-A9A8-5C93594F0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ab0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36303D-2797-42A7-9E7D-27327FA79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ab0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AE7CAE-0D2B-47D6-A3A0-B62F21BEA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ab0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B5B868-1D7A-4FD4-AD7B-CBC1B910D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D90B-D9E3-49C8-B798-46BC8337C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ab0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59E7D3-69DE-4725-B816-356D9B06F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AD1D11-1AE3-45DC-8002-0D6A72578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ab0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99CBF7-2A7B-4E0B-B18C-195DA9800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ab0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F6543A-A08B-411F-9B9C-0E7959AD7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ab0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626F91-D344-42E3-9A27-9DDB1C39B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ab0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8BF817-FC27-4375-A632-8E90814C4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8AF122-F89E-43C6-8E28-644257DF4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ab0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520076-375E-4066-8BE6-EBC4F525D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ab0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DB41D7-FB16-4945-94FB-D8D5CC7FC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ab0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EC32F7-D30E-44ED-90B2-AD126CA06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ab0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2DFD-82AC-4740-9164-A0A64E527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ab0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0C601D-70D7-4FC2-8CA0-E105093C6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ab0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7E3A5F-83EB-42BF-B023-BCB41CB9B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ab0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334D77-6D34-4C67-966D-05A2D9676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EFDB12-C55C-4DE0-94D8-2028A9229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ab0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A6CCB4-DFD9-46C3-9764-967B7CF7E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ab0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8C0E68-C399-4F07-9EDA-2604483F2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ab0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9FDF4E-141D-44DC-8D00-5E146F387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ab0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8B0766-D0A6-4BD0-AE53-BA9A4F589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CAB90E-7DA5-4139-AA2B-C66DC2363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ab0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52DB1A-C337-4ED6-8502-246C81D40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ab0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E5A2-C50E-4FE9-8D8D-DCB6394E2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ab0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BDD884-5B51-4A45-A13F-CF3E9A425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ab0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5C5DAD-3E91-4338-8B02-676B89922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ab0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C38262-6B0D-4CF7-A2F7-36C4E537C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ab0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5A7AFD-F7BC-4A39-81B5-A23788D96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ab0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E07D60-3C0D-415C-B693-3733C3C40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ab0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60C2-DB93-420D-B877-B71B1067E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b685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a564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b58b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3b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a564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ab0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ffab0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fbeec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a5644e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a5644e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b58b8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b58b8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beec9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beec9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beec9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49C8B-7F8A-42B7-9747-087C14A2EAD2}" type="slidenum">
              <a:rPr b="0" lang="ru-RU" sz="1200" spc="-1" strike="noStrike">
                <a:solidFill>
                  <a:srgbClr val="fbeec9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b685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Прямоугольник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Прямоугольник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Прямоугольник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Прямоугольник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Прямоугольник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a564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Прямоугольник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b58b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3b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Прямоугольник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a564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ab0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ffab0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fbeec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a5644e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a5644e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b58b8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b58b8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beec9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beec9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beec9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96343-F9F6-413C-A98B-AC0FBB00A6CE}" type="slidenum">
              <a:rPr b="0" lang="ru-RU" sz="1200" spc="-1" strike="noStrike">
                <a:solidFill>
                  <a:srgbClr val="fbeec9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b685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a564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b58b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3b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a564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Полилиния 17"/>
          <p:cNvSpPr/>
          <p:nvPr/>
        </p:nvSpPr>
        <p:spPr>
          <a:xfrm>
            <a:off x="4829040" y="1073160"/>
            <a:ext cx="4321440" cy="5791320"/>
          </a:xfrm>
          <a:prstGeom prst="pie">
            <a:avLst/>
          </a:prstGeom>
          <a:noFill/>
          <a:ln w="3240">
            <a:solidFill>
              <a:srgbClr val="a5644e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Полилиния 18"/>
          <p:cNvSpPr/>
          <p:nvPr/>
        </p:nvSpPr>
        <p:spPr>
          <a:xfrm>
            <a:off x="374760" y="0"/>
            <a:ext cx="5513400" cy="6615000"/>
          </a:xfrm>
          <a:prstGeom prst="pie">
            <a:avLst/>
          </a:prstGeom>
          <a:noFill/>
          <a:ln w="3240">
            <a:solidFill>
              <a:srgbClr val="a5644e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Полилиния 19"/>
          <p:cNvSpPr/>
          <p:nvPr/>
        </p:nvSpPr>
        <p:spPr>
          <a:xfrm rot="5236200">
            <a:off x="4461120" y="1483200"/>
            <a:ext cx="4114800" cy="1189080"/>
          </a:xfrm>
          <a:prstGeom prst="pie">
            <a:avLst/>
          </a:prstGeom>
          <a:solidFill>
            <a:srgbClr val="6a5347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Полилиния 20"/>
          <p:cNvSpPr/>
          <p:nvPr/>
        </p:nvSpPr>
        <p:spPr>
          <a:xfrm>
            <a:off x="5943600" y="0"/>
            <a:ext cx="2743200" cy="4267080"/>
          </a:xfrm>
          <a:prstGeom prst="pie">
            <a:avLst/>
          </a:prstGeom>
          <a:solidFill>
            <a:srgbClr val="6c52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Полилиния 23"/>
          <p:cNvSpPr/>
          <p:nvPr/>
        </p:nvSpPr>
        <p:spPr>
          <a:xfrm>
            <a:off x="5943600" y="4267080"/>
            <a:ext cx="3200400" cy="1143000"/>
          </a:xfrm>
          <a:prstGeom prst="pie">
            <a:avLst/>
          </a:prstGeom>
          <a:solidFill>
            <a:srgbClr val="6c52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Полилиния 24"/>
          <p:cNvSpPr/>
          <p:nvPr/>
        </p:nvSpPr>
        <p:spPr>
          <a:xfrm>
            <a:off x="5943600" y="0"/>
            <a:ext cx="1371600" cy="4267080"/>
          </a:xfrm>
          <a:prstGeom prst="pie">
            <a:avLst/>
          </a:prstGeom>
          <a:solidFill>
            <a:srgbClr val="6c52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Полилиния 25"/>
          <p:cNvSpPr/>
          <p:nvPr/>
        </p:nvSpPr>
        <p:spPr>
          <a:xfrm>
            <a:off x="5948280" y="4246560"/>
            <a:ext cx="2090880" cy="2611440"/>
          </a:xfrm>
          <a:prstGeom prst="pie">
            <a:avLst/>
          </a:prstGeom>
          <a:solidFill>
            <a:srgbClr val="6c52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Полилиния 26"/>
          <p:cNvSpPr/>
          <p:nvPr/>
        </p:nvSpPr>
        <p:spPr>
          <a:xfrm>
            <a:off x="5943600" y="4267080"/>
            <a:ext cx="1600200" cy="2590920"/>
          </a:xfrm>
          <a:prstGeom prst="pie">
            <a:avLst/>
          </a:prstGeom>
          <a:solidFill>
            <a:srgbClr val="6c52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Полилиния 27"/>
          <p:cNvSpPr/>
          <p:nvPr/>
        </p:nvSpPr>
        <p:spPr>
          <a:xfrm>
            <a:off x="5943600" y="1371600"/>
            <a:ext cx="3200400" cy="2895480"/>
          </a:xfrm>
          <a:prstGeom prst="pie">
            <a:avLst/>
          </a:prstGeom>
          <a:solidFill>
            <a:srgbClr val="6c52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Полилиния 28"/>
          <p:cNvSpPr/>
          <p:nvPr/>
        </p:nvSpPr>
        <p:spPr>
          <a:xfrm>
            <a:off x="5943600" y="1752480"/>
            <a:ext cx="3200400" cy="2514600"/>
          </a:xfrm>
          <a:prstGeom prst="pie">
            <a:avLst/>
          </a:prstGeom>
          <a:solidFill>
            <a:srgbClr val="6c52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Полилиния 29"/>
          <p:cNvSpPr/>
          <p:nvPr/>
        </p:nvSpPr>
        <p:spPr>
          <a:xfrm>
            <a:off x="990720" y="4267080"/>
            <a:ext cx="4952880" cy="2590920"/>
          </a:xfrm>
          <a:prstGeom prst="pie">
            <a:avLst/>
          </a:prstGeom>
          <a:solidFill>
            <a:srgbClr val="6c52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Полилиния 30"/>
          <p:cNvSpPr/>
          <p:nvPr/>
        </p:nvSpPr>
        <p:spPr>
          <a:xfrm>
            <a:off x="533520" y="4267080"/>
            <a:ext cx="5333760" cy="2590920"/>
          </a:xfrm>
          <a:prstGeom prst="pie">
            <a:avLst/>
          </a:prstGeom>
          <a:solidFill>
            <a:srgbClr val="6c52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Полилиния 31"/>
          <p:cNvSpPr/>
          <p:nvPr/>
        </p:nvSpPr>
        <p:spPr>
          <a:xfrm>
            <a:off x="366840" y="2438280"/>
            <a:ext cx="5638680" cy="1828800"/>
          </a:xfrm>
          <a:prstGeom prst="pie">
            <a:avLst/>
          </a:prstGeom>
          <a:solidFill>
            <a:srgbClr val="6c52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Полилиния 32"/>
          <p:cNvSpPr/>
          <p:nvPr/>
        </p:nvSpPr>
        <p:spPr>
          <a:xfrm>
            <a:off x="366840" y="2133720"/>
            <a:ext cx="5638680" cy="2133360"/>
          </a:xfrm>
          <a:prstGeom prst="pie">
            <a:avLst/>
          </a:prstGeom>
          <a:solidFill>
            <a:srgbClr val="6c52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Полилиния 33"/>
          <p:cNvSpPr/>
          <p:nvPr/>
        </p:nvSpPr>
        <p:spPr>
          <a:xfrm>
            <a:off x="4572000" y="4267080"/>
            <a:ext cx="1371600" cy="2590920"/>
          </a:xfrm>
          <a:prstGeom prst="pie">
            <a:avLst/>
          </a:prstGeom>
          <a:solidFill>
            <a:srgbClr val="6a5347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Прямоугольник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6a5347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Прямоугольник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Прямоугольник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Прямоугольник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оугольник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Прямоугольник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ab0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ffab0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fbeec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a5644e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a5644e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b58b8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b58b8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beec9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beec9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beec9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F0DE5-FA17-44E7-B019-95AB76DEEAC4}" type="slidenum">
              <a:rPr b="0" lang="ru-RU" sz="1200" spc="-1" strike="noStrike">
                <a:solidFill>
                  <a:srgbClr val="fbeec9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b685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ab0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ffab0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fbeec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a5644e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a5644e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b58b8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b58b8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beec9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beec9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beec9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B19DF-A0A0-4A6F-AB54-A1E71A5D0841}" type="slidenum">
              <a:rPr b="0" lang="ru-RU" sz="1200" spc="-1" strike="noStrike">
                <a:solidFill>
                  <a:srgbClr val="fbeec9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b685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Прямоугольник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6a5347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Прямоугольник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3b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Прямоугольник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3b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Прямоугольник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3b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Прямоугольник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3b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Прямоугольник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3b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Прямоугольник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3b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Прямоугольник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3b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Прямоугольник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3b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Прямоугольник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3b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ab0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ffab0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fbeec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a5644e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a5644e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b58b8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b58b8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beec9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beec9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beec9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70DC7-F78B-42C7-9A3A-A3BFE32EC833}" type="slidenum">
              <a:rPr b="0" lang="ru-RU" sz="1200" spc="-1" strike="noStrike">
                <a:solidFill>
                  <a:srgbClr val="fbeec9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b685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ab0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ffab0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fbeec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a5644e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a5644e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b58b8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b58b8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beec9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beec9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beec9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439B1-22A9-4539-830B-53417F67FC4C}" type="slidenum">
              <a:rPr b="0" lang="ru-RU" sz="1200" spc="-1" strike="noStrike">
                <a:solidFill>
                  <a:srgbClr val="fbeec9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b685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a564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b58b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3b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a564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Прямоугольник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Прямая соединительная линия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Группа 19"/>
          <p:cNvGrpSpPr/>
          <p:nvPr/>
        </p:nvGrpSpPr>
        <p:grpSpPr>
          <a:xfrm>
            <a:off x="8516880" y="1217520"/>
            <a:ext cx="128160" cy="131400"/>
            <a:chOff x="8516880" y="1217520"/>
            <a:chExt cx="128160" cy="131400"/>
          </a:xfrm>
        </p:grpSpPr>
        <p:sp>
          <p:nvSpPr>
            <p:cNvPr id="316" name="Прямая соединительная линия 20"/>
            <p:cNvSpPr/>
            <p:nvPr/>
          </p:nvSpPr>
          <p:spPr>
            <a:xfrm>
              <a:off x="8573040" y="1217520"/>
              <a:ext cx="7200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Прямая соединительная линия 23"/>
            <p:cNvSpPr/>
            <p:nvPr/>
          </p:nvSpPr>
          <p:spPr>
            <a:xfrm>
              <a:off x="8516880" y="1282680"/>
              <a:ext cx="1018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Прямая соединительная линия 24"/>
            <p:cNvSpPr/>
            <p:nvPr/>
          </p:nvSpPr>
          <p:spPr>
            <a:xfrm flipV="1">
              <a:off x="8573040" y="1282320"/>
              <a:ext cx="7200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Группа 25"/>
          <p:cNvGrpSpPr/>
          <p:nvPr/>
        </p:nvGrpSpPr>
        <p:grpSpPr>
          <a:xfrm>
            <a:off x="8669160" y="1370160"/>
            <a:ext cx="129240" cy="131400"/>
            <a:chOff x="8669160" y="1370160"/>
            <a:chExt cx="129240" cy="131400"/>
          </a:xfrm>
        </p:grpSpPr>
        <p:sp>
          <p:nvSpPr>
            <p:cNvPr id="320" name="Прямая соединительная линия 26"/>
            <p:cNvSpPr/>
            <p:nvPr/>
          </p:nvSpPr>
          <p:spPr>
            <a:xfrm>
              <a:off x="8726040" y="1370160"/>
              <a:ext cx="723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Прямая соединительная линия 27"/>
            <p:cNvSpPr/>
            <p:nvPr/>
          </p:nvSpPr>
          <p:spPr>
            <a:xfrm>
              <a:off x="8669160" y="1435320"/>
              <a:ext cx="10224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Прямая соединительная линия 28"/>
            <p:cNvSpPr/>
            <p:nvPr/>
          </p:nvSpPr>
          <p:spPr>
            <a:xfrm flipV="1">
              <a:off x="8726040" y="1434960"/>
              <a:ext cx="723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Группа 29"/>
          <p:cNvGrpSpPr/>
          <p:nvPr/>
        </p:nvGrpSpPr>
        <p:grpSpPr>
          <a:xfrm>
            <a:off x="8321760" y="1473120"/>
            <a:ext cx="128160" cy="131400"/>
            <a:chOff x="8321760" y="1473120"/>
            <a:chExt cx="128160" cy="131400"/>
          </a:xfrm>
        </p:grpSpPr>
        <p:sp>
          <p:nvSpPr>
            <p:cNvPr id="324" name="Прямая соединительная линия 30"/>
            <p:cNvSpPr/>
            <p:nvPr/>
          </p:nvSpPr>
          <p:spPr>
            <a:xfrm>
              <a:off x="8377920" y="1473120"/>
              <a:ext cx="7200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Прямая соединительная линия 31"/>
            <p:cNvSpPr/>
            <p:nvPr/>
          </p:nvSpPr>
          <p:spPr>
            <a:xfrm>
              <a:off x="8321760" y="1538280"/>
              <a:ext cx="1018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Прямая соединительная линия 32"/>
            <p:cNvSpPr/>
            <p:nvPr/>
          </p:nvSpPr>
          <p:spPr>
            <a:xfrm flipV="1">
              <a:off x="8377920" y="1537920"/>
              <a:ext cx="7200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ab0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ffab0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fbeec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a5644e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a5644e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b58b8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b58b8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beec9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beec9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beec9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9349E-9FBD-43C6-A7C9-64E005B6CE97}" type="slidenum">
              <a:rPr b="0" lang="ru-RU" sz="1200" spc="-1" strike="noStrike">
                <a:solidFill>
                  <a:srgbClr val="fbeec9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Заголовок 1" descr=""/>
          <p:cNvPicPr/>
          <p:nvPr/>
        </p:nvPicPr>
        <p:blipFill>
          <a:blip r:embed="rId1"/>
          <a:stretch/>
        </p:blipFill>
        <p:spPr>
          <a:xfrm>
            <a:off x="407880" y="3419640"/>
            <a:ext cx="8766360" cy="2908080"/>
          </a:xfrm>
          <a:prstGeom prst="rect">
            <a:avLst/>
          </a:prstGeom>
          <a:ln w="0">
            <a:noFill/>
          </a:ln>
        </p:spPr>
      </p:pic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914400" y="1071720"/>
            <a:ext cx="7772400" cy="2428560"/>
          </a:xfrm>
          <a:prstGeom prst="rect">
            <a:avLst/>
          </a:prstGeom>
          <a:noFill/>
          <a:ln w="0">
            <a:noFill/>
          </a:ln>
        </p:spPr>
        <p:txBody>
          <a:bodyPr lIns="10044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Corbel"/>
              </a:rPr>
              <a:t>Портрет в творчестве</a:t>
            </a:r>
            <a:endParaRPr b="0" lang="en-US" sz="7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ab0"/>
                </a:solidFill>
                <a:latin typeface="Consolas"/>
              </a:rPr>
              <a:t>«Портрет мамы» </a:t>
            </a:r>
            <a:r>
              <a:rPr b="0" lang="ru-RU" sz="3200" spc="-1" strike="noStrike">
                <a:solidFill>
                  <a:srgbClr val="fffab0"/>
                </a:solidFill>
                <a:latin typeface="Consolas"/>
              </a:rPr>
              <a:t>(1961г)</a:t>
            </a:r>
            <a:endParaRPr b="0" lang="en-US" sz="3200" spc="-1" strike="noStrike">
              <a:solidFill>
                <a:srgbClr val="fffab0"/>
              </a:solidFill>
              <a:latin typeface="Consolas"/>
            </a:endParaRPr>
          </a:p>
        </p:txBody>
      </p:sp>
      <p:pic>
        <p:nvPicPr>
          <p:cNvPr id="371" name="Содержимое 3" descr="селищев 029.jpg"/>
          <p:cNvPicPr/>
          <p:nvPr/>
        </p:nvPicPr>
        <p:blipFill>
          <a:blip r:embed="rId1"/>
          <a:srcRect l="0" t="0" r="4921" b="0"/>
          <a:stretch/>
        </p:blipFill>
        <p:spPr>
          <a:xfrm>
            <a:off x="3000240" y="1571760"/>
            <a:ext cx="414360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51264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ab0"/>
                </a:solidFill>
                <a:latin typeface="Consolas"/>
              </a:rPr>
              <a:t>«Портрет актрисы» </a:t>
            </a:r>
            <a:r>
              <a:rPr b="0" lang="ru-RU" sz="3200" spc="-1" strike="noStrike">
                <a:solidFill>
                  <a:srgbClr val="fffab0"/>
                </a:solidFill>
                <a:latin typeface="Consolas"/>
              </a:rPr>
              <a:t>(1968 г.)</a:t>
            </a:r>
            <a:endParaRPr b="0" lang="en-US" sz="3200" spc="-1" strike="noStrike">
              <a:solidFill>
                <a:srgbClr val="fffab0"/>
              </a:solidFill>
              <a:latin typeface="Consolas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0" y="1643040"/>
            <a:ext cx="428616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fbeec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Перед нами изображение молодой красивой женщины уверенной в себе и смело смотрящей на жизнь. Чувствуется внутренняя уверенность, вдохновенность и душевная открытость. В красках ее палитры ощущается искреннее чувство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fbeec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74" name="Содержимое 4" descr="селищев.jpg"/>
          <p:cNvPicPr/>
          <p:nvPr/>
        </p:nvPicPr>
        <p:blipFill>
          <a:blip r:embed="rId1"/>
          <a:stretch/>
        </p:blipFill>
        <p:spPr>
          <a:xfrm>
            <a:off x="4929120" y="1928880"/>
            <a:ext cx="38577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ab0"/>
                </a:solidFill>
                <a:latin typeface="Consolas"/>
              </a:rPr>
              <a:t>«Портрет Попова» </a:t>
            </a:r>
            <a:r>
              <a:rPr b="0" lang="ru-RU" sz="3200" spc="-1" strike="noStrike">
                <a:solidFill>
                  <a:srgbClr val="fffab0"/>
                </a:solidFill>
                <a:latin typeface="Consolas"/>
              </a:rPr>
              <a:t>(1974 г.)</a:t>
            </a:r>
            <a:endParaRPr b="0" lang="en-US" sz="3200" spc="-1" strike="noStrike">
              <a:solidFill>
                <a:srgbClr val="fffab0"/>
              </a:solidFill>
              <a:latin typeface="Consolas"/>
            </a:endParaRPr>
          </a:p>
        </p:txBody>
      </p:sp>
      <p:pic>
        <p:nvPicPr>
          <p:cNvPr id="376" name="Содержимое 3" descr="селищев 037.jpg"/>
          <p:cNvPicPr/>
          <p:nvPr/>
        </p:nvPicPr>
        <p:blipFill>
          <a:blip r:embed="rId1"/>
          <a:stretch/>
        </p:blipFill>
        <p:spPr>
          <a:xfrm>
            <a:off x="2428920" y="1357200"/>
            <a:ext cx="450036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51264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ab0"/>
                </a:solidFill>
                <a:latin typeface="Consolas"/>
              </a:rPr>
              <a:t>«Мужеству посвящается»</a:t>
            </a:r>
            <a:endParaRPr b="0" lang="en-US" sz="4000" spc="-1" strike="noStrike">
              <a:solidFill>
                <a:srgbClr val="fffab0"/>
              </a:solidFill>
              <a:latin typeface="Consolas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-360" y="1643040"/>
            <a:ext cx="37861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06800" indent="-339120">
              <a:lnSpc>
                <a:spcPct val="80000"/>
              </a:lnSpc>
              <a:spcBef>
                <a:spcPts val="700"/>
              </a:spcBef>
              <a:buClr>
                <a:srgbClr val="fbeec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rbel"/>
              </a:rPr>
              <a:t>Перед нами изображение молодой красивой женщины уверенной в себе и смело смотрящей на жизнь. Чувствуется внутренняя уверенность, вдохновенность и душевная открытость. В красках ее палитры ощущается искреннее чувство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lnSpc>
                <a:spcPct val="80000"/>
              </a:lnSpc>
              <a:spcBef>
                <a:spcPts val="700"/>
              </a:spcBef>
              <a:buClr>
                <a:srgbClr val="fbeec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79" name="Содержимое 4" descr="селищев 030.jpg"/>
          <p:cNvPicPr/>
          <p:nvPr/>
        </p:nvPicPr>
        <p:blipFill>
          <a:blip r:embed="rId1"/>
          <a:stretch/>
        </p:blipFill>
        <p:spPr>
          <a:xfrm>
            <a:off x="3857760" y="2286000"/>
            <a:ext cx="492912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51264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ab0"/>
                </a:solidFill>
                <a:latin typeface="Consolas"/>
              </a:rPr>
              <a:t>«Портрет Галины» (1995г)</a:t>
            </a:r>
            <a:endParaRPr b="0" lang="en-US" sz="3200" spc="-1" strike="noStrike">
              <a:solidFill>
                <a:srgbClr val="fffab0"/>
              </a:solidFill>
              <a:latin typeface="Consolas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0" y="1571760"/>
            <a:ext cx="385776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fbeec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Художник пишет учителя музыки, после выступления. Это произведение пленяет одухотворенностью и изысканностью колористического мастерства.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fbeec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82" name="Содержимое 6" descr="селищев 032.jpg"/>
          <p:cNvPicPr/>
          <p:nvPr/>
        </p:nvPicPr>
        <p:blipFill>
          <a:blip r:embed="rId1"/>
          <a:stretch/>
        </p:blipFill>
        <p:spPr>
          <a:xfrm>
            <a:off x="4572000" y="1571760"/>
            <a:ext cx="4000680" cy="48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51264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ab0"/>
                </a:solidFill>
                <a:latin typeface="Consolas"/>
              </a:rPr>
              <a:t>«Нина» </a:t>
            </a:r>
            <a:r>
              <a:rPr b="0" lang="ru-RU" sz="3200" spc="-1" strike="noStrike">
                <a:solidFill>
                  <a:srgbClr val="fffab0"/>
                </a:solidFill>
                <a:latin typeface="Consolas"/>
              </a:rPr>
              <a:t>(1997г)</a:t>
            </a:r>
            <a:endParaRPr b="0" lang="en-US" sz="3200" spc="-1" strike="noStrike">
              <a:solidFill>
                <a:srgbClr val="fffab0"/>
              </a:solidFill>
              <a:latin typeface="Consolas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465120" y="17701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86280" indent="-321840">
              <a:spcBef>
                <a:spcPts val="700"/>
              </a:spcBef>
              <a:buClr>
                <a:srgbClr val="fbeec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Скромное по композиции произведение пленяет  также своей одухотворенностью, фон трактуется в оранжево-коричневых тонах без резких переходов.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85" name="Содержимое 4" descr="селищев 031.jpg"/>
          <p:cNvPicPr/>
          <p:nvPr/>
        </p:nvPicPr>
        <p:blipFill>
          <a:blip r:embed="rId1"/>
          <a:srcRect l="0" t="2859" r="0" b="0"/>
          <a:stretch/>
        </p:blipFill>
        <p:spPr>
          <a:xfrm>
            <a:off x="4643280" y="1714680"/>
            <a:ext cx="400068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ab0"/>
                </a:solidFill>
                <a:latin typeface="Consolas"/>
              </a:rPr>
              <a:t>«Портрет сына» (1981г)</a:t>
            </a:r>
            <a:endParaRPr b="0" lang="en-US" sz="3200" spc="-1" strike="noStrike">
              <a:solidFill>
                <a:srgbClr val="fffab0"/>
              </a:solidFill>
              <a:latin typeface="Consolas"/>
            </a:endParaRPr>
          </a:p>
        </p:txBody>
      </p:sp>
      <p:pic>
        <p:nvPicPr>
          <p:cNvPr id="387" name="Содержимое 3" descr="селищев 035.jpg"/>
          <p:cNvPicPr/>
          <p:nvPr/>
        </p:nvPicPr>
        <p:blipFill>
          <a:blip r:embed="rId1"/>
          <a:stretch/>
        </p:blipFill>
        <p:spPr>
          <a:xfrm>
            <a:off x="2928960" y="1785960"/>
            <a:ext cx="38577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51264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ab0"/>
                </a:solidFill>
                <a:latin typeface="Consolas"/>
              </a:rPr>
              <a:t>«Родина-мать зовет» </a:t>
            </a:r>
            <a:r>
              <a:rPr b="0" lang="ru-RU" sz="3200" spc="-1" strike="noStrike">
                <a:solidFill>
                  <a:srgbClr val="fffab0"/>
                </a:solidFill>
                <a:latin typeface="Consolas"/>
              </a:rPr>
              <a:t>(1981г)</a:t>
            </a:r>
            <a:endParaRPr b="0" lang="en-US" sz="3200" spc="-1" strike="noStrike">
              <a:solidFill>
                <a:srgbClr val="fffab0"/>
              </a:solidFill>
              <a:latin typeface="Consolas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65120" y="17701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fbeec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Судьбы человеческие очень сложны. Это пытался художник показать в работе: «Родина мать – зовет!».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90" name="Содержимое 6" descr="селищев 033.jpg"/>
          <p:cNvPicPr/>
          <p:nvPr/>
        </p:nvPicPr>
        <p:blipFill>
          <a:blip r:embed="rId1"/>
          <a:stretch/>
        </p:blipFill>
        <p:spPr>
          <a:xfrm>
            <a:off x="4429080" y="1428840"/>
            <a:ext cx="414360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3T10:03:45Z</dcterms:created>
  <dc:creator>1</dc:creator>
  <dc:description/>
  <dc:language>en-US</dc:language>
  <cp:lastModifiedBy>User</cp:lastModifiedBy>
  <dcterms:modified xsi:type="dcterms:W3CDTF">2012-05-28T14:44:13Z</dcterms:modified>
  <cp:revision>7</cp:revision>
  <dc:subject/>
  <dc:title>М.Г.Селищева</dc:title>
</cp:coreProperties>
</file>