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0079-7E4F-46EA-8E45-318360FE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09D7-0F75-4680-8E18-266A973F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3EFA-B112-45AF-896E-1A6077B4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26EF-4B69-4628-B093-7E3B3EBC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EE36-7C5C-4937-A789-3D0A671D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9E64-CB62-4327-9054-06B507B6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49C3-382D-46BC-B1F3-1DD92B89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A8D2-0DCE-4BE3-AC95-DE8FD482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4736-0DED-4890-A679-35A339B7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728B-3A2C-4530-8120-959D56EA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0E6D-4EEF-43EF-8066-6E178423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42FE-EBC7-4CF6-AD14-C01FCAB0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99B1-0095-483D-88E0-B0E243F34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k-ur.ru/images/stories/business/stoki.jpg" TargetMode="External"/><Relationship Id="rId3" Type="http://schemas.openxmlformats.org/officeDocument/2006/relationships/image" Target="../media/image32.jpeg"/><Relationship Id="rId4" Type="http://schemas.openxmlformats.org/officeDocument/2006/relationships/hyperlink" Target="http://www.shahtersk.com/files/mod_news/vodoem.jpg" TargetMode="External"/><Relationship Id="rId5" Type="http://schemas.openxmlformats.org/officeDocument/2006/relationships/image" Target="../media/image33.jpeg"/><Relationship Id="rId6" Type="http://schemas.openxmlformats.org/officeDocument/2006/relationships/hyperlink" Target="http://www.beton-survo.ru/files/cvfghgfghgdfh.jpg" TargetMode="External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" Target="slide5.xm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38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воение Земли человеком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аны ми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888840"/>
            <a:ext cx="761976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888840"/>
            <a:ext cx="761976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888840"/>
            <a:ext cx="761976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2120" y="888840"/>
            <a:ext cx="761976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ая зональность изображена на данной фотограф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3393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62120" y="888840"/>
            <a:ext cx="761976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зникновение и расселение древнего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2072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62120" y="333360"/>
            <a:ext cx="761976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2120" y="549360"/>
            <a:ext cx="761976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620640"/>
            <a:ext cx="761976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-316080"/>
            <a:ext cx="8229600" cy="684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и и задачи урока: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Формирование представления об основных путях расселения человека по материками и главных районах современного размещения населения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Изучение основных видов хозяйственной деятельности человека и их последствиях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Ознакомление с основными странами мира и методами их классифик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4160" y="981000"/>
            <a:ext cx="88898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1268280"/>
            <a:ext cx="76197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2120" y="888840"/>
            <a:ext cx="761976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620120" cy="5079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51680" y="4560840"/>
            <a:ext cx="299232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620120" cy="5079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835280" y="4724280"/>
            <a:ext cx="3568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8051760" cy="4030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4360" y="4508640"/>
            <a:ext cx="2447640" cy="1873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492360" y="4581360"/>
            <a:ext cx="2448000" cy="1873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227640" y="4508640"/>
            <a:ext cx="226404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временные человеческие расы сформировались в результате адаптации человека к древним природным услов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Organization Chart 3"/>
          <p:cNvGrpSpPr/>
          <p:nvPr/>
        </p:nvGrpSpPr>
        <p:grpSpPr>
          <a:xfrm>
            <a:off x="457200" y="1600200"/>
            <a:ext cx="8229240" cy="3483720"/>
            <a:chOff x="457200" y="1600200"/>
            <a:chExt cx="8229240" cy="3483720"/>
          </a:xfrm>
        </p:grpSpPr>
        <p:cxnSp>
          <p:nvCxnSpPr>
            <p:cNvPr id="122" name="_s23558"/>
            <p:cNvCxnSpPr>
              <a:stCxn id="123" idx="0"/>
              <a:endCxn id="124" idx="2"/>
            </p:cNvCxnSpPr>
            <p:nvPr/>
          </p:nvCxnSpPr>
          <p:spPr>
            <a:xfrm flipV="1" rot="16200000">
              <a:off x="3127680" y="3381840"/>
              <a:ext cx="435960" cy="1225800"/>
            </a:xfrm>
            <a:prstGeom prst="bentConnector3">
              <a:avLst>
                <a:gd name="adj1" fmla="val 204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23559"/>
            <p:cNvCxnSpPr>
              <a:stCxn id="126" idx="0"/>
              <a:endCxn id="124" idx="2"/>
            </p:cNvCxnSpPr>
            <p:nvPr/>
          </p:nvCxnSpPr>
          <p:spPr>
            <a:xfrm flipH="1" flipV="1" rot="5400000">
              <a:off x="1902600" y="3381480"/>
              <a:ext cx="435960" cy="1226520"/>
            </a:xfrm>
            <a:prstGeom prst="bentConnector3">
              <a:avLst>
                <a:gd name="adj1" fmla="val 204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23560"/>
            <p:cNvCxnSpPr>
              <a:stCxn id="128" idx="0"/>
              <a:endCxn id="129" idx="2"/>
            </p:cNvCxnSpPr>
            <p:nvPr/>
          </p:nvCxnSpPr>
          <p:spPr>
            <a:xfrm flipV="1" rot="16200000">
              <a:off x="6192000" y="1462320"/>
              <a:ext cx="435960" cy="2451600"/>
            </a:xfrm>
            <a:prstGeom prst="bentConnector3">
              <a:avLst>
                <a:gd name="adj1" fmla="val 204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23561"/>
            <p:cNvCxnSpPr>
              <a:stCxn id="131" idx="0"/>
              <a:endCxn id="129" idx="2"/>
            </p:cNvCxnSpPr>
            <p:nvPr/>
          </p:nvCxnSpPr>
          <p:spPr>
            <a:xfrm flipV="1">
              <a:off x="5184720" y="2470320"/>
              <a:ext cx="2880" cy="435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23562"/>
            <p:cNvCxnSpPr>
              <a:stCxn id="124" idx="0"/>
              <a:endCxn id="129" idx="2"/>
            </p:cNvCxnSpPr>
            <p:nvPr/>
          </p:nvCxnSpPr>
          <p:spPr>
            <a:xfrm flipH="1" flipV="1" rot="5400000">
              <a:off x="3741120" y="1462680"/>
              <a:ext cx="435960" cy="2451600"/>
            </a:xfrm>
            <a:prstGeom prst="bentConnector3">
              <a:avLst>
                <a:gd name="adj1" fmla="val 204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9" name="_s23563"/>
            <p:cNvSpPr/>
            <p:nvPr/>
          </p:nvSpPr>
          <p:spPr>
            <a:xfrm>
              <a:off x="4134240" y="1600200"/>
              <a:ext cx="2100960" cy="870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Ра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23564"/>
            <p:cNvSpPr/>
            <p:nvPr/>
          </p:nvSpPr>
          <p:spPr>
            <a:xfrm>
              <a:off x="1683000" y="2906640"/>
              <a:ext cx="2100960" cy="870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Европеоидн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бела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23565"/>
            <p:cNvSpPr/>
            <p:nvPr/>
          </p:nvSpPr>
          <p:spPr>
            <a:xfrm>
              <a:off x="4134240" y="2906640"/>
              <a:ext cx="2100960" cy="870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Негроид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чёрна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3566"/>
            <p:cNvSpPr/>
            <p:nvPr/>
          </p:nvSpPr>
          <p:spPr>
            <a:xfrm>
              <a:off x="6585480" y="2906640"/>
              <a:ext cx="2100960" cy="870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онголоид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жёлта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3567"/>
            <p:cNvSpPr/>
            <p:nvPr/>
          </p:nvSpPr>
          <p:spPr>
            <a:xfrm>
              <a:off x="457200" y="4213080"/>
              <a:ext cx="2100960" cy="870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Юж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смуглая кож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3568"/>
            <p:cNvSpPr/>
            <p:nvPr/>
          </p:nvSpPr>
          <p:spPr>
            <a:xfrm>
              <a:off x="2908080" y="4213080"/>
              <a:ext cx="2100960" cy="870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еверн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светлая кож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44500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мешанные расы: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метисы, мулаты, сам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7080" y="571680"/>
            <a:ext cx="8889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ые виды хозяйственной деятельност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84360" y="1341360"/>
          <a:ext cx="7848360" cy="5373720"/>
        </p:xfrm>
        <a:graphic>
          <a:graphicData uri="http://schemas.openxmlformats.org/drawingml/2006/table">
            <a:tbl>
              <a:tblPr/>
              <a:tblGrid>
                <a:gridCol w="2735280"/>
                <a:gridCol w="2665080"/>
                <a:gridCol w="2448000"/>
              </a:tblGrid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д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хо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чезновение видов живот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товод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таптывание растительности, уплотнение почв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щение площади лесов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устыни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мледел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ря плодородия, засоление почв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т город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ряз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грязнение окружающей сре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Картинка 1 из 539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80000" y="3573360"/>
            <a:ext cx="2685960" cy="2801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Картинка 10 из 539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16000" y="3573360"/>
            <a:ext cx="2619360" cy="2808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Картинка 19 из 539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987640" y="1484280"/>
            <a:ext cx="328608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 проведения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383760" indent="-383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ганизационный мо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верка ранее изученн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учение новой 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селение человека по материк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лавные области рас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ные виды хозяйственной деятельности людей. Их влияние на природные комплек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плексные кар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аны 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крепление изученн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ражение хозяйственной деятельности людей на комплексных кар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81360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7080" y="1052640"/>
            <a:ext cx="888984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7080" y="571680"/>
            <a:ext cx="8889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27080" y="571680"/>
            <a:ext cx="8889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ка д/з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овите самый большой природный комплекс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такое природный комплек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ет ли человек создать новые природные комплексы? Каково их назва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м обусловлено чередование природных зо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такое широтная зональность и высотная зональ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овите основную географическую закономерность нашей план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6125760"/>
            <a:ext cx="8229600" cy="1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ую закономерность отображает данная таблиц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3311640" cy="218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35200" y="3938760"/>
            <a:ext cx="3281040" cy="2187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025960" y="3938760"/>
            <a:ext cx="3281400" cy="2187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572000" y="1052640"/>
            <a:ext cx="403236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888840"/>
            <a:ext cx="761976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ональность в горах и мор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1773360"/>
            <a:ext cx="76197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201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726588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4T10:19:36Z</dcterms:created>
  <dc:creator>учитель</dc:creator>
  <dc:description/>
  <dc:language>en-US</dc:language>
  <cp:lastModifiedBy>учитель</cp:lastModifiedBy>
  <dcterms:modified xsi:type="dcterms:W3CDTF">2009-10-27T13:30:39Z</dcterms:modified>
  <cp:revision>5</cp:revision>
  <dc:subject/>
  <dc:title>Слайд 1</dc:title>
</cp:coreProperties>
</file>