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EE8-B02E-4778-81A9-2DDFD5E8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B6B-4B5D-4789-8034-804A90BD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594-26C8-458E-8B9C-C1E5552C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5B3-DEE6-4757-9F85-17E8DB3F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BD6-63F3-4DFD-814A-DCC96B1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821-98B1-4222-BDC2-89CF0F30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872-7E44-4222-BBD2-CE974D5F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B37-CA7A-4A2B-9B4E-6B12AA95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0FB-7095-447B-B004-935DCB9B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E13-D74A-4E79-8A0F-48A21BE2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E20-6732-4E8B-818F-C99AA94B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15C-8D99-4B0E-B040-836ED384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BF9B-2581-4FBB-A609-DD223AA16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-ur.ru/images/stories/business/stoki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www.shahtersk.com/files/mod_news/vodoem.jpg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www.beton-survo.ru/files/cvfghgfghgdfh.jpg" TargetMode="Externa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5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38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воение Земли человеком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ны ми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ая зональность изображена на данной фотограф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393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зникновение и расселение древнего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620640"/>
            <a:ext cx="761976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68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 урока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Формирование представления об основных путях расселения человека по материками и главных районах современного размещения населения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Изучение основных видов хозяйственной деятельности человека и их последствиях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знакомление с основными странами мира и методами их класс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4160" y="981000"/>
            <a:ext cx="8889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268280"/>
            <a:ext cx="761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07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1680" y="4560840"/>
            <a:ext cx="2992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620120" cy="5079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35280" y="4724280"/>
            <a:ext cx="356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51760" cy="4030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2447640" cy="187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4581360"/>
            <a:ext cx="2448000" cy="187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227640" y="4508640"/>
            <a:ext cx="22640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ые человеческие расы сформировались в результате адаптации человека к древним природным 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457200" y="1600200"/>
            <a:ext cx="8229240" cy="3483720"/>
            <a:chOff x="457200" y="1600200"/>
            <a:chExt cx="8229240" cy="3483720"/>
          </a:xfrm>
        </p:grpSpPr>
        <p:cxnSp>
          <p:nvCxnSpPr>
            <p:cNvPr id="122" name="_s23558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3127680" y="3381840"/>
              <a:ext cx="435960" cy="122580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3559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1902600" y="3381480"/>
              <a:ext cx="435960" cy="122652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3560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192000" y="1462320"/>
              <a:ext cx="435960" cy="2451600"/>
            </a:xfrm>
            <a:prstGeom prst="bentConnector3">
              <a:avLst>
                <a:gd name="adj1" fmla="val 20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3561"/>
            <p:cNvCxnSpPr>
              <a:stCxn id="131" idx="0"/>
              <a:endCxn id="129" idx="2"/>
            </p:cNvCxnSpPr>
            <p:nvPr/>
          </p:nvCxnSpPr>
          <p:spPr>
            <a:xfrm flipV="1">
              <a:off x="5184720" y="2470320"/>
              <a:ext cx="288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3562"/>
            <p:cNvCxnSpPr>
              <a:stCxn id="124" idx="0"/>
              <a:endCxn id="129" idx="2"/>
            </p:cNvCxnSpPr>
            <p:nvPr/>
          </p:nvCxnSpPr>
          <p:spPr>
            <a:xfrm flipH="1" flipV="1" rot="5400000">
              <a:off x="3741120" y="1462680"/>
              <a:ext cx="435960" cy="2451600"/>
            </a:xfrm>
            <a:prstGeom prst="bentConnector3">
              <a:avLst>
                <a:gd name="adj1" fmla="val 20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3563"/>
            <p:cNvSpPr/>
            <p:nvPr/>
          </p:nvSpPr>
          <p:spPr>
            <a:xfrm>
              <a:off x="4134240" y="160020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3564"/>
            <p:cNvSpPr/>
            <p:nvPr/>
          </p:nvSpPr>
          <p:spPr>
            <a:xfrm>
              <a:off x="1683000" y="290664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Европеоид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бел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3565"/>
            <p:cNvSpPr/>
            <p:nvPr/>
          </p:nvSpPr>
          <p:spPr>
            <a:xfrm>
              <a:off x="4134240" y="290664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егрои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чёрн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3566"/>
            <p:cNvSpPr/>
            <p:nvPr/>
          </p:nvSpPr>
          <p:spPr>
            <a:xfrm>
              <a:off x="6585480" y="290664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нголои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жёлт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3567"/>
            <p:cNvSpPr/>
            <p:nvPr/>
          </p:nvSpPr>
          <p:spPr>
            <a:xfrm>
              <a:off x="457200" y="421308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Юж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муглая кож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3568"/>
            <p:cNvSpPr/>
            <p:nvPr/>
          </p:nvSpPr>
          <p:spPr>
            <a:xfrm>
              <a:off x="2908080" y="421308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вер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ветлая кож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шанные расы: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метисы, мулаты, сам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7080" y="571680"/>
            <a:ext cx="888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виды хозяйственной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4360" y="1341360"/>
          <a:ext cx="7848360" cy="5373720"/>
        </p:xfrm>
        <a:graphic>
          <a:graphicData uri="http://schemas.openxmlformats.org/drawingml/2006/table">
            <a:tbl>
              <a:tblPr/>
              <a:tblGrid>
                <a:gridCol w="2735280"/>
                <a:gridCol w="2665080"/>
                <a:gridCol w="244800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езновение видов живот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то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аптывание растительности, уплотнение поч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площади лесов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устыни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едел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ря плодородия, засоление поч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горо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грязнение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Картинка 1 из 53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3573360"/>
            <a:ext cx="2685960" cy="280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Картинка 10 из 53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3573360"/>
            <a:ext cx="2619360" cy="280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19 из 539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7640" y="1484280"/>
            <a:ext cx="32860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проведения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ране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учение новой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еление человека по матери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ые области рас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виды хозяйственной деятельности людей. Их влияние на природные комплек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лексны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лени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ажение хозяйственной деятельности людей на комплексных кар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7080" y="1052640"/>
            <a:ext cx="88898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7080" y="571680"/>
            <a:ext cx="888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7080" y="571680"/>
            <a:ext cx="888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 д/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самый большой природный комплекс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природный комплек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ли человек создать новые природные комплексы? Каково их наз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обусловлено чередование природных з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широтная зональность и высотная зона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основную географическую закономерность нашей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6125760"/>
            <a:ext cx="8229600" cy="1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ую закономерность отображает данная таблиц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1164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572000" y="1052640"/>
            <a:ext cx="4032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ональность в горах и мор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773360"/>
            <a:ext cx="7619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7265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0:19:36Z</dcterms:created>
  <dc:creator>учитель</dc:creator>
  <dc:description/>
  <dc:language>en-US</dc:language>
  <cp:lastModifiedBy>учитель</cp:lastModifiedBy>
  <dcterms:modified xsi:type="dcterms:W3CDTF">2009-10-27T13:30:39Z</dcterms:modified>
  <cp:revision>5</cp:revision>
  <dc:subject/>
  <dc:title>Слайд 1</dc:title>
</cp:coreProperties>
</file>