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A29-F252-4C3D-99B2-4B8A694B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D08-9EF3-4178-B807-CDBC526C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F77-BF12-4774-8DB1-2A9C8525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309-34B7-4629-B137-A2A4B9C0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0CD-B5CD-4105-8D2B-F2A7854C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476-FB61-4061-AE89-C24B0DC3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1593-703C-48C7-B1FD-42B2B19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5DF-2558-4D1A-B39C-297CF4F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421-311C-4251-A0F0-8EB59F39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C0E-AB95-46B7-A1BC-70B26D2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1C8-7472-42D9-B723-633C814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1BC-7E96-4B83-836C-F49C2276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9006-4BD2-4159-8FD8-785F2C2E5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7" descr="mos12.jpg"/>
          <p:cNvPicPr/>
          <p:nvPr/>
        </p:nvPicPr>
        <p:blipFill>
          <a:blip r:embed="rId3"/>
          <a:stretch/>
        </p:blipFill>
        <p:spPr>
          <a:xfrm>
            <a:off x="165240" y="171360"/>
            <a:ext cx="8813520" cy="6515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tour.ru/uplimg/catalog/New%20folder/kladov/mos12.jpg" TargetMode="External"/><Relationship Id="rId2" Type="http://schemas.openxmlformats.org/officeDocument/2006/relationships/hyperlink" Target="mailto:FokinaLida.75@mail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766800"/>
            <a:ext cx="8207280" cy="18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Окружающий мир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МК «Школа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132000" y="5037120"/>
            <a:ext cx="320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921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7. Сколько всего башен окружают Кремль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476000" y="2349000"/>
            <a:ext cx="7281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3 баш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 баш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3 баш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692360" y="3068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"/>
          <p:cNvSpPr/>
          <p:nvPr/>
        </p:nvSpPr>
        <p:spPr>
          <a:xfrm>
            <a:off x="1619280" y="371628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5"/>
          <p:cNvSpPr/>
          <p:nvPr/>
        </p:nvSpPr>
        <p:spPr>
          <a:xfrm>
            <a:off x="1692360" y="242100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06472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8. На какой башне находятся Курант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76000" y="2276640"/>
            <a:ext cx="7210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Троиц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Боровиц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 Спасской баш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692360" y="299736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1692360" y="364500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2"/>
          <p:cNvSpPr/>
          <p:nvPr/>
        </p:nvSpPr>
        <p:spPr>
          <a:xfrm>
            <a:off x="468360" y="198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спен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кров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рхангельский с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80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9. Укажите второе название Храма Василия Блаженног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684360" y="263700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4"/>
          <p:cNvSpPr/>
          <p:nvPr/>
        </p:nvSpPr>
        <p:spPr>
          <a:xfrm>
            <a:off x="684360" y="314172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Равнобедренный треугольник 5"/>
          <p:cNvSpPr/>
          <p:nvPr/>
        </p:nvSpPr>
        <p:spPr>
          <a:xfrm>
            <a:off x="684360" y="2060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36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0. Какая площадь Москвы считается самой главной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76000" y="2133360"/>
            <a:ext cx="72104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бор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атраль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асная площа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169236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4"/>
          <p:cNvSpPr/>
          <p:nvPr/>
        </p:nvSpPr>
        <p:spPr>
          <a:xfrm>
            <a:off x="1692360" y="3573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Равнобедренный треугольник 5"/>
          <p:cNvSpPr/>
          <p:nvPr/>
        </p:nvSpPr>
        <p:spPr>
          <a:xfrm>
            <a:off x="1692360" y="220500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c00000"/>
                </a:solidFill>
                <a:latin typeface="Calibri"/>
              </a:rPr>
              <a:t>Ключ к ответам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57176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277164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20"/>
          <p:cNvSpPr/>
          <p:nvPr/>
        </p:nvSpPr>
        <p:spPr>
          <a:xfrm>
            <a:off x="5148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6"/>
          <p:cNvSpPr/>
          <p:nvPr/>
        </p:nvSpPr>
        <p:spPr>
          <a:xfrm>
            <a:off x="6300720" y="3141720"/>
            <a:ext cx="7923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6300720" y="1989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3"/>
          <p:cNvSpPr/>
          <p:nvPr/>
        </p:nvSpPr>
        <p:spPr>
          <a:xfrm>
            <a:off x="1619280" y="3213000"/>
            <a:ext cx="792000" cy="857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3851280" y="3141720"/>
            <a:ext cx="79200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Равнобедренный треугольник 19"/>
          <p:cNvSpPr/>
          <p:nvPr/>
        </p:nvSpPr>
        <p:spPr>
          <a:xfrm>
            <a:off x="161928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Равнобедренный треугольник 22"/>
          <p:cNvSpPr/>
          <p:nvPr/>
        </p:nvSpPr>
        <p:spPr>
          <a:xfrm>
            <a:off x="3924360" y="1989000"/>
            <a:ext cx="785880" cy="785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4"/>
          <p:cNvSpPr/>
          <p:nvPr/>
        </p:nvSpPr>
        <p:spPr>
          <a:xfrm>
            <a:off x="2771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5219640" y="3213000"/>
            <a:ext cx="64296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83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хомирова Е. М. Тесты по предмету «Окружающий мир»: 2 класс. М.: Издательство «Экзамен»,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stour.ru/uplimg/catalog/New%20folder/kladov/mos1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4643280" y="5516640"/>
            <a:ext cx="39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okinaLida.75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24000" y="1341360"/>
            <a:ext cx="84960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Тест по тем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«Путешествие по Москв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осковский Кремл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Заголовок 1"/>
          <p:cNvSpPr/>
          <p:nvPr/>
        </p:nvSpPr>
        <p:spPr>
          <a:xfrm>
            <a:off x="395280" y="404640"/>
            <a:ext cx="82915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Инструк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1403280" y="1341360"/>
            <a:ext cx="752652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внимательно все ответы. Помни, что ответов может быть несколь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 геометрическую фигуру (или фигуры)      ,       ,      , соответствующую вашему от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исуй на своём контрольном л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492360" y="400536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4"/>
          <p:cNvSpPr/>
          <p:nvPr/>
        </p:nvSpPr>
        <p:spPr>
          <a:xfrm>
            <a:off x="4140360" y="4005360"/>
            <a:ext cx="4284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Равнобедренный треугольник 5"/>
          <p:cNvSpPr/>
          <p:nvPr/>
        </p:nvSpPr>
        <p:spPr>
          <a:xfrm>
            <a:off x="4859280" y="400536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39640" y="549360"/>
            <a:ext cx="777744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Каков приблизительно возраст Москв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1476360" y="2421000"/>
            <a:ext cx="734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8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12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2000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1619280" y="3213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1619280" y="3860640"/>
            <a:ext cx="42876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Равнобедренный треугольник 5"/>
          <p:cNvSpPr/>
          <p:nvPr/>
        </p:nvSpPr>
        <p:spPr>
          <a:xfrm>
            <a:off x="1619280" y="256536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. Кто изображён на гербе Москвы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02920" y="2276640"/>
            <a:ext cx="721044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рё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сад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692360" y="306864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1619280" y="364500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Равнобедренный треугольник 5"/>
          <p:cNvSpPr/>
          <p:nvPr/>
        </p:nvSpPr>
        <p:spPr>
          <a:xfrm>
            <a:off x="169236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1360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3. В каком заведении культуры дети могут увидеть животных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2205000"/>
            <a:ext cx="821844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цир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Большом теат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Третьяковской галер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68436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"/>
          <p:cNvSpPr/>
          <p:nvPr/>
        </p:nvSpPr>
        <p:spPr>
          <a:xfrm>
            <a:off x="684360" y="350028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5"/>
          <p:cNvSpPr/>
          <p:nvPr/>
        </p:nvSpPr>
        <p:spPr>
          <a:xfrm>
            <a:off x="684360" y="2276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4. Что в переводе с латыни обозначает слово «цирк»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2133360"/>
            <a:ext cx="7138800" cy="32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835280" y="29242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4"/>
          <p:cNvSpPr/>
          <p:nvPr/>
        </p:nvSpPr>
        <p:spPr>
          <a:xfrm>
            <a:off x="1835280" y="3500280"/>
            <a:ext cx="428400" cy="500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5"/>
          <p:cNvSpPr/>
          <p:nvPr/>
        </p:nvSpPr>
        <p:spPr>
          <a:xfrm>
            <a:off x="1835280" y="2276640"/>
            <a:ext cx="42840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072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5. Что является самым высоким строением Кремля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4920" y="2276640"/>
            <a:ext cx="8497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Успенский собо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Колокольня Ивана Великого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Большой Кремлёвский дворец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611280" y="314172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4"/>
          <p:cNvSpPr/>
          <p:nvPr/>
        </p:nvSpPr>
        <p:spPr>
          <a:xfrm>
            <a:off x="611280" y="3789360"/>
            <a:ext cx="42840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5"/>
          <p:cNvSpPr/>
          <p:nvPr/>
        </p:nvSpPr>
        <p:spPr>
          <a:xfrm>
            <a:off x="611280" y="2349360"/>
            <a:ext cx="42840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6. Какое звено пропущено в цепочке: Кремль деревянный – Кремль … - Кремль кирпичный?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1280" y="2060640"/>
            <a:ext cx="8075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мраморны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гранитный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белокаменный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826920" y="3357720"/>
            <a:ext cx="35748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"/>
          <p:cNvSpPr/>
          <p:nvPr/>
        </p:nvSpPr>
        <p:spPr>
          <a:xfrm>
            <a:off x="826920" y="3933720"/>
            <a:ext cx="4287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5"/>
          <p:cNvSpPr/>
          <p:nvPr/>
        </p:nvSpPr>
        <p:spPr>
          <a:xfrm>
            <a:off x="826920" y="2708280"/>
            <a:ext cx="42876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38:12Z</dcterms:created>
  <dc:creator>Компас</dc:creator>
  <dc:description/>
  <dc:language>en-US</dc:language>
  <cp:lastModifiedBy>ZooM</cp:lastModifiedBy>
  <dcterms:modified xsi:type="dcterms:W3CDTF">2013-10-22T13:06:51Z</dcterms:modified>
  <cp:revision>8</cp:revision>
  <dc:subject/>
  <dc:title>Слайд 1</dc:title>
</cp:coreProperties>
</file>