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0E0-2721-4FFD-AAC0-02C85A8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B67-85EA-4DDD-A284-EFEE9212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7FD-4699-453D-A0B3-4254AEDF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093-5831-4D6A-8274-9ED0BF3D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163-2A62-4AFE-ADB6-02AC2BC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0A5-4819-4D07-897A-9A79F85D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F8E-C69E-4748-B845-89661499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5B4-B2FA-4B0C-830A-FFC3772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D37-8178-49D4-A66E-96832BD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7F5-E8D0-4453-B5C2-7F098DA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5FE-69C6-4999-B6BA-DB9BD9B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063-0C65-4B36-BB44-3520A29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B1CA-925C-4F3A-96E0-C121E23C6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7" descr="mos12.jpg"/>
          <p:cNvPicPr/>
          <p:nvPr/>
        </p:nvPicPr>
        <p:blipFill>
          <a:blip r:embed="rId3"/>
          <a:stretch/>
        </p:blipFill>
        <p:spPr>
          <a:xfrm>
            <a:off x="165240" y="171360"/>
            <a:ext cx="8813520" cy="651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tour.ru/uplimg/catalog/New%20folder/kladov/mos12.jpg" TargetMode="External"/><Relationship Id="rId2" Type="http://schemas.openxmlformats.org/officeDocument/2006/relationships/hyperlink" Target="mailto:FokinaLida.75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6800"/>
            <a:ext cx="8207280" cy="18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Окружающий мир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132000" y="5037120"/>
            <a:ext cx="320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21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7. Сколько всего башен окружают Кремл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000" y="2349000"/>
            <a:ext cx="7281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3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3 баш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1619280" y="371628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5"/>
          <p:cNvSpPr/>
          <p:nvPr/>
        </p:nvSpPr>
        <p:spPr>
          <a:xfrm>
            <a:off x="1692360" y="242100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8. На какой башне находятся Курант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76000" y="227664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Тро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Боров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пасс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692360" y="29973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1692360" y="364500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2"/>
          <p:cNvSpPr/>
          <p:nvPr/>
        </p:nvSpPr>
        <p:spPr>
          <a:xfrm>
            <a:off x="468360" y="198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кров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рхангель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9. Укажите второе название Храма Василия Блаженног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84360" y="263700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"/>
          <p:cNvSpPr/>
          <p:nvPr/>
        </p:nvSpPr>
        <p:spPr>
          <a:xfrm>
            <a:off x="684360" y="3141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5"/>
          <p:cNvSpPr/>
          <p:nvPr/>
        </p:nvSpPr>
        <p:spPr>
          <a:xfrm>
            <a:off x="684360" y="2060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. Какая площадь Москвы считается самой главн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76000" y="2133360"/>
            <a:ext cx="7210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бор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атраль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692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1692360" y="3573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5"/>
          <p:cNvSpPr/>
          <p:nvPr/>
        </p:nvSpPr>
        <p:spPr>
          <a:xfrm>
            <a:off x="1692360" y="220500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00000"/>
                </a:solidFill>
                <a:latin typeface="Calibri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57176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77164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0"/>
          <p:cNvSpPr/>
          <p:nvPr/>
        </p:nvSpPr>
        <p:spPr>
          <a:xfrm>
            <a:off x="5148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6"/>
          <p:cNvSpPr/>
          <p:nvPr/>
        </p:nvSpPr>
        <p:spPr>
          <a:xfrm>
            <a:off x="6300720" y="3141720"/>
            <a:ext cx="7923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630072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1619280" y="3213000"/>
            <a:ext cx="79200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3851280" y="3141720"/>
            <a:ext cx="7920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19"/>
          <p:cNvSpPr/>
          <p:nvPr/>
        </p:nvSpPr>
        <p:spPr>
          <a:xfrm>
            <a:off x="161928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Равнобедренный треугольник 22"/>
          <p:cNvSpPr/>
          <p:nvPr/>
        </p:nvSpPr>
        <p:spPr>
          <a:xfrm>
            <a:off x="3924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771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5219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83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хомирова Е. М. Тесты по предмету «Окружающий мир»: 2 класс. М.: Издательство «Экзамен»,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stour.ru/uplimg/catalog/New%20folder/kladov/mos1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4643280" y="551664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okinaLida.75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4000" y="1341360"/>
            <a:ext cx="84960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Тест по те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Путешествие по Москв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осковский Крем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1403280" y="1341360"/>
            <a:ext cx="7526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,       ,      ,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492360" y="40053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4140360" y="4005360"/>
            <a:ext cx="4284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5"/>
          <p:cNvSpPr/>
          <p:nvPr/>
        </p:nvSpPr>
        <p:spPr>
          <a:xfrm>
            <a:off x="4859280" y="4005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39640" y="549360"/>
            <a:ext cx="7777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Каков приблизительно возраст Москв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8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12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20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. Кто изображён на гербе Москв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2920" y="2276640"/>
            <a:ext cx="72104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ё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ад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1619280" y="364500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. В каком заведении культуры дети могут увидеть животны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2205000"/>
            <a:ext cx="8218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цир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ольшом теат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Третьяковской галер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84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68436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5"/>
          <p:cNvSpPr/>
          <p:nvPr/>
        </p:nvSpPr>
        <p:spPr>
          <a:xfrm>
            <a:off x="68436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. Что в переводе с латыни обозначает слово «цирк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2133360"/>
            <a:ext cx="71388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83528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183528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5"/>
          <p:cNvSpPr/>
          <p:nvPr/>
        </p:nvSpPr>
        <p:spPr>
          <a:xfrm>
            <a:off x="183528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5. Что является самым высоким строением Кремл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4920" y="2276640"/>
            <a:ext cx="8497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локольня Ивана Великого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Большой Кремлёвский дворец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11280" y="3141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"/>
          <p:cNvSpPr/>
          <p:nvPr/>
        </p:nvSpPr>
        <p:spPr>
          <a:xfrm>
            <a:off x="611280" y="3789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5"/>
          <p:cNvSpPr/>
          <p:nvPr/>
        </p:nvSpPr>
        <p:spPr>
          <a:xfrm>
            <a:off x="61128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6. Какое звено пропущено в цепочке: Кремль деревянный – Кремль … - Кремль кирпичный?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2060640"/>
            <a:ext cx="8075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мрамор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гранитный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белокамен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6920" y="335772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"/>
          <p:cNvSpPr/>
          <p:nvPr/>
        </p:nvSpPr>
        <p:spPr>
          <a:xfrm>
            <a:off x="826920" y="393372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5"/>
          <p:cNvSpPr/>
          <p:nvPr/>
        </p:nvSpPr>
        <p:spPr>
          <a:xfrm>
            <a:off x="826920" y="270828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38:12Z</dcterms:created>
  <dc:creator>Компас</dc:creator>
  <dc:description/>
  <dc:language>en-US</dc:language>
  <cp:lastModifiedBy>ZooM</cp:lastModifiedBy>
  <dcterms:modified xsi:type="dcterms:W3CDTF">2013-10-22T13:06:51Z</dcterms:modified>
  <cp:revision>8</cp:revision>
  <dc:subject/>
  <dc:title>Слайд 1</dc:title>
</cp:coreProperties>
</file>