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1B0-6B67-4807-AEC2-DCAF53E9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6D3-BC05-4C72-A6EC-0009E84F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DD3-E8FB-4CC6-905F-8C1A8A4D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F30-61D9-49A7-A39D-E93DAF7E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B86B-7C64-4F02-A0BD-C6C792DD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55EC-25B4-49F1-AA13-52E65EF4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5760-27A9-4FD0-960A-8347038C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B1C9-EB61-4366-A2CB-221BAE6D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FC4F-9CC1-417E-8849-6E0B321A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F6B9-98FE-42A8-9E62-117793F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C9E6-9E91-42B8-B43E-70663E27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99C-3901-49BC-BABE-E0CC3EB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9D9-DC81-4C3C-A216-0DD33F5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5E05-95FE-4230-9B16-81918C9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8C19-05DB-4091-8F5F-CF62CAC6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0235-EDC4-4AD4-80C4-8C44AD96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6C02-699A-4AAC-9AE6-2B7F24B5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9DB-A3E1-4F63-89E3-0B940CA3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3C9-4040-4C64-BE28-CDE395F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29A-27BF-4E13-8E7F-CB3ED8F4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B55-672A-4524-9E75-554E78C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36A-A061-477D-A726-1464F270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F42-2B6E-42A9-A97A-113E720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748-86F8-49D9-B9AE-934FA6A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3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1293840"/>
                  <a:gd name="textAreaBottom" fmla="*/ 1294200 h 1293840"/>
                </a:gdLst>
                <a:ahLst/>
                <a:rect l="textAreaLeft" t="textAreaTop" r="textAreaRight" b="textAreaBottom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1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>
                  <a:gd name="textAreaLeft" fmla="*/ 0 w 833400"/>
                  <a:gd name="textAreaRight" fmla="*/ 833760 w 8334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DD3-3B29-483A-A491-78DC296237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3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>
                  <a:gd name="textAreaLeft" fmla="*/ 0 w 1177920"/>
                  <a:gd name="textAreaRight" fmla="*/ 1178280 w 1177920"/>
                  <a:gd name="textAreaTop" fmla="*/ 0 h 1762200"/>
                  <a:gd name="textAreaBottom" fmla="*/ 1762560 h 1762200"/>
                </a:gdLst>
                <a:ahLst/>
                <a:rect l="textAreaLeft" t="textAreaTop" r="textAreaRight" b="textAreaBottom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6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>
                    <a:gd name="textAreaLeft" fmla="*/ 0 w 725400"/>
                    <a:gd name="textAreaRight" fmla="*/ 725760 w 72540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7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>
                    <a:gd name="textAreaLeft" fmla="*/ 0 w 725760"/>
                    <a:gd name="textAreaRight" fmla="*/ 726120 w 72576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9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>
                    <a:gd name="textAreaLeft" fmla="*/ 0 w 725400"/>
                    <a:gd name="textAreaRight" fmla="*/ 725760 w 72540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0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>
                    <a:gd name="textAreaLeft" fmla="*/ 0 w 725760"/>
                    <a:gd name="textAreaRight" fmla="*/ 726120 w 72576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1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2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>
                  <a:gd name="textAreaLeft" fmla="*/ 0 w 833400"/>
                  <a:gd name="textAreaRight" fmla="*/ 833760 w 8334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F11F-ACFC-4BB7-A398-D70A88E7F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232092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5920" y="71388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урительные смес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Курительные смеси"/>
          <p:cNvPicPr/>
          <p:nvPr/>
        </p:nvPicPr>
        <p:blipFill>
          <a:blip r:embed="rId1"/>
          <a:stretch/>
        </p:blipFill>
        <p:spPr>
          <a:xfrm>
            <a:off x="1704960" y="2286000"/>
            <a:ext cx="57276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4200" y="2928600"/>
            <a:ext cx="87868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013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году в Сыктывкаре выявлено  более 300 преступлений связанных с употреблением курительных смесей, что почти в два раза больше чем 2012 год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фиксировано более 100 случаев  случая отравления курительными смесями несовершеннолетних в возрасте 12-14 лет. 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3840" y="285840"/>
            <a:ext cx="8929800" cy="30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рительные смес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запрещенные в России и других странах ароматизированные смеси, в состав которых входят синтетические каннабиноиды, их аналоги и производ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http://im3-tub-ru.yandex.net/i?id=205585981-35-72&amp;n=21"/>
          <p:cNvPicPr/>
          <p:nvPr/>
        </p:nvPicPr>
        <p:blipFill>
          <a:blip r:embed="rId1"/>
          <a:stretch/>
        </p:blipFill>
        <p:spPr>
          <a:xfrm>
            <a:off x="2500200" y="3357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0866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реализации курительных миксов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28480"/>
            <a:ext cx="474336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аллы (похожи на крупную соль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ошок (россыпь. не слишком мелко размол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храняющая вид и структуру растительного сырь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ка (в виде мелкодисперсной пыли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ки и твердые смеси(пластилин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http://news.vmariel.ru/uploads/posts/2011-06/1308130051_smesi.jpg"/>
          <p:cNvPicPr/>
          <p:nvPr/>
        </p:nvPicPr>
        <p:blipFill>
          <a:blip r:embed="rId1"/>
          <a:stretch/>
        </p:blipFill>
        <p:spPr>
          <a:xfrm>
            <a:off x="5500800" y="13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ttp://im4-tub-ru.yandex.net/i?id=538839908-00-72&amp;n=21"/>
          <p:cNvPicPr/>
          <p:nvPr/>
        </p:nvPicPr>
        <p:blipFill>
          <a:blip r:embed="rId2"/>
          <a:stretch/>
        </p:blipFill>
        <p:spPr>
          <a:xfrm>
            <a:off x="5548320" y="450072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Зависимость</a:t>
            </a:r>
            <a:br>
              <a:rPr sz="4800"/>
            </a:b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1080"/>
            <a:ext cx="48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уча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ической 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исимости — самое частое последствие употребления спайсов и других смесей, однако были документально зафиксированы и случа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висим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http://www.interfax.ru/ftproot/photos/PhotoText/2009_12_02/smes.jpg"/>
          <p:cNvPicPr/>
          <p:nvPr/>
        </p:nvPicPr>
        <p:blipFill>
          <a:blip r:embed="rId1"/>
          <a:stretch/>
        </p:blipFill>
        <p:spPr>
          <a:xfrm>
            <a:off x="5565600" y="1857240"/>
            <a:ext cx="3292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на Центральную Нервную Систему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ическая зависим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ная двигательная актив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депрессивных мыслей и состояний, появление суицидальных мыслей и наклонн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я коорд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вога и беспокой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http://im5-tub-ru.yandex.net/i?id=51645674-65-72&amp;n=21"/>
          <p:cNvPicPr/>
          <p:nvPr/>
        </p:nvPicPr>
        <p:blipFill>
          <a:blip r:embed="rId1"/>
          <a:stretch/>
        </p:blipFill>
        <p:spPr>
          <a:xfrm>
            <a:off x="5143680" y="38577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на Центральную Нервную Систему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71400"/>
            <a:ext cx="4243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я со стороны эмоциональной сферы, постоянное возбуждение или тоскливое настроение, резкая смена настроения в течение короткого времени без поводов к эт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люц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ройства псих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зофренические расстрой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http://las-venturas.lt/forumas/uploads/profile/photo-5275.png?_r=1359219285"/>
          <p:cNvPicPr/>
          <p:nvPr/>
        </p:nvPicPr>
        <p:blipFill>
          <a:blip r:embed="rId1"/>
          <a:stretch/>
        </p:blipFill>
        <p:spPr>
          <a:xfrm>
            <a:off x="4929120" y="257184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14200"/>
            <a:ext cx="70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знаки употребления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320" y="857160"/>
            <a:ext cx="607212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ные зрачки, красноватая окраска белков глаз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горизонтальный нистагм (невозможность зафиксировать  глазное яблоко неподвижно, при попытке посмотреть ровно в одну точку глаза «гуляют» вправо-влев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шение артериального давления (жалобы на пульсирующую боль в затылке, тяжесть в голов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 нарушения кожной чувствительности, а также невнятная, спутанная, многословная реч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формируется нарушение координации движений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http://1doost.com/Files/Pictures/1392/02/20/1368206420.jpg"/>
          <p:cNvPicPr/>
          <p:nvPr/>
        </p:nvPicPr>
        <p:blipFill>
          <a:blip r:embed="rId1"/>
          <a:stretch/>
        </p:blipFill>
        <p:spPr>
          <a:xfrm>
            <a:off x="6143760" y="2782800"/>
            <a:ext cx="27860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475920"/>
            <a:ext cx="8929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можно, подсказать о приеме курительных миксов смогут следующие находки: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льгированные пакеты или пакеты из плотного целлофана со следами порошка и травяной пы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ные признаки опьянения без запаха алкого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ние на тематических форумах по продаже спайсов (купить смеси можно в интернете, сделать заказ онлайн или через Skype, Jabber, или по телефонам, написанным на заборах и асфальт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дома «ложек» из фольги (они нужны для предварительного приготовления курительных смесей и их разжигания) или нагревательных лам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ередозировка. 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520" y="1357200"/>
            <a:ext cx="414324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а выражается в усилении признаков наркотического опьянения, в частности типичны рвота, резкое повышение АД, судороги, ярко выраженные галлюцинации, заторможенность вплоть до ко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http://jenata.org/ufiles/2/2013/6/24/files/insomnia2.jpg"/>
          <p:cNvPicPr/>
          <p:nvPr/>
        </p:nvPicPr>
        <p:blipFill>
          <a:blip r:embed="rId1"/>
          <a:stretch/>
        </p:blipFill>
        <p:spPr>
          <a:xfrm>
            <a:off x="5643720" y="1500120"/>
            <a:ext cx="32004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Светлана</cp:lastModifiedBy>
  <dcterms:modified xsi:type="dcterms:W3CDTF">2014-03-11T12:57:44Z</dcterms:modified>
  <cp:revision>56</cp:revision>
  <dc:subject/>
  <dc:title>Заголовок слайда отсутствует</dc:title>
</cp:coreProperties>
</file>