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360-3739-411C-8638-DB073328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AEF-E32D-40B3-B5FB-A34E37E3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730-C167-4226-960D-C8E1ABE3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EC2-A55D-4235-B137-E588A801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A38B-E459-4AAD-AE5C-EDBF37AD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8E02-2D99-49A9-88F7-E782F3D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6BF4-2DD2-4BAD-B434-E92B7DDE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DF2C-CF7F-476F-B627-B5D3E3BF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77DE-D76B-41D6-8417-18B7D927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5D16-EF9B-45F0-96D3-EB7330DC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1159-B3BE-4B79-8CA8-0E2A2757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3F0-7919-4698-A409-C1979AC5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FE98-354E-419C-B589-F2D35AA6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DD42-826C-499F-AD4C-3DADF91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5AE2-A686-496A-9809-F62C4F57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EEF1-86FC-4B3B-8068-AA933105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8B8B-2F6C-418E-B0AE-F4900C58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FB9-D312-4ABD-8AB8-2329E767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443-A476-4303-8C0F-B60190DA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0BC9-587D-47A2-8F30-CDDD3803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CFB-2607-42B7-97FA-86538AE7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E82-737C-4A56-AB0F-B79A5712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6C6-7A5B-472B-8F9D-10CD8C60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91D-143F-4481-A34C-EBEFB9A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Group 3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>
                  <a:gd name="textAreaLeft" fmla="*/ 0 w 950760"/>
                  <a:gd name="textAreaRight" fmla="*/ 951120 w 950760"/>
                  <a:gd name="textAreaTop" fmla="*/ 0 h 1293840"/>
                  <a:gd name="textAreaBottom" fmla="*/ 1294200 h 1293840"/>
                </a:gdLst>
                <a:ahLst/>
                <a:rect l="textAreaLeft" t="textAreaTop" r="textAreaRight" b="textAreaBottom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>
                    <a:gd name="textAreaLeft" fmla="*/ 0 w 586080"/>
                    <a:gd name="textAreaRight" fmla="*/ 586440 w 58608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9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>
                    <a:gd name="textAreaLeft" fmla="*/ 0 w 585720"/>
                    <a:gd name="textAreaRight" fmla="*/ 585720 w 58572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>
                    <a:gd name="textAreaLeft" fmla="*/ 0 w 586080"/>
                    <a:gd name="textAreaRight" fmla="*/ 586440 w 58608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Group 11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Freeform 12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>
                  <a:gd name="textAreaLeft" fmla="*/ 0 w 833400"/>
                  <a:gd name="textAreaRight" fmla="*/ 833760 w 8334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55480"/>
                  <a:gd name="textAreaBottom" fmla="*/ 555480 h 555480"/>
                </a:gdLst>
                <a:ahLst/>
                <a:rect l="textAreaLeft" t="textAreaTop" r="textAreaRight" b="textAreaBottom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555C-D45A-4A69-9A82-C986AFC68E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Group 3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>
                  <a:gd name="textAreaLeft" fmla="*/ 0 w 1177920"/>
                  <a:gd name="textAreaRight" fmla="*/ 1178280 w 1177920"/>
                  <a:gd name="textAreaTop" fmla="*/ 0 h 1762200"/>
                  <a:gd name="textAreaBottom" fmla="*/ 1762560 h 1762200"/>
                </a:gdLst>
                <a:ahLst/>
                <a:rect l="textAreaLeft" t="textAreaTop" r="textAreaRight" b="textAreaBottom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5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Freeform 6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>
                    <a:gd name="textAreaLeft" fmla="*/ 0 w 725400"/>
                    <a:gd name="textAreaRight" fmla="*/ 725760 w 72540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7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>
                    <a:gd name="textAreaLeft" fmla="*/ 0 w 725760"/>
                    <a:gd name="textAreaRight" fmla="*/ 726120 w 72576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8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Freeform 9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>
                    <a:gd name="textAreaLeft" fmla="*/ 0 w 725400"/>
                    <a:gd name="textAreaRight" fmla="*/ 725760 w 72540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10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>
                    <a:gd name="textAreaLeft" fmla="*/ 0 w 725760"/>
                    <a:gd name="textAreaRight" fmla="*/ 726120 w 725760"/>
                    <a:gd name="textAreaTop" fmla="*/ 0 h 1092240"/>
                    <a:gd name="textAreaBottom" fmla="*/ 1092600 h 1092240"/>
                  </a:gdLst>
                  <a:ahLst/>
                  <a:rect l="textAreaLeft" t="textAreaTop" r="textAreaRight" b="textAreaBottom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Group 11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Freeform 12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>
                  <a:gd name="textAreaLeft" fmla="*/ 0 w 833400"/>
                  <a:gd name="textAreaRight" fmla="*/ 833760 w 8334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55480"/>
                  <a:gd name="textAreaBottom" fmla="*/ 555480 h 555480"/>
                </a:gdLst>
                <a:ahLst/>
                <a:rect l="textAreaLeft" t="textAreaTop" r="textAreaRight" b="textAreaBottom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>
                  <a:gd name="textAreaLeft" fmla="*/ 0 w 428760"/>
                  <a:gd name="textAreaRight" fmla="*/ 429120 w 42876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41A0-6C48-4DBD-9DAE-4754BCA6FE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2320920" y="247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85920" y="71388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урительные смес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Курительные смеси"/>
          <p:cNvPicPr/>
          <p:nvPr/>
        </p:nvPicPr>
        <p:blipFill>
          <a:blip r:embed="rId1"/>
          <a:stretch/>
        </p:blipFill>
        <p:spPr>
          <a:xfrm>
            <a:off x="1704960" y="2286000"/>
            <a:ext cx="57276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4200" y="2928600"/>
            <a:ext cx="87868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2013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году в Сыктывкаре выявлено  более 300 преступлений связанных с употреблением курительных смесей, что почти в два раза больше чем 2012 год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фиксировано более 100 случаев  случая отравления курительными смесями несовершеннолетних в возрасте 12-14 лет. 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13840" y="285840"/>
            <a:ext cx="8929800" cy="30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урительные смес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запрещенные в России и других странах ароматизированные смеси, в состав которых входят синтетические каннабиноиды, их аналоги и производ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http://im3-tub-ru.yandex.net/i?id=205585981-35-72&amp;n=21"/>
          <p:cNvPicPr/>
          <p:nvPr/>
        </p:nvPicPr>
        <p:blipFill>
          <a:blip r:embed="rId1"/>
          <a:stretch/>
        </p:blipFill>
        <p:spPr>
          <a:xfrm>
            <a:off x="2500200" y="3357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0866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реализации курительных миксов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28480"/>
            <a:ext cx="474336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аллы (похожи на крупную соль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ошок (россыпь. не слишком мелко размоло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храняющая вид и структуру растительного сырь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ка (в виде мелкодисперсной пыли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рки и твердые смеси(пластилин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7" descr="http://news.vmariel.ru/uploads/posts/2011-06/1308130051_smesi.jpg"/>
          <p:cNvPicPr/>
          <p:nvPr/>
        </p:nvPicPr>
        <p:blipFill>
          <a:blip r:embed="rId1"/>
          <a:stretch/>
        </p:blipFill>
        <p:spPr>
          <a:xfrm>
            <a:off x="5500800" y="13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ttp://im4-tub-ru.yandex.net/i?id=538839908-00-72&amp;n=21"/>
          <p:cNvPicPr/>
          <p:nvPr/>
        </p:nvPicPr>
        <p:blipFill>
          <a:blip r:embed="rId2"/>
          <a:stretch/>
        </p:blipFill>
        <p:spPr>
          <a:xfrm>
            <a:off x="5548320" y="450072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Зависимость</a:t>
            </a:r>
            <a:br>
              <a:rPr sz="4800"/>
            </a:b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981080"/>
            <a:ext cx="48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уча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сихической 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исимости — самое частое последствие употребления спайсов и других смесей, однако были документально зафиксированы и случа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висим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http://www.interfax.ru/ftproot/photos/PhotoText/2009_12_02/smes.jpg"/>
          <p:cNvPicPr/>
          <p:nvPr/>
        </p:nvPicPr>
        <p:blipFill>
          <a:blip r:embed="rId1"/>
          <a:stretch/>
        </p:blipFill>
        <p:spPr>
          <a:xfrm>
            <a:off x="5565600" y="1857240"/>
            <a:ext cx="32925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на Центральную Нервную Систему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ическая зависим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ная двигательная актив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депрессивных мыслей и состояний, появление суицидальных мыслей и наклоннос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я координ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вога и беспокой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http://im5-tub-ru.yandex.net/i?id=51645674-65-72&amp;n=21"/>
          <p:cNvPicPr/>
          <p:nvPr/>
        </p:nvPicPr>
        <p:blipFill>
          <a:blip r:embed="rId1"/>
          <a:stretch/>
        </p:blipFill>
        <p:spPr>
          <a:xfrm>
            <a:off x="5143680" y="38577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на Центральную Нервную Систему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71400"/>
            <a:ext cx="4243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ушения со стороны эмоциональной сферы, постоянное возбуждение или тоскливое настроение, резкая смена настроения в течение короткого времени без поводов к эт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люцин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тройства психи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зофренические расстрой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http://las-venturas.lt/forumas/uploads/profile/photo-5275.png?_r=1359219285"/>
          <p:cNvPicPr/>
          <p:nvPr/>
        </p:nvPicPr>
        <p:blipFill>
          <a:blip r:embed="rId1"/>
          <a:stretch/>
        </p:blipFill>
        <p:spPr>
          <a:xfrm>
            <a:off x="4929120" y="257184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14200"/>
            <a:ext cx="70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изнаки употребления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320" y="857160"/>
            <a:ext cx="6072120" cy="46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ширенные зрачки, красноватая окраска белков глаз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горизонтальный нистагм (невозможность зафиксировать  глазное яблоко неподвижно, при попытке посмотреть ровно в одну точку глаза «гуляют» вправо-влево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вышение артериального давления (жалобы на пульсирующую боль в затылке, тяжесть в голов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 нарушения кожной чувствительности, а также невнятная, спутанная, многословная реч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формируется нарушение координации движений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http://1doost.com/Files/Pictures/1392/02/20/1368206420.jpg"/>
          <p:cNvPicPr/>
          <p:nvPr/>
        </p:nvPicPr>
        <p:blipFill>
          <a:blip r:embed="rId1"/>
          <a:stretch/>
        </p:blipFill>
        <p:spPr>
          <a:xfrm>
            <a:off x="6143760" y="2782800"/>
            <a:ext cx="27860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475920"/>
            <a:ext cx="8929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зможно, подсказать о приеме курительных миксов смогут следующие находки: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льгированные пакеты или пакеты из плотного целлофана со следами порошка и травяной пы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ные признаки опьянения без запаха алкогол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ние на тематических форумах по продаже спайсов (купить смеси можно в интернете, сделать заказ онлайн или через Skype, Jabber, или по телефонам, написанным на заборах и асфальт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дома «ложек» из фольги (они нужны для предварительного приготовления курительных смесей и их разжигания) или нагревательных лам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Передозировка. 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520" y="1357200"/>
            <a:ext cx="414324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а выражается в усилении признаков наркотического опьянения, в частности типичны рвота, резкое повышение АД, судороги, ярко выраженные галлюцинации, заторможенность вплоть до ко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http://jenata.org/ufiles/2/2013/6/24/files/insomnia2.jpg"/>
          <p:cNvPicPr/>
          <p:nvPr/>
        </p:nvPicPr>
        <p:blipFill>
          <a:blip r:embed="rId1"/>
          <a:stretch/>
        </p:blipFill>
        <p:spPr>
          <a:xfrm>
            <a:off x="5643720" y="1500120"/>
            <a:ext cx="320040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>ЧЕРНОВ АЛЕКСЕЙ</dc:creator>
  <dc:description/>
  <dc:language>en-US</dc:language>
  <cp:lastModifiedBy>Светлана</cp:lastModifiedBy>
  <dcterms:modified xsi:type="dcterms:W3CDTF">2014-03-11T12:57:44Z</dcterms:modified>
  <cp:revision>56</cp:revision>
  <dc:subject/>
  <dc:title>Заголовок слайда отсутствует</dc:title>
</cp:coreProperties>
</file>