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E605-BF55-4C98-B958-7F037574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E82-AD42-4A67-94B7-C89ED231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0DBC-E7C3-4F9B-A397-693F0665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E8D-E4D5-4460-ABC5-8531BB7E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044E-C67C-46CD-9971-6958284E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B253-20A1-42BF-A86D-D61A8BAD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4383-02A2-4DB6-900E-2BCCA3A8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0865-1269-4BC9-AFBD-7E4CAC9F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42F9-FDD9-4B24-AD13-388B9364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6955-2E97-45B7-8891-D773082B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F04A-7801-42B3-A178-2B661145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80C6-6A29-4396-B598-FC3D355C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FAB1-0A1A-4038-9319-50C33BFA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CF67-41B3-41C0-959E-59C4534E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4FD0-D50B-4D0C-9B47-D3B3D8A6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E805-E10D-49B2-B119-AE74FEB4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2102-E7D5-4BA3-BD6B-50FD7FF0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5D5-9028-4B73-BA49-1AEA8C05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33D4-B475-4742-A6CE-4AD6C473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2CC5-1883-41F8-9A97-AB4BE2A6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04F-C98E-434E-B411-D8B3522C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D2E5-B64A-4BF0-847F-7A5D1708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2633-B0BD-4A60-996C-C58B63FE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329-8FC3-4CAA-A01D-C56F10B0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Group 3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>
                  <a:gd name="textAreaLeft" fmla="*/ 0 w 950760"/>
                  <a:gd name="textAreaRight" fmla="*/ 951120 w 950760"/>
                  <a:gd name="textAreaTop" fmla="*/ 0 h 1293840"/>
                  <a:gd name="textAreaBottom" fmla="*/ 1294200 h 1293840"/>
                </a:gdLst>
                <a:ahLst/>
                <a:rect l="textAreaLeft" t="textAreaTop" r="textAreaRight" b="textAreaBottom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>
                    <a:gd name="textAreaLeft" fmla="*/ 0 w 585720"/>
                    <a:gd name="textAreaRight" fmla="*/ 585720 w 585720"/>
                    <a:gd name="textAreaTop" fmla="*/ 0 h 801720"/>
                    <a:gd name="textAreaBottom" fmla="*/ 802080 h 801720"/>
                  </a:gdLst>
                  <a:ahLst/>
                  <a:rect l="textAreaLeft" t="textAreaTop" r="textAreaRight" b="textAreaBottom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>
                    <a:gd name="textAreaLeft" fmla="*/ 0 w 586080"/>
                    <a:gd name="textAreaRight" fmla="*/ 586440 w 586080"/>
                    <a:gd name="textAreaTop" fmla="*/ 0 h 801720"/>
                    <a:gd name="textAreaBottom" fmla="*/ 802080 h 801720"/>
                  </a:gdLst>
                  <a:ahLst/>
                  <a:rect l="textAreaLeft" t="textAreaTop" r="textAreaRight" b="textAreaBottom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8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Freeform 9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>
                    <a:gd name="textAreaLeft" fmla="*/ 0 w 585720"/>
                    <a:gd name="textAreaRight" fmla="*/ 585720 w 585720"/>
                    <a:gd name="textAreaTop" fmla="*/ 0 h 801720"/>
                    <a:gd name="textAreaBottom" fmla="*/ 802080 h 801720"/>
                  </a:gdLst>
                  <a:ahLst/>
                  <a:rect l="textAreaLeft" t="textAreaTop" r="textAreaRight" b="textAreaBottom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Freeform 10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>
                    <a:gd name="textAreaLeft" fmla="*/ 0 w 586080"/>
                    <a:gd name="textAreaRight" fmla="*/ 586440 w 586080"/>
                    <a:gd name="textAreaTop" fmla="*/ 0 h 801720"/>
                    <a:gd name="textAreaBottom" fmla="*/ 802080 h 801720"/>
                  </a:gdLst>
                  <a:ahLst/>
                  <a:rect l="textAreaLeft" t="textAreaTop" r="textAreaRight" b="textAreaBottom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Group 11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Freeform 12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>
                  <a:gd name="textAreaLeft" fmla="*/ 0 w 833400"/>
                  <a:gd name="textAreaRight" fmla="*/ 833760 w 833400"/>
                  <a:gd name="textAreaTop" fmla="*/ 0 h 762120"/>
                  <a:gd name="textAreaBottom" fmla="*/ 762480 h 762120"/>
                </a:gdLst>
                <a:ahLst/>
                <a:rect l="textAreaLeft" t="textAreaTop" r="textAreaRight" b="textAreaBottom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555480"/>
                  <a:gd name="textAreaBottom" fmla="*/ 555480 h 555480"/>
                </a:gdLst>
                <a:ahLst/>
                <a:rect l="textAreaLeft" t="textAreaTop" r="textAreaRight" b="textAreaBottom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5F00-F7F1-4424-8754-53DB0D3ECE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Group 3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Freeform 4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>
                  <a:gd name="textAreaLeft" fmla="*/ 0 w 1177920"/>
                  <a:gd name="textAreaRight" fmla="*/ 1178280 w 1177920"/>
                  <a:gd name="textAreaTop" fmla="*/ 0 h 1762200"/>
                  <a:gd name="textAreaBottom" fmla="*/ 1762560 h 1762200"/>
                </a:gdLst>
                <a:ahLst/>
                <a:rect l="textAreaLeft" t="textAreaTop" r="textAreaRight" b="textAreaBottom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Group 5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Freeform 6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>
                    <a:gd name="textAreaLeft" fmla="*/ 0 w 725400"/>
                    <a:gd name="textAreaRight" fmla="*/ 725760 w 725400"/>
                    <a:gd name="textAreaTop" fmla="*/ 0 h 1092240"/>
                    <a:gd name="textAreaBottom" fmla="*/ 1092600 h 1092240"/>
                  </a:gdLst>
                  <a:ahLst/>
                  <a:rect l="textAreaLeft" t="textAreaTop" r="textAreaRight" b="textAreaBottom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Freeform 7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>
                    <a:gd name="textAreaLeft" fmla="*/ 0 w 725760"/>
                    <a:gd name="textAreaRight" fmla="*/ 726120 w 725760"/>
                    <a:gd name="textAreaTop" fmla="*/ 0 h 1092240"/>
                    <a:gd name="textAreaBottom" fmla="*/ 1092600 h 1092240"/>
                  </a:gdLst>
                  <a:ahLst/>
                  <a:rect l="textAreaLeft" t="textAreaTop" r="textAreaRight" b="textAreaBottom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Group 8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Freeform 9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>
                    <a:gd name="textAreaLeft" fmla="*/ 0 w 725400"/>
                    <a:gd name="textAreaRight" fmla="*/ 725760 w 725400"/>
                    <a:gd name="textAreaTop" fmla="*/ 0 h 1092240"/>
                    <a:gd name="textAreaBottom" fmla="*/ 1092600 h 1092240"/>
                  </a:gdLst>
                  <a:ahLst/>
                  <a:rect l="textAreaLeft" t="textAreaTop" r="textAreaRight" b="textAreaBottom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10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>
                    <a:gd name="textAreaLeft" fmla="*/ 0 w 725760"/>
                    <a:gd name="textAreaRight" fmla="*/ 726120 w 725760"/>
                    <a:gd name="textAreaTop" fmla="*/ 0 h 1092240"/>
                    <a:gd name="textAreaBottom" fmla="*/ 1092600 h 1092240"/>
                  </a:gdLst>
                  <a:ahLst/>
                  <a:rect l="textAreaLeft" t="textAreaTop" r="textAreaRight" b="textAreaBottom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Group 11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Freeform 12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>
                  <a:gd name="textAreaLeft" fmla="*/ 0 w 833400"/>
                  <a:gd name="textAreaRight" fmla="*/ 833760 w 833400"/>
                  <a:gd name="textAreaTop" fmla="*/ 0 h 762120"/>
                  <a:gd name="textAreaBottom" fmla="*/ 762480 h 762120"/>
                </a:gdLst>
                <a:ahLst/>
                <a:rect l="textAreaLeft" t="textAreaTop" r="textAreaRight" b="textAreaBottom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3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555480"/>
                  <a:gd name="textAreaBottom" fmla="*/ 555480 h 555480"/>
                </a:gdLst>
                <a:ahLst/>
                <a:rect l="textAreaLeft" t="textAreaTop" r="textAreaRight" b="textAreaBottom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4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5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62AC-6507-4295-9FB3-EF5229B21C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232092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85920" y="713880"/>
            <a:ext cx="665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урительные смеси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Курительные смеси"/>
          <p:cNvPicPr/>
          <p:nvPr/>
        </p:nvPicPr>
        <p:blipFill>
          <a:blip r:embed="rId1"/>
          <a:stretch/>
        </p:blipFill>
        <p:spPr>
          <a:xfrm>
            <a:off x="1704960" y="2286000"/>
            <a:ext cx="57276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4200" y="2928600"/>
            <a:ext cx="87868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2013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году в Сыктывкаре выявлено  более 300 преступлений связанных с употреблением курительных смесей, что почти в два раза больше чем 2012 году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фиксировано более 100 случаев  случая отравления курительными смесями несовершеннолетних в возрасте 12-14 лет. 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13840" y="285840"/>
            <a:ext cx="8929800" cy="300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урительные смес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запрещенные в России и других странах ароматизированные смеси, в состав которых входят синтетические каннабиноиды, их аналоги и производ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http://im3-tub-ru.yandex.net/i?id=205585981-35-72&amp;n=21"/>
          <p:cNvPicPr/>
          <p:nvPr/>
        </p:nvPicPr>
        <p:blipFill>
          <a:blip r:embed="rId1"/>
          <a:stretch/>
        </p:blipFill>
        <p:spPr>
          <a:xfrm>
            <a:off x="2500200" y="335772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0866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сновные формы реализации курительных миксов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28480"/>
            <a:ext cx="4743360" cy="47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сталлы (похожи на крупную соль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ошок (россыпь. не слишком мелко размол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охраняющая вид и структуру растительного сырья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ка (в виде мелкодисперсной пыли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рки и твердые смеси(пластилин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7" descr="http://news.vmariel.ru/uploads/posts/2011-06/1308130051_smesi.jpg"/>
          <p:cNvPicPr/>
          <p:nvPr/>
        </p:nvPicPr>
        <p:blipFill>
          <a:blip r:embed="rId1"/>
          <a:stretch/>
        </p:blipFill>
        <p:spPr>
          <a:xfrm>
            <a:off x="5500800" y="13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http://im4-tub-ru.yandex.net/i?id=538839908-00-72&amp;n=21"/>
          <p:cNvPicPr/>
          <p:nvPr/>
        </p:nvPicPr>
        <p:blipFill>
          <a:blip r:embed="rId2"/>
          <a:stretch/>
        </p:blipFill>
        <p:spPr>
          <a:xfrm>
            <a:off x="5548320" y="4500720"/>
            <a:ext cx="28814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Зависимость</a:t>
            </a:r>
            <a:br>
              <a:rPr sz="4800"/>
            </a:b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440" y="1981080"/>
            <a:ext cx="48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уча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сихической 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исимости — самое частое последствие употребления спайсов и других смесей, однако были документально зафиксированы и случа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ческ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висим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6" descr="http://www.interfax.ru/ftproot/photos/PhotoText/2009_12_02/smes.jpg"/>
          <p:cNvPicPr/>
          <p:nvPr/>
        </p:nvPicPr>
        <p:blipFill>
          <a:blip r:embed="rId1"/>
          <a:stretch/>
        </p:blipFill>
        <p:spPr>
          <a:xfrm>
            <a:off x="5565600" y="1857240"/>
            <a:ext cx="32925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здействие на Центральную Нервную Систему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ическая зависим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ная двигательная актив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депрессивных мыслей и состояний, появление суицидальных мыслей и наклоннос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ушения координ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вога и беспокойств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5" descr="http://im5-tub-ru.yandex.net/i?id=51645674-65-72&amp;n=21"/>
          <p:cNvPicPr/>
          <p:nvPr/>
        </p:nvPicPr>
        <p:blipFill>
          <a:blip r:embed="rId1"/>
          <a:stretch/>
        </p:blipFill>
        <p:spPr>
          <a:xfrm>
            <a:off x="5143680" y="385776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здействие на Центральную Нервную Систему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71400"/>
            <a:ext cx="4243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ушения со стороны эмоциональной сферы, постоянное возбуждение или тоскливое настроение, резкая смена настроения в течение короткого времени без поводов к этом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люцин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ройства психи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зофренические расстрой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http://las-venturas.lt/forumas/uploads/profile/photo-5275.png?_r=1359219285"/>
          <p:cNvPicPr/>
          <p:nvPr/>
        </p:nvPicPr>
        <p:blipFill>
          <a:blip r:embed="rId1"/>
          <a:stretch/>
        </p:blipFill>
        <p:spPr>
          <a:xfrm>
            <a:off x="4929120" y="257184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14200"/>
            <a:ext cx="70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знаки употребления</a:t>
            </a: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71320" y="857160"/>
            <a:ext cx="6072120" cy="468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ширенные зрачки, красноватая окраска белков глаз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горизонтальный нистагм (невозможность зафиксировать  глазное яблоко неподвижно, при попытке посмотреть ровно в одну точку глаза «гуляют» вправо-влево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вышение артериального давления (жалобы на пульсирующую боль в затылке, тяжесть в голов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ны нарушения кожной чувствительности, а также невнятная, спутанная, многословная реч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да формируется нарушение координации движений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http://1doost.com/Files/Pictures/1392/02/20/1368206420.jpg"/>
          <p:cNvPicPr/>
          <p:nvPr/>
        </p:nvPicPr>
        <p:blipFill>
          <a:blip r:embed="rId1"/>
          <a:stretch/>
        </p:blipFill>
        <p:spPr>
          <a:xfrm>
            <a:off x="6143760" y="2782800"/>
            <a:ext cx="27860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840" y="475920"/>
            <a:ext cx="8929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зможно, подсказать о приеме курительных миксов смогут следующие находки:</a:t>
            </a: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льгированные пакеты или пакеты из плотного целлофана со следами порошка и травяной пы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ные признаки опьянения без запаха алкогол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ние на тематических форумах по продаже спайсов (купить смеси можно в интернете, сделать заказ онлайн или через Skype, Jabber, или по телефонам, написанным на заборах и асфальт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дома «ложек» из фольги (они нужны для предварительного приготовления курительных смесей и их разжигания) или нагревательных лам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Передозировка. </a:t>
            </a: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5520" y="1357200"/>
            <a:ext cx="414324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а выражается в усилении признаков наркотического опьянения, в частности типичны рвота, резкое повышение АД, судороги, ярко выраженные галлюцинации, заторможенность вплоть до ко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9" descr="http://jenata.org/ufiles/2/2013/6/24/files/insomnia2.jpg"/>
          <p:cNvPicPr/>
          <p:nvPr/>
        </p:nvPicPr>
        <p:blipFill>
          <a:blip r:embed="rId1"/>
          <a:stretch/>
        </p:blipFill>
        <p:spPr>
          <a:xfrm>
            <a:off x="5643720" y="1500120"/>
            <a:ext cx="320040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2T07:19:48Z</dcterms:created>
  <dc:creator>ЧЕРНОВ АЛЕКСЕЙ</dc:creator>
  <dc:description/>
  <dc:language>en-US</dc:language>
  <cp:lastModifiedBy>Светлана</cp:lastModifiedBy>
  <dcterms:modified xsi:type="dcterms:W3CDTF">2014-03-11T12:57:44Z</dcterms:modified>
  <cp:revision>56</cp:revision>
  <dc:subject/>
  <dc:title>Заголовок слайда отсутствует</dc:title>
</cp:coreProperties>
</file>