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D8B-9A59-468B-A65F-CD9C5326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EAA-F578-44FD-93EF-894D9E13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053-10B2-42BF-AE36-BAB9373E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468-31F7-4412-8D32-98CC4376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888-60C9-48C1-A819-1864797E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836-C1BF-462C-9876-FF071C9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EA7-4A43-4611-8A16-A9D87265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3829-6E91-40A3-9F09-5083355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F64D-2E94-4758-806A-7AB8277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DAC8-DD86-4D45-870D-6F1DA85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3D4B-8C52-402B-89EE-92A4549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619-5E34-44A3-B271-51A9ACF8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CE9A-05D1-431A-8519-0F25556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4288-E4DC-466B-927B-3B9A653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4B6-1424-42D8-ACA4-CD3DD62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1E89-974B-432C-8E2B-AAC2F3F1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C93-F588-4110-A4C5-8E94FF0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0B32-DD07-4C09-AC6F-332CF805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836B-8B84-49B1-AA95-E85D9196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30DA-2345-4051-AD45-2AF87E1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D6AD-4188-49F1-823F-3D5B9240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4AD3-2983-4EFD-949E-2CB5C40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360-64EF-4768-B493-5D3147D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EE20-7E73-4B89-B549-EF85A40B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9990-C60F-45F4-B0CE-48CDF0F7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07EE-BEBC-4833-96D0-B2CFD50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0647-4C3A-4008-AE73-7E743B9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F5D3-76A5-411B-BBF8-1EF07C2D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DE8B-0A71-4C49-8732-0AFFBECF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3F2C-EEB4-4EE5-A372-929E6F27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84DE-2BD4-4E7F-AF65-5E005176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4E62-99A7-4B70-8D95-43C4AB2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E813-8B3B-478D-BA58-67CB2C7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BDB-0FC9-4ED3-B277-085401F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3C5DD-1B5D-4615-BA39-7289F599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DBD3-D2FF-4BAD-84A0-5A9D533A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13FA-BF68-46AA-9059-02A6D85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CC0C-D093-4B4D-B750-3C87917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782B-6577-4D6F-BD1B-8166DC6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0C42-EB75-4786-A064-1CF8F34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81E4-737F-48CF-AB0F-665E419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07A8-0DBD-44CB-9CEC-600A9544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1537-ADCA-4587-A523-B9FDFF39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6A8B7-8770-4422-9D69-3949CD48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844-FDF8-4284-A234-2AB61B6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E498-36E0-4072-B5A8-E3B9FED5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FCEEE-B0BD-46D8-A27C-00175F8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385B-2B37-423F-B90C-1ADD0AD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5901-6530-4901-8F6A-6803D00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329A-32FF-4CA0-B606-2D6E9431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493C-84C8-4C43-A776-2606CC8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B53B-42E3-44C6-9558-7834CCED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CD9F-78B4-41AC-98A1-D6BBE06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9B3F-C599-436C-BE00-B1B4EAD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92E2-21FE-47A8-8575-02F2FEB1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C36-1502-4A43-8335-A011B44C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C09C8-DCC5-4454-95F9-DA1461CF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BE1B-7EFD-4E1F-91D9-EB6832D2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AA867-8573-42CE-B97E-B294822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141D-8EED-437D-90BF-CD766E0E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4E8A-ECFF-4C8B-9526-9A21CBBF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A2B3-96A7-437B-B74C-41320AA9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5946-2A40-4432-83B5-655FF7E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E7E9-E4C3-4708-9E8E-C113205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46D7-AE45-41A7-9198-BADDFAA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78BD3-EDB1-4366-B509-16ECBE2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0CE-CC9C-4A19-9E0B-1B8A6C1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E067-6913-4B27-8611-CD546A6F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B1F9F-3BEA-48C1-8EEA-F4ABE033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9997B-F10A-4DE1-969C-28904E96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679-0625-4F6B-9609-DB31FB1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F7F-8AAA-4879-AF39-F25E343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6B3-2A4C-4EF7-949D-AE639BFA1BDA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FC80-2F06-4D78-A009-25786F6BB1B7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5489640" y="0"/>
            <a:ext cx="3394080" cy="68580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121-E823-49DC-B0A1-20847CBDB39E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34920" y="136440"/>
            <a:ext cx="3325680" cy="672156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EE6-5E9C-4DA3-B412-61DC0863A50C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EE4-8F50-4241-98CC-0C5691F03F82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B9D-F2A5-4A68-BFBE-453D4C33B600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43280" y="3720960"/>
            <a:ext cx="512136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ТЕСТ 10 КЛАСС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3 ВАРИАНТАХ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740040" y="1417680"/>
            <a:ext cx="51199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31e"/>
                </a:solidFill>
                <a:latin typeface="Candara"/>
              </a:rPr>
              <a:t>ВТОРАЯ ПОЛОВИНА 19 ВЕКА</a:t>
            </a:r>
            <a:endParaRPr b="0" lang="en-US" sz="4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9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Что являлось наиболее устойчивой, типичной формой досуга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осиделки   б) карнавал   в) маевк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ого в России называли грабарям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, работавших на сенокос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гробовщиков   в) землекоп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что в крестьянской среде называлось « беседой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говор родителей по поводу предстоящей свадьбы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будничные посиделки крестьян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обрание крестьян накануне сбора урож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0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Как называлась верхняя длинополая крестьянская одежда из тонкой ткан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зям   б) шлык   в) кафт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такое толо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овместная работа общинников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место, где обмолачивали зерно   в) каш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 называлась основная кухонная утварь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загнётка   б) горшок   в) котело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ответы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1)  1-а, 2-а, 3-б, 4-г, 5-а, 6-а, 7-в, 8-в, 9-а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1-а, 2- б, 3-в, 4-а, 5-б, 6-в, 7-а, 8-б, 9-в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3) 1-в. 2-б, 3-а, 4-в, 5-а, 6-б, 7-в, 8-а, 9-б,10-б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1) В каком году были отменены телесные наказания по приговорам судов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1863Г.       Б) 1861Г.    В) 1868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В-2) В каком году наследник российского престола Александр( в последствии </a:t>
            </a:r>
            <a:r>
              <a:rPr b="0" lang="en-US" sz="20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) совершил путешествие по России, во время которого посетил почти 30 губерний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А) 1837г.          Б) 1820г.    В) 1861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3) Какие 2  типа хозяйства развивались в аграрном секторе России после реформы 1861г.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Среднее и мелкое фермерское 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Б) частные фермы и крупные государственные с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х предприятия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) крупное помещичье и мелкое крестьянское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2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воспитателем малолетнего Александра Николаевича, будущего императора Александра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апитан К.К. Мердер    б) А.И. Остерман    В) Ф.С. де Лагарп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что изменила военная реформа 1874г. В формировании русской арм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е освобождались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равенство всех сословий в отношении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мещане были освобождены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ой социальный слой в России был лишён представительства в земских учреждениях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духовенство  б) рабочие и ремесленники   в) крестьян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6120" y="115560"/>
            <a:ext cx="859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31e"/>
                </a:solidFill>
                <a:latin typeface="Candara"/>
              </a:rPr>
              <a:t>Вопрос № 3</a:t>
            </a:r>
            <a:endParaRPr b="0" lang="en-US" sz="3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74680" y="691920"/>
            <a:ext cx="85946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назовите одно из мероприятий крестьянской реформы: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рестьяне были освобождены от царских повинностей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все крепостные крестьяне получили личную свободу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крестьянам было дано право выхода из общин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являлось условием Сан-Стефанского мирного договора 1878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представлялась полная независимость Босни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Турция оставляла за собой Ардаг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Турция должна была выплатить России 1410 млн.руб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с каким русским философом, писателем и революционером встречался будующий император Александр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во время своего путешествия по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И. Герценом     б) П.Л.  Лавровым    в) П.Н. Ткачёвым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4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ие государственные учреждения заменил собой созданный в 1860г. Государственный бан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риказы общественного презрения   б) земский бан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коммерческий банк   г) все выше названные учрежден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акой слой населения являлся социальной базой народнического движения в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интеллигенция   б) пролетариат   в) крестьянство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то был одним из руководителей организации «народная воля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М.А. Бакунин   б) В.И. Засулич   в) А.И. Желяб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5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министром иностранных дел во время правления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М. Горчаков  б) К.Г. Победоносцев  в) М.Т. Лорис-Мелик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акие земские учреждения были созданы в 1864г.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городские думы     б) земские собрания и управы   в) дворянские управ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кто правил в Турции в 1877г., когда  началась руско-турецкая войн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ултан Абдул-Хамид-2   б) Мохаммед-Али-шах  в) шах Исмаи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6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совершил в 1878г. Покушение на Петербургского градоначальника Ф.Ф. Трепов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В.И. Засулич   б) П.Н. Ткачёв  в) С.Л. Перовск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кто возглавлял спец. комиссию, созданную в 1857г. При министре внутренних дел для подготовки земской реформы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 В.А. Долгоруков   б) С.С. Ланской  в) Н.А. Милю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что произошло в 1874г. В народническом движен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народники совершили очередное покушение на император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началось массовое «хождение в народ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организация « земля и воля» самоликвидировалась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Г ) все вышеперечисленные событ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7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во сколько раз увеличился ежегодный вывоз хлеба за первые 6 десятилетий 19 ве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0 в 20 раз   б0 в 50 раз   в) в 6 раз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то стоял во главе организации «Топор и народная расправа», созданной в Москве в 169г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.Г. Нечаев   б)  П.Н. Ткачёв  в) К.Д.Кавел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ая страна была главным конкуретом ,России в вывозе хлеба на международный рыно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нглия   б) Германия   в) США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8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 назывался альманах, который А.И. Герцен начал издавать в Лондоне в 1855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«сын отечества»   б) «Современник»   в) «Полярная звезда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то был наставников малолетнего Александра </a:t>
            </a: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Ю.Ф. Самарин  б) В.А. Жуковский  в) М.М. Сперанский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назовите имя человека, осуществившего неудачное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покушение на жизнь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4 апреля 1866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тудент Д.В. Каракозов   б) учитель С.Г. Нечае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лушатель университета Н.А. Ишу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0:26:14Z</dcterms:created>
  <dc:creator>катя</dc:creator>
  <dc:description/>
  <dc:language>en-US</dc:language>
  <cp:lastModifiedBy>катя</cp:lastModifiedBy>
  <dcterms:modified xsi:type="dcterms:W3CDTF">2011-03-14T22:03:35Z</dcterms:modified>
  <cp:revision>11</cp:revision>
  <dc:subject/>
  <dc:title>ВТОРАЯ ПОЛОВИНА 19 ВЕКА</dc:title>
</cp:coreProperties>
</file>