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180-7F1B-4210-9711-8CEF4C53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9E7-3F84-4378-A8EB-6270BE41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7153-1225-473E-AA3F-C756D7D3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0640-724D-4990-A28A-5BD3B85A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9F76-2E8E-4173-B86B-D950BCBA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7999-0BC0-4936-A38D-5E2CF2B0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3A45-88A2-4889-8FF9-2EB298CB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1794-E885-40DC-A000-BF1ECE02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B23F-C6FE-4544-A6DA-F392B190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EEC3-9491-4F14-9A19-A0BDE58E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9ABB-406E-4C49-B7EC-9EE381E3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80A-8746-4868-AE46-D6D849EC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747F-0D1B-495F-AEED-E7962AB6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729C-90D3-40DC-952E-E70451D1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FB9B-0DBB-4F5C-9EBB-0FE17110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E764-36CC-4700-BFB0-D873BBCE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FFA2-CCA7-4980-A781-473A4C4E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1BE8E-60EF-439B-96F1-D1646283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9D588-C3F4-4E1E-AF0C-9B996901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299A3-3417-403F-85B9-81AC2507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FBE0D-E268-4AA7-A0D2-3FC6450A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2CED9-92BA-4C7F-B639-3D1E0B28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77D-2804-423C-A477-6663AD59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54A35-6F24-4214-A7B2-32EF7FE2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9393F-07BD-4C76-BC4A-F491F913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172A5-D1C9-4EF2-8372-C0EFE5C1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87A45-4468-484D-886D-840384F0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2907-531C-4557-BA33-526B0D06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97358-5DB5-4313-9579-5D4AC6ED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22FD4-B5AC-4F78-B877-7632025B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2EAC1-FFC5-4F32-8CAA-D36F7D6C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07809-E9CD-4003-9B5B-73E33C5A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7C550-0CBC-41D8-83A3-FE798F16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42F-E7B1-4C5C-83CD-47845426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5A90E-5E13-42AB-A212-F14936B4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91109-77C4-461B-9094-D80424E1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F1019-C64E-474F-8F87-EC6DF637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41EB2-CCAB-414D-A839-97779AAF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DED31-3632-45F3-9DD2-D64A2D20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4DFEC-D1AC-47EC-9562-2A5B9932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BD845-AB5B-413D-B458-87F00A76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74198-BD48-4B2A-B56C-9A94E55E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824E9-0D03-41CE-8EA4-A71BC6D0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F7719-F1FF-493C-900A-6EC4ABAE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F5A-0347-4745-804B-3A71D244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D946D-B044-4736-99EA-23BC88E0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9ABFD-D907-4166-A358-9DBD938B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21C7A-1A52-4BA8-960D-202213C8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3159A-EE8D-4AFE-B4E8-C3697241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58831-B356-44E8-A8C8-463B436F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1ECD6-B9A5-4B2E-A8D0-ECAB4C83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2E5BA-2C05-47D6-A0EA-8DA00BD5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DC684-E179-4715-B252-8CC14906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08D0E-BA4E-431A-9AF5-F285D15A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DD3FE-D0CF-4BFA-8D4E-BEFEC9B0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D06-8578-4155-B523-8EF14675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972C8-58E6-4776-B065-63BBAF96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D51A2-9661-43C2-98A1-73A781E3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65EA6-D957-4FEB-ADF5-F1F41665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49385-C980-49E0-AB82-23BEE298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6228B-05BF-4012-ABE6-A38849A2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3B5A1-FFF4-4C19-9AAA-99A97AFD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D1899-6C05-4D6C-A779-94D831EB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7B49D-E6C9-48AB-B497-EBAA6984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96975-FC50-4CDE-8B3B-9D68F341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BDAA2-4191-4613-9610-F3BA111E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DD7-6E6E-47CF-A2AA-A228E839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FD736-271A-410E-A492-996F864B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FDF59-7305-438E-B3DA-7981811E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965D6-D684-411F-8E35-6DC15A8D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99C-766C-4C75-B309-E802D31F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B4B-57A3-4593-8E33-4FE892BD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8231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3FFB-672A-459F-9A96-0C02293A9866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838080" y="1762200"/>
            <a:ext cx="2522520" cy="50958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3" name="Freeform 7"/>
          <p:cNvSpPr/>
          <p:nvPr/>
        </p:nvSpPr>
        <p:spPr>
          <a:xfrm>
            <a:off x="838080" y="1762200"/>
            <a:ext cx="2522520" cy="50958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838080" y="1762200"/>
            <a:ext cx="2522520" cy="50958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cbd8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bd8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D706-24FC-43DA-931F-E5F6FCC824CE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5489640" y="0"/>
            <a:ext cx="3394080" cy="68580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8231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251D-A8DB-4E01-8EF5-38DDA3D84604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129" name="Freeform 7"/>
          <p:cNvSpPr/>
          <p:nvPr/>
        </p:nvSpPr>
        <p:spPr>
          <a:xfrm>
            <a:off x="34920" y="136440"/>
            <a:ext cx="3325680" cy="672156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cbd8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bd8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9442-8673-409C-A667-C16F81EF093A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cbd8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bd8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111D-C692-4C3F-87E1-DD824260C92E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2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cbd8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bd8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714D-2306-42D9-A383-B428BD9991FE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743280" y="3720960"/>
            <a:ext cx="512136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31e"/>
                </a:solidFill>
                <a:latin typeface="Candara"/>
              </a:rPr>
              <a:t>ТЕСТ 10 КЛАСС</a:t>
            </a:r>
            <a:endParaRPr b="0" lang="en-US" sz="2400" spc="-1" strike="noStrike">
              <a:solidFill>
                <a:srgbClr val="48231e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31e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48231e"/>
                </a:solidFill>
                <a:latin typeface="Candara"/>
              </a:rPr>
              <a:t>3 ВАРИАНТАХ</a:t>
            </a:r>
            <a:endParaRPr b="0" lang="en-US" sz="24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740040" y="1417680"/>
            <a:ext cx="511992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31e"/>
                </a:solidFill>
                <a:latin typeface="Candara"/>
              </a:rPr>
              <a:t>ВТОРАЯ ПОЛОВИНА 19 ВЕКА</a:t>
            </a:r>
            <a:endParaRPr b="0" lang="en-US" sz="40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9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Что являлось наиболее устойчивой, типичной формой досуга крестьян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посиделки   б) карнавал   в) маевки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кого в России называли грабарям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крестьян, работавших на сенокосе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Б) гробовщиков   в) землекопов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что в крестьянской среде называлось « беседой»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сговор родителей по поводу предстоящей свадьбы 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б) будничные посиделки крестьян 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) собрание крестьян накануне сбора урожая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 10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Как называлась верхняя длинополая крестьянская одежда из тонкой ткан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азям   б) шлык   в) кафтан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что такое толока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совместная работа общинников 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   </a:t>
            </a: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б) место, где обмолачивали зерно   в) каша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как называлась основная кухонная утварь крестьян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загнётка   б) горшок   в) котелок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ответы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1)  1-а, 2-а, 3-б, 4-г, 5-а, 6-а, 7-в, 8-в, 9-а, 10-а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1-а, 2- б, 3-в, 4-а, 5-б, 6-в, 7-а, 8-б, 9-в, 10-а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3) 1-в. 2-б, 3-а, 4-в, 5-а, 6-б, 7-в, 8-а, 9-б,10-б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 1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В-1) В каком году были отменены телесные наказания по приговорам судов?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А) 1863Г.       Б) 1861Г.    В) 1868Г.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В-2) В каком году наследник российского престола Александр( в последствии </a:t>
            </a:r>
            <a:r>
              <a:rPr b="0" lang="en-US" sz="2000" spc="-1" strike="noStrike">
                <a:solidFill>
                  <a:srgbClr val="48231e"/>
                </a:solidFill>
                <a:latin typeface="Candara"/>
              </a:rPr>
              <a:t>II</a:t>
            </a: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) совершил путешествие по России, во время которого посетил почти 30 губерний?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А) 1837г.          Б) 1820г.    В) 1861г.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В-3) Какие 2  типа хозяйства развивались в аграрном секторе России после реформы 1861г.?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А) Среднее и мелкое фермерское 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Б) частные фермы и крупные государственные с</a:t>
            </a:r>
            <a:r>
              <a:rPr b="0" lang="en-US" sz="2000" spc="-1" strike="noStrike">
                <a:solidFill>
                  <a:srgbClr val="ff0000"/>
                </a:solidFill>
                <a:latin typeface="Candara"/>
              </a:rPr>
              <a:t>/</a:t>
            </a: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х предприятия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В) крупное помещичье и мелкое крестьянское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2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кто был воспитателем малолетнего Александра Николаевича, будущего императора Александра </a:t>
            </a:r>
            <a:r>
              <a:rPr b="0" lang="en-US" sz="2200" spc="-1" strike="noStrike">
                <a:solidFill>
                  <a:srgbClr val="ff0000"/>
                </a:solidFill>
                <a:latin typeface="Candara"/>
              </a:rPr>
              <a:t>II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капитан К.К. Мердер    б) А.И. Остерман    В) Ф.С. де Лагарп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 что изменила военная реформа 1874г. В формировании русской арми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крестьяне освобождались от воинской повинности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Б) равенство всех сословий в отношении воинской повинности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) мещане были освобождены от воинской повинности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какой социальный слой в России был лишён представительства в земских учреждениях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духовенство  б) рабочие и ремесленники   в) крестьяне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76120" y="115560"/>
            <a:ext cx="85917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31e"/>
                </a:solidFill>
                <a:latin typeface="Candara"/>
              </a:rPr>
              <a:t>Вопрос № 3</a:t>
            </a:r>
            <a:endParaRPr b="0" lang="en-US" sz="3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74680" y="691920"/>
            <a:ext cx="859464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назовите одно из мероприятий крестьянской реформы: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крестьяне были освобождены от царских повинностей   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Б) все крепостные крестьяне получили личную свободу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) крестьянам было дано право выхода из общины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что являлось условием Сан-Стефанского мирного договора 1878г.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представлялась полная независимость Боснии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Б) Турция оставляла за собой Ардаган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) Турция должна была выплатить России 1410 млн.руб.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с каким русским философом, писателем и революционером встречался будующий император Александр </a:t>
            </a:r>
            <a:r>
              <a:rPr b="0" lang="en-US" sz="2200" spc="-1" strike="noStrike">
                <a:solidFill>
                  <a:srgbClr val="ff0000"/>
                </a:solidFill>
                <a:latin typeface="Candara"/>
              </a:rPr>
              <a:t>II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 во время своего путешествия по Росси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А.И. Герценом     б) П.Л.  Лавровым    в) П.Н. Ткачёвым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4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Какие государственные учреждения заменил собой созданный в 1860г. Государственный банк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приказы общественного презрения   б) земский банк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) коммерческий банк   г) все выше названные учреждения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какой слой населения являлся социальной базой народнического движения в Росси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интеллигенция   б) пролетариат   в) крестьянство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кто был одним из руководителей организации «народная воля»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М.А. Бакунин   б) В.И. Засулич   в) А.И. Желябов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5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кто был министром иностранных дел во время правления Александра</a:t>
            </a:r>
            <a:r>
              <a:rPr b="0" lang="en-US" sz="2200" spc="-1" strike="noStrike">
                <a:solidFill>
                  <a:srgbClr val="ff0000"/>
                </a:solidFill>
                <a:latin typeface="Candara"/>
              </a:rPr>
              <a:t> II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А.М. Горчаков  б) К.Г. Победоносцев  в) М.Т. Лорис-Меликов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какие земские учреждения были созданы в 1864г..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городские думы     б) земские собрания и управы   в) дворянские управы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кто правил в Турции в 1877г., когда  началась руско-турецкая война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султан Абдул-Хамид-2   б) Мохаммед-Али-шах  в) шах Исмаил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6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кто совершил в 1878г. Покушение на Петербургского градоначальника Ф.Ф. Трепова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В.И. Засулич   б) П.Н. Ткачёв  в) С.Л. Перовская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 кто возглавлял спец. комиссию, созданную в 1857г. При министре внутренних дел для подготовки земской реформы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 В.А. Долгоруков   б) С.С. Ланской  в) Н.А. Милютин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что произошло в 1874г. В народническом движени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народники совершили очередное покушение на императора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Б) началось массовое «хождение в народ»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) организация « земля и воля» самоликвидировалась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Г ) все вышеперечисленные события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7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во сколько раз увеличился ежегодный вывоз хлеба за первые 6 десятилетий 19 века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0 в 20 раз   б0 в 50 раз   в) в 6 раз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  </a:t>
            </a: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кто стоял во главе организации «Топор и народная расправа», созданной в Москве в 169г.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С.Г. Нечаев   б)  П.Н. Ткачёв  в) К.Д.Кавелин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какая страна была главным конкуретом ,России в вывозе хлеба на международный рынок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Англия   б) Германия   в) США   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8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Как назывался альманах, который А.И. Герцен начал издавать в Лондоне в 1855г.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«сын отечества»   б) «Современник»   в) «Полярная звезда»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кто был наставников малолетнего Александра </a:t>
            </a: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II</a:t>
            </a: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Ю.Ф. Самарин  б) В.А. Жуковский  в) М.М. Сперанский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назовите имя человека, осуществившего неудачное</a:t>
            </a:r>
            <a:r>
              <a:rPr b="0" lang="en-US" sz="22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покушение на жизнь Александра</a:t>
            </a:r>
            <a:r>
              <a:rPr b="0" lang="en-US" sz="2200" spc="-1" strike="noStrike">
                <a:solidFill>
                  <a:srgbClr val="ff0000"/>
                </a:solidFill>
                <a:latin typeface="Candara"/>
              </a:rPr>
              <a:t> II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4 апреля 1866г.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студент Д.В. Каракозов   б) учитель С.Г. Нечаев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                    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) слушатель университета Н.А. Ишутин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20:26:14Z</dcterms:created>
  <dc:creator>катя</dc:creator>
  <dc:description/>
  <dc:language>en-US</dc:language>
  <cp:lastModifiedBy>катя</cp:lastModifiedBy>
  <dcterms:modified xsi:type="dcterms:W3CDTF">2011-03-14T22:03:35Z</dcterms:modified>
  <cp:revision>11</cp:revision>
  <dc:subject/>
  <dc:title>ВТОРАЯ ПОЛОВИНА 19 ВЕКА</dc:title>
</cp:coreProperties>
</file>