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DB2-0320-4C3B-946D-557CC35A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AA1-5F70-4C07-AD8E-49113F1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BC3-9C9A-40C1-97D9-5D00F432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71C-E37C-443E-A818-0CA01A29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E4C-D3BD-4317-BB98-A2DD090F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D58-E6AF-4D55-B97A-A0C9936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0DC4-FD54-46AB-8002-60B480B9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6E4-5182-48F3-810A-EB3A3CE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574D-EB51-47FA-A654-8F78B89E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4F1-1487-4D0F-9449-E0C4B66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018-F8EB-4613-A7FD-F03B83F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9E4-6903-4197-A983-BF946BF2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1C5C-B3B3-4E8F-BAB2-707F8BF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3537-AA2B-47E6-8E7B-F2C5821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208-7ACE-485A-95E9-0A4912E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CB5B-3659-44E6-A833-1495AE8C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DBD3-9C59-42FF-BF94-B721A835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DF2-2469-4D07-9518-E924090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0E1-71F7-4076-BDA3-F7DC4718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754-9530-4842-B9AE-A28C706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DCC-3701-4613-84A5-30B89EB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D7B-8DDF-4640-BAAB-6EB0F4C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8CB-AE62-4341-9533-96C2481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904-6131-49AD-90E4-A508FEB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0BDC-946F-4F70-A803-AB0F3B9BB5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D12A-D62C-469E-A3F2-DBC4436007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20108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99"/>
                </a:solidFill>
                <a:latin typeface="Garamond"/>
              </a:rPr>
              <a:t>Важнейшие соединения щелочных металлов, их свойства и применение.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Гидроксиды Щ.М. называют – ЩЕЛОЧАМИ (МОН)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5600" y="2053800"/>
            <a:ext cx="51037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ФЕНОЛФТАЛЕИН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ЛАКМУС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МЕТИЛОВЫЙ ОРАНЖЕВЫЙ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80000" y="1916280"/>
          <a:ext cx="2233800" cy="504720"/>
        </p:xfrm>
        <a:graphic>
          <a:graphicData uri="http://schemas.openxmlformats.org/drawingml/2006/table">
            <a:tbl>
              <a:tblPr/>
              <a:tblGrid>
                <a:gridCol w="2233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малинов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e1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00720" y="3213000"/>
          <a:ext cx="1584000" cy="57636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ини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d1e8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00720" y="4797360"/>
          <a:ext cx="1800000" cy="50328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eabd00"/>
                          </a:solidFill>
                          <a:latin typeface="Arial"/>
                        </a:rPr>
                        <a:t>желт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7c7c7"/>
                        </a:gs>
                        <a:gs pos="50000">
                          <a:srgbClr val="ffffb7"/>
                        </a:gs>
                        <a:gs pos="100000">
                          <a:srgbClr val="c7c7c7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94" name="Rectangle 75"/>
          <p:cNvSpPr/>
          <p:nvPr/>
        </p:nvSpPr>
        <p:spPr>
          <a:xfrm>
            <a:off x="6158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6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18920" y="3284280"/>
            <a:ext cx="6264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Является важнейшим сырьем в промышленности. Электролизом из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Cl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учают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Cl</a:t>
            </a:r>
            <a:r>
              <a:rPr b="1" i="1" lang="ru-RU" sz="2700" spc="-1" strike="noStrike" baseline="-6000">
                <a:solidFill>
                  <a:srgbClr val="003399"/>
                </a:solidFill>
                <a:latin typeface="Arial"/>
              </a:rPr>
              <a:t>2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OH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HCl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484360" y="404640"/>
            <a:ext cx="4175280" cy="863640"/>
          </a:xfrm>
          <a:custGeom>
            <a:avLst/>
            <a:gdLst>
              <a:gd name="textAreaLeft" fmla="*/ 674640 w 4175280"/>
              <a:gd name="textAreaRight" fmla="*/ 3500640 w 4175280"/>
              <a:gd name="textAreaTop" fmla="*/ 22212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5" y="0"/>
                </a:lnTo>
                <a:arcTo wR="675" hR="1390" stAng="16200000" swAng="5400000"/>
                <a:lnTo>
                  <a:pt x="6190" y="5559"/>
                </a:lnTo>
                <a:lnTo>
                  <a:pt x="15410" y="5559"/>
                </a:lnTo>
                <a:lnTo>
                  <a:pt x="15410" y="1390"/>
                </a:lnTo>
                <a:arcTo wR="675" hR="1390" stAng="10800000" swAng="5400000"/>
                <a:lnTo>
                  <a:pt x="21600" y="0"/>
                </a:lnTo>
                <a:lnTo>
                  <a:pt x="18900" y="8021"/>
                </a:lnTo>
                <a:lnTo>
                  <a:pt x="21600" y="16041"/>
                </a:lnTo>
                <a:lnTo>
                  <a:pt x="18110" y="16041"/>
                </a:lnTo>
                <a:lnTo>
                  <a:pt x="18110" y="20210"/>
                </a:lnTo>
                <a:arcTo wR="675" hR="1390" stAng="0" swAng="5400000"/>
                <a:lnTo>
                  <a:pt x="4165" y="21600"/>
                </a:lnTo>
                <a:arcTo wR="675" hR="1390" stAng="5400000" swAng="5400000"/>
                <a:lnTo>
                  <a:pt x="3490" y="16041"/>
                </a:lnTo>
                <a:lnTo>
                  <a:pt x="0" y="16041"/>
                </a:lnTo>
                <a:lnTo>
                  <a:pt x="2700" y="8021"/>
                </a:lnTo>
                <a:close/>
              </a:path>
              <a:path fill="none" w="21600" h="21600">
                <a:moveTo>
                  <a:pt x="6190" y="1390"/>
                </a:moveTo>
                <a:arcTo wR="675" hR="1390" stAng="0" swAng="5400000"/>
                <a:lnTo>
                  <a:pt x="4165" y="2780"/>
                </a:lnTo>
                <a:arcTo wR="675" hR="1390" stAng="16200000" swAng="-5400000"/>
                <a:arcTo wR="675" hR="1390" stAng="10800000" swAng="-5400000"/>
                <a:lnTo>
                  <a:pt x="6190" y="5559"/>
                </a:lnTo>
              </a:path>
              <a:path fill="none" w="21600" h="21600">
                <a:moveTo>
                  <a:pt x="15410" y="1390"/>
                </a:moveTo>
                <a:arcTo wR="675" hR="1390" stAng="10800000" swAng="-5400000"/>
                <a:lnTo>
                  <a:pt x="17435" y="2780"/>
                </a:lnTo>
                <a:arcTo wR="675" hR="1390" stAng="16200000" swAng="5400000"/>
                <a:arcTo wR="675" hR="1390" stAng="0" swAng="5400000"/>
                <a:lnTo>
                  <a:pt x="15410" y="5559"/>
                </a:lnTo>
              </a:path>
              <a:path fill="none" w="21600" h="21600">
                <a:moveTo>
                  <a:pt x="3490" y="4169"/>
                </a:moveTo>
                <a:lnTo>
                  <a:pt x="3490" y="16041"/>
                </a:lnTo>
              </a:path>
              <a:path fill="none" w="21600" h="21600">
                <a:moveTo>
                  <a:pt x="18110" y="4169"/>
                </a:moveTo>
                <a:lnTo>
                  <a:pt x="18110" y="16041"/>
                </a:lnTo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95640" y="692280"/>
            <a:ext cx="1224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411280" y="220500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aCl - поваренная со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374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"/>
          <p:cNvSpPr/>
          <p:nvPr/>
        </p:nvSpPr>
        <p:spPr>
          <a:xfrm>
            <a:off x="468360" y="4581360"/>
            <a:ext cx="2374920" cy="1175040"/>
          </a:xfrm>
          <a:prstGeom prst="pie">
            <a:avLst/>
          </a:prstGeom>
          <a:solidFill>
            <a:srgbClr val="7a00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5508720" y="69228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Na   CO</a:t>
            </a:r>
            <a:endParaRPr b="1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6156360" y="981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2</a:t>
            </a:r>
            <a:endParaRPr b="1" lang="en-US" sz="2800" spc="1" strike="noStrike">
              <a:ln w="64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7236000" y="907920"/>
            <a:ext cx="27288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3</a:t>
            </a:r>
            <a:endParaRPr b="1" lang="en-US" sz="1800" spc="1" strike="noStrike">
              <a:ln w="324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755640" y="2492280"/>
            <a:ext cx="3527280" cy="1123920"/>
          </a:xfrm>
          <a:prstGeom prst="pie">
            <a:avLst/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971640" y="4941720"/>
            <a:ext cx="122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H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3"/>
          <p:cNvSpPr txBox="1"/>
          <p:nvPr/>
        </p:nvSpPr>
        <p:spPr>
          <a:xfrm>
            <a:off x="161928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226836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411280" y="2924280"/>
            <a:ext cx="144720" cy="144360"/>
          </a:xfrm>
          <a:prstGeom prst="ellipse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3276720" y="2997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4572000" y="2708280"/>
            <a:ext cx="2494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сталлическа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908000" y="692280"/>
            <a:ext cx="29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бонат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1258920" y="2781360"/>
            <a:ext cx="244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C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2195640" y="515772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3635280" y="4869000"/>
            <a:ext cx="302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карбонат Na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ьевая 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23016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val 4"/>
          <p:cNvGrpSpPr/>
          <p:nvPr/>
        </p:nvGrpSpPr>
        <p:grpSpPr>
          <a:xfrm>
            <a:off x="1000080" y="4248000"/>
            <a:ext cx="3187800" cy="1390680"/>
            <a:chOff x="1000080" y="4248000"/>
            <a:chExt cx="3187800" cy="1390680"/>
          </a:xfrm>
        </p:grpSpPr>
        <p:pic>
          <p:nvPicPr>
            <p:cNvPr id="120" name="Oval 4" descr=""/>
            <p:cNvPicPr/>
            <p:nvPr/>
          </p:nvPicPr>
          <p:blipFill>
            <a:blip r:embed="rId1"/>
            <a:stretch/>
          </p:blipFill>
          <p:spPr>
            <a:xfrm>
              <a:off x="1000080" y="4248000"/>
              <a:ext cx="31878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96880" y="4483080"/>
              <a:ext cx="2187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WordArt 5"/>
          <p:cNvSpPr txBox="1"/>
          <p:nvPr/>
        </p:nvSpPr>
        <p:spPr>
          <a:xfrm>
            <a:off x="1692360" y="4581360"/>
            <a:ext cx="136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 С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197964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13200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4716360" y="4869000"/>
            <a:ext cx="16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аш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6" name="Rectangle 9"/>
          <p:cNvGrpSpPr/>
          <p:nvPr/>
        </p:nvGrpSpPr>
        <p:grpSpPr>
          <a:xfrm>
            <a:off x="785880" y="2163600"/>
            <a:ext cx="4120920" cy="1170000"/>
            <a:chOff x="785880" y="2163600"/>
            <a:chExt cx="4120920" cy="1170000"/>
          </a:xfrm>
        </p:grpSpPr>
        <p:pic>
          <p:nvPicPr>
            <p:cNvPr id="127" name="Rectangle 9" descr=""/>
            <p:cNvPicPr/>
            <p:nvPr/>
          </p:nvPicPr>
          <p:blipFill>
            <a:blip r:embed="rId2"/>
            <a:stretch/>
          </p:blipFill>
          <p:spPr>
            <a:xfrm>
              <a:off x="785880" y="2163600"/>
              <a:ext cx="41209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6920" y="2205000"/>
              <a:ext cx="4034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WordArt 10"/>
          <p:cNvSpPr txBox="1"/>
          <p:nvPr/>
        </p:nvSpPr>
        <p:spPr>
          <a:xfrm>
            <a:off x="971640" y="2421000"/>
            <a:ext cx="36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 S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5292720" y="2276640"/>
            <a:ext cx="2705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уберов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ь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619280" y="270828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2627280" y="27082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4067280" y="2708280"/>
            <a:ext cx="199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2916360" y="2637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6960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</a:rPr>
              <a:t>Соединения щелочных металл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608724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3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11:21Z</dcterms:created>
  <dc:creator>User</dc:creator>
  <dc:description/>
  <dc:language>en-US</dc:language>
  <cp:lastModifiedBy>Admin</cp:lastModifiedBy>
  <dcterms:modified xsi:type="dcterms:W3CDTF">2011-01-23T09:56:41Z</dcterms:modified>
  <cp:revision>18</cp:revision>
  <dc:subject/>
  <dc:title>Важнейшие соединения щелочных металлов, их свойства и применение. </dc:title>
</cp:coreProperties>
</file>