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E0B-E02D-46E9-BBB8-DB122183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1FB-2EB3-4C13-AB92-FD984B16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DDB-E7BA-4EE1-BC00-61FB820D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DD97-59FD-4047-84E4-6EF1D840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41F4-A432-4165-BCDA-4FD7E91E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6561-4E31-4F49-9CB5-95A51AEA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0D62-C588-4EB3-9781-FA011A2E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B463-21EA-4935-9A88-F66B8BC8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3D6F-3B12-4999-B8E2-F4A33418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73E7-0358-4786-ACA6-99DA3E98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C48D-D933-4B8B-B50E-A508E121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FB02-6D87-4201-BA0B-4F6F1C0E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89CD-CDD3-42E7-B224-BAE506E3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54B4-2EB5-48CA-B187-93B1E339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5407-4F0F-49A9-B6AB-F4309E65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0566-AA32-4250-8EF9-AB3CB851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0FBC-36FF-4047-933B-DCAE25EC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CE8-51D7-4266-9395-80AB8DE1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C25-A31F-4C46-AEDB-C0FD4FEE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CE41-8F4A-4EC7-ACB8-42A4F4C8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705-C676-4F67-A1B8-90165645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F1C-27FF-435A-A713-FBC78001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ABF-137B-477E-A32B-E9FCC65A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E4D9-63D5-428C-98E6-E1C7BC07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2731-D586-4035-918E-11904A076A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AE43-7181-4E4B-AC1E-3C916916EA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720108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3399"/>
                </a:solidFill>
                <a:latin typeface="Garamond"/>
              </a:rPr>
              <a:t>Важнейшие соединения щелочных металлов, их свойства и применение.</a:t>
            </a: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897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imes New Roman"/>
              </a:rPr>
              <a:t>Гидроксиды Щ.М. называют – ЩЕЛОЧАМИ (МОН)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85600" y="2053800"/>
            <a:ext cx="5103720" cy="34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 + ФЕНОЛФТАЛЕИН =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 + ЛАКМУС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 + МЕТИЛОВЫЙ ОРАНЖЕВЫЙ =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580000" y="1916280"/>
          <a:ext cx="2233800" cy="504720"/>
        </p:xfrm>
        <a:graphic>
          <a:graphicData uri="http://schemas.openxmlformats.org/drawingml/2006/table">
            <a:tbl>
              <a:tblPr/>
              <a:tblGrid>
                <a:gridCol w="22338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малиновы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ffe1ff"/>
                        </a:gs>
                        <a:gs pos="100000">
                          <a:srgbClr val="dddddd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500720" y="3213000"/>
          <a:ext cx="1584000" cy="576360"/>
        </p:xfrm>
        <a:graphic>
          <a:graphicData uri="http://schemas.openxmlformats.org/drawingml/2006/table">
            <a:tbl>
              <a:tblPr/>
              <a:tblGrid>
                <a:gridCol w="1584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сини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dddd"/>
                        </a:gs>
                        <a:gs pos="50000">
                          <a:srgbClr val="d1e8ff"/>
                        </a:gs>
                        <a:gs pos="100000">
                          <a:srgbClr val="dddddd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500720" y="4797360"/>
          <a:ext cx="1800000" cy="503280"/>
        </p:xfrm>
        <a:graphic>
          <a:graphicData uri="http://schemas.openxmlformats.org/drawingml/2006/table">
            <a:tbl>
              <a:tblPr/>
              <a:tblGrid>
                <a:gridCol w="18000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eabd00"/>
                          </a:solidFill>
                          <a:latin typeface="Arial"/>
                        </a:rPr>
                        <a:t>желты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7c7c7"/>
                        </a:gs>
                        <a:gs pos="50000">
                          <a:srgbClr val="ffffb7"/>
                        </a:gs>
                        <a:gs pos="100000">
                          <a:srgbClr val="c7c7c7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94" name="Rectangle 75"/>
          <p:cNvSpPr/>
          <p:nvPr/>
        </p:nvSpPr>
        <p:spPr>
          <a:xfrm>
            <a:off x="6158880" y="638100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© Осиевская И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6"/>
          <p:cNvSpPr/>
          <p:nvPr/>
        </p:nvSpPr>
        <p:spPr>
          <a:xfrm>
            <a:off x="250920" y="6381720"/>
            <a:ext cx="8713800" cy="360360"/>
          </a:xfrm>
          <a:prstGeom prst="rect">
            <a:avLst/>
          </a:prstGeom>
          <a:solidFill>
            <a:srgbClr val="eaeaea">
              <a:alpha val="46000"/>
            </a:srgbClr>
          </a:solidFill>
          <a:ln w="9360">
            <a:solidFill>
              <a:srgbClr val="ecec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618920" y="3284280"/>
            <a:ext cx="626436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Является важнейшим сырьем в промышленности. Электролизом из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NaCl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лучают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Na</a:t>
            </a:r>
            <a:r>
              <a:rPr b="1" i="1" lang="ru-RU" sz="27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Cl</a:t>
            </a:r>
            <a:r>
              <a:rPr b="1" i="1" lang="ru-RU" sz="2700" spc="-1" strike="noStrike" baseline="-6000">
                <a:solidFill>
                  <a:srgbClr val="003399"/>
                </a:solidFill>
                <a:latin typeface="Arial"/>
              </a:rPr>
              <a:t>2</a:t>
            </a:r>
            <a:r>
              <a:rPr b="1" i="1" lang="ru-RU" sz="27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NaOH</a:t>
            </a:r>
            <a:r>
              <a:rPr b="1" i="1" lang="ru-RU" sz="27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1" i="1" lang="en-US" sz="2700" spc="-1" strike="noStrike">
                <a:solidFill>
                  <a:srgbClr val="003399"/>
                </a:solidFill>
                <a:latin typeface="Arial"/>
              </a:rPr>
              <a:t>HCl</a:t>
            </a:r>
            <a:r>
              <a:rPr b="1" i="1" lang="ru-RU" sz="2700" spc="-1" strike="noStrike">
                <a:solidFill>
                  <a:srgbClr val="003399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2484360" y="404640"/>
            <a:ext cx="4175280" cy="863640"/>
          </a:xfrm>
          <a:custGeom>
            <a:avLst/>
            <a:gdLst>
              <a:gd name="textAreaLeft" fmla="*/ 674640 w 4175280"/>
              <a:gd name="textAreaRight" fmla="*/ 3500640 w 4175280"/>
              <a:gd name="textAreaTop" fmla="*/ 22212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515" y="0"/>
                </a:lnTo>
                <a:arcTo wR="675" hR="1390" stAng="16200000" swAng="5400000"/>
                <a:lnTo>
                  <a:pt x="6190" y="5559"/>
                </a:lnTo>
                <a:lnTo>
                  <a:pt x="15410" y="5559"/>
                </a:lnTo>
                <a:lnTo>
                  <a:pt x="15410" y="1390"/>
                </a:lnTo>
                <a:arcTo wR="675" hR="1390" stAng="10800000" swAng="5400000"/>
                <a:lnTo>
                  <a:pt x="21600" y="0"/>
                </a:lnTo>
                <a:lnTo>
                  <a:pt x="18900" y="8021"/>
                </a:lnTo>
                <a:lnTo>
                  <a:pt x="21600" y="16041"/>
                </a:lnTo>
                <a:lnTo>
                  <a:pt x="18110" y="16041"/>
                </a:lnTo>
                <a:lnTo>
                  <a:pt x="18110" y="20210"/>
                </a:lnTo>
                <a:arcTo wR="675" hR="1390" stAng="0" swAng="5400000"/>
                <a:lnTo>
                  <a:pt x="4165" y="21600"/>
                </a:lnTo>
                <a:arcTo wR="675" hR="1390" stAng="5400000" swAng="5400000"/>
                <a:lnTo>
                  <a:pt x="3490" y="16041"/>
                </a:lnTo>
                <a:lnTo>
                  <a:pt x="0" y="16041"/>
                </a:lnTo>
                <a:lnTo>
                  <a:pt x="2700" y="8021"/>
                </a:lnTo>
                <a:close/>
              </a:path>
              <a:path fill="none" w="21600" h="21600">
                <a:moveTo>
                  <a:pt x="6190" y="1390"/>
                </a:moveTo>
                <a:arcTo wR="675" hR="1390" stAng="0" swAng="5400000"/>
                <a:lnTo>
                  <a:pt x="4165" y="2780"/>
                </a:lnTo>
                <a:arcTo wR="675" hR="1390" stAng="16200000" swAng="-5400000"/>
                <a:arcTo wR="675" hR="1390" stAng="10800000" swAng="-5400000"/>
                <a:lnTo>
                  <a:pt x="6190" y="5559"/>
                </a:lnTo>
              </a:path>
              <a:path fill="none" w="21600" h="21600">
                <a:moveTo>
                  <a:pt x="15410" y="1390"/>
                </a:moveTo>
                <a:arcTo wR="675" hR="1390" stAng="10800000" swAng="-5400000"/>
                <a:lnTo>
                  <a:pt x="17435" y="2780"/>
                </a:lnTo>
                <a:arcTo wR="675" hR="1390" stAng="16200000" swAng="5400000"/>
                <a:arcTo wR="675" hR="1390" stAng="0" swAng="5400000"/>
                <a:lnTo>
                  <a:pt x="15410" y="5559"/>
                </a:lnTo>
              </a:path>
              <a:path fill="none" w="21600" h="21600">
                <a:moveTo>
                  <a:pt x="3490" y="4169"/>
                </a:moveTo>
                <a:lnTo>
                  <a:pt x="3490" y="16041"/>
                </a:lnTo>
              </a:path>
              <a:path fill="none" w="21600" h="21600">
                <a:moveTo>
                  <a:pt x="18110" y="4169"/>
                </a:moveTo>
                <a:lnTo>
                  <a:pt x="18110" y="16041"/>
                </a:lnTo>
              </a:path>
            </a:pathLst>
          </a:custGeom>
          <a:gradFill rotWithShape="0">
            <a:gsLst>
              <a:gs pos="0">
                <a:srgbClr val="ececec"/>
              </a:gs>
              <a:gs pos="50000">
                <a:srgbClr val="dddddd"/>
              </a:gs>
              <a:gs pos="100000">
                <a:srgbClr val="ececec"/>
              </a:gs>
            </a:gsLst>
            <a:lin ang="5400000"/>
          </a:gra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3995640" y="692280"/>
            <a:ext cx="122400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339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Л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339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2411280" y="2205000"/>
            <a:ext cx="439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339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NaCl - поваренная сол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339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374880" y="638100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© Осиевская И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79280" y="6381720"/>
            <a:ext cx="8713800" cy="360360"/>
          </a:xfrm>
          <a:prstGeom prst="rect">
            <a:avLst/>
          </a:prstGeom>
          <a:solidFill>
            <a:srgbClr val="eaeaea">
              <a:alpha val="46000"/>
            </a:srgbClr>
          </a:solidFill>
          <a:ln w="9360">
            <a:solidFill>
              <a:srgbClr val="ecec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loud"/>
          <p:cNvSpPr/>
          <p:nvPr/>
        </p:nvSpPr>
        <p:spPr>
          <a:xfrm>
            <a:off x="468360" y="4581360"/>
            <a:ext cx="2374920" cy="1175040"/>
          </a:xfrm>
          <a:prstGeom prst="pie">
            <a:avLst/>
          </a:prstGeom>
          <a:solidFill>
            <a:srgbClr val="7a002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5508720" y="692280"/>
            <a:ext cx="1655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3399"/>
                  </a:solidFill>
                  <a:miter/>
                </a:ln>
                <a:solidFill>
                  <a:srgbClr val="dddddd"/>
                </a:solidFill>
                <a:latin typeface="Arial"/>
              </a:rPr>
              <a:t>Na   CO</a:t>
            </a:r>
            <a:endParaRPr b="1" lang="en-US" sz="1800" spc="1" strike="noStrike">
              <a:ln w="19080">
                <a:solidFill>
                  <a:srgbClr val="003399"/>
                </a:solidFill>
                <a:miter/>
              </a:ln>
              <a:solidFill>
                <a:srgbClr val="dddddd"/>
              </a:solidFill>
              <a:latin typeface="Arial"/>
              <a:ea typeface="Arial"/>
            </a:endParaRPr>
          </a:p>
        </p:txBody>
      </p:sp>
      <p:sp>
        <p:nvSpPr>
          <p:cNvPr id="104" name="WordArt 8"/>
          <p:cNvSpPr txBox="1"/>
          <p:nvPr/>
        </p:nvSpPr>
        <p:spPr>
          <a:xfrm>
            <a:off x="6156360" y="98100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6480">
                  <a:solidFill>
                    <a:srgbClr val="003399"/>
                  </a:solidFill>
                  <a:miter/>
                </a:ln>
                <a:solidFill>
                  <a:srgbClr val="dddddd"/>
                </a:solidFill>
                <a:latin typeface="Arial"/>
              </a:rPr>
              <a:t>2</a:t>
            </a:r>
            <a:endParaRPr b="1" lang="en-US" sz="2800" spc="1" strike="noStrike">
              <a:ln w="6480">
                <a:solidFill>
                  <a:srgbClr val="003399"/>
                </a:solidFill>
                <a:miter/>
              </a:ln>
              <a:solidFill>
                <a:srgbClr val="dddddd"/>
              </a:solidFill>
              <a:latin typeface="Arial"/>
              <a:ea typeface="Arial"/>
            </a:endParaRPr>
          </a:p>
        </p:txBody>
      </p:sp>
      <p:sp>
        <p:nvSpPr>
          <p:cNvPr id="105" name="WordArt 9"/>
          <p:cNvSpPr txBox="1"/>
          <p:nvPr/>
        </p:nvSpPr>
        <p:spPr>
          <a:xfrm>
            <a:off x="7236000" y="907920"/>
            <a:ext cx="272880" cy="4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3399"/>
                  </a:solidFill>
                  <a:miter/>
                </a:ln>
                <a:solidFill>
                  <a:srgbClr val="dddddd"/>
                </a:solidFill>
                <a:latin typeface="Arial"/>
              </a:rPr>
              <a:t>3</a:t>
            </a:r>
            <a:endParaRPr b="1" lang="en-US" sz="1800" spc="1" strike="noStrike">
              <a:ln w="3240">
                <a:solidFill>
                  <a:srgbClr val="003399"/>
                </a:solidFill>
                <a:miter/>
              </a:ln>
              <a:solidFill>
                <a:srgbClr val="dddddd"/>
              </a:solidFill>
              <a:latin typeface="Arial"/>
              <a:ea typeface="Arial"/>
            </a:endParaRPr>
          </a:p>
        </p:txBody>
      </p:sp>
      <p:sp>
        <p:nvSpPr>
          <p:cNvPr id="106" name="Cloud"/>
          <p:cNvSpPr/>
          <p:nvPr/>
        </p:nvSpPr>
        <p:spPr>
          <a:xfrm>
            <a:off x="755640" y="2492280"/>
            <a:ext cx="3527280" cy="1123920"/>
          </a:xfrm>
          <a:prstGeom prst="pie">
            <a:avLst/>
          </a:prstGeom>
          <a:solidFill>
            <a:srgbClr val="8e002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2"/>
          <p:cNvSpPr txBox="1"/>
          <p:nvPr/>
        </p:nvSpPr>
        <p:spPr>
          <a:xfrm>
            <a:off x="971640" y="4941720"/>
            <a:ext cx="1224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NaHC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WordArt 13"/>
          <p:cNvSpPr txBox="1"/>
          <p:nvPr/>
        </p:nvSpPr>
        <p:spPr>
          <a:xfrm>
            <a:off x="1619280" y="3068640"/>
            <a:ext cx="142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WordArt 14"/>
          <p:cNvSpPr txBox="1"/>
          <p:nvPr/>
        </p:nvSpPr>
        <p:spPr>
          <a:xfrm>
            <a:off x="2268360" y="3068640"/>
            <a:ext cx="142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Oval 15"/>
          <p:cNvSpPr/>
          <p:nvPr/>
        </p:nvSpPr>
        <p:spPr>
          <a:xfrm>
            <a:off x="2411280" y="2924280"/>
            <a:ext cx="144720" cy="144360"/>
          </a:xfrm>
          <a:prstGeom prst="ellipse">
            <a:avLst/>
          </a:prstGeom>
          <a:solidFill>
            <a:srgbClr val="ecec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17"/>
          <p:cNvSpPr txBox="1"/>
          <p:nvPr/>
        </p:nvSpPr>
        <p:spPr>
          <a:xfrm>
            <a:off x="3276720" y="2997360"/>
            <a:ext cx="142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WordArt 18"/>
          <p:cNvSpPr txBox="1"/>
          <p:nvPr/>
        </p:nvSpPr>
        <p:spPr>
          <a:xfrm>
            <a:off x="4572000" y="2708280"/>
            <a:ext cx="2494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исталлическая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да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19"/>
          <p:cNvSpPr txBox="1"/>
          <p:nvPr/>
        </p:nvSpPr>
        <p:spPr>
          <a:xfrm>
            <a:off x="1908000" y="692280"/>
            <a:ext cx="2953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рбонаты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WordArt 20"/>
          <p:cNvSpPr txBox="1"/>
          <p:nvPr/>
        </p:nvSpPr>
        <p:spPr>
          <a:xfrm>
            <a:off x="1258920" y="2781360"/>
            <a:ext cx="244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Na  CO    10 H  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WordArt 21"/>
          <p:cNvSpPr txBox="1"/>
          <p:nvPr/>
        </p:nvSpPr>
        <p:spPr>
          <a:xfrm>
            <a:off x="2195640" y="5157720"/>
            <a:ext cx="215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" name="WordArt 22"/>
          <p:cNvSpPr txBox="1"/>
          <p:nvPr/>
        </p:nvSpPr>
        <p:spPr>
          <a:xfrm>
            <a:off x="3635280" y="4869000"/>
            <a:ext cx="3025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идрокарбонат Na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тьевая сода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Rectangle 23"/>
          <p:cNvSpPr/>
          <p:nvPr/>
        </p:nvSpPr>
        <p:spPr>
          <a:xfrm>
            <a:off x="6230160" y="638100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© Осиевская И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250920" y="6381720"/>
            <a:ext cx="8713800" cy="360360"/>
          </a:xfrm>
          <a:prstGeom prst="rect">
            <a:avLst/>
          </a:prstGeom>
          <a:solidFill>
            <a:srgbClr val="eaeaea">
              <a:alpha val="46000"/>
            </a:srgbClr>
          </a:solidFill>
          <a:ln w="9360">
            <a:solidFill>
              <a:srgbClr val="ecec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Oval 4"/>
          <p:cNvGrpSpPr/>
          <p:nvPr/>
        </p:nvGrpSpPr>
        <p:grpSpPr>
          <a:xfrm>
            <a:off x="1000080" y="4248000"/>
            <a:ext cx="3187800" cy="1390680"/>
            <a:chOff x="1000080" y="4248000"/>
            <a:chExt cx="3187800" cy="1390680"/>
          </a:xfrm>
        </p:grpSpPr>
        <p:pic>
          <p:nvPicPr>
            <p:cNvPr id="120" name="Oval 4" descr=""/>
            <p:cNvPicPr/>
            <p:nvPr/>
          </p:nvPicPr>
          <p:blipFill>
            <a:blip r:embed="rId1"/>
            <a:stretch/>
          </p:blipFill>
          <p:spPr>
            <a:xfrm>
              <a:off x="1000080" y="4248000"/>
              <a:ext cx="31878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496880" y="4483080"/>
              <a:ext cx="21877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WordArt 5"/>
          <p:cNvSpPr txBox="1"/>
          <p:nvPr/>
        </p:nvSpPr>
        <p:spPr>
          <a:xfrm>
            <a:off x="1692360" y="4581360"/>
            <a:ext cx="1368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  С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6"/>
          <p:cNvSpPr txBox="1"/>
          <p:nvPr/>
        </p:nvSpPr>
        <p:spPr>
          <a:xfrm>
            <a:off x="1979640" y="4869000"/>
            <a:ext cx="2001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3132000" y="4869000"/>
            <a:ext cx="2001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WordArt 8"/>
          <p:cNvSpPr txBox="1"/>
          <p:nvPr/>
        </p:nvSpPr>
        <p:spPr>
          <a:xfrm>
            <a:off x="4716360" y="4869000"/>
            <a:ext cx="1657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таш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26" name="Rectangle 9"/>
          <p:cNvGrpSpPr/>
          <p:nvPr/>
        </p:nvGrpSpPr>
        <p:grpSpPr>
          <a:xfrm>
            <a:off x="785880" y="2163600"/>
            <a:ext cx="4120920" cy="1170000"/>
            <a:chOff x="785880" y="2163600"/>
            <a:chExt cx="4120920" cy="1170000"/>
          </a:xfrm>
        </p:grpSpPr>
        <p:pic>
          <p:nvPicPr>
            <p:cNvPr id="127" name="Rectangle 9" descr=""/>
            <p:cNvPicPr/>
            <p:nvPr/>
          </p:nvPicPr>
          <p:blipFill>
            <a:blip r:embed="rId2"/>
            <a:stretch/>
          </p:blipFill>
          <p:spPr>
            <a:xfrm>
              <a:off x="785880" y="2163600"/>
              <a:ext cx="412092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826920" y="2205000"/>
              <a:ext cx="40341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WordArt 10"/>
          <p:cNvSpPr txBox="1"/>
          <p:nvPr/>
        </p:nvSpPr>
        <p:spPr>
          <a:xfrm>
            <a:off x="971640" y="2421000"/>
            <a:ext cx="3686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Na   SO    10 H  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0" name="WordArt 11"/>
          <p:cNvSpPr txBox="1"/>
          <p:nvPr/>
        </p:nvSpPr>
        <p:spPr>
          <a:xfrm>
            <a:off x="5292720" y="2276640"/>
            <a:ext cx="2705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уберова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ль</a:t>
            </a:r>
            <a:endParaRPr b="0" lang="en-US" sz="1800" spc="1" strike="noStrike">
              <a:ln w="936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WordArt 12"/>
          <p:cNvSpPr txBox="1"/>
          <p:nvPr/>
        </p:nvSpPr>
        <p:spPr>
          <a:xfrm>
            <a:off x="1619280" y="2708280"/>
            <a:ext cx="2001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WordArt 13"/>
          <p:cNvSpPr txBox="1"/>
          <p:nvPr/>
        </p:nvSpPr>
        <p:spPr>
          <a:xfrm>
            <a:off x="2627280" y="2708280"/>
            <a:ext cx="2001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3" name="WordArt 14"/>
          <p:cNvSpPr txBox="1"/>
          <p:nvPr/>
        </p:nvSpPr>
        <p:spPr>
          <a:xfrm>
            <a:off x="4067280" y="2708280"/>
            <a:ext cx="1998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2916360" y="26370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69608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Times New Roman"/>
              </a:rPr>
              <a:t>Соединения щелочных металл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6087240" y="638100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© Осиевская И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179280" y="6381720"/>
            <a:ext cx="8713800" cy="360360"/>
          </a:xfrm>
          <a:prstGeom prst="rect">
            <a:avLst/>
          </a:prstGeom>
          <a:solidFill>
            <a:srgbClr val="eaeaea">
              <a:alpha val="46000"/>
            </a:srgbClr>
          </a:solidFill>
          <a:ln w="9360">
            <a:solidFill>
              <a:srgbClr val="ecec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3" name="chimes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9:11:21Z</dcterms:created>
  <dc:creator>User</dc:creator>
  <dc:description/>
  <dc:language>en-US</dc:language>
  <cp:lastModifiedBy>Admin</cp:lastModifiedBy>
  <dcterms:modified xsi:type="dcterms:W3CDTF">2011-01-23T09:56:41Z</dcterms:modified>
  <cp:revision>18</cp:revision>
  <dc:subject/>
  <dc:title>Важнейшие соединения щелочных металлов, их свойства и применение. </dc:title>
</cp:coreProperties>
</file>