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A37-79F2-4838-BC75-DF6B99F4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216-7861-4B3E-A63E-2104398C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174-A45F-42D0-B31E-76386230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B85-A9F3-4AB6-A5CB-566F76D2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B8C0-4CC6-4ED0-91D9-8C900EF7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4ADB-AA12-4DDB-9E59-72C29F14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BA27-BA40-46F5-957E-4D7BCD7C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740B-3552-49CE-8A7B-049190E8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3997-A818-44D4-8131-7F6D1F8E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152B-64F7-44AF-AC2F-A3732BF1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AE53-8D0D-4B72-B316-0BD9EF92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78C-9116-4085-B49E-B0E5C049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AE07-F744-4857-B393-633DC37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EC44-9E58-41D0-BBC3-19A7EC5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A0DB-F43D-4052-A60F-7CB9C328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9085-C3AB-411E-9E08-AF92EBD0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F3E2-D695-444D-9C08-C24A1EB6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B41-1E00-4524-86C7-107B0AB5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F38-38D3-4608-8981-A85E428B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0F9-96B6-46B0-A5B2-978D18F8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48A-E323-4657-9662-835400A8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DCB-6431-4FAE-8B40-D13C93C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D14-3080-45E8-B2E9-CD40AAB6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08F-2E99-4CD4-86A8-4C1AA83D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8123-D665-4445-8719-7BE7186F73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2C71-E4C4-4C46-A7DC-DAB4DA29E1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720108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3399"/>
                </a:solidFill>
                <a:latin typeface="Garamond"/>
              </a:rPr>
              <a:t>Важнейшие соединения щелочных металлов, их свойства и применение.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Гидроксиды Щ.М. называют – ЩЕЛОЧАМИ (МОН)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5600" y="2053800"/>
            <a:ext cx="510372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 + ФЕНОЛФТАЛЕИН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 + ЛАКМУС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 + МЕТИЛОВЫЙ ОРАНЖЕВЫЙ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580000" y="1916280"/>
          <a:ext cx="2233800" cy="504720"/>
        </p:xfrm>
        <a:graphic>
          <a:graphicData uri="http://schemas.openxmlformats.org/drawingml/2006/table">
            <a:tbl>
              <a:tblPr/>
              <a:tblGrid>
                <a:gridCol w="22338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малиновы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e1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500720" y="3213000"/>
          <a:ext cx="1584000" cy="576360"/>
        </p:xfrm>
        <a:graphic>
          <a:graphicData uri="http://schemas.openxmlformats.org/drawingml/2006/table">
            <a:tbl>
              <a:tblPr/>
              <a:tblGrid>
                <a:gridCol w="1584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сини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d1e8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00720" y="4797360"/>
          <a:ext cx="1800000" cy="50328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eabd00"/>
                          </a:solidFill>
                          <a:latin typeface="Arial"/>
                        </a:rPr>
                        <a:t>желты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7c7c7"/>
                        </a:gs>
                        <a:gs pos="50000">
                          <a:srgbClr val="ffffb7"/>
                        </a:gs>
                        <a:gs pos="100000">
                          <a:srgbClr val="c7c7c7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94" name="Rectangle 75"/>
          <p:cNvSpPr/>
          <p:nvPr/>
        </p:nvSpPr>
        <p:spPr>
          <a:xfrm>
            <a:off x="6158880" y="6381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© Осиевская И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6"/>
          <p:cNvSpPr/>
          <p:nvPr/>
        </p:nvSpPr>
        <p:spPr>
          <a:xfrm>
            <a:off x="250920" y="6381720"/>
            <a:ext cx="8713800" cy="360360"/>
          </a:xfrm>
          <a:prstGeom prst="rect">
            <a:avLst/>
          </a:prstGeom>
          <a:solidFill>
            <a:srgbClr val="eaeaea">
              <a:alpha val="46000"/>
            </a:srgbClr>
          </a:solidFill>
          <a:ln w="9360">
            <a:solidFill>
              <a:srgbClr val="ece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618920" y="3284280"/>
            <a:ext cx="626436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Является важнейшим сырьем в промышленности. Электролизом из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NaCl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учают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Na</a:t>
            </a:r>
            <a:r>
              <a:rPr b="1" i="1" lang="ru-RU" sz="27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Cl</a:t>
            </a:r>
            <a:r>
              <a:rPr b="1" i="1" lang="ru-RU" sz="2700" spc="-1" strike="noStrike" baseline="-6000">
                <a:solidFill>
                  <a:srgbClr val="003399"/>
                </a:solidFill>
                <a:latin typeface="Arial"/>
              </a:rPr>
              <a:t>2</a:t>
            </a:r>
            <a:r>
              <a:rPr b="1" i="1" lang="ru-RU" sz="27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NaOH</a:t>
            </a:r>
            <a:r>
              <a:rPr b="1" i="1" lang="ru-RU" sz="27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HCl</a:t>
            </a:r>
            <a:r>
              <a:rPr b="1" i="1" lang="ru-RU" sz="27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2484360" y="404640"/>
            <a:ext cx="4175280" cy="863640"/>
          </a:xfrm>
          <a:custGeom>
            <a:avLst/>
            <a:gdLst>
              <a:gd name="textAreaLeft" fmla="*/ 674640 w 4175280"/>
              <a:gd name="textAreaRight" fmla="*/ 3500640 w 4175280"/>
              <a:gd name="textAreaTop" fmla="*/ 22212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515" y="0"/>
                </a:lnTo>
                <a:arcTo wR="675" hR="1390" stAng="16200000" swAng="5400000"/>
                <a:lnTo>
                  <a:pt x="6190" y="5559"/>
                </a:lnTo>
                <a:lnTo>
                  <a:pt x="15410" y="5559"/>
                </a:lnTo>
                <a:lnTo>
                  <a:pt x="15410" y="1390"/>
                </a:lnTo>
                <a:arcTo wR="675" hR="1390" stAng="10800000" swAng="5400000"/>
                <a:lnTo>
                  <a:pt x="21600" y="0"/>
                </a:lnTo>
                <a:lnTo>
                  <a:pt x="18900" y="8021"/>
                </a:lnTo>
                <a:lnTo>
                  <a:pt x="21600" y="16041"/>
                </a:lnTo>
                <a:lnTo>
                  <a:pt x="18110" y="16041"/>
                </a:lnTo>
                <a:lnTo>
                  <a:pt x="18110" y="20210"/>
                </a:lnTo>
                <a:arcTo wR="675" hR="1390" stAng="0" swAng="5400000"/>
                <a:lnTo>
                  <a:pt x="4165" y="21600"/>
                </a:lnTo>
                <a:arcTo wR="675" hR="1390" stAng="5400000" swAng="5400000"/>
                <a:lnTo>
                  <a:pt x="3490" y="16041"/>
                </a:lnTo>
                <a:lnTo>
                  <a:pt x="0" y="16041"/>
                </a:lnTo>
                <a:lnTo>
                  <a:pt x="2700" y="8021"/>
                </a:lnTo>
                <a:close/>
              </a:path>
              <a:path fill="none" w="21600" h="21600">
                <a:moveTo>
                  <a:pt x="6190" y="1390"/>
                </a:moveTo>
                <a:arcTo wR="675" hR="1390" stAng="0" swAng="5400000"/>
                <a:lnTo>
                  <a:pt x="4165" y="2780"/>
                </a:lnTo>
                <a:arcTo wR="675" hR="1390" stAng="16200000" swAng="-5400000"/>
                <a:arcTo wR="675" hR="1390" stAng="10800000" swAng="-5400000"/>
                <a:lnTo>
                  <a:pt x="6190" y="5559"/>
                </a:lnTo>
              </a:path>
              <a:path fill="none" w="21600" h="21600">
                <a:moveTo>
                  <a:pt x="15410" y="1390"/>
                </a:moveTo>
                <a:arcTo wR="675" hR="1390" stAng="10800000" swAng="-5400000"/>
                <a:lnTo>
                  <a:pt x="17435" y="2780"/>
                </a:lnTo>
                <a:arcTo wR="675" hR="1390" stAng="16200000" swAng="5400000"/>
                <a:arcTo wR="675" hR="1390" stAng="0" swAng="5400000"/>
                <a:lnTo>
                  <a:pt x="15410" y="5559"/>
                </a:lnTo>
              </a:path>
              <a:path fill="none" w="21600" h="21600">
                <a:moveTo>
                  <a:pt x="3490" y="4169"/>
                </a:moveTo>
                <a:lnTo>
                  <a:pt x="3490" y="16041"/>
                </a:lnTo>
              </a:path>
              <a:path fill="none" w="21600" h="21600">
                <a:moveTo>
                  <a:pt x="18110" y="4169"/>
                </a:moveTo>
                <a:lnTo>
                  <a:pt x="18110" y="16041"/>
                </a:lnTo>
              </a:path>
            </a:pathLst>
          </a:custGeom>
          <a:gradFill rotWithShape="0">
            <a:gsLst>
              <a:gs pos="0">
                <a:srgbClr val="ececec"/>
              </a:gs>
              <a:gs pos="50000">
                <a:srgbClr val="dddddd"/>
              </a:gs>
              <a:gs pos="100000">
                <a:srgbClr val="ececec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995640" y="692280"/>
            <a:ext cx="122400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411280" y="2205000"/>
            <a:ext cx="43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NaCl - поваренная сол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374880" y="6381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© Осиевская И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9280" y="6381720"/>
            <a:ext cx="8713800" cy="360360"/>
          </a:xfrm>
          <a:prstGeom prst="rect">
            <a:avLst/>
          </a:prstGeom>
          <a:solidFill>
            <a:srgbClr val="eaeaea">
              <a:alpha val="46000"/>
            </a:srgbClr>
          </a:solidFill>
          <a:ln w="9360">
            <a:solidFill>
              <a:srgbClr val="ece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loud"/>
          <p:cNvSpPr/>
          <p:nvPr/>
        </p:nvSpPr>
        <p:spPr>
          <a:xfrm>
            <a:off x="468360" y="4581360"/>
            <a:ext cx="2374920" cy="1175040"/>
          </a:xfrm>
          <a:prstGeom prst="pie">
            <a:avLst/>
          </a:prstGeom>
          <a:solidFill>
            <a:srgbClr val="7a00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5508720" y="69228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99"/>
                  </a:solidFill>
                  <a:miter/>
                </a:ln>
                <a:solidFill>
                  <a:srgbClr val="dddddd"/>
                </a:solidFill>
                <a:latin typeface="Arial"/>
              </a:rPr>
              <a:t>Na   CO</a:t>
            </a:r>
            <a:endParaRPr b="1" lang="en-US" sz="1800" spc="1" strike="noStrike">
              <a:ln w="19080">
                <a:solidFill>
                  <a:srgbClr val="003399"/>
                </a:solidFill>
                <a:miter/>
              </a:ln>
              <a:solidFill>
                <a:srgbClr val="dddddd"/>
              </a:solidFill>
              <a:latin typeface="Arial"/>
              <a:ea typeface="Arial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6156360" y="9810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6480">
                  <a:solidFill>
                    <a:srgbClr val="003399"/>
                  </a:solidFill>
                  <a:miter/>
                </a:ln>
                <a:solidFill>
                  <a:srgbClr val="dddddd"/>
                </a:solidFill>
                <a:latin typeface="Arial"/>
              </a:rPr>
              <a:t>2</a:t>
            </a:r>
            <a:endParaRPr b="1" lang="en-US" sz="2800" spc="1" strike="noStrike">
              <a:ln w="6480">
                <a:solidFill>
                  <a:srgbClr val="003399"/>
                </a:solidFill>
                <a:miter/>
              </a:ln>
              <a:solidFill>
                <a:srgbClr val="dddddd"/>
              </a:solidFill>
              <a:latin typeface="Arial"/>
              <a:ea typeface="Arial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7236000" y="907920"/>
            <a:ext cx="27288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3399"/>
                  </a:solidFill>
                  <a:miter/>
                </a:ln>
                <a:solidFill>
                  <a:srgbClr val="dddddd"/>
                </a:solidFill>
                <a:latin typeface="Arial"/>
              </a:rPr>
              <a:t>3</a:t>
            </a:r>
            <a:endParaRPr b="1" lang="en-US" sz="1800" spc="1" strike="noStrike">
              <a:ln w="3240">
                <a:solidFill>
                  <a:srgbClr val="003399"/>
                </a:solidFill>
                <a:miter/>
              </a:ln>
              <a:solidFill>
                <a:srgbClr val="dddddd"/>
              </a:solidFill>
              <a:latin typeface="Arial"/>
              <a:ea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755640" y="2492280"/>
            <a:ext cx="3527280" cy="1123920"/>
          </a:xfrm>
          <a:prstGeom prst="pie">
            <a:avLst/>
          </a:prstGeom>
          <a:solidFill>
            <a:srgbClr val="8e002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2"/>
          <p:cNvSpPr txBox="1"/>
          <p:nvPr/>
        </p:nvSpPr>
        <p:spPr>
          <a:xfrm>
            <a:off x="971640" y="4941720"/>
            <a:ext cx="122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aH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13"/>
          <p:cNvSpPr txBox="1"/>
          <p:nvPr/>
        </p:nvSpPr>
        <p:spPr>
          <a:xfrm>
            <a:off x="1619280" y="3068640"/>
            <a:ext cx="142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WordArt 14"/>
          <p:cNvSpPr txBox="1"/>
          <p:nvPr/>
        </p:nvSpPr>
        <p:spPr>
          <a:xfrm>
            <a:off x="2268360" y="3068640"/>
            <a:ext cx="142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2411280" y="2924280"/>
            <a:ext cx="144720" cy="144360"/>
          </a:xfrm>
          <a:prstGeom prst="ellipse">
            <a:avLst/>
          </a:prstGeom>
          <a:solidFill>
            <a:srgbClr val="ece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3276720" y="2997360"/>
            <a:ext cx="14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4572000" y="2708280"/>
            <a:ext cx="2494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исталлическая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д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19"/>
          <p:cNvSpPr txBox="1"/>
          <p:nvPr/>
        </p:nvSpPr>
        <p:spPr>
          <a:xfrm>
            <a:off x="1908000" y="692280"/>
            <a:ext cx="295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бонат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1258920" y="2781360"/>
            <a:ext cx="244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a  CO    10 H  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2195640" y="5157720"/>
            <a:ext cx="21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WordArt 22"/>
          <p:cNvSpPr txBox="1"/>
          <p:nvPr/>
        </p:nvSpPr>
        <p:spPr>
          <a:xfrm>
            <a:off x="3635280" y="4869000"/>
            <a:ext cx="302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дрокарбонат Na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ьевая сод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6230160" y="6381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© Осиевская И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250920" y="6381720"/>
            <a:ext cx="8713800" cy="360360"/>
          </a:xfrm>
          <a:prstGeom prst="rect">
            <a:avLst/>
          </a:prstGeom>
          <a:solidFill>
            <a:srgbClr val="eaeaea">
              <a:alpha val="46000"/>
            </a:srgbClr>
          </a:solidFill>
          <a:ln w="9360">
            <a:solidFill>
              <a:srgbClr val="ece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val 4"/>
          <p:cNvGrpSpPr/>
          <p:nvPr/>
        </p:nvGrpSpPr>
        <p:grpSpPr>
          <a:xfrm>
            <a:off x="1000080" y="4248000"/>
            <a:ext cx="3187800" cy="1390680"/>
            <a:chOff x="1000080" y="4248000"/>
            <a:chExt cx="3187800" cy="1390680"/>
          </a:xfrm>
        </p:grpSpPr>
        <p:pic>
          <p:nvPicPr>
            <p:cNvPr id="120" name="Oval 4" descr=""/>
            <p:cNvPicPr/>
            <p:nvPr/>
          </p:nvPicPr>
          <p:blipFill>
            <a:blip r:embed="rId1"/>
            <a:stretch/>
          </p:blipFill>
          <p:spPr>
            <a:xfrm>
              <a:off x="1000080" y="4248000"/>
              <a:ext cx="31878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96880" y="4483080"/>
              <a:ext cx="2187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WordArt 5"/>
          <p:cNvSpPr txBox="1"/>
          <p:nvPr/>
        </p:nvSpPr>
        <p:spPr>
          <a:xfrm>
            <a:off x="1692360" y="4581360"/>
            <a:ext cx="1368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 С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1979640" y="4869000"/>
            <a:ext cx="2001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132000" y="4869000"/>
            <a:ext cx="2001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8"/>
          <p:cNvSpPr txBox="1"/>
          <p:nvPr/>
        </p:nvSpPr>
        <p:spPr>
          <a:xfrm>
            <a:off x="4716360" y="4869000"/>
            <a:ext cx="165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таш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6" name="Rectangle 9"/>
          <p:cNvGrpSpPr/>
          <p:nvPr/>
        </p:nvGrpSpPr>
        <p:grpSpPr>
          <a:xfrm>
            <a:off x="785880" y="2163600"/>
            <a:ext cx="4120920" cy="1170000"/>
            <a:chOff x="785880" y="2163600"/>
            <a:chExt cx="4120920" cy="1170000"/>
          </a:xfrm>
        </p:grpSpPr>
        <p:pic>
          <p:nvPicPr>
            <p:cNvPr id="127" name="Rectangle 9" descr=""/>
            <p:cNvPicPr/>
            <p:nvPr/>
          </p:nvPicPr>
          <p:blipFill>
            <a:blip r:embed="rId2"/>
            <a:stretch/>
          </p:blipFill>
          <p:spPr>
            <a:xfrm>
              <a:off x="785880" y="2163600"/>
              <a:ext cx="412092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26920" y="2205000"/>
              <a:ext cx="40341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WordArt 10"/>
          <p:cNvSpPr txBox="1"/>
          <p:nvPr/>
        </p:nvSpPr>
        <p:spPr>
          <a:xfrm>
            <a:off x="971640" y="2421000"/>
            <a:ext cx="36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a   SO    10 H  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WordArt 11"/>
          <p:cNvSpPr txBox="1"/>
          <p:nvPr/>
        </p:nvSpPr>
        <p:spPr>
          <a:xfrm>
            <a:off x="5292720" y="2276640"/>
            <a:ext cx="2705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уберов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ь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1619280" y="2708280"/>
            <a:ext cx="2001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WordArt 13"/>
          <p:cNvSpPr txBox="1"/>
          <p:nvPr/>
        </p:nvSpPr>
        <p:spPr>
          <a:xfrm>
            <a:off x="2627280" y="270828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4067280" y="2708280"/>
            <a:ext cx="199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2916360" y="2637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69608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Times New Roman"/>
              </a:rPr>
              <a:t>Соединения щелочных металл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6087240" y="6381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© Осиевская И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179280" y="6381720"/>
            <a:ext cx="8713800" cy="360360"/>
          </a:xfrm>
          <a:prstGeom prst="rect">
            <a:avLst/>
          </a:prstGeom>
          <a:solidFill>
            <a:srgbClr val="eaeaea">
              <a:alpha val="46000"/>
            </a:srgbClr>
          </a:solidFill>
          <a:ln w="9360">
            <a:solidFill>
              <a:srgbClr val="ece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3" name="chimes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11:21Z</dcterms:created>
  <dc:creator>User</dc:creator>
  <dc:description/>
  <dc:language>en-US</dc:language>
  <cp:lastModifiedBy>Admin</cp:lastModifiedBy>
  <dcterms:modified xsi:type="dcterms:W3CDTF">2011-01-23T09:56:41Z</dcterms:modified>
  <cp:revision>18</cp:revision>
  <dc:subject/>
  <dc:title>Важнейшие соединения щелочных металлов, их свойства и применение. </dc:title>
</cp:coreProperties>
</file>