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3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881C-5785-4684-B8F9-A3F1438685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AFB6-04C5-4E8E-920C-AAE12FA54C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66DB-E3CD-44A2-BA5A-5C54EFCBEE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92B3-A409-479D-92C9-0883C8AB72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A156-6ABA-4836-8F30-D4D15AA268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05B3-8E83-4A43-BCA3-FCB496EAA0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EB06-3AB7-4A30-B14A-BDC35FE6AF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5141-73C8-41BC-8041-2F4712B00B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CD58-6310-424E-9745-49A0E0FE95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BDED-4BAB-4698-A4AA-90D462A85C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AFD2-5407-4C00-B3D6-C3A499D252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5FA4-58AF-4F21-849E-7D83BBEA6F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4E63-131F-416D-843B-E39B2FC496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7AA8-3990-4459-B8DA-176CED400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1EFA-F3A7-44D1-9070-A9795FA7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C596-F88B-4F6C-80A7-B35EC01C2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7D21-5A6D-47E6-ABB1-9B856F08C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E6B61-5161-4F8E-A57C-DF6AD6AEA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DAC30-6C2E-46EA-B3B4-C57DBFBC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658D8-364F-4D8A-90DC-071427C4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735AD9-98A6-48DC-AFC9-40B5D256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AD580-30FE-4301-85B0-F180533F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E017E-0DA9-4ADE-A0B7-FFC0D018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4896E-38F0-4143-90A1-8869CEC5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883E-32C5-4B06-BCA9-23F130E7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9750B-BC8D-498E-984B-AA3AB484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FEBDC-4F4F-4C11-8B47-1A1E789F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4B98E-A385-47F8-8B6C-8896B9C1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7FA58-5CFF-4082-866D-CA4538074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6D96B-2D78-4FCE-8DE8-59EDDAF4C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7FE338-7F0F-49DB-B332-2A3773673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8A6218-A14E-4A13-AE35-0230CA29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E89132-E980-4BE3-BDA3-4521939D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8AFA3C-70F9-4709-B175-9C491FCF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BFFAD2-5E2E-484F-99E0-1ED0D066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E4EB-9050-4B51-ADA0-85CAF495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7996EA-48D2-4F68-9348-CEBDA9A1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07EF31-260F-428F-8D3B-24C192C9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9320FE-1AA8-4E84-A913-44EFD1BE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B22187-D6F0-4F85-859F-D110F4C2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4C4AB1-F412-41EF-A737-3B16C345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6204F8-0F7E-4F79-89BF-33BC93BE0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A51DB0-C80D-4ABD-8930-C31893C27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20D77F-78C8-481C-8CD4-8A31CFE7F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0D6F4D-E5E3-4D33-B423-2615BEDC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D32719-1D5F-4D24-AAF9-C767EF44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B76B-5D59-4AC3-AD69-559F2596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3A1CE2-C8D8-4303-8863-FF31B2E2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B592EC-861C-4A17-901D-0BB333D9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EC965F-F3FB-451D-97C3-BBC82DE4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B0C236-FBC9-4F23-951E-A3A6A0C8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C743CE-1966-4DA0-99D2-061DF0DE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009FFA-FAB2-484D-8C2C-C99EB67B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50FE7D-FB89-4502-B480-058804E1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7E955A-BF74-460E-A3AE-E9549C489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228A75-0E2F-4CA2-90F8-11E7CA180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DD54-733D-498D-A62E-D1DDFAC6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F1EC-2667-45C3-B5B2-155AEA8B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7FF3-BA4E-4C2A-8E33-2CBF2023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051C-9F76-4E0D-B057-9D3076C6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D3C3-A754-42BD-B15E-9DDE47FC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60DD-1378-478B-B1BC-F562906260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9A13-5425-4F35-8969-E66E34F051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17D4-6788-4AF7-A36F-C6767EB220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AE21-D5A7-4B54-817A-8A4BEDE257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appleadayfinancial.ca/apple%20in%20grass.jpg" TargetMode="External"/><Relationship Id="rId2" Type="http://schemas.openxmlformats.org/officeDocument/2006/relationships/hyperlink" Target="http://upload.wikimedia.org/wikipedia/commons/4/4e/Single_apple.png" TargetMode="External"/><Relationship Id="rId3" Type="http://schemas.openxmlformats.org/officeDocument/2006/relationships/hyperlink" Target="http://upload.wikimedia.org/wikipedia/commons/thumb/4/42/Covent_Garden_Interior_May_2006_crop.jpg/773px-Covent_Garden_Interior_May_2006_crop.jpg" TargetMode="External"/><Relationship Id="rId4" Type="http://schemas.openxmlformats.org/officeDocument/2006/relationships/hyperlink" Target="http://commons.wikimedia.org/wiki/File:2010-06-19-supermarkt-by-RalfR-12.jpg" TargetMode="External"/><Relationship Id="rId5" Type="http://schemas.openxmlformats.org/officeDocument/2006/relationships/hyperlink" Target="http://www.scarthinbooks.com/images/AppleDay08%20Rick4_600.jpg" TargetMode="External"/><Relationship Id="rId6" Type="http://schemas.openxmlformats.org/officeDocument/2006/relationships/hyperlink" Target="http://www.greenwoodcentre.org.uk/apple%20day.jpg" TargetMode="External"/><Relationship Id="rId7" Type="http://schemas.openxmlformats.org/officeDocument/2006/relationships/hyperlink" Target="http://images.sciencedaily.com/2011/04/110412131923-large.jpg" TargetMode="External"/><Relationship Id="rId8" Type="http://schemas.openxmlformats.org/officeDocument/2006/relationships/hyperlink" Target="http://www.thisisnorthumberland.com/wp-content/uploads/2011/10/apple.jpg" TargetMode="External"/><Relationship Id="rId9" Type="http://schemas.openxmlformats.org/officeDocument/2006/relationships/hyperlink" Target="http://upload.wikimedia.org/wikipedia/commons/0/04/Appletree_2.jpg" TargetMode="External"/><Relationship Id="rId10" Type="http://schemas.openxmlformats.org/officeDocument/2006/relationships/hyperlink" Target="http://humanflowerproject.com/images/uploads/Apple-Day-lookers320.jpg" TargetMode="External"/><Relationship Id="rId11" Type="http://schemas.openxmlformats.org/officeDocument/2006/relationships/hyperlink" Target="http://www.shenleypark.co.uk/Material%20for%20web%20site/Page%20B-Orchard%20and%20Meadow/B4b%20apple%20day%202007.jpg" TargetMode="External"/><Relationship Id="rId12" Type="http://schemas.openxmlformats.org/officeDocument/2006/relationships/hyperlink" Target="http://humanflowerproject.com/images/uploads/Apple-Day-choppers320.jpg" TargetMode="External"/><Relationship Id="rId13" Type="http://schemas.openxmlformats.org/officeDocument/2006/relationships/hyperlink" Target="http://commons.wikimedia.org/wiki/File:Marker-Miller_Orchards_A.jpg" TargetMode="External"/><Relationship Id="rId14" Type="http://schemas.openxmlformats.org/officeDocument/2006/relationships/hyperlink" Target="http://en.wikipedia.org/wiki/Apple_Day" TargetMode="External"/><Relationship Id="rId15" Type="http://schemas.openxmlformats.org/officeDocument/2006/relationships/hyperlink" Target="http://www.calend.ru/holidays/0/0/2655/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e/Malus_Altl&#228;nder_Pfannkuchen_4611.jpg" TargetMode="External"/><Relationship Id="rId2" Type="http://schemas.openxmlformats.org/officeDocument/2006/relationships/hyperlink" Target="http://upload.wikimedia.org/wikipedia/commons/6/6a/Malus_Allington_Pepping_4599.jpg" TargetMode="External"/><Relationship Id="rId3" Type="http://schemas.openxmlformats.org/officeDocument/2006/relationships/hyperlink" Target="http://upload.wikimedia.org/wikipedia/commons/b/b5/Malus_Friedberger_Bohnapfel_4259" TargetMode="External"/><Relationship Id="rId4" Type="http://schemas.openxmlformats.org/officeDocument/2006/relationships/hyperlink" Target="http://commons.wikimedia.org/wiki/File:Malus_Himbacher_Gr&#252;ner_4269.jpg.jpg" TargetMode="External"/><Relationship Id="rId5" Type="http://schemas.openxmlformats.org/officeDocument/2006/relationships/hyperlink" Target="http://upload.wikimedia.org/wikipedia/commons/e/e8/Malus_Mensfelder_Glanzrenette_4277.jpg" TargetMode="External"/><Relationship Id="rId6" Type="http://schemas.openxmlformats.org/officeDocument/2006/relationships/hyperlink" Target="http://upload.wikimedia.org/wikipedia/commons/d/d0/Malus_Glockenapfel_4455.jpg" TargetMode="External"/><Relationship Id="rId7" Type="http://schemas.openxmlformats.org/officeDocument/2006/relationships/hyperlink" Target="http://upload.wikimedia.org/wikipedia/commons/7/7b/Melo_Nano.JPG" TargetMode="External"/><Relationship Id="rId8" Type="http://schemas.openxmlformats.org/officeDocument/2006/relationships/hyperlink" Target="http://www.sadograd.ru/150908/150908-01.jpg" TargetMode="External"/><Relationship Id="rId9" Type="http://schemas.openxmlformats.org/officeDocument/2006/relationships/hyperlink" Target="http://upload.wikimedia.org/wikipedia/commons/2/23/Apple_juice_with_3apples.jpg" TargetMode="External"/><Relationship Id="rId10" Type="http://schemas.openxmlformats.org/officeDocument/2006/relationships/hyperlink" Target="http://upload.wikimedia.org/wikipedia/commons/d/df/Pommes_damour_dsc07027.jpg" TargetMode="External"/><Relationship Id="rId11" Type="http://schemas.openxmlformats.org/officeDocument/2006/relationships/hyperlink" Target="http://upload.wikimedia.org/wikipedia/commons/a/a6/Tufahiija_in_Mori&#263;a_Han_2.JPG" TargetMode="External"/><Relationship Id="rId12" Type="http://schemas.openxmlformats.org/officeDocument/2006/relationships/hyperlink" Target="http://rochakmasla.com/yahoo_site_admin/assets/images/chutney.68135609_std.jpeg" TargetMode="External"/><Relationship Id="rId13" Type="http://schemas.openxmlformats.org/officeDocument/2006/relationships/hyperlink" Target="http://static.tastykitchen.com/recipes/files/2009/10/caramel-apple-drink-2-450.jpg" TargetMode="External"/><Relationship Id="rId14" Type="http://schemas.openxmlformats.org/officeDocument/2006/relationships/hyperlink" Target="http://food.sulekha.com/dishimages/1245.jpg" TargetMode="External"/><Relationship Id="rId15" Type="http://schemas.openxmlformats.org/officeDocument/2006/relationships/hyperlink" Target="http://www.eczema.org/apple_day_pics.jpg" TargetMode="External"/><Relationship Id="rId16" Type="http://schemas.openxmlformats.org/officeDocument/2006/relationships/hyperlink" Target="http://upload.wikimedia.org/wikipedia/commons/e/ee/Apples.jpg" TargetMode="External"/><Relationship Id="rId17" Type="http://schemas.openxmlformats.org/officeDocument/2006/relationships/hyperlink" Target="http://www.fruitfullschools.org/inspiration/gallery.php?pageNum_RSGallery=13&amp;totalRows_RSGallery=433&amp;pictype=SCH" TargetMode="External"/><Relationship Id="rId18" Type="http://schemas.openxmlformats.org/officeDocument/2006/relationships/hyperlink" Target="http://www.somerset.gov.uk/irj/go/km/docs/CouncilImages/SCC/Images/Environment/Countryside%20and%20Coast/Apple%20Day%202011.jpg" TargetMode="External"/><Relationship Id="rId19" Type="http://schemas.openxmlformats.org/officeDocument/2006/relationships/hyperlink" Target="http://www.comfortclub.ru/_nw/2/94373088.jpg" TargetMode="External"/><Relationship Id="rId20" Type="http://schemas.openxmlformats.org/officeDocument/2006/relationships/hyperlink" Target="http://archery-il.livejournal.com/1546.html" TargetMode="External"/><Relationship Id="rId2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e/Malus_Altl&#228;nder_Pfannkuchen_4611.jpg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228240" y="4952520"/>
            <a:ext cx="3505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всянникова И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., учитель английского языка, г. Северск МОУ «СОШ №83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12"/>
          <p:cNvSpPr txBox="1"/>
          <p:nvPr/>
        </p:nvSpPr>
        <p:spPr>
          <a:xfrm>
            <a:off x="609480" y="380880"/>
            <a:ext cx="6581880" cy="16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cap="sq" w="19080">
                  <a:solidFill>
                    <a:srgbClr val="00206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Apple Day</a:t>
            </a:r>
            <a:endParaRPr b="1" lang="en-US" sz="8000" spc="1" strike="noStrike">
              <a:ln cap="sq" w="19080">
                <a:solidFill>
                  <a:srgbClr val="00206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"/>
          <p:cNvSpPr/>
          <p:nvPr/>
        </p:nvSpPr>
        <p:spPr>
          <a:xfrm>
            <a:off x="380880" y="7632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Besides you can buy sprouts and take good advice how to plant and grow them in your own ga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C:\Documents and Settings\User\Рабочий стол\в интергу\Apple Day\150908-01[1].jpg"/>
          <p:cNvPicPr/>
          <p:nvPr/>
        </p:nvPicPr>
        <p:blipFill>
          <a:blip r:embed="rId1"/>
          <a:stretch/>
        </p:blipFill>
        <p:spPr>
          <a:xfrm>
            <a:off x="419040" y="1676520"/>
            <a:ext cx="3238560" cy="431964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200" name="Picture 5" descr="http://upload.wikimedia.org/wikipedia/commons/7/7b/Melo_Nano.JPG"/>
          <p:cNvPicPr/>
          <p:nvPr/>
        </p:nvPicPr>
        <p:blipFill>
          <a:blip r:embed="rId2"/>
          <a:stretch/>
        </p:blipFill>
        <p:spPr>
          <a:xfrm>
            <a:off x="3886200" y="2895480"/>
            <a:ext cx="4802040" cy="360072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circl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c00000"/>
                </a:solidFill>
                <a:latin typeface="Comic Sans MS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C:\Users\User\Desktop\Apple Day\Apple_juice_with_3apples[1].jpg"/>
          <p:cNvPicPr/>
          <p:nvPr/>
        </p:nvPicPr>
        <p:blipFill>
          <a:blip r:embed="rId1"/>
          <a:stretch/>
        </p:blipFill>
        <p:spPr>
          <a:xfrm>
            <a:off x="228600" y="1366920"/>
            <a:ext cx="3079800" cy="251928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203" name="Picture 7" descr="C:\Users\User\Desktop\Apple Day\Pommes_damour_dsc07027[1].jpg"/>
          <p:cNvPicPr/>
          <p:nvPr/>
        </p:nvPicPr>
        <p:blipFill>
          <a:blip r:embed="rId2"/>
          <a:stretch/>
        </p:blipFill>
        <p:spPr>
          <a:xfrm>
            <a:off x="3041640" y="4114800"/>
            <a:ext cx="3359160" cy="251928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204" name="Picture 8" descr="C:\Users\User\Desktop\Apple Day\Tufahiija_in_Morića_Han_2[1].jpg"/>
          <p:cNvPicPr/>
          <p:nvPr/>
        </p:nvPicPr>
        <p:blipFill>
          <a:blip r:embed="rId3"/>
          <a:stretch/>
        </p:blipFill>
        <p:spPr>
          <a:xfrm>
            <a:off x="6629400" y="4114800"/>
            <a:ext cx="2289240" cy="251928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205" name="Picture 6" descr="C:\Documents and Settings\User\Рабочий стол\в интергу\Apple Day\chutney.68135609_std[1].jpg"/>
          <p:cNvPicPr/>
          <p:nvPr/>
        </p:nvPicPr>
        <p:blipFill>
          <a:blip r:embed="rId4"/>
          <a:stretch/>
        </p:blipFill>
        <p:spPr>
          <a:xfrm>
            <a:off x="228600" y="4114800"/>
            <a:ext cx="2617920" cy="251928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206" name="Picture 7" descr="C:\Documents and Settings\User\Рабочий стол\в интергу\Apple Day\caramel-apple-drink-2-450[1].jpg"/>
          <p:cNvPicPr/>
          <p:nvPr/>
        </p:nvPicPr>
        <p:blipFill>
          <a:blip r:embed="rId5"/>
          <a:stretch/>
        </p:blipFill>
        <p:spPr>
          <a:xfrm>
            <a:off x="3505320" y="1366920"/>
            <a:ext cx="2519280" cy="251928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207" name="Picture 8" descr="C:\Documents and Settings\User\Рабочий стол\в интергу\Apple Day\1245[1].jpg"/>
          <p:cNvPicPr/>
          <p:nvPr/>
        </p:nvPicPr>
        <p:blipFill>
          <a:blip r:embed="rId6"/>
          <a:stretch/>
        </p:blipFill>
        <p:spPr>
          <a:xfrm>
            <a:off x="6248520" y="1371600"/>
            <a:ext cx="2714400" cy="251928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sp>
        <p:nvSpPr>
          <p:cNvPr id="208" name="Rectangle 3"/>
          <p:cNvSpPr/>
          <p:nvPr/>
        </p:nvSpPr>
        <p:spPr>
          <a:xfrm>
            <a:off x="152280" y="228600"/>
            <a:ext cx="8763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You can taste delicious dishes and drinks with apples and take reci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Various activities, games and competitions are popular on this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C:\Documents and Settings\User\Рабочий стол\в интергу\Apple Day\apple_day_pics[1].jpg"/>
          <p:cNvPicPr/>
          <p:nvPr/>
        </p:nvPicPr>
        <p:blipFill>
          <a:blip r:embed="rId1"/>
          <a:stretch/>
        </p:blipFill>
        <p:spPr>
          <a:xfrm>
            <a:off x="5334120" y="1589040"/>
            <a:ext cx="3336840" cy="504036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211" name="Picture 10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4535280" cy="384192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circl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3" descr="C:\Documents and Settings\User\Рабочий стол\в интергу\Apple Day\Apple%20Day%202011[1].jpg"/>
          <p:cNvPicPr/>
          <p:nvPr/>
        </p:nvPicPr>
        <p:blipFill>
          <a:blip r:embed="rId1"/>
          <a:stretch/>
        </p:blipFill>
        <p:spPr>
          <a:xfrm>
            <a:off x="4267080" y="3181320"/>
            <a:ext cx="4800600" cy="360036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C:\Documents and Settings\User\Рабочий стол\в интергу\Apple Day\1294138541elemore-apple-day-2010-027[1].jpg"/>
          <p:cNvPicPr/>
          <p:nvPr/>
        </p:nvPicPr>
        <p:blipFill>
          <a:blip r:embed="rId2"/>
          <a:stretch/>
        </p:blipFill>
        <p:spPr>
          <a:xfrm>
            <a:off x="152280" y="152280"/>
            <a:ext cx="4496040" cy="337212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3" descr="C:\Documents and Settings\User\Рабочий стол\в интергу\Apple Day\94373088[1].jpg"/>
          <p:cNvPicPr/>
          <p:nvPr/>
        </p:nvPicPr>
        <p:blipFill>
          <a:blip r:embed="rId1"/>
          <a:stretch/>
        </p:blipFill>
        <p:spPr>
          <a:xfrm>
            <a:off x="152280" y="228600"/>
            <a:ext cx="4762800" cy="317196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216" name="Picture 5" descr="C:\Documents and Settings\User\Рабочий стол\в интергу\Apple Day\IMG_7277[1].JPG"/>
          <p:cNvPicPr/>
          <p:nvPr/>
        </p:nvPicPr>
        <p:blipFill>
          <a:blip r:embed="rId2"/>
          <a:stretch/>
        </p:blipFill>
        <p:spPr>
          <a:xfrm>
            <a:off x="3787920" y="2822400"/>
            <a:ext cx="5279760" cy="395928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280" y="79200"/>
            <a:ext cx="8763120" cy="17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The Longest Peel Competition is the most popular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Guinness World Record is held by Kathy Walfer  who peeled an apple in 11 hours 30 minutes with a peel length of 52.51m on 16 October 1976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152280" y="4191120"/>
            <a:ext cx="3962520" cy="259056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219" name="Picture 5" descr="C:\Users\User\Desktop\Apple Day\Apple_peal[1].jpg"/>
          <p:cNvPicPr/>
          <p:nvPr/>
        </p:nvPicPr>
        <p:blipFill>
          <a:blip r:embed="rId2"/>
          <a:stretch/>
        </p:blipFill>
        <p:spPr>
          <a:xfrm>
            <a:off x="219240" y="1676520"/>
            <a:ext cx="3666960" cy="243828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220" name="Picture 6" descr="C:\Documents and Settings\User\Рабочий стол\в интергу\Apple Day\apple-strings[1].jpg"/>
          <p:cNvPicPr/>
          <p:nvPr/>
        </p:nvPicPr>
        <p:blipFill>
          <a:blip r:embed="rId3"/>
          <a:stretch/>
        </p:blipFill>
        <p:spPr>
          <a:xfrm>
            <a:off x="4267080" y="1752480"/>
            <a:ext cx="4754520" cy="356400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circl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n old tradition is the English farmers choose the oldest apple-tree sing ballads and dance round the tree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5" descr="C:\Documents and Settings\User\Рабочий стол\в интергу\Apple Day\gaapple[1].jpg"/>
          <p:cNvPicPr/>
          <p:nvPr/>
        </p:nvPicPr>
        <p:blipFill>
          <a:blip r:embed="rId1"/>
          <a:stretch/>
        </p:blipFill>
        <p:spPr>
          <a:xfrm>
            <a:off x="76320" y="1371600"/>
            <a:ext cx="4802040" cy="360036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224" name="Picture 6" descr="C:\Documents and Settings\User\Рабочий стол\в интергу\Apple Day\DSC_0223[1].JPG"/>
          <p:cNvPicPr/>
          <p:nvPr/>
        </p:nvPicPr>
        <p:blipFill>
          <a:blip r:embed="rId2"/>
          <a:stretch/>
        </p:blipFill>
        <p:spPr>
          <a:xfrm>
            <a:off x="4227480" y="3541680"/>
            <a:ext cx="4840200" cy="324000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circl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mic Sans MS"/>
              </a:rPr>
              <a:t>Apple Day is a funny, kind and generous holi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3124080" y="2746440"/>
            <a:ext cx="5932440" cy="395928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227" name="Picture 7" descr=""/>
          <p:cNvPicPr/>
          <p:nvPr/>
        </p:nvPicPr>
        <p:blipFill>
          <a:blip r:embed="rId2"/>
          <a:stretch/>
        </p:blipFill>
        <p:spPr>
          <a:xfrm>
            <a:off x="152280" y="1547640"/>
            <a:ext cx="2876760" cy="431964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circl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12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Thank you for your attent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"/>
          <p:cNvPicPr/>
          <p:nvPr/>
        </p:nvPicPr>
        <p:blipFill>
          <a:blip r:embed="rId1"/>
          <a:srcRect l="12919" t="21759" r="0" b="8362"/>
          <a:stretch/>
        </p:blipFill>
        <p:spPr>
          <a:xfrm>
            <a:off x="2049480" y="1305000"/>
            <a:ext cx="5045040" cy="540072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circl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768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768" fill="hold"/>
                                        <p:tgtEl>
                                          <p:spTgt spid="2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" dur="768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" dur="768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998"/>
                            </p:stCondLst>
                            <p:childTnLst>
                              <p:par>
                                <p:cTn id="1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ag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www.appleadayfinancial.ca/apple%20in%20gras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upload.wikimedia.org/wikipedia/commons/4/4e/Single_apple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upload.wikimedia.org/wikipedia/commons/thumb/4/42/Covent_Garden_Interior_May_2006_crop.jpg/773px-Covent_Garden_Interior_May_2006_crop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commons.wikimedia.org/wiki/File:2010-06-19-supermarkt-by-RalfR-12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www.scarthinbooks.com/images/AppleDay08%20Rick4_600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www.greenwoodcentre.org.uk/apple%20day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http://images.sciencedaily.com/2011/04/110412131923-large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http://www.thisisnorthumberland.com/wp-content/uploads/2011/10/apple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http://upload.wikimedia.org/wikipedia/commons/0/04/Appletree_2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http://humanflowerproject.com/images/uploads/Apple-Day-lookers320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/>
              </a:rPr>
              <a:t>http://www.shenleypark.co.uk/Material%20for%20web%20site/Page%20B-Orchard%20and%20Meadow/B4b%20apple%20day%202007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2"/>
              </a:rPr>
              <a:t>http://humanflowerproject.com/images/uploads/Apple-Day-choppers320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3"/>
              </a:rPr>
              <a:t>http://commons.wikimedia.org/wiki/File:Marker-Miller_Orchards_A.jpg</a:t>
            </a:r>
            <a:br>
              <a:rPr sz="1600"/>
            </a:b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Заголовок 1"/>
          <p:cNvSpPr/>
          <p:nvPr/>
        </p:nvSpPr>
        <p:spPr>
          <a:xfrm>
            <a:off x="380880" y="1522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одержимое 2"/>
          <p:cNvSpPr/>
          <p:nvPr/>
        </p:nvSpPr>
        <p:spPr>
          <a:xfrm>
            <a:off x="304920" y="7621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4"/>
              </a:rPr>
              <a:t>http://en.wikipedia.org/wiki/Apple_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5"/>
              </a:rPr>
              <a:t>http://www.calend.ru/holidays/0/0/2655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638360" y="1599840"/>
            <a:ext cx="58672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I am red and rou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I grow on the tree</a:t>
            </a: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All children and adults</a:t>
            </a: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Adore eating me</a:t>
            </a: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.</a:t>
            </a:r>
            <a:r>
              <a:rPr b="0" lang="en-US" sz="40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C:\Users\User\Desktop\Apple Day\Single_apple[1].png"/>
          <p:cNvPicPr/>
          <p:nvPr/>
        </p:nvPicPr>
        <p:blipFill>
          <a:blip r:embed="rId1"/>
          <a:stretch/>
        </p:blipFill>
        <p:spPr>
          <a:xfrm>
            <a:off x="2590920" y="609480"/>
            <a:ext cx="3670200" cy="43182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Содержимое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одержимое 2"/>
          <p:cNvSpPr/>
          <p:nvPr/>
        </p:nvSpPr>
        <p:spPr>
          <a:xfrm>
            <a:off x="304920" y="152280"/>
            <a:ext cx="853416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upload.wikimedia.org/wikipedia/commons/d/de/Malus_Altl%C3%A4nder_Pfannkuchen_461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upload.wikimedia.org/wikipedia/commons/6/6a/Malus_Allington_Pepping_4599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upload.wikimedia.org/wikipedia/commons/b/b5/Malus_Friedberger_Bohnapfel_425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commons.wikimedia.org/wiki/File:Malus_Himbacher_Gr%C3%BCner_4269.jpg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upload.wikimedia.org/wikipedia/commons/e/e8/Malus_Mensfelder_Glanzrenette_4277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upload.wikimedia.org/wikipedia/commons/d/d0/Malus_Glockenapfel_4455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http://upload.wikimedia.org/wikipedia/commons/7/7b/Melo_Nano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http://www.sadograd.ru/150908/150908-0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http://upload.wikimedia.org/wikipedia/commons/2/23/Apple_juice_with_3apple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http://upload.wikimedia.org/wikipedia/commons/d/df/Pommes_damour_dsc07027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/>
              </a:rPr>
              <a:t>http://upload.wikimedia.org/wikipedia/commons/a/a6/Tufahiija_in_Mori%C4%87a_Han_2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2"/>
              </a:rPr>
              <a:t>http://rochakmasla.com/yahoo_site_admin/assets/images/chutney.68135609_std.jpe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3"/>
              </a:rPr>
              <a:t>http://static.tastykitchen.com/recipes/files/2009/10/caramel-apple-drink-2-450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4"/>
              </a:rPr>
              <a:t>http://food.sulekha.com/dishimages/1245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5"/>
              </a:rPr>
              <a:t>http://www.eczema.org/apple_day_pic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6"/>
              </a:rPr>
              <a:t>http://upload.wikimedia.org/wikipedia/commons/e/ee/Apples.jp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7"/>
              </a:rPr>
              <a:t>http://www.fruitfullschools.org/inspiration/gallery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8"/>
              </a:rPr>
              <a:t>http://www.somerset.gov.uk/irj/go/km/docs/CouncilImages/SCC/Images/Environment/Countryside%20and%20Coast/Apple%20Day%20201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9"/>
              </a:rPr>
              <a:t>http://www.comfortclub.ru/_nw/2/94373088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0"/>
              </a:rPr>
              <a:t>http://archery-il.livejournal.com/1546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Содержимое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одержимое 2"/>
          <p:cNvSpPr/>
          <p:nvPr/>
        </p:nvSpPr>
        <p:spPr>
          <a:xfrm>
            <a:off x="304920" y="152280"/>
            <a:ext cx="853416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upload.wikimedia.org/wikipedia/commons/d/de/Malus_Altl%C3%A4nder_Pfannkuchen_461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ttp://upload.wikimedia.org/wikipedia/commons/b/bc/Apple_peal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ttp://www.treehugger.com/natural-sciences/apple-day-at-roots-and-shoot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ttp://www.sonnyspot.com/gallery/images/gaapple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ttp://4.bp.blogspot.com/_hGCraidx3ws/TTNHR3CXUCI/AAAAAAAAACc/VnLovTomW1Q/s1600/DSC_0223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upload.wikimedia.org/wikipedia/commons/8/8d/Red_Apple_edit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upload.wikimedia.org/wikipedia/commons/5/53/Apple_in_lightbox.png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"/>
          <p:cNvSpPr/>
          <p:nvPr/>
        </p:nvSpPr>
        <p:spPr>
          <a:xfrm>
            <a:off x="304920" y="304920"/>
            <a:ext cx="82296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Apple Day is an annual celebration, of apples and orchards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. 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It’s held on October 21 each ye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C:\Users\User\Desktop\Apple Day\800px-2010-06-19-supermarkt-by-RalfR-12[1].jpg"/>
          <p:cNvPicPr/>
          <p:nvPr/>
        </p:nvPicPr>
        <p:blipFill>
          <a:blip r:embed="rId1"/>
          <a:stretch/>
        </p:blipFill>
        <p:spPr>
          <a:xfrm>
            <a:off x="76320" y="2057400"/>
            <a:ext cx="4062240" cy="270036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177" name="Picture 2" descr="C:\Users\User\Desktop\Apple Day\800px-Marker-Miller_Orchards_A[1].jpg"/>
          <p:cNvPicPr/>
          <p:nvPr/>
        </p:nvPicPr>
        <p:blipFill>
          <a:blip r:embed="rId2"/>
          <a:stretch/>
        </p:blipFill>
        <p:spPr>
          <a:xfrm>
            <a:off x="4267080" y="3048120"/>
            <a:ext cx="4800600" cy="360036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circl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533520" y="464832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pple Day was initiated by Common Ground in 1990 and has been celebrated in each subsequent year by people organizing hundreds of local ev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C:\Documents and Settings\User\Рабочий стол\в интергу\Apple Day\AppleDay08%20Rick4_600[1].jpg"/>
          <p:cNvPicPr/>
          <p:nvPr/>
        </p:nvPicPr>
        <p:blipFill>
          <a:blip r:embed="rId1"/>
          <a:stretch/>
        </p:blipFill>
        <p:spPr>
          <a:xfrm>
            <a:off x="3962520" y="609480"/>
            <a:ext cx="4800600" cy="360072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180" name="Picture 4" descr="C:\Documents and Settings\User\Рабочий стол\в интергу\Apple Day\apple%20day[1].jpg"/>
          <p:cNvPicPr/>
          <p:nvPr/>
        </p:nvPicPr>
        <p:blipFill>
          <a:blip r:embed="rId2"/>
          <a:stretch/>
        </p:blipFill>
        <p:spPr>
          <a:xfrm>
            <a:off x="439560" y="762120"/>
            <a:ext cx="3218040" cy="324000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circl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952560" y="22824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Comic Sans MS"/>
              </a:rPr>
              <a:t>Apple is a symbol of physical, cultural and genetic variety</a:t>
            </a: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.</a:t>
            </a:r>
            <a:r>
              <a:rPr b="1" lang="en-US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C:\Documents and Settings\User\Рабочий стол\в интергу\Apple Day\apple[1].jpg"/>
          <p:cNvPicPr/>
          <p:nvPr/>
        </p:nvPicPr>
        <p:blipFill>
          <a:blip r:embed="rId1"/>
          <a:stretch/>
        </p:blipFill>
        <p:spPr>
          <a:xfrm>
            <a:off x="4800600" y="609480"/>
            <a:ext cx="3987720" cy="568980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sp>
        <p:nvSpPr>
          <p:cNvPr id="183" name="Rectangle 3"/>
          <p:cNvSpPr/>
          <p:nvPr/>
        </p:nvSpPr>
        <p:spPr>
          <a:xfrm>
            <a:off x="152280" y="380880"/>
            <a:ext cx="44960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This day is a way of celebrating and demonstrating that variety and richness matter to a locality and that it is possible to effect change in your pl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C:\Users\User\Desktop\Apple Day\Appletree_2[1].jpg"/>
          <p:cNvPicPr/>
          <p:nvPr/>
        </p:nvPicPr>
        <p:blipFill>
          <a:blip r:embed="rId2"/>
          <a:stretch/>
        </p:blipFill>
        <p:spPr>
          <a:xfrm>
            <a:off x="434880" y="3276720"/>
            <a:ext cx="3984840" cy="324000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circl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"/>
          <p:cNvSpPr/>
          <p:nvPr/>
        </p:nvSpPr>
        <p:spPr>
          <a:xfrm>
            <a:off x="304920" y="1522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The first Apple Day was on October 21, 1990 in Covent Garden, Lond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C:\Documents and Settings\User\Рабочий стол\в интергу\Apple Day\773px-Covent_Garden_Interior_May_2006_crop[1].jpg"/>
          <p:cNvPicPr/>
          <p:nvPr/>
        </p:nvPicPr>
        <p:blipFill>
          <a:blip r:embed="rId1"/>
          <a:stretch/>
        </p:blipFill>
        <p:spPr>
          <a:xfrm>
            <a:off x="1447920" y="1600200"/>
            <a:ext cx="6038640" cy="468000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circl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6" descr="C:\Documents and Settings\User\Рабочий стол\в интергу\Apple Day\Apple-Day-choppers320[1].jpg"/>
          <p:cNvPicPr/>
          <p:nvPr/>
        </p:nvPicPr>
        <p:blipFill>
          <a:blip r:embed="rId1"/>
          <a:stretch/>
        </p:blipFill>
        <p:spPr>
          <a:xfrm>
            <a:off x="6019920" y="1581120"/>
            <a:ext cx="3047760" cy="405756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188" name="Picture 4" descr="C:\Documents and Settings\User\Рабочий стол\в интергу\Apple Day\Apple-Day-lookers320[1].jpg"/>
          <p:cNvPicPr/>
          <p:nvPr/>
        </p:nvPicPr>
        <p:blipFill>
          <a:blip r:embed="rId2"/>
          <a:stretch/>
        </p:blipFill>
        <p:spPr>
          <a:xfrm>
            <a:off x="152280" y="1600200"/>
            <a:ext cx="2895840" cy="405756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189" name="Picture 5" descr="C:\Documents and Settings\User\Рабочий стол\в интергу\Apple Day\B4b%20apple%20day%202007[1].jpg"/>
          <p:cNvPicPr/>
          <p:nvPr/>
        </p:nvPicPr>
        <p:blipFill>
          <a:blip r:embed="rId3"/>
          <a:stretch/>
        </p:blipFill>
        <p:spPr>
          <a:xfrm>
            <a:off x="3171960" y="2895480"/>
            <a:ext cx="2695320" cy="360072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sp>
        <p:nvSpPr>
          <p:cNvPr id="190" name="Rectangle 3"/>
          <p:cNvSpPr/>
          <p:nvPr/>
        </p:nvSpPr>
        <p:spPr>
          <a:xfrm>
            <a:off x="228600" y="228600"/>
            <a:ext cx="8686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pple day celebration is something like fair, where you can buy and taste the great variety of apple ki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C:\Users\User\Desktop\Apple Day\Malus_Friedberger_Bohnapfel_4259[1].jpg"/>
          <p:cNvPicPr/>
          <p:nvPr/>
        </p:nvPicPr>
        <p:blipFill>
          <a:blip r:embed="rId1"/>
          <a:stretch/>
        </p:blipFill>
        <p:spPr>
          <a:xfrm>
            <a:off x="5791320" y="1143000"/>
            <a:ext cx="3240000" cy="216072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192" name="Picture 2" descr="C:\Users\User\Desktop\Apple Day\Malus_Altländer_Pfannkuchen_4611[1].jpg"/>
          <p:cNvPicPr/>
          <p:nvPr/>
        </p:nvPicPr>
        <p:blipFill>
          <a:blip r:embed="rId2"/>
          <a:stretch/>
        </p:blipFill>
        <p:spPr>
          <a:xfrm>
            <a:off x="228600" y="1066680"/>
            <a:ext cx="3056040" cy="216072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193" name="Picture 3" descr="C:\Users\User\Desktop\Apple Day\Malus_Allington_Pepping_4599[1].jpg"/>
          <p:cNvPicPr/>
          <p:nvPr/>
        </p:nvPicPr>
        <p:blipFill>
          <a:blip r:embed="rId3"/>
          <a:stretch/>
        </p:blipFill>
        <p:spPr>
          <a:xfrm>
            <a:off x="3124080" y="2057400"/>
            <a:ext cx="3175200" cy="216072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194" name="Picture 6" descr="C:\Users\User\Desktop\Apple Day\800px-Malus_Himbacher_Grüner_4269[1].jpg"/>
          <p:cNvPicPr/>
          <p:nvPr/>
        </p:nvPicPr>
        <p:blipFill>
          <a:blip r:embed="rId4"/>
          <a:stretch/>
        </p:blipFill>
        <p:spPr>
          <a:xfrm>
            <a:off x="152280" y="3581280"/>
            <a:ext cx="2894040" cy="216072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195" name="Picture 7" descr="C:\Users\User\Desktop\Apple Day\Malus_Mensfelder_Glanzrenette_4277[1].jpg"/>
          <p:cNvPicPr/>
          <p:nvPr/>
        </p:nvPicPr>
        <p:blipFill>
          <a:blip r:embed="rId5"/>
          <a:stretch/>
        </p:blipFill>
        <p:spPr>
          <a:xfrm>
            <a:off x="2895480" y="4495680"/>
            <a:ext cx="3171960" cy="216072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196" name="Picture 8" descr="C:\Users\User\Desktop\Apple Day\Malus_Glockenapfel_4455[1].jpg"/>
          <p:cNvPicPr/>
          <p:nvPr/>
        </p:nvPicPr>
        <p:blipFill>
          <a:blip r:embed="rId6"/>
          <a:stretch/>
        </p:blipFill>
        <p:spPr>
          <a:xfrm>
            <a:off x="5867280" y="3733920"/>
            <a:ext cx="2944800" cy="216036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sp>
        <p:nvSpPr>
          <p:cNvPr id="197" name="Rectangle 3"/>
          <p:cNvSpPr/>
          <p:nvPr/>
        </p:nvSpPr>
        <p:spPr>
          <a:xfrm>
            <a:off x="228600" y="228600"/>
            <a:ext cx="8686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There are many 7000 kinds of apples in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2-09T01:23:54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