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2A4-E34A-466E-B840-52A64A2E7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151C-DCEF-40E0-8C9D-B4707867D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29A-7437-457D-A9DF-A5397ED69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C35A-6766-4AF4-9E48-5E59D32B7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6E89-AE6E-42D8-895D-1394A55B64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1B94-C67D-4232-92C2-B5EFA3E47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5E16-266B-4401-A487-C7EF7590C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048-D2C6-409D-A883-C214D5D67D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D881-1D6D-40B5-ABAA-5C62165F5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ABB5-8CB4-4CD1-B6ED-FF43B4074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9631-1EBD-4432-9B5C-37BE4671E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E5EF-9F6A-4465-990C-FA4AB84F5E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1638-3D28-4943-9D47-AE8040E01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A42-26A4-49C3-86C9-0C9B456D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816-5188-4A52-A3FC-F9ADCCBF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9BFC-747E-4955-8E91-88EB5BB2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B58-1235-41EB-AD23-B9FD4369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FF75-0BF0-402A-BC26-98CE26A3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BBAC4-5026-4940-A62E-5F25325B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E267E-3BFB-4D54-9AB7-58DF538C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B9717-A489-4143-A86D-3B311447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F9FE6-05E0-4FFF-BE45-BC5ABC65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A580E-9D77-4919-A7AB-B3B843CE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09FE7-17BA-4DA2-AE01-8A9BF8D6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BDA-0C5C-4748-BDB3-68A09600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6D718-51F6-4278-A45F-E95DE0E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0A6B1-584C-4AFA-980E-477871F9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FABFB-8650-469C-B718-F0044C53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136BE-39E7-4280-A488-C3E8D6DA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60A9D-F1A2-49B6-998A-646CF304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58B91-E4EE-417D-BD25-1252BB5E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432C3-6161-4080-B164-37440397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CBBBC-88EF-461C-A4FD-5FDCEB82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80740A-F29D-4290-A72D-3FED27B5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385F4-FA57-41B1-98BA-09C3BDC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A21-CB0C-4350-8782-9F6A2C1C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A821F-4552-4D64-B486-1F48AEE8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BF35F-9D2A-4FA4-A504-9E6948EA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8FCDD-AD3D-4393-9F38-CE170E5E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CBD25-E934-4F63-B18D-C32E11DF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D13D8-45F3-45C6-87D8-04BCD185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94349-364A-4C25-A6B1-3CE7B85B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6C98F-9503-4A97-BEFD-6E8819C5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1039F-6BA9-4117-81E0-60F6B8B2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B5B01-F459-4CC9-8C5F-6D611BB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40C72-37C9-4401-A974-4E480CA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F18-267B-41B4-A70B-51A25EBF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019F4-11C2-4B4C-A1D5-5556A92C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0A9DF-C7AF-4538-92BC-5DB81E75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13A7A-C1A3-4DEE-89BB-8E60F2CC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3606B-FF50-46B1-A363-E529DA59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4D91D-FC75-47D2-A36A-0CB3D3F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602AC-2EBF-4E94-9C5F-0C53D56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5DD06C-7868-4502-85B0-0BFC1476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5909F-358D-49B8-9312-3FD26E62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D9ADB-B371-428C-B632-527F6FE7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DCC-DF07-42DE-AA39-D5C9BF71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3F0-0D78-432E-B079-A682A5A3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4E7-1552-494F-9985-BE160FE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DAF-463C-4AF5-8F5B-8326B19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91D-9EA3-4344-80E1-5F22235D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72DD-60DC-4B0D-BC5C-2A36EE43F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C1B8-82E3-4D80-B4BA-A5D034420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6708-960E-4C6D-AA52-901D2109B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5847-E704-4F97-83EF-D58C35E40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ppleadayfinancial.ca/apple%20in%20grass.jpg" TargetMode="External"/><Relationship Id="rId2" Type="http://schemas.openxmlformats.org/officeDocument/2006/relationships/hyperlink" Target="http://upload.wikimedia.org/wikipedia/commons/4/4e/Single_apple.png" TargetMode="External"/><Relationship Id="rId3" Type="http://schemas.openxmlformats.org/officeDocument/2006/relationships/hyperlink" Target="http://upload.wikimedia.org/wikipedia/commons/thumb/4/42/Covent_Garden_Interior_May_2006_crop.jpg/773px-Covent_Garden_Interior_May_2006_crop.jpg" TargetMode="External"/><Relationship Id="rId4" Type="http://schemas.openxmlformats.org/officeDocument/2006/relationships/hyperlink" Target="http://commons.wikimedia.org/wiki/File:2010-06-19-supermarkt-by-RalfR-12.jpg" TargetMode="External"/><Relationship Id="rId5" Type="http://schemas.openxmlformats.org/officeDocument/2006/relationships/hyperlink" Target="http://www.scarthinbooks.com/images/AppleDay08%20Rick4_600.jpg" TargetMode="External"/><Relationship Id="rId6" Type="http://schemas.openxmlformats.org/officeDocument/2006/relationships/hyperlink" Target="http://www.greenwoodcentre.org.uk/apple%20day.jpg" TargetMode="External"/><Relationship Id="rId7" Type="http://schemas.openxmlformats.org/officeDocument/2006/relationships/hyperlink" Target="http://images.sciencedaily.com/2011/04/110412131923-large.jpg" TargetMode="External"/><Relationship Id="rId8" Type="http://schemas.openxmlformats.org/officeDocument/2006/relationships/hyperlink" Target="http://www.thisisnorthumberland.com/wp-content/uploads/2011/10/apple.jpg" TargetMode="External"/><Relationship Id="rId9" Type="http://schemas.openxmlformats.org/officeDocument/2006/relationships/hyperlink" Target="http://upload.wikimedia.org/wikipedia/commons/0/04/Appletree_2.jpg" TargetMode="External"/><Relationship Id="rId10" Type="http://schemas.openxmlformats.org/officeDocument/2006/relationships/hyperlink" Target="http://humanflowerproject.com/images/uploads/Apple-Day-lookers320.jpg" TargetMode="External"/><Relationship Id="rId11" Type="http://schemas.openxmlformats.org/officeDocument/2006/relationships/hyperlink" Target="http://www.shenleypark.co.uk/Material%20for%20web%20site/Page%20B-Orchard%20and%20Meadow/B4b%20apple%20day%202007.jpg" TargetMode="External"/><Relationship Id="rId12" Type="http://schemas.openxmlformats.org/officeDocument/2006/relationships/hyperlink" Target="http://humanflowerproject.com/images/uploads/Apple-Day-choppers320.jpg" TargetMode="External"/><Relationship Id="rId13" Type="http://schemas.openxmlformats.org/officeDocument/2006/relationships/hyperlink" Target="http://commons.wikimedia.org/wiki/File:Marker-Miller_Orchards_A.jpg" TargetMode="External"/><Relationship Id="rId14" Type="http://schemas.openxmlformats.org/officeDocument/2006/relationships/hyperlink" Target="http://en.wikipedia.org/wiki/Apple_Day" TargetMode="External"/><Relationship Id="rId15" Type="http://schemas.openxmlformats.org/officeDocument/2006/relationships/hyperlink" Target="http://www.calend.ru/holidays/0/0/2655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e/Malus_Altl&#228;nder_Pfannkuchen_4611.jpg" TargetMode="External"/><Relationship Id="rId2" Type="http://schemas.openxmlformats.org/officeDocument/2006/relationships/hyperlink" Target="http://upload.wikimedia.org/wikipedia/commons/6/6a/Malus_Allington_Pepping_4599.jpg" TargetMode="External"/><Relationship Id="rId3" Type="http://schemas.openxmlformats.org/officeDocument/2006/relationships/hyperlink" Target="http://upload.wikimedia.org/wikipedia/commons/b/b5/Malus_Friedberger_Bohnapfel_4259" TargetMode="External"/><Relationship Id="rId4" Type="http://schemas.openxmlformats.org/officeDocument/2006/relationships/hyperlink" Target="http://commons.wikimedia.org/wiki/File:Malus_Himbacher_Gr&#252;ner_4269.jpg.jpg" TargetMode="External"/><Relationship Id="rId5" Type="http://schemas.openxmlformats.org/officeDocument/2006/relationships/hyperlink" Target="http://upload.wikimedia.org/wikipedia/commons/e/e8/Malus_Mensfelder_Glanzrenette_4277.jpg" TargetMode="External"/><Relationship Id="rId6" Type="http://schemas.openxmlformats.org/officeDocument/2006/relationships/hyperlink" Target="http://upload.wikimedia.org/wikipedia/commons/d/d0/Malus_Glockenapfel_4455.jpg" TargetMode="External"/><Relationship Id="rId7" Type="http://schemas.openxmlformats.org/officeDocument/2006/relationships/hyperlink" Target="http://upload.wikimedia.org/wikipedia/commons/7/7b/Melo_Nano.JPG" TargetMode="External"/><Relationship Id="rId8" Type="http://schemas.openxmlformats.org/officeDocument/2006/relationships/hyperlink" Target="http://www.sadograd.ru/150908/150908-01.jpg" TargetMode="External"/><Relationship Id="rId9" Type="http://schemas.openxmlformats.org/officeDocument/2006/relationships/hyperlink" Target="http://upload.wikimedia.org/wikipedia/commons/2/23/Apple_juice_with_3apples.jpg" TargetMode="External"/><Relationship Id="rId10" Type="http://schemas.openxmlformats.org/officeDocument/2006/relationships/hyperlink" Target="http://upload.wikimedia.org/wikipedia/commons/d/df/Pommes_damour_dsc07027.jpg" TargetMode="External"/><Relationship Id="rId11" Type="http://schemas.openxmlformats.org/officeDocument/2006/relationships/hyperlink" Target="http://upload.wikimedia.org/wikipedia/commons/a/a6/Tufahiija_in_Mori&#263;a_Han_2.JPG" TargetMode="External"/><Relationship Id="rId12" Type="http://schemas.openxmlformats.org/officeDocument/2006/relationships/hyperlink" Target="http://rochakmasla.com/yahoo_site_admin/assets/images/chutney.68135609_std.jpeg" TargetMode="External"/><Relationship Id="rId13" Type="http://schemas.openxmlformats.org/officeDocument/2006/relationships/hyperlink" Target="http://static.tastykitchen.com/recipes/files/2009/10/caramel-apple-drink-2-450.jpg" TargetMode="External"/><Relationship Id="rId14" Type="http://schemas.openxmlformats.org/officeDocument/2006/relationships/hyperlink" Target="http://food.sulekha.com/dishimages/1245.jpg" TargetMode="External"/><Relationship Id="rId15" Type="http://schemas.openxmlformats.org/officeDocument/2006/relationships/hyperlink" Target="http://www.eczema.org/apple_day_pics.jpg" TargetMode="External"/><Relationship Id="rId16" Type="http://schemas.openxmlformats.org/officeDocument/2006/relationships/hyperlink" Target="http://upload.wikimedia.org/wikipedia/commons/e/ee/Apples.jpg" TargetMode="External"/><Relationship Id="rId17" Type="http://schemas.openxmlformats.org/officeDocument/2006/relationships/hyperlink" Target="http://www.fruitfullschools.org/inspiration/gallery.php?pageNum_RSGallery=13&amp;totalRows_RSGallery=433&amp;pictype=SCH" TargetMode="External"/><Relationship Id="rId18" Type="http://schemas.openxmlformats.org/officeDocument/2006/relationships/hyperlink" Target="http://www.somerset.gov.uk/irj/go/km/docs/CouncilImages/SCC/Images/Environment/Countryside%20and%20Coast/Apple%20Day%202011.jpg" TargetMode="External"/><Relationship Id="rId19" Type="http://schemas.openxmlformats.org/officeDocument/2006/relationships/hyperlink" Target="http://www.comfortclub.ru/_nw/2/94373088.jpg" TargetMode="External"/><Relationship Id="rId20" Type="http://schemas.openxmlformats.org/officeDocument/2006/relationships/hyperlink" Target="http://archery-il.livejournal.com/1546.html" TargetMode="External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e/Malus_Altl&#228;nder_Pfannkuchen_4611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28240" y="4952520"/>
            <a:ext cx="3505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всянникова 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., учитель английского языка, г. Северск МОУ «СОШ №83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609480" y="380880"/>
            <a:ext cx="65818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19080">
                  <a:solidFill>
                    <a:srgbClr val="00206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Apple Day</a:t>
            </a:r>
            <a:endParaRPr b="1" lang="en-US" sz="8000" spc="1" strike="noStrike">
              <a:ln cap="sq" w="19080">
                <a:solidFill>
                  <a:srgbClr val="00206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0880" y="763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Besides you can buy sprouts and take good advice how to plant and grow them in your own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C:\Documents and Settings\User\Рабочий стол\в интергу\Apple Day\150908-01[1].jpg"/>
          <p:cNvPicPr/>
          <p:nvPr/>
        </p:nvPicPr>
        <p:blipFill>
          <a:blip r:embed="rId1"/>
          <a:stretch/>
        </p:blipFill>
        <p:spPr>
          <a:xfrm>
            <a:off x="419040" y="1676520"/>
            <a:ext cx="3238560" cy="4319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0" name="Picture 5" descr="http://upload.wikimedia.org/wikipedia/commons/7/7b/Melo_Nano.JPG"/>
          <p:cNvPicPr/>
          <p:nvPr/>
        </p:nvPicPr>
        <p:blipFill>
          <a:blip r:embed="rId2"/>
          <a:stretch/>
        </p:blipFill>
        <p:spPr>
          <a:xfrm>
            <a:off x="3886200" y="2895480"/>
            <a:ext cx="4802040" cy="36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00000"/>
                </a:solidFill>
                <a:latin typeface="Comic Sans MS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:\Users\User\Desktop\Apple Day\Apple_juice_with_3apples[1].jpg"/>
          <p:cNvPicPr/>
          <p:nvPr/>
        </p:nvPicPr>
        <p:blipFill>
          <a:blip r:embed="rId1"/>
          <a:stretch/>
        </p:blipFill>
        <p:spPr>
          <a:xfrm>
            <a:off x="228600" y="1366920"/>
            <a:ext cx="307980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3" name="Picture 7" descr="C:\Users\User\Desktop\Apple Day\Pommes_damour_dsc07027[1].jpg"/>
          <p:cNvPicPr/>
          <p:nvPr/>
        </p:nvPicPr>
        <p:blipFill>
          <a:blip r:embed="rId2"/>
          <a:stretch/>
        </p:blipFill>
        <p:spPr>
          <a:xfrm>
            <a:off x="3041640" y="4114800"/>
            <a:ext cx="335916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4" name="Picture 8" descr="C:\Users\User\Desktop\Apple Day\Tufahiija_in_Morića_Han_2[1].jpg"/>
          <p:cNvPicPr/>
          <p:nvPr/>
        </p:nvPicPr>
        <p:blipFill>
          <a:blip r:embed="rId3"/>
          <a:stretch/>
        </p:blipFill>
        <p:spPr>
          <a:xfrm>
            <a:off x="6629400" y="4114800"/>
            <a:ext cx="228924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5" name="Picture 6" descr="C:\Documents and Settings\User\Рабочий стол\в интергу\Apple Day\chutney.68135609_std[1].jpg"/>
          <p:cNvPicPr/>
          <p:nvPr/>
        </p:nvPicPr>
        <p:blipFill>
          <a:blip r:embed="rId4"/>
          <a:stretch/>
        </p:blipFill>
        <p:spPr>
          <a:xfrm>
            <a:off x="228600" y="4114800"/>
            <a:ext cx="261792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6" name="Picture 7" descr="C:\Documents and Settings\User\Рабочий стол\в интергу\Apple Day\caramel-apple-drink-2-450[1].jpg"/>
          <p:cNvPicPr/>
          <p:nvPr/>
        </p:nvPicPr>
        <p:blipFill>
          <a:blip r:embed="rId5"/>
          <a:stretch/>
        </p:blipFill>
        <p:spPr>
          <a:xfrm>
            <a:off x="3505320" y="1366920"/>
            <a:ext cx="251928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07" name="Picture 8" descr="C:\Documents and Settings\User\Рабочий стол\в интергу\Apple Day\1245[1].jpg"/>
          <p:cNvPicPr/>
          <p:nvPr/>
        </p:nvPicPr>
        <p:blipFill>
          <a:blip r:embed="rId6"/>
          <a:stretch/>
        </p:blipFill>
        <p:spPr>
          <a:xfrm>
            <a:off x="6248520" y="1371600"/>
            <a:ext cx="2714400" cy="251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208" name="Rectangle 3"/>
          <p:cNvSpPr/>
          <p:nvPr/>
        </p:nvSpPr>
        <p:spPr>
          <a:xfrm>
            <a:off x="152280" y="2286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You can taste delicious dishes and drinks with apples and take reci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Various activities, games and competitions are popular on thi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C:\Documents and Settings\User\Рабочий стол\в интергу\Apple Day\apple_day_pics[1].jpg"/>
          <p:cNvPicPr/>
          <p:nvPr/>
        </p:nvPicPr>
        <p:blipFill>
          <a:blip r:embed="rId1"/>
          <a:stretch/>
        </p:blipFill>
        <p:spPr>
          <a:xfrm>
            <a:off x="5334120" y="1589040"/>
            <a:ext cx="3336840" cy="504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535280" cy="38419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C:\Documents and Settings\User\Рабочий стол\в интергу\Apple Day\Apple%20Day%202011[1].jpg"/>
          <p:cNvPicPr/>
          <p:nvPr/>
        </p:nvPicPr>
        <p:blipFill>
          <a:blip r:embed="rId1"/>
          <a:stretch/>
        </p:blipFill>
        <p:spPr>
          <a:xfrm>
            <a:off x="4267080" y="3181320"/>
            <a:ext cx="4800600" cy="36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Documents and Settings\User\Рабочий стол\в интергу\Apple Day\1294138541elemore-apple-day-2010-027[1].jpg"/>
          <p:cNvPicPr/>
          <p:nvPr/>
        </p:nvPicPr>
        <p:blipFill>
          <a:blip r:embed="rId2"/>
          <a:stretch/>
        </p:blipFill>
        <p:spPr>
          <a:xfrm>
            <a:off x="152280" y="152280"/>
            <a:ext cx="4496040" cy="33721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C:\Documents and Settings\User\Рабочий стол\в интергу\Apple Day\94373088[1].jpg"/>
          <p:cNvPicPr/>
          <p:nvPr/>
        </p:nvPicPr>
        <p:blipFill>
          <a:blip r:embed="rId1"/>
          <a:stretch/>
        </p:blipFill>
        <p:spPr>
          <a:xfrm>
            <a:off x="152280" y="228600"/>
            <a:ext cx="4762800" cy="31719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16" name="Picture 5" descr="C:\Documents and Settings\User\Рабочий стол\в интергу\Apple Day\IMG_7277[1].JPG"/>
          <p:cNvPicPr/>
          <p:nvPr/>
        </p:nvPicPr>
        <p:blipFill>
          <a:blip r:embed="rId2"/>
          <a:stretch/>
        </p:blipFill>
        <p:spPr>
          <a:xfrm>
            <a:off x="3787920" y="2822400"/>
            <a:ext cx="5279760" cy="395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79200"/>
            <a:ext cx="8763120" cy="17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he Longest Peel Competition is the most popul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Guinness World Record is held by Kathy Walfer  who peeled an apple in 11 hours 30 minutes with a peel length of 52.51m on 16 October 1976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3962520" cy="2590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19" name="Picture 5" descr="C:\Users\User\Desktop\Apple Day\Apple_peal[1].jpg"/>
          <p:cNvPicPr/>
          <p:nvPr/>
        </p:nvPicPr>
        <p:blipFill>
          <a:blip r:embed="rId2"/>
          <a:stretch/>
        </p:blipFill>
        <p:spPr>
          <a:xfrm>
            <a:off x="219240" y="1676520"/>
            <a:ext cx="3666960" cy="2438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20" name="Picture 6" descr="C:\Documents and Settings\User\Рабочий стол\в интергу\Apple Day\apple-strings[1].jpg"/>
          <p:cNvPicPr/>
          <p:nvPr/>
        </p:nvPicPr>
        <p:blipFill>
          <a:blip r:embed="rId3"/>
          <a:stretch/>
        </p:blipFill>
        <p:spPr>
          <a:xfrm>
            <a:off x="4267080" y="1752480"/>
            <a:ext cx="4754520" cy="3564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n old tradition is the English farmers choose the oldest apple-tree sing ballads and dance round the tre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C:\Documents and Settings\User\Рабочий стол\в интергу\Apple Day\gaapple[1].jpg"/>
          <p:cNvPicPr/>
          <p:nvPr/>
        </p:nvPicPr>
        <p:blipFill>
          <a:blip r:embed="rId1"/>
          <a:stretch/>
        </p:blipFill>
        <p:spPr>
          <a:xfrm>
            <a:off x="76320" y="1371600"/>
            <a:ext cx="4802040" cy="36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24" name="Picture 6" descr="C:\Documents and Settings\User\Рабочий стол\в интергу\Apple Day\DSC_0223[1].JPG"/>
          <p:cNvPicPr/>
          <p:nvPr/>
        </p:nvPicPr>
        <p:blipFill>
          <a:blip r:embed="rId2"/>
          <a:stretch/>
        </p:blipFill>
        <p:spPr>
          <a:xfrm>
            <a:off x="4227480" y="3541680"/>
            <a:ext cx="484020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Apple Day is a funny, kind and generous holi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3124080" y="2746440"/>
            <a:ext cx="5932440" cy="3959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152280" y="1547640"/>
            <a:ext cx="2876760" cy="4319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Thank you for your atten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rcRect l="12919" t="21759" r="0" b="8362"/>
          <a:stretch/>
        </p:blipFill>
        <p:spPr>
          <a:xfrm>
            <a:off x="2049480" y="1305000"/>
            <a:ext cx="5045040" cy="54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68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68" fill="hold"/>
                                        <p:tgtEl>
                                          <p:spTgt spid="2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998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ag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appleadayfinancial.ca/apple%20in%20gras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4/4e/Single_apple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upload.wikimedia.org/wikipedia/commons/thumb/4/42/Covent_Garden_Interior_May_2006_crop.jpg/773px-Covent_Garden_Interior_May_2006_crop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commons.wikimedia.org/wiki/File:2010-06-19-supermarkt-by-RalfR-1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scarthinbooks.com/images/AppleDay08%20Rick4_60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greenwoodcentre.org.uk/apple%20day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images.sciencedaily.com/2011/04/110412131923-larg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thisisnorthumberland.com/wp-content/uploads/2011/10/appl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upload.wikimedia.org/wikipedia/commons/0/04/Appletree_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humanflowerproject.com/images/uploads/Apple-Day-lookers32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shenleypark.co.uk/Material%20for%20web%20site/Page%20B-Orchard%20and%20Meadow/B4b%20apple%20day%20200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humanflowerproject.com/images/uploads/Apple-Day-choppers32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commons.wikimedia.org/wiki/File:Marker-Miller_Orchards_A.jpg</a:t>
            </a:r>
            <a:br>
              <a:rPr sz="1600"/>
            </a:b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380880" y="15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304920" y="7621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en.wikipedia.org/wiki/Apple_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www.calend.ru/holidays/0/0/2655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638360" y="1599840"/>
            <a:ext cx="58672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I am red and rou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I grow on the tree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All children and adults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Adore eating me</a:t>
            </a: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C:\Users\User\Desktop\Apple Day\Single_apple[1].png"/>
          <p:cNvPicPr/>
          <p:nvPr/>
        </p:nvPicPr>
        <p:blipFill>
          <a:blip r:embed="rId1"/>
          <a:stretch/>
        </p:blipFill>
        <p:spPr>
          <a:xfrm>
            <a:off x="2590920" y="609480"/>
            <a:ext cx="3670200" cy="4318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2"/>
          <p:cNvSpPr/>
          <p:nvPr/>
        </p:nvSpPr>
        <p:spPr>
          <a:xfrm>
            <a:off x="304920" y="152280"/>
            <a:ext cx="85341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upload.wikimedia.org/wikipedia/commons/d/de/Malus_Altl%C3%A4nder_Pfannkuchen_46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6/6a/Malus_Allington_Pepping_459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upload.wikimedia.org/wikipedia/commons/b/b5/Malus_Friedberger_Bohnapfel_4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commons.wikimedia.org/wiki/File:Malus_Himbacher_Gr%C3%BCner_4269.jpg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e/e8/Malus_Mensfelder_Glanzrenette_427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upload.wikimedia.org/wikipedia/commons/d/d0/Malus_Glockenapfel_445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upload.wikimedia.org/wikipedia/commons/7/7b/Melo_Nano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www.sadograd.ru/150908/150908-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upload.wikimedia.org/wikipedia/commons/2/23/Apple_juice_with_3apple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upload.wikimedia.org/wikipedia/commons/d/df/Pommes_damour_dsc0702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upload.wikimedia.org/wikipedia/commons/a/a6/Tufahiija_in_Mori%C4%87a_Han_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rochakmasla.com/yahoo_site_admin/assets/images/chutney.68135609_std.jp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static.tastykitchen.com/recipes/files/2009/10/caramel-apple-drink-2-45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food.sulekha.com/dishimages/124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www.eczema.org/apple_day_pic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http://upload.wikimedia.org/wikipedia/commons/e/ee/Apples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http://www.fruitfullschools.org/inspiration/gallery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/>
              </a:rPr>
              <a:t>http://www.somerset.gov.uk/irj/go/km/docs/CouncilImages/SCC/Images/Environment/Countryside%20and%20Coast/Apple%20Day%2020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9"/>
              </a:rPr>
              <a:t>http://www.comfortclub.ru/_nw/2/9437308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/>
              </a:rPr>
              <a:t>http://archery-il.livejournal.com/1546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одержимое 2"/>
          <p:cNvSpPr/>
          <p:nvPr/>
        </p:nvSpPr>
        <p:spPr>
          <a:xfrm>
            <a:off x="304920" y="152280"/>
            <a:ext cx="85341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upload.wikimedia.org/wikipedia/commons/d/de/Malus_Altl%C3%A4nder_Pfannkuchen_461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upload.wikimedia.org/wikipedia/commons/b/bc/Apple_peal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www.treehugger.com/natural-sciences/apple-day-at-roots-and-shoo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www.sonnyspot.com/gallery/images/gaappl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://4.bp.blogspot.com/_hGCraidx3ws/TTNHR3CXUCI/AAAAAAAAACc/VnLovTomW1Q/s1600/DSC_022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pload.wikimedia.org/wikipedia/commons/8/8d/Red_Apple_edit.p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upload.wikimedia.org/wikipedia/commons/5/53/Apple_in_lightbox.png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304920" y="3049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Apple Day is an annual celebration, of apples and orchards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t’s held on October 21 each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C:\Users\User\Desktop\Apple Day\800px-2010-06-19-supermarkt-by-RalfR-12[1].jpg"/>
          <p:cNvPicPr/>
          <p:nvPr/>
        </p:nvPicPr>
        <p:blipFill>
          <a:blip r:embed="rId1"/>
          <a:stretch/>
        </p:blipFill>
        <p:spPr>
          <a:xfrm>
            <a:off x="76320" y="2057400"/>
            <a:ext cx="4062240" cy="27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77" name="Picture 2" descr="C:\Users\User\Desktop\Apple Day\800px-Marker-Miller_Orchards_A[1].jpg"/>
          <p:cNvPicPr/>
          <p:nvPr/>
        </p:nvPicPr>
        <p:blipFill>
          <a:blip r:embed="rId2"/>
          <a:stretch/>
        </p:blipFill>
        <p:spPr>
          <a:xfrm>
            <a:off x="4267080" y="3048120"/>
            <a:ext cx="4800600" cy="36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533520" y="46483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pple Day was initiated by Common Ground in 1990 and has been celebrated in each subsequent year by people organizing hundreds of local ev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Documents and Settings\User\Рабочий стол\в интергу\Apple Day\AppleDay08%20Rick4_600[1].jpg"/>
          <p:cNvPicPr/>
          <p:nvPr/>
        </p:nvPicPr>
        <p:blipFill>
          <a:blip r:embed="rId1"/>
          <a:stretch/>
        </p:blipFill>
        <p:spPr>
          <a:xfrm>
            <a:off x="3962520" y="609480"/>
            <a:ext cx="4800600" cy="36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80" name="Picture 4" descr="C:\Documents and Settings\User\Рабочий стол\в интергу\Apple Day\apple%20day[1].jpg"/>
          <p:cNvPicPr/>
          <p:nvPr/>
        </p:nvPicPr>
        <p:blipFill>
          <a:blip r:embed="rId2"/>
          <a:stretch/>
        </p:blipFill>
        <p:spPr>
          <a:xfrm>
            <a:off x="439560" y="762120"/>
            <a:ext cx="321804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5256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Apple is a symbol of physical, cultural and genetic variety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Documents and Settings\User\Рабочий стол\в интергу\Apple Day\apple[1].jpg"/>
          <p:cNvPicPr/>
          <p:nvPr/>
        </p:nvPicPr>
        <p:blipFill>
          <a:blip r:embed="rId1"/>
          <a:stretch/>
        </p:blipFill>
        <p:spPr>
          <a:xfrm>
            <a:off x="4800600" y="609480"/>
            <a:ext cx="3987720" cy="56898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83" name="Rectangle 3"/>
          <p:cNvSpPr/>
          <p:nvPr/>
        </p:nvSpPr>
        <p:spPr>
          <a:xfrm>
            <a:off x="152280" y="380880"/>
            <a:ext cx="4496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his day is a way of celebrating and demonstrating that variety and richness matter to a locality and that it is possible to effect change in your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User\Desktop\Apple Day\Appletree_2[1].jpg"/>
          <p:cNvPicPr/>
          <p:nvPr/>
        </p:nvPicPr>
        <p:blipFill>
          <a:blip r:embed="rId2"/>
          <a:stretch/>
        </p:blipFill>
        <p:spPr>
          <a:xfrm>
            <a:off x="434880" y="3276720"/>
            <a:ext cx="398484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304920" y="1522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The first Apple Day was on October 21, 1990 in Covent Garden,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Documents and Settings\User\Рабочий стол\в интергу\Apple Day\773px-Covent_Garden_Interior_May_2006_crop[1].jpg"/>
          <p:cNvPicPr/>
          <p:nvPr/>
        </p:nvPicPr>
        <p:blipFill>
          <a:blip r:embed="rId1"/>
          <a:stretch/>
        </p:blipFill>
        <p:spPr>
          <a:xfrm>
            <a:off x="1447920" y="1600200"/>
            <a:ext cx="6038640" cy="468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C:\Documents and Settings\User\Рабочий стол\в интергу\Apple Day\Apple-Day-choppers320[1].jpg"/>
          <p:cNvPicPr/>
          <p:nvPr/>
        </p:nvPicPr>
        <p:blipFill>
          <a:blip r:embed="rId1"/>
          <a:stretch/>
        </p:blipFill>
        <p:spPr>
          <a:xfrm>
            <a:off x="6019920" y="1581120"/>
            <a:ext cx="3047760" cy="4057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88" name="Picture 4" descr="C:\Documents and Settings\User\Рабочий стол\в интергу\Apple Day\Apple-Day-lookers320[1].jpg"/>
          <p:cNvPicPr/>
          <p:nvPr/>
        </p:nvPicPr>
        <p:blipFill>
          <a:blip r:embed="rId2"/>
          <a:stretch/>
        </p:blipFill>
        <p:spPr>
          <a:xfrm>
            <a:off x="152280" y="1600200"/>
            <a:ext cx="2895840" cy="4057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89" name="Picture 5" descr="C:\Documents and Settings\User\Рабочий стол\в интергу\Apple Day\B4b%20apple%20day%202007[1].jpg"/>
          <p:cNvPicPr/>
          <p:nvPr/>
        </p:nvPicPr>
        <p:blipFill>
          <a:blip r:embed="rId3"/>
          <a:stretch/>
        </p:blipFill>
        <p:spPr>
          <a:xfrm>
            <a:off x="3171960" y="2895480"/>
            <a:ext cx="2695320" cy="360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90" name="Rectangle 3"/>
          <p:cNvSpPr/>
          <p:nvPr/>
        </p:nvSpPr>
        <p:spPr>
          <a:xfrm>
            <a:off x="228600" y="2286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pple day celebration is something like fair, where you can buy and taste the great variety of apple ki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Users\User\Desktop\Apple Day\Malus_Friedberger_Bohnapfel_4259[1].jpg"/>
          <p:cNvPicPr/>
          <p:nvPr/>
        </p:nvPicPr>
        <p:blipFill>
          <a:blip r:embed="rId1"/>
          <a:stretch/>
        </p:blipFill>
        <p:spPr>
          <a:xfrm>
            <a:off x="5791320" y="1143000"/>
            <a:ext cx="324000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2" name="Picture 2" descr="C:\Users\User\Desktop\Apple Day\Malus_Altländer_Pfannkuchen_4611[1].jpg"/>
          <p:cNvPicPr/>
          <p:nvPr/>
        </p:nvPicPr>
        <p:blipFill>
          <a:blip r:embed="rId2"/>
          <a:stretch/>
        </p:blipFill>
        <p:spPr>
          <a:xfrm>
            <a:off x="228600" y="1066680"/>
            <a:ext cx="305604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3" name="Picture 3" descr="C:\Users\User\Desktop\Apple Day\Malus_Allington_Pepping_4599[1].jpg"/>
          <p:cNvPicPr/>
          <p:nvPr/>
        </p:nvPicPr>
        <p:blipFill>
          <a:blip r:embed="rId3"/>
          <a:stretch/>
        </p:blipFill>
        <p:spPr>
          <a:xfrm>
            <a:off x="3124080" y="2057400"/>
            <a:ext cx="317520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4" name="Picture 6" descr="C:\Users\User\Desktop\Apple Day\800px-Malus_Himbacher_Grüner_4269[1].jpg"/>
          <p:cNvPicPr/>
          <p:nvPr/>
        </p:nvPicPr>
        <p:blipFill>
          <a:blip r:embed="rId4"/>
          <a:stretch/>
        </p:blipFill>
        <p:spPr>
          <a:xfrm>
            <a:off x="152280" y="3581280"/>
            <a:ext cx="289404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5" name="Picture 7" descr="C:\Users\User\Desktop\Apple Day\Malus_Mensfelder_Glanzrenette_4277[1].jpg"/>
          <p:cNvPicPr/>
          <p:nvPr/>
        </p:nvPicPr>
        <p:blipFill>
          <a:blip r:embed="rId5"/>
          <a:stretch/>
        </p:blipFill>
        <p:spPr>
          <a:xfrm>
            <a:off x="2895480" y="4495680"/>
            <a:ext cx="3171960" cy="216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96" name="Picture 8" descr="C:\Users\User\Desktop\Apple Day\Malus_Glockenapfel_4455[1].jpg"/>
          <p:cNvPicPr/>
          <p:nvPr/>
        </p:nvPicPr>
        <p:blipFill>
          <a:blip r:embed="rId6"/>
          <a:stretch/>
        </p:blipFill>
        <p:spPr>
          <a:xfrm>
            <a:off x="5867280" y="3733920"/>
            <a:ext cx="2944800" cy="216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97" name="Rectangle 3"/>
          <p:cNvSpPr/>
          <p:nvPr/>
        </p:nvSpPr>
        <p:spPr>
          <a:xfrm>
            <a:off x="228600" y="2286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There are many 7000 kinds of appl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09T01:23:54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