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EAB-547D-4918-A34A-D10E0E156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9EC-8AE4-4663-B526-8411C59DB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47E-9D40-47D2-B4AE-6AB42B70A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3960-D121-41D9-B2B6-6C47E5AF4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900-B3E9-4569-BFE4-4E7477FE3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5A75-00C3-42BF-B934-03D03D134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DBD-AA83-49B9-869C-9A605B307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A57-51CD-4D23-B5B7-BA5DE023E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9A7-9D67-408D-B9BC-9DC3C6851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D011-272C-413A-891B-E96408651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19BE-7AC4-4A02-8B5F-04BB6AF20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90C6-3F23-454D-94FC-0B5120AE5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6614-F340-44A5-A296-19BF6D689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2DC-EAFF-44DC-A90E-69C6509A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EEB-A7AA-4D36-AD25-7FDAD94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B2C-F6D6-419D-94CC-B69A08F8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3DD-1362-4B83-BC71-D9136B80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CAF42-A417-4C9F-82F1-329E3CDE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7482E-782C-4233-B887-26764B9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0EFE1-6EA4-40BD-8FCE-844E6B94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C1BC-578E-4D0F-A3B0-703885F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5D849-5CCD-41B8-AEE8-DDCC48C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7472-2F86-4E78-B86C-E58825A2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841C4-49DD-4843-AB1E-5BC1E60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A14-7490-499D-A795-73A25B7D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89AB7-A052-4196-8930-768D642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AB4CA-A248-4D25-96ED-6187B0C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1F4E2-D09A-4653-8F30-CA9A875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82511-380D-4976-9D7B-12FE3DD2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3553F-A7CC-4645-8B9B-71F93EE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B9236-769A-469B-AE45-227EBD7A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F3161-9ABC-437B-AB0B-9F4A876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AF39E-87C4-4E1D-8859-D258FEB8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9297B-EB00-4EEF-8DCA-6D69E721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C31D8-7CF9-498D-B3E1-ACFD4C0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CBD-8749-44A9-B09A-5AE0B8E8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29BD4-0F1E-42BF-95A6-158E15BD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300A5-8E08-4AC3-9CFB-A45031F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B01DE-55C2-4984-9182-B3B72E2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7F65F-F3FB-41C7-A37C-1DCD780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BB360-A954-4161-B053-FC2C356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46FF9-EED2-4DC4-891D-92F160BF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B922D-AA85-46DC-A7D9-ADB77B9B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60683-03DD-45A7-8700-C19A5704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40C09-4ED0-440E-AF36-86B3521A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21B3B-BD54-4027-B591-4EF27884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1AD-EA9B-4CEF-ACD4-8528C9DF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44883-3801-4ACD-9C1F-9173D720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C885D-7611-461B-B8E5-EEC25B4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F1B47-FAC5-425E-90D4-DA32517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30CCE-9CF9-4A07-B8B2-7EC85DCC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E7A59-05FD-4C36-8A76-8148CFA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81671-FAEA-4AAF-88E5-780BB3D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624CD-9121-49D8-870A-B54F190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D57DB-56E3-4DDA-88E8-03F004A4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B09FE-EC17-4D02-B907-DF6297D2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348-8263-4E9E-8B60-4E73F5AA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EE0-31A7-4846-BB53-E90B25BF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5B1-21FB-451B-88B9-134F29B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80E-C9EB-45BC-BC82-518E1FC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24A-EB2C-412A-8A91-17D3BCD8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FE0-F2CD-4DAD-8648-0647A9E62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966-6BFD-4517-8E1B-1DBB6781C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437F-5337-482F-AE9D-9C0C14949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493-F5A6-4A93-A5A1-799423341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pleadayfinancial.ca/apple%20in%20grass.jpg" TargetMode="External"/><Relationship Id="rId2" Type="http://schemas.openxmlformats.org/officeDocument/2006/relationships/hyperlink" Target="http://upload.wikimedia.org/wikipedia/commons/4/4e/Single_apple.png" TargetMode="External"/><Relationship Id="rId3" Type="http://schemas.openxmlformats.org/officeDocument/2006/relationships/hyperlink" Target="http://upload.wikimedia.org/wikipedia/commons/thumb/4/42/Covent_Garden_Interior_May_2006_crop.jpg/773px-Covent_Garden_Interior_May_2006_crop.jpg" TargetMode="External"/><Relationship Id="rId4" Type="http://schemas.openxmlformats.org/officeDocument/2006/relationships/hyperlink" Target="http://commons.wikimedia.org/wiki/File:2010-06-19-supermarkt-by-RalfR-12.jpg" TargetMode="External"/><Relationship Id="rId5" Type="http://schemas.openxmlformats.org/officeDocument/2006/relationships/hyperlink" Target="http://www.scarthinbooks.com/images/AppleDay08%20Rick4_600.jpg" TargetMode="External"/><Relationship Id="rId6" Type="http://schemas.openxmlformats.org/officeDocument/2006/relationships/hyperlink" Target="http://www.greenwoodcentre.org.uk/apple%20day.jpg" TargetMode="External"/><Relationship Id="rId7" Type="http://schemas.openxmlformats.org/officeDocument/2006/relationships/hyperlink" Target="http://images.sciencedaily.com/2011/04/110412131923-large.jpg" TargetMode="External"/><Relationship Id="rId8" Type="http://schemas.openxmlformats.org/officeDocument/2006/relationships/hyperlink" Target="http://www.thisisnorthumberland.com/wp-content/uploads/2011/10/apple.jpg" TargetMode="External"/><Relationship Id="rId9" Type="http://schemas.openxmlformats.org/officeDocument/2006/relationships/hyperlink" Target="http://upload.wikimedia.org/wikipedia/commons/0/04/Appletree_2.jpg" TargetMode="External"/><Relationship Id="rId10" Type="http://schemas.openxmlformats.org/officeDocument/2006/relationships/hyperlink" Target="http://humanflowerproject.com/images/uploads/Apple-Day-lookers320.jpg" TargetMode="External"/><Relationship Id="rId11" Type="http://schemas.openxmlformats.org/officeDocument/2006/relationships/hyperlink" Target="http://www.shenleypark.co.uk/Material%20for%20web%20site/Page%20B-Orchard%20and%20Meadow/B4b%20apple%20day%202007.jpg" TargetMode="External"/><Relationship Id="rId12" Type="http://schemas.openxmlformats.org/officeDocument/2006/relationships/hyperlink" Target="http://humanflowerproject.com/images/uploads/Apple-Day-choppers320.jpg" TargetMode="External"/><Relationship Id="rId13" Type="http://schemas.openxmlformats.org/officeDocument/2006/relationships/hyperlink" Target="http://commons.wikimedia.org/wiki/File:Marker-Miller_Orchards_A.jpg" TargetMode="External"/><Relationship Id="rId14" Type="http://schemas.openxmlformats.org/officeDocument/2006/relationships/hyperlink" Target="http://en.wikipedia.org/wiki/Apple_Day" TargetMode="External"/><Relationship Id="rId15" Type="http://schemas.openxmlformats.org/officeDocument/2006/relationships/hyperlink" Target="http://www.calend.ru/holidays/0/0/2655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hyperlink" Target="http://upload.wikimedia.org/wikipedia/commons/6/6a/Malus_Allington_Pepping_4599.jpg" TargetMode="External"/><Relationship Id="rId3" Type="http://schemas.openxmlformats.org/officeDocument/2006/relationships/hyperlink" Target="http://upload.wikimedia.org/wikipedia/commons/b/b5/Malus_Friedberger_Bohnapfel_4259" TargetMode="External"/><Relationship Id="rId4" Type="http://schemas.openxmlformats.org/officeDocument/2006/relationships/hyperlink" Target="http://commons.wikimedia.org/wiki/File:Malus_Himbacher_Gr&#252;ner_4269.jpg.jpg" TargetMode="External"/><Relationship Id="rId5" Type="http://schemas.openxmlformats.org/officeDocument/2006/relationships/hyperlink" Target="http://upload.wikimedia.org/wikipedia/commons/e/e8/Malus_Mensfelder_Glanzrenette_4277.jpg" TargetMode="External"/><Relationship Id="rId6" Type="http://schemas.openxmlformats.org/officeDocument/2006/relationships/hyperlink" Target="http://upload.wikimedia.org/wikipedia/commons/d/d0/Malus_Glockenapfel_4455.jpg" TargetMode="External"/><Relationship Id="rId7" Type="http://schemas.openxmlformats.org/officeDocument/2006/relationships/hyperlink" Target="http://upload.wikimedia.org/wikipedia/commons/7/7b/Melo_Nano.JPG" TargetMode="External"/><Relationship Id="rId8" Type="http://schemas.openxmlformats.org/officeDocument/2006/relationships/hyperlink" Target="http://www.sadograd.ru/150908/150908-01.jpg" TargetMode="External"/><Relationship Id="rId9" Type="http://schemas.openxmlformats.org/officeDocument/2006/relationships/hyperlink" Target="http://upload.wikimedia.org/wikipedia/commons/2/23/Apple_juice_with_3apples.jpg" TargetMode="External"/><Relationship Id="rId10" Type="http://schemas.openxmlformats.org/officeDocument/2006/relationships/hyperlink" Target="http://upload.wikimedia.org/wikipedia/commons/d/df/Pommes_damour_dsc07027.jpg" TargetMode="External"/><Relationship Id="rId11" Type="http://schemas.openxmlformats.org/officeDocument/2006/relationships/hyperlink" Target="http://upload.wikimedia.org/wikipedia/commons/a/a6/Tufahiija_in_Mori&#263;a_Han_2.JPG" TargetMode="External"/><Relationship Id="rId12" Type="http://schemas.openxmlformats.org/officeDocument/2006/relationships/hyperlink" Target="http://rochakmasla.com/yahoo_site_admin/assets/images/chutney.68135609_std.jpeg" TargetMode="External"/><Relationship Id="rId13" Type="http://schemas.openxmlformats.org/officeDocument/2006/relationships/hyperlink" Target="http://static.tastykitchen.com/recipes/files/2009/10/caramel-apple-drink-2-450.jpg" TargetMode="External"/><Relationship Id="rId14" Type="http://schemas.openxmlformats.org/officeDocument/2006/relationships/hyperlink" Target="http://food.sulekha.com/dishimages/1245.jpg" TargetMode="External"/><Relationship Id="rId15" Type="http://schemas.openxmlformats.org/officeDocument/2006/relationships/hyperlink" Target="http://www.eczema.org/apple_day_pics.jpg" TargetMode="External"/><Relationship Id="rId16" Type="http://schemas.openxmlformats.org/officeDocument/2006/relationships/hyperlink" Target="http://upload.wikimedia.org/wikipedia/commons/e/ee/Apples.jpg" TargetMode="External"/><Relationship Id="rId17" Type="http://schemas.openxmlformats.org/officeDocument/2006/relationships/hyperlink" Target="http://www.fruitfullschools.org/inspiration/gallery.php?pageNum_RSGallery=13&amp;totalRows_RSGallery=433&amp;pictype=SCH" TargetMode="External"/><Relationship Id="rId18" Type="http://schemas.openxmlformats.org/officeDocument/2006/relationships/hyperlink" Target="http://www.somerset.gov.uk/irj/go/km/docs/CouncilImages/SCC/Images/Environment/Countryside%20and%20Coast/Apple%20Day%202011.jpg" TargetMode="External"/><Relationship Id="rId19" Type="http://schemas.openxmlformats.org/officeDocument/2006/relationships/hyperlink" Target="http://www.comfortclub.ru/_nw/2/94373088.jpg" TargetMode="External"/><Relationship Id="rId20" Type="http://schemas.openxmlformats.org/officeDocument/2006/relationships/hyperlink" Target="http://archery-il.livejournal.com/1546.html" TargetMode="External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всянникова 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, учитель английского языка, г. Северск МОУ «СОШ №83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609480" y="380880"/>
            <a:ext cx="65818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1908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pple Day</a:t>
            </a:r>
            <a:endParaRPr b="1" lang="en-US" sz="8000" spc="1" strike="noStrike">
              <a:ln cap="sq" w="1908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0880" y="76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Besides you can buy sprouts and take good advice how to plant and grow them in your own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Documents and Settings\User\Рабочий стол\в интергу\Apple Day\150908-01[1].jpg"/>
          <p:cNvPicPr/>
          <p:nvPr/>
        </p:nvPicPr>
        <p:blipFill>
          <a:blip r:embed="rId1"/>
          <a:stretch/>
        </p:blipFill>
        <p:spPr>
          <a:xfrm>
            <a:off x="419040" y="1676520"/>
            <a:ext cx="32385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0" name="Picture 5" descr="http://upload.wikimedia.org/wikipedia/commons/7/7b/Melo_Nano.JPG"/>
          <p:cNvPicPr/>
          <p:nvPr/>
        </p:nvPicPr>
        <p:blipFill>
          <a:blip r:embed="rId2"/>
          <a:stretch/>
        </p:blipFill>
        <p:spPr>
          <a:xfrm>
            <a:off x="3886200" y="2895480"/>
            <a:ext cx="480204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User\Desktop\Apple Day\Apple_juice_with_3apples[1].jpg"/>
          <p:cNvPicPr/>
          <p:nvPr/>
        </p:nvPicPr>
        <p:blipFill>
          <a:blip r:embed="rId1"/>
          <a:stretch/>
        </p:blipFill>
        <p:spPr>
          <a:xfrm>
            <a:off x="228600" y="1366920"/>
            <a:ext cx="30798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3" name="Picture 7" descr="C:\Users\User\Desktop\Apple Day\Pommes_damour_dsc07027[1].jpg"/>
          <p:cNvPicPr/>
          <p:nvPr/>
        </p:nvPicPr>
        <p:blipFill>
          <a:blip r:embed="rId2"/>
          <a:stretch/>
        </p:blipFill>
        <p:spPr>
          <a:xfrm>
            <a:off x="3041640" y="4114800"/>
            <a:ext cx="335916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4" name="Picture 8" descr="C:\Users\User\Desktop\Apple Day\Tufahiija_in_Morića_Han_2[1].jpg"/>
          <p:cNvPicPr/>
          <p:nvPr/>
        </p:nvPicPr>
        <p:blipFill>
          <a:blip r:embed="rId3"/>
          <a:stretch/>
        </p:blipFill>
        <p:spPr>
          <a:xfrm>
            <a:off x="6629400" y="4114800"/>
            <a:ext cx="228924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5" name="Picture 6" descr="C:\Documents and Settings\User\Рабочий стол\в интергу\Apple Day\chutney.68135609_std[1].jpg"/>
          <p:cNvPicPr/>
          <p:nvPr/>
        </p:nvPicPr>
        <p:blipFill>
          <a:blip r:embed="rId4"/>
          <a:stretch/>
        </p:blipFill>
        <p:spPr>
          <a:xfrm>
            <a:off x="228600" y="4114800"/>
            <a:ext cx="261792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6" name="Picture 7" descr="C:\Documents and Settings\User\Рабочий стол\в интергу\Apple Day\caramel-apple-drink-2-450[1].jpg"/>
          <p:cNvPicPr/>
          <p:nvPr/>
        </p:nvPicPr>
        <p:blipFill>
          <a:blip r:embed="rId5"/>
          <a:stretch/>
        </p:blipFill>
        <p:spPr>
          <a:xfrm>
            <a:off x="3505320" y="1366920"/>
            <a:ext cx="251928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7" name="Picture 8" descr="C:\Documents and Settings\User\Рабочий стол\в интергу\Apple Day\1245[1].jpg"/>
          <p:cNvPicPr/>
          <p:nvPr/>
        </p:nvPicPr>
        <p:blipFill>
          <a:blip r:embed="rId6"/>
          <a:stretch/>
        </p:blipFill>
        <p:spPr>
          <a:xfrm>
            <a:off x="6248520" y="1371600"/>
            <a:ext cx="27144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08" name="Rectangle 3"/>
          <p:cNvSpPr/>
          <p:nvPr/>
        </p:nvSpPr>
        <p:spPr>
          <a:xfrm>
            <a:off x="152280" y="2286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You can taste delicious dishes and drinks with apples and take rec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Various activities, games and competitions are popular on thi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User\Рабочий стол\в интергу\Apple Day\apple_day_pics[1].jpg"/>
          <p:cNvPicPr/>
          <p:nvPr/>
        </p:nvPicPr>
        <p:blipFill>
          <a:blip r:embed="rId1"/>
          <a:stretch/>
        </p:blipFill>
        <p:spPr>
          <a:xfrm>
            <a:off x="5334120" y="1589040"/>
            <a:ext cx="3336840" cy="504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535280" cy="38419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C:\Documents and Settings\User\Рабочий стол\в интергу\Apple Day\Apple%20Day%202011[1].jpg"/>
          <p:cNvPicPr/>
          <p:nvPr/>
        </p:nvPicPr>
        <p:blipFill>
          <a:blip r:embed="rId1"/>
          <a:stretch/>
        </p:blipFill>
        <p:spPr>
          <a:xfrm>
            <a:off x="4267080" y="31813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User\Рабочий стол\в интергу\Apple Day\1294138541elemore-apple-day-2010-027[1].jpg"/>
          <p:cNvPicPr/>
          <p:nvPr/>
        </p:nvPicPr>
        <p:blipFill>
          <a:blip r:embed="rId2"/>
          <a:stretch/>
        </p:blipFill>
        <p:spPr>
          <a:xfrm>
            <a:off x="152280" y="152280"/>
            <a:ext cx="4496040" cy="33721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User\Рабочий стол\в интергу\Apple Day\94373088[1].jpg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31719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6" name="Picture 5" descr="C:\Documents and Settings\User\Рабочий стол\в интергу\Apple Day\IMG_7277[1].JPG"/>
          <p:cNvPicPr/>
          <p:nvPr/>
        </p:nvPicPr>
        <p:blipFill>
          <a:blip r:embed="rId2"/>
          <a:stretch/>
        </p:blipFill>
        <p:spPr>
          <a:xfrm>
            <a:off x="3787920" y="2822400"/>
            <a:ext cx="527976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79200"/>
            <a:ext cx="8763120" cy="17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e Longest Peel Competition is the most popul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uinness World Record is held by Kathy Walfer  who peeled an apple in 11 hours 30 minutes with a peel length of 52.51m on 16 October 1976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962520" cy="2590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9" name="Picture 5" descr="C:\Users\User\Desktop\Apple Day\Apple_peal[1].jpg"/>
          <p:cNvPicPr/>
          <p:nvPr/>
        </p:nvPicPr>
        <p:blipFill>
          <a:blip r:embed="rId2"/>
          <a:stretch/>
        </p:blipFill>
        <p:spPr>
          <a:xfrm>
            <a:off x="219240" y="1676520"/>
            <a:ext cx="3666960" cy="2438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0" name="Picture 6" descr="C:\Documents and Settings\User\Рабочий стол\в интергу\Apple Day\apple-strings[1].jpg"/>
          <p:cNvPicPr/>
          <p:nvPr/>
        </p:nvPicPr>
        <p:blipFill>
          <a:blip r:embed="rId3"/>
          <a:stretch/>
        </p:blipFill>
        <p:spPr>
          <a:xfrm>
            <a:off x="4267080" y="1752480"/>
            <a:ext cx="4754520" cy="3564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n old tradition is the English farmers choose the oldest apple-tree sing ballads and dance round the tre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Documents and Settings\User\Рабочий стол\в интергу\Apple Day\gaapple[1].jpg"/>
          <p:cNvPicPr/>
          <p:nvPr/>
        </p:nvPicPr>
        <p:blipFill>
          <a:blip r:embed="rId1"/>
          <a:stretch/>
        </p:blipFill>
        <p:spPr>
          <a:xfrm>
            <a:off x="76320" y="1371600"/>
            <a:ext cx="480204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4" name="Picture 6" descr="C:\Documents and Settings\User\Рабочий стол\в интергу\Apple Day\DSC_0223[1].JPG"/>
          <p:cNvPicPr/>
          <p:nvPr/>
        </p:nvPicPr>
        <p:blipFill>
          <a:blip r:embed="rId2"/>
          <a:stretch/>
        </p:blipFill>
        <p:spPr>
          <a:xfrm>
            <a:off x="4227480" y="3541680"/>
            <a:ext cx="484020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Day is a funny, kind and generous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3124080" y="2746440"/>
            <a:ext cx="593244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152280" y="1547640"/>
            <a:ext cx="28767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rcRect l="12919" t="21759" r="0" b="8362"/>
          <a:stretch/>
        </p:blipFill>
        <p:spPr>
          <a:xfrm>
            <a:off x="2049480" y="1305000"/>
            <a:ext cx="5045040" cy="54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98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appleadayfinancial.ca/apple%20in%20gras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4/4e/Single_apple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thumb/4/42/Covent_Garden_Interior_May_2006_crop.jpg/773px-Covent_Garden_Interior_May_2006_crop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2010-06-19-supermarkt-by-RalfR-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scarthinbooks.com/images/AppleDay08%20Rick4_6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greenwoodcentre.org.uk/apple%20da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ages.sciencedaily.com/2011/04/110412131923-larg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thisisnorthumberland.com/wp-content/uploads/2011/10/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0/04/Appletree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humanflowerproject.com/images/uploads/Apple-Day-look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shenleypark.co.uk/Material%20for%20web%20site/Page%20B-Orchard%20and%20Meadow/B4b%20apple%20day%20200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humanflowerproject.com/images/uploads/Apple-Day-chopp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commons.wikimedia.org/wiki/File:Marker-Miller_Orchards_A.jpg</a:t>
            </a:r>
            <a:br>
              <a:rPr sz="16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38088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304920" y="762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en.wikipedia.org/wiki/Apple_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calend.ru/holidays/0/0/265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38360" y="1599840"/>
            <a:ext cx="58672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am red and rou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grow on the tre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ll children and adults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dore eating m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User\Desktop\Apple Day\Single_apple[1].png"/>
          <p:cNvPicPr/>
          <p:nvPr/>
        </p:nvPicPr>
        <p:blipFill>
          <a:blip r:embed="rId1"/>
          <a:stretch/>
        </p:blipFill>
        <p:spPr>
          <a:xfrm>
            <a:off x="2590920" y="609480"/>
            <a:ext cx="3670200" cy="4318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6/6a/Malus_Allington_Pepping_45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b/b5/Malus_Friedberger_Bohnapfel_4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Malus_Himbacher_Gr%C3%BCner_4269.jpg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e/e8/Malus_Mensfelder_Glanzrenette_427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d/d0/Malus_Glockenapfel_445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7/7b/Melo_Nan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sadograd.ru/150908/150908-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2/23/Apple_juice_with_3appl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upload.wikimedia.org/wikipedia/commons/d/df/Pommes_damour_dsc0702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upload.wikimedia.org/wikipedia/commons/a/a6/Tufahiija_in_Mori%C4%87a_Han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rochakmasla.com/yahoo_site_admin/assets/images/chutney.68135609_std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tatic.tastykitchen.com/recipes/files/2009/10/caramel-apple-drink-2-45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food.sulekha.com/dishimages/124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eczema.org/apple_day_pic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http://upload.wikimedia.org/wikipedia/commons/e/ee/Apples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tp://www.fruitfullschools.org/inspiration/gallery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http://www.somerset.gov.uk/irj/go/km/docs/CouncilImages/SCC/Images/Environment/Countryside%20and%20Coast/Apple%20Day%2020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http://www.comfortclub.ru/_nw/2/9437308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http://archery-il.livejournal.com/1546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upload.wikimedia.org/wikipedia/commons/b/bc/Apple_pea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treehugger.com/natural-sciences/apple-day-at-roots-and-shoo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sonnyspot.com/gallery/images/ga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4.bp.blogspot.com/_hGCraidx3ws/TTNHR3CXUCI/AAAAAAAAACc/VnLovTomW1Q/s1600/DSC_022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8/8d/Red_Apple_edit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5/53/Apple_in_lightbox.p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04920" y="3049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Apple Day is an annual celebration, of apples and orchards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t’s held on October 21 each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C:\Users\User\Desktop\Apple Day\800px-2010-06-19-supermarkt-by-RalfR-12[1].jpg"/>
          <p:cNvPicPr/>
          <p:nvPr/>
        </p:nvPicPr>
        <p:blipFill>
          <a:blip r:embed="rId1"/>
          <a:stretch/>
        </p:blipFill>
        <p:spPr>
          <a:xfrm>
            <a:off x="76320" y="2057400"/>
            <a:ext cx="406224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77" name="Picture 2" descr="C:\Users\User\Desktop\Apple Day\800px-Marker-Miller_Orchards_A[1].jpg"/>
          <p:cNvPicPr/>
          <p:nvPr/>
        </p:nvPicPr>
        <p:blipFill>
          <a:blip r:embed="rId2"/>
          <a:stretch/>
        </p:blipFill>
        <p:spPr>
          <a:xfrm>
            <a:off x="4267080" y="30481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53352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was initiated by Common Ground in 1990 and has been celebrated in each subsequent year by people organizing hundreds of local ev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User\Рабочий стол\в интергу\Apple Day\AppleDay08%20Rick4_600[1].jpg"/>
          <p:cNvPicPr/>
          <p:nvPr/>
        </p:nvPicPr>
        <p:blipFill>
          <a:blip r:embed="rId1"/>
          <a:stretch/>
        </p:blipFill>
        <p:spPr>
          <a:xfrm>
            <a:off x="3962520" y="609480"/>
            <a:ext cx="480060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0" name="Picture 4" descr="C:\Documents and Settings\User\Рабочий стол\в интергу\Apple Day\apple%20day[1].jpg"/>
          <p:cNvPicPr/>
          <p:nvPr/>
        </p:nvPicPr>
        <p:blipFill>
          <a:blip r:embed="rId2"/>
          <a:stretch/>
        </p:blipFill>
        <p:spPr>
          <a:xfrm>
            <a:off x="439560" y="762120"/>
            <a:ext cx="32180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5256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is a symbol of physical, cultural and genetic variety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User\Рабочий стол\в интергу\Apple Day\apple[1].jpg"/>
          <p:cNvPicPr/>
          <p:nvPr/>
        </p:nvPicPr>
        <p:blipFill>
          <a:blip r:embed="rId1"/>
          <a:stretch/>
        </p:blipFill>
        <p:spPr>
          <a:xfrm>
            <a:off x="4800600" y="609480"/>
            <a:ext cx="3987720" cy="56898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83" name="Rectangle 3"/>
          <p:cNvSpPr/>
          <p:nvPr/>
        </p:nvSpPr>
        <p:spPr>
          <a:xfrm>
            <a:off x="152280" y="380880"/>
            <a:ext cx="4496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is day is a way of celebrating and demonstrating that variety and richness matter to a locality and that it is possible to effect change in your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User\Desktop\Apple Day\Appletree_2[1].jpg"/>
          <p:cNvPicPr/>
          <p:nvPr/>
        </p:nvPicPr>
        <p:blipFill>
          <a:blip r:embed="rId2"/>
          <a:stretch/>
        </p:blipFill>
        <p:spPr>
          <a:xfrm>
            <a:off x="434880" y="3276720"/>
            <a:ext cx="39848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04920" y="152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 first Apple Day was on October 21, 1990 in Covent Garden,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Documents and Settings\User\Рабочий стол\в интергу\Apple Day\773px-Covent_Garden_Interior_May_2006_crop[1].jpg"/>
          <p:cNvPicPr/>
          <p:nvPr/>
        </p:nvPicPr>
        <p:blipFill>
          <a:blip r:embed="rId1"/>
          <a:stretch/>
        </p:blipFill>
        <p:spPr>
          <a:xfrm>
            <a:off x="1447920" y="1600200"/>
            <a:ext cx="6038640" cy="468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C:\Documents and Settings\User\Рабочий стол\в интергу\Apple Day\Apple-Day-choppers320[1].jpg"/>
          <p:cNvPicPr/>
          <p:nvPr/>
        </p:nvPicPr>
        <p:blipFill>
          <a:blip r:embed="rId1"/>
          <a:stretch/>
        </p:blipFill>
        <p:spPr>
          <a:xfrm>
            <a:off x="6019920" y="1581120"/>
            <a:ext cx="304776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8" name="Picture 4" descr="C:\Documents and Settings\User\Рабочий стол\в интергу\Apple Day\Apple-Day-lookers320[1].jpg"/>
          <p:cNvPicPr/>
          <p:nvPr/>
        </p:nvPicPr>
        <p:blipFill>
          <a:blip r:embed="rId2"/>
          <a:stretch/>
        </p:blipFill>
        <p:spPr>
          <a:xfrm>
            <a:off x="152280" y="1600200"/>
            <a:ext cx="289584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9" name="Picture 5" descr="C:\Documents and Settings\User\Рабочий стол\в интергу\Apple Day\B4b%20apple%20day%202007[1].jpg"/>
          <p:cNvPicPr/>
          <p:nvPr/>
        </p:nvPicPr>
        <p:blipFill>
          <a:blip r:embed="rId3"/>
          <a:stretch/>
        </p:blipFill>
        <p:spPr>
          <a:xfrm>
            <a:off x="3171960" y="2895480"/>
            <a:ext cx="269532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0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celebration is something like fair, where you can buy and taste the great variety of apple k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Users\User\Desktop\Apple Day\Malus_Friedberger_Bohnapfel_4259[1].jpg"/>
          <p:cNvPicPr/>
          <p:nvPr/>
        </p:nvPicPr>
        <p:blipFill>
          <a:blip r:embed="rId1"/>
          <a:stretch/>
        </p:blipFill>
        <p:spPr>
          <a:xfrm>
            <a:off x="5791320" y="1143000"/>
            <a:ext cx="32400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2" name="Picture 2" descr="C:\Users\User\Desktop\Apple Day\Malus_Altländer_Pfannkuchen_4611[1].jpg"/>
          <p:cNvPicPr/>
          <p:nvPr/>
        </p:nvPicPr>
        <p:blipFill>
          <a:blip r:embed="rId2"/>
          <a:stretch/>
        </p:blipFill>
        <p:spPr>
          <a:xfrm>
            <a:off x="228600" y="1066680"/>
            <a:ext cx="3056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3" name="Picture 3" descr="C:\Users\User\Desktop\Apple Day\Malus_Allington_Pepping_4599[1].jpg"/>
          <p:cNvPicPr/>
          <p:nvPr/>
        </p:nvPicPr>
        <p:blipFill>
          <a:blip r:embed="rId3"/>
          <a:stretch/>
        </p:blipFill>
        <p:spPr>
          <a:xfrm>
            <a:off x="3124080" y="2057400"/>
            <a:ext cx="31752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4" name="Picture 6" descr="C:\Users\User\Desktop\Apple Day\800px-Malus_Himbacher_Grüner_4269[1].jpg"/>
          <p:cNvPicPr/>
          <p:nvPr/>
        </p:nvPicPr>
        <p:blipFill>
          <a:blip r:embed="rId4"/>
          <a:stretch/>
        </p:blipFill>
        <p:spPr>
          <a:xfrm>
            <a:off x="152280" y="3581280"/>
            <a:ext cx="2894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5" name="Picture 7" descr="C:\Users\User\Desktop\Apple Day\Malus_Mensfelder_Glanzrenette_4277[1].jpg"/>
          <p:cNvPicPr/>
          <p:nvPr/>
        </p:nvPicPr>
        <p:blipFill>
          <a:blip r:embed="rId5"/>
          <a:stretch/>
        </p:blipFill>
        <p:spPr>
          <a:xfrm>
            <a:off x="2895480" y="4495680"/>
            <a:ext cx="317196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6" name="Picture 8" descr="C:\Users\User\Desktop\Apple Day\Malus_Glockenapfel_4455[1].jpg"/>
          <p:cNvPicPr/>
          <p:nvPr/>
        </p:nvPicPr>
        <p:blipFill>
          <a:blip r:embed="rId6"/>
          <a:stretch/>
        </p:blipFill>
        <p:spPr>
          <a:xfrm>
            <a:off x="5867280" y="3733920"/>
            <a:ext cx="2944800" cy="216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7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re are many 7000 kinds of appl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9T01:23:5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