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FE27-98E4-4027-82AD-FE310F6FA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DF43-C88D-41C5-8FF8-66659C13A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3C93-25B6-4C33-8BCB-1CDC0A879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F190-BDC0-4A37-994A-F80CAF29F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FFE7B-9DFA-4448-98B8-1614A934A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5DADC-4B24-4EB5-BB81-6E0EB5FD5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F52FA-5FB8-4881-9DC1-61D844B2C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8B426-5253-41EF-A4C1-D8C9F656E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C43B2-268F-42D3-8FDD-7B4F1F2EE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C8FF9-C2CA-4100-A1B6-4E610A7B2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DBD72-A833-4E74-BF31-EA664AAB1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49FB-24E3-4634-ACA7-D021BE111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76F73-5889-4E44-B4BF-1C50665CC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E30F8-DCDA-4CA2-9B9A-184B3728B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81A53-D687-4AAE-AEED-4A88A0223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A3122-B525-4033-A972-578D63380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42E9D-BF35-4B89-8447-0456D3128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C9F0-4471-4C21-B43D-8843AC8CB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8F94-F9CC-4DDE-9825-5BBD3BFA1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2DC4-39A6-46A5-8416-E0C29DAFE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46E4-5A97-4AC7-A167-0A9CC0EED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4B30-D89D-4D58-8E77-4CE0246DD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E22E-6D90-4B0C-85B9-B97691E2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EFA0-08FE-4081-A32A-A5B0A67B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E6895-9636-4CDA-BF40-63CEE2F5B79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610F6-22D7-497A-8B17-D3C65209279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160" y="990360"/>
            <a:ext cx="83055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0033"/>
                </a:solidFill>
                <a:latin typeface="Times New Roman"/>
              </a:rPr>
              <a:t>Дворцовые  перевороты </a:t>
            </a:r>
            <a:r>
              <a:rPr b="1" i="1" lang="en-US" sz="4400" spc="-1" strike="noStrike">
                <a:solidFill>
                  <a:srgbClr val="330033"/>
                </a:solidFill>
                <a:latin typeface="Times New Roman"/>
              </a:rPr>
              <a:t>XVIII</a:t>
            </a:r>
            <a:r>
              <a:rPr b="1" i="1" lang="ru-RU" sz="4400" spc="-1" strike="noStrike">
                <a:solidFill>
                  <a:srgbClr val="330033"/>
                </a:solidFill>
                <a:latin typeface="Times New Roman"/>
              </a:rPr>
              <a:t> в.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905120" y="3885840"/>
            <a:ext cx="64008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лабление правящей династии в период петровских рефор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685800" y="5410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3962520" y="5842080"/>
            <a:ext cx="4724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Ткачев Михаил Владимир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МОУ Остафьевская СО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Анна Ивановна  ( 1730 – 40 гг.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1"/>
          <a:stretch/>
        </p:blipFill>
        <p:spPr>
          <a:xfrm>
            <a:off x="3124080" y="1676520"/>
            <a:ext cx="3264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998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Анна Ивановн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685800" y="1676520"/>
            <a:ext cx="1600200" cy="10666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ит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рь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2286000" y="1676520"/>
            <a:ext cx="2514600" cy="10666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инициати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ховного Тай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ета составляю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6934320" y="1828800"/>
            <a:ext cx="1904760" cy="24382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Кондиц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ло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гла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престо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нкт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граничиваю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ла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нар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685800" y="3276720"/>
            <a:ext cx="4038480" cy="11430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оначальное соглас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ны Ивановны на «кондиц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их последующая ликвидац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8"/>
          <p:cNvSpPr/>
          <p:nvPr/>
        </p:nvSpPr>
        <p:spPr>
          <a:xfrm>
            <a:off x="685800" y="4952880"/>
            <a:ext cx="3276720" cy="16002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Бироновщин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5257800" y="4952880"/>
            <a:ext cx="3276720" cy="16002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рнст – Иоганн Бирон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аворит Анны Ивановн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з которого она 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имала государстве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10"/>
          <p:cNvSpPr/>
          <p:nvPr/>
        </p:nvSpPr>
        <p:spPr>
          <a:xfrm>
            <a:off x="4800600" y="2057400"/>
            <a:ext cx="2133720" cy="304920"/>
          </a:xfrm>
          <a:prstGeom prst="rightArrow">
            <a:avLst>
              <a:gd name="adj1" fmla="val 50000"/>
              <a:gd name="adj2" fmla="val 174941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1"/>
          <p:cNvSpPr/>
          <p:nvPr/>
        </p:nvSpPr>
        <p:spPr>
          <a:xfrm>
            <a:off x="4724280" y="3581280"/>
            <a:ext cx="2210040" cy="304920"/>
          </a:xfrm>
          <a:prstGeom prst="leftArrow">
            <a:avLst>
              <a:gd name="adj1" fmla="val 50000"/>
              <a:gd name="adj2" fmla="val 181198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12"/>
          <p:cNvSpPr/>
          <p:nvPr/>
        </p:nvSpPr>
        <p:spPr>
          <a:xfrm>
            <a:off x="1295280" y="274320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3"/>
          <p:cNvSpPr/>
          <p:nvPr/>
        </p:nvSpPr>
        <p:spPr>
          <a:xfrm>
            <a:off x="3962520" y="5562720"/>
            <a:ext cx="1295280" cy="304560"/>
          </a:xfrm>
          <a:prstGeom prst="leftRightArrow">
            <a:avLst>
              <a:gd name="adj1" fmla="val 50000"/>
              <a:gd name="adj2" fmla="val 84665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352680" y="380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Выводы 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2437920"/>
            <a:ext cx="7772400" cy="36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орцовые перевороты и смена прав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существу не изменили коренным образом сущность самодержавной монарх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изошли некоторые изменения в структура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ения государством ( упразднен Верховный Тайный Совет, создан Кабинет министров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5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8" dur="2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Используемые материалы 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.В. Кириллов. Отечественная история. М.,20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тербург. Здание Кунсткамеры и Академии наук. Гравюра 18 в., enc.lib.rus.ec, 09.12.201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на Ивановна , www.glavagosudarstva.ru, 09.12.201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чанов Григорий Дмитриевич. Портрет Петра II , www.artsait.ru , 09.12.20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2971440"/>
            <a:ext cx="762012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Цель: раскрыть  предпосылки и сущность дворцовых переворотов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403848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и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учить учащихся правильно определять причинно-следственные связи в период дворцовых переворо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учить учащихся понимать смысл престола наследника императорской власти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2084400" y="6010200"/>
            <a:ext cx="839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4"/>
          <p:cNvSpPr/>
          <p:nvPr/>
        </p:nvSpPr>
        <p:spPr>
          <a:xfrm>
            <a:off x="0" y="15228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акат: «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едпосылк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дворцовых переворотов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VII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5"/>
          <p:cNvSpPr/>
          <p:nvPr/>
        </p:nvSpPr>
        <p:spPr>
          <a:xfrm>
            <a:off x="609480" y="175248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ный плакат создан для изучения и закрепления материала по теме: «дворцовые переворот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VI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.» для учащихся 7-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487656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редпосыл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07" name="Organization Chart 6"/>
          <p:cNvGrpSpPr/>
          <p:nvPr/>
        </p:nvGrpSpPr>
        <p:grpSpPr>
          <a:xfrm>
            <a:off x="0" y="1523880"/>
            <a:ext cx="9143280" cy="5027400"/>
            <a:chOff x="0" y="1523880"/>
            <a:chExt cx="9143280" cy="5027400"/>
          </a:xfrm>
        </p:grpSpPr>
        <p:cxnSp>
          <p:nvCxnSpPr>
            <p:cNvPr id="108" name="_s1028"/>
            <p:cNvCxnSpPr>
              <a:stCxn id="109" idx="0"/>
              <a:endCxn id="110" idx="2"/>
            </p:cNvCxnSpPr>
            <p:nvPr/>
          </p:nvCxnSpPr>
          <p:spPr>
            <a:xfrm flipV="1" rot="16200000">
              <a:off x="5668200" y="2436840"/>
              <a:ext cx="1006200" cy="3200760"/>
            </a:xfrm>
            <a:prstGeom prst="bentConnector3">
              <a:avLst>
                <a:gd name="adj1" fmla="val 207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1" name="_s1029"/>
            <p:cNvCxnSpPr>
              <a:stCxn id="112" idx="0"/>
              <a:endCxn id="110" idx="2"/>
            </p:cNvCxnSpPr>
            <p:nvPr/>
          </p:nvCxnSpPr>
          <p:spPr>
            <a:xfrm flipV="1">
              <a:off x="4571280" y="3534120"/>
              <a:ext cx="3240" cy="1006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3" name="_s1030"/>
            <p:cNvCxnSpPr>
              <a:stCxn id="114" idx="0"/>
              <a:endCxn id="110" idx="2"/>
            </p:cNvCxnSpPr>
            <p:nvPr/>
          </p:nvCxnSpPr>
          <p:spPr>
            <a:xfrm flipH="1" flipV="1" rot="5400000">
              <a:off x="2469600" y="2438280"/>
              <a:ext cx="1006200" cy="3197880"/>
            </a:xfrm>
            <a:prstGeom prst="bentConnector3">
              <a:avLst>
                <a:gd name="adj1" fmla="val 207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0" name="_s1031"/>
            <p:cNvSpPr/>
            <p:nvPr/>
          </p:nvSpPr>
          <p:spPr>
            <a:xfrm>
              <a:off x="3200040" y="1523880"/>
              <a:ext cx="2742840" cy="201096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 Ослабл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правяще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династии в перио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петровски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рефор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1032"/>
            <p:cNvSpPr/>
            <p:nvPr/>
          </p:nvSpPr>
          <p:spPr>
            <a:xfrm>
              <a:off x="0" y="4540320"/>
              <a:ext cx="2742840" cy="201096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</a:rPr>
                <a:t>Конфликт Петра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</a:rPr>
                <a:t>и царевича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200" spc="-1" strike="noStrike">
                  <a:solidFill>
                    <a:srgbClr val="000000"/>
                  </a:solidFill>
                  <a:latin typeface="Arial"/>
                </a:rPr>
                <a:t>Алексея,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</a:rPr>
                <a:t>завершившийс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</a:rPr>
                <a:t>гибелью наследника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1033"/>
            <p:cNvSpPr/>
            <p:nvPr/>
          </p:nvSpPr>
          <p:spPr>
            <a:xfrm>
              <a:off x="3200040" y="4540320"/>
              <a:ext cx="2742840" cy="201096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Изменени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традиционной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системы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престолонаследи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034"/>
            <p:cNvSpPr/>
            <p:nvPr/>
          </p:nvSpPr>
          <p:spPr>
            <a:xfrm>
              <a:off x="6400440" y="4540320"/>
              <a:ext cx="2742840" cy="201096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Установлени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династических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связей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германскими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государствами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Line 15"/>
          <p:cNvSpPr/>
          <p:nvPr/>
        </p:nvSpPr>
        <p:spPr>
          <a:xfrm>
            <a:off x="914400" y="6629400"/>
            <a:ext cx="693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6"/>
          <p:cNvSpPr/>
          <p:nvPr/>
        </p:nvSpPr>
        <p:spPr>
          <a:xfrm flipV="1">
            <a:off x="914400" y="6324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7"/>
          <p:cNvSpPr/>
          <p:nvPr/>
        </p:nvSpPr>
        <p:spPr>
          <a:xfrm flipV="1">
            <a:off x="7848720" y="6324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редпосыл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19" name="Organization Chart 16"/>
          <p:cNvGrpSpPr/>
          <p:nvPr/>
        </p:nvGrpSpPr>
        <p:grpSpPr>
          <a:xfrm>
            <a:off x="0" y="1295280"/>
            <a:ext cx="8990640" cy="5332680"/>
            <a:chOff x="0" y="1295280"/>
            <a:chExt cx="8990640" cy="5332680"/>
          </a:xfrm>
        </p:grpSpPr>
        <p:cxnSp>
          <p:nvCxnSpPr>
            <p:cNvPr id="120" name="_s2052"/>
            <p:cNvCxnSpPr>
              <a:stCxn id="121" idx="0"/>
              <a:endCxn id="122" idx="2"/>
            </p:cNvCxnSpPr>
            <p:nvPr/>
          </p:nvCxnSpPr>
          <p:spPr>
            <a:xfrm flipV="1" rot="16200000">
              <a:off x="5187600" y="2750760"/>
              <a:ext cx="1036800" cy="2420640"/>
            </a:xfrm>
            <a:prstGeom prst="bentConnector3">
              <a:avLst>
                <a:gd name="adj1" fmla="val 1299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3" name="_s2053"/>
            <p:cNvCxnSpPr>
              <a:stCxn id="124" idx="0"/>
              <a:endCxn id="122" idx="2"/>
            </p:cNvCxnSpPr>
            <p:nvPr/>
          </p:nvCxnSpPr>
          <p:spPr>
            <a:xfrm flipH="1" flipV="1" rot="5400000">
              <a:off x="2766600" y="2750400"/>
              <a:ext cx="1036800" cy="2421720"/>
            </a:xfrm>
            <a:prstGeom prst="bentConnector3">
              <a:avLst>
                <a:gd name="adj1" fmla="val 12990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22" name="_s2054"/>
            <p:cNvSpPr/>
            <p:nvPr/>
          </p:nvSpPr>
          <p:spPr>
            <a:xfrm>
              <a:off x="2421000" y="1295280"/>
              <a:ext cx="4149360" cy="2133000"/>
            </a:xfrm>
            <a:prstGeom prst="bracketPair">
              <a:avLst>
                <a:gd name="adj" fmla="val 50000"/>
              </a:avLst>
            </a:prstGeom>
            <a:noFill/>
            <a:ln w="2844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Arial"/>
                </a:rPr>
                <a:t>Это  привело к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2055"/>
            <p:cNvSpPr/>
            <p:nvPr/>
          </p:nvSpPr>
          <p:spPr>
            <a:xfrm>
              <a:off x="0" y="4494960"/>
              <a:ext cx="4149360" cy="2133000"/>
            </a:xfrm>
            <a:prstGeom prst="bracketPair">
              <a:avLst>
                <a:gd name="adj" fmla="val 50000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появлению разных 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в том числ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и иностранных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претендентов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на престол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2056"/>
            <p:cNvSpPr/>
            <p:nvPr/>
          </p:nvSpPr>
          <p:spPr>
            <a:xfrm>
              <a:off x="4841280" y="4494960"/>
              <a:ext cx="4149360" cy="2133000"/>
            </a:xfrm>
            <a:prstGeom prst="bracketPair">
              <a:avLst>
                <a:gd name="adj" fmla="val 50000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усилению борьбы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за власть межд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придворным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группировкам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5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редпосыл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294920"/>
            <a:ext cx="807732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Строительство новой столицы – Санкт – Петербур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 монарх оказывался отрезанным от основ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асти страны и мог стать заложником собствен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ру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4290840" y="3492360"/>
            <a:ext cx="495000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2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редпосыл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28195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Создание Петро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вардии – элитных воинск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ков ( Семеновский, Преображенский ), ставш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струментом власти, главной военной силы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олице, усилиями которой и совершал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орцовые переворо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76360" y="3045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Екатерина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I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tretch/>
        </p:blipFill>
        <p:spPr>
          <a:xfrm>
            <a:off x="2590920" y="2057400"/>
            <a:ext cx="347796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равление Екатерины 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I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(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1725-27гг.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4419720" y="1523880"/>
            <a:ext cx="380880" cy="76212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1295280" y="2286000"/>
            <a:ext cx="7086600" cy="6858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властие  А.Д.Меншик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3352320"/>
            <a:ext cx="7772400" cy="27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ние Верховного Тайного Совета( 8 февраля 1726 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должение политики Петр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крытие Академии наук ( 1725 г.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спедиция В.Беринга на северо-восточную оконечность Аз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равление Петра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II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( 1727 -30 гг.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7" name="Picture 4" descr="Петр 2"/>
          <p:cNvPicPr/>
          <p:nvPr/>
        </p:nvPicPr>
        <p:blipFill>
          <a:blip r:embed="rId1"/>
          <a:stretch/>
        </p:blipFill>
        <p:spPr>
          <a:xfrm>
            <a:off x="0" y="0"/>
            <a:ext cx="1330200" cy="170496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5"/>
          <p:cNvSpPr/>
          <p:nvPr/>
        </p:nvSpPr>
        <p:spPr>
          <a:xfrm>
            <a:off x="685800" y="2057400"/>
            <a:ext cx="2133720" cy="13716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.Д.Менш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3809880" y="2057400"/>
            <a:ext cx="2057400" cy="13716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рьб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 влия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молод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ар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6629400" y="2057400"/>
            <a:ext cx="2057400" cy="13716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нязь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лгору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.И.Остерм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2819520" y="23623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9"/>
          <p:cNvSpPr/>
          <p:nvPr/>
        </p:nvSpPr>
        <p:spPr>
          <a:xfrm flipH="1">
            <a:off x="5866920" y="23623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0"/>
          <p:cNvSpPr/>
          <p:nvPr/>
        </p:nvSpPr>
        <p:spPr>
          <a:xfrm>
            <a:off x="5867280" y="2971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1"/>
          <p:cNvSpPr/>
          <p:nvPr/>
        </p:nvSpPr>
        <p:spPr>
          <a:xfrm flipH="1">
            <a:off x="2819160" y="297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2"/>
          <p:cNvSpPr/>
          <p:nvPr/>
        </p:nvSpPr>
        <p:spPr>
          <a:xfrm>
            <a:off x="1828800" y="3429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3"/>
          <p:cNvSpPr/>
          <p:nvPr/>
        </p:nvSpPr>
        <p:spPr>
          <a:xfrm>
            <a:off x="4876920" y="3429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4"/>
          <p:cNvSpPr/>
          <p:nvPr/>
        </p:nvSpPr>
        <p:spPr>
          <a:xfrm>
            <a:off x="5867280" y="34290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5"/>
          <p:cNvSpPr/>
          <p:nvPr/>
        </p:nvSpPr>
        <p:spPr>
          <a:xfrm>
            <a:off x="762120" y="4114800"/>
            <a:ext cx="228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нтябрь 1727г. Опала и ссылка «полудержавноговластелин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7"/>
          <p:cNvSpPr/>
          <p:nvPr/>
        </p:nvSpPr>
        <p:spPr>
          <a:xfrm flipV="1" rot="10800000">
            <a:off x="3047760" y="4114080"/>
            <a:ext cx="2819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желание  Петр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I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ниматься серьезной государственной деятельност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8"/>
          <p:cNvSpPr/>
          <p:nvPr/>
        </p:nvSpPr>
        <p:spPr>
          <a:xfrm>
            <a:off x="1828800" y="6095880"/>
            <a:ext cx="6477120" cy="5335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мерть 14-летнего Петр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в январе 1730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12-03-10T12:39:02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