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305-5338-40CA-A673-CBB50C31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2318-C5F0-448D-8C0B-8BC4322F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986-4A39-4894-9D3E-B7A5D9B9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ACBD-0B69-4D51-B885-6F019F75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19A2-5441-4ADF-A476-1C93B908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2BF7-AB26-4B73-92A5-6AC4F634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8F36-EC84-4B80-BE5C-449C606D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1757-DFD1-46BB-AAD7-329D0142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911C-0EF8-4F0C-96A8-45766617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4357-44BE-4024-ACE6-D3AE53E9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42A0-D6BD-4D74-945F-14E36C29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85B-2E2F-40B5-B2C6-1EEB1B79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E2E9-5F26-4F9D-A99D-EAB3CAAC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7618-1DA8-4898-AB98-33003F94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CD77-6117-414D-809A-FB9DA76B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9161-B886-4114-B0E8-4820442E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0169-240F-4344-A0C1-292AE87C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617-EE90-459B-A2C8-4B985B1C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BE4-AB55-4C67-BB7B-FE2ABA57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EBE-F29D-4B04-99ED-FC9302F4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5508-9A43-4D3C-9C9B-5EECB486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0FC-3AB4-4DDC-B18B-E1693052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8F6-4FFC-4FF1-A052-4E017260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6CA-60BC-44C2-8C3E-65C5977A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C89A-9684-45D4-BAA9-E6CD67B9A3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7013-055B-4565-9DD6-61B38ABFDB6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305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0033"/>
                </a:solidFill>
                <a:latin typeface="Times New Roman"/>
              </a:rPr>
              <a:t>Дворцовые  перевороты </a:t>
            </a:r>
            <a:r>
              <a:rPr b="1" i="1" lang="en-US" sz="4400" spc="-1" strike="noStrike">
                <a:solidFill>
                  <a:srgbClr val="330033"/>
                </a:solidFill>
                <a:latin typeface="Times New Roman"/>
              </a:rPr>
              <a:t>XVIII</a:t>
            </a:r>
            <a:r>
              <a:rPr b="1" i="1" lang="ru-RU" sz="4400" spc="-1" strike="noStrike">
                <a:solidFill>
                  <a:srgbClr val="330033"/>
                </a:solidFill>
                <a:latin typeface="Times New Roman"/>
              </a:rPr>
              <a:t> в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05120" y="38858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абление правящей династии в период петровских рефо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85800" y="541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962520" y="5842080"/>
            <a:ext cx="4724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Ткачев Михаил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МОУ Остафьевская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нна Ивановна  ( 1730 – 40 гг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3264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998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нна Иванов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5800" y="1676520"/>
            <a:ext cx="1600200" cy="1066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ь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286000" y="1676520"/>
            <a:ext cx="2514600" cy="1066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инициати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ховного Тай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а составл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6934320" y="1828800"/>
            <a:ext cx="1904760" cy="2438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ди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гла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рест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нк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ив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ар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685800" y="3276720"/>
            <a:ext cx="4038480" cy="1143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начальное соглас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ы Ивановны на «конди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их последующая ликвид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685800" y="4952880"/>
            <a:ext cx="3276720" cy="1600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ироновщ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257800" y="4952880"/>
            <a:ext cx="3276720" cy="1600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рнст – Иоганн Биро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ворит Анны Иванов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которого она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имала государств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4800600" y="2057400"/>
            <a:ext cx="2133720" cy="304920"/>
          </a:xfrm>
          <a:prstGeom prst="rightArrow">
            <a:avLst>
              <a:gd name="adj1" fmla="val 50000"/>
              <a:gd name="adj2" fmla="val 17494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4724280" y="3581280"/>
            <a:ext cx="2210040" cy="304920"/>
          </a:xfrm>
          <a:prstGeom prst="leftArrow">
            <a:avLst>
              <a:gd name="adj1" fmla="val 50000"/>
              <a:gd name="adj2" fmla="val 18119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1295280" y="27432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3962520" y="5562720"/>
            <a:ext cx="1295280" cy="304560"/>
          </a:xfrm>
          <a:prstGeom prst="leftRightArrow">
            <a:avLst>
              <a:gd name="adj1" fmla="val 50000"/>
              <a:gd name="adj2" fmla="val 8466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3526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ы 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7724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рцовые перевороты и смена прав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уществу не изменили коренным образом сущность самодержавной монарх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ошли некоторые изменения в структур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я государством ( упразднен Верховный Тайный Совет, создан Кабинет министров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спользуемые материалы 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В. Кириллов. Отечественная история. М.,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ербург. Здание Кунсткамеры и Академии наук. Гравюра 18 в., enc.lib.rus.ec, 09.12.20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на Ивановна , www.glavagosudarstva.ru, 09.12.20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чанов Григорий Дмитриевич. Портрет Петра II , www.artsait.ru , 09.12.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971440"/>
            <a:ext cx="76201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Цель: раскрыть  предпосылки и сущность дворцовых переворотов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4038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 учащихся правильно определять причинно-следственные связи в период дворцовых переворо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 учащихся понимать смысл престола наследника императорской власти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084400" y="6010200"/>
            <a:ext cx="83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0" y="15228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кат: «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осыл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ворцовых переворото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609480" y="17524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й плакат создан для изучения и закрепления материала по теме: «дворцовые перевор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.» для учащихся 7-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487656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едпосыл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7" name="Organization Chart 6"/>
          <p:cNvGrpSpPr/>
          <p:nvPr/>
        </p:nvGrpSpPr>
        <p:grpSpPr>
          <a:xfrm>
            <a:off x="0" y="1523880"/>
            <a:ext cx="9143280" cy="5027400"/>
            <a:chOff x="0" y="1523880"/>
            <a:chExt cx="9143280" cy="502740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668200" y="2436840"/>
              <a:ext cx="1006200" cy="3200760"/>
            </a:xfrm>
            <a:prstGeom prst="bentConnector3">
              <a:avLst>
                <a:gd name="adj1" fmla="val 20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>
              <a:off x="4571280" y="3534120"/>
              <a:ext cx="3240" cy="100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469600" y="2438280"/>
              <a:ext cx="1006200" cy="3197880"/>
            </a:xfrm>
            <a:prstGeom prst="bentConnector3">
              <a:avLst>
                <a:gd name="adj1" fmla="val 20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031"/>
            <p:cNvSpPr/>
            <p:nvPr/>
          </p:nvSpPr>
          <p:spPr>
            <a:xfrm>
              <a:off x="3200040" y="1523880"/>
              <a:ext cx="2742840" cy="2010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Ослаб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авящ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династии в пери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етровски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рефор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0" y="4540320"/>
              <a:ext cx="2742840" cy="2010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Конфликт Петра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и царевич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Алексея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завершившийс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гибелью наследник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200040" y="4540320"/>
              <a:ext cx="2742840" cy="2010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Измен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традиционно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систем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престолонаслед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6400440" y="4540320"/>
              <a:ext cx="2742840" cy="2010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Установл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династически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связе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германским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государствам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15"/>
          <p:cNvSpPr/>
          <p:nvPr/>
        </p:nvSpPr>
        <p:spPr>
          <a:xfrm>
            <a:off x="914400" y="66294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 flipV="1">
            <a:off x="914400" y="6324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 flipV="1">
            <a:off x="7848720" y="6324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едпосыл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9" name="Organization Chart 16"/>
          <p:cNvGrpSpPr/>
          <p:nvPr/>
        </p:nvGrpSpPr>
        <p:grpSpPr>
          <a:xfrm>
            <a:off x="0" y="1295280"/>
            <a:ext cx="8990640" cy="5332680"/>
            <a:chOff x="0" y="1295280"/>
            <a:chExt cx="8990640" cy="5332680"/>
          </a:xfrm>
        </p:grpSpPr>
        <p:cxnSp>
          <p:nvCxnSpPr>
            <p:cNvPr id="120" name="_s2052"/>
            <p:cNvCxnSpPr>
              <a:stCxn id="121" idx="0"/>
              <a:endCxn id="122" idx="2"/>
            </p:cNvCxnSpPr>
            <p:nvPr/>
          </p:nvCxnSpPr>
          <p:spPr>
            <a:xfrm flipV="1" rot="16200000">
              <a:off x="5187600" y="2750760"/>
              <a:ext cx="1036800" cy="2420640"/>
            </a:xfrm>
            <a:prstGeom prst="bentConnector3">
              <a:avLst>
                <a:gd name="adj1" fmla="val 1299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3" name="_s2053"/>
            <p:cNvCxnSpPr>
              <a:stCxn id="124" idx="0"/>
              <a:endCxn id="122" idx="2"/>
            </p:cNvCxnSpPr>
            <p:nvPr/>
          </p:nvCxnSpPr>
          <p:spPr>
            <a:xfrm flipH="1" flipV="1" rot="5400000">
              <a:off x="2766600" y="2750400"/>
              <a:ext cx="1036800" cy="2421720"/>
            </a:xfrm>
            <a:prstGeom prst="bentConnector3">
              <a:avLst>
                <a:gd name="adj1" fmla="val 1299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2" name="_s2054"/>
            <p:cNvSpPr/>
            <p:nvPr/>
          </p:nvSpPr>
          <p:spPr>
            <a:xfrm>
              <a:off x="2421000" y="1295280"/>
              <a:ext cx="4149360" cy="2133000"/>
            </a:xfrm>
            <a:prstGeom prst="bracketPair">
              <a:avLst>
                <a:gd name="adj" fmla="val 50000"/>
              </a:avLst>
            </a:prstGeom>
            <a:noFill/>
            <a:ln w="284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Это  привело к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055"/>
            <p:cNvSpPr/>
            <p:nvPr/>
          </p:nvSpPr>
          <p:spPr>
            <a:xfrm>
              <a:off x="0" y="4494960"/>
              <a:ext cx="4149360" cy="2133000"/>
            </a:xfrm>
            <a:prstGeom prst="bracketPair">
              <a:avLst>
                <a:gd name="adj" fmla="val 5000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явлению разных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 том числ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 иностранны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етенденто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 престо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056"/>
            <p:cNvSpPr/>
            <p:nvPr/>
          </p:nvSpPr>
          <p:spPr>
            <a:xfrm>
              <a:off x="4841280" y="4494960"/>
              <a:ext cx="4149360" cy="2133000"/>
            </a:xfrm>
            <a:prstGeom prst="bracketPair">
              <a:avLst>
                <a:gd name="adj" fmla="val 5000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силению борьб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за власть межд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идворны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группировка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едпосыл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80773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троительство новой столицы – Санкт – 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монарх оказывался отрезанным от осно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и страны и мог стать заложником собств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4290840" y="3492360"/>
            <a:ext cx="49500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едпосыл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оздание Петр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вардии – элитных воин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ков ( Семеновский, Преображенский ), став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ом власти, главной военной силы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ице, усилиями которой и соверш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рцовые перевор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76360" y="3045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Екатерина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34779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авление Екатерины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(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1725-27гг.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4419720" y="15238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295280" y="2286000"/>
            <a:ext cx="7086600" cy="685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властие  А.Д.Менши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3352320"/>
            <a:ext cx="777240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Верховного Тайного Совета( 8 февраля 1726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ение политики Пет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ие Академии наук ( 1725 г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диция В.Беринга на северо-восточную оконечность А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авление Петра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I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( 1727 -30 гг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Picture 4" descr="Петр 2"/>
          <p:cNvPicPr/>
          <p:nvPr/>
        </p:nvPicPr>
        <p:blipFill>
          <a:blip r:embed="rId1"/>
          <a:stretch/>
        </p:blipFill>
        <p:spPr>
          <a:xfrm>
            <a:off x="0" y="0"/>
            <a:ext cx="1330200" cy="17049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685800" y="2057400"/>
            <a:ext cx="2133720" cy="1371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Д.Менш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809880" y="2057400"/>
            <a:ext cx="2057400" cy="1371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ьб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вли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олод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6629400" y="2057400"/>
            <a:ext cx="2057400" cy="1371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яз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гору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И.Остер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819520" y="23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 flipH="1">
            <a:off x="5866920" y="2362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586728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 flipH="1">
            <a:off x="2819160" y="297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1828800" y="3429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487692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586728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762120" y="41148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тябрь 1727г. Опала и ссылка «полудержавноговластели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 flipV="1" rot="10800000">
            <a:off x="3047760" y="4114080"/>
            <a:ext cx="2819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елание  Пет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иматься серьезной государственной деяте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8"/>
          <p:cNvSpPr/>
          <p:nvPr/>
        </p:nvSpPr>
        <p:spPr>
          <a:xfrm>
            <a:off x="1828800" y="6095880"/>
            <a:ext cx="6477120" cy="5335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рть 14-летнего Пет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 январе 17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2-03-10T12:39:02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