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646-4426-4DDC-BC57-6576DFEA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19E-714C-4809-ADAE-8145B88D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221-FD4F-494F-A686-00881C10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990-2E2B-46E0-813C-A6713FAC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182F-ED21-4ECD-898F-C86AB53A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8E1A-0573-448B-9B16-BC1E602E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904E-B7B4-42BB-B22F-8117E2C0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D83A-94CE-425E-BEFD-A70604E2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42D3-9911-470C-8927-EF7A1F46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048D-99A9-49CF-8209-602E5781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FD98-0926-4499-9642-8F0BC97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8DD-BD81-4D38-B66D-1B1BC3F4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B132-3185-4337-B055-E35EB52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05F-8888-40D2-A382-CFF7DE4E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211D-27A6-4F51-B3EC-D3267578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D14B-1555-4C00-82E6-301D651A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F109-1E55-4B3B-92AE-521A8F95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728-8755-4F84-A2A6-4F940F97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04A-F183-4C25-B642-4A29B011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FF7-2857-4F68-9626-0004ED7A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08B-C55D-45F7-A3B4-026620FC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17B-D82D-4E4C-8480-A8E2481B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77C3-CB17-4168-B5F6-06A38A45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44C-CA17-4332-BF8C-722DCEE7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9BFA-E35F-4B9C-BBFA-6A27230218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61F1-19B9-4D00-9DFF-F679D7D1C2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Дворцовые  перевороты </a:t>
            </a:r>
            <a:r>
              <a:rPr b="1" i="1" lang="en-US" sz="4400" spc="-1" strike="noStrike">
                <a:solidFill>
                  <a:srgbClr val="330033"/>
                </a:solidFill>
                <a:latin typeface="Times New Roman"/>
              </a:rPr>
              <a:t>XVIII</a:t>
            </a:r>
            <a:r>
              <a:rPr b="1" i="1" lang="ru-RU" sz="4400" spc="-1" strike="noStrike">
                <a:solidFill>
                  <a:srgbClr val="330033"/>
                </a:solidFill>
                <a:latin typeface="Times New Roman"/>
              </a:rPr>
              <a:t> в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5120" y="38858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абление правящей династии в период петровских ре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962520" y="584208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Ткачев Михаил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ОУ Остафье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нна Ивановна  ( 1730 – 40 гг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264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998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нна Иванов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" y="1676520"/>
            <a:ext cx="16002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286000" y="1676520"/>
            <a:ext cx="2514600" cy="1066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нициат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ховного Тай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та соста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934320" y="1828800"/>
            <a:ext cx="1904760" cy="2438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ди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л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е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нк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и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ар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85800" y="3276720"/>
            <a:ext cx="4038480" cy="1143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е соглас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ы Ивановны на «конди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их последующая ликвид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85800" y="4952880"/>
            <a:ext cx="3276720" cy="1600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ироновщ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257800" y="4952880"/>
            <a:ext cx="3276720" cy="1600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рнст – Иоганн Биро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ворит Анны Иванов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которого она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ла государ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4800600" y="2057400"/>
            <a:ext cx="2133720" cy="304920"/>
          </a:xfrm>
          <a:prstGeom prst="rightArrow">
            <a:avLst>
              <a:gd name="adj1" fmla="val 50000"/>
              <a:gd name="adj2" fmla="val 17494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4724280" y="3581280"/>
            <a:ext cx="2210040" cy="304920"/>
          </a:xfrm>
          <a:prstGeom prst="leftArrow">
            <a:avLst>
              <a:gd name="adj1" fmla="val 50000"/>
              <a:gd name="adj2" fmla="val 18119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1295280" y="27432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3962520" y="5562720"/>
            <a:ext cx="1295280" cy="304560"/>
          </a:xfrm>
          <a:prstGeom prst="leftRightArrow">
            <a:avLst>
              <a:gd name="adj1" fmla="val 50000"/>
              <a:gd name="adj2" fmla="val 8466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7724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цовые перевороты и смена прав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ществу не изменили коренным образом сущность самодержавной монарх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ошли некоторые изменения в структу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я государством ( упразднен Верховный Тайный Совет, создан Кабинет министров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уемые материалы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В. Кириллов. Отечественная история. М.,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тербург. Здание Кунсткамеры и Академии наук. Гравюра 18 в., enc.lib.rus.ec, 09.12.20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на Ивановна , www.glavagosudarstva.ru, 09.12.20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чанов Григорий Дмитриевич. Портрет Петра II , www.artsait.ru , 09.12.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971440"/>
            <a:ext cx="76201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Цель: раскрыть  предпосылки и сущность дворцовых переворо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учащихся правильно определять причинно-следственные связи в период дворцовых перевор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учащихся понимать смысл престола наследника императорской власт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084400" y="6010200"/>
            <a:ext cx="83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0" y="1522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кат: «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ворцовых переворот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609480" y="17524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й плакат создан для изучения и закрепления материала по теме: «дворцовые перевор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» для учащихся 7-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487656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0" y="1523880"/>
            <a:ext cx="9143280" cy="5027400"/>
            <a:chOff x="0" y="1523880"/>
            <a:chExt cx="9143280" cy="502740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668200" y="2436840"/>
              <a:ext cx="1006200" cy="3200760"/>
            </a:xfrm>
            <a:prstGeom prst="bentConnector3">
              <a:avLst>
                <a:gd name="adj1" fmla="val 20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71280" y="3534120"/>
              <a:ext cx="3240" cy="10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469600" y="2438280"/>
              <a:ext cx="1006200" cy="3197880"/>
            </a:xfrm>
            <a:prstGeom prst="bentConnector3">
              <a:avLst>
                <a:gd name="adj1" fmla="val 20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200040" y="152388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Ослабл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авящ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инастии в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етровс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ефор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0" y="454032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Конфликт Петра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и царевич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Алексея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вершившийс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гибелью наследник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200040" y="454032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Измен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традиционно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рестолонаслед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400440" y="454032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Установл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династически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связе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германским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государствам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5"/>
          <p:cNvSpPr/>
          <p:nvPr/>
        </p:nvSpPr>
        <p:spPr>
          <a:xfrm>
            <a:off x="914400" y="66294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 flipV="1">
            <a:off x="914400" y="6324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 flipV="1">
            <a:off x="7848720" y="6324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9" name="Organization Chart 16"/>
          <p:cNvGrpSpPr/>
          <p:nvPr/>
        </p:nvGrpSpPr>
        <p:grpSpPr>
          <a:xfrm>
            <a:off x="0" y="1295280"/>
            <a:ext cx="8990640" cy="5332680"/>
            <a:chOff x="0" y="1295280"/>
            <a:chExt cx="8990640" cy="5332680"/>
          </a:xfrm>
        </p:grpSpPr>
        <p:cxnSp>
          <p:nvCxnSpPr>
            <p:cNvPr id="120" name="_s2052"/>
            <p:cNvCxnSpPr>
              <a:stCxn id="121" idx="0"/>
              <a:endCxn id="122" idx="2"/>
            </p:cNvCxnSpPr>
            <p:nvPr/>
          </p:nvCxnSpPr>
          <p:spPr>
            <a:xfrm flipV="1" rot="16200000">
              <a:off x="5187600" y="2750760"/>
              <a:ext cx="1036800" cy="2420640"/>
            </a:xfrm>
            <a:prstGeom prst="bentConnector3">
              <a:avLst>
                <a:gd name="adj1" fmla="val 1299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_s2053"/>
            <p:cNvCxnSpPr>
              <a:stCxn id="124" idx="0"/>
              <a:endCxn id="122" idx="2"/>
            </p:cNvCxnSpPr>
            <p:nvPr/>
          </p:nvCxnSpPr>
          <p:spPr>
            <a:xfrm flipH="1" flipV="1" rot="5400000">
              <a:off x="2766600" y="2750400"/>
              <a:ext cx="1036800" cy="2421720"/>
            </a:xfrm>
            <a:prstGeom prst="bentConnector3">
              <a:avLst>
                <a:gd name="adj1" fmla="val 1299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2" name="_s2054"/>
            <p:cNvSpPr/>
            <p:nvPr/>
          </p:nvSpPr>
          <p:spPr>
            <a:xfrm>
              <a:off x="2421000" y="1295280"/>
              <a:ext cx="4149360" cy="213300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Это  привело к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055"/>
            <p:cNvSpPr/>
            <p:nvPr/>
          </p:nvSpPr>
          <p:spPr>
            <a:xfrm>
              <a:off x="0" y="4494960"/>
              <a:ext cx="4149360" cy="213300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явлению разных 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том числ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 иностранны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тендент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на престо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56"/>
            <p:cNvSpPr/>
            <p:nvPr/>
          </p:nvSpPr>
          <p:spPr>
            <a:xfrm>
              <a:off x="4841280" y="4494960"/>
              <a:ext cx="4149360" cy="2133000"/>
            </a:xfrm>
            <a:prstGeom prst="bracketPair">
              <a:avLst>
                <a:gd name="adj" fmla="val 50000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силению борьб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за власть межд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идворны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группировка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80773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роительство новой столицы – Санкт –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монарх оказывался отрезанным от осно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и страны и мог стать заложником соб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290840" y="3492360"/>
            <a:ext cx="4950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посыл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Пет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вардии – элитных во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ков ( Семеновский, Преображенский ), став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ом власти, главной военной силы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ице, усилиями которой и соверш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рцовые перевор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Екатерина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590920" y="2057400"/>
            <a:ext cx="34779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авление Екатерины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725-27гг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4419720" y="152388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295280" y="2286000"/>
            <a:ext cx="70866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властие  А.Д.Менши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335232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Верховного Тайного Совета( 8 февраля 1726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ение политик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е Академии наук ( 1725 г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диция В.Беринга на северо-восточную оконечность 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авление Петра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I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( 1727 -30 гг.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4" descr="Петр 2"/>
          <p:cNvPicPr/>
          <p:nvPr/>
        </p:nvPicPr>
        <p:blipFill>
          <a:blip r:embed="rId1"/>
          <a:stretch/>
        </p:blipFill>
        <p:spPr>
          <a:xfrm>
            <a:off x="0" y="0"/>
            <a:ext cx="1330200" cy="17049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685800" y="2057400"/>
            <a:ext cx="213372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Д.Менш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09880" y="2057400"/>
            <a:ext cx="20574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рьб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вли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олод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629400" y="2057400"/>
            <a:ext cx="2057400" cy="1371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яз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ру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И.Остер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819520" y="2362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5866920" y="2362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586728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H="1">
            <a:off x="281916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1828800" y="342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487692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586728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62120" y="41148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тябрь 1727г. Опала и ссылка «полудержавноговластел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 flipV="1" rot="10800000">
            <a:off x="3047760" y="411408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ание 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иматься серьезной государстве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1828800" y="6095880"/>
            <a:ext cx="6477120" cy="533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рть 14-летнего Пет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январе 17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2-03-10T12:39:0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