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568F-7593-4035-8C01-487C4429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8380-3D6A-499E-8202-451E2686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8BF-52C3-4C02-A519-88EF82F7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897-DB76-4535-910B-2E321527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5DB3-10A9-47C8-99E0-7AC8779B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0AC6-3E72-4767-AB5D-29A6B066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4F0B-6D2A-4199-BDE5-6826FA48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7168-C88C-4E80-B347-3C19586C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EB6D-452F-4B47-BA30-C497A02F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91404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42B7-AEBF-448A-9301-EED09600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AC2E-BE6F-4EA7-9466-83237591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A599-CEED-418A-A3B8-6AFF7F4B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AF13-5C1F-444E-A597-56DCA9C6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D9C1-FE2B-4671-8778-6D4295E1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0121-26BB-431B-A256-10FD8256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AC78-C81C-4879-8AFC-2DCA6C01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9F2F-12E8-4AD6-A55E-301C5AC2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7B4FB-4E1B-40D1-8D57-DE07F3A6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A1FA-355A-43CE-B26B-D8FEF0B4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F12AA-A819-44D7-9193-40F01EEE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94344-C580-4BF6-B8D1-27FDD7FF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DDECB-95D2-4820-A907-370A4D08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A59-B37D-4F7C-9E80-B5278F29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43200" y="91404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55BF-4198-41C0-BA6F-AA9514BA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7E59A-7506-4DB1-A1A7-330DF866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1617-6725-4705-BA44-CE3C81C1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1AB53-7DCF-4F29-A63D-BCADAAA1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6BC34-48B7-476D-9FF5-A762EAC3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408FC-D2BB-4883-B856-AF5ABA1A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78C9-3DF2-44FF-A0AE-C9BCB5D2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657-88BA-4B79-8AED-4C5EA249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743200" y="91404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170-883F-42DA-9B78-232AD200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743200" y="91404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91404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39B-CF64-4148-8385-9BBA9FF3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33F-8DB8-4DAA-8EA9-DE5F992B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335-A613-4436-A0C6-0DBCE93D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FA5C-BB83-42AC-98EB-18C4950F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940A-14BC-4FA8-8000-BE4E77EA1C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8B54-F5F0-4D25-8CFB-04075DFF37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D7C9-33F5-4B27-BA44-C0EC8ED64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ockergnome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2" marL="1108440" indent="-221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3" marL="1551960" indent="-2214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4" marL="1995480" indent="-2214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5" marL="1995480" indent="-2214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6" marL="1995480" indent="-2214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ockergnome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2" marL="1108440" indent="-221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3" marL="1551960" indent="-2214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4" marL="1995480" indent="-2214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5" marL="1995480" indent="-2214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6" marL="1995480" indent="-2214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барцумова Анна Павловна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«КСОШ№1»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род Кингисепп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ockergnome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1" name="WordArt 2"/>
          <p:cNvSpPr txBox="1"/>
          <p:nvPr/>
        </p:nvSpPr>
        <p:spPr>
          <a:xfrm>
            <a:off x="3214800" y="3071880"/>
            <a:ext cx="378612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Have got</a:t>
            </a:r>
            <a:endParaRPr b="1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2625120" y="1071720"/>
            <a:ext cx="30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ockergnome"/>
              </a:rPr>
              <a:t>Form senten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"/>
          <p:cNvSpPr/>
          <p:nvPr/>
        </p:nvSpPr>
        <p:spPr>
          <a:xfrm>
            <a:off x="228600" y="1652400"/>
            <a:ext cx="40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2c0"/>
                </a:solidFill>
                <a:latin typeface="Times New Roman"/>
                <a:ea typeface="Calibri"/>
              </a:rPr>
              <a:t>1.  Kathy / a ball / h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214200" y="222372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2c0"/>
                </a:solidFill>
                <a:latin typeface="Times New Roman"/>
                <a:ea typeface="Calibri"/>
              </a:rPr>
              <a:t>2. the / many / house / windows / h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214200" y="2783160"/>
            <a:ext cx="4945320" cy="7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2c0"/>
                </a:solidFill>
                <a:latin typeface="Times New Roman"/>
                <a:ea typeface="Calibri"/>
              </a:rPr>
              <a:t>3. have / all / cars / whee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402c0"/>
                </a:solidFill>
                <a:latin typeface="Comic Sans MS"/>
                <a:ea typeface="Calibri"/>
              </a:rPr>
              <a:t>	</a:t>
            </a:r>
            <a:r>
              <a:rPr b="1" lang="en-US" sz="1100" spc="-1" strike="noStrike">
                <a:solidFill>
                  <a:srgbClr val="f402c0"/>
                </a:solidFill>
                <a:latin typeface="Comic Sans MS"/>
                <a:ea typeface="Calibri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14200" y="3283200"/>
            <a:ext cx="6224760" cy="7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2c0"/>
                </a:solidFill>
                <a:latin typeface="Times New Roman"/>
                <a:ea typeface="Calibri"/>
              </a:rPr>
              <a:t>4. red / a / that / nose / has / cl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402c0"/>
                </a:solidFill>
                <a:latin typeface="Comic Sans MS"/>
                <a:ea typeface="Calibri"/>
              </a:rPr>
              <a:t>	</a:t>
            </a:r>
            <a:r>
              <a:rPr b="1" lang="en-US" sz="1100" spc="-1" strike="noStrike">
                <a:solidFill>
                  <a:srgbClr val="f402c0"/>
                </a:solidFill>
                <a:latin typeface="Comic Sans MS"/>
                <a:ea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4200" y="386676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2c0"/>
                </a:solidFill>
                <a:latin typeface="Times New Roman"/>
                <a:ea typeface="Calibri"/>
              </a:rPr>
              <a:t>5. have / legs / spiders / si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357120" y="117324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428760" y="1643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500040" y="107172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freeoboi.ru/wallpaper/malchik-na-velosipede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оугольник 5"/>
          <p:cNvSpPr/>
          <p:nvPr/>
        </p:nvSpPr>
        <p:spPr>
          <a:xfrm>
            <a:off x="642960" y="19288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weblancer.net/users/Natvorilka/portfolio/467237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оугольник 12"/>
          <p:cNvSpPr/>
          <p:nvPr/>
        </p:nvSpPr>
        <p:spPr>
          <a:xfrm>
            <a:off x="650880" y="271476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webmarket.ru/dir/104/1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13"/>
          <p:cNvSpPr/>
          <p:nvPr/>
        </p:nvSpPr>
        <p:spPr>
          <a:xfrm>
            <a:off x="642960" y="314316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deti.religiousbook.org.ua/big_foto/krolik2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14"/>
          <p:cNvSpPr/>
          <p:nvPr/>
        </p:nvSpPr>
        <p:spPr>
          <a:xfrm>
            <a:off x="571680" y="385776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clubs.ya.ru/4611686018427451676/replies.xml?item_no=287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-2176920"/>
            <a:ext cx="6648480" cy="806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ockergnome"/>
                <a:ea typeface="SimSun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ockergnome"/>
                <a:ea typeface="SimSun"/>
              </a:rPr>
              <a:t>                         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Affirmative</a:t>
            </a:r>
            <a:endParaRPr b="0" lang="en-US" sz="60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Long for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Short form</a:t>
            </a:r>
            <a:endParaRPr b="0" lang="en-US" sz="3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I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ave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’ve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ave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You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’ve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e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has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e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’s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Sh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has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She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’s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It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has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It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’s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W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ave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We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’ve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ave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You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’ve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They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ave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They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‘ve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3000"/>
                                        <p:tgtEl>
                                          <p:spTgt spid="2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50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2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500"/>
                            </p:stCondLst>
                            <p:childTnLst>
                              <p:par>
                                <p:cTn id="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2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2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20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20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5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0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0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0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0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0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0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6000" spc="-1" strike="noStrike">
                <a:solidFill>
                  <a:srgbClr val="000000"/>
                </a:solidFill>
                <a:latin typeface="Lockergnome"/>
              </a:rPr>
              <a:t>Negative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Long form</a:t>
            </a:r>
            <a:endParaRPr b="0" lang="en-US" sz="32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I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 not got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 no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He </a:t>
            </a:r>
            <a:r>
              <a:rPr b="1" lang="en-GB" sz="2400" spc="-1" strike="noStrike">
                <a:solidFill>
                  <a:srgbClr val="ff0000"/>
                </a:solidFill>
                <a:latin typeface="Lockergnome"/>
              </a:rPr>
              <a:t>has not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got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She </a:t>
            </a:r>
            <a:r>
              <a:rPr b="1" lang="en-GB" sz="2400" spc="-1" strike="noStrike">
                <a:solidFill>
                  <a:srgbClr val="ff0000"/>
                </a:solidFill>
                <a:latin typeface="Lockergnome"/>
              </a:rPr>
              <a:t>has not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got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It </a:t>
            </a:r>
            <a:r>
              <a:rPr b="1" lang="en-GB" sz="2400" spc="-1" strike="noStrike">
                <a:solidFill>
                  <a:srgbClr val="ff0000"/>
                </a:solidFill>
                <a:latin typeface="Lockergnome"/>
              </a:rPr>
              <a:t>has not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 got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We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 not got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 no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They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 not got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</a:t>
            </a:r>
            <a:r>
              <a:rPr b="1" lang="en-US" sz="3200" spc="-1" strike="noStrike">
                <a:solidFill>
                  <a:srgbClr val="000000"/>
                </a:solidFill>
                <a:latin typeface="Lockergnome"/>
              </a:rPr>
              <a:t> form</a:t>
            </a:r>
            <a:endParaRPr b="0" lang="en-US" sz="32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I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n’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n’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He </a:t>
            </a:r>
            <a:r>
              <a:rPr b="1" lang="en-GB" sz="2400" spc="-1" strike="noStrike">
                <a:solidFill>
                  <a:srgbClr val="ff0000"/>
                </a:solidFill>
                <a:latin typeface="Lockergnome"/>
              </a:rPr>
              <a:t>hasn’t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She </a:t>
            </a:r>
            <a:r>
              <a:rPr b="1" lang="en-GB" sz="2400" spc="-1" strike="noStrike">
                <a:solidFill>
                  <a:srgbClr val="ff0000"/>
                </a:solidFill>
                <a:latin typeface="Lockergnome"/>
              </a:rPr>
              <a:t>hasn’t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It </a:t>
            </a:r>
            <a:r>
              <a:rPr b="1" lang="en-GB" sz="2400" spc="-1" strike="noStrike">
                <a:solidFill>
                  <a:srgbClr val="ff0000"/>
                </a:solidFill>
                <a:latin typeface="Lockergnome"/>
              </a:rPr>
              <a:t>hasn’t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We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n’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n’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They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n’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2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1571760" y="932400"/>
            <a:ext cx="507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Times New Roman"/>
                <a:ea typeface="SimSun"/>
              </a:rPr>
              <a:t>Interrogativ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2071800" y="1928880"/>
            <a:ext cx="5357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Hav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I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Hav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you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Ha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he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Ha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she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Ha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it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Hav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we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Hav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you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Hav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they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928960" y="23202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Comic Sans MS"/>
                <a:ea typeface="SimSu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6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6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285840" y="93384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Look at the pictures and write sentences with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have g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has g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. Then write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negativ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interrogativ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 sentences, as in the exam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14200" y="520524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(boy / bik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392040" y="2571840"/>
            <a:ext cx="3251160" cy="2600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3714840" y="2374920"/>
            <a:ext cx="47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1. The boy has got a b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9"/>
          <p:cNvSpPr/>
          <p:nvPr/>
        </p:nvSpPr>
        <p:spPr>
          <a:xfrm>
            <a:off x="3857760" y="29289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2. The boy hasn’t got a b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3. Has the boy got a bi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000240" y="1000080"/>
            <a:ext cx="3429000" cy="36734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3643200" y="4859280"/>
            <a:ext cx="25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girl/do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928960" y="928800"/>
            <a:ext cx="2643120" cy="3849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0" y="4956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(cat/kitt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857240" y="1071720"/>
            <a:ext cx="4749840" cy="35780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2442960" y="4930560"/>
            <a:ext cx="35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(Rabbits / big ear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6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6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2500200" y="1144440"/>
            <a:ext cx="3302280" cy="3641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2512800" y="5001840"/>
            <a:ext cx="30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(woman/flow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12:01:32Z</dcterms:created>
  <dc:creator>хани</dc:creator>
  <dc:description/>
  <dc:language>en-US</dc:language>
  <cp:lastModifiedBy>хани</cp:lastModifiedBy>
  <dcterms:modified xsi:type="dcterms:W3CDTF">2011-07-30T08:48:03Z</dcterms:modified>
  <cp:revision>30</cp:revision>
  <dc:subject/>
  <dc:title>Слайд 1</dc:title>
</cp:coreProperties>
</file>