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594-15AB-4D2E-AC23-3D987F7A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2C9-F732-450C-8568-2B388071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43F-FC2D-49BA-97B5-5256C529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714-15F0-4EE6-920A-9A7A9D2F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E48-0784-44C9-A8EE-DD324A1F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7FBB-2C07-44A9-B65E-FB33B6B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0952-61FD-41DF-A051-25506BA6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5FA-7469-47AB-8C43-82344ADA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57D0-A30E-4D23-A229-9DC16913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6B87-16C9-412F-9FE2-67251BBD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280-24A3-455E-B23F-8C1E64A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86E-6C23-4CEF-8F0F-54D2193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2BF4-A87C-43BA-9BBD-0AF4CE0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D8E1-8868-45E5-89CE-99D90F4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9B33-B3EB-4279-9FDB-8134466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7289-58E2-433A-930F-A8341489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900-99EC-4E18-8DB0-A1F58EFF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8375-B622-4A71-A1C6-187D4B59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9273-499E-4531-87F8-97BB6309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8459-89C6-4DE7-BE56-F5CA5DE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6017-35B3-40AB-A947-F4471F9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365D-6A69-4B24-95B9-1B9FD8C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D1A-4957-4846-9F4E-B2F71C4B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B4DE-8EC7-4A88-9BD2-A56317B3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5595-DA09-402C-9E15-56C9577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2D1B-C892-4BE7-A2C4-3DFEC69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439E-69EE-45A9-ABD9-20BBA7C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4A0E-79BB-41C1-A766-5C90D25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A884-D645-4AC1-9FE6-D690425F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7A12-F487-41CD-A030-CF68B641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0AA-3C54-4EFF-86C8-27920624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210-E3CE-43B8-BAF6-E27B4FA7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4E1-5610-4B99-BF23-4F7C78BE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1AD-CE5E-44D8-B62E-14C59476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B7-248F-4046-94D1-6621E4E0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D68-EC6A-4DFD-A61F-FFD05B64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D7C-0A41-44D4-99E2-20C52C67C2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7B1-8D82-4172-BAB6-497663F61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C7DC-8C80-44E6-9118-D18FA062B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барцумова Анна Павловна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«КСОШ№1»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од Кингисепп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1" name="WordArt 2"/>
          <p:cNvSpPr txBox="1"/>
          <p:nvPr/>
        </p:nvSpPr>
        <p:spPr>
          <a:xfrm>
            <a:off x="3214800" y="3071880"/>
            <a:ext cx="378612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Have got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625120" y="107172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ockergnome"/>
              </a:rPr>
              <a:t>Form sent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228600" y="165240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1.  Kathy / a ball / 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214200" y="222372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2. the / many / house / windows / 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14200" y="2783160"/>
            <a:ext cx="494532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3. have / all / cars / whe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14200" y="3283200"/>
            <a:ext cx="622476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4. red / a / that / nose / has / cl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4200" y="386676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5. have / legs / spiders / s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117324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4287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0004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reeoboi.ru/wallpaper/malchik-na-velosiped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642960" y="19288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eblancer.net/users/Natvorilka/portfolio/467237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650880" y="27147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ebmarket.ru/dir/104/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642960" y="31431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eti.religiousbook.org.ua/big_foto/krolik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4"/>
          <p:cNvSpPr/>
          <p:nvPr/>
        </p:nvSpPr>
        <p:spPr>
          <a:xfrm>
            <a:off x="571680" y="38577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lubs.ya.ru/4611686018427451676/replies.xml?item_no=28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-2176920"/>
            <a:ext cx="6648480" cy="80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ockergnome"/>
                <a:ea typeface="SimSu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ockergnome"/>
                <a:ea typeface="SimSun"/>
              </a:rPr>
              <a:t>                        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Affirmative</a:t>
            </a:r>
            <a:endParaRPr b="0" lang="en-US" sz="6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ong for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hort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Sh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Sh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W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The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‘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3000"/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Lockergnome"/>
              </a:rPr>
              <a:t>Negativ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ong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S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Lockergnome"/>
              </a:rPr>
              <a:t>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S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571760" y="93240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  <a:ea typeface="SimSun"/>
              </a:rPr>
              <a:t>Interrog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2071800" y="192888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I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you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s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it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w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you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they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28960" y="23202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SimSu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6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85840" y="9338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ok at the pictures and write sentences with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have g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has g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. Then writ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negati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interrogati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sentences, as in the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14200" y="520524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boy / b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92040" y="2571840"/>
            <a:ext cx="3251160" cy="2600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3714840" y="237492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1. The boy has got a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3857760" y="29289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2. The boy hasn’t got a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3. Has the boy got a b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000240" y="1000080"/>
            <a:ext cx="3429000" cy="36734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643200" y="485928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girl/do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928960" y="928800"/>
            <a:ext cx="2643120" cy="3849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4956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cat/kit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4749840" cy="3578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2442960" y="493056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(Rabbits / big ea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500200" y="1144440"/>
            <a:ext cx="3302280" cy="3641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2512800" y="500184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woman/flow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2:01:32Z</dcterms:created>
  <dc:creator>хани</dc:creator>
  <dc:description/>
  <dc:language>en-US</dc:language>
  <cp:lastModifiedBy>хани</cp:lastModifiedBy>
  <dcterms:modified xsi:type="dcterms:W3CDTF">2011-07-30T08:48:03Z</dcterms:modified>
  <cp:revision>30</cp:revision>
  <dc:subject/>
  <dc:title>Слайд 1</dc:title>
</cp:coreProperties>
</file>