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90E-2548-4DFF-B629-A1BDA7D4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158-6550-491A-AA85-D1317EA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42C-FDC0-492E-8461-480FBFBC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E10-E69C-47BE-8629-6D7E7B4E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B4E-F72B-4C17-ABAB-425172C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9E0A-2E71-41C6-97E1-1E7166B7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8CBF-2AEA-43D8-9DB6-42D8C295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6720-17D1-4A85-BC45-F256EC37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2517-8121-4C67-9587-BEC96BDA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C495-A0E3-475A-96C9-8478FE5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EA99-4C3E-414C-8618-1A2AEA4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3DE-357B-4D07-8488-165A64D7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B2A0-5EFF-47CA-9FF3-031B1BF2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8EBB-E67F-40AE-98E8-FAF9D66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1106-7162-4180-9F48-3A4E4577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F70-37EC-4282-971A-8694CAAD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9E49-9022-40BA-9F9A-F661BF62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251F-64C9-4AFF-B25D-1648435B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4E75-FD7C-48AE-AE0C-7A86C9E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8A18-11AF-484D-83E6-F1B9433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99D6B-6B57-4751-8BE6-8DEAE87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20AD-B711-4F63-95C0-BC71555C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D012-F17C-429B-82D6-EA99AE5E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DF36-1558-4126-9280-CFF48CF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B7C9-97F9-4559-9507-2760043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B756-BB80-44F9-9727-0E377A9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5765-99F4-45F5-B7AA-615F63C3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AC50-02CF-4385-B372-D45905B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A87D-AC7B-443F-89E3-18542750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1CEA-8F3B-41B2-BC72-59602AFF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1F3-2EDC-46C7-A446-3AC2DBE9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56-C178-4843-BB2E-DAA48B3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79B-CE95-461C-9DF8-9873C077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E5C-6914-4558-BAD3-27A175E7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2E7-6617-41F8-A46E-1E0F4497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DD4-806B-4A30-B75B-2F6F141E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DEB4-30CD-44CB-A139-05ABA5BCF3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512E-3BF2-4ADB-ACBE-B28A879B0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4602-4958-4039-876B-D5E5AFDE2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барцумова Анна Павловн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КСОШ№1»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род Кингисепп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1" name="WordArt 2"/>
          <p:cNvSpPr txBox="1"/>
          <p:nvPr/>
        </p:nvSpPr>
        <p:spPr>
          <a:xfrm>
            <a:off x="3214800" y="3071880"/>
            <a:ext cx="378612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Have got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625120" y="1071720"/>
            <a:ext cx="30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ockergnome"/>
              </a:rPr>
              <a:t>Form sent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228600" y="165240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1.  Kathy / a ball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214200" y="222372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2. the / many / house / windows / h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14200" y="2783160"/>
            <a:ext cx="494532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3. have / all / cars / whe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14200" y="3283200"/>
            <a:ext cx="622476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4. red / a / that / nose / has / cl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1" lang="en-US" sz="1100" spc="-1" strike="noStrike">
                <a:solidFill>
                  <a:srgbClr val="f402c0"/>
                </a:solidFill>
                <a:latin typeface="Comic Sans MS"/>
                <a:ea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4200" y="386676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02c0"/>
                </a:solidFill>
                <a:latin typeface="Times New Roman"/>
                <a:ea typeface="Calibri"/>
              </a:rPr>
              <a:t>5. have / legs / spiders / si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117324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4287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500040" y="107172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reeoboi.ru/wallpaper/malchik-na-velosiped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оугольник 5"/>
          <p:cNvSpPr/>
          <p:nvPr/>
        </p:nvSpPr>
        <p:spPr>
          <a:xfrm>
            <a:off x="642960" y="19288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eblancer.net/users/Natvorilka/portfolio/467237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650880" y="27147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ebmarket.ru/dir/104/1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642960" y="31431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deti.religiousbook.org.ua/big_foto/krolik2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14"/>
          <p:cNvSpPr/>
          <p:nvPr/>
        </p:nvSpPr>
        <p:spPr>
          <a:xfrm>
            <a:off x="571680" y="38577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clubs.ya.ru/4611686018427451676/replies.xml?item_no=28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-2176920"/>
            <a:ext cx="6648480" cy="806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ockergnome"/>
                <a:ea typeface="SimSun"/>
              </a:rPr>
              <a:t>                        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Affirmative</a:t>
            </a: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Short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She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I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’s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W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You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’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have g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The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‘ve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3000"/>
                                        <p:tgtEl>
                                          <p:spTgt spid="2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20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0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0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0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6000" spc="-1" strike="noStrike">
                <a:solidFill>
                  <a:srgbClr val="000000"/>
                </a:solidFill>
                <a:latin typeface="Lockergnome"/>
              </a:rPr>
              <a:t>Negativ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Long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 no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 not got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25800" indent="-32580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1" lang="en-US" sz="3200" spc="-1" strike="noStrike">
                <a:solidFill>
                  <a:srgbClr val="000000"/>
                </a:solidFill>
                <a:latin typeface="Lockergnome"/>
              </a:rPr>
              <a:t> form</a:t>
            </a:r>
            <a:endParaRPr b="0" lang="en-US" sz="3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She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It </a:t>
            </a:r>
            <a:r>
              <a:rPr b="1" lang="en-GB" sz="2400" spc="-1" strike="noStrike">
                <a:solidFill>
                  <a:srgbClr val="ff0000"/>
                </a:solidFill>
                <a:latin typeface="Lockergnome"/>
              </a:rPr>
              <a:t>hasn’t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We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You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ockergnome"/>
              </a:rPr>
              <a:t>They </a:t>
            </a:r>
            <a:r>
              <a:rPr b="1" lang="en-GB" sz="2400" spc="-1" strike="noStrike">
                <a:solidFill>
                  <a:srgbClr val="000000"/>
                </a:solidFill>
                <a:latin typeface="Lockergnome"/>
              </a:rPr>
              <a:t>haven’t go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1571760" y="932400"/>
            <a:ext cx="507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2071800" y="1928880"/>
            <a:ext cx="5357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she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Ha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it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w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you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they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o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28960" y="23202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omic Sans MS"/>
                <a:ea typeface="SimSu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6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85840" y="93384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ok at the pictures and write sentences with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ve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has g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. Then writ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ne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interrogativ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sentences, as in the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14200" y="520524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boy / b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92040" y="2571840"/>
            <a:ext cx="3251160" cy="2600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3714840" y="237492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1. The boy has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3857760" y="29289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2. The boy hasn’t got a b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3. Has the boy got a b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000240" y="1000080"/>
            <a:ext cx="342900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3643200" y="485928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girl/do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928960" y="928800"/>
            <a:ext cx="2643120" cy="3849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4956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cat/kitt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4749840" cy="3578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2442960" y="4930560"/>
            <a:ext cx="35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(Rabbits / big ear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6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500200" y="1144440"/>
            <a:ext cx="3302280" cy="3641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2512800" y="5001840"/>
            <a:ext cx="30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SimSun"/>
              </a:rPr>
              <a:t>(woman/flow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2:01:32Z</dcterms:created>
  <dc:creator>хани</dc:creator>
  <dc:description/>
  <dc:language>en-US</dc:language>
  <cp:lastModifiedBy>хани</cp:lastModifiedBy>
  <dcterms:modified xsi:type="dcterms:W3CDTF">2011-07-30T08:48:03Z</dcterms:modified>
  <cp:revision>30</cp:revision>
  <dc:subject/>
  <dc:title>Слайд 1</dc:title>
</cp:coreProperties>
</file>