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5893-D1C0-40FF-9121-5E4A62FE7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6AA7-A496-4011-96DA-308D1677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5CE0-6441-4CE8-947E-152727B31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6788-F63C-45CA-B185-14622801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21AD-4A46-47E9-B1E5-98986AEF4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E4D6-EDF6-4512-BB31-1821E609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BBE7-9695-4970-AAEE-CB8ADAA7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FFE6-A4AA-4A3B-B4BB-9A1BB19E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26BA-0DF2-4C2C-B648-625F8E4B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079E-CF8E-4B4B-B07E-9D999742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5FBE-B28D-4EDD-A9EE-F37CFF35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4A3F-D3E9-4D56-AF9B-71CB151F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EFD1-D6CC-41E6-8C76-710FFB8B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F899-C33D-4333-8B26-CCABCB2D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6EED-B5E6-4141-A3FD-E77F6F08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AB10-0672-48D9-A5FB-6F40A48E6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4D66-D44A-4957-BF63-8F60EA4CC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169FA-2DEC-4168-B58A-330287CDE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9F7DF-4AE0-4ABE-83F7-F99CF398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A8E14-F266-4152-A263-B37DF69F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F3A6D-4289-457D-B198-5D3D222F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DE23B-6DD7-4A70-93F0-17828C08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2001-5DA5-4C5F-9669-E159C07C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E2118-2A75-4948-B9FC-9549297D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735E0-918A-4AF4-BA31-FEC7E563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31E8B-F689-4571-B657-3C0B4EF7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33FC7-AFA0-4D0A-BB18-23C9738B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AFACC-35D4-478B-A7B3-840249C4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E3325-ED8A-4F94-91B5-157859FF6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DDBAA-40A8-4454-9E9F-360C72942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341BF-51F4-45D1-B698-E4ECCE60D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E5D5A-1134-483C-BEA1-D4E3F946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D5F5F-5429-4685-BF6B-ADB05C3E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7159-217D-4641-ABC9-5162BACB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DD851-3850-4C7D-9F37-A4192D8A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57762-5E61-48C4-8364-21DF5A3E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3FA78-9212-4CB6-A7B9-E3F5F699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C8B55-2EC3-45E8-B11F-9DFFBE96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5F530-AD2F-4B4A-8150-25AEAA27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D3D10-5B53-4253-8A8C-4C5E88AD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FC9D4-5FDC-4C5C-B29A-6D08C402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1EDC6-9595-41D1-8A3B-985B472C6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6AEB9-7749-4CC9-813B-FFE0E446C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1A4DC-892D-4A69-9970-5D5AB6103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BDF8-36BA-4738-BBE1-E781DB1E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05CA7-B54B-4F56-B603-1CADA561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34A7B-1EF4-4184-83D3-64F575BB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DF2A8-5581-4B19-A6FA-AB787CF2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A218A-A3C9-4652-9157-3E93BCDC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A4289-EB15-4375-9FB8-DC018889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7D7ED-50C2-439E-9696-72142BB3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2D772-E81C-4BFC-9D0F-C31B0C4C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172CA-9370-4EBF-838E-5484EA8E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CA8F0-111C-475D-A1DC-56A20F2C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3E9A9-868F-4B67-8E15-A61C8EAF5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E39C-0342-4EAE-A709-5DD7AF3B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1E749-CD49-4116-8CE1-120A7449D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93DA7-21A8-4DFB-B79E-CF91D60D4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FA5BA-17A0-4CD7-94F9-95687571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1A5A8-E5D5-4299-84A2-5A50F9CD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2711B-6078-4781-809C-D2E2DED3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A0DF7-5BB5-448A-94F2-FC09C40C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DF4F0-7B10-41BE-9A11-A4D9D623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ABBCE-5698-40F4-B6E8-E6EC2219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0B8F8-E9C8-447F-80E9-BDB09348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82A17-87E9-4FE4-976E-820C36E6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0F60-310C-488B-AFFC-821AA9A7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6E33C-CD3E-4662-80FE-FE514C68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F06FF-44FF-4178-93C8-34FAB1B55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3C1FC-C5A8-4F97-9A3F-35FB9DEE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DA189-E007-48B2-8619-5C92F4460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73BF2-CD86-49B6-B25B-68F444C3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D1AF1-7332-4D75-B63D-11C14D27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0527B-1407-44F9-9461-F3E172FD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64BC0-A973-49C6-ABE5-2D519F92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D877A-D923-4ED0-B8A8-40C1ED64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CA066-49AE-4402-B8AA-48C97B26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53AC-C561-4540-ADDF-6001B5A9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239F1-3FE6-46D1-B332-93B16E62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4C300-E535-448C-8913-D67A3270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5B08A-882C-4927-969A-C8D90AAA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E7107-3E98-4AC7-B02A-1BB6BCE9E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5B22A-B048-487F-BF57-8A7D8F4E1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C4AD-A579-4C46-BA49-2B75420F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1C22-D96A-42DA-8F3D-229785DB2AB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D97E-D89F-4E6B-B199-888C4653D5B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5F45-351A-40B2-8939-1BC8FDAD369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6AC2-DF4B-4C83-8AA9-FDC3E02AB9B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1B52-215A-4F29-8785-7A7120C0873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ED62-FBE8-415F-9696-B8E6520FF8E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FC6E-8BA8-49E8-AA32-6DC69DBCD9F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C:\Users\Лаура\Desktop\48512291_c23e4eef.jpg"/>
          <p:cNvPicPr/>
          <p:nvPr/>
        </p:nvPicPr>
        <p:blipFill>
          <a:blip r:embed="rId1"/>
          <a:stretch/>
        </p:blipFill>
        <p:spPr>
          <a:xfrm>
            <a:off x="357120" y="268200"/>
            <a:ext cx="8501040" cy="63756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7772400" cy="22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AGCrownStyle"/>
              </a:rPr>
              <a:t>Художественный стиль речи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643200" y="3499920"/>
            <a:ext cx="550080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GCrownStyle"/>
              </a:rPr>
              <a:t>Учитель русского языка  и литературы МОУ СОШ №1 ст. Крыловской Крыяловского района Краснодарского края </a:t>
            </a:r>
            <a:r>
              <a:rPr b="0" lang="ru-RU" sz="3600" spc="-1" strike="noStrike">
                <a:solidFill>
                  <a:srgbClr val="c00000"/>
                </a:solidFill>
                <a:latin typeface="AGCrownStyle"/>
              </a:rPr>
              <a:t>Гайдарова А.С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4" descr="Скан030"/>
          <p:cNvPicPr/>
          <p:nvPr/>
        </p:nvPicPr>
        <p:blipFill>
          <a:blip r:embed="rId1"/>
          <a:stretch/>
        </p:blipFill>
        <p:spPr>
          <a:xfrm>
            <a:off x="1042920" y="1052640"/>
            <a:ext cx="6767640" cy="4860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4" descr="Скан031"/>
          <p:cNvPicPr/>
          <p:nvPr/>
        </p:nvPicPr>
        <p:blipFill>
          <a:blip r:embed="rId1"/>
          <a:stretch/>
        </p:blipFill>
        <p:spPr>
          <a:xfrm>
            <a:off x="684360" y="836640"/>
            <a:ext cx="8064360" cy="5703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4" descr="Скан034"/>
          <p:cNvPicPr/>
          <p:nvPr/>
        </p:nvPicPr>
        <p:blipFill>
          <a:blip r:embed="rId1"/>
          <a:stretch/>
        </p:blipFill>
        <p:spPr>
          <a:xfrm>
            <a:off x="468360" y="404640"/>
            <a:ext cx="8353440" cy="5965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4" descr="Скан032"/>
          <p:cNvPicPr/>
          <p:nvPr/>
        </p:nvPicPr>
        <p:blipFill>
          <a:blip r:embed="rId1"/>
          <a:stretch/>
        </p:blipFill>
        <p:spPr>
          <a:xfrm>
            <a:off x="250920" y="333360"/>
            <a:ext cx="864072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4" descr="Untitled-Scanned-03"/>
          <p:cNvPicPr/>
          <p:nvPr/>
        </p:nvPicPr>
        <p:blipFill>
          <a:blip r:embed="rId1"/>
          <a:stretch/>
        </p:blipFill>
        <p:spPr>
          <a:xfrm>
            <a:off x="684360" y="692280"/>
            <a:ext cx="7775280" cy="5495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4" descr="Скан033"/>
          <p:cNvPicPr/>
          <p:nvPr/>
        </p:nvPicPr>
        <p:blipFill>
          <a:blip r:embed="rId1"/>
          <a:stretch/>
        </p:blipFill>
        <p:spPr>
          <a:xfrm>
            <a:off x="179280" y="388800"/>
            <a:ext cx="8677440" cy="6197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4" descr="Скан040"/>
          <p:cNvPicPr/>
          <p:nvPr/>
        </p:nvPicPr>
        <p:blipFill>
          <a:blip r:embed="rId1"/>
          <a:stretch/>
        </p:blipFill>
        <p:spPr>
          <a:xfrm>
            <a:off x="358920" y="646200"/>
            <a:ext cx="8245440" cy="5891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4" descr="Скан038"/>
          <p:cNvPicPr/>
          <p:nvPr/>
        </p:nvPicPr>
        <p:blipFill>
          <a:blip r:embed="rId1"/>
          <a:stretch/>
        </p:blipFill>
        <p:spPr>
          <a:xfrm>
            <a:off x="0" y="333360"/>
            <a:ext cx="4541760" cy="63565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Скан039"/>
          <p:cNvPicPr/>
          <p:nvPr/>
        </p:nvPicPr>
        <p:blipFill>
          <a:blip r:embed="rId2"/>
          <a:stretch/>
        </p:blipFill>
        <p:spPr>
          <a:xfrm>
            <a:off x="4616280" y="333360"/>
            <a:ext cx="4527720" cy="6335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4" descr="Untitled-Scanned-02"/>
          <p:cNvPicPr/>
          <p:nvPr/>
        </p:nvPicPr>
        <p:blipFill>
          <a:blip r:embed="rId1"/>
          <a:stretch/>
        </p:blipFill>
        <p:spPr>
          <a:xfrm>
            <a:off x="539640" y="476280"/>
            <a:ext cx="8064720" cy="6000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4" descr="Untitled-Scanned-01"/>
          <p:cNvPicPr/>
          <p:nvPr/>
        </p:nvPicPr>
        <p:blipFill>
          <a:blip r:embed="rId1"/>
          <a:stretch/>
        </p:blipFill>
        <p:spPr>
          <a:xfrm>
            <a:off x="2195640" y="247680"/>
            <a:ext cx="4601880" cy="66103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4"/>
          <p:cNvSpPr/>
          <p:nvPr/>
        </p:nvSpPr>
        <p:spPr>
          <a:xfrm>
            <a:off x="4716360" y="450864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WordArt 5"/>
          <p:cNvSpPr txBox="1"/>
          <p:nvPr/>
        </p:nvSpPr>
        <p:spPr>
          <a:xfrm>
            <a:off x="684360" y="1052640"/>
            <a:ext cx="799128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щая характеристи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23" name="WordArt 7"/>
          <p:cNvSpPr txBox="1"/>
          <p:nvPr/>
        </p:nvSpPr>
        <p:spPr>
          <a:xfrm>
            <a:off x="2484360" y="3284640"/>
            <a:ext cx="457524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удожественног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24" name="WordArt 8"/>
          <p:cNvSpPr txBox="1"/>
          <p:nvPr/>
        </p:nvSpPr>
        <p:spPr>
          <a:xfrm>
            <a:off x="3132000" y="5084640"/>
            <a:ext cx="316872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иля реч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Скан042"/>
          <p:cNvPicPr/>
          <p:nvPr/>
        </p:nvPicPr>
        <p:blipFill>
          <a:blip r:embed="rId1"/>
          <a:stretch/>
        </p:blipFill>
        <p:spPr>
          <a:xfrm>
            <a:off x="4067280" y="208080"/>
            <a:ext cx="4878360" cy="664992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5"/>
          <p:cNvSpPr/>
          <p:nvPr/>
        </p:nvSpPr>
        <p:spPr>
          <a:xfrm>
            <a:off x="378000" y="1930320"/>
            <a:ext cx="361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5050"/>
                </a:solidFill>
                <a:latin typeface="Times New Roman"/>
              </a:rPr>
              <a:t>Фигуры реч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4" descr="Скан035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916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Скан036"/>
          <p:cNvPicPr/>
          <p:nvPr/>
        </p:nvPicPr>
        <p:blipFill>
          <a:blip r:embed="rId1"/>
          <a:stretch/>
        </p:blipFill>
        <p:spPr>
          <a:xfrm>
            <a:off x="826920" y="620640"/>
            <a:ext cx="7804440" cy="55753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4" descr="Скан037"/>
          <p:cNvPicPr/>
          <p:nvPr/>
        </p:nvPicPr>
        <p:blipFill>
          <a:blip r:embed="rId1"/>
          <a:stretch/>
        </p:blipFill>
        <p:spPr>
          <a:xfrm>
            <a:off x="468360" y="476280"/>
            <a:ext cx="8388360" cy="5994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5050"/>
                </a:solidFill>
                <a:latin typeface="Corbel"/>
              </a:rPr>
              <a:t>Определите вид изобразительно-выразительного средств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Corbel"/>
              </a:rPr>
              <a:t>1)Улыбкой ясною природ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Corbel"/>
              </a:rPr>
              <a:t>Сквозь сон встречает </a:t>
            </a:r>
            <a:r>
              <a:rPr b="0" i="1" lang="ru-RU" sz="2400" spc="-1" strike="noStrike">
                <a:solidFill>
                  <a:srgbClr val="cc3300"/>
                </a:solidFill>
                <a:latin typeface="Corbel"/>
              </a:rPr>
              <a:t>утро года</a:t>
            </a:r>
            <a:r>
              <a:rPr b="0" lang="ru-RU" sz="2400" spc="-1" strike="noStrike">
                <a:solidFill>
                  <a:srgbClr val="cc3300"/>
                </a:solidFill>
                <a:latin typeface="Corbe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Corbel"/>
              </a:rPr>
              <a:t>                               </a:t>
            </a:r>
            <a:r>
              <a:rPr b="0" lang="ru-RU" sz="2400" spc="-1" strike="noStrike">
                <a:solidFill>
                  <a:srgbClr val="cc3300"/>
                </a:solidFill>
                <a:latin typeface="Corbel"/>
              </a:rPr>
              <a:t>(А.Пушкин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                              </a:t>
            </a:r>
            <a:r>
              <a:rPr b="0" lang="ru-RU" sz="2400" spc="-1" strike="noStrike">
                <a:solidFill>
                  <a:srgbClr val="d60093"/>
                </a:solidFill>
                <a:latin typeface="Corbel"/>
              </a:rPr>
              <a:t>2)Но </a:t>
            </a:r>
            <a:r>
              <a:rPr b="0" i="1" lang="ru-RU" sz="2400" spc="-1" strike="noStrike">
                <a:solidFill>
                  <a:srgbClr val="d60093"/>
                </a:solidFill>
                <a:latin typeface="Corbel"/>
              </a:rPr>
              <a:t>красоты их безобразно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Corbel"/>
              </a:rPr>
              <a:t>                                           </a:t>
            </a:r>
            <a:r>
              <a:rPr b="0" lang="ru-RU" sz="2400" spc="-1" strike="noStrike">
                <a:solidFill>
                  <a:srgbClr val="d60093"/>
                </a:solidFill>
                <a:latin typeface="Corbel"/>
              </a:rPr>
              <a:t>Я скоро таинство постиг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Corbel"/>
              </a:rPr>
              <a:t>                                                                      </a:t>
            </a:r>
            <a:r>
              <a:rPr b="0" lang="ru-RU" sz="2400" spc="-1" strike="noStrike">
                <a:solidFill>
                  <a:srgbClr val="d60093"/>
                </a:solidFill>
                <a:latin typeface="Corbel"/>
              </a:rPr>
              <a:t>(М.Лермонтов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Corbel"/>
              </a:rPr>
              <a:t>3)Сияет солнце, воды блещут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Corbel"/>
              </a:rPr>
              <a:t>На всём улыбка, жизнь во всё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3300"/>
                </a:solidFill>
                <a:latin typeface="Corbel"/>
              </a:rPr>
              <a:t>Деревья</a:t>
            </a:r>
            <a:r>
              <a:rPr b="0" lang="ru-RU" sz="2400" spc="-1" strike="noStrike">
                <a:solidFill>
                  <a:srgbClr val="cc3300"/>
                </a:solidFill>
                <a:latin typeface="Corbel"/>
              </a:rPr>
              <a:t> радостно </a:t>
            </a:r>
            <a:r>
              <a:rPr b="0" i="1" lang="ru-RU" sz="2400" spc="-1" strike="noStrike">
                <a:solidFill>
                  <a:srgbClr val="cc3300"/>
                </a:solidFill>
                <a:latin typeface="Corbel"/>
              </a:rPr>
              <a:t>трепещут</a:t>
            </a:r>
            <a:r>
              <a:rPr b="0" lang="ru-RU" sz="2400" spc="-1" strike="noStrike">
                <a:solidFill>
                  <a:srgbClr val="cc3300"/>
                </a:solidFill>
                <a:latin typeface="Corbe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3300"/>
                </a:solidFill>
                <a:latin typeface="Corbel"/>
              </a:rPr>
              <a:t>Купаясь</a:t>
            </a:r>
            <a:r>
              <a:rPr b="0" lang="ru-RU" sz="2400" spc="-1" strike="noStrike">
                <a:solidFill>
                  <a:srgbClr val="cc3300"/>
                </a:solidFill>
                <a:latin typeface="Corbel"/>
              </a:rPr>
              <a:t> в небе голубо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Corbel"/>
              </a:rPr>
              <a:t>                            </a:t>
            </a:r>
            <a:r>
              <a:rPr b="0" lang="ru-RU" sz="2400" spc="-1" strike="noStrike">
                <a:solidFill>
                  <a:srgbClr val="cc3300"/>
                </a:solidFill>
                <a:latin typeface="Corbel"/>
              </a:rPr>
              <a:t>(Ф.Тютчев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4"/>
          <p:cNvSpPr/>
          <p:nvPr/>
        </p:nvSpPr>
        <p:spPr>
          <a:xfrm>
            <a:off x="0" y="1476720"/>
            <a:ext cx="889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4)Лошадку ведёт под уздцы мужич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В больших сапогах, в полушубке овчинн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В больших рукавицах… а сам </a:t>
            </a:r>
            <a:r>
              <a:rPr b="0" i="1" lang="ru-RU" sz="2400" spc="-1" strike="noStrike">
                <a:solidFill>
                  <a:srgbClr val="ff5050"/>
                </a:solidFill>
                <a:latin typeface="Arial"/>
              </a:rPr>
              <a:t>с ноготок</a:t>
            </a: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(Н.Некрас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5)  О красном вечере </a:t>
            </a:r>
            <a:r>
              <a:rPr b="0" i="1" lang="ru-RU" sz="2400" spc="-1" strike="noStrike">
                <a:solidFill>
                  <a:srgbClr val="d60093"/>
                </a:solidFill>
                <a:latin typeface="Arial"/>
              </a:rPr>
              <a:t>задумалась дорог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Кусты рябин туманней глуб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Изба-старуха </a:t>
            </a:r>
            <a:r>
              <a:rPr b="0" i="1" lang="ru-RU" sz="2400" spc="-1" strike="noStrike">
                <a:solidFill>
                  <a:srgbClr val="d60093"/>
                </a:solidFill>
                <a:latin typeface="Arial"/>
              </a:rPr>
              <a:t>челюстью пор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60093"/>
                </a:solidFill>
                <a:latin typeface="Arial"/>
              </a:rPr>
              <a:t>Жуёт</a:t>
            </a: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 пахучий мякиш тиш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60093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(С.Есен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91440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60093"/>
                </a:solidFill>
                <a:latin typeface="Corbel"/>
              </a:rPr>
              <a:t>6)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200" spc="-1" strike="noStrike">
                <a:solidFill>
                  <a:srgbClr val="d60093"/>
                </a:solidFill>
                <a:latin typeface="Corbel"/>
              </a:rPr>
              <a:t>Мне бы хотелось знать, отчего я </a:t>
            </a:r>
            <a:r>
              <a:rPr b="0" i="1" lang="ru-RU" sz="2200" spc="-1" strike="noStrike">
                <a:solidFill>
                  <a:srgbClr val="d60093"/>
                </a:solidFill>
                <a:latin typeface="Corbel"/>
              </a:rPr>
              <a:t>титулярный советник</a:t>
            </a:r>
            <a:r>
              <a:rPr b="0" lang="ru-RU" sz="2200" spc="-1" strike="noStrike">
                <a:solidFill>
                  <a:srgbClr val="d60093"/>
                </a:solidFill>
                <a:latin typeface="Corbel"/>
              </a:rPr>
              <a:t>? Почему именно </a:t>
            </a:r>
            <a:r>
              <a:rPr b="0" i="1" lang="ru-RU" sz="2200" spc="-1" strike="noStrike">
                <a:solidFill>
                  <a:srgbClr val="d60093"/>
                </a:solidFill>
                <a:latin typeface="Corbel"/>
              </a:rPr>
              <a:t>титулярный советник</a:t>
            </a:r>
            <a:r>
              <a:rPr b="0" lang="ru-RU" sz="2200" spc="-1" strike="noStrike">
                <a:solidFill>
                  <a:srgbClr val="d60093"/>
                </a:solidFill>
                <a:latin typeface="Corbel"/>
              </a:rPr>
              <a:t>?                  (Н.Гоголь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3300"/>
                </a:solidFill>
                <a:latin typeface="Corbel"/>
              </a:rPr>
              <a:t>7)Офицер – из пистолета, Теркин – в мягкое штыком. (А.Твардовский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5050"/>
                </a:solidFill>
                <a:latin typeface="Corbel"/>
              </a:rPr>
              <a:t>8)Нет, я хотел… быть может, вы… я думал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5050"/>
                </a:solidFill>
                <a:latin typeface="Corbel"/>
              </a:rPr>
              <a:t>Что уж барону время умереть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5050"/>
                </a:solidFill>
                <a:latin typeface="Corbel"/>
              </a:rPr>
              <a:t>                               </a:t>
            </a:r>
            <a:r>
              <a:rPr b="0" lang="ru-RU" sz="2200" spc="-1" strike="noStrike">
                <a:solidFill>
                  <a:srgbClr val="ff5050"/>
                </a:solidFill>
                <a:latin typeface="Corbel"/>
              </a:rPr>
              <a:t>(А.Пушкин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60093"/>
                </a:solidFill>
                <a:latin typeface="Corbel"/>
              </a:rPr>
              <a:t>9)Молодым везде у нас дорога, старикам везде у нас почет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60093"/>
                </a:solidFill>
                <a:latin typeface="Corbel"/>
              </a:rPr>
              <a:t>(В.Лебедев-Кумач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3300"/>
                </a:solidFill>
                <a:latin typeface="Corbel"/>
              </a:rPr>
              <a:t>10)Вывели лошадей. </a:t>
            </a:r>
            <a:r>
              <a:rPr b="0" i="1" lang="ru-RU" sz="2200" spc="-1" strike="noStrike">
                <a:solidFill>
                  <a:srgbClr val="cc3300"/>
                </a:solidFill>
                <a:latin typeface="Corbel"/>
              </a:rPr>
              <a:t>Не понравились они мне.</a:t>
            </a:r>
            <a:r>
              <a:rPr b="0" lang="ru-RU" sz="2200" spc="-1" strike="noStrike">
                <a:solidFill>
                  <a:srgbClr val="cc3300"/>
                </a:solidFill>
                <a:latin typeface="Corbel"/>
              </a:rPr>
              <a:t> (И.Тургенев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4"/>
          <p:cNvSpPr/>
          <p:nvPr/>
        </p:nvSpPr>
        <p:spPr>
          <a:xfrm>
            <a:off x="178920" y="257400"/>
            <a:ext cx="5101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11)Возложу на тетиву тугу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послушный лук согну в ду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(А. Пушк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12)Город грабил, грёб, грабаста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(В.Маяковс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2858040" y="2745360"/>
            <a:ext cx="6287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13) В каждый гвоздик душистой сирен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Распевая, вползает пчела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                                         </a:t>
            </a: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(А.Ф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14) Клянусь я первым днем творень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Клянусь его последним дне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                                         </a:t>
            </a: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(М.Лермон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15) Завыл, запел, взлетел на небо камен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И заволокся дымом весь карьер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                                           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(Заболоц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5050"/>
                </a:solidFill>
                <a:latin typeface="Corbel"/>
              </a:rPr>
              <a:t>Каждый стиль характеризуется следующими признаками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AutoShape 4"/>
          <p:cNvSpPr/>
          <p:nvPr/>
        </p:nvSpPr>
        <p:spPr>
          <a:xfrm rot="10800000">
            <a:off x="250920" y="2781360"/>
            <a:ext cx="2016000" cy="1944720"/>
          </a:xfrm>
          <a:prstGeom prst="wedgeRectCallout">
            <a:avLst>
              <a:gd name="adj1" fmla="val -168740"/>
              <a:gd name="adj2" fmla="val 126486"/>
            </a:avLst>
          </a:prstGeom>
          <a:gradFill rotWithShape="0">
            <a:gsLst>
              <a:gs pos="0">
                <a:srgbClr val="ffffcc"/>
              </a:gs>
              <a:gs pos="100000">
                <a:srgbClr val="ff9999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5"/>
          <p:cNvSpPr/>
          <p:nvPr/>
        </p:nvSpPr>
        <p:spPr>
          <a:xfrm rot="10800000">
            <a:off x="3276720" y="4653000"/>
            <a:ext cx="2808000" cy="1944720"/>
          </a:xfrm>
          <a:prstGeom prst="wedgeRectCallout">
            <a:avLst>
              <a:gd name="adj1" fmla="val -143"/>
              <a:gd name="adj2" fmla="val 224935"/>
            </a:avLst>
          </a:prstGeom>
          <a:gradFill rotWithShape="0">
            <a:gsLst>
              <a:gs pos="0">
                <a:srgbClr val="ff9999"/>
              </a:gs>
              <a:gs pos="100000">
                <a:srgbClr val="ffffcc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6"/>
          <p:cNvSpPr/>
          <p:nvPr/>
        </p:nvSpPr>
        <p:spPr>
          <a:xfrm rot="10800000">
            <a:off x="6877080" y="2852640"/>
            <a:ext cx="2016000" cy="1944720"/>
          </a:xfrm>
          <a:prstGeom prst="wedgeRectCallout">
            <a:avLst>
              <a:gd name="adj1" fmla="val 158421"/>
              <a:gd name="adj2" fmla="val 129916"/>
            </a:avLst>
          </a:prstGeom>
          <a:gradFill rotWithShape="0">
            <a:gsLst>
              <a:gs pos="0">
                <a:srgbClr val="ff9999"/>
              </a:gs>
              <a:gs pos="100000">
                <a:srgbClr val="ffffcc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179280" y="3357720"/>
            <a:ext cx="20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 об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3564000" y="5157720"/>
            <a:ext cx="233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бор язык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7018200" y="3213000"/>
            <a:ext cx="1652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жанры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отор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ществ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"/>
          <p:cNvGraphicFramePr/>
          <p:nvPr/>
        </p:nvGraphicFramePr>
        <p:xfrm>
          <a:off x="0" y="189000"/>
          <a:ext cx="9144000" cy="6294240"/>
        </p:xfrm>
        <a:graphic>
          <a:graphicData uri="http://schemas.openxmlformats.org/drawingml/2006/table">
            <a:tbl>
              <a:tblPr/>
              <a:tblGrid>
                <a:gridCol w="1332000"/>
                <a:gridCol w="1693800"/>
                <a:gridCol w="1547640"/>
                <a:gridCol w="1204920"/>
                <a:gridCol w="1457640"/>
                <a:gridCol w="19080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5050"/>
                          </a:solidFill>
                          <a:latin typeface="Times New Roman"/>
                          <a:ea typeface="Times New Roman"/>
                        </a:rPr>
                        <a:t>Стиль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5050"/>
                          </a:solidFill>
                          <a:latin typeface="Times New Roman"/>
                          <a:ea typeface="Times New Roman"/>
                        </a:rPr>
                        <a:t>Сфера общ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5050"/>
                          </a:solidFill>
                          <a:latin typeface="Times New Roman"/>
                          <a:ea typeface="Times New Roman"/>
                        </a:rPr>
                        <a:t>Цель общ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5050"/>
                          </a:solidFill>
                          <a:latin typeface="Times New Roman"/>
                          <a:ea typeface="Times New Roman"/>
                        </a:rPr>
                        <a:t>Набор языковых средст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5050"/>
                          </a:solidFill>
                          <a:latin typeface="Times New Roman"/>
                          <a:ea typeface="Times New Roman"/>
                        </a:rPr>
                        <a:t>Формы (жанры) языковых средст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5050"/>
                          </a:solidFill>
                          <a:latin typeface="Times New Roman"/>
                          <a:ea typeface="Times New Roman"/>
                        </a:rPr>
                        <a:t>Основные стилевые чер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Художественный стиль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Словесно-художественное творч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Воздействовать с помощью созданных образов на чувства и мысли читателей и слуш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Все языков-ые сред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трагедия, комедия, драма, роман, новелла, повесть, рассказ, стихотворение, басня, поэма, роман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Образность, конкретность, эмоциональность, оценочный характер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              </a:t>
            </a:r>
            <a:r>
              <a:rPr b="1" lang="ru-RU" sz="2500" spc="-1" strike="noStrike">
                <a:solidFill>
                  <a:srgbClr val="ff5050"/>
                </a:solidFill>
                <a:latin typeface="Times New Roman"/>
              </a:rPr>
              <a:t>Отрывок из повести А.Грина «Алые паруса».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0" y="95400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аленькая Асоль никогда не бывала так далеко в лесу, как теперь. Ей, поглощенной нетерпеливым желанием поймать игрушечную яхту с алыми парусами, не смотрелось по сторонам; возле берега ручья, где она суетилась, было довольно препятствий, занимавших внимание. Мшистые стволы упавших деревьев, ямы, высокий папоротник, кусты шиповника, жасмина и орешника – все это мешало ей на каждом шагу; одолевая эти препятствия, она постепенно теряла силы, останавливаясь все чаще и чаще, чтобы передохнуть или смахнуть с лица паутинку. Когда потянулись осоковые и тростниковые заросли, Асоль совсем было потеряла из вида алое сверкание парусов, но, обежав излучину течения, снова увидела их, степенно и неуклонно бегущих прочь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WordArt 5"/>
          <p:cNvSpPr txBox="1"/>
          <p:nvPr/>
        </p:nvSpPr>
        <p:spPr>
          <a:xfrm>
            <a:off x="611280" y="549360"/>
            <a:ext cx="49813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зобразительно-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36" name="WordArt 6"/>
          <p:cNvSpPr txBox="1"/>
          <p:nvPr/>
        </p:nvSpPr>
        <p:spPr>
          <a:xfrm>
            <a:off x="3635280" y="1989000"/>
            <a:ext cx="478656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ыразительны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37" name="WordArt 7"/>
          <p:cNvSpPr txBox="1"/>
          <p:nvPr/>
        </p:nvSpPr>
        <p:spPr>
          <a:xfrm>
            <a:off x="2340000" y="3933720"/>
            <a:ext cx="47642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редства язы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5050"/>
                </a:solidFill>
                <a:latin typeface="Corbel"/>
              </a:rPr>
              <a:t>Художественный стиль характеризуется следующими выразительными средствами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250920" y="1341360"/>
          <a:ext cx="8713800" cy="5256360"/>
        </p:xfrm>
        <a:graphic>
          <a:graphicData uri="http://schemas.openxmlformats.org/drawingml/2006/table">
            <a:tbl>
              <a:tblPr/>
              <a:tblGrid>
                <a:gridCol w="1714320"/>
                <a:gridCol w="1714680"/>
                <a:gridCol w="1712880"/>
                <a:gridCol w="1714320"/>
                <a:gridCol w="1857600"/>
              </a:tblGrid>
              <a:tr h="184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гуры речи (риторическая,  стилисти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ска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ковые средства вырази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азительные возможности лекс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азительные возможности синтакси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оборот речи, в котором слово или выражение употреблено в переносном значении в целях достижения большей худ-ой выразительност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оборот речи, синтаксическое построение, используемые для усиления выразительности высказыв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ируются на необычных созвучиях, нагнетении звука или его отсутств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могают обеспечить сильное и яркое раскрытие произве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0" y="0"/>
          <a:ext cx="9144000" cy="6853320"/>
        </p:xfrm>
        <a:graphic>
          <a:graphicData uri="http://schemas.openxmlformats.org/drawingml/2006/table">
            <a:tbl>
              <a:tblPr/>
              <a:tblGrid>
                <a:gridCol w="1619280"/>
                <a:gridCol w="1657440"/>
                <a:gridCol w="1655640"/>
                <a:gridCol w="2376360"/>
                <a:gridCol w="1835280"/>
              </a:tblGrid>
              <a:tr h="12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5050"/>
                          </a:solidFill>
                          <a:latin typeface="Times New Roman"/>
                          <a:ea typeface="Times New Roman"/>
                        </a:rPr>
                        <a:t>Тро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5050"/>
                          </a:solidFill>
                          <a:latin typeface="Times New Roman"/>
                          <a:ea typeface="Times New Roman"/>
                        </a:rPr>
                        <a:t>Фигуры ре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5050"/>
                          </a:solidFill>
                          <a:latin typeface="Times New Roman"/>
                          <a:ea typeface="Times New Roman"/>
                        </a:rPr>
                        <a:t>Звуковые средства вырази-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5050"/>
                          </a:solidFill>
                          <a:latin typeface="Times New Roman"/>
                          <a:ea typeface="Times New Roman"/>
                        </a:rPr>
                        <a:t>Изобразительные возможности лекс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5050"/>
                          </a:solidFill>
                          <a:latin typeface="Times New Roman"/>
                          <a:ea typeface="Times New Roman"/>
                        </a:rPr>
                        <a:t>Изобрази-тельные возможности синтакси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гория, аллитерация, гротеск, гипербола, ирония, литота, метафора, метонимия, олицетворе-ние, перифраза, синекдоха, сравнение, эпите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фора, антитеза, бессоюзие, градация, инверсия, многосоюзие, параллелизм,  риторический вопрос, риторическое обращение, умолчание, элипсис, эпифора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копись, звукопо-дражание, аллитерация, ассонан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онимы, контекстные антонимы, диалектизмы, жаргонизмы, заимств. слова, книжная лексика, неологизмы, окказионализмы, омонимы, просторечия, синонимы, контекстные синонимы, фразеологизмы, устаревшие слова, термины, экспрессивная разговорная лекси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яды однородных членов предложения, предложения с вводными словами, многосоюзие, бессоюзие, диалогичность изложения, парцеляц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4" descr="Скан041"/>
          <p:cNvPicPr/>
          <p:nvPr/>
        </p:nvPicPr>
        <p:blipFill>
          <a:blip r:embed="rId1"/>
          <a:stretch/>
        </p:blipFill>
        <p:spPr>
          <a:xfrm>
            <a:off x="4211640" y="260280"/>
            <a:ext cx="4573440" cy="633564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5"/>
          <p:cNvSpPr/>
          <p:nvPr/>
        </p:nvSpPr>
        <p:spPr>
          <a:xfrm>
            <a:off x="974160" y="2322360"/>
            <a:ext cx="189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5050"/>
                </a:solidFill>
                <a:latin typeface="Times New Roman"/>
              </a:rPr>
              <a:t>Троп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757080" y="18900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Работы уче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3:55:32Z</dcterms:created>
  <dc:creator>Соловьева Ирина Владимировна</dc:creator>
  <dc:description/>
  <dc:language>en-US</dc:language>
  <cp:lastModifiedBy>Лаура</cp:lastModifiedBy>
  <dcterms:modified xsi:type="dcterms:W3CDTF">2011-07-26T12:48:09Z</dcterms:modified>
  <cp:revision>11</cp:revision>
  <dc:subject>Русский язык 11 класс</dc:subject>
  <dc:title>Художественный стиль речи</dc:title>
</cp:coreProperties>
</file>