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883-949B-41BE-B754-8E6DE246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2C5-6E72-4ECC-A649-BD8AB444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C1B-534B-472D-9D4E-AEDBF86F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DED-0E09-4DB4-8F34-7BA34F24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FE68-2971-437A-B0B4-DE605D53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D94A-4436-4A91-B0DD-5488C61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8292-3AB5-4D7D-816A-0921481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7AE9-722C-4EEB-998F-AA0AD3F0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9A34-56D1-4522-8035-93258F8A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3E9-7B73-43D5-A427-7E749759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81A8-E4BD-4167-B25E-7AC5084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CF4-B829-4FE2-8A6C-30EED06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B5B0-1064-4F3E-AB6B-444E0F5B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7601-EE3E-4688-85D8-6492D51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266D-BAFA-49BA-A405-6B7D9A79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91A1-6BA3-485B-836B-0EB3C0A2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C26-61C0-41DC-8611-FD2187E5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EB4B-707E-448E-856E-1E312133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AD57-8EEF-48D5-A2C0-ACE30B1A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18A7-6469-4AB2-90D7-9BDD71B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D76A-F680-41F9-9222-0B3265F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2C5F-D6A0-41E4-8DB2-0A9B21B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1FB-66BE-4221-A7BC-CBDCEB26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D91F-79E7-4337-8659-A2984D7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2AFE-69D1-4B0D-890F-E4F0735E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12B4-E896-4BF6-B9B8-FE386C75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05FE-2F4F-473E-85A4-F0FFD77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BA10-98E8-40FB-A507-8882EA34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47C8-7A75-41B3-8518-921E8220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065E-8E13-4605-8B00-C3BE6668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A02E-5781-4965-9B16-9783D1D2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FF4D-99E0-4D9D-B83A-EA57A370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BE69-2F27-4BFE-B020-56DAC5FE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E7A-283C-4630-AAD4-8A396D34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B32A-9C6A-43E9-A1A1-8927109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48EDB-2132-471A-A341-2497FE5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E829-F174-496E-A86C-8C74EE7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5D194-7F45-42F3-A4F4-F057A29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1EB0-D5D3-4CA9-93FF-4E4DB15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38AA-709E-4DDC-99FA-5DE1E1BA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EE5E-E959-48BA-A8D5-803EFDC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4F06-A012-46F5-A9BD-F27080DC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90CF-4777-4886-AE29-96B004AD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5EFE-EF03-4C61-8A33-F16F1F03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08B-025F-43E3-8396-039D6500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C534-822E-4709-999C-49C5CB74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A27F-86CD-45DB-9954-6A132C43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5DDA-8618-405B-957A-782D87FF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F342-CA50-4114-A1F8-939101B1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8EBF9-8252-47BA-A680-64BC01A3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B17D-7578-4BF3-A934-E8938198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BC5A1-7298-43C6-B07B-81F734B5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79C5-A9B7-48B6-B053-187A165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0867-C9FC-4EF1-ADD5-C24396CA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D64A-ED91-4D7D-AFAB-85C238D9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30E-963B-44F4-A7D1-4ABF1F3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18CC-6085-4990-A3D8-F757F7D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D5CD5-73EE-4130-8911-F0BE4FBC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7A8EE-4833-4C28-8DFB-BDC9FB3C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CDD7E-258A-4E47-9C48-95CC06F1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49AA4-A461-466E-84BD-11CD23EB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FB20-C5D9-4D24-8BB1-27E8B3E4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53AD-2F33-415A-A71A-D3FFDB1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C084-0772-4FDF-9285-7F468D6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D2A5-D9A1-4403-8499-03F0CCC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7F90-AED3-422E-92A2-78DA8EB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663-7BA6-4A22-BCF1-5FF492B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D79B-FF7D-4F20-920E-3B0D0AB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CA2C-8B44-4F98-82C5-0F5348C8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CAFCC-BD3A-4215-9FB7-B9EA4E19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B182B-7C5B-4ED1-9626-02579AA9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F707-62F9-48C0-B803-96D58EE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41A13-BF09-4C6F-BBEB-157E2D5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5359-BBBF-43E7-BFD2-48C35E37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58CD-9B6C-4F04-A027-E42F704B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5AB7-AF3D-4F14-9AA8-3117003E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297F3-7E1E-458C-BCB9-F2D3584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33B-6E97-4D43-9D32-0F9C925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AFF3-EF8C-4831-A1C8-561C0ECD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FBE0-BAA1-4A83-8CCF-88217EA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D6D80-692C-424C-8660-CD09CD7C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94706-36B1-4074-BEF7-BB1CEA39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8C86-5817-4674-8F8A-60B12239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6E0-DC06-4011-909C-A55C765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19E3-A2F4-4138-9AAE-F39DBC279E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9BC1-D2FA-4F9D-B743-5F86B6C5A7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ED12-7FD0-41EC-BBD3-84AED5F1F6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0160-338C-4019-8459-40C005E7E3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A92-0D7D-4538-A033-03A9E469B2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281-2F1C-42D2-8EBE-DAFD0614AE9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C743-2449-4776-A28F-8AF5E7041C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Users\Лаура\Desktop\48512291_c23e4eef.jpg"/>
          <p:cNvPicPr/>
          <p:nvPr/>
        </p:nvPicPr>
        <p:blipFill>
          <a:blip r:embed="rId1"/>
          <a:stretch/>
        </p:blipFill>
        <p:spPr>
          <a:xfrm>
            <a:off x="357120" y="268200"/>
            <a:ext cx="8501040" cy="63756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GCrownStyle"/>
              </a:rPr>
              <a:t>Художественный стиль речи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643200" y="3499920"/>
            <a:ext cx="55008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GCrownStyle"/>
              </a:rPr>
              <a:t>Учитель русского языка  и литературы МОУ СОШ №1 ст. Крыловской Крыяловского района Краснодарского края </a:t>
            </a:r>
            <a:r>
              <a:rPr b="0" lang="ru-RU" sz="3600" spc="-1" strike="noStrike">
                <a:solidFill>
                  <a:srgbClr val="c00000"/>
                </a:solidFill>
                <a:latin typeface="AGCrownStyle"/>
              </a:rPr>
              <a:t>Гайдарова А.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Скан030"/>
          <p:cNvPicPr/>
          <p:nvPr/>
        </p:nvPicPr>
        <p:blipFill>
          <a:blip r:embed="rId1"/>
          <a:stretch/>
        </p:blipFill>
        <p:spPr>
          <a:xfrm>
            <a:off x="1042920" y="1052640"/>
            <a:ext cx="6767640" cy="48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Скан031"/>
          <p:cNvPicPr/>
          <p:nvPr/>
        </p:nvPicPr>
        <p:blipFill>
          <a:blip r:embed="rId1"/>
          <a:stretch/>
        </p:blipFill>
        <p:spPr>
          <a:xfrm>
            <a:off x="684360" y="836640"/>
            <a:ext cx="806436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Скан034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Скан032"/>
          <p:cNvPicPr/>
          <p:nvPr/>
        </p:nvPicPr>
        <p:blipFill>
          <a:blip r:embed="rId1"/>
          <a:stretch/>
        </p:blipFill>
        <p:spPr>
          <a:xfrm>
            <a:off x="250920" y="33336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Untitled-Scanned-03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9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Скан033"/>
          <p:cNvPicPr/>
          <p:nvPr/>
        </p:nvPicPr>
        <p:blipFill>
          <a:blip r:embed="rId1"/>
          <a:stretch/>
        </p:blipFill>
        <p:spPr>
          <a:xfrm>
            <a:off x="179280" y="388800"/>
            <a:ext cx="8677440" cy="619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кан040"/>
          <p:cNvPicPr/>
          <p:nvPr/>
        </p:nvPicPr>
        <p:blipFill>
          <a:blip r:embed="rId1"/>
          <a:stretch/>
        </p:blipFill>
        <p:spPr>
          <a:xfrm>
            <a:off x="358920" y="646200"/>
            <a:ext cx="8245440" cy="5891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Скан038"/>
          <p:cNvPicPr/>
          <p:nvPr/>
        </p:nvPicPr>
        <p:blipFill>
          <a:blip r:embed="rId1"/>
          <a:stretch/>
        </p:blipFill>
        <p:spPr>
          <a:xfrm>
            <a:off x="0" y="333360"/>
            <a:ext cx="4541760" cy="6356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Скан039"/>
          <p:cNvPicPr/>
          <p:nvPr/>
        </p:nvPicPr>
        <p:blipFill>
          <a:blip r:embed="rId2"/>
          <a:stretch/>
        </p:blipFill>
        <p:spPr>
          <a:xfrm>
            <a:off x="4616280" y="333360"/>
            <a:ext cx="452772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Untitled-Scanned-02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Untitled-Scanned-01"/>
          <p:cNvPicPr/>
          <p:nvPr/>
        </p:nvPicPr>
        <p:blipFill>
          <a:blip r:embed="rId1"/>
          <a:stretch/>
        </p:blipFill>
        <p:spPr>
          <a:xfrm>
            <a:off x="2195640" y="247680"/>
            <a:ext cx="4601880" cy="661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4716360" y="4508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684360" y="1052640"/>
            <a:ext cx="7991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ая характерист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WordArt 7"/>
          <p:cNvSpPr txBox="1"/>
          <p:nvPr/>
        </p:nvSpPr>
        <p:spPr>
          <a:xfrm>
            <a:off x="2484360" y="3284640"/>
            <a:ext cx="457524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удожествен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3132000" y="5084640"/>
            <a:ext cx="3168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иля реч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Скан042"/>
          <p:cNvPicPr/>
          <p:nvPr/>
        </p:nvPicPr>
        <p:blipFill>
          <a:blip r:embed="rId1"/>
          <a:stretch/>
        </p:blipFill>
        <p:spPr>
          <a:xfrm>
            <a:off x="4067280" y="208080"/>
            <a:ext cx="4878360" cy="6649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378000" y="19303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imes New Roman"/>
              </a:rPr>
              <a:t>Фигуры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Скан035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Скан036"/>
          <p:cNvPicPr/>
          <p:nvPr/>
        </p:nvPicPr>
        <p:blipFill>
          <a:blip r:embed="rId1"/>
          <a:stretch/>
        </p:blipFill>
        <p:spPr>
          <a:xfrm>
            <a:off x="826920" y="620640"/>
            <a:ext cx="7804440" cy="557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Скан037"/>
          <p:cNvPicPr/>
          <p:nvPr/>
        </p:nvPicPr>
        <p:blipFill>
          <a:blip r:embed="rId1"/>
          <a:stretch/>
        </p:blipFill>
        <p:spPr>
          <a:xfrm>
            <a:off x="468360" y="476280"/>
            <a:ext cx="8388360" cy="599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Corbel"/>
              </a:rPr>
              <a:t>Определите вид изобразительно-выразительного сред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1)Улыбкой ясною приро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Сквозь сон встречает </a:t>
            </a: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утро года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(А.Пушки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2)Но </a:t>
            </a:r>
            <a:r>
              <a:rPr b="0" i="1" lang="ru-RU" sz="2400" spc="-1" strike="noStrike">
                <a:solidFill>
                  <a:srgbClr val="d60093"/>
                </a:solidFill>
                <a:latin typeface="Corbel"/>
              </a:rPr>
              <a:t>красоты их безобразн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Я скоро таинство пости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(М.Лермон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3)Сияет солнце, воды блещу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На всём улыбка, жизнь во всё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Деревья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радостно </a:t>
            </a: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трепещут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Купаясь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в небе голуб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(Ф.Тютче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0" y="147672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4)Лошадку ведёт под уздцы мужи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больших сапогах, в полушубке овчин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больших рукавицах… а сам </a:t>
            </a:r>
            <a:r>
              <a:rPr b="0" i="1" lang="ru-RU" sz="2400" spc="-1" strike="noStrike">
                <a:solidFill>
                  <a:srgbClr val="ff5050"/>
                </a:solidFill>
                <a:latin typeface="Arial"/>
              </a:rPr>
              <a:t>с ноготок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Н.Некра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5)  О красном вечере </a:t>
            </a: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задумалась дор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Кусты рябин туманней глуб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Изба-старуха </a:t>
            </a: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челюстью п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Жуёт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пахучий мякиш ти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С.Есе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6)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Мне бы хотелось знать, отчего я </a:t>
            </a:r>
            <a:r>
              <a:rPr b="0" i="1" lang="ru-RU" sz="2200" spc="-1" strike="noStrike">
                <a:solidFill>
                  <a:srgbClr val="d60093"/>
                </a:solidFill>
                <a:latin typeface="Corbel"/>
              </a:rPr>
              <a:t>титулярный советник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? Почему именно </a:t>
            </a:r>
            <a:r>
              <a:rPr b="0" i="1" lang="ru-RU" sz="2200" spc="-1" strike="noStrike">
                <a:solidFill>
                  <a:srgbClr val="d60093"/>
                </a:solidFill>
                <a:latin typeface="Corbel"/>
              </a:rPr>
              <a:t>титулярный советник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?                  (Н.Гогол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7)Офицер – из пистолета, Теркин – в мягкое штыком. (А.Твардовский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8)Нет, я хотел… быть может, вы… я думал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Что уж барону время умере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                               </a:t>
            </a: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(А.Пушки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9)Молодым везде у нас дорога, старикам везде у нас поч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(В.Лебедев-Кумач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10)Вывели лошадей. </a:t>
            </a:r>
            <a:r>
              <a:rPr b="0" i="1" lang="ru-RU" sz="2200" spc="-1" strike="noStrike">
                <a:solidFill>
                  <a:srgbClr val="cc3300"/>
                </a:solidFill>
                <a:latin typeface="Corbel"/>
              </a:rPr>
              <a:t>Не понравились они мне.</a:t>
            </a: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 (И.Тургенев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178920" y="257400"/>
            <a:ext cx="51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1)Возложу на тетиву туг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послушный лук согну в д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А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2)Город грабил, грёб, грабаст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В.Маяк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858040" y="2745360"/>
            <a:ext cx="628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13) В каждый гвоздик душистой сир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Распевая, вползает пчел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А.Ф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4) Клянусь я первым днем 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Клянусь его последним дн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М.Лермо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) Завыл, запел, взлетел на небо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 заволокся дымом весь карьер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Заболоц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Corbel"/>
              </a:rPr>
              <a:t>Каждый стиль характеризуется следующими признакам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AutoShape 4"/>
          <p:cNvSpPr/>
          <p:nvPr/>
        </p:nvSpPr>
        <p:spPr>
          <a:xfrm rot="10800000">
            <a:off x="250920" y="2781360"/>
            <a:ext cx="2016000" cy="1944720"/>
          </a:xfrm>
          <a:prstGeom prst="wedgeRectCallout">
            <a:avLst>
              <a:gd name="adj1" fmla="val -168740"/>
              <a:gd name="adj2" fmla="val 126486"/>
            </a:avLst>
          </a:prstGeom>
          <a:gradFill rotWithShape="0">
            <a:gsLst>
              <a:gs pos="0">
                <a:srgbClr val="ffffcc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0800000">
            <a:off x="3276720" y="4653000"/>
            <a:ext cx="2808000" cy="1944720"/>
          </a:xfrm>
          <a:prstGeom prst="wedgeRectCallout">
            <a:avLst>
              <a:gd name="adj1" fmla="val -143"/>
              <a:gd name="adj2" fmla="val 224935"/>
            </a:avLst>
          </a:prstGeom>
          <a:gradFill rotWithShape="0">
            <a:gsLst>
              <a:gs pos="0">
                <a:srgbClr val="ff9999"/>
              </a:gs>
              <a:gs pos="100000">
                <a:srgbClr val="ffffcc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6877080" y="2852640"/>
            <a:ext cx="2016000" cy="1944720"/>
          </a:xfrm>
          <a:prstGeom prst="wedgeRectCallout">
            <a:avLst>
              <a:gd name="adj1" fmla="val 158421"/>
              <a:gd name="adj2" fmla="val 129916"/>
            </a:avLst>
          </a:prstGeom>
          <a:gradFill rotWithShape="0">
            <a:gsLst>
              <a:gs pos="0">
                <a:srgbClr val="ff9999"/>
              </a:gs>
              <a:gs pos="100000">
                <a:srgbClr val="ffffcc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79280" y="3357720"/>
            <a:ext cx="20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3564000" y="5157720"/>
            <a:ext cx="233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ор язы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018200" y="3213000"/>
            <a:ext cx="165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жанр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189000"/>
          <a:ext cx="9144000" cy="6294240"/>
        </p:xfrm>
        <a:graphic>
          <a:graphicData uri="http://schemas.openxmlformats.org/drawingml/2006/table">
            <a:tbl>
              <a:tblPr/>
              <a:tblGrid>
                <a:gridCol w="1332000"/>
                <a:gridCol w="1693800"/>
                <a:gridCol w="1547640"/>
                <a:gridCol w="1204920"/>
                <a:gridCol w="1457640"/>
                <a:gridCol w="1908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тил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Цель 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Набор языков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Формы (жанры) языков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Основные стилевы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Художественный стил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Словесно-художественн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действовать с помощью созданных образов на чувства и мысли читателей и слуш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се языков-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трагедия, комедия, драма, роман, новелла, повесть, рассказ, стихотворение, басня, поэма, ром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Образность, конкретность, эмоциональность, оценочный характер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      </a:t>
            </a:r>
            <a:r>
              <a:rPr b="1" lang="ru-RU" sz="2500" spc="-1" strike="noStrike">
                <a:solidFill>
                  <a:srgbClr val="ff5050"/>
                </a:solidFill>
                <a:latin typeface="Times New Roman"/>
              </a:rPr>
              <a:t>Отрывок из повести А.Грина «Алые паруса»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енькая Асоль никогда не бывала так далеко в лесу, как теперь. Ей, поглощенной нетерпеливым желанием поймать игрушечную яхту с алыми парусами, не смотрелось по сторонам; возле берега ручья, где она суетилась, было довольно препятствий, занимавших внимание. Мшистые стволы упавших деревьев, ямы, высокий папоротник, кусты шиповника, жасмина и орешника – все это мешало ей на каждом шагу; одолевая эти препятствия, она постепенно теряла силы, останавливаясь все чаще и чаще, чтобы передохнуть или смахнуть с лица паутинку. Когда потянулись осоковые и тростниковые заросли, Асоль совсем было потеряла из вида алое сверкание парусов, но, обежав излучину течения, снова увидела их, степенно и неуклонно бегущих прочь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5"/>
          <p:cNvSpPr txBox="1"/>
          <p:nvPr/>
        </p:nvSpPr>
        <p:spPr>
          <a:xfrm>
            <a:off x="611280" y="549360"/>
            <a:ext cx="4981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образительно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6"/>
          <p:cNvSpPr txBox="1"/>
          <p:nvPr/>
        </p:nvSpPr>
        <p:spPr>
          <a:xfrm>
            <a:off x="3635280" y="1989000"/>
            <a:ext cx="47865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разитель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7" name="WordArt 7"/>
          <p:cNvSpPr txBox="1"/>
          <p:nvPr/>
        </p:nvSpPr>
        <p:spPr>
          <a:xfrm>
            <a:off x="2340000" y="3933720"/>
            <a:ext cx="4764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а язы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Corbel"/>
              </a:rPr>
              <a:t>Художественный стиль характеризуется следующими выразительными средствам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50920" y="1341360"/>
          <a:ext cx="8713800" cy="5256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2880"/>
                <a:gridCol w="1714320"/>
                <a:gridCol w="1857600"/>
              </a:tblGrid>
              <a:tr h="18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гуры речи (риторическая,  стилист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средства выраз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лекс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синтакс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борот речи, в котором слово или выражение употреблено в переносном значении в целях достижения большей худ-ой вырази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борот речи, синтаксическое построение, используемые для усиления выразительности высказы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руются на необычных созвучиях, нагнетении звука или его отсутств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ют обеспечить сильное и яркое раскрытие произ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drawingml/2006/table">
            <a:tbl>
              <a:tblPr/>
              <a:tblGrid>
                <a:gridCol w="1619280"/>
                <a:gridCol w="1657440"/>
                <a:gridCol w="1655640"/>
                <a:gridCol w="2376360"/>
                <a:gridCol w="1835280"/>
              </a:tblGrid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Т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Фигуры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Звуковые средства вырази-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лек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Изобрази-тельные возможности синтакс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гория, аллитерация, гротеск, гипербола, ирония, литота, метафора, метонимия, олицетворе-ние, перифраза, синекдоха, сравнение, эпит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фора, антитеза, бессоюзие, градация, инверсия, многосоюзие, параллелизм,  риторический вопрос, риторическое обращение, умолчание, элипсис, эпифора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ись, звукопо-дражание, аллитерация, ассонан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имы, контекстные антонимы, диалектизмы, жаргонизмы, заимств. слова, книжная лексика, неологизмы, окказионализмы, омонимы, просторечия, синонимы, контекстные синонимы, фразеологизмы, устаревшие слова, термины, экспрессивная разговорная лекс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ды однородных членов предложения, предложения с вводными словами, многосоюзие, бессоюзие, диалогичность изложения, парцеля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Скан041"/>
          <p:cNvPicPr/>
          <p:nvPr/>
        </p:nvPicPr>
        <p:blipFill>
          <a:blip r:embed="rId1"/>
          <a:stretch/>
        </p:blipFill>
        <p:spPr>
          <a:xfrm>
            <a:off x="4211640" y="260280"/>
            <a:ext cx="4573440" cy="6335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5"/>
          <p:cNvSpPr/>
          <p:nvPr/>
        </p:nvSpPr>
        <p:spPr>
          <a:xfrm>
            <a:off x="974160" y="2322360"/>
            <a:ext cx="18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imes New Roman"/>
              </a:rPr>
              <a:t>Тро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757080" y="189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боты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55:32Z</dcterms:created>
  <dc:creator>Соловьева Ирина Владимировна</dc:creator>
  <dc:description/>
  <dc:language>en-US</dc:language>
  <cp:lastModifiedBy>Лаура</cp:lastModifiedBy>
  <dcterms:modified xsi:type="dcterms:W3CDTF">2011-07-26T12:48:09Z</dcterms:modified>
  <cp:revision>11</cp:revision>
  <dc:subject>Русский язык 11 класс</dc:subject>
  <dc:title>Художественный стиль речи</dc:title>
</cp:coreProperties>
</file>