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DB9-63F5-45F7-87E1-5627EF57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FE1-476E-480D-AEFB-24757D77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7AD-E67F-4D91-8DDF-8E10BA1B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D02-7D9C-49C8-958C-64889394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0418-B656-459D-91E0-E6EFF28E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1682-1D63-42C6-8275-178F1275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A7A4-7F84-426E-82CD-EDD621DB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B1A0-9C44-4FEA-9CD9-9193E84C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B31E-8328-47CF-98AD-AE15061F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78C4-C205-4518-9509-66A7CDB2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4ECF-E72D-4CFA-97CE-9139DF13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125-B579-4B40-AD1E-2B40F035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BE7-E0F2-4DB7-9785-CF386BAF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445D-B39B-41B3-831D-ED32E88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6879-0CF3-42CD-8277-CC3E410E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FB58-6651-4C5F-A8BB-AC80E6CB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1D18-F49B-4471-819B-E752212A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9E13-896A-4E23-9280-9F945C44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F32D-18C8-41ED-9895-948D2B55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B366-3B5C-4E19-8F5D-7EC93E82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B47A-9B9F-4D7F-B6A1-8B2325FB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1C4C-3316-4AE5-8BA7-DD0047C0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6E6-E3D0-40F5-9260-9A8F4853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5FC4F-BA2C-449A-9AB8-D95D01A9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F69F-B11B-49BC-88B9-196CCD5F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223C0-50CF-4731-82AE-A54E229A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7748-1DB2-4284-B87C-BD487238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D43A-8CEC-4E70-93BC-D7F1074A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662C-3608-468F-91F1-46204335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C4BE-AEC0-4029-AAB6-4D2520B0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28FD9-EF2D-409A-8783-C9AF39BB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6742A-14DE-4D13-BACE-025EB677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9AEE0-AFD3-42EC-A356-EAEB1DF1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24F-2779-4230-9D39-114B307E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7924C-C45E-4066-A0D1-9673D246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5EDED-D78E-4DC8-A6CD-DF8D2CC8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31E77-1E01-465B-A588-E59FF0FD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AD36-A066-4B2C-B611-EDA0A1C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BBF17-8932-434D-A735-F65229B1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B6C4-CD4E-44D7-A1B7-440033AE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B293-47D3-42E8-8CF7-D17F8D6C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6F32-12FF-4254-BE50-937D8C36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7C61C-6832-465B-8BD1-CEE0E08D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6B5D4-6382-4E0E-A70D-37C18B25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1D0-6604-4724-9317-8BBDCDC8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DD7A4-7658-4CC5-B712-B17DF925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1CA6A-0612-41FA-BDCC-66CB2045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91E63-7D94-4B0F-BBA6-D1894ED9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BBF3A-6553-42C0-BA8E-32608A99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9FBB9-7A8F-4B8E-868B-E184BEFF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95697-B1AA-48BD-B76D-1CF6445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E387-803F-4688-9E5E-CFD320F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685B8-08DE-430E-8B89-927B19A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D1E24-03CF-4214-B13C-C4618DC7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A2FE5-5C33-4598-A83B-EA7C6ED4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6B1-18DF-4099-A668-7000CD56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620C6-5304-4480-950B-72CFD3B7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C217A-396C-4EE9-ADBA-5AB17417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530E8-F4E8-4438-B7C0-C65787EC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C9C8-5D49-434E-94AF-764E81D2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B35A0-6A2E-4C1D-8272-F9F7D62A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3B9BB-D595-453B-8462-4863B17B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2804C-494D-4C39-861B-8AC2A751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79AA0-3DF9-43CE-B415-D0D544DB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1A658-83D3-47DD-900D-A32DB9A1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EFA2-E3FF-46A7-B1E1-74C63284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994-29DC-4595-80A3-02898CF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D8422-AEF4-4FA8-8547-151359D1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E718D-E3A5-4EBD-A741-09CA90B3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33560-6FC1-406A-A29D-4DEE1139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030A-A959-4B03-8EB7-B0275DC6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53D4D-F4D9-45C6-A784-B4B0469C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58A5E-3F6F-4C5D-8173-4BDE1FB8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2F522-352F-4CB3-8C67-6DDAE769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A67D5-F9CE-4863-B832-4F5F9A4F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0B00D-0AFF-4702-A0BF-2AD2EF20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B7794-4329-465B-9F56-43E39CE1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FA0-6B4F-4407-B6ED-15C764A5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6C3DF-7046-4B7F-A588-ED25005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36752-E7F1-4871-82F5-CBE006B6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67B9E-6C3D-4BD2-B1D8-7AC525E6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A66BF-1535-4D11-BAC7-40ED22BD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5A09A-B5F2-4EC1-9E2C-712FF58A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0FC-E2AB-4A43-AF51-28C858E7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3FCE-AEF8-47FF-8B0D-2693537EF1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7B44-CEE0-40AE-90B4-941E8F1699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3A77-AB9D-48B9-ACCC-6119F78224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9E90-2E59-4B6A-B1C1-C64F702BE5B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B6AF-5B3F-464E-B00E-50B9F02543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3552-EB65-44EB-B5D7-AC604A9A68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93C-BC8E-4D94-B53C-445B98974B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:\Users\Лаура\Desktop\48512291_c23e4eef.jpg"/>
          <p:cNvPicPr/>
          <p:nvPr/>
        </p:nvPicPr>
        <p:blipFill>
          <a:blip r:embed="rId1"/>
          <a:stretch/>
        </p:blipFill>
        <p:spPr>
          <a:xfrm>
            <a:off x="357120" y="268200"/>
            <a:ext cx="8501040" cy="63756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GCrownStyle"/>
              </a:rPr>
              <a:t>Художественный стиль речи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643200" y="3499920"/>
            <a:ext cx="55008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GCrownStyle"/>
              </a:rPr>
              <a:t>Учитель русского языка  и литературы МОУ СОШ №1 ст. Крыловской Крыяловского района Краснодарского края </a:t>
            </a:r>
            <a:r>
              <a:rPr b="0" lang="ru-RU" sz="3600" spc="-1" strike="noStrike">
                <a:solidFill>
                  <a:srgbClr val="c00000"/>
                </a:solidFill>
                <a:latin typeface="AGCrownStyle"/>
              </a:rPr>
              <a:t>Гайдарова А.С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Скан030"/>
          <p:cNvPicPr/>
          <p:nvPr/>
        </p:nvPicPr>
        <p:blipFill>
          <a:blip r:embed="rId1"/>
          <a:stretch/>
        </p:blipFill>
        <p:spPr>
          <a:xfrm>
            <a:off x="1042920" y="1052640"/>
            <a:ext cx="6767640" cy="486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Скан031"/>
          <p:cNvPicPr/>
          <p:nvPr/>
        </p:nvPicPr>
        <p:blipFill>
          <a:blip r:embed="rId1"/>
          <a:stretch/>
        </p:blipFill>
        <p:spPr>
          <a:xfrm>
            <a:off x="684360" y="836640"/>
            <a:ext cx="806436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Скан034"/>
          <p:cNvPicPr/>
          <p:nvPr/>
        </p:nvPicPr>
        <p:blipFill>
          <a:blip r:embed="rId1"/>
          <a:stretch/>
        </p:blipFill>
        <p:spPr>
          <a:xfrm>
            <a:off x="46836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Скан032"/>
          <p:cNvPicPr/>
          <p:nvPr/>
        </p:nvPicPr>
        <p:blipFill>
          <a:blip r:embed="rId1"/>
          <a:stretch/>
        </p:blipFill>
        <p:spPr>
          <a:xfrm>
            <a:off x="250920" y="333360"/>
            <a:ext cx="864072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Untitled-Scanned-03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49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Скан033"/>
          <p:cNvPicPr/>
          <p:nvPr/>
        </p:nvPicPr>
        <p:blipFill>
          <a:blip r:embed="rId1"/>
          <a:stretch/>
        </p:blipFill>
        <p:spPr>
          <a:xfrm>
            <a:off x="179280" y="388800"/>
            <a:ext cx="8677440" cy="6197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Скан040"/>
          <p:cNvPicPr/>
          <p:nvPr/>
        </p:nvPicPr>
        <p:blipFill>
          <a:blip r:embed="rId1"/>
          <a:stretch/>
        </p:blipFill>
        <p:spPr>
          <a:xfrm>
            <a:off x="358920" y="646200"/>
            <a:ext cx="8245440" cy="5891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Скан038"/>
          <p:cNvPicPr/>
          <p:nvPr/>
        </p:nvPicPr>
        <p:blipFill>
          <a:blip r:embed="rId1"/>
          <a:stretch/>
        </p:blipFill>
        <p:spPr>
          <a:xfrm>
            <a:off x="0" y="333360"/>
            <a:ext cx="4541760" cy="6356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Скан039"/>
          <p:cNvPicPr/>
          <p:nvPr/>
        </p:nvPicPr>
        <p:blipFill>
          <a:blip r:embed="rId2"/>
          <a:stretch/>
        </p:blipFill>
        <p:spPr>
          <a:xfrm>
            <a:off x="4616280" y="333360"/>
            <a:ext cx="452772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Untitled-Scanned-02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Untitled-Scanned-01"/>
          <p:cNvPicPr/>
          <p:nvPr/>
        </p:nvPicPr>
        <p:blipFill>
          <a:blip r:embed="rId1"/>
          <a:stretch/>
        </p:blipFill>
        <p:spPr>
          <a:xfrm>
            <a:off x="2195640" y="247680"/>
            <a:ext cx="4601880" cy="661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4716360" y="4508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5"/>
          <p:cNvSpPr txBox="1"/>
          <p:nvPr/>
        </p:nvSpPr>
        <p:spPr>
          <a:xfrm>
            <a:off x="684360" y="1052640"/>
            <a:ext cx="79912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ая характеристи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3" name="WordArt 7"/>
          <p:cNvSpPr txBox="1"/>
          <p:nvPr/>
        </p:nvSpPr>
        <p:spPr>
          <a:xfrm>
            <a:off x="2484360" y="3284640"/>
            <a:ext cx="457524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удожествен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4" name="WordArt 8"/>
          <p:cNvSpPr txBox="1"/>
          <p:nvPr/>
        </p:nvSpPr>
        <p:spPr>
          <a:xfrm>
            <a:off x="3132000" y="5084640"/>
            <a:ext cx="3168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иля реч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Скан042"/>
          <p:cNvPicPr/>
          <p:nvPr/>
        </p:nvPicPr>
        <p:blipFill>
          <a:blip r:embed="rId1"/>
          <a:stretch/>
        </p:blipFill>
        <p:spPr>
          <a:xfrm>
            <a:off x="4067280" y="208080"/>
            <a:ext cx="4878360" cy="6649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378000" y="193032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Times New Roman"/>
              </a:rPr>
              <a:t>Фигуры р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Скан035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916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Скан036"/>
          <p:cNvPicPr/>
          <p:nvPr/>
        </p:nvPicPr>
        <p:blipFill>
          <a:blip r:embed="rId1"/>
          <a:stretch/>
        </p:blipFill>
        <p:spPr>
          <a:xfrm>
            <a:off x="826920" y="620640"/>
            <a:ext cx="7804440" cy="5575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Скан037"/>
          <p:cNvPicPr/>
          <p:nvPr/>
        </p:nvPicPr>
        <p:blipFill>
          <a:blip r:embed="rId1"/>
          <a:stretch/>
        </p:blipFill>
        <p:spPr>
          <a:xfrm>
            <a:off x="468360" y="476280"/>
            <a:ext cx="8388360" cy="599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Corbel"/>
              </a:rPr>
              <a:t>Определите вид изобразительно-выразительного сред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1)Улыбкой ясною природ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Сквозь сон встречает </a:t>
            </a: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утро года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(А.Пушкин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2)Но </a:t>
            </a:r>
            <a:r>
              <a:rPr b="0" i="1" lang="ru-RU" sz="2400" spc="-1" strike="noStrike">
                <a:solidFill>
                  <a:srgbClr val="d60093"/>
                </a:solidFill>
                <a:latin typeface="Corbel"/>
              </a:rPr>
              <a:t>красоты их безобразн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   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Я скоро таинство пости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(М.Лермонт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3)Сияет солнце, воды блещу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На всём улыбка, жизнь во всё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Деревья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радостно </a:t>
            </a: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трепещут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Купаясь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в небе голуб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(Ф.Тютче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0" y="147672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4)Лошадку ведёт под уздцы мужи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В больших сапогах, в полушубке овчинн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В больших рукавицах… а сам </a:t>
            </a:r>
            <a:r>
              <a:rPr b="0" i="1" lang="ru-RU" sz="2400" spc="-1" strike="noStrike">
                <a:solidFill>
                  <a:srgbClr val="ff5050"/>
                </a:solidFill>
                <a:latin typeface="Arial"/>
              </a:rPr>
              <a:t>с ноготок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(Н.Некра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5)  О красном вечере </a:t>
            </a: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задумалась дор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Кусты рябин туманней глуб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Изба-старуха </a:t>
            </a: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челюстью по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Жуёт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пахучий мякиш ти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(С.Есен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6)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Мне бы хотелось знать, отчего я </a:t>
            </a:r>
            <a:r>
              <a:rPr b="0" i="1" lang="ru-RU" sz="2200" spc="-1" strike="noStrike">
                <a:solidFill>
                  <a:srgbClr val="d60093"/>
                </a:solidFill>
                <a:latin typeface="Corbel"/>
              </a:rPr>
              <a:t>титулярный советник</a:t>
            </a: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? Почему именно </a:t>
            </a:r>
            <a:r>
              <a:rPr b="0" i="1" lang="ru-RU" sz="2200" spc="-1" strike="noStrike">
                <a:solidFill>
                  <a:srgbClr val="d60093"/>
                </a:solidFill>
                <a:latin typeface="Corbel"/>
              </a:rPr>
              <a:t>титулярный советник</a:t>
            </a: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?                  (Н.Гоголь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Corbel"/>
              </a:rPr>
              <a:t>7)Офицер – из пистолета, Теркин – в мягкое штыком. (А.Твардовский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8)Нет, я хотел… быть может, вы… я думал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Что уж барону время умере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                               </a:t>
            </a: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(А.Пушки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9)Молодым везде у нас дорога, старикам везде у нас поч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(В.Лебедев-Кумач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Corbel"/>
              </a:rPr>
              <a:t>10)Вывели лошадей. </a:t>
            </a:r>
            <a:r>
              <a:rPr b="0" i="1" lang="ru-RU" sz="2200" spc="-1" strike="noStrike">
                <a:solidFill>
                  <a:srgbClr val="cc3300"/>
                </a:solidFill>
                <a:latin typeface="Corbel"/>
              </a:rPr>
              <a:t>Не понравились они мне.</a:t>
            </a:r>
            <a:r>
              <a:rPr b="0" lang="ru-RU" sz="2200" spc="-1" strike="noStrike">
                <a:solidFill>
                  <a:srgbClr val="cc3300"/>
                </a:solidFill>
                <a:latin typeface="Corbel"/>
              </a:rPr>
              <a:t> (И.Тургенев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178920" y="257400"/>
            <a:ext cx="510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11)Возложу на тетиву туг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послушный лук согну в д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(А. 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2)Город грабил, грёб, грабаст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(В.Маяк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2858040" y="2745360"/>
            <a:ext cx="628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13) В каждый гвоздик душистой сире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Распевая, вползает пчел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(А.Ф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14) Клянусь я первым днем 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Клянусь его последним дне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(М.Лермо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5) Завыл, запел, взлетел на небо кам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 заволокся дымом весь карьер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(Заболоц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Corbel"/>
              </a:rPr>
              <a:t>Каждый стиль характеризуется следующими признаками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AutoShape 4"/>
          <p:cNvSpPr/>
          <p:nvPr/>
        </p:nvSpPr>
        <p:spPr>
          <a:xfrm rot="10800000">
            <a:off x="250920" y="2781360"/>
            <a:ext cx="2016000" cy="1944720"/>
          </a:xfrm>
          <a:prstGeom prst="wedgeRectCallout">
            <a:avLst>
              <a:gd name="adj1" fmla="val -168740"/>
              <a:gd name="adj2" fmla="val 126486"/>
            </a:avLst>
          </a:prstGeom>
          <a:gradFill rotWithShape="0">
            <a:gsLst>
              <a:gs pos="0">
                <a:srgbClr val="ffffcc"/>
              </a:gs>
              <a:gs pos="100000">
                <a:srgbClr val="ff9999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 rot="10800000">
            <a:off x="3276720" y="4653000"/>
            <a:ext cx="2808000" cy="1944720"/>
          </a:xfrm>
          <a:prstGeom prst="wedgeRectCallout">
            <a:avLst>
              <a:gd name="adj1" fmla="val -143"/>
              <a:gd name="adj2" fmla="val 224935"/>
            </a:avLst>
          </a:prstGeom>
          <a:gradFill rotWithShape="0">
            <a:gsLst>
              <a:gs pos="0">
                <a:srgbClr val="ff9999"/>
              </a:gs>
              <a:gs pos="100000">
                <a:srgbClr val="ffffcc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 rot="10800000">
            <a:off x="6877080" y="2852640"/>
            <a:ext cx="2016000" cy="1944720"/>
          </a:xfrm>
          <a:prstGeom prst="wedgeRectCallout">
            <a:avLst>
              <a:gd name="adj1" fmla="val 158421"/>
              <a:gd name="adj2" fmla="val 129916"/>
            </a:avLst>
          </a:prstGeom>
          <a:gradFill rotWithShape="0">
            <a:gsLst>
              <a:gs pos="0">
                <a:srgbClr val="ff9999"/>
              </a:gs>
              <a:gs pos="100000">
                <a:srgbClr val="ffffcc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79280" y="3357720"/>
            <a:ext cx="20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3564000" y="5157720"/>
            <a:ext cx="233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бор язык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7018200" y="3213000"/>
            <a:ext cx="165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жанр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0" y="189000"/>
          <a:ext cx="9144000" cy="6294240"/>
        </p:xfrm>
        <a:graphic>
          <a:graphicData uri="http://schemas.openxmlformats.org/drawingml/2006/table">
            <a:tbl>
              <a:tblPr/>
              <a:tblGrid>
                <a:gridCol w="1332000"/>
                <a:gridCol w="1693800"/>
                <a:gridCol w="1547640"/>
                <a:gridCol w="1204920"/>
                <a:gridCol w="1457640"/>
                <a:gridCol w="1908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Стил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Цель об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Набор языковых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Формы (жанры) языковых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Основные стилевы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Художественный стил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Словесно-художественное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оздействовать с помощью созданных образов на чувства и мысли читателей и слуш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се языков-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трагедия, комедия, драма, роман, новелла, повесть, рассказ, стихотворение, басня, поэма, роман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Образность, конкретность, эмоциональность, оценочный характер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        </a:t>
            </a:r>
            <a:r>
              <a:rPr b="1" lang="ru-RU" sz="2500" spc="-1" strike="noStrike">
                <a:solidFill>
                  <a:srgbClr val="ff5050"/>
                </a:solidFill>
                <a:latin typeface="Times New Roman"/>
              </a:rPr>
              <a:t>Отрывок из повести А.Грина «Алые паруса»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954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ленькая Асоль никогда не бывала так далеко в лесу, как теперь. Ей, поглощенной нетерпеливым желанием поймать игрушечную яхту с алыми парусами, не смотрелось по сторонам; возле берега ручья, где она суетилась, было довольно препятствий, занимавших внимание. Мшистые стволы упавших деревьев, ямы, высокий папоротник, кусты шиповника, жасмина и орешника – все это мешало ей на каждом шагу; одолевая эти препятствия, она постепенно теряла силы, останавливаясь все чаще и чаще, чтобы передохнуть или смахнуть с лица паутинку. Когда потянулись осоковые и тростниковые заросли, Асоль совсем было потеряла из вида алое сверкание парусов, но, обежав излучину течения, снова увидела их, степенно и неуклонно бегущих прочь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5"/>
          <p:cNvSpPr txBox="1"/>
          <p:nvPr/>
        </p:nvSpPr>
        <p:spPr>
          <a:xfrm>
            <a:off x="611280" y="549360"/>
            <a:ext cx="4981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образительно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6"/>
          <p:cNvSpPr txBox="1"/>
          <p:nvPr/>
        </p:nvSpPr>
        <p:spPr>
          <a:xfrm>
            <a:off x="3635280" y="1989000"/>
            <a:ext cx="47865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разитель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7" name="WordArt 7"/>
          <p:cNvSpPr txBox="1"/>
          <p:nvPr/>
        </p:nvSpPr>
        <p:spPr>
          <a:xfrm>
            <a:off x="2340000" y="3933720"/>
            <a:ext cx="47642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ства язы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5050"/>
                </a:solidFill>
                <a:latin typeface="Corbel"/>
              </a:rPr>
              <a:t>Художественный стиль характеризуется следующими выразительными средствам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50920" y="1341360"/>
          <a:ext cx="8713800" cy="5256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2880"/>
                <a:gridCol w="1714320"/>
                <a:gridCol w="1857600"/>
              </a:tblGrid>
              <a:tr h="18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гуры речи (риторическая,  стилист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к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ые средства выраз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ые возможности лекс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ые возможности синтакс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оборот речи, в котором слово или выражение употреблено в переносном значении в целях достижения большей худ-ой выразитель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оборот речи, синтаксическое построение, используемые для усиления выразительности высказы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ируются на необычных созвучиях, нагнетении звука или его отсутств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гают обеспечить сильное и яркое раскрытие произ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drawingml/2006/table">
            <a:tbl>
              <a:tblPr/>
              <a:tblGrid>
                <a:gridCol w="1619280"/>
                <a:gridCol w="1657440"/>
                <a:gridCol w="1655640"/>
                <a:gridCol w="2376360"/>
                <a:gridCol w="1835280"/>
              </a:tblGrid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Тро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Фигуры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Звуковые средства вырази-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Изобразительные возможности лекс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Изобрази-тельные возможности синтакс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гория, аллитерация, гротеск, гипербола, ирония, литота, метафора, метонимия, олицетворе-ние, перифраза, синекдоха, сравнение, эпит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фора, антитеза, бессоюзие, градация, инверсия, многосоюзие, параллелизм,  риторический вопрос, риторическое обращение, умолчание, элипсис, эпифора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ись, звукопо-дражание, аллитерация, ассонан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имы, контекстные антонимы, диалектизмы, жаргонизмы, заимств. слова, книжная лексика, неологизмы, окказионализмы, омонимы, просторечия, синонимы, контекстные синонимы, фразеологизмы, устаревшие слова, термины, экспрессивная разговорная лекс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ды однородных членов предложения, предложения с вводными словами, многосоюзие, бессоюзие, диалогичность изложения, парцеля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Скан041"/>
          <p:cNvPicPr/>
          <p:nvPr/>
        </p:nvPicPr>
        <p:blipFill>
          <a:blip r:embed="rId1"/>
          <a:stretch/>
        </p:blipFill>
        <p:spPr>
          <a:xfrm>
            <a:off x="4211640" y="260280"/>
            <a:ext cx="4573440" cy="63356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5"/>
          <p:cNvSpPr/>
          <p:nvPr/>
        </p:nvSpPr>
        <p:spPr>
          <a:xfrm>
            <a:off x="974160" y="2322360"/>
            <a:ext cx="189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Times New Roman"/>
              </a:rPr>
              <a:t>Тро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757080" y="1890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боты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55:32Z</dcterms:created>
  <dc:creator>Соловьева Ирина Владимировна</dc:creator>
  <dc:description/>
  <dc:language>en-US</dc:language>
  <cp:lastModifiedBy>Лаура</cp:lastModifiedBy>
  <dcterms:modified xsi:type="dcterms:W3CDTF">2011-07-26T12:48:09Z</dcterms:modified>
  <cp:revision>11</cp:revision>
  <dc:subject>Русский язык 11 класс</dc:subject>
  <dc:title>Художественный стиль речи</dc:title>
</cp:coreProperties>
</file>