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DD99-2B9D-478B-90B1-452D003E3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9F1C-4EE6-4BE2-9A1D-E96269063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DF35-768D-4916-9E87-94AAB7426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67ED-4CD6-4D4A-BBA6-B5298DC6B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CC24-80FE-4B44-AA0A-A445D2815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5789-A47C-4109-A404-E761F9A90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12BA-F022-498E-9767-6E8B2C824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42C1-3F5D-46E5-8EEB-ECDD8CE4C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9916-6F29-4881-AE03-10110E1F5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6B8-C630-4F1B-A214-82CFB6522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80D0-ED82-4F7B-B47C-92ED103BA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CF82-6A55-4979-AF9F-3760DB5C7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38B567-EBE0-47B6-B5AB-183CE033D7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62864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ПОЧЕМУ НЕВОЗМОЖН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УТОНУТ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В ГРЯЗЕВОМ ВУЛКАН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92"/>
                </a:solidFill>
                <a:latin typeface="Arial"/>
              </a:rPr>
              <a:t>Результ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92360" y="2924280"/>
            <a:ext cx="5832360" cy="3671640"/>
            <a:chOff x="1692360" y="2924280"/>
            <a:chExt cx="5832360" cy="36716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692360" y="2924280"/>
              <a:ext cx="5832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92360" y="2924280"/>
              <a:ext cx="5832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5280" y="981000"/>
            <a:ext cx="8207280" cy="1677240"/>
            <a:chOff x="395280" y="981000"/>
            <a:chExt cx="8207280" cy="1677240"/>
          </a:xfrm>
        </p:grpSpPr>
        <p:sp>
          <p:nvSpPr>
            <p:cNvPr id="86" name=""/>
            <p:cNvSpPr/>
            <p:nvPr/>
          </p:nvSpPr>
          <p:spPr>
            <a:xfrm>
              <a:off x="4930920" y="981000"/>
              <a:ext cx="367164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грязе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жидк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55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280" y="1054080"/>
              <a:ext cx="374508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те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00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38560" y="1341360"/>
              <a:ext cx="10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7200" spc="-1" strike="noStrike">
                  <a:solidFill>
                    <a:srgbClr val="000092"/>
                  </a:solidFill>
                  <a:latin typeface="Arial"/>
                </a:rPr>
                <a:t>&lt;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04640"/>
            <a:ext cx="78487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Итак, плотность грязи больше плотности моего тела, поэтому тело не тонет в грязевом вулк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86252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477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Грязевой вулкан Тизд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1268280"/>
            <a:ext cx="8207280" cy="5040360"/>
            <a:chOff x="468360" y="1268280"/>
            <a:chExt cx="8207280" cy="504036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82072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68360" y="1268280"/>
              <a:ext cx="82072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268280"/>
            <a:ext cx="78501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Находится в 150 м от Азовского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Это кратер диаметром 15-20 м с жидкой грязью сер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рязь содержит много минераль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Используется для лечения и профилактики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Ежедневно извергается 2,5 т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лубина вулкана примерно1,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3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О Тиздаре и его гр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11280" y="1197000"/>
            <a:ext cx="7858080" cy="5111640"/>
            <a:chOff x="611280" y="1197000"/>
            <a:chExt cx="7858080" cy="51116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11280" y="1197000"/>
              <a:ext cx="78580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1280" y="1197000"/>
              <a:ext cx="78580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4000" y="260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В вулкане невозможно уто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4360" y="1268280"/>
            <a:ext cx="7848360" cy="5151600"/>
            <a:chOff x="684360" y="1268280"/>
            <a:chExt cx="7848360" cy="51516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84360" y="1268280"/>
              <a:ext cx="7848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4360" y="1268280"/>
              <a:ext cx="7848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Сложно делать резкие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Цель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Выяснить, почему тело человека не тонет в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35280" y="1197000"/>
            <a:ext cx="5327640" cy="3862440"/>
            <a:chOff x="1835280" y="1197000"/>
            <a:chExt cx="5327640" cy="38624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835280" y="1197000"/>
              <a:ext cx="53276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835280" y="1197000"/>
              <a:ext cx="532764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20" y="5229360"/>
            <a:ext cx="87138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Гипотеза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Тело человека не тонет в 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, т. к.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ь грязи больше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и тел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9636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89000"/>
            <a:ext cx="84963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600" spc="-1" strike="noStrike" u="sng">
                <a:solidFill>
                  <a:srgbClr val="003399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моего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Сравнить найденные пл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349360"/>
            <a:ext cx="594180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учение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Взвеш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Фотограф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27640" y="3357720"/>
            <a:ext cx="4321080" cy="3089160"/>
            <a:chOff x="4427640" y="3357720"/>
            <a:chExt cx="4321080" cy="30891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427640" y="3357720"/>
              <a:ext cx="4321080" cy="30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427640" y="3357720"/>
              <a:ext cx="4321080" cy="30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1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19200" y="3754440"/>
            <a:ext cx="114480" cy="460440"/>
            <a:chOff x="2419200" y="3754440"/>
            <a:chExt cx="114480" cy="46044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2419200" y="375444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2419200" y="3754440"/>
              <a:ext cx="114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63640" y="155736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</a:t>
            </a:r>
            <a:r>
              <a:rPr b="1" i="1" lang="en-GB" sz="1800" spc="-1" strike="noStrike">
                <a:solidFill>
                  <a:srgbClr val="000092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масса /объ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1720" y="50720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тела 100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500040" y="1785960"/>
            <a:ext cx="9864720" cy="3384360"/>
            <a:chOff x="-500040" y="1785960"/>
            <a:chExt cx="9864720" cy="33843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-500040" y="1785960"/>
              <a:ext cx="986472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39960" y="300996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92"/>
                  </a:solidFill>
                  <a:latin typeface="Arial"/>
                </a:rPr>
                <a:t>Объём = 22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0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2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гр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62864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Создание аре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Измерение плотности гр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грязи равна 155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95640" y="3573360"/>
            <a:ext cx="4392360" cy="291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80360" y="1413000"/>
            <a:ext cx="1166760" cy="5086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0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------</dc:creator>
  <dc:description/>
  <dc:language>en-US</dc:language>
  <cp:lastModifiedBy>школа</cp:lastModifiedBy>
  <cp:revision>0</cp:revision>
  <dc:subject/>
  <dc:title>Слайд 1</dc:title>
</cp:coreProperties>
</file>