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EB31-3267-43C3-B621-A9527E38B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AE70-A6A7-4FB5-8BD0-1EA7D3027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2F20-A5EB-464C-9C0A-20F24F5EC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A60F-4441-4BE0-826A-5BDA0CB19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7806-3261-4769-A6E6-8348F3E1C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2C3C-30B2-4C13-B997-86D44D7CE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26B2-B50E-4F3C-91BA-E8E1C6564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B663-DE29-4ED3-ACEC-B1E66793E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9E10-D16A-4B63-B8E0-90623FFA8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7510-E615-432D-8C07-F16C532BE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C463-C297-47D7-97BD-4419B48B6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B7BA-B28F-4AD5-A932-BCA057A22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68F78E-19CC-4F6D-8645-B7CE215133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162864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ПОЧЕМУ НЕВОЗМОЖН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УТОНУТ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52"/>
                    </a:gs>
                    <a:gs pos="50000">
                      <a:srgbClr val="003399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Unicode MS"/>
              </a:rPr>
              <a:t>В ГРЯЗЕВОМ ВУЛКАН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52"/>
                  </a:gs>
                  <a:gs pos="50000">
                    <a:srgbClr val="003399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92"/>
                </a:solidFill>
                <a:latin typeface="Arial"/>
              </a:rPr>
              <a:t>Результ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92360" y="2924280"/>
            <a:ext cx="5832360" cy="3671640"/>
            <a:chOff x="1692360" y="2924280"/>
            <a:chExt cx="5832360" cy="36716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692360" y="2924280"/>
              <a:ext cx="58323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92360" y="2924280"/>
              <a:ext cx="5832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95280" y="981000"/>
            <a:ext cx="8207280" cy="1677240"/>
            <a:chOff x="395280" y="981000"/>
            <a:chExt cx="8207280" cy="1677240"/>
          </a:xfrm>
        </p:grpSpPr>
        <p:sp>
          <p:nvSpPr>
            <p:cNvPr id="86" name=""/>
            <p:cNvSpPr/>
            <p:nvPr/>
          </p:nvSpPr>
          <p:spPr>
            <a:xfrm>
              <a:off x="4930920" y="981000"/>
              <a:ext cx="367164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грязе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жидк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55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280" y="1054080"/>
              <a:ext cx="374508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Плотность те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000" spc="-1" strike="noStrike">
                  <a:solidFill>
                    <a:srgbClr val="000092"/>
                  </a:solidFill>
                  <a:latin typeface="Arial"/>
                </a:rPr>
                <a:t>чел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3200" spc="-1" strike="noStrike">
                  <a:solidFill>
                    <a:srgbClr val="000092"/>
                  </a:solidFill>
                  <a:latin typeface="Arial"/>
                </a:rPr>
                <a:t>1000 кг/м</a:t>
              </a:r>
              <a:r>
                <a:rPr b="1" i="1" lang="en-GB" sz="3200" spc="-1" strike="noStrike" baseline="30000">
                  <a:solidFill>
                    <a:srgbClr val="000092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38560" y="1341360"/>
              <a:ext cx="10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7200" spc="-1" strike="noStrike">
                  <a:solidFill>
                    <a:srgbClr val="000092"/>
                  </a:solidFill>
                  <a:latin typeface="Arial"/>
                </a:rPr>
                <a:t>&lt;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dur="indefinite" fill="hold">
                      <p:stCondLst>
                        <p:cond delay="0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404640"/>
            <a:ext cx="78487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Итак, плотность грязи больше плотности моего тела, поэтому тело не тонет в грязевом вулк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4862520" cy="33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477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Грязевой вулкан Тизд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1268280"/>
            <a:ext cx="8207280" cy="5040360"/>
            <a:chOff x="468360" y="1268280"/>
            <a:chExt cx="8207280" cy="504036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68360" y="1268280"/>
              <a:ext cx="8207280" cy="50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68360" y="1268280"/>
              <a:ext cx="820728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0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268280"/>
            <a:ext cx="78501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Находится в 150 м от Азовского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Это кратер диаметром 15-20 м с жидкой грязью серого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рязь содержит много минераль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Используется для лечения и профилактики заболе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Ежедневно извергается 2,5 т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</a:rPr>
              <a:t>Глубина вулкана примерно1,5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3336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О Тиздаре и его гр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11280" y="1197000"/>
            <a:ext cx="7858080" cy="5111640"/>
            <a:chOff x="611280" y="1197000"/>
            <a:chExt cx="7858080" cy="51116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611280" y="1197000"/>
              <a:ext cx="785808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11280" y="1197000"/>
              <a:ext cx="78580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4000" y="26028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3399"/>
                </a:solidFill>
                <a:latin typeface="Arial"/>
              </a:rPr>
              <a:t>В вулкане невозможно уто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4360" y="1268280"/>
            <a:ext cx="7848360" cy="5151600"/>
            <a:chOff x="684360" y="1268280"/>
            <a:chExt cx="7848360" cy="51516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84360" y="1268280"/>
              <a:ext cx="7848360" cy="515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84360" y="1268280"/>
              <a:ext cx="7848360" cy="51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92"/>
                </a:solidFill>
                <a:latin typeface="Arial"/>
              </a:rPr>
              <a:t>Сложно делать резкие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0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896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Цель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Выяснить, почему тело человека не тонет в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35280" y="1197000"/>
            <a:ext cx="5327640" cy="3862440"/>
            <a:chOff x="1835280" y="1197000"/>
            <a:chExt cx="5327640" cy="38624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835280" y="1197000"/>
              <a:ext cx="53276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835280" y="1197000"/>
              <a:ext cx="532764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50920" y="5229360"/>
            <a:ext cx="87138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Гипотеза: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 Тело человека не тонет в грязевой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жидкости, т. к.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ь грязи больше 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3399"/>
                </a:solidFill>
                <a:latin typeface="Arial"/>
              </a:rPr>
              <a:t>плотности тела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96360" y="2060640"/>
            <a:ext cx="1368360" cy="2303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2"/>
                    </a:gs>
                    <a:gs pos="100000">
                      <a:srgbClr val="00005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92"/>
                  </a:gs>
                  <a:gs pos="100000">
                    <a:srgbClr val="00005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dur="indefinite" fill="hold">
                      <p:stCondLst>
                        <p:cond delay="0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89000"/>
            <a:ext cx="849636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600" spc="-1" strike="noStrike" u="sng">
                <a:solidFill>
                  <a:srgbClr val="003399"/>
                </a:solidFill>
                <a:uFillTx/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моего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йти плотность гр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3399"/>
                </a:solidFill>
                <a:latin typeface="Arial"/>
                <a:ea typeface="Arial Unicode MS"/>
              </a:rPr>
              <a:t>Сравнить найденные пл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349360"/>
            <a:ext cx="594180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 u="sng">
                <a:solidFill>
                  <a:srgbClr val="003399"/>
                </a:solidFill>
                <a:uFillTx/>
                <a:latin typeface="Arial"/>
              </a:rPr>
              <a:t>Мет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учение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Взвеш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Изме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604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Arial"/>
                <a:ea typeface="Arial Unicode MS"/>
              </a:rPr>
              <a:t>Фотограф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27640" y="3357720"/>
            <a:ext cx="4321080" cy="3089160"/>
            <a:chOff x="4427640" y="3357720"/>
            <a:chExt cx="4321080" cy="30891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4427640" y="3357720"/>
              <a:ext cx="4321080" cy="30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427640" y="3357720"/>
              <a:ext cx="4321080" cy="30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1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19200" y="3754440"/>
            <a:ext cx="114480" cy="460440"/>
            <a:chOff x="2419200" y="3754440"/>
            <a:chExt cx="114480" cy="46044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2419200" y="375444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2419200" y="3754440"/>
              <a:ext cx="1144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63640" y="155736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</a:t>
            </a:r>
            <a:r>
              <a:rPr b="1" i="1" lang="en-GB" sz="1800" spc="-1" strike="noStrike">
                <a:solidFill>
                  <a:srgbClr val="000092"/>
                </a:solidFill>
                <a:latin typeface="Arial"/>
              </a:rPr>
              <a:t> = </a:t>
            </a: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масса /объ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71720" y="50720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тела 100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500040" y="1785960"/>
            <a:ext cx="9864720" cy="3384360"/>
            <a:chOff x="-500040" y="1785960"/>
            <a:chExt cx="9864720" cy="33843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-500040" y="1785960"/>
              <a:ext cx="9864720" cy="33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739960" y="300996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2400" spc="-1" strike="noStrike">
                  <a:solidFill>
                    <a:srgbClr val="000092"/>
                  </a:solidFill>
                  <a:latin typeface="Arial"/>
                </a:rPr>
                <a:t>Объём = 22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0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Задача 2. </a:t>
            </a:r>
            <a:br>
              <a:rPr sz="3200"/>
            </a:br>
            <a:r>
              <a:rPr b="1" i="1" lang="en-GB" sz="3200" spc="-1" strike="noStrike">
                <a:solidFill>
                  <a:srgbClr val="000092"/>
                </a:solidFill>
                <a:latin typeface="Arial"/>
              </a:rPr>
              <a:t>Нахождение плотности гр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628640"/>
            <a:ext cx="640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Создание аре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Измерение плотности гр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92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400" spc="-1" strike="noStrike">
                <a:solidFill>
                  <a:srgbClr val="000092"/>
                </a:solidFill>
                <a:latin typeface="Arial"/>
              </a:rPr>
              <a:t>Плотность грязи равна 1550 кг/м</a:t>
            </a:r>
            <a:r>
              <a:rPr b="1" i="1" lang="en-GB" sz="2400" spc="-1" strike="noStrike" baseline="30000">
                <a:solidFill>
                  <a:srgbClr val="00009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95640" y="3573360"/>
            <a:ext cx="4392360" cy="291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380360" y="1413000"/>
            <a:ext cx="1166760" cy="5086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dur="indefinite" fill="hold">
                      <p:stCondLst>
                        <p:cond delay="0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------</dc:creator>
  <dc:description/>
  <dc:language>en-US</dc:language>
  <cp:lastModifiedBy>школа</cp:lastModifiedBy>
  <cp:revision>0</cp:revision>
  <dc:subject/>
  <dc:title>Слайд 1</dc:title>
</cp:coreProperties>
</file>