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1B01-87BF-4944-AB29-506D119A2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560A-17D9-4DA8-A7FD-FE614D45B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2C49-C344-487A-951F-F4D2623F8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AF39-8BE3-46AB-A487-6F2E32B4E4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D033-F7C6-43A0-B552-0D2785CF12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4D77-F4E6-4848-809A-EC564C6EE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9154-DF8F-432F-94AA-DD6E6F8E2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782B-5668-4675-8656-B692DF99C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8D95-769C-4B2A-BBE3-F6036109B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922D-275A-410B-98F7-C1C8FE9E4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7F35-AD48-41E5-B430-86FD2872C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ADA6-5637-4265-9F53-4EC72900A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9CC148-786F-4BE7-8549-843D6BE617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628640"/>
            <a:ext cx="8209080" cy="30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ПОЧЕМУ НЕВОЗМОЖНО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52"/>
                  </a:gs>
                  <a:gs pos="50000">
                    <a:srgbClr val="003399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УТОНУТЬ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52"/>
                  </a:gs>
                  <a:gs pos="50000">
                    <a:srgbClr val="003399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В ГРЯЗЕВОМ ВУЛКАН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52"/>
                  </a:gs>
                  <a:gs pos="50000">
                    <a:srgbClr val="003399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92"/>
                </a:solidFill>
                <a:latin typeface="Arial"/>
              </a:rPr>
              <a:t>Результ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92360" y="2924280"/>
            <a:ext cx="5832360" cy="3671640"/>
            <a:chOff x="1692360" y="2924280"/>
            <a:chExt cx="5832360" cy="367164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692360" y="2924280"/>
              <a:ext cx="583236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692360" y="2924280"/>
              <a:ext cx="583236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95280" y="981000"/>
            <a:ext cx="8207280" cy="1677240"/>
            <a:chOff x="395280" y="981000"/>
            <a:chExt cx="8207280" cy="1677240"/>
          </a:xfrm>
        </p:grpSpPr>
        <p:sp>
          <p:nvSpPr>
            <p:cNvPr id="86" name=""/>
            <p:cNvSpPr/>
            <p:nvPr/>
          </p:nvSpPr>
          <p:spPr>
            <a:xfrm>
              <a:off x="4930920" y="981000"/>
              <a:ext cx="3671640" cy="16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92"/>
                  </a:solidFill>
                  <a:latin typeface="Arial"/>
                </a:rPr>
                <a:t>Плотность грязев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92"/>
                  </a:solidFill>
                  <a:latin typeface="Arial"/>
                </a:rPr>
                <a:t>жидк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3200" spc="-1" strike="noStrike">
                  <a:solidFill>
                    <a:srgbClr val="000092"/>
                  </a:solidFill>
                  <a:latin typeface="Arial"/>
                </a:rPr>
                <a:t>1550 кг/м</a:t>
              </a:r>
              <a:r>
                <a:rPr b="1" i="1" lang="en-GB" sz="3200" spc="-1" strike="noStrike" baseline="30000">
                  <a:solidFill>
                    <a:srgbClr val="000092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5280" y="1054080"/>
              <a:ext cx="3745080" cy="16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92"/>
                  </a:solidFill>
                  <a:latin typeface="Arial"/>
                </a:rPr>
                <a:t>Плотность те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92"/>
                  </a:solidFill>
                  <a:latin typeface="Arial"/>
                </a:rPr>
                <a:t>челове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3200" spc="-1" strike="noStrike">
                  <a:solidFill>
                    <a:srgbClr val="000092"/>
                  </a:solidFill>
                  <a:latin typeface="Arial"/>
                </a:rPr>
                <a:t>1000 кг/м</a:t>
              </a:r>
              <a:r>
                <a:rPr b="1" i="1" lang="en-GB" sz="3200" spc="-1" strike="noStrike" baseline="30000">
                  <a:solidFill>
                    <a:srgbClr val="000092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38560" y="1341360"/>
              <a:ext cx="10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7200" spc="-1" strike="noStrike">
                  <a:solidFill>
                    <a:srgbClr val="000092"/>
                  </a:solidFill>
                  <a:latin typeface="Arial"/>
                </a:rPr>
                <a:t>&lt;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0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404640"/>
            <a:ext cx="784872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92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Итак, плотность грязи больше плотности моего тела, поэтому тело не тонет в грязевом вулк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4862520" cy="33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0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47772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3399"/>
                </a:solidFill>
                <a:latin typeface="Arial"/>
              </a:rPr>
              <a:t>Грязевой вулкан Тизд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68360" y="1268280"/>
            <a:ext cx="8207280" cy="5040360"/>
            <a:chOff x="468360" y="1268280"/>
            <a:chExt cx="8207280" cy="504036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68360" y="1268280"/>
              <a:ext cx="820728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68360" y="1268280"/>
              <a:ext cx="820728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0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268280"/>
            <a:ext cx="78501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Находится в 150 м от Азовского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Это кратер диаметром 15-20 м с жидкой грязью сер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Грязь содержит много минераль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Используется для лечения и профилактики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Ежедневно извергается 2,5 т гр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Глубина вулкана примерно1,5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333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3399"/>
                </a:solidFill>
                <a:latin typeface="Arial"/>
              </a:rPr>
              <a:t>О Тиздаре и его гр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11280" y="1197000"/>
            <a:ext cx="7858080" cy="5111640"/>
            <a:chOff x="611280" y="1197000"/>
            <a:chExt cx="7858080" cy="511164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611280" y="1197000"/>
              <a:ext cx="785808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11280" y="1197000"/>
              <a:ext cx="785808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4000" y="2602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3399"/>
                </a:solidFill>
                <a:latin typeface="Arial"/>
              </a:rPr>
              <a:t>В вулкане невозможно утон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0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84360" y="1268280"/>
            <a:ext cx="7848360" cy="5151600"/>
            <a:chOff x="684360" y="1268280"/>
            <a:chExt cx="7848360" cy="51516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84360" y="1268280"/>
              <a:ext cx="7848360" cy="51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84360" y="1268280"/>
              <a:ext cx="7848360" cy="51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92"/>
                </a:solidFill>
                <a:latin typeface="Arial"/>
              </a:rPr>
              <a:t>Сложно делать резкие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0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89000"/>
            <a:ext cx="896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Цель: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 Выяснить, почему тело человека не тонет в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грязевой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35280" y="1197000"/>
            <a:ext cx="5327640" cy="3862440"/>
            <a:chOff x="1835280" y="1197000"/>
            <a:chExt cx="5327640" cy="386244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1835280" y="1197000"/>
              <a:ext cx="532764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835280" y="1197000"/>
              <a:ext cx="532764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50920" y="5229360"/>
            <a:ext cx="87138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Гипотеза: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 Тело человека не тонет в грязевой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жидкости, т. к.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плотность грязи больше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плотности тела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2060640"/>
            <a:ext cx="136836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2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92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96360" y="2060640"/>
            <a:ext cx="136836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2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92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0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189000"/>
            <a:ext cx="849636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3600" spc="-1" strike="noStrike" u="sng">
                <a:solidFill>
                  <a:srgbClr val="003399"/>
                </a:solidFill>
                <a:uFillTx/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  <a:ea typeface="Arial Unicode MS"/>
              </a:rPr>
              <a:t>Найти плотность моего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  <a:ea typeface="Arial Unicode MS"/>
              </a:rPr>
              <a:t>Найти плотность гр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  <a:ea typeface="Arial Unicode MS"/>
              </a:rPr>
              <a:t>Сравнить найденные пл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349360"/>
            <a:ext cx="594180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Мет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Изучение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Взвеш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Фотограф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427640" y="3357720"/>
            <a:ext cx="4321080" cy="3089160"/>
            <a:chOff x="4427640" y="3357720"/>
            <a:chExt cx="4321080" cy="30891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4427640" y="3357720"/>
              <a:ext cx="4321080" cy="30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427640" y="3357720"/>
              <a:ext cx="4321080" cy="30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0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Задача 1. </a:t>
            </a:r>
            <a:br>
              <a:rPr sz="3200"/>
            </a:b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Нахождение плотности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19200" y="3754440"/>
            <a:ext cx="114480" cy="460440"/>
            <a:chOff x="2419200" y="3754440"/>
            <a:chExt cx="114480" cy="460440"/>
          </a:xfrm>
        </p:grpSpPr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2419200" y="375444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1" name=""/>
            <p:cNvSpPr/>
            <p:nvPr/>
          </p:nvSpPr>
          <p:spPr>
            <a:xfrm>
              <a:off x="2419200" y="3754440"/>
              <a:ext cx="1144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63640" y="155736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Плотность </a:t>
            </a:r>
            <a:r>
              <a:rPr b="1" i="1" lang="en-GB" sz="1800" spc="-1" strike="noStrike">
                <a:solidFill>
                  <a:srgbClr val="000092"/>
                </a:solidFill>
                <a:latin typeface="Arial"/>
              </a:rPr>
              <a:t> = </a:t>
            </a: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масса /объ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71720" y="50720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Плотность тела 1000 кг/м</a:t>
            </a:r>
            <a:r>
              <a:rPr b="1" i="1" lang="en-GB" sz="2400" spc="-1" strike="noStrike" baseline="30000">
                <a:solidFill>
                  <a:srgbClr val="00009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-500040" y="1785960"/>
            <a:ext cx="9864720" cy="3384360"/>
            <a:chOff x="-500040" y="1785960"/>
            <a:chExt cx="9864720" cy="33843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-500040" y="1785960"/>
              <a:ext cx="9864720" cy="33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739960" y="300996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92"/>
                  </a:solidFill>
                  <a:latin typeface="Arial"/>
                </a:rPr>
                <a:t>Объём = 22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0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Задача 2. </a:t>
            </a:r>
            <a:br>
              <a:rPr sz="3200"/>
            </a:b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Нахождение плотности гря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1628640"/>
            <a:ext cx="640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92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Создание арео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92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Измерение плотности гр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92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Плотность грязи равна 1550 кг/м</a:t>
            </a:r>
            <a:r>
              <a:rPr b="1" i="1" lang="en-GB" sz="2400" spc="-1" strike="noStrike" baseline="30000">
                <a:solidFill>
                  <a:srgbClr val="00009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95640" y="3573360"/>
            <a:ext cx="4392360" cy="291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380360" y="1413000"/>
            <a:ext cx="1166760" cy="5086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dur="indefinite" fill="hold">
                      <p:stCondLst>
                        <p:cond delay="0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------</dc:creator>
  <dc:description/>
  <dc:language>en-US</dc:language>
  <cp:lastModifiedBy>школа</cp:lastModifiedBy>
  <cp:revision>0</cp:revision>
  <dc:subject/>
  <dc:title>Слайд 1</dc:title>
</cp:coreProperties>
</file>