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24F-E217-42DA-81AC-A1F1257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3EB-8F9D-4164-ABC6-3E415A5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647-6966-43BA-919A-C47D0E04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055-7592-4D64-A84B-31E80EB9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C76-1996-43A7-93E6-1B3D93B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F3E-6183-48D1-9EE8-C50DFC08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E51-250C-43D9-8D00-40E8A4F1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2F8-5D84-4999-978E-8B1C2E64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8AD-232A-4805-88F8-91AE8FE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ED1-368B-481C-9E6B-7935A00E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986-1661-44A9-BF21-8D5AF0D0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81E-FD6F-4ABA-A7DE-4CC1DE1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9D8D-DAB1-40AD-84C7-8C679DEA9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load/321-1-0-36995" TargetMode="External"/><Relationship Id="rId3" Type="http://schemas.openxmlformats.org/officeDocument/2006/relationships/hyperlink" Target="http://pedsovet.su/load/321-1-0-36995" TargetMode="External"/><Relationship Id="rId4" Type="http://schemas.openxmlformats.org/officeDocument/2006/relationships/hyperlink" Target="http://pedsovet.su/load/321-1-0-36995" TargetMode="External"/><Relationship Id="rId5" Type="http://schemas.openxmlformats.org/officeDocument/2006/relationships/hyperlink" Target="http://pedsovet.su/load/321-1-0-36995" TargetMode="External"/><Relationship Id="rId6" Type="http://schemas.openxmlformats.org/officeDocument/2006/relationships/hyperlink" Target="http://pedsovet.su/load/321-1-0-36995" TargetMode="External"/><Relationship Id="rId7" Type="http://schemas.openxmlformats.org/officeDocument/2006/relationships/hyperlink" Target="http://pedsovet.su/load/321-1-0-36995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1844280"/>
            <a:ext cx="648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Нотная грамота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по музыке</a:t>
            </a:r>
            <a:br>
              <a:rPr sz="4400"/>
            </a:br>
            <a:r>
              <a:rPr b="1" lang="en-US" sz="4400" spc="-1" strike="noStrike">
                <a:solidFill>
                  <a:srgbClr val="e4b644"/>
                </a:solidFill>
                <a:latin typeface="Tahoma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86900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ставила учитель музы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ГУ «Школа-гимназия №10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г. Усть-Каменогор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рвачёва Оксана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76360" y="278136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Использованные материал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246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pedsovet.s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load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321-1-0-36995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шаблон презен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ульманова Ш.Б., Елеманова С.А., Валиуллина Р.Н., Маханова А.К., Саильянц А.А. Учебник для 3 класса «Музыка» - Алматы: Атам</a:t>
            </a:r>
            <a:r>
              <a:rPr b="1" lang="kk-KZ" sz="2400" spc="-1" strike="noStrike">
                <a:solidFill>
                  <a:srgbClr val="800000"/>
                </a:solidFill>
                <a:latin typeface="Times New Roman"/>
              </a:rPr>
              <a:t>ү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а, 2003.-128с стихи про н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Авторская разработка  изображение н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241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00332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ть у каждой ноты до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живёшь ты,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до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десь, на маленькой скам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добавочной линейк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03640" y="4149720"/>
            <a:ext cx="2520720" cy="2158560"/>
            <a:chOff x="3203640" y="4149720"/>
            <a:chExt cx="2520720" cy="2158560"/>
          </a:xfrm>
        </p:grpSpPr>
        <p:sp>
          <p:nvSpPr>
            <p:cNvPr id="46" name=""/>
            <p:cNvSpPr/>
            <p:nvPr/>
          </p:nvSpPr>
          <p:spPr>
            <a:xfrm>
              <a:off x="3203640" y="41497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3640" y="45421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3640" y="493452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3640" y="53272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3640" y="5719680"/>
              <a:ext cx="252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90880" y="6112080"/>
              <a:ext cx="91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0200" y="5915880"/>
              <a:ext cx="458280" cy="39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78480" y="5130720"/>
              <a:ext cx="0" cy="98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ре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 где ты жив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Где ты песенки поёш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Отгадать сумей-ка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д первою линейко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59280" y="4221000"/>
            <a:ext cx="2665080" cy="2016000"/>
            <a:chOff x="3059280" y="4221000"/>
            <a:chExt cx="2665080" cy="2016000"/>
          </a:xfrm>
        </p:grpSpPr>
        <p:sp>
          <p:nvSpPr>
            <p:cNvPr id="57" name=""/>
            <p:cNvSpPr/>
            <p:nvPr/>
          </p:nvSpPr>
          <p:spPr>
            <a:xfrm>
              <a:off x="3059280" y="42210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9280" y="462888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9280" y="503604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9280" y="544392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59280" y="5851800"/>
              <a:ext cx="266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059000" y="5014440"/>
              <a:ext cx="482040" cy="1222560"/>
              <a:chOff x="4059000" y="5014440"/>
              <a:chExt cx="482040" cy="1222560"/>
            </a:xfrm>
          </p:grpSpPr>
          <p:sp>
            <p:nvSpPr>
              <p:cNvPr id="63" name=""/>
              <p:cNvSpPr/>
              <p:nvPr/>
            </p:nvSpPr>
            <p:spPr>
              <a:xfrm>
                <a:off x="4059000" y="5829480"/>
                <a:ext cx="482040" cy="40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4541040" y="5014440"/>
                <a:ext cx="0" cy="10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залезла вы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линейку села. Тиш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м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сейчас споё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Летит к морю самолёт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76720" y="4292640"/>
            <a:ext cx="2590560" cy="1872000"/>
            <a:chOff x="3276720" y="4292640"/>
            <a:chExt cx="2590560" cy="1872000"/>
          </a:xfrm>
        </p:grpSpPr>
        <p:sp>
          <p:nvSpPr>
            <p:cNvPr id="68" name=""/>
            <p:cNvSpPr/>
            <p:nvPr/>
          </p:nvSpPr>
          <p:spPr>
            <a:xfrm>
              <a:off x="3276720" y="42926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469584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50979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76720" y="55011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590436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312800" y="4956480"/>
              <a:ext cx="468720" cy="1208160"/>
              <a:chOff x="4312800" y="4956480"/>
              <a:chExt cx="468720" cy="1208160"/>
            </a:xfrm>
          </p:grpSpPr>
          <p:sp>
            <p:nvSpPr>
              <p:cNvPr id="74" name=""/>
              <p:cNvSpPr/>
              <p:nvPr/>
            </p:nvSpPr>
            <p:spPr>
              <a:xfrm>
                <a:off x="4312800" y="5762160"/>
                <a:ext cx="468720" cy="402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781520" y="4956480"/>
                <a:ext cx="0" cy="10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6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Фа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 глядит в окош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Между первой и втор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есно ей немножко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32000" y="4365720"/>
            <a:ext cx="2448000" cy="1726920"/>
            <a:chOff x="3132000" y="4365720"/>
            <a:chExt cx="2448000" cy="1726920"/>
          </a:xfrm>
        </p:grpSpPr>
        <p:sp>
          <p:nvSpPr>
            <p:cNvPr id="79" name=""/>
            <p:cNvSpPr/>
            <p:nvPr/>
          </p:nvSpPr>
          <p:spPr>
            <a:xfrm>
              <a:off x="3132000" y="43657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32000" y="47916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32000" y="521676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2000" y="564192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32000" y="6067800"/>
              <a:ext cx="24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40000" y="4816440"/>
              <a:ext cx="442800" cy="1276200"/>
              <a:chOff x="4140000" y="4816440"/>
              <a:chExt cx="442800" cy="1276200"/>
            </a:xfrm>
          </p:grpSpPr>
          <p:sp>
            <p:nvSpPr>
              <p:cNvPr id="85" name=""/>
              <p:cNvSpPr/>
              <p:nvPr/>
            </p:nvSpPr>
            <p:spPr>
              <a:xfrm>
                <a:off x="4140000" y="5667480"/>
                <a:ext cx="442800" cy="425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582800" y="4816440"/>
                <a:ext cx="0" cy="106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98100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второй линейке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оль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 нотой «фа» встре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Если скажешь «фа» и «соль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лово получаетс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59280" y="4221000"/>
            <a:ext cx="2808000" cy="1944720"/>
            <a:chOff x="3059280" y="4221000"/>
            <a:chExt cx="2808000" cy="1944720"/>
          </a:xfrm>
        </p:grpSpPr>
        <p:sp>
          <p:nvSpPr>
            <p:cNvPr id="90" name=""/>
            <p:cNvSpPr/>
            <p:nvPr/>
          </p:nvSpPr>
          <p:spPr>
            <a:xfrm>
              <a:off x="3059280" y="4221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9280" y="4707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59280" y="519336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9280" y="567900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59280" y="616572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15240" y="4392720"/>
              <a:ext cx="507960" cy="1457280"/>
              <a:chOff x="4215240" y="4392720"/>
              <a:chExt cx="507960" cy="1457280"/>
            </a:xfrm>
          </p:grpSpPr>
          <p:sp>
            <p:nvSpPr>
              <p:cNvPr id="96" name=""/>
              <p:cNvSpPr/>
              <p:nvPr/>
            </p:nvSpPr>
            <p:spPr>
              <a:xfrm>
                <a:off x="4215240" y="5364360"/>
                <a:ext cx="50796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723200" y="439272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67640" y="5372280"/>
            <a:ext cx="12412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67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А вы меня заметили?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росила нота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ля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-Между второй и треть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ижу удобно 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16360" y="4292640"/>
            <a:ext cx="3024000" cy="1944720"/>
            <a:chOff x="2916360" y="4292640"/>
            <a:chExt cx="3024000" cy="1944720"/>
          </a:xfrm>
        </p:grpSpPr>
        <p:sp>
          <p:nvSpPr>
            <p:cNvPr id="101" name=""/>
            <p:cNvSpPr/>
            <p:nvPr/>
          </p:nvSpPr>
          <p:spPr>
            <a:xfrm>
              <a:off x="2916360" y="4292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16360" y="4779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6360" y="52650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6360" y="575064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6360" y="623736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161600" y="4292640"/>
              <a:ext cx="546840" cy="1457280"/>
              <a:chOff x="4161600" y="4292640"/>
              <a:chExt cx="546840" cy="14572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61600" y="5264280"/>
                <a:ext cx="546840" cy="48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4708440" y="4292640"/>
                <a:ext cx="0" cy="121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96360" y="5300640"/>
            <a:ext cx="131256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6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98100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А на линейке третьей «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си</a:t>
            </a: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»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На самой серединке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Споёт, когда ни попрос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Так звонко, без запи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16360" y="4221000"/>
            <a:ext cx="3095640" cy="2087280"/>
            <a:chOff x="2916360" y="4221000"/>
            <a:chExt cx="3095640" cy="2087280"/>
          </a:xfrm>
        </p:grpSpPr>
        <p:sp>
          <p:nvSpPr>
            <p:cNvPr id="112" name=""/>
            <p:cNvSpPr/>
            <p:nvPr/>
          </p:nvSpPr>
          <p:spPr>
            <a:xfrm>
              <a:off x="2916360" y="42210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16360" y="469440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16360" y="516744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563976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6113520"/>
              <a:ext cx="3095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91120" y="4889520"/>
              <a:ext cx="559800" cy="1418760"/>
              <a:chOff x="4191120" y="4889520"/>
              <a:chExt cx="559800" cy="1418760"/>
            </a:xfrm>
          </p:grpSpPr>
          <p:sp>
            <p:nvSpPr>
              <p:cNvPr id="118" name=""/>
              <p:cNvSpPr/>
              <p:nvPr/>
            </p:nvSpPr>
            <p:spPr>
              <a:xfrm flipH="1" flipV="1">
                <a:off x="4190760" y="4889160"/>
                <a:ext cx="559800" cy="47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91120" y="5127120"/>
                <a:ext cx="0" cy="1181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302080"/>
            <a:ext cx="12412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67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642520" cy="27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90792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Звуки   выстроились  в  ряд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Tahoma"/>
              </a:rPr>
              <a:t>Получился  звукоряд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885080" y="5589720"/>
            <a:ext cx="102564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6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Customer</cp:lastModifiedBy>
  <dcterms:modified xsi:type="dcterms:W3CDTF">2013-07-23T10:55:25Z</dcterms:modified>
  <cp:revision>38</cp:revision>
  <dc:subject/>
  <dc:title>Слайд 1</dc:title>
</cp:coreProperties>
</file>