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397-1A74-4E2C-8183-DD346BB0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CA6-3904-498A-A4DC-5B27B85D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C60-C4D1-4D27-9421-D3A2C5CD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54F-0DD0-45C5-A8F6-D7D3CDF9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500-8EC5-4E78-804B-86AC7B75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399-FE08-4BED-8558-8CA496AA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33E-B6DF-4CE0-B91A-10B2F22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985-81EA-491B-91A7-E65C40C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77C-8A73-4334-825E-7B6B001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0CA-E9E8-43A2-BC06-1C72C11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3DE-791A-44C0-AB95-E92F522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980-C3F8-4F02-B808-780A7D5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1E4D-42E2-4DFB-BDEA-A663BF4AB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load/321-1-0-36995" TargetMode="External"/><Relationship Id="rId3" Type="http://schemas.openxmlformats.org/officeDocument/2006/relationships/hyperlink" Target="http://pedsovet.su/load/321-1-0-36995" TargetMode="External"/><Relationship Id="rId4" Type="http://schemas.openxmlformats.org/officeDocument/2006/relationships/hyperlink" Target="http://pedsovet.su/load/321-1-0-36995" TargetMode="External"/><Relationship Id="rId5" Type="http://schemas.openxmlformats.org/officeDocument/2006/relationships/hyperlink" Target="http://pedsovet.su/load/321-1-0-36995" TargetMode="External"/><Relationship Id="rId6" Type="http://schemas.openxmlformats.org/officeDocument/2006/relationships/hyperlink" Target="http://pedsovet.su/load/321-1-0-36995" TargetMode="External"/><Relationship Id="rId7" Type="http://schemas.openxmlformats.org/officeDocument/2006/relationships/hyperlink" Target="http://pedsovet.su/load/321-1-0-36995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6481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Нотная грамота</a:t>
            </a:r>
            <a:br>
              <a:rPr sz="4400"/>
            </a:b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по музыке</a:t>
            </a:r>
            <a:br>
              <a:rPr sz="4400"/>
            </a:b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86900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ставила учитель музы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ГУ «Школа-гимназия №10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г. Усть-Каменогор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рвачёва Оксана Федо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76360" y="278136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Использованные материал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2464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pedsovet.s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load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321-1-0-36995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шаблон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ульманова Ш.Б., Елеманова С.А., Валиуллина Р.Н., Маханова А.К., Саильянц А.А. Учебник для 3 класса «Музыка» - Алматы: Атам</a:t>
            </a:r>
            <a:r>
              <a:rPr b="1" lang="kk-KZ" sz="2400" spc="-1" strike="noStrike">
                <a:solidFill>
                  <a:srgbClr val="800000"/>
                </a:solidFill>
                <a:latin typeface="Times New Roman"/>
              </a:rPr>
              <a:t>ү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а, 2003.-128с стихи про н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вторская разработка  изображение н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24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00332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Есть у каждой ноты до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Где живёшь ты, 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до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Здесь, на маленькой скамейк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добавочной линейк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03640" y="4149720"/>
            <a:ext cx="2520720" cy="2158560"/>
            <a:chOff x="3203640" y="4149720"/>
            <a:chExt cx="2520720" cy="2158560"/>
          </a:xfrm>
        </p:grpSpPr>
        <p:sp>
          <p:nvSpPr>
            <p:cNvPr id="46" name=""/>
            <p:cNvSpPr/>
            <p:nvPr/>
          </p:nvSpPr>
          <p:spPr>
            <a:xfrm>
              <a:off x="3203640" y="41497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3640" y="45421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3640" y="49345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03640" y="532728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3640" y="571968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90880" y="6112080"/>
              <a:ext cx="91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0200" y="5915880"/>
              <a:ext cx="458280" cy="39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78480" y="5130720"/>
              <a:ext cx="0" cy="98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ре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, где ты живёш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Где ты песенки поёш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Отгадать сумей-ка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Под первою линейко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59280" y="4221000"/>
            <a:ext cx="2665080" cy="2016000"/>
            <a:chOff x="3059280" y="4221000"/>
            <a:chExt cx="2665080" cy="2016000"/>
          </a:xfrm>
        </p:grpSpPr>
        <p:sp>
          <p:nvSpPr>
            <p:cNvPr id="57" name=""/>
            <p:cNvSpPr/>
            <p:nvPr/>
          </p:nvSpPr>
          <p:spPr>
            <a:xfrm>
              <a:off x="3059280" y="422100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59280" y="462888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9280" y="503604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59280" y="544392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59280" y="585180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059000" y="5014440"/>
              <a:ext cx="482040" cy="1222560"/>
              <a:chOff x="4059000" y="5014440"/>
              <a:chExt cx="482040" cy="1222560"/>
            </a:xfrm>
          </p:grpSpPr>
          <p:sp>
            <p:nvSpPr>
              <p:cNvPr id="63" name=""/>
              <p:cNvSpPr/>
              <p:nvPr/>
            </p:nvSpPr>
            <p:spPr>
              <a:xfrm>
                <a:off x="4059000" y="5829480"/>
                <a:ext cx="482040" cy="40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4541040" y="5014440"/>
                <a:ext cx="0" cy="10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2472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6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м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залезла выш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линейку села. Тиш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м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сейчас споё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Летит к морю самолёт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76720" y="4292640"/>
            <a:ext cx="2590560" cy="1872000"/>
            <a:chOff x="3276720" y="4292640"/>
            <a:chExt cx="2590560" cy="1872000"/>
          </a:xfrm>
        </p:grpSpPr>
        <p:sp>
          <p:nvSpPr>
            <p:cNvPr id="68" name=""/>
            <p:cNvSpPr/>
            <p:nvPr/>
          </p:nvSpPr>
          <p:spPr>
            <a:xfrm>
              <a:off x="3276720" y="429264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469584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76720" y="50979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55011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59043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312800" y="4956480"/>
              <a:ext cx="468720" cy="1208160"/>
              <a:chOff x="4312800" y="4956480"/>
              <a:chExt cx="468720" cy="1208160"/>
            </a:xfrm>
          </p:grpSpPr>
          <p:sp>
            <p:nvSpPr>
              <p:cNvPr id="74" name=""/>
              <p:cNvSpPr/>
              <p:nvPr/>
            </p:nvSpPr>
            <p:spPr>
              <a:xfrm>
                <a:off x="4312800" y="5762160"/>
                <a:ext cx="468720" cy="40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4781520" y="4956480"/>
                <a:ext cx="0" cy="10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6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Между первой и втор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Фа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глядит в окошк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Между первой и втор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Тесно ей немножк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32000" y="4365720"/>
            <a:ext cx="2448000" cy="1726920"/>
            <a:chOff x="3132000" y="4365720"/>
            <a:chExt cx="2448000" cy="1726920"/>
          </a:xfrm>
        </p:grpSpPr>
        <p:sp>
          <p:nvSpPr>
            <p:cNvPr id="79" name=""/>
            <p:cNvSpPr/>
            <p:nvPr/>
          </p:nvSpPr>
          <p:spPr>
            <a:xfrm>
              <a:off x="3132000" y="43657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32000" y="479160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2000" y="521676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2000" y="56419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32000" y="606780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140000" y="4816440"/>
              <a:ext cx="442800" cy="1276200"/>
              <a:chOff x="4140000" y="4816440"/>
              <a:chExt cx="442800" cy="1276200"/>
            </a:xfrm>
          </p:grpSpPr>
          <p:sp>
            <p:nvSpPr>
              <p:cNvPr id="85" name=""/>
              <p:cNvSpPr/>
              <p:nvPr/>
            </p:nvSpPr>
            <p:spPr>
              <a:xfrm>
                <a:off x="4140000" y="5667480"/>
                <a:ext cx="442800" cy="42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582800" y="4816440"/>
                <a:ext cx="0" cy="106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12412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6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98100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второй линейке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соль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 нотой «фа» встречает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Если скажешь «фа» и «соль»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лово получает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059280" y="4221000"/>
            <a:ext cx="2808000" cy="1944720"/>
            <a:chOff x="3059280" y="4221000"/>
            <a:chExt cx="2808000" cy="1944720"/>
          </a:xfrm>
        </p:grpSpPr>
        <p:sp>
          <p:nvSpPr>
            <p:cNvPr id="90" name=""/>
            <p:cNvSpPr/>
            <p:nvPr/>
          </p:nvSpPr>
          <p:spPr>
            <a:xfrm>
              <a:off x="3059280" y="422100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470736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59280" y="519336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9280" y="567900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59280" y="616572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15240" y="4392720"/>
              <a:ext cx="507960" cy="1457280"/>
              <a:chOff x="4215240" y="4392720"/>
              <a:chExt cx="507960" cy="1457280"/>
            </a:xfrm>
          </p:grpSpPr>
          <p:sp>
            <p:nvSpPr>
              <p:cNvPr id="96" name=""/>
              <p:cNvSpPr/>
              <p:nvPr/>
            </p:nvSpPr>
            <p:spPr>
              <a:xfrm>
                <a:off x="4215240" y="5364360"/>
                <a:ext cx="507960" cy="48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4723200" y="4392720"/>
                <a:ext cx="0" cy="121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67640" y="5372280"/>
            <a:ext cx="12412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6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-А вы меня заметили?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росила 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ля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-Между второй и треть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ижу удобно 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16360" y="4292640"/>
            <a:ext cx="3024000" cy="1944720"/>
            <a:chOff x="2916360" y="4292640"/>
            <a:chExt cx="3024000" cy="1944720"/>
          </a:xfrm>
        </p:grpSpPr>
        <p:sp>
          <p:nvSpPr>
            <p:cNvPr id="101" name=""/>
            <p:cNvSpPr/>
            <p:nvPr/>
          </p:nvSpPr>
          <p:spPr>
            <a:xfrm>
              <a:off x="2916360" y="429264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16360" y="47790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6360" y="52650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16360" y="575064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16360" y="623736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161600" y="4292640"/>
              <a:ext cx="546840" cy="1457280"/>
              <a:chOff x="4161600" y="4292640"/>
              <a:chExt cx="546840" cy="1457280"/>
            </a:xfrm>
          </p:grpSpPr>
          <p:sp>
            <p:nvSpPr>
              <p:cNvPr id="107" name=""/>
              <p:cNvSpPr/>
              <p:nvPr/>
            </p:nvSpPr>
            <p:spPr>
              <a:xfrm>
                <a:off x="4161600" y="5264280"/>
                <a:ext cx="546840" cy="48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4708440" y="4292640"/>
                <a:ext cx="0" cy="121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13125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6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А на линейке третьей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с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самой серединк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оёт, когда ни попрос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Так звонко, без запин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16360" y="4221000"/>
            <a:ext cx="3095640" cy="2087280"/>
            <a:chOff x="2916360" y="4221000"/>
            <a:chExt cx="3095640" cy="2087280"/>
          </a:xfrm>
        </p:grpSpPr>
        <p:sp>
          <p:nvSpPr>
            <p:cNvPr id="112" name=""/>
            <p:cNvSpPr/>
            <p:nvPr/>
          </p:nvSpPr>
          <p:spPr>
            <a:xfrm>
              <a:off x="2916360" y="422100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16360" y="469440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6360" y="516744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6360" y="563976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611352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91120" y="4889520"/>
              <a:ext cx="559800" cy="1418760"/>
              <a:chOff x="4191120" y="4889520"/>
              <a:chExt cx="559800" cy="1418760"/>
            </a:xfrm>
          </p:grpSpPr>
          <p:sp>
            <p:nvSpPr>
              <p:cNvPr id="118" name=""/>
              <p:cNvSpPr/>
              <p:nvPr/>
            </p:nvSpPr>
            <p:spPr>
              <a:xfrm flipH="1" flipV="1">
                <a:off x="4190760" y="4889160"/>
                <a:ext cx="559800" cy="47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91120" y="5127120"/>
                <a:ext cx="0" cy="118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302080"/>
            <a:ext cx="12412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6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8642520" cy="275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90792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Звуки   выстроились  в  ряд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Получился  звукоряд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885080" y="5589720"/>
            <a:ext cx="10256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66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Customer</cp:lastModifiedBy>
  <dcterms:modified xsi:type="dcterms:W3CDTF">2013-07-23T10:55:25Z</dcterms:modified>
  <cp:revision>38</cp:revision>
  <dc:subject/>
  <dc:title>Слайд 1</dc:title>
</cp:coreProperties>
</file>