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8.gif" ContentType="image/gif"/>
  <Override PartName="/ppt/media/image5.wmf" ContentType="image/x-wmf"/>
  <Override PartName="/ppt/media/image6.wmf" ContentType="image/x-wmf"/>
  <Override PartName="/ppt/media/image7.gif" ContentType="image/gif"/>
  <Override PartName="/ppt/media/image9.gif" ContentType="image/gif"/>
  <Override PartName="/ppt/media/image1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1D22-4589-4166-9500-6CDB5A572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73A5-9525-4C88-8947-25C6CB886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6D76-8B4D-43D8-BEF7-E5D903314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F115-D872-4DAF-AA68-8C55A62C2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8DC7E-E2CC-4003-93BE-21A4E3605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BF7A1-A4E0-404A-8454-510237A66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2D2D5-FEBD-4099-9019-CF5E1CBAE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6CC9B-7C97-4624-9850-B0A92475C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AC832-CCF3-4917-BA48-6B1DD04C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4D344-40FA-4F44-89F2-9EA28F18F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52ACE-96F6-4F4A-950C-E78C1D98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D2A4-944A-44D4-9073-8C77F809E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7FBEC-6FCF-431B-AD9C-89F9CB15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493FE-64D9-4F02-8FFA-68919721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4988F-C9EE-4669-AE73-D592CC255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CDC26-C8A6-4312-9CC5-005326A32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0565F-05C0-4E9C-96F8-378BCC639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FB9B-438D-4287-8718-8C3AC9DEB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C771-A9D1-4187-859B-7DBDCF33F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9198-F218-4BB0-9A2D-E12CB4DDD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7E7A-08E4-4A28-A95A-B8B285218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1069-5F65-4B71-A7D5-B5545E7B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C562-EBE1-436D-8705-4B7CA804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7642-F2FB-46CD-A468-C37B8C10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D332A-BFEF-458D-9179-2D7E06C03E7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0CB76-CAE5-4D4C-9C26-66EBA44A12FC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.wmf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400" y="428760"/>
            <a:ext cx="871524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Уважаемые коллеги!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928960" y="2143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читель математики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лазовичской СО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уражского райо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рянской област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Мехедов Игорь Сергееви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428760" y="1357200"/>
            <a:ext cx="2857320" cy="4159440"/>
          </a:xfrm>
          <a:prstGeom prst="rect">
            <a:avLst/>
          </a:prstGeom>
          <a:ln w="0">
            <a:noFill/>
          </a:ln>
        </p:spPr>
      </p:pic>
      <p:sp>
        <p:nvSpPr>
          <p:cNvPr id="102" name="TextBox 4"/>
          <p:cNvSpPr/>
          <p:nvPr/>
        </p:nvSpPr>
        <p:spPr>
          <a:xfrm>
            <a:off x="4143240" y="1500120"/>
            <a:ext cx="392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Вас приветству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3643200" y="6143760"/>
            <a:ext cx="32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густ, 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2071440" y="1285560"/>
            <a:ext cx="4500360" cy="38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атематическая  реч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ышле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спешное обучение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атематик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Стрелка вправо 3"/>
          <p:cNvSpPr/>
          <p:nvPr/>
        </p:nvSpPr>
        <p:spPr>
          <a:xfrm rot="5400000">
            <a:off x="3821760" y="1392840"/>
            <a:ext cx="500040" cy="2858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000000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4"/>
          <p:cNvSpPr/>
          <p:nvPr/>
        </p:nvSpPr>
        <p:spPr>
          <a:xfrm rot="5400000">
            <a:off x="3857040" y="2643120"/>
            <a:ext cx="57168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000000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Стрелка вправо 5"/>
          <p:cNvSpPr/>
          <p:nvPr/>
        </p:nvSpPr>
        <p:spPr>
          <a:xfrm rot="5400000">
            <a:off x="3785760" y="3786120"/>
            <a:ext cx="714240" cy="285480"/>
          </a:xfrm>
          <a:prstGeom prst="rightArrow">
            <a:avLst>
              <a:gd name="adj1" fmla="val 50000"/>
              <a:gd name="adj2" fmla="val 50038"/>
            </a:avLst>
          </a:prstGeom>
          <a:solidFill>
            <a:srgbClr val="000000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Овал 6"/>
          <p:cNvSpPr/>
          <p:nvPr/>
        </p:nvSpPr>
        <p:spPr>
          <a:xfrm>
            <a:off x="1143000" y="5357880"/>
            <a:ext cx="3071880" cy="1214280"/>
          </a:xfrm>
          <a:prstGeom prst="ellipse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2060"/>
                </a:solidFill>
                <a:latin typeface="Tahoma"/>
              </a:rPr>
              <a:t>ГИ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Стрелка вправо 7"/>
          <p:cNvSpPr/>
          <p:nvPr/>
        </p:nvSpPr>
        <p:spPr>
          <a:xfrm rot="5400000">
            <a:off x="3999960" y="521496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000000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Овал 8"/>
          <p:cNvSpPr/>
          <p:nvPr/>
        </p:nvSpPr>
        <p:spPr>
          <a:xfrm>
            <a:off x="2143080" y="0"/>
            <a:ext cx="4000680" cy="1357200"/>
          </a:xfrm>
          <a:prstGeom prst="ellipse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Урок математ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Овал 10"/>
          <p:cNvSpPr/>
          <p:nvPr/>
        </p:nvSpPr>
        <p:spPr>
          <a:xfrm>
            <a:off x="4214880" y="5357880"/>
            <a:ext cx="3071880" cy="1214280"/>
          </a:xfrm>
          <a:prstGeom prst="ellipse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2060"/>
                </a:solidFill>
                <a:latin typeface="Tahoma"/>
              </a:rPr>
              <a:t>ЕГ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5"/>
          <p:cNvSpPr/>
          <p:nvPr/>
        </p:nvSpPr>
        <p:spPr>
          <a:xfrm>
            <a:off x="1224000" y="571680"/>
            <a:ext cx="7920000" cy="66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иемы развития математической ре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чевой образец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овесное упражнен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торен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яснение значения сл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тавление задан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ъяснен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ценка реч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казан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прос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исковые и репродуктивны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Приемы развития математической речи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58" name="Вертикальный свиток 4"/>
          <p:cNvGrpSpPr/>
          <p:nvPr/>
        </p:nvGrpSpPr>
        <p:grpSpPr>
          <a:xfrm>
            <a:off x="828720" y="2395440"/>
            <a:ext cx="7199280" cy="3773520"/>
            <a:chOff x="828720" y="2395440"/>
            <a:chExt cx="7199280" cy="3773520"/>
          </a:xfrm>
        </p:grpSpPr>
        <p:pic>
          <p:nvPicPr>
            <p:cNvPr id="159" name="Вертикальный свиток 4" descr=""/>
            <p:cNvPicPr/>
            <p:nvPr/>
          </p:nvPicPr>
          <p:blipFill>
            <a:blip r:embed="rId1"/>
            <a:stretch/>
          </p:blipFill>
          <p:spPr>
            <a:xfrm>
              <a:off x="828720" y="2395440"/>
              <a:ext cx="7199280" cy="377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1320840" y="2892600"/>
              <a:ext cx="6216480" cy="30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00000"/>
                  </a:solidFill>
                  <a:latin typeface="Tahoma"/>
                </a:rPr>
                <a:t>В первом действии найдем…,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00000"/>
                  </a:solidFill>
                  <a:latin typeface="Tahoma"/>
                </a:rPr>
                <a:t>для этого 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00000"/>
                  </a:solidFill>
                  <a:latin typeface="Tahoma"/>
                </a:rPr>
                <a:t>Во втором действии найдем …,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00000"/>
                  </a:solidFill>
                  <a:latin typeface="Tahoma"/>
                </a:rPr>
                <a:t>для этого …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TextBox 5"/>
          <p:cNvSpPr/>
          <p:nvPr/>
        </p:nvSpPr>
        <p:spPr>
          <a:xfrm>
            <a:off x="1500120" y="1214280"/>
            <a:ext cx="721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ование общих устойчивых оборо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56840" y="1000080"/>
            <a:ext cx="592956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Алгоритмы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из глаголов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214280" y="1857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ahoma"/>
              </a:rPr>
              <a:t>Чтобы сложить два отрицательных числа, нужно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. Сложить …(их модули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. Поставить …(перед полученным числом знак -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ahoma"/>
              </a:rPr>
              <a:t>Чтобы найти процент от числа, нужно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 Записать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. Умножить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Прямоугольник 3"/>
          <p:cNvSpPr/>
          <p:nvPr/>
        </p:nvSpPr>
        <p:spPr>
          <a:xfrm>
            <a:off x="1143000" y="500040"/>
            <a:ext cx="7286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иемы развития математической реч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792920" cy="67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ловесное упражнение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rcRect l="0" t="0" r="48443" b="31030"/>
          <a:stretch/>
        </p:blipFill>
        <p:spPr>
          <a:xfrm>
            <a:off x="214200" y="2143080"/>
            <a:ext cx="3643560" cy="3846600"/>
          </a:xfrm>
          <a:prstGeom prst="rect">
            <a:avLst/>
          </a:prstGeom>
          <a:ln w="0">
            <a:noFill/>
          </a:ln>
        </p:spPr>
      </p:pic>
      <p:sp>
        <p:nvSpPr>
          <p:cNvPr id="167" name="TextBox 4"/>
          <p:cNvSpPr/>
          <p:nvPr/>
        </p:nvSpPr>
        <p:spPr>
          <a:xfrm>
            <a:off x="4143240" y="2000160"/>
            <a:ext cx="464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Задание: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Известен один из углов, найти остальные угл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4"/>
          <p:cNvSpPr/>
          <p:nvPr/>
        </p:nvSpPr>
        <p:spPr>
          <a:xfrm>
            <a:off x="1214280" y="500040"/>
            <a:ext cx="76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иемы развития математической ре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928600" y="714240"/>
            <a:ext cx="27781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Вопрос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TextBox 11"/>
          <p:cNvSpPr/>
          <p:nvPr/>
        </p:nvSpPr>
        <p:spPr>
          <a:xfrm>
            <a:off x="1500120" y="1643040"/>
            <a:ext cx="728676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Что помогло в работе над задачей (при вычислении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равил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форму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свойств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-ранее решенная задач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Что полезного возьмем на будущее из решения этого зада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ая соединительная линия 4"/>
          <p:cNvSpPr/>
          <p:nvPr/>
        </p:nvSpPr>
        <p:spPr>
          <a:xfrm>
            <a:off x="3071880" y="2143080"/>
            <a:ext cx="1857240" cy="180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ая соединительная линия 5"/>
          <p:cNvSpPr/>
          <p:nvPr/>
        </p:nvSpPr>
        <p:spPr>
          <a:xfrm>
            <a:off x="3429000" y="4857840"/>
            <a:ext cx="4429080" cy="144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6"/>
          <p:cNvSpPr/>
          <p:nvPr/>
        </p:nvSpPr>
        <p:spPr>
          <a:xfrm>
            <a:off x="857160" y="428760"/>
            <a:ext cx="80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иемы развития математической ре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Овал 8"/>
          <p:cNvSpPr/>
          <p:nvPr/>
        </p:nvSpPr>
        <p:spPr>
          <a:xfrm>
            <a:off x="6643800" y="2714760"/>
            <a:ext cx="2500200" cy="1500120"/>
          </a:xfrm>
          <a:prstGeom prst="ellipse">
            <a:avLst/>
          </a:prstGeom>
          <a:solidFill>
            <a:srgbClr val="bfbfbf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войств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Овал 9"/>
          <p:cNvSpPr/>
          <p:nvPr/>
        </p:nvSpPr>
        <p:spPr>
          <a:xfrm>
            <a:off x="0" y="2286000"/>
            <a:ext cx="4071960" cy="2286000"/>
          </a:xfrm>
          <a:prstGeom prst="ellipse">
            <a:avLst/>
          </a:prstGeom>
          <a:solidFill>
            <a:srgbClr val="bfbfbf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оказательство теорем развив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2"/>
          <p:cNvSpPr/>
          <p:nvPr/>
        </p:nvSpPr>
        <p:spPr>
          <a:xfrm>
            <a:off x="1214280" y="857160"/>
            <a:ext cx="76438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3"/>
          <p:cNvSpPr/>
          <p:nvPr/>
        </p:nvSpPr>
        <p:spPr>
          <a:xfrm>
            <a:off x="3857760" y="2786040"/>
            <a:ext cx="3000240" cy="928800"/>
          </a:xfrm>
          <a:prstGeom prst="rect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ahoma"/>
              </a:rPr>
              <a:t>вырази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4"/>
          <p:cNvSpPr/>
          <p:nvPr/>
        </p:nvSpPr>
        <p:spPr>
          <a:xfrm>
            <a:off x="3857760" y="4643280"/>
            <a:ext cx="3000240" cy="928800"/>
          </a:xfrm>
          <a:prstGeom prst="rect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ahoma"/>
              </a:rPr>
              <a:t>точ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5"/>
          <p:cNvSpPr/>
          <p:nvPr/>
        </p:nvSpPr>
        <p:spPr>
          <a:xfrm>
            <a:off x="3857760" y="1857240"/>
            <a:ext cx="3000240" cy="928800"/>
          </a:xfrm>
          <a:prstGeom prst="rect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ahoma"/>
              </a:rPr>
              <a:t>логич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6"/>
          <p:cNvSpPr/>
          <p:nvPr/>
        </p:nvSpPr>
        <p:spPr>
          <a:xfrm>
            <a:off x="3857760" y="3714840"/>
            <a:ext cx="3000240" cy="928440"/>
          </a:xfrm>
          <a:prstGeom prst="rect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ahoma"/>
              </a:rPr>
              <a:t>доказа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Стрелка вправо 10"/>
          <p:cNvSpPr/>
          <p:nvPr/>
        </p:nvSpPr>
        <p:spPr>
          <a:xfrm>
            <a:off x="3929040" y="3286080"/>
            <a:ext cx="2857680" cy="50004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573120" y="1098720"/>
            <a:ext cx="8570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Arial"/>
              </a:rPr>
              <a:t>Логико-математический анализ теор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1"/>
          <p:cNvSpPr/>
          <p:nvPr/>
        </p:nvSpPr>
        <p:spPr>
          <a:xfrm>
            <a:off x="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0" y="2571840"/>
          <a:ext cx="8929800" cy="3556080"/>
        </p:xfrm>
        <a:graphic>
          <a:graphicData uri="http://schemas.openxmlformats.org/drawingml/2006/table">
            <a:tbl>
              <a:tblPr/>
              <a:tblGrid>
                <a:gridCol w="1955880"/>
                <a:gridCol w="2041560"/>
                <a:gridCol w="2306520"/>
                <a:gridCol w="1398600"/>
                <a:gridCol w="1227240"/>
              </a:tblGrid>
              <a:tr h="1556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формулировки теорем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уктура теорем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егоричес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пликатив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ъяснительная ча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е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тикаль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лы рав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ли уг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тикальные, т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ни рав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оре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матривается 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ожестве люб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 углов 1 и 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лы 1 и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тикаль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ол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в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лу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Методические приемы развития математической речи  посредством доказательства теорем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214280" y="1856880"/>
            <a:ext cx="8229600" cy="481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ные доказательств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Разные чертеж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III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Использование слова «аналогично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сылки на утверждения, применяемые при доказательстве теорем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V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  Составление структурной схемы доказательств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Формулировка теоремы, обратной данной и   выяснение ее истин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II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спользование компьютера при работе над доказательством теоре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4"/>
          <p:cNvSpPr/>
          <p:nvPr/>
        </p:nvSpPr>
        <p:spPr>
          <a:xfrm>
            <a:off x="0" y="457200"/>
            <a:ext cx="360" cy="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8"/>
          <p:cNvSpPr/>
          <p:nvPr/>
        </p:nvSpPr>
        <p:spPr>
          <a:xfrm>
            <a:off x="0" y="619200"/>
            <a:ext cx="360" cy="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2"/>
          <p:cNvSpPr/>
          <p:nvPr/>
        </p:nvSpPr>
        <p:spPr>
          <a:xfrm>
            <a:off x="0" y="923760"/>
            <a:ext cx="360" cy="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5"/>
          <p:cNvSpPr/>
          <p:nvPr/>
        </p:nvSpPr>
        <p:spPr>
          <a:xfrm>
            <a:off x="0" y="1247760"/>
            <a:ext cx="360" cy="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39" descr="сканирование0004"/>
          <p:cNvPicPr/>
          <p:nvPr/>
        </p:nvPicPr>
        <p:blipFill>
          <a:blip r:embed="rId1"/>
          <a:srcRect l="33602" t="14885" r="13599" b="15419"/>
          <a:stretch/>
        </p:blipFill>
        <p:spPr>
          <a:xfrm>
            <a:off x="6786720" y="1714680"/>
            <a:ext cx="2357280" cy="269388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Группа 39"/>
          <p:cNvGrpSpPr/>
          <p:nvPr/>
        </p:nvGrpSpPr>
        <p:grpSpPr>
          <a:xfrm>
            <a:off x="857160" y="628560"/>
            <a:ext cx="7656480" cy="5511960"/>
            <a:chOff x="857160" y="628560"/>
            <a:chExt cx="7656480" cy="5511960"/>
          </a:xfrm>
        </p:grpSpPr>
        <p:grpSp>
          <p:nvGrpSpPr>
            <p:cNvPr id="194" name="Группа 34"/>
            <p:cNvGrpSpPr/>
            <p:nvPr/>
          </p:nvGrpSpPr>
          <p:grpSpPr>
            <a:xfrm>
              <a:off x="857160" y="628560"/>
              <a:ext cx="7656480" cy="5511960"/>
              <a:chOff x="857160" y="628560"/>
              <a:chExt cx="7656480" cy="5511960"/>
            </a:xfrm>
          </p:grpSpPr>
          <p:grpSp>
            <p:nvGrpSpPr>
              <p:cNvPr id="195" name="Group 1"/>
              <p:cNvGrpSpPr/>
              <p:nvPr/>
            </p:nvGrpSpPr>
            <p:grpSpPr>
              <a:xfrm>
                <a:off x="857160" y="3143160"/>
                <a:ext cx="7656480" cy="2997360"/>
                <a:chOff x="857160" y="3143160"/>
                <a:chExt cx="7656480" cy="2997360"/>
              </a:xfrm>
            </p:grpSpPr>
            <p:sp>
              <p:nvSpPr>
                <p:cNvPr id="196" name="Rectangle 21"/>
                <p:cNvSpPr/>
                <p:nvPr/>
              </p:nvSpPr>
              <p:spPr>
                <a:xfrm flipH="1" flipV="1" rot="10800000">
                  <a:off x="3646080" y="3143160"/>
                  <a:ext cx="1906920" cy="2997360"/>
                </a:xfrm>
                <a:prstGeom prst="rect">
                  <a:avLst/>
                </a:prstGeom>
                <a:solidFill>
                  <a:srgbClr val="8ef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Rectangle 19"/>
                <p:cNvSpPr/>
                <p:nvPr/>
              </p:nvSpPr>
              <p:spPr>
                <a:xfrm flipH="1" flipV="1" rot="10800000">
                  <a:off x="856800" y="3336120"/>
                  <a:ext cx="2254680" cy="797040"/>
                </a:xfrm>
                <a:prstGeom prst="rect">
                  <a:avLst/>
                </a:prstGeom>
                <a:solidFill>
                  <a:srgbClr val="8ef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АВС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равнобедренный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Rectangle 18"/>
                <p:cNvSpPr/>
                <p:nvPr/>
              </p:nvSpPr>
              <p:spPr>
                <a:xfrm flipH="1" flipV="1" rot="10800000">
                  <a:off x="3992760" y="3327120"/>
                  <a:ext cx="1213560" cy="598320"/>
                </a:xfrm>
                <a:prstGeom prst="rect">
                  <a:avLst/>
                </a:prstGeom>
                <a:solidFill>
                  <a:srgbClr val="8ef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АВ=АС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Line 17"/>
                <p:cNvSpPr/>
                <p:nvPr/>
              </p:nvSpPr>
              <p:spPr>
                <a:xfrm>
                  <a:off x="2953080" y="4941720"/>
                  <a:ext cx="866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Line 16"/>
                <p:cNvSpPr/>
                <p:nvPr/>
              </p:nvSpPr>
              <p:spPr>
                <a:xfrm>
                  <a:off x="1912680" y="4142160"/>
                  <a:ext cx="0" cy="599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Rectangle 15"/>
                <p:cNvSpPr/>
                <p:nvPr/>
              </p:nvSpPr>
              <p:spPr>
                <a:xfrm flipH="1" flipV="1" rot="10800000">
                  <a:off x="856800" y="4741560"/>
                  <a:ext cx="2254680" cy="600480"/>
                </a:xfrm>
                <a:prstGeom prst="rect">
                  <a:avLst/>
                </a:prstGeom>
                <a:solidFill>
                  <a:srgbClr val="8ef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А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D</a:t>
                  </a:r>
                  <a:r>
                    <a:rPr b="0" lang="ru-RU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- биссектриса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4"/>
                <p:cNvSpPr/>
                <p:nvPr/>
              </p:nvSpPr>
              <p:spPr>
                <a:xfrm>
                  <a:off x="3126240" y="3742560"/>
                  <a:ext cx="866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Rectangle 11"/>
                <p:cNvSpPr/>
                <p:nvPr/>
              </p:nvSpPr>
              <p:spPr>
                <a:xfrm flipH="1" flipV="1" rot="10800000">
                  <a:off x="3803400" y="4642920"/>
                  <a:ext cx="1560240" cy="498240"/>
                </a:xfrm>
                <a:prstGeom prst="rect">
                  <a:avLst/>
                </a:prstGeom>
                <a:solidFill>
                  <a:srgbClr val="8ef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7241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     </a:t>
                  </a:r>
                  <a:r>
                    <a:rPr b="0" lang="ru-RU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=   2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Rectangle 10"/>
                <p:cNvSpPr/>
                <p:nvPr/>
              </p:nvSpPr>
              <p:spPr>
                <a:xfrm flipH="1" flipV="1" rot="10800000">
                  <a:off x="3803400" y="5325840"/>
                  <a:ext cx="1560240" cy="598320"/>
                </a:xfrm>
                <a:prstGeom prst="rect">
                  <a:avLst/>
                </a:prstGeom>
                <a:solidFill>
                  <a:srgbClr val="8ef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А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D</a:t>
                  </a:r>
                  <a:r>
                    <a:rPr b="0" lang="ru-RU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 общая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Line 9"/>
                <p:cNvSpPr/>
                <p:nvPr/>
              </p:nvSpPr>
              <p:spPr>
                <a:xfrm>
                  <a:off x="5553720" y="4541760"/>
                  <a:ext cx="866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Rectangle 6"/>
                <p:cNvSpPr/>
                <p:nvPr/>
              </p:nvSpPr>
              <p:spPr>
                <a:xfrm flipH="1" flipV="1" rot="10800000">
                  <a:off x="6432840" y="4357440"/>
                  <a:ext cx="2080440" cy="600480"/>
                </a:xfrm>
                <a:prstGeom prst="rect">
                  <a:avLst/>
                </a:prstGeom>
                <a:solidFill>
                  <a:srgbClr val="8ef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     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ACD</a:t>
                  </a:r>
                  <a:r>
                    <a:rPr b="0" lang="ru-RU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= 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</a:t>
                  </a:r>
                  <a:r>
                    <a:rPr b="0" lang="ru-RU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АВ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D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Line 5"/>
                <p:cNvSpPr/>
                <p:nvPr/>
              </p:nvSpPr>
              <p:spPr>
                <a:xfrm>
                  <a:off x="7460640" y="4941720"/>
                  <a:ext cx="0" cy="599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Rectangle 2"/>
                <p:cNvSpPr/>
                <p:nvPr/>
              </p:nvSpPr>
              <p:spPr>
                <a:xfrm flipH="1" flipV="1" rot="10800000">
                  <a:off x="6593040" y="5539680"/>
                  <a:ext cx="1734480" cy="600120"/>
                </a:xfrm>
                <a:prstGeom prst="rect">
                  <a:avLst/>
                </a:prstGeom>
                <a:solidFill>
                  <a:srgbClr val="8ef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В=   С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aphicFrame>
            <p:nvGraphicFramePr>
              <p:cNvPr id="209" name="Object 20"/>
              <p:cNvGraphicFramePr/>
              <p:nvPr/>
            </p:nvGraphicFramePr>
            <p:xfrm>
              <a:off x="6500880" y="4357800"/>
              <a:ext cx="214200" cy="30456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210" name="Object 20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6500880" y="4357800"/>
                        <a:ext cx="214200" cy="304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11" name="Object 13"/>
              <p:cNvGraphicFramePr/>
              <p:nvPr/>
            </p:nvGraphicFramePr>
            <p:xfrm>
              <a:off x="4500360" y="4714920"/>
              <a:ext cx="304560" cy="28548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212" name="Object 13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4500360" y="4714920"/>
                        <a:ext cx="304560" cy="285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13" name="Object 12"/>
              <p:cNvGraphicFramePr/>
              <p:nvPr/>
            </p:nvGraphicFramePr>
            <p:xfrm>
              <a:off x="3929040" y="4643640"/>
              <a:ext cx="357120" cy="35712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214" name="Object 12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3929040" y="4643640"/>
                        <a:ext cx="357120" cy="357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15" name="Object 4"/>
              <p:cNvGraphicFramePr/>
              <p:nvPr/>
            </p:nvGraphicFramePr>
            <p:xfrm>
              <a:off x="7358400" y="5572440"/>
              <a:ext cx="285480" cy="295200"/>
            </p:xfrm>
            <a:graphic>
              <a:graphicData uri="http://schemas.openxmlformats.org/presentationml/2006/ole">
                <p:oleObj r:id="rId8" spid="">
                  <p:embed/>
                  <p:pic>
                    <p:nvPicPr>
                      <p:cNvPr id="216" name="Object 4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7358400" y="5572440"/>
                        <a:ext cx="285480" cy="29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17" name="Object 3"/>
              <p:cNvGraphicFramePr/>
              <p:nvPr/>
            </p:nvGraphicFramePr>
            <p:xfrm>
              <a:off x="6786720" y="5572440"/>
              <a:ext cx="357120" cy="295200"/>
            </p:xfrm>
            <a:graphic>
              <a:graphicData uri="http://schemas.openxmlformats.org/presentationml/2006/ole">
                <p:oleObj r:id="rId10" spid="">
                  <p:embed/>
                  <p:pic>
                    <p:nvPicPr>
                      <p:cNvPr id="218" name="Object 3" descr=""/>
                      <p:cNvPicPr/>
                      <p:nvPr/>
                    </p:nvPicPr>
                    <p:blipFill>
                      <a:blip r:embed="rId11"/>
                      <a:stretch/>
                    </p:blipFill>
                    <p:spPr>
                      <a:xfrm>
                        <a:off x="6786720" y="5572440"/>
                        <a:ext cx="357120" cy="29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19" name="Rectangle 22"/>
              <p:cNvSpPr/>
              <p:nvPr/>
            </p:nvSpPr>
            <p:spPr>
              <a:xfrm>
                <a:off x="1186920" y="628560"/>
                <a:ext cx="6829920" cy="155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521028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i="1" lang="ru-RU" sz="3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В равнобедренном треугольнике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521028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3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углы при основании равны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521028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TextBox 33"/>
              <p:cNvSpPr/>
              <p:nvPr/>
            </p:nvSpPr>
            <p:spPr>
              <a:xfrm>
                <a:off x="2000160" y="4357800"/>
                <a:ext cx="785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ДП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221" name="Object 40"/>
            <p:cNvGraphicFramePr/>
            <p:nvPr/>
          </p:nvGraphicFramePr>
          <p:xfrm>
            <a:off x="7500960" y="4429080"/>
            <a:ext cx="285480" cy="28548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222" name="Object 40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7500960" y="4429080"/>
                      <a:ext cx="28548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9720" y="714240"/>
            <a:ext cx="7792920" cy="89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одержательные разделы </a:t>
            </a:r>
            <a:br>
              <a:rPr sz="4400"/>
            </a:br>
            <a:r>
              <a:rPr b="0" lang="ru-RU" sz="3200" spc="-1" strike="noStrike">
                <a:solidFill>
                  <a:srgbClr val="0d0d0d"/>
                </a:solidFill>
                <a:latin typeface="Tahoma"/>
              </a:rPr>
              <a:t>(стандарты второго поколения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1214280" y="1928880"/>
            <a:ext cx="6072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рифмети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лгеб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ункци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роятность и статисти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ометр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>
            <a:off x="857160" y="457200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ОВЫЕ </a:t>
            </a: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РАЗДЕЛЫ</a:t>
            </a: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68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6800"/>
                </a:solidFill>
                <a:latin typeface="Arial"/>
              </a:rPr>
              <a:t>Логика и множества</a:t>
            </a:r>
            <a:r>
              <a:rPr b="0" lang="en-US" sz="3200" spc="-1" strike="noStrike">
                <a:solidFill>
                  <a:srgbClr val="8068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68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6800"/>
                </a:solidFill>
                <a:latin typeface="Arial"/>
              </a:rPr>
              <a:t>Математика в историческом</a:t>
            </a:r>
            <a:r>
              <a:rPr b="0" lang="en-US" sz="3200" spc="-1" strike="noStrike">
                <a:solidFill>
                  <a:srgbClr val="8068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806800"/>
                </a:solidFill>
                <a:latin typeface="Arial"/>
              </a:rPr>
              <a:t>развит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1285920" y="2786040"/>
            <a:ext cx="1255680" cy="455760"/>
          </a:xfrm>
          <a:prstGeom prst="rect">
            <a:avLst/>
          </a:prstGeom>
          <a:solidFill>
            <a:srgbClr val="ff0000">
              <a:alpha val="9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3357720" y="2786040"/>
            <a:ext cx="1257120" cy="455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5715000" y="2786040"/>
            <a:ext cx="125748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7"/>
          <p:cNvSpPr/>
          <p:nvPr/>
        </p:nvSpPr>
        <p:spPr>
          <a:xfrm>
            <a:off x="1357200" y="571680"/>
            <a:ext cx="635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Оценивание раб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7" descr="C:\Documents and Settings\Игорь  Мехедов\Мои документы\Все\картинки\Анимация\Смайлики\02.gif"/>
          <p:cNvPicPr/>
          <p:nvPr/>
        </p:nvPicPr>
        <p:blipFill>
          <a:blip r:embed="rId1"/>
          <a:stretch/>
        </p:blipFill>
        <p:spPr>
          <a:xfrm>
            <a:off x="3500280" y="3357720"/>
            <a:ext cx="1000440" cy="10000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C:\Documents and Settings\Игорь  Мехедов\Мои документы\Все\картинки\Анимация\Смайлики\04.gif"/>
          <p:cNvPicPr/>
          <p:nvPr/>
        </p:nvPicPr>
        <p:blipFill>
          <a:blip r:embed="rId2"/>
          <a:stretch/>
        </p:blipFill>
        <p:spPr>
          <a:xfrm>
            <a:off x="1428840" y="3286080"/>
            <a:ext cx="1143000" cy="11098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9" descr="C:\Documents and Settings\Игорь  Мехедов\Мои документы\Все\картинки\Анимация\Смайлики\12.gif"/>
          <p:cNvPicPr/>
          <p:nvPr/>
        </p:nvPicPr>
        <p:blipFill>
          <a:blip r:embed="rId3"/>
          <a:stretch/>
        </p:blipFill>
        <p:spPr>
          <a:xfrm>
            <a:off x="5857920" y="3333600"/>
            <a:ext cx="1000080" cy="1000440"/>
          </a:xfrm>
          <a:prstGeom prst="rect">
            <a:avLst/>
          </a:prstGeom>
          <a:ln w="0">
            <a:noFill/>
          </a:ln>
        </p:spPr>
      </p:pic>
      <p:sp>
        <p:nvSpPr>
          <p:cNvPr id="230" name="TextBox 11"/>
          <p:cNvSpPr/>
          <p:nvPr/>
        </p:nvSpPr>
        <p:spPr>
          <a:xfrm>
            <a:off x="1143000" y="2071800"/>
            <a:ext cx="714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цените свою речь на этом уро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9"/>
          <p:cNvSpPr/>
          <p:nvPr/>
        </p:nvSpPr>
        <p:spPr>
          <a:xfrm>
            <a:off x="1214280" y="4714920"/>
            <a:ext cx="62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Verdana"/>
              </a:rPr>
              <a:t>Самое полезное в жизни – </a:t>
            </a:r>
            <a:br>
              <a:rPr sz="2800"/>
            </a:br>
            <a:r>
              <a:rPr b="1" lang="ru-RU" sz="2800" spc="-1" strike="noStrike">
                <a:solidFill>
                  <a:srgbClr val="404040"/>
                </a:solidFill>
                <a:latin typeface="Verdana"/>
              </a:rPr>
              <a:t>это собственный опыт                                                   </a:t>
            </a:r>
            <a:r>
              <a:rPr b="1" i="1" lang="ru-RU" sz="2800" spc="-1" strike="noStrike">
                <a:solidFill>
                  <a:srgbClr val="404040"/>
                </a:solidFill>
                <a:latin typeface="Verdana"/>
              </a:rPr>
              <a:t>В. Скот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71360" y="428400"/>
            <a:ext cx="7792920" cy="1104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Рекомендации по оснащению учебного процесс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TextBox 4"/>
          <p:cNvSpPr/>
          <p:nvPr/>
        </p:nvSpPr>
        <p:spPr>
          <a:xfrm>
            <a:off x="500040" y="1928880"/>
            <a:ext cx="8143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бор таблиц по математике для 5-6 класса, по алгебре  и геомет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треты выдающихся  деятелей матема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лектронная б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ьютер, проектор, экран, интерактивная дос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ка магнитная с координатной сет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лект планиметрических и стереометрических т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лект для моделирования (цветная бумага, картон, калька, клей, ножницы, пластили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Прямоугольник 3" descr=""/>
          <p:cNvPicPr/>
          <p:nvPr/>
        </p:nvPicPr>
        <p:blipFill>
          <a:blip r:embed="rId1"/>
          <a:stretch/>
        </p:blipFill>
        <p:spPr>
          <a:xfrm>
            <a:off x="1133640" y="1719360"/>
            <a:ext cx="7887960" cy="267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50720" y="2854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Требования к уровню подготовки выпускников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357200" y="2000160"/>
            <a:ext cx="6532560" cy="20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нать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меть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нимать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71360" y="99972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Требования к результатам обучения и освоению содержания курс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143000" y="2642760"/>
            <a:ext cx="7772400" cy="17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личностном направлени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метапредметном направлени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предметном направлени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имерное тематическое планирова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28760" y="1928880"/>
          <a:ext cx="8286480" cy="4419360"/>
        </p:xfrm>
        <a:graphic>
          <a:graphicData uri="http://schemas.openxmlformats.org/drawingml/2006/table">
            <a:tbl>
              <a:tblPr/>
              <a:tblGrid>
                <a:gridCol w="3643200"/>
                <a:gridCol w="4643280"/>
              </a:tblGrid>
              <a:tr h="106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сновное содержание по тема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арактеристика основных видов </a:t>
                      </a:r>
                      <a:r>
                        <a:rPr b="1" lang="ru-RU" sz="2400" spc="-1" strike="noStrike">
                          <a:solidFill>
                            <a:srgbClr val="806800"/>
                          </a:solidFill>
                          <a:latin typeface="Tahoma"/>
                        </a:rPr>
                        <a:t>деятельности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учени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на уровне учебных действий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9194d"/>
                          </a:solidFill>
                          <a:latin typeface="Tahoma"/>
                        </a:rPr>
                        <a:t>Множе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3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ножество, элемент множества. Пустое множество. Подмножество. Объединение  и пересечение множеств. Иллюстрация отношений между множествами с помощью диаграмм Эйлера-Вен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иводить примеры конечных и бесконечных множеств. Находить объединение и пересечение множеств. Приводить примеры несложных классификаций из различных областей жизни. Иллюстрировать теоретико-множественные понятия с помощью кругов Эйлер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Прямая соединительная линия 9"/>
          <p:cNvSpPr/>
          <p:nvPr/>
        </p:nvSpPr>
        <p:spPr>
          <a:xfrm>
            <a:off x="357120" y="1928880"/>
            <a:ext cx="8358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13"/>
          <p:cNvSpPr/>
          <p:nvPr/>
        </p:nvSpPr>
        <p:spPr>
          <a:xfrm flipH="1">
            <a:off x="4070520" y="2000160"/>
            <a:ext cx="1440" cy="9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ая соединительная линия 17"/>
          <p:cNvSpPr/>
          <p:nvPr/>
        </p:nvSpPr>
        <p:spPr>
          <a:xfrm>
            <a:off x="357120" y="6286680"/>
            <a:ext cx="8358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Группа 28"/>
          <p:cNvGrpSpPr/>
          <p:nvPr/>
        </p:nvGrpSpPr>
        <p:grpSpPr>
          <a:xfrm>
            <a:off x="428760" y="2000160"/>
            <a:ext cx="8288280" cy="4287960"/>
            <a:chOff x="428760" y="2000160"/>
            <a:chExt cx="8288280" cy="4287960"/>
          </a:xfrm>
        </p:grpSpPr>
        <p:sp>
          <p:nvSpPr>
            <p:cNvPr id="117" name="Прямая соединительная линия 15"/>
            <p:cNvSpPr/>
            <p:nvPr/>
          </p:nvSpPr>
          <p:spPr>
            <a:xfrm>
              <a:off x="430200" y="3429000"/>
              <a:ext cx="8215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Прямая соединительная линия 19"/>
            <p:cNvSpPr/>
            <p:nvPr/>
          </p:nvSpPr>
          <p:spPr>
            <a:xfrm>
              <a:off x="8645760" y="2000160"/>
              <a:ext cx="71280" cy="428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Прямая соединительная линия 21"/>
            <p:cNvSpPr/>
            <p:nvPr/>
          </p:nvSpPr>
          <p:spPr>
            <a:xfrm flipH="1">
              <a:off x="428760" y="2001600"/>
              <a:ext cx="1440" cy="428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Прямая соединительная линия 23"/>
            <p:cNvSpPr/>
            <p:nvPr/>
          </p:nvSpPr>
          <p:spPr>
            <a:xfrm flipH="1">
              <a:off x="4071960" y="3430440"/>
              <a:ext cx="1440" cy="285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Прямая соединительная линия 27"/>
            <p:cNvSpPr/>
            <p:nvPr/>
          </p:nvSpPr>
          <p:spPr>
            <a:xfrm>
              <a:off x="430200" y="3000240"/>
              <a:ext cx="8143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опорци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Прямоугольник 3"/>
          <p:cNvSpPr/>
          <p:nvPr/>
        </p:nvSpPr>
        <p:spPr>
          <a:xfrm>
            <a:off x="1214280" y="2143080"/>
            <a:ext cx="1357560" cy="857160"/>
          </a:xfrm>
          <a:prstGeom prst="rect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5"/>
          <p:cNvSpPr/>
          <p:nvPr/>
        </p:nvSpPr>
        <p:spPr>
          <a:xfrm>
            <a:off x="3071880" y="2143080"/>
            <a:ext cx="1357200" cy="857160"/>
          </a:xfrm>
          <a:prstGeom prst="rect">
            <a:avLst/>
          </a:prstGeom>
          <a:solidFill>
            <a:srgbClr val="745d00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cf01"/>
                </a:solidFill>
                <a:latin typeface="Tahoma"/>
              </a:rPr>
              <a:t>1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6"/>
          <p:cNvSpPr/>
          <p:nvPr/>
        </p:nvSpPr>
        <p:spPr>
          <a:xfrm>
            <a:off x="5214960" y="2143080"/>
            <a:ext cx="1357200" cy="857160"/>
          </a:xfrm>
          <a:prstGeom prst="rect">
            <a:avLst/>
          </a:prstGeom>
          <a:solidFill>
            <a:srgbClr val="806800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cf01"/>
                </a:solidFill>
                <a:latin typeface="Tahoma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7"/>
          <p:cNvSpPr/>
          <p:nvPr/>
        </p:nvSpPr>
        <p:spPr>
          <a:xfrm>
            <a:off x="6929280" y="2143080"/>
            <a:ext cx="1357560" cy="857160"/>
          </a:xfrm>
          <a:prstGeom prst="rect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>
            <a:off x="2643120" y="1928880"/>
            <a:ext cx="42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9"/>
          <p:cNvSpPr/>
          <p:nvPr/>
        </p:nvSpPr>
        <p:spPr>
          <a:xfrm flipH="1">
            <a:off x="4500720" y="1928880"/>
            <a:ext cx="42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10"/>
          <p:cNvSpPr/>
          <p:nvPr/>
        </p:nvSpPr>
        <p:spPr>
          <a:xfrm>
            <a:off x="6500880" y="1928880"/>
            <a:ext cx="48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11"/>
          <p:cNvSpPr/>
          <p:nvPr/>
        </p:nvSpPr>
        <p:spPr>
          <a:xfrm>
            <a:off x="1214280" y="3357720"/>
            <a:ext cx="1357560" cy="857160"/>
          </a:xfrm>
          <a:prstGeom prst="rect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12"/>
          <p:cNvSpPr/>
          <p:nvPr/>
        </p:nvSpPr>
        <p:spPr>
          <a:xfrm>
            <a:off x="3071880" y="3357720"/>
            <a:ext cx="1357200" cy="857160"/>
          </a:xfrm>
          <a:prstGeom prst="rect">
            <a:avLst/>
          </a:prstGeom>
          <a:solidFill>
            <a:srgbClr val="745d00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cf01"/>
                </a:solidFill>
                <a:latin typeface="Tahoma"/>
              </a:rPr>
              <a:t>1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13"/>
          <p:cNvSpPr/>
          <p:nvPr/>
        </p:nvSpPr>
        <p:spPr>
          <a:xfrm>
            <a:off x="5214960" y="3357720"/>
            <a:ext cx="1357200" cy="857160"/>
          </a:xfrm>
          <a:prstGeom prst="rect">
            <a:avLst/>
          </a:prstGeom>
          <a:solidFill>
            <a:srgbClr val="806800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cf01"/>
                </a:solidFill>
                <a:latin typeface="Tahoma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14"/>
          <p:cNvSpPr/>
          <p:nvPr/>
        </p:nvSpPr>
        <p:spPr>
          <a:xfrm>
            <a:off x="6929280" y="3357720"/>
            <a:ext cx="1357560" cy="857160"/>
          </a:xfrm>
          <a:prstGeom prst="rect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15"/>
          <p:cNvSpPr/>
          <p:nvPr/>
        </p:nvSpPr>
        <p:spPr>
          <a:xfrm>
            <a:off x="2571840" y="3071880"/>
            <a:ext cx="32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16"/>
          <p:cNvSpPr/>
          <p:nvPr/>
        </p:nvSpPr>
        <p:spPr>
          <a:xfrm>
            <a:off x="6500880" y="3071880"/>
            <a:ext cx="50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17"/>
          <p:cNvSpPr/>
          <p:nvPr/>
        </p:nvSpPr>
        <p:spPr>
          <a:xfrm>
            <a:off x="4429080" y="3143160"/>
            <a:ext cx="57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18"/>
          <p:cNvSpPr/>
          <p:nvPr/>
        </p:nvSpPr>
        <p:spPr>
          <a:xfrm>
            <a:off x="3071880" y="4643280"/>
            <a:ext cx="1357200" cy="857520"/>
          </a:xfrm>
          <a:prstGeom prst="rect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19"/>
          <p:cNvSpPr/>
          <p:nvPr/>
        </p:nvSpPr>
        <p:spPr>
          <a:xfrm>
            <a:off x="3071880" y="5715000"/>
            <a:ext cx="1357200" cy="857160"/>
          </a:xfrm>
          <a:prstGeom prst="rect">
            <a:avLst/>
          </a:prstGeom>
          <a:solidFill>
            <a:srgbClr val="745d00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cf01"/>
                </a:solidFill>
                <a:latin typeface="Tahoma"/>
              </a:rPr>
              <a:t>1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20"/>
          <p:cNvSpPr/>
          <p:nvPr/>
        </p:nvSpPr>
        <p:spPr>
          <a:xfrm>
            <a:off x="5214960" y="4643280"/>
            <a:ext cx="1357200" cy="857520"/>
          </a:xfrm>
          <a:prstGeom prst="rect">
            <a:avLst/>
          </a:prstGeom>
          <a:solidFill>
            <a:srgbClr val="806800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cf01"/>
                </a:solidFill>
                <a:latin typeface="Tahoma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21"/>
          <p:cNvSpPr/>
          <p:nvPr/>
        </p:nvSpPr>
        <p:spPr>
          <a:xfrm>
            <a:off x="5214960" y="5715000"/>
            <a:ext cx="1357200" cy="857160"/>
          </a:xfrm>
          <a:prstGeom prst="rect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24"/>
          <p:cNvSpPr/>
          <p:nvPr/>
        </p:nvSpPr>
        <p:spPr>
          <a:xfrm>
            <a:off x="4572000" y="5072040"/>
            <a:ext cx="57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ая соединительная линия 33"/>
          <p:cNvSpPr/>
          <p:nvPr/>
        </p:nvSpPr>
        <p:spPr>
          <a:xfrm>
            <a:off x="2786040" y="5572080"/>
            <a:ext cx="1714680" cy="28800"/>
          </a:xfrm>
          <a:prstGeom prst="line">
            <a:avLst/>
          </a:prstGeom>
          <a:ln w="114480">
            <a:solidFill>
              <a:srgbClr val="000000">
                <a:alpha val="8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ая соединительная линия 47"/>
          <p:cNvSpPr/>
          <p:nvPr/>
        </p:nvSpPr>
        <p:spPr>
          <a:xfrm>
            <a:off x="5143680" y="5572080"/>
            <a:ext cx="1714320" cy="28800"/>
          </a:xfrm>
          <a:prstGeom prst="line">
            <a:avLst/>
          </a:prstGeom>
          <a:ln w="114480">
            <a:solidFill>
              <a:srgbClr val="000000">
                <a:alpha val="8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3.33333E-006 L 0.23941 -0.00047 E">
                                      <p:cBhvr>
                                        <p:cTn id="19" dur="3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1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3.33333E-006 L -0.63125 -0.00047 E">
                                      <p:cBhvr>
                                        <p:cTn id="25" dur="3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25 -0.00046 L 0.61754 -0.00093 E">
                                      <p:cBhvr>
                                        <p:cTn id="27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00080" y="20714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Тема самообразования: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Развитие математической речи учащихся на уроках математики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2"/>
          <p:cNvSpPr/>
          <p:nvPr/>
        </p:nvSpPr>
        <p:spPr>
          <a:xfrm>
            <a:off x="1071720" y="1214280"/>
            <a:ext cx="7858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Цел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иск путей решения проблемы развития математической речи учащих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50720" y="428400"/>
            <a:ext cx="679284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дачи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. Проанализировать методическую и психолого-педагогическую литературу по тем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.  Разработать приемы развития математической речи учащихс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. Разработать систему упражнений, способствующих развитию математической речи учащихся через доказательство теоре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. Оценить результаты работ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31T18:25:42Z</dcterms:created>
  <dc:creator>Игорь  Мехедов</dc:creator>
  <dc:description/>
  <dc:language>en-US</dc:language>
  <cp:lastModifiedBy>Игорь  Мехедов</cp:lastModifiedBy>
  <dcterms:modified xsi:type="dcterms:W3CDTF">2011-08-19T04:10:51Z</dcterms:modified>
  <cp:revision>71</cp:revision>
  <dc:subject/>
  <dc:title>Доказательство теорем как средство развития речи  учащихся 7 класса</dc:title>
</cp:coreProperties>
</file>