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wmf" ContentType="image/x-wmf"/>
  <Override PartName="/ppt/media/image6.wmf" ContentType="image/x-wmf"/>
  <Override PartName="/ppt/media/image7.gif" ContentType="image/gif"/>
  <Override PartName="/ppt/media/image9.gif" ContentType="image/gi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75E-4600-4A72-8918-4DA57035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6C7-AD6E-438C-9E63-2EC8E17F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8E9-0C87-4EDA-8615-A8B7B8D0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9BB-1D53-43AF-9D63-7F570659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F3A7-7917-4D15-B4F0-134D2C53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255F-66AA-4AC3-B766-A13A03AD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4088-0F53-4342-AA9C-0BC723D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6389-5FF7-4C8B-887D-8844E4FD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0E93-18B8-4CEF-B1D3-DAB1F56F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6B05-3D2E-4EA7-8479-D48D5D93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13CA-55F7-4A49-B071-67605D4D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596-0543-4513-A5FD-E00D012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8493-4097-4002-81C5-36D6F726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2B7B-EAFA-4EA8-9924-7F8F9BB3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AE8-6DD8-4666-B325-772EBFBD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3BB-4477-47B9-B488-274A0ACE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CFFD-0DA0-425A-A22D-123EEC3F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0A4-B773-4166-81CA-2B12C1F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61-E4CA-42D1-928C-C874F9E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054-E1A3-4A48-BF5D-AF7AE5AB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C60-8F39-4AD5-99DF-148198CF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924-C195-471F-AC68-CAF3D2DA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BC5-6C0C-4CDE-8D32-74EEB934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9DF-351D-4FDA-8F73-7CD3E98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33B-1E15-455A-9A7B-77D32C8B54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A24B-98D2-4FAF-B25B-DE6FA74EFD3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715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важаемые коллеги!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2896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лазовичской СО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ражского рай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янской обла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хедов Игорь Сергееви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2857320" cy="4159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4143240" y="1500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ас приветств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643200" y="6143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густ,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071440" y="1285560"/>
            <a:ext cx="450036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ческая  реч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пешное обучен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мат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трелка вправо 3"/>
          <p:cNvSpPr/>
          <p:nvPr/>
        </p:nvSpPr>
        <p:spPr>
          <a:xfrm rot="5400000">
            <a:off x="3821760" y="1392840"/>
            <a:ext cx="50004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4"/>
          <p:cNvSpPr/>
          <p:nvPr/>
        </p:nvSpPr>
        <p:spPr>
          <a:xfrm rot="5400000">
            <a:off x="3857040" y="2643120"/>
            <a:ext cx="57168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5"/>
          <p:cNvSpPr/>
          <p:nvPr/>
        </p:nvSpPr>
        <p:spPr>
          <a:xfrm rot="5400000">
            <a:off x="3785760" y="3786120"/>
            <a:ext cx="714240" cy="2854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6"/>
          <p:cNvSpPr/>
          <p:nvPr/>
        </p:nvSpPr>
        <p:spPr>
          <a:xfrm>
            <a:off x="1143000" y="5357880"/>
            <a:ext cx="3071880" cy="12142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ahoma"/>
              </a:rPr>
              <a:t>ГИ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7"/>
          <p:cNvSpPr/>
          <p:nvPr/>
        </p:nvSpPr>
        <p:spPr>
          <a:xfrm rot="5400000">
            <a:off x="3999960" y="521496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8"/>
          <p:cNvSpPr/>
          <p:nvPr/>
        </p:nvSpPr>
        <p:spPr>
          <a:xfrm>
            <a:off x="2143080" y="0"/>
            <a:ext cx="4000680" cy="135720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рок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"/>
          <p:cNvSpPr/>
          <p:nvPr/>
        </p:nvSpPr>
        <p:spPr>
          <a:xfrm>
            <a:off x="4214880" y="5357880"/>
            <a:ext cx="3071880" cy="12142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Tahoma"/>
              </a:rPr>
              <a:t>ЕГ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5"/>
          <p:cNvSpPr/>
          <p:nvPr/>
        </p:nvSpPr>
        <p:spPr>
          <a:xfrm>
            <a:off x="1224000" y="571680"/>
            <a:ext cx="79200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евой образ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упраж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снение значения сл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ение з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ясн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ре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овые и репродуктив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иемы развития математической речи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8" name="Вертикальный свиток 4"/>
          <p:cNvGrpSpPr/>
          <p:nvPr/>
        </p:nvGrpSpPr>
        <p:grpSpPr>
          <a:xfrm>
            <a:off x="828720" y="2395440"/>
            <a:ext cx="7199280" cy="3773520"/>
            <a:chOff x="828720" y="2395440"/>
            <a:chExt cx="7199280" cy="3773520"/>
          </a:xfrm>
        </p:grpSpPr>
        <p:pic>
          <p:nvPicPr>
            <p:cNvPr id="159" name="Вертикальный свиток 4" descr=""/>
            <p:cNvPicPr/>
            <p:nvPr/>
          </p:nvPicPr>
          <p:blipFill>
            <a:blip r:embed="rId1"/>
            <a:stretch/>
          </p:blipFill>
          <p:spPr>
            <a:xfrm>
              <a:off x="828720" y="2395440"/>
              <a:ext cx="719928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20840" y="2892600"/>
              <a:ext cx="6216480" cy="30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В первом действии найдем…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для этого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Во втором действии найдем …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ahoma"/>
                </a:rPr>
                <a:t>для этого …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"/>
          <p:cNvSpPr/>
          <p:nvPr/>
        </p:nvSpPr>
        <p:spPr>
          <a:xfrm>
            <a:off x="1500120" y="121428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общих устойчивых обор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56840" y="1000080"/>
            <a:ext cx="592956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из глагол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тобы сложить два отрицательных числа, нуж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ложить …(их модул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Поставить …(перед полученным числом знак -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Чтобы найти процент от числа, нужн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Записат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Умножит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143000" y="500040"/>
            <a:ext cx="728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весное упражн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0" t="0" r="48443" b="31030"/>
          <a:stretch/>
        </p:blipFill>
        <p:spPr>
          <a:xfrm>
            <a:off x="214200" y="2143080"/>
            <a:ext cx="3643560" cy="38466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143240" y="2000160"/>
            <a:ext cx="46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ние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звестен один из углов, найти остальные уг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1214280" y="5000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28600" y="714240"/>
            <a:ext cx="27781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1500120" y="1643040"/>
            <a:ext cx="728676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Что помогло в работе над задачей (при вычислении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у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вой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-ранее решенная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Что полезного возьмем на будущее из решения этого зад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4"/>
          <p:cNvSpPr/>
          <p:nvPr/>
        </p:nvSpPr>
        <p:spPr>
          <a:xfrm>
            <a:off x="3071880" y="2143080"/>
            <a:ext cx="185724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5"/>
          <p:cNvSpPr/>
          <p:nvPr/>
        </p:nvSpPr>
        <p:spPr>
          <a:xfrm>
            <a:off x="3429000" y="4857840"/>
            <a:ext cx="442908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857160" y="42876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емы развития математ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8"/>
          <p:cNvSpPr/>
          <p:nvPr/>
        </p:nvSpPr>
        <p:spPr>
          <a:xfrm>
            <a:off x="6643800" y="2714760"/>
            <a:ext cx="2500200" cy="15001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9"/>
          <p:cNvSpPr/>
          <p:nvPr/>
        </p:nvSpPr>
        <p:spPr>
          <a:xfrm>
            <a:off x="0" y="2286000"/>
            <a:ext cx="4071960" cy="22860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казательство теорем разв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214280" y="857160"/>
            <a:ext cx="76438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3857760" y="278604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выраз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"/>
          <p:cNvSpPr/>
          <p:nvPr/>
        </p:nvSpPr>
        <p:spPr>
          <a:xfrm>
            <a:off x="3857760" y="464328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т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3857760" y="1857240"/>
            <a:ext cx="3000240" cy="9288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лог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3857760" y="3714840"/>
            <a:ext cx="3000240" cy="92844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доказа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10"/>
          <p:cNvSpPr/>
          <p:nvPr/>
        </p:nvSpPr>
        <p:spPr>
          <a:xfrm>
            <a:off x="3929040" y="3286080"/>
            <a:ext cx="2857680" cy="500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573120" y="1098720"/>
            <a:ext cx="857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Логико-математический анализ теор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2571840"/>
          <a:ext cx="8929800" cy="3556080"/>
        </p:xfrm>
        <a:graphic>
          <a:graphicData uri="http://schemas.openxmlformats.org/drawingml/2006/table">
            <a:tbl>
              <a:tblPr/>
              <a:tblGrid>
                <a:gridCol w="1955880"/>
                <a:gridCol w="2041560"/>
                <a:gridCol w="2306520"/>
                <a:gridCol w="1398600"/>
                <a:gridCol w="1227240"/>
              </a:tblGrid>
              <a:tr h="1556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формулировки теоре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теорем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ликатив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ъяснительная ч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ы ра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уг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ные, 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и рав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ется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жестве люб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 углов 1 и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ы 1 и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тикаль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л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у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етодические приемы развития математической речи  посредством доказательства теорем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4280" y="185688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ые доказатель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Разные чертеж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спользование слова «аналогично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и на утверждения, применяемые при доказательстве теоре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 Составление структурной схемы доказательст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улировка теоремы, обратной данной и   выяснение ее истин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компьютера при работе над доказательством теор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0" y="61920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2"/>
          <p:cNvSpPr/>
          <p:nvPr/>
        </p:nvSpPr>
        <p:spPr>
          <a:xfrm>
            <a:off x="0" y="92376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5"/>
          <p:cNvSpPr/>
          <p:nvPr/>
        </p:nvSpPr>
        <p:spPr>
          <a:xfrm>
            <a:off x="0" y="1247760"/>
            <a:ext cx="360" cy="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9" descr="сканирование0004"/>
          <p:cNvPicPr/>
          <p:nvPr/>
        </p:nvPicPr>
        <p:blipFill>
          <a:blip r:embed="rId1"/>
          <a:srcRect l="33602" t="14885" r="13599" b="15419"/>
          <a:stretch/>
        </p:blipFill>
        <p:spPr>
          <a:xfrm>
            <a:off x="6786720" y="1714680"/>
            <a:ext cx="2357280" cy="269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39"/>
          <p:cNvGrpSpPr/>
          <p:nvPr/>
        </p:nvGrpSpPr>
        <p:grpSpPr>
          <a:xfrm>
            <a:off x="857160" y="628560"/>
            <a:ext cx="7656480" cy="5511960"/>
            <a:chOff x="857160" y="628560"/>
            <a:chExt cx="7656480" cy="5511960"/>
          </a:xfrm>
        </p:grpSpPr>
        <p:grpSp>
          <p:nvGrpSpPr>
            <p:cNvPr id="194" name="Группа 34"/>
            <p:cNvGrpSpPr/>
            <p:nvPr/>
          </p:nvGrpSpPr>
          <p:grpSpPr>
            <a:xfrm>
              <a:off x="857160" y="628560"/>
              <a:ext cx="7656480" cy="5511960"/>
              <a:chOff x="857160" y="628560"/>
              <a:chExt cx="7656480" cy="5511960"/>
            </a:xfrm>
          </p:grpSpPr>
          <p:grpSp>
            <p:nvGrpSpPr>
              <p:cNvPr id="195" name="Group 1"/>
              <p:cNvGrpSpPr/>
              <p:nvPr/>
            </p:nvGrpSpPr>
            <p:grpSpPr>
              <a:xfrm>
                <a:off x="857160" y="3143160"/>
                <a:ext cx="7656480" cy="2997360"/>
                <a:chOff x="857160" y="3143160"/>
                <a:chExt cx="7656480" cy="2997360"/>
              </a:xfrm>
            </p:grpSpPr>
            <p:sp>
              <p:nvSpPr>
                <p:cNvPr id="196" name="Rectangle 21"/>
                <p:cNvSpPr/>
                <p:nvPr/>
              </p:nvSpPr>
              <p:spPr>
                <a:xfrm flipH="1" flipV="1" rot="10800000">
                  <a:off x="3646080" y="3143160"/>
                  <a:ext cx="1906920" cy="299736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9"/>
                <p:cNvSpPr/>
                <p:nvPr/>
              </p:nvSpPr>
              <p:spPr>
                <a:xfrm flipH="1" flipV="1" rot="10800000">
                  <a:off x="856800" y="3336120"/>
                  <a:ext cx="2254680" cy="79704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равнобедренны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8"/>
                <p:cNvSpPr/>
                <p:nvPr/>
              </p:nvSpPr>
              <p:spPr>
                <a:xfrm flipH="1" flipV="1" rot="10800000">
                  <a:off x="3992760" y="3327120"/>
                  <a:ext cx="1213560" cy="5983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=А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>
                  <a:off x="2953080" y="4941720"/>
                  <a:ext cx="866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6"/>
                <p:cNvSpPr/>
                <p:nvPr/>
              </p:nvSpPr>
              <p:spPr>
                <a:xfrm>
                  <a:off x="1912680" y="4142160"/>
                  <a:ext cx="0" cy="59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15"/>
                <p:cNvSpPr/>
                <p:nvPr/>
              </p:nvSpPr>
              <p:spPr>
                <a:xfrm flipH="1" flipV="1" rot="10800000">
                  <a:off x="856800" y="4741560"/>
                  <a:ext cx="2254680" cy="60048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- биссектрис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4"/>
                <p:cNvSpPr/>
                <p:nvPr/>
              </p:nvSpPr>
              <p:spPr>
                <a:xfrm>
                  <a:off x="3126240" y="3742560"/>
                  <a:ext cx="86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1"/>
                <p:cNvSpPr/>
                <p:nvPr/>
              </p:nvSpPr>
              <p:spPr>
                <a:xfrm flipH="1" flipV="1" rot="10800000">
                  <a:off x="3803400" y="4642920"/>
                  <a:ext cx="1560240" cy="49824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7241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=   2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10"/>
                <p:cNvSpPr/>
                <p:nvPr/>
              </p:nvSpPr>
              <p:spPr>
                <a:xfrm flipH="1" flipV="1" rot="10800000">
                  <a:off x="3803400" y="5325840"/>
                  <a:ext cx="1560240" cy="5983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общая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"/>
                <p:cNvSpPr/>
                <p:nvPr/>
              </p:nvSpPr>
              <p:spPr>
                <a:xfrm>
                  <a:off x="5553720" y="4541760"/>
                  <a:ext cx="866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6"/>
                <p:cNvSpPr/>
                <p:nvPr/>
              </p:nvSpPr>
              <p:spPr>
                <a:xfrm flipH="1" flipV="1" rot="10800000">
                  <a:off x="6432840" y="4357440"/>
                  <a:ext cx="2080440" cy="60048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CD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=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АВ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5"/>
                <p:cNvSpPr/>
                <p:nvPr/>
              </p:nvSpPr>
              <p:spPr>
                <a:xfrm>
                  <a:off x="7460640" y="4941720"/>
                  <a:ext cx="0" cy="599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2"/>
                <p:cNvSpPr/>
                <p:nvPr/>
              </p:nvSpPr>
              <p:spPr>
                <a:xfrm flipH="1" flipV="1" rot="10800000">
                  <a:off x="6593040" y="5539680"/>
                  <a:ext cx="1734480" cy="600120"/>
                </a:xfrm>
                <a:prstGeom prst="rect">
                  <a:avLst/>
                </a:prstGeom>
                <a:solidFill>
                  <a:srgbClr val="8e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В=   С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09" name="Object 20"/>
              <p:cNvGraphicFramePr/>
              <p:nvPr/>
            </p:nvGraphicFramePr>
            <p:xfrm>
              <a:off x="6500880" y="4357800"/>
              <a:ext cx="214200" cy="3045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10" name="Object 20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500880" y="4357800"/>
                        <a:ext cx="214200" cy="30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1" name="Object 13"/>
              <p:cNvGraphicFramePr/>
              <p:nvPr/>
            </p:nvGraphicFramePr>
            <p:xfrm>
              <a:off x="4500360" y="4714920"/>
              <a:ext cx="304560" cy="285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12" name="Object 1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00360" y="4714920"/>
                        <a:ext cx="30456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3" name="Object 12"/>
              <p:cNvGraphicFramePr/>
              <p:nvPr/>
            </p:nvGraphicFramePr>
            <p:xfrm>
              <a:off x="3929040" y="4643640"/>
              <a:ext cx="357120" cy="3571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4" name="Object 12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3929040" y="4643640"/>
                        <a:ext cx="357120" cy="35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5" name="Object 4"/>
              <p:cNvGraphicFramePr/>
              <p:nvPr/>
            </p:nvGraphicFramePr>
            <p:xfrm>
              <a:off x="7358400" y="5572440"/>
              <a:ext cx="285480" cy="2952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16" name="Object 4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358400" y="5572440"/>
                        <a:ext cx="28548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7" name="Object 3"/>
              <p:cNvGraphicFramePr/>
              <p:nvPr/>
            </p:nvGraphicFramePr>
            <p:xfrm>
              <a:off x="6786720" y="5572440"/>
              <a:ext cx="357120" cy="29520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18" name="Object 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786720" y="5572440"/>
                        <a:ext cx="357120" cy="29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9" name="Rectangle 22"/>
              <p:cNvSpPr/>
              <p:nvPr/>
            </p:nvSpPr>
            <p:spPr>
              <a:xfrm>
                <a:off x="1186920" y="628560"/>
                <a:ext cx="68299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i="1" lang="ru-RU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В равнобедренном треугольник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углы при основании равн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52102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33"/>
              <p:cNvSpPr/>
              <p:nvPr/>
            </p:nvSpPr>
            <p:spPr>
              <a:xfrm>
                <a:off x="2000160" y="4357800"/>
                <a:ext cx="78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Д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1" name="Object 40"/>
            <p:cNvGraphicFramePr/>
            <p:nvPr/>
          </p:nvGraphicFramePr>
          <p:xfrm>
            <a:off x="7500960" y="4429080"/>
            <a:ext cx="285480" cy="285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22" name="Object 40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00960" y="4429080"/>
                      <a:ext cx="285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9720" y="714240"/>
            <a:ext cx="779292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тельные разделы </a:t>
            </a:r>
            <a:br>
              <a:rPr sz="4400"/>
            </a:b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(стандарты второго поколения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214280" y="1928880"/>
            <a:ext cx="6072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ифмет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и статисти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857160" y="4572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ОВЫЕ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РАЗДЕЛЫ</a:t>
            </a: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6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Логика и множества</a:t>
            </a:r>
            <a:r>
              <a:rPr b="0" lang="en-US" sz="3200" spc="-1" strike="noStrike">
                <a:solidFill>
                  <a:srgbClr val="8068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68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Математика в историческом</a:t>
            </a:r>
            <a:r>
              <a:rPr b="0" lang="en-US" sz="3200" spc="-1" strike="noStrike">
                <a:solidFill>
                  <a:srgbClr val="8068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6800"/>
                </a:solidFill>
                <a:latin typeface="Arial"/>
              </a:rPr>
              <a:t>разви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285920" y="2786040"/>
            <a:ext cx="1255680" cy="455760"/>
          </a:xfrm>
          <a:prstGeom prst="rect">
            <a:avLst/>
          </a:prstGeom>
          <a:solidFill>
            <a:srgbClr val="ff0000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357720" y="2786040"/>
            <a:ext cx="1257120" cy="455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715000" y="2786040"/>
            <a:ext cx="125748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1357200" y="57168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ценивание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C:\Documents and Settings\Игорь  Мехедов\Мои документы\Все\картинки\Анимация\Смайлики\02.gif"/>
          <p:cNvPicPr/>
          <p:nvPr/>
        </p:nvPicPr>
        <p:blipFill>
          <a:blip r:embed="rId1"/>
          <a:stretch/>
        </p:blipFill>
        <p:spPr>
          <a:xfrm>
            <a:off x="3500280" y="335772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C:\Documents and Settings\Игорь  Мехедов\Мои документы\Все\картинки\Анимация\Смайлики\04.gif"/>
          <p:cNvPicPr/>
          <p:nvPr/>
        </p:nvPicPr>
        <p:blipFill>
          <a:blip r:embed="rId2"/>
          <a:stretch/>
        </p:blipFill>
        <p:spPr>
          <a:xfrm>
            <a:off x="1428840" y="3286080"/>
            <a:ext cx="1143000" cy="1109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C:\Documents and Settings\Игорь  Мехедов\Мои документы\Все\картинки\Анимация\Смайлики\12.gif"/>
          <p:cNvPicPr/>
          <p:nvPr/>
        </p:nvPicPr>
        <p:blipFill>
          <a:blip r:embed="rId3"/>
          <a:stretch/>
        </p:blipFill>
        <p:spPr>
          <a:xfrm>
            <a:off x="5857920" y="3333600"/>
            <a:ext cx="1000080" cy="1000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1"/>
          <p:cNvSpPr/>
          <p:nvPr/>
        </p:nvSpPr>
        <p:spPr>
          <a:xfrm>
            <a:off x="1143000" y="20718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цените свою речь на этом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9"/>
          <p:cNvSpPr/>
          <p:nvPr/>
        </p:nvSpPr>
        <p:spPr>
          <a:xfrm>
            <a:off x="1214280" y="4714920"/>
            <a:ext cx="62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Самое полезное в жизни – 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это собственный опыт                       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Verdana"/>
              </a:rPr>
              <a:t>В. Ско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428400"/>
            <a:ext cx="779292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омендации по оснащению учебного процес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00040" y="192888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таблиц по математике для 5-6 класса, по алгебре  и гео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реты выдающихся  деятеле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ая б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, проектор, экран, интерактивная д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а магнитная с координатной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планиметрических и стереометрическ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для моделирования (цветная бумага, картон, калька, клей, ножницы, пласти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1133640" y="1719360"/>
            <a:ext cx="788796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ебования к уровню подготовки выпускник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57200" y="2000160"/>
            <a:ext cx="65325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е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има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1360" y="9997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ребования к результатам обучения и освоению содержания курс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264276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личностном направле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етапредметном направле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едметном направле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ое тематическое планир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928880"/>
          <a:ext cx="8286480" cy="4419360"/>
        </p:xfrm>
        <a:graphic>
          <a:graphicData uri="http://schemas.openxmlformats.org/drawingml/2006/table">
            <a:tbl>
              <a:tblPr/>
              <a:tblGrid>
                <a:gridCol w="3643200"/>
                <a:gridCol w="464328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ое содержание по тем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 основных видов </a:t>
                      </a:r>
                      <a:r>
                        <a:rPr b="1" lang="ru-RU" sz="2400" spc="-1" strike="noStrike">
                          <a:solidFill>
                            <a:srgbClr val="806800"/>
                          </a:solidFill>
                          <a:latin typeface="Tahoma"/>
                        </a:rPr>
                        <a:t>деятельност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учен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на уровне учебных действ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Tahoma"/>
                        </a:rPr>
                        <a:t>Множ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ножество, элемент множества. Пустое множество. Подмножество. Объединение  и пересечение множеств. Иллюстрация отношений между множествами с помощью диаграмм Эйлера-Вен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водить примеры конечных и бесконечных множеств. Находить объединение и пересечение множеств. Приводить примеры несложных классификаций из различных областей жизни. Иллюстрировать теоретико-множественные понятия с помощью кругов Эйлер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Прямая соединительная линия 9"/>
          <p:cNvSpPr/>
          <p:nvPr/>
        </p:nvSpPr>
        <p:spPr>
          <a:xfrm>
            <a:off x="357120" y="19288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 flipH="1">
            <a:off x="4070520" y="200016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17"/>
          <p:cNvSpPr/>
          <p:nvPr/>
        </p:nvSpPr>
        <p:spPr>
          <a:xfrm>
            <a:off x="357120" y="6286680"/>
            <a:ext cx="835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8"/>
          <p:cNvGrpSpPr/>
          <p:nvPr/>
        </p:nvGrpSpPr>
        <p:grpSpPr>
          <a:xfrm>
            <a:off x="428760" y="2000160"/>
            <a:ext cx="8288280" cy="4287960"/>
            <a:chOff x="428760" y="2000160"/>
            <a:chExt cx="8288280" cy="4287960"/>
          </a:xfrm>
        </p:grpSpPr>
        <p:sp>
          <p:nvSpPr>
            <p:cNvPr id="117" name="Прямая соединительная линия 15"/>
            <p:cNvSpPr/>
            <p:nvPr/>
          </p:nvSpPr>
          <p:spPr>
            <a:xfrm>
              <a:off x="430200" y="3429000"/>
              <a:ext cx="8215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19"/>
            <p:cNvSpPr/>
            <p:nvPr/>
          </p:nvSpPr>
          <p:spPr>
            <a:xfrm>
              <a:off x="8645760" y="2000160"/>
              <a:ext cx="7128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21"/>
            <p:cNvSpPr/>
            <p:nvPr/>
          </p:nvSpPr>
          <p:spPr>
            <a:xfrm flipH="1">
              <a:off x="428760" y="2001600"/>
              <a:ext cx="1440" cy="428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ая соединительная линия 23"/>
            <p:cNvSpPr/>
            <p:nvPr/>
          </p:nvSpPr>
          <p:spPr>
            <a:xfrm flipH="1">
              <a:off x="4071960" y="3430440"/>
              <a:ext cx="1440" cy="28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ая соединительная линия 27"/>
            <p:cNvSpPr/>
            <p:nvPr/>
          </p:nvSpPr>
          <p:spPr>
            <a:xfrm>
              <a:off x="430200" y="3000240"/>
              <a:ext cx="814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пор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214280" y="214308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3071880" y="214308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5214960" y="2143080"/>
            <a:ext cx="1357200" cy="85716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6929280" y="214308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643120" y="1928880"/>
            <a:ext cx="4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 flipH="1">
            <a:off x="4500720" y="1928880"/>
            <a:ext cx="4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6500880" y="1928880"/>
            <a:ext cx="4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1214280" y="335772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3071880" y="335772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3"/>
          <p:cNvSpPr/>
          <p:nvPr/>
        </p:nvSpPr>
        <p:spPr>
          <a:xfrm>
            <a:off x="5214960" y="3357720"/>
            <a:ext cx="1357200" cy="85716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4"/>
          <p:cNvSpPr/>
          <p:nvPr/>
        </p:nvSpPr>
        <p:spPr>
          <a:xfrm>
            <a:off x="6929280" y="3357720"/>
            <a:ext cx="135756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2571840" y="3071880"/>
            <a:ext cx="3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>
            <a:off x="6500880" y="307188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7"/>
          <p:cNvSpPr/>
          <p:nvPr/>
        </p:nvSpPr>
        <p:spPr>
          <a:xfrm>
            <a:off x="4429080" y="314316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8"/>
          <p:cNvSpPr/>
          <p:nvPr/>
        </p:nvSpPr>
        <p:spPr>
          <a:xfrm>
            <a:off x="3071880" y="4643280"/>
            <a:ext cx="1357200" cy="85752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9"/>
          <p:cNvSpPr/>
          <p:nvPr/>
        </p:nvSpPr>
        <p:spPr>
          <a:xfrm>
            <a:off x="3071880" y="5715000"/>
            <a:ext cx="1357200" cy="857160"/>
          </a:xfrm>
          <a:prstGeom prst="rect">
            <a:avLst/>
          </a:prstGeom>
          <a:solidFill>
            <a:srgbClr val="745d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0"/>
          <p:cNvSpPr/>
          <p:nvPr/>
        </p:nvSpPr>
        <p:spPr>
          <a:xfrm>
            <a:off x="5214960" y="4643280"/>
            <a:ext cx="1357200" cy="857520"/>
          </a:xfrm>
          <a:prstGeom prst="rect">
            <a:avLst/>
          </a:prstGeom>
          <a:solidFill>
            <a:srgbClr val="8068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f01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1"/>
          <p:cNvSpPr/>
          <p:nvPr/>
        </p:nvSpPr>
        <p:spPr>
          <a:xfrm>
            <a:off x="5214960" y="5715000"/>
            <a:ext cx="1357200" cy="8571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4"/>
          <p:cNvSpPr/>
          <p:nvPr/>
        </p:nvSpPr>
        <p:spPr>
          <a:xfrm>
            <a:off x="4572000" y="507204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3"/>
          <p:cNvSpPr/>
          <p:nvPr/>
        </p:nvSpPr>
        <p:spPr>
          <a:xfrm>
            <a:off x="2786040" y="5572080"/>
            <a:ext cx="1714680" cy="28800"/>
          </a:xfrm>
          <a:prstGeom prst="line">
            <a:avLst/>
          </a:prstGeom>
          <a:ln w="114480">
            <a:solidFill>
              <a:srgbClr val="0000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47"/>
          <p:cNvSpPr/>
          <p:nvPr/>
        </p:nvSpPr>
        <p:spPr>
          <a:xfrm>
            <a:off x="5143680" y="5572080"/>
            <a:ext cx="1714320" cy="28800"/>
          </a:xfrm>
          <a:prstGeom prst="line">
            <a:avLst/>
          </a:prstGeom>
          <a:ln w="114480">
            <a:solidFill>
              <a:srgbClr val="000000">
                <a:alpha val="8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23941 -0.00047 E">
                                      <p:cBhvr>
                                        <p:cTn id="1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0.63125 -0.00047 E">
                                      <p:cBhvr>
                                        <p:cTn id="25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046 L 0.61754 -0.00093 E">
                                      <p:cBhvr>
                                        <p:cTn id="2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2071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 самообразования: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звитие математической речи учащихся на уроках математи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1071720" y="121428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путей решения проблемы развития математической реч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428400"/>
            <a:ext cx="67928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оанализировать методическую и психолого-педагогическую литературу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 Разработать приемы развития математической речи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 Разработать систему упражнений, способствующих развитию математической речи учащихся через доказательство теор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Оценить результаты рабо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8:25:42Z</dcterms:created>
  <dc:creator>Игорь  Мехедов</dc:creator>
  <dc:description/>
  <dc:language>en-US</dc:language>
  <cp:lastModifiedBy>Игорь  Мехедов</cp:lastModifiedBy>
  <dcterms:modified xsi:type="dcterms:W3CDTF">2011-08-19T04:10:51Z</dcterms:modified>
  <cp:revision>71</cp:revision>
  <dc:subject/>
  <dc:title>Доказательство теорем как средство развития речи  учащихся 7 класса</dc:title>
</cp:coreProperties>
</file>