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wmf" ContentType="image/x-wmf"/>
  <Override PartName="/ppt/media/image6.wmf" ContentType="image/x-wmf"/>
  <Override PartName="/ppt/media/image7.gif" ContentType="image/gif"/>
  <Override PartName="/ppt/media/image9.gif" ContentType="image/gif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59F-2141-4A71-A9BF-C2392947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0A10-3BF2-4800-9E12-F528CD1B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700A-78CE-41C9-ABBB-D697A234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BF9-E6FB-4CC4-9DB4-AE2FCA35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8EC8-BB05-4C88-B0D8-8A8DF117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4DCE-DC70-4D4D-9E6D-2A408539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AB96-1B89-427D-85D7-AD0D66DA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DCB4-3D22-4551-871F-D391E416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70D5-E55E-48D6-AA8E-F1B57CBE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B3F9-BD62-419F-9E8E-3506F1E9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E4FF-69A9-4F7B-B9D8-07B744A0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6DA0-F335-4540-84B0-D07D2DE1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76E2-9CB8-48D5-929F-F18DB22C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DE19-AE8B-48FE-AFBB-9690A85A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F92B-98D8-454C-9716-DF2873C7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7687-69E8-4D29-AC7F-91995BF1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5872-E072-4DA5-AE56-BF47AF19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D4D-CB19-44E9-A83B-CDED9926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C2E-8DD6-4D76-B8E0-F1D7E9BF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509-BA7C-4367-9F3B-7BC48275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7BCD-B386-40FD-B242-C5AEA004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B665-09BD-4755-B960-1A53E80A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84D9-0971-4FF1-9F24-5778A0D4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D879-E42F-43D7-A436-CA2B6829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7D4E-86CA-4454-98DF-8A440EFFAB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7DBD-5E2F-4724-B302-DFA45A088DD7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7152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важаемые коллеги!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92896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ель математик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лазовичской СО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ражского рай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рянской обла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хедов Игорь Сергееви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2857320" cy="41594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4143240" y="150012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ас приветству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3643200" y="614376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густ,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071440" y="1285560"/>
            <a:ext cx="450036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тематическая  реч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пешное обучени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тематик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Стрелка вправо 3"/>
          <p:cNvSpPr/>
          <p:nvPr/>
        </p:nvSpPr>
        <p:spPr>
          <a:xfrm rot="5400000">
            <a:off x="3821760" y="139284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4"/>
          <p:cNvSpPr/>
          <p:nvPr/>
        </p:nvSpPr>
        <p:spPr>
          <a:xfrm rot="5400000">
            <a:off x="3857040" y="2643120"/>
            <a:ext cx="57168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0000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трелка вправо 5"/>
          <p:cNvSpPr/>
          <p:nvPr/>
        </p:nvSpPr>
        <p:spPr>
          <a:xfrm rot="5400000">
            <a:off x="3785760" y="3786120"/>
            <a:ext cx="714240" cy="2854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0000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6"/>
          <p:cNvSpPr/>
          <p:nvPr/>
        </p:nvSpPr>
        <p:spPr>
          <a:xfrm>
            <a:off x="1143000" y="5357880"/>
            <a:ext cx="3071880" cy="12142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Tahoma"/>
              </a:rPr>
              <a:t>ГИ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трелка вправо 7"/>
          <p:cNvSpPr/>
          <p:nvPr/>
        </p:nvSpPr>
        <p:spPr>
          <a:xfrm rot="5400000">
            <a:off x="3999960" y="521496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0000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8"/>
          <p:cNvSpPr/>
          <p:nvPr/>
        </p:nvSpPr>
        <p:spPr>
          <a:xfrm>
            <a:off x="2143080" y="0"/>
            <a:ext cx="4000680" cy="135720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Урок матема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0"/>
          <p:cNvSpPr/>
          <p:nvPr/>
        </p:nvSpPr>
        <p:spPr>
          <a:xfrm>
            <a:off x="4214880" y="5357880"/>
            <a:ext cx="3071880" cy="12142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Tahoma"/>
              </a:rPr>
              <a:t>ЕГ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5"/>
          <p:cNvSpPr/>
          <p:nvPr/>
        </p:nvSpPr>
        <p:spPr>
          <a:xfrm>
            <a:off x="1224000" y="571680"/>
            <a:ext cx="7920000" cy="66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емы развития математическ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чевой образец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есное упражн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яснение значения с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ление зада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ясн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ка ре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аз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исковые и репродуктивн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иемы развития математической речи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8" name="Вертикальный свиток 4"/>
          <p:cNvGrpSpPr/>
          <p:nvPr/>
        </p:nvGrpSpPr>
        <p:grpSpPr>
          <a:xfrm>
            <a:off x="828720" y="2395440"/>
            <a:ext cx="7199280" cy="3773520"/>
            <a:chOff x="828720" y="2395440"/>
            <a:chExt cx="7199280" cy="3773520"/>
          </a:xfrm>
        </p:grpSpPr>
        <p:pic>
          <p:nvPicPr>
            <p:cNvPr id="159" name="Вертикальный свиток 4" descr=""/>
            <p:cNvPicPr/>
            <p:nvPr/>
          </p:nvPicPr>
          <p:blipFill>
            <a:blip r:embed="rId1"/>
            <a:stretch/>
          </p:blipFill>
          <p:spPr>
            <a:xfrm>
              <a:off x="828720" y="2395440"/>
              <a:ext cx="7199280" cy="37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20840" y="2892600"/>
              <a:ext cx="6216480" cy="30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00000"/>
                  </a:solidFill>
                  <a:latin typeface="Tahoma"/>
                </a:rPr>
                <a:t>В первом действии найдем…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00000"/>
                  </a:solidFill>
                  <a:latin typeface="Tahoma"/>
                </a:rPr>
                <a:t>для этого 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00000"/>
                  </a:solidFill>
                  <a:latin typeface="Tahoma"/>
                </a:rPr>
                <a:t>Во втором действии найдем …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00000"/>
                  </a:solidFill>
                  <a:latin typeface="Tahoma"/>
                </a:rPr>
                <a:t>для этого …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5"/>
          <p:cNvSpPr/>
          <p:nvPr/>
        </p:nvSpPr>
        <p:spPr>
          <a:xfrm>
            <a:off x="1500120" y="121428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общих устойчивых обор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56840" y="1000080"/>
            <a:ext cx="592956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ы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из глагол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21428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Чтобы сложить два отрицательных числа, нужно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Сложить …(их модул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Поставить …(перед полученным числом знак -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Чтобы найти процент от числа, нужно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Записать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Умножить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1143000" y="500040"/>
            <a:ext cx="728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емы развития математической реч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792920" cy="6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ловесное упражнени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rcRect l="0" t="0" r="48443" b="31030"/>
          <a:stretch/>
        </p:blipFill>
        <p:spPr>
          <a:xfrm>
            <a:off x="214200" y="2143080"/>
            <a:ext cx="3643560" cy="38466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4143240" y="2000160"/>
            <a:ext cx="46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Задание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звестен один из углов, найти остальные угл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1214280" y="50004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емы развития математическ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928600" y="714240"/>
            <a:ext cx="27781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опрос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1500120" y="1643040"/>
            <a:ext cx="728676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Что помогло в работе над задачей (при вычислении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ави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форму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вой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-ранее решенная за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Что полезного возьмем на будущее из решения этого зад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4"/>
          <p:cNvSpPr/>
          <p:nvPr/>
        </p:nvSpPr>
        <p:spPr>
          <a:xfrm>
            <a:off x="3071880" y="2143080"/>
            <a:ext cx="1857240" cy="180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5"/>
          <p:cNvSpPr/>
          <p:nvPr/>
        </p:nvSpPr>
        <p:spPr>
          <a:xfrm>
            <a:off x="3429000" y="4857840"/>
            <a:ext cx="442908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6"/>
          <p:cNvSpPr/>
          <p:nvPr/>
        </p:nvSpPr>
        <p:spPr>
          <a:xfrm>
            <a:off x="857160" y="42876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емы развития математическ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8"/>
          <p:cNvSpPr/>
          <p:nvPr/>
        </p:nvSpPr>
        <p:spPr>
          <a:xfrm>
            <a:off x="6643800" y="2714760"/>
            <a:ext cx="2500200" cy="150012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9"/>
          <p:cNvSpPr/>
          <p:nvPr/>
        </p:nvSpPr>
        <p:spPr>
          <a:xfrm>
            <a:off x="0" y="2286000"/>
            <a:ext cx="4071960" cy="22860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казательство теорем разви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1214280" y="857160"/>
            <a:ext cx="76438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3857760" y="2786040"/>
            <a:ext cx="3000240" cy="92880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вырази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4"/>
          <p:cNvSpPr/>
          <p:nvPr/>
        </p:nvSpPr>
        <p:spPr>
          <a:xfrm>
            <a:off x="3857760" y="4643280"/>
            <a:ext cx="3000240" cy="92880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то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5"/>
          <p:cNvSpPr/>
          <p:nvPr/>
        </p:nvSpPr>
        <p:spPr>
          <a:xfrm>
            <a:off x="3857760" y="1857240"/>
            <a:ext cx="3000240" cy="92880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лог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6"/>
          <p:cNvSpPr/>
          <p:nvPr/>
        </p:nvSpPr>
        <p:spPr>
          <a:xfrm>
            <a:off x="3857760" y="3714840"/>
            <a:ext cx="3000240" cy="92844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доказа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трелка вправо 10"/>
          <p:cNvSpPr/>
          <p:nvPr/>
        </p:nvSpPr>
        <p:spPr>
          <a:xfrm>
            <a:off x="3929040" y="3286080"/>
            <a:ext cx="2857680" cy="5000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573120" y="1098720"/>
            <a:ext cx="857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Логико-математический анализ теор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2571840"/>
          <a:ext cx="8929800" cy="3556080"/>
        </p:xfrm>
        <a:graphic>
          <a:graphicData uri="http://schemas.openxmlformats.org/drawingml/2006/table">
            <a:tbl>
              <a:tblPr/>
              <a:tblGrid>
                <a:gridCol w="1955880"/>
                <a:gridCol w="2041560"/>
                <a:gridCol w="2306520"/>
                <a:gridCol w="1398600"/>
                <a:gridCol w="1227240"/>
              </a:tblGrid>
              <a:tr h="1556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формулировки теорем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теорем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ликатив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ъяснительная ч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тик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ы рав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уг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тикальные, 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и рав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ется 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жестве люб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 углов 1 и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ы 1 и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тикаль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у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Методические приемы развития математической речи  посредством доказательства теорем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14280" y="1856880"/>
            <a:ext cx="82296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ные доказатель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Разные чертеж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спользование слова «аналогично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и на утверждения, применяемые при доказательстве теоре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 Составление структурной схемы доказательст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улировка теоремы, обратной данной и   выяснение ее истин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I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ьзование компьютера при работе над доказательством теоре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0" y="619200"/>
            <a:ext cx="360" cy="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2"/>
          <p:cNvSpPr/>
          <p:nvPr/>
        </p:nvSpPr>
        <p:spPr>
          <a:xfrm>
            <a:off x="0" y="923760"/>
            <a:ext cx="360" cy="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5"/>
          <p:cNvSpPr/>
          <p:nvPr/>
        </p:nvSpPr>
        <p:spPr>
          <a:xfrm>
            <a:off x="0" y="1247760"/>
            <a:ext cx="360" cy="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9" descr="сканирование0004"/>
          <p:cNvPicPr/>
          <p:nvPr/>
        </p:nvPicPr>
        <p:blipFill>
          <a:blip r:embed="rId1"/>
          <a:srcRect l="33602" t="14885" r="13599" b="15419"/>
          <a:stretch/>
        </p:blipFill>
        <p:spPr>
          <a:xfrm>
            <a:off x="6786720" y="1714680"/>
            <a:ext cx="2357280" cy="26938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Группа 39"/>
          <p:cNvGrpSpPr/>
          <p:nvPr/>
        </p:nvGrpSpPr>
        <p:grpSpPr>
          <a:xfrm>
            <a:off x="857160" y="628560"/>
            <a:ext cx="7656480" cy="5511960"/>
            <a:chOff x="857160" y="628560"/>
            <a:chExt cx="7656480" cy="5511960"/>
          </a:xfrm>
        </p:grpSpPr>
        <p:grpSp>
          <p:nvGrpSpPr>
            <p:cNvPr id="194" name="Группа 34"/>
            <p:cNvGrpSpPr/>
            <p:nvPr/>
          </p:nvGrpSpPr>
          <p:grpSpPr>
            <a:xfrm>
              <a:off x="857160" y="628560"/>
              <a:ext cx="7656480" cy="5511960"/>
              <a:chOff x="857160" y="628560"/>
              <a:chExt cx="7656480" cy="5511960"/>
            </a:xfrm>
          </p:grpSpPr>
          <p:grpSp>
            <p:nvGrpSpPr>
              <p:cNvPr id="195" name="Group 1"/>
              <p:cNvGrpSpPr/>
              <p:nvPr/>
            </p:nvGrpSpPr>
            <p:grpSpPr>
              <a:xfrm>
                <a:off x="857160" y="3143160"/>
                <a:ext cx="7656480" cy="2997360"/>
                <a:chOff x="857160" y="3143160"/>
                <a:chExt cx="7656480" cy="2997360"/>
              </a:xfrm>
            </p:grpSpPr>
            <p:sp>
              <p:nvSpPr>
                <p:cNvPr id="196" name="Rectangle 21"/>
                <p:cNvSpPr/>
                <p:nvPr/>
              </p:nvSpPr>
              <p:spPr>
                <a:xfrm flipH="1" flipV="1" rot="10800000">
                  <a:off x="3646080" y="3143160"/>
                  <a:ext cx="1906920" cy="299736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19"/>
                <p:cNvSpPr/>
                <p:nvPr/>
              </p:nvSpPr>
              <p:spPr>
                <a:xfrm flipH="1" flipV="1" rot="10800000">
                  <a:off x="856800" y="3336120"/>
                  <a:ext cx="2254680" cy="79704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АВС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равнобедренны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18"/>
                <p:cNvSpPr/>
                <p:nvPr/>
              </p:nvSpPr>
              <p:spPr>
                <a:xfrm flipH="1" flipV="1" rot="10800000">
                  <a:off x="3992760" y="3327120"/>
                  <a:ext cx="1213560" cy="59832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АВ=АС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Line 17"/>
                <p:cNvSpPr/>
                <p:nvPr/>
              </p:nvSpPr>
              <p:spPr>
                <a:xfrm>
                  <a:off x="2953080" y="4941720"/>
                  <a:ext cx="866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16"/>
                <p:cNvSpPr/>
                <p:nvPr/>
              </p:nvSpPr>
              <p:spPr>
                <a:xfrm>
                  <a:off x="1912680" y="4142160"/>
                  <a:ext cx="0" cy="59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15"/>
                <p:cNvSpPr/>
                <p:nvPr/>
              </p:nvSpPr>
              <p:spPr>
                <a:xfrm flipH="1" flipV="1" rot="10800000">
                  <a:off x="856800" y="4741560"/>
                  <a:ext cx="2254680" cy="60048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- биссектрис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4"/>
                <p:cNvSpPr/>
                <p:nvPr/>
              </p:nvSpPr>
              <p:spPr>
                <a:xfrm>
                  <a:off x="3126240" y="3742560"/>
                  <a:ext cx="866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11"/>
                <p:cNvSpPr/>
                <p:nvPr/>
              </p:nvSpPr>
              <p:spPr>
                <a:xfrm flipH="1" flipV="1" rot="10800000">
                  <a:off x="3803400" y="4642920"/>
                  <a:ext cx="1560240" cy="49824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7241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    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=   2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10"/>
                <p:cNvSpPr/>
                <p:nvPr/>
              </p:nvSpPr>
              <p:spPr>
                <a:xfrm flipH="1" flipV="1" rot="10800000">
                  <a:off x="3803400" y="5325840"/>
                  <a:ext cx="1560240" cy="59832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 обща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9"/>
                <p:cNvSpPr/>
                <p:nvPr/>
              </p:nvSpPr>
              <p:spPr>
                <a:xfrm>
                  <a:off x="5553720" y="4541760"/>
                  <a:ext cx="866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Rectangle 6"/>
                <p:cNvSpPr/>
                <p:nvPr/>
              </p:nvSpPr>
              <p:spPr>
                <a:xfrm flipH="1" flipV="1" rot="10800000">
                  <a:off x="6432840" y="4357440"/>
                  <a:ext cx="2080440" cy="60048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CD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=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АВ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"/>
                <p:cNvSpPr/>
                <p:nvPr/>
              </p:nvSpPr>
              <p:spPr>
                <a:xfrm>
                  <a:off x="7460640" y="4941720"/>
                  <a:ext cx="0" cy="59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Rectangle 2"/>
                <p:cNvSpPr/>
                <p:nvPr/>
              </p:nvSpPr>
              <p:spPr>
                <a:xfrm flipH="1" flipV="1" rot="10800000">
                  <a:off x="6593040" y="5539680"/>
                  <a:ext cx="1734480" cy="60012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В=   С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209" name="Object 20"/>
              <p:cNvGraphicFramePr/>
              <p:nvPr/>
            </p:nvGraphicFramePr>
            <p:xfrm>
              <a:off x="6500880" y="4357800"/>
              <a:ext cx="214200" cy="3045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10" name="Object 20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500880" y="4357800"/>
                        <a:ext cx="214200" cy="304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1" name="Object 13"/>
              <p:cNvGraphicFramePr/>
              <p:nvPr/>
            </p:nvGraphicFramePr>
            <p:xfrm>
              <a:off x="4500360" y="4714920"/>
              <a:ext cx="304560" cy="2854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212" name="Object 13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500360" y="4714920"/>
                        <a:ext cx="30456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3" name="Object 12"/>
              <p:cNvGraphicFramePr/>
              <p:nvPr/>
            </p:nvGraphicFramePr>
            <p:xfrm>
              <a:off x="3929040" y="4643640"/>
              <a:ext cx="357120" cy="35712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14" name="Object 12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3929040" y="4643640"/>
                        <a:ext cx="35712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5" name="Object 4"/>
              <p:cNvGraphicFramePr/>
              <p:nvPr/>
            </p:nvGraphicFramePr>
            <p:xfrm>
              <a:off x="7358400" y="5572440"/>
              <a:ext cx="285480" cy="2952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16" name="Object 4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7358400" y="5572440"/>
                        <a:ext cx="285480" cy="29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7" name="Object 3"/>
              <p:cNvGraphicFramePr/>
              <p:nvPr/>
            </p:nvGraphicFramePr>
            <p:xfrm>
              <a:off x="6786720" y="5572440"/>
              <a:ext cx="357120" cy="29520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218" name="Object 3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6786720" y="5572440"/>
                        <a:ext cx="357120" cy="29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9" name="Rectangle 22"/>
              <p:cNvSpPr/>
              <p:nvPr/>
            </p:nvSpPr>
            <p:spPr>
              <a:xfrm>
                <a:off x="1186920" y="628560"/>
                <a:ext cx="682992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521028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i="1" lang="ru-RU" sz="3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В равнобедренном треугольнике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521028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3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углы при основании равны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521028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Box 33"/>
              <p:cNvSpPr/>
              <p:nvPr/>
            </p:nvSpPr>
            <p:spPr>
              <a:xfrm>
                <a:off x="2000160" y="4357800"/>
                <a:ext cx="785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ДП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21" name="Object 40"/>
            <p:cNvGraphicFramePr/>
            <p:nvPr/>
          </p:nvGraphicFramePr>
          <p:xfrm>
            <a:off x="7500960" y="4429080"/>
            <a:ext cx="285480" cy="285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22" name="Object 40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500960" y="4429080"/>
                      <a:ext cx="285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9720" y="714240"/>
            <a:ext cx="779292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тельные разделы </a:t>
            </a:r>
            <a:br>
              <a:rPr sz="4400"/>
            </a:br>
            <a:r>
              <a:rPr b="0" lang="ru-RU" sz="3200" spc="-1" strike="noStrike">
                <a:solidFill>
                  <a:srgbClr val="0d0d0d"/>
                </a:solidFill>
                <a:latin typeface="Tahoma"/>
              </a:rPr>
              <a:t>(стандарты второго поколения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214280" y="1928880"/>
            <a:ext cx="6072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ифмети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ге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оятность и статисти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857160" y="45720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ОВЫЕ 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РАЗДЕЛЫ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68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6800"/>
                </a:solidFill>
                <a:latin typeface="Arial"/>
              </a:rPr>
              <a:t>Логика и множества</a:t>
            </a:r>
            <a:r>
              <a:rPr b="0" lang="en-US" sz="3200" spc="-1" strike="noStrike">
                <a:solidFill>
                  <a:srgbClr val="8068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68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6800"/>
                </a:solidFill>
                <a:latin typeface="Arial"/>
              </a:rPr>
              <a:t>Математика в историческом</a:t>
            </a:r>
            <a:r>
              <a:rPr b="0" lang="en-US" sz="3200" spc="-1" strike="noStrike">
                <a:solidFill>
                  <a:srgbClr val="8068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6800"/>
                </a:solidFill>
                <a:latin typeface="Arial"/>
              </a:rPr>
              <a:t>развит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1285920" y="2786040"/>
            <a:ext cx="1255680" cy="455760"/>
          </a:xfrm>
          <a:prstGeom prst="rect">
            <a:avLst/>
          </a:prstGeom>
          <a:solidFill>
            <a:srgbClr val="ff0000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357720" y="2786040"/>
            <a:ext cx="1257120" cy="455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5715000" y="2786040"/>
            <a:ext cx="125748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1357200" y="571680"/>
            <a:ext cx="63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Оценивание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C:\Documents and Settings\Игорь  Мехедов\Мои документы\Все\картинки\Анимация\Смайлики\02.gif"/>
          <p:cNvPicPr/>
          <p:nvPr/>
        </p:nvPicPr>
        <p:blipFill>
          <a:blip r:embed="rId1"/>
          <a:stretch/>
        </p:blipFill>
        <p:spPr>
          <a:xfrm>
            <a:off x="3500280" y="335772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C:\Documents and Settings\Игорь  Мехедов\Мои документы\Все\картинки\Анимация\Смайлики\04.gif"/>
          <p:cNvPicPr/>
          <p:nvPr/>
        </p:nvPicPr>
        <p:blipFill>
          <a:blip r:embed="rId2"/>
          <a:stretch/>
        </p:blipFill>
        <p:spPr>
          <a:xfrm>
            <a:off x="1428840" y="3286080"/>
            <a:ext cx="1143000" cy="1109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C:\Documents and Settings\Игорь  Мехедов\Мои документы\Все\картинки\Анимация\Смайлики\12.gif"/>
          <p:cNvPicPr/>
          <p:nvPr/>
        </p:nvPicPr>
        <p:blipFill>
          <a:blip r:embed="rId3"/>
          <a:stretch/>
        </p:blipFill>
        <p:spPr>
          <a:xfrm>
            <a:off x="5857920" y="3333600"/>
            <a:ext cx="1000080" cy="10004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1"/>
          <p:cNvSpPr/>
          <p:nvPr/>
        </p:nvSpPr>
        <p:spPr>
          <a:xfrm>
            <a:off x="1143000" y="20718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цените свою речь на этом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9"/>
          <p:cNvSpPr/>
          <p:nvPr/>
        </p:nvSpPr>
        <p:spPr>
          <a:xfrm>
            <a:off x="1214280" y="4714920"/>
            <a:ext cx="62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Самое полезное в жизни – </a:t>
            </a:r>
            <a:br>
              <a:rPr sz="2800"/>
            </a:b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это собственный опыт                                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Verdana"/>
              </a:rPr>
              <a:t>В. Скот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428400"/>
            <a:ext cx="779292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екомендации по оснащению учебного процесс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500040" y="1928880"/>
            <a:ext cx="814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ор таблиц по математике для 5-6 класса, по алгебре  и гео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реты выдающихся  деятелей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нная б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, проектор, экран, интерактивная до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ка магнитная с координатной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т планиметрических и стереометрически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т для моделирования (цветная бумага, картон, калька, клей, ножницы, пластил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3" descr=""/>
          <p:cNvPicPr/>
          <p:nvPr/>
        </p:nvPicPr>
        <p:blipFill>
          <a:blip r:embed="rId1"/>
          <a:stretch/>
        </p:blipFill>
        <p:spPr>
          <a:xfrm>
            <a:off x="1133640" y="1719360"/>
            <a:ext cx="7887960" cy="26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0720" y="2854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ребования к уровню подготовки выпускник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57200" y="2000160"/>
            <a:ext cx="653256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ть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меть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имать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1360" y="9997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Требования к результатам обучения и освоению содержания курс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43000" y="2642760"/>
            <a:ext cx="777240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личностном направлен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метапредметном направлен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редметном направле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рное тематическое планиров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28760" y="1928880"/>
          <a:ext cx="8286480" cy="4419360"/>
        </p:xfrm>
        <a:graphic>
          <a:graphicData uri="http://schemas.openxmlformats.org/drawingml/2006/table">
            <a:tbl>
              <a:tblPr/>
              <a:tblGrid>
                <a:gridCol w="3643200"/>
                <a:gridCol w="4643280"/>
              </a:tblGrid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ое содержание по тем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арактеристика основных видов </a:t>
                      </a:r>
                      <a:r>
                        <a:rPr b="1" lang="ru-RU" sz="2400" spc="-1" strike="noStrike">
                          <a:solidFill>
                            <a:srgbClr val="806800"/>
                          </a:solidFill>
                          <a:latin typeface="Tahoma"/>
                        </a:rPr>
                        <a:t>деятельности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учен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на уровне учебных действ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9194d"/>
                          </a:solidFill>
                          <a:latin typeface="Tahoma"/>
                        </a:rPr>
                        <a:t>Множ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ножество, элемент множества. Пустое множество. Подмножество. Объединение  и пересечение множеств. Иллюстрация отношений между множествами с помощью диаграмм Эйлера-Вен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водить примеры конечных и бесконечных множеств. Находить объединение и пересечение множеств. Приводить примеры несложных классификаций из различных областей жизни. Иллюстрировать теоретико-множественные понятия с помощью кругов Эйле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Прямая соединительная линия 9"/>
          <p:cNvSpPr/>
          <p:nvPr/>
        </p:nvSpPr>
        <p:spPr>
          <a:xfrm>
            <a:off x="357120" y="1928880"/>
            <a:ext cx="835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3"/>
          <p:cNvSpPr/>
          <p:nvPr/>
        </p:nvSpPr>
        <p:spPr>
          <a:xfrm flipH="1">
            <a:off x="4070520" y="2000160"/>
            <a:ext cx="144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17"/>
          <p:cNvSpPr/>
          <p:nvPr/>
        </p:nvSpPr>
        <p:spPr>
          <a:xfrm>
            <a:off x="357120" y="6286680"/>
            <a:ext cx="835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Группа 28"/>
          <p:cNvGrpSpPr/>
          <p:nvPr/>
        </p:nvGrpSpPr>
        <p:grpSpPr>
          <a:xfrm>
            <a:off x="428760" y="2000160"/>
            <a:ext cx="8288280" cy="4287960"/>
            <a:chOff x="428760" y="2000160"/>
            <a:chExt cx="8288280" cy="4287960"/>
          </a:xfrm>
        </p:grpSpPr>
        <p:sp>
          <p:nvSpPr>
            <p:cNvPr id="117" name="Прямая соединительная линия 15"/>
            <p:cNvSpPr/>
            <p:nvPr/>
          </p:nvSpPr>
          <p:spPr>
            <a:xfrm>
              <a:off x="430200" y="3429000"/>
              <a:ext cx="821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ая соединительная линия 19"/>
            <p:cNvSpPr/>
            <p:nvPr/>
          </p:nvSpPr>
          <p:spPr>
            <a:xfrm>
              <a:off x="8645760" y="2000160"/>
              <a:ext cx="71280" cy="428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Прямая соединительная линия 21"/>
            <p:cNvSpPr/>
            <p:nvPr/>
          </p:nvSpPr>
          <p:spPr>
            <a:xfrm flipH="1">
              <a:off x="428760" y="2001600"/>
              <a:ext cx="1440" cy="428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Прямая соединительная линия 23"/>
            <p:cNvSpPr/>
            <p:nvPr/>
          </p:nvSpPr>
          <p:spPr>
            <a:xfrm flipH="1">
              <a:off x="4071960" y="3430440"/>
              <a:ext cx="1440" cy="285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ая соединительная линия 27"/>
            <p:cNvSpPr/>
            <p:nvPr/>
          </p:nvSpPr>
          <p:spPr>
            <a:xfrm>
              <a:off x="430200" y="3000240"/>
              <a:ext cx="8143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порц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1214280" y="2143080"/>
            <a:ext cx="1357560" cy="8571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3071880" y="2143080"/>
            <a:ext cx="1357200" cy="857160"/>
          </a:xfrm>
          <a:prstGeom prst="rect">
            <a:avLst/>
          </a:prstGeom>
          <a:solidFill>
            <a:srgbClr val="745d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f01"/>
                </a:solidFill>
                <a:latin typeface="Tahoma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6"/>
          <p:cNvSpPr/>
          <p:nvPr/>
        </p:nvSpPr>
        <p:spPr>
          <a:xfrm>
            <a:off x="5214960" y="2143080"/>
            <a:ext cx="1357200" cy="857160"/>
          </a:xfrm>
          <a:prstGeom prst="rect">
            <a:avLst/>
          </a:prstGeom>
          <a:solidFill>
            <a:srgbClr val="8068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f01"/>
                </a:solidFill>
                <a:latin typeface="Tahoma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6929280" y="2143080"/>
            <a:ext cx="1357560" cy="8571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2643120" y="1928880"/>
            <a:ext cx="42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 flipH="1">
            <a:off x="4500720" y="1928880"/>
            <a:ext cx="4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0"/>
          <p:cNvSpPr/>
          <p:nvPr/>
        </p:nvSpPr>
        <p:spPr>
          <a:xfrm>
            <a:off x="6500880" y="1928880"/>
            <a:ext cx="48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1"/>
          <p:cNvSpPr/>
          <p:nvPr/>
        </p:nvSpPr>
        <p:spPr>
          <a:xfrm>
            <a:off x="1214280" y="3357720"/>
            <a:ext cx="1357560" cy="8571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2"/>
          <p:cNvSpPr/>
          <p:nvPr/>
        </p:nvSpPr>
        <p:spPr>
          <a:xfrm>
            <a:off x="3071880" y="3357720"/>
            <a:ext cx="1357200" cy="857160"/>
          </a:xfrm>
          <a:prstGeom prst="rect">
            <a:avLst/>
          </a:prstGeom>
          <a:solidFill>
            <a:srgbClr val="745d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f01"/>
                </a:solidFill>
                <a:latin typeface="Tahoma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3"/>
          <p:cNvSpPr/>
          <p:nvPr/>
        </p:nvSpPr>
        <p:spPr>
          <a:xfrm>
            <a:off x="5214960" y="3357720"/>
            <a:ext cx="1357200" cy="857160"/>
          </a:xfrm>
          <a:prstGeom prst="rect">
            <a:avLst/>
          </a:prstGeom>
          <a:solidFill>
            <a:srgbClr val="8068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f01"/>
                </a:solidFill>
                <a:latin typeface="Tahoma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4"/>
          <p:cNvSpPr/>
          <p:nvPr/>
        </p:nvSpPr>
        <p:spPr>
          <a:xfrm>
            <a:off x="6929280" y="3357720"/>
            <a:ext cx="1357560" cy="8571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5"/>
          <p:cNvSpPr/>
          <p:nvPr/>
        </p:nvSpPr>
        <p:spPr>
          <a:xfrm>
            <a:off x="2571840" y="3071880"/>
            <a:ext cx="32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6"/>
          <p:cNvSpPr/>
          <p:nvPr/>
        </p:nvSpPr>
        <p:spPr>
          <a:xfrm>
            <a:off x="6500880" y="307188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7"/>
          <p:cNvSpPr/>
          <p:nvPr/>
        </p:nvSpPr>
        <p:spPr>
          <a:xfrm>
            <a:off x="4429080" y="3143160"/>
            <a:ext cx="5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8"/>
          <p:cNvSpPr/>
          <p:nvPr/>
        </p:nvSpPr>
        <p:spPr>
          <a:xfrm>
            <a:off x="3071880" y="4643280"/>
            <a:ext cx="1357200" cy="85752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9"/>
          <p:cNvSpPr/>
          <p:nvPr/>
        </p:nvSpPr>
        <p:spPr>
          <a:xfrm>
            <a:off x="3071880" y="5715000"/>
            <a:ext cx="1357200" cy="857160"/>
          </a:xfrm>
          <a:prstGeom prst="rect">
            <a:avLst/>
          </a:prstGeom>
          <a:solidFill>
            <a:srgbClr val="745d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f01"/>
                </a:solidFill>
                <a:latin typeface="Tahoma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0"/>
          <p:cNvSpPr/>
          <p:nvPr/>
        </p:nvSpPr>
        <p:spPr>
          <a:xfrm>
            <a:off x="5214960" y="4643280"/>
            <a:ext cx="1357200" cy="857520"/>
          </a:xfrm>
          <a:prstGeom prst="rect">
            <a:avLst/>
          </a:prstGeom>
          <a:solidFill>
            <a:srgbClr val="8068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f01"/>
                </a:solidFill>
                <a:latin typeface="Tahoma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1"/>
          <p:cNvSpPr/>
          <p:nvPr/>
        </p:nvSpPr>
        <p:spPr>
          <a:xfrm>
            <a:off x="5214960" y="5715000"/>
            <a:ext cx="1357200" cy="8571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4"/>
          <p:cNvSpPr/>
          <p:nvPr/>
        </p:nvSpPr>
        <p:spPr>
          <a:xfrm>
            <a:off x="4572000" y="5072040"/>
            <a:ext cx="5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33"/>
          <p:cNvSpPr/>
          <p:nvPr/>
        </p:nvSpPr>
        <p:spPr>
          <a:xfrm>
            <a:off x="2786040" y="5572080"/>
            <a:ext cx="1714680" cy="28800"/>
          </a:xfrm>
          <a:prstGeom prst="line">
            <a:avLst/>
          </a:prstGeom>
          <a:ln w="114480">
            <a:solidFill>
              <a:srgbClr val="000000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47"/>
          <p:cNvSpPr/>
          <p:nvPr/>
        </p:nvSpPr>
        <p:spPr>
          <a:xfrm>
            <a:off x="5143680" y="5572080"/>
            <a:ext cx="1714320" cy="28800"/>
          </a:xfrm>
          <a:prstGeom prst="line">
            <a:avLst/>
          </a:prstGeom>
          <a:ln w="114480">
            <a:solidFill>
              <a:srgbClr val="000000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0.23941 -0.00047 E">
                                      <p:cBhvr>
                                        <p:cTn id="19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-0.63125 -0.00047 E">
                                      <p:cBhvr>
                                        <p:cTn id="25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-0.00046 L 0.61754 -0.00093 E">
                                      <p:cBhvr>
                                        <p:cTn id="2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0080" y="20714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Тема самообразования: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азвитие математической речи учащихся на уроках математик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1071720" y="1214280"/>
            <a:ext cx="785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иск путей решения проблемы развития математической речи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50720" y="428400"/>
            <a:ext cx="679284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оанализировать методическую и психолого-педагогическую литературу по тем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 Разработать приемы развития математической речи учащих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Разработать систему упражнений, способствующих развитию математической речи учащихся через доказательство теор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Оценить результаты рабо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18:25:42Z</dcterms:created>
  <dc:creator>Игорь  Мехедов</dc:creator>
  <dc:description/>
  <dc:language>en-US</dc:language>
  <cp:lastModifiedBy>Игорь  Мехедов</cp:lastModifiedBy>
  <dcterms:modified xsi:type="dcterms:W3CDTF">2011-08-19T04:10:51Z</dcterms:modified>
  <cp:revision>71</cp:revision>
  <dc:subject/>
  <dc:title>Доказательство теорем как средство развития речи  учащихся 7 класса</dc:title>
</cp:coreProperties>
</file>