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0.gif" ContentType="image/gif"/>
  <Override PartName="/ppt/media/image16.gif" ContentType="image/gif"/>
  <Override PartName="/ppt/media/image12.wmf" ContentType="image/x-wmf"/>
  <Override PartName="/ppt/media/image17.gif" ContentType="image/gif"/>
  <Override PartName="/ppt/media/camera.wav" ContentType="audio/x-wav"/>
  <Override PartName="/ppt/media/image18.png" ContentType="image/png"/>
  <Override PartName="/ppt/media/type.wav" ContentType="audio/x-wav"/>
  <Override PartName="/ppt/media/image25.gif" ContentType="image/gif"/>
  <Override PartName="/ppt/media/image15.gif" ContentType="image/gif"/>
  <Override PartName="/ppt/media/explode.wav" ContentType="audio/x-wav"/>
  <Override PartName="/ppt/media/glass.wav" ContentType="audio/x-wav"/>
  <Override PartName="/ppt/media/applause.wav" ContentType="audio/x-wav"/>
  <Override PartName="/ppt/media/carbrake.wav" ContentType="audio/x-wav"/>
  <Override PartName="/ppt/media/image23.gif" ContentType="image/gif"/>
  <Override PartName="/ppt/media/gunshot.wav" ContentType="audio/x-wav"/>
  <Override PartName="/ppt/media/image24.gif" ContentType="image/gif"/>
  <Override PartName="/ppt/media/image22.gif" ContentType="image/gif"/>
  <Override PartName="/ppt/media/projctor.wav" ContentType="audio/x-wav"/>
  <Override PartName="/ppt/media/image8.gif" ContentType="image/gif"/>
  <Override PartName="/ppt/media/ricochet.wav" ContentType="audio/x-wav"/>
  <Override PartName="/ppt/media/image13.gif" ContentType="image/gif"/>
  <Override PartName="/ppt/media/clap.wav" ContentType="audio/x-wav"/>
  <Override PartName="/ppt/media/cashreg.wav" ContentType="audio/x-wav"/>
  <Override PartName="/ppt/media/image10.gif" ContentType="image/gif"/>
  <Override PartName="/ppt/media/image5.wmf" ContentType="image/x-wmf"/>
  <Override PartName="/ppt/media/laser.wav" ContentType="audio/x-wav"/>
  <Override PartName="/ppt/media/image9.gif" ContentType="image/gif"/>
  <Override PartName="/ppt/media/image26.gif" ContentType="image/gif"/>
  <Override PartName="/ppt/media/image3.gif" ContentType="image/gif"/>
  <Override PartName="/ppt/media/image14.wmf" ContentType="image/x-wmf"/>
  <Override PartName="/ppt/media/image6.gif" ContentType="image/gif"/>
  <Override PartName="/ppt/media/image7.gif" ContentType="image/gif"/>
  <Override PartName="/ppt/media/image2.jpeg" ContentType="image/jpeg"/>
  <Override PartName="/ppt/media/image1.png" ContentType="image/png"/>
  <Override PartName="/ppt/media/image19.gif" ContentType="image/gif"/>
  <Override PartName="/ppt/media/image21.gif" ContentType="image/gif"/>
  <Override PartName="/ppt/media/image4.gif" ContentType="image/gif"/>
  <Override PartName="/ppt/media/drumroll.wav" ContentType="audio/x-wav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CC4F-4AEC-4729-ADE0-E6F43E07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A46D-B678-4125-9CCB-BD508A14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629B-FCF9-42F3-B021-B6DD787A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94CB-58A8-4B0F-AD28-D7E4F73D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598D-BD25-4BB9-A51B-F8D3111F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7B49-492F-4D64-99FC-DEDCD055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12BB-3479-410B-BA98-8006B33D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9141-AF1E-4F8C-8D52-5FCEEDF1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FC47-4E69-466D-B6F2-6545C2D8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8F19-73A4-48A7-B1D2-468A1465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013D-4822-45C6-A6F7-4DEB7ECA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A04B-C438-4085-B532-2524F8DC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3C99-8D13-4BAB-B216-EA6AC0A8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9FAD-0E3E-4A45-902C-35168E4D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30E9-2EF0-4C13-932F-70444811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98F6-D3F3-485B-B12A-60784E6E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8B7F-D6AF-4923-B9AF-10BD4C5F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0D49-751E-4DDD-9014-8EA30179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32FA-633F-4AC0-A39D-6A16E39B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5DBC-8936-4D83-AA6D-1BEBCF6E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7751-C4DF-4792-A413-155CAF88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6127-5F36-4C00-8853-281BDBE5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F177-DDB5-4022-9B67-005A474E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D177-1ACB-45FC-83E4-F60CFE65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37DF-2035-4FFB-B655-B74EC09702BA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3624-9393-4A15-BE04-A589C03A0EC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audio" Target="../media/type.wav"/><Relationship Id="rId5" Type="http://schemas.openxmlformats.org/officeDocument/2006/relationships/audio" Target="../media/projctor.wav"/><Relationship Id="rId6" Type="http://schemas.openxmlformats.org/officeDocument/2006/relationships/audio" Target="../media/ricochet.wav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audio" Target="../media/camera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wmf"/><Relationship Id="rId3" Type="http://schemas.openxmlformats.org/officeDocument/2006/relationships/image" Target="../media/image26.gif"/><Relationship Id="rId4" Type="http://schemas.openxmlformats.org/officeDocument/2006/relationships/audio" Target="../media/explode.wav"/><Relationship Id="rId5" Type="http://schemas.openxmlformats.org/officeDocument/2006/relationships/audio" Target="../media/gunshot.wav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audio" Target="../media/laser.wav"/><Relationship Id="rId5" Type="http://schemas.openxmlformats.org/officeDocument/2006/relationships/audio" Target="../media/glass.wav"/><Relationship Id="rId6" Type="http://schemas.openxmlformats.org/officeDocument/2006/relationships/audio" Target="../media/gunshot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audio" Target="../media/laser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audio" Target="../media/applause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image" Target="../media/image12.wmf"/><Relationship Id="rId4" Type="http://schemas.openxmlformats.org/officeDocument/2006/relationships/image" Target="../media/image13.gif"/><Relationship Id="rId5" Type="http://schemas.openxmlformats.org/officeDocument/2006/relationships/audio" Target="../media/drumroll.wav"/><Relationship Id="rId6" Type="http://schemas.openxmlformats.org/officeDocument/2006/relationships/audio" Target="../media/clap.wav"/><Relationship Id="rId7" Type="http://schemas.openxmlformats.org/officeDocument/2006/relationships/audio" Target="../media/clap.wav"/><Relationship Id="rId8" Type="http://schemas.openxmlformats.org/officeDocument/2006/relationships/audio" Target="../media/clap.wav"/><Relationship Id="rId9" Type="http://schemas.openxmlformats.org/officeDocument/2006/relationships/audio" Target="../media/clap.wav"/><Relationship Id="rId10" Type="http://schemas.openxmlformats.org/officeDocument/2006/relationships/audio" Target="../media/clap.wav"/><Relationship Id="rId11" Type="http://schemas.openxmlformats.org/officeDocument/2006/relationships/audio" Target="../media/clap.wav"/><Relationship Id="rId12" Type="http://schemas.openxmlformats.org/officeDocument/2006/relationships/audio" Target="../media/clap.wav"/><Relationship Id="rId13" Type="http://schemas.openxmlformats.org/officeDocument/2006/relationships/audio" Target="../media/clap.wav"/><Relationship Id="rId14" Type="http://schemas.openxmlformats.org/officeDocument/2006/relationships/audio" Target="../media/clap.wav"/><Relationship Id="rId15" Type="http://schemas.openxmlformats.org/officeDocument/2006/relationships/audio" Target="../media/clap.wav"/><Relationship Id="rId16" Type="http://schemas.openxmlformats.org/officeDocument/2006/relationships/audio" Target="../media/clap.wav"/><Relationship Id="rId17" Type="http://schemas.openxmlformats.org/officeDocument/2006/relationships/audio" Target="../media/clap.wav"/><Relationship Id="rId1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4.wmf"/><Relationship Id="rId3" Type="http://schemas.openxmlformats.org/officeDocument/2006/relationships/image" Target="../media/image15.gif"/><Relationship Id="rId4" Type="http://schemas.openxmlformats.org/officeDocument/2006/relationships/audio" Target="../media/glass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explode.wav"/><Relationship Id="rId1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audio" Target="../media/drumroll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glass.wav"/><Relationship Id="rId8" Type="http://schemas.openxmlformats.org/officeDocument/2006/relationships/audio" Target="../media/glass.wav"/><Relationship Id="rId9" Type="http://schemas.openxmlformats.org/officeDocument/2006/relationships/audio" Target="../media/glass.wav"/><Relationship Id="rId10" Type="http://schemas.openxmlformats.org/officeDocument/2006/relationships/audio" Target="../media/glass.wav"/><Relationship Id="rId11" Type="http://schemas.openxmlformats.org/officeDocument/2006/relationships/audio" Target="../media/glass.wav"/><Relationship Id="rId12" Type="http://schemas.openxmlformats.org/officeDocument/2006/relationships/audio" Target="../media/glass.wav"/><Relationship Id="rId13" Type="http://schemas.openxmlformats.org/officeDocument/2006/relationships/audio" Target="../media/glass.wav"/><Relationship Id="rId14" Type="http://schemas.openxmlformats.org/officeDocument/2006/relationships/audio" Target="../media/glass.wav"/><Relationship Id="rId1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4.gif"/><Relationship Id="rId7" Type="http://schemas.openxmlformats.org/officeDocument/2006/relationships/audio" Target="../media/gunshot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audio" Target="../media/applause.wav"/><Relationship Id="rId12" Type="http://schemas.openxmlformats.org/officeDocument/2006/relationships/audio" Target="../media/applause.wav"/><Relationship Id="rId13" Type="http://schemas.openxmlformats.org/officeDocument/2006/relationships/audio" Target="../media/applause.wav"/><Relationship Id="rId14" Type="http://schemas.openxmlformats.org/officeDocument/2006/relationships/audio" Target="../media/applause.wav"/><Relationship Id="rId15" Type="http://schemas.openxmlformats.org/officeDocument/2006/relationships/audio" Target="../media/applause.wav"/><Relationship Id="rId16" Type="http://schemas.openxmlformats.org/officeDocument/2006/relationships/audio" Target="../media/applause.wav"/><Relationship Id="rId17" Type="http://schemas.openxmlformats.org/officeDocument/2006/relationships/audio" Target="../media/applause.wav"/><Relationship Id="rId18" Type="http://schemas.openxmlformats.org/officeDocument/2006/relationships/audio" Target="../media/applause.wav"/><Relationship Id="rId19" Type="http://schemas.openxmlformats.org/officeDocument/2006/relationships/audio" Target="../media/applause.wav"/><Relationship Id="rId20" Type="http://schemas.openxmlformats.org/officeDocument/2006/relationships/audio" Target="../media/applause.wav"/><Relationship Id="rId2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audio" Target="../media/ricochet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rbrake.wav"/><Relationship Id="rId13" Type="http://schemas.openxmlformats.org/officeDocument/2006/relationships/audio" Target="../media/carbrake.wav"/><Relationship Id="rId14" Type="http://schemas.openxmlformats.org/officeDocument/2006/relationships/audio" Target="../media/carbrake.wav"/><Relationship Id="rId15" Type="http://schemas.openxmlformats.org/officeDocument/2006/relationships/audio" Target="../media/carbrake.wav"/><Relationship Id="rId16" Type="http://schemas.openxmlformats.org/officeDocument/2006/relationships/audio" Target="../media/carbrake.wav"/><Relationship Id="rId17" Type="http://schemas.openxmlformats.org/officeDocument/2006/relationships/audio" Target="../media/carbrake.wav"/><Relationship Id="rId18" Type="http://schemas.openxmlformats.org/officeDocument/2006/relationships/audio" Target="../media/carbrake.wav"/><Relationship Id="rId19" Type="http://schemas.openxmlformats.org/officeDocument/2006/relationships/audio" Target="../media/carbrake.wav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-868680"/>
            <a:ext cx="67039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2574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cc"/>
                </a:solidFill>
                <a:uFillTx/>
                <a:latin typeface="Times New Roman"/>
              </a:rPr>
              <a:t>План –конспект урока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962520" y="3504960"/>
            <a:ext cx="36576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Тема: «Треугольник»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класс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3429000"/>
            <a:ext cx="2590560" cy="914400"/>
          </a:xfrm>
          <a:prstGeom prst="rtTriangle">
            <a:avLst/>
          </a:prstGeom>
          <a:solidFill>
            <a:srgbClr val="000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800600"/>
            <a:ext cx="1752480" cy="1447920"/>
          </a:xfrm>
          <a:prstGeom prst="triangle">
            <a:avLst>
              <a:gd name="adj" fmla="val 50000"/>
            </a:avLst>
          </a:prstGeom>
          <a:solidFill>
            <a:srgbClr val="cc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4419720"/>
            <a:ext cx="3962520" cy="1676160"/>
          </a:xfrm>
          <a:prstGeom prst="rtTriangle">
            <a:avLst/>
          </a:prstGeom>
          <a:solidFill>
            <a:srgbClr val="0000ff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0" y="3962520"/>
            <a:ext cx="1219320" cy="129528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666900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940360" y="1268280"/>
            <a:ext cx="3203640" cy="1157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500"/>
                            </p:stCondLst>
                            <p:childTnLst>
                              <p:par>
                                <p:cTn id="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5940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Закрепление материал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510552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Задача. Земельный участок треугольной формы имеет периметр 1750м. Одна из сторон равна 560м, другая – 780м. Вычислите третью сторону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95280" cy="12477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095880" y="2743200"/>
            <a:ext cx="2057400" cy="3276720"/>
          </a:xfrm>
          <a:prstGeom prst="triangle">
            <a:avLst>
              <a:gd name="adj" fmla="val 50000"/>
            </a:avLst>
          </a:prstGeom>
          <a:solidFill>
            <a:srgbClr val="cc66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2484360" y="765000"/>
            <a:ext cx="5112000" cy="2222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Задание на дом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95680" y="251424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п. 35 учебник Э.Р.Нурка и А.Э. Тельгмаа; дайте определение треугольника; решите задачи №№652, 631, 634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2590920"/>
            <a:ext cx="2743200" cy="3581280"/>
          </a:xfrm>
          <a:prstGeom prst="rtTriangle">
            <a:avLst/>
          </a:prstGeom>
          <a:solidFill>
            <a:srgbClr val="66ff33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2808000" cy="1432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6003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Подведение итогов 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              урока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990720"/>
            <a:ext cx="558036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                          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                     </a:t>
            </a:r>
            <a:r>
              <a:rPr b="0" lang="ru-RU" sz="2000" spc="-1" strike="noStrike">
                <a:solidFill>
                  <a:srgbClr val="eaeaea"/>
                </a:solidFill>
                <a:latin typeface="Arial Cyr"/>
              </a:rPr>
              <a:t> </a:t>
            </a:r>
            <a:r>
              <a:rPr b="0" lang="ru-RU" sz="3600" spc="-1" strike="noStrike">
                <a:solidFill>
                  <a:srgbClr val="eaeaea"/>
                </a:solidFill>
                <a:latin typeface="Arial Cyr"/>
              </a:rPr>
              <a:t>Оценка работы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 Cyr"/>
              </a:rPr>
              <a:t>               </a:t>
            </a:r>
            <a:r>
              <a:rPr b="0" lang="ru-RU" sz="3600" spc="-1" strike="noStrike">
                <a:solidFill>
                  <a:srgbClr val="eaeaea"/>
                </a:solidFill>
                <a:latin typeface="Arial Cyr"/>
              </a:rPr>
              <a:t>учащихся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                                             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Cyr"/>
              </a:rPr>
              <a:t>  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                         </a:t>
            </a:r>
            <a:r>
              <a:rPr b="0" lang="en-US" sz="2000" spc="-1" strike="noStrike">
                <a:solidFill>
                  <a:srgbClr val="eaeaea"/>
                </a:solidFill>
                <a:latin typeface="Arial Cyr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                                                     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66880" y="3352680"/>
            <a:ext cx="4953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3657600"/>
            <a:ext cx="7696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524720" y="0"/>
            <a:ext cx="1371600" cy="1322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391520" y="2819520"/>
            <a:ext cx="1143000" cy="3657600"/>
          </a:xfrm>
          <a:prstGeom prst="rtTriangle">
            <a:avLst/>
          </a:prstGeom>
          <a:solidFill>
            <a:srgbClr val="0000ff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2819520"/>
            <a:ext cx="1066680" cy="3581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201636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24000" y="765000"/>
            <a:ext cx="4524480" cy="75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Цель урока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1. Повторить чтение и измерение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углов,технику вычислительных навыков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2. Ввести понятие треугольника как геометрической фигуры.Выяснить условия возможности построения треугольника,т.е. Неравенство треугольник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3. Воспитывать логическое мышление через поисковые и проблемные ситуации; рационально расходовать время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4. Ввести линию развивающего, опережающего обучения на протяжении всего урок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80360" y="476280"/>
            <a:ext cx="1143000" cy="1101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6518160"/>
            <a:ext cx="9144000" cy="428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331040" y="4005360"/>
            <a:ext cx="1812960" cy="1793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0" y="228240"/>
            <a:ext cx="5961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Ход уро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74674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        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« Числа –это боги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       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Плато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1. Вводная часть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2. Устный сче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3. Проверка знани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4. Изучение нового материал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5. Нахождение периметра геометрических    фигу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6. Закрепление материал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7. Задание на дом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8. Подведение итогов урока. Оценка работы учащихс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948360" y="2778120"/>
            <a:ext cx="2195640" cy="2173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55640" y="228240"/>
            <a:ext cx="552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Вводная част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дтвердите высказывание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ЛАТОН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ледующими примерами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1. Каждый человек начинает день с числа и использует его в течение всего дня. Например, 02.02.02 г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2.Сравните температуру воздуха предыдущего и сегодняшнего дня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п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=-22*С,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=-15*C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, -22+7=-15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(Опережающее обучение-сложение чисел с разными знаками.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61320" y="3284640"/>
            <a:ext cx="2182680" cy="2395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95640" y="228600"/>
            <a:ext cx="5881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Устный счет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784872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1. Вычислите: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(420+180):10=60,        420+180:10=438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4*(160-90)=280,           85*85=7225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(-85)*(-85)=7225,         -85*85=-7225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2.Решите уравнения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а)Х*Х=64;                     б)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а*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=6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3.Назовите вид углов и определите величину неизвестных углов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146*     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?      50*                             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             О                С      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?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O      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4.По раздвижной модели покажите угол:острый,тупой,прямой,развернутый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308720" y="260280"/>
            <a:ext cx="1447920" cy="1393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62120" y="495288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81680" y="441972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5445000"/>
            <a:ext cx="2819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556000" y="4292280"/>
            <a:ext cx="985680" cy="1152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148360" y="4723920"/>
            <a:ext cx="2376360" cy="1081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5508360" y="4508280"/>
            <a:ext cx="1600200" cy="14475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948360" y="1844640"/>
            <a:ext cx="1871640" cy="3995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6669000"/>
            <a:ext cx="9144000" cy="255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10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10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40000" y="1519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оверка знаний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00400" y="1295280"/>
            <a:ext cx="45720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Самостоятельная работ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карточка1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.Определите вид угла измерьте его величину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              В              С                   О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2.Вычислите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&lt;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ОВ:                            Р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?    30*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                              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             О               С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3.Вычислите 37*11+2035:5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Карточка2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ешите уравнения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435+Х=623;         Х-46=32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543-Х=128;          1521:Х=9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Х:37=14;              48*Х=240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308720" y="333360"/>
            <a:ext cx="1295640" cy="1247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34120" y="4267080"/>
            <a:ext cx="22096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705720" y="3657240"/>
            <a:ext cx="609480" cy="6094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480060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365760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358128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038480" y="2971440"/>
            <a:ext cx="0" cy="6094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358128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800240" y="3047760"/>
            <a:ext cx="228600" cy="5331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43600" y="3581280"/>
            <a:ext cx="6858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943600" y="2971440"/>
            <a:ext cx="0" cy="6094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3581280"/>
            <a:ext cx="9144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166840" cy="2438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0" y="6669000"/>
            <a:ext cx="9144000" cy="189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500"/>
                            </p:stCondLst>
                            <p:childTnLst>
                              <p:par>
                                <p:cTn id="2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000"/>
                            </p:stCondLst>
                            <p:childTnLst>
                              <p:par>
                                <p:cTn id="20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35280" y="151920"/>
            <a:ext cx="6192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Изучение нового материала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315200" cy="73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«Геометрия-основа строительства»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1.Вводная часть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.(Межпредметная связь с историей.Необходимость  в жилье; строительство храмов, дворцов. Применение геометрических форм в строительстве, в моделях рисунка выкройки: косынки, фартука, сарафана.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Наглядный материал: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репродукции храмов, дворцов </a:t>
            </a: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XII-XIII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вв.; составление рисунка из геометрических форм( треугольники, прямоугольники, квадраты, овалы); выкройки косынки, фартука, сарафана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2. Введение понятия треугольника и его элементов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3. Построение треугольника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а) соедините три точки, не лежащие на одной прямой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б) соедините три точки, лежащие на одной прямой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4. Свойство сторон треугольника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а +</a:t>
            </a: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b&gt; c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Показать фрагмент диафильма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61722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Times New Roman"/>
                <a:hlinkClick r:id="rId1" action="ppaction://hlinksldjump"/>
              </a:rPr>
              <a:t>.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              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6381720"/>
            <a:ext cx="9144000" cy="627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443640" y="4797360"/>
            <a:ext cx="230508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50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Определение вида треугольников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7848720" cy="52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Определите вид треугольника по углам и сторонам.                     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Используйте плакат с разными видами треугольников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а)                        б)                                        в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остроугольный                тупоугольный                  прямоугольный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г)                                            д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равносторонний                         равнобедренный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9320" y="6172200"/>
            <a:ext cx="8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Times New Roman"/>
                <a:hlinkClick r:id="rId2" action="ppaction://hlinksldjump"/>
              </a:rPr>
              <a:t>назад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3809880"/>
            <a:ext cx="13716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56840" y="3048120"/>
            <a:ext cx="685800" cy="7617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048120"/>
            <a:ext cx="685800" cy="7617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843280" y="3809520"/>
            <a:ext cx="1347840" cy="507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2514240" y="2666880"/>
            <a:ext cx="328680" cy="11937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759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2666880"/>
            <a:ext cx="1676520" cy="1143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410080" y="3715920"/>
            <a:ext cx="1754280" cy="17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410080" y="2590560"/>
            <a:ext cx="0" cy="1143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2590920"/>
            <a:ext cx="1752840" cy="1143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791320"/>
            <a:ext cx="15238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599840" y="4724280"/>
            <a:ext cx="762120" cy="10670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362320" y="4724280"/>
            <a:ext cx="761760" cy="10670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4191120"/>
            <a:ext cx="761760" cy="1600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5791320"/>
            <a:ext cx="15238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800240" y="4191120"/>
            <a:ext cx="762120" cy="1600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0" y="666900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7885080" y="4653000"/>
            <a:ext cx="1001880" cy="1871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6012000" y="0"/>
            <a:ext cx="313200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9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3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500"/>
                            </p:stCondLst>
                            <p:childTnLst>
                              <p:par>
                                <p:cTn id="3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5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" dur="5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500"/>
                            </p:stCondLst>
                            <p:childTnLst>
                              <p:par>
                                <p:cTn id="3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7" dur="500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" dur="500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500"/>
                            </p:stCondLst>
                            <p:childTnLst>
                              <p:par>
                                <p:cTn id="3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5" dur="500"/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945880" y="228600"/>
            <a:ext cx="597564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Нахождение периметра геометрических фигу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1523520"/>
            <a:ext cx="6780240" cy="449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а) периметр прямоугольника;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б) периметр квадрата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в) периметр треугольника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Ученики делают вывод о нахождении периметра треугольника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р = а +</a:t>
            </a:r>
            <a:r>
              <a:rPr b="0" i="1" lang="en-US" sz="1600" spc="-1" strike="noStrike">
                <a:solidFill>
                  <a:srgbClr val="eaeaea"/>
                </a:solidFill>
                <a:latin typeface="Times New Roman"/>
              </a:rPr>
              <a:t>b +c</a:t>
            </a: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,  - сумма длин всех сторон.                                                   1.Найдите периметр моделей треугольников ( из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математических конвертов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2.Решение задач на периметр треугольника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                 </a:t>
            </a: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х                  х                                                         7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              </a:t>
            </a: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                          </a:t>
            </a: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7                                                                    5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2                         4                                                 х                    х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                             </a:t>
            </a:r>
            <a:r>
              <a:rPr b="0" i="1" lang="ru-RU" sz="1600" spc="-1" strike="noStrike">
                <a:solidFill>
                  <a:srgbClr val="eaeaea"/>
                </a:solidFill>
                <a:latin typeface="Times New Roman"/>
              </a:rPr>
              <a:t>х                                                                    х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2666880"/>
            <a:ext cx="6782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1752480"/>
            <a:ext cx="5791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1889280"/>
            <a:ext cx="3368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81640" y="1889280"/>
            <a:ext cx="180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81640" y="1889280"/>
            <a:ext cx="180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5486400"/>
            <a:ext cx="10670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523880" y="4648320"/>
            <a:ext cx="533520" cy="838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4648320"/>
            <a:ext cx="533520" cy="838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5486400"/>
            <a:ext cx="19051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43400" y="4648320"/>
            <a:ext cx="2362320" cy="838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4648320"/>
            <a:ext cx="457200" cy="838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6629400"/>
            <a:ext cx="23623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295280" y="6095880"/>
            <a:ext cx="457200" cy="533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6095880"/>
            <a:ext cx="1905120" cy="533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6629400"/>
            <a:ext cx="12193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257440" y="5791320"/>
            <a:ext cx="609480" cy="838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5791320"/>
            <a:ext cx="609840" cy="838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6095880"/>
            <a:ext cx="152280" cy="152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095880" y="6095880"/>
            <a:ext cx="152640" cy="152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685800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867280" y="6553080"/>
            <a:ext cx="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7280" y="6477120"/>
            <a:ext cx="0" cy="228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588000" y="234792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6742080"/>
            <a:ext cx="9144000" cy="115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5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60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6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7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80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7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6T14:10:22Z</dcterms:created>
  <dc:creator>Торгашов Геннадий Ильич</dc:creator>
  <dc:description/>
  <dc:language>en-US</dc:language>
  <cp:lastModifiedBy>Пользователь</cp:lastModifiedBy>
  <dcterms:modified xsi:type="dcterms:W3CDTF">2012-01-08T09:36:03Z</dcterms:modified>
  <cp:revision>5</cp:revision>
  <dc:subject/>
  <dc:title>План –конспект урока.</dc:title>
</cp:coreProperties>
</file>