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0.gif" ContentType="image/gif"/>
  <Override PartName="/ppt/media/image16.gif" ContentType="image/gif"/>
  <Override PartName="/ppt/media/image12.wmf" ContentType="image/x-wmf"/>
  <Override PartName="/ppt/media/image17.gif" ContentType="image/gif"/>
  <Override PartName="/ppt/media/camera.wav" ContentType="audio/x-wav"/>
  <Override PartName="/ppt/media/image18.png" ContentType="image/png"/>
  <Override PartName="/ppt/media/type.wav" ContentType="audio/x-wav"/>
  <Override PartName="/ppt/media/image25.gif" ContentType="image/gif"/>
  <Override PartName="/ppt/media/image15.gif" ContentType="image/gif"/>
  <Override PartName="/ppt/media/explode.wav" ContentType="audio/x-wav"/>
  <Override PartName="/ppt/media/glass.wav" ContentType="audio/x-wav"/>
  <Override PartName="/ppt/media/applause.wav" ContentType="audio/x-wav"/>
  <Override PartName="/ppt/media/carbrake.wav" ContentType="audio/x-wav"/>
  <Override PartName="/ppt/media/image23.gif" ContentType="image/gif"/>
  <Override PartName="/ppt/media/gunshot.wav" ContentType="audio/x-wav"/>
  <Override PartName="/ppt/media/image24.gif" ContentType="image/gif"/>
  <Override PartName="/ppt/media/image22.gif" ContentType="image/gif"/>
  <Override PartName="/ppt/media/projctor.wav" ContentType="audio/x-wav"/>
  <Override PartName="/ppt/media/image8.gif" ContentType="image/gif"/>
  <Override PartName="/ppt/media/ricochet.wav" ContentType="audio/x-wav"/>
  <Override PartName="/ppt/media/image13.gif" ContentType="image/gif"/>
  <Override PartName="/ppt/media/clap.wav" ContentType="audio/x-wav"/>
  <Override PartName="/ppt/media/cashreg.wav" ContentType="audio/x-wav"/>
  <Override PartName="/ppt/media/image10.gif" ContentType="image/gif"/>
  <Override PartName="/ppt/media/image5.wmf" ContentType="image/x-wmf"/>
  <Override PartName="/ppt/media/laser.wav" ContentType="audio/x-wav"/>
  <Override PartName="/ppt/media/image9.gif" ContentType="image/gif"/>
  <Override PartName="/ppt/media/image26.gif" ContentType="image/gif"/>
  <Override PartName="/ppt/media/image3.gif" ContentType="image/gif"/>
  <Override PartName="/ppt/media/image14.wmf" ContentType="image/x-wmf"/>
  <Override PartName="/ppt/media/image6.gif" ContentType="image/gif"/>
  <Override PartName="/ppt/media/image7.gif" ContentType="image/gif"/>
  <Override PartName="/ppt/media/image2.jpeg" ContentType="image/jpeg"/>
  <Override PartName="/ppt/media/image1.png" ContentType="image/png"/>
  <Override PartName="/ppt/media/image19.gif" ContentType="image/gif"/>
  <Override PartName="/ppt/media/image21.gif" ContentType="image/gif"/>
  <Override PartName="/ppt/media/image4.gif" ContentType="image/gif"/>
  <Override PartName="/ppt/media/drumroll.wav" ContentType="audio/x-wav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6BE7-9815-40AA-97E4-7BD1FA302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339F-EB8E-45C2-9A50-B5A13878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2D72-BE2D-48C7-900E-0095DDA79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7FE5-C9EA-4258-B585-DCA9EA1F8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3C12C-4264-4E7F-900A-1B5B14D66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A4E4-B4EB-4295-8FA8-CAAD2B6F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EC58-364F-456D-B1CE-F3457E3F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B45D-912D-4582-A6A0-49570808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6BF0C-F0D4-4D29-9382-16CFCB25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A00C3-0610-4B7A-B305-C2A6E942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0E71-539F-4846-9008-7C250EF2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EC37-A99F-45B3-A4D2-1E35E1FF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292E-500D-4F80-8403-D326B330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271B-6927-4C7A-8037-87D6D12F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0A77-CC3C-426E-84C4-1C60BD6B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71BD-E329-4A3F-B49C-8FDCE958D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C972-1E86-48AF-8303-76B96433C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649A-93A5-49B6-A6C6-950C4618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AEDE-4F75-4459-95F7-468EA7EA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75F4-E33D-49C5-8836-B61CA96C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2C51-C7C4-4A73-9311-38E1D09B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4C67-472B-4CC4-949C-7D3936DA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68CA-9DF3-4754-BB45-5E258812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1CD7-4D5E-4EF1-B516-E4A03975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6797-512E-475F-B74C-EECB3DFEEA83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F020-2D46-431D-8533-0CEE68A4ED5C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audio" Target="../media/type.wav"/><Relationship Id="rId5" Type="http://schemas.openxmlformats.org/officeDocument/2006/relationships/audio" Target="../media/projctor.wav"/><Relationship Id="rId6" Type="http://schemas.openxmlformats.org/officeDocument/2006/relationships/audio" Target="../media/ricochet.wav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audio" Target="../media/camera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5.wmf"/><Relationship Id="rId3" Type="http://schemas.openxmlformats.org/officeDocument/2006/relationships/image" Target="../media/image26.gif"/><Relationship Id="rId4" Type="http://schemas.openxmlformats.org/officeDocument/2006/relationships/audio" Target="../media/explode.wav"/><Relationship Id="rId5" Type="http://schemas.openxmlformats.org/officeDocument/2006/relationships/audio" Target="../media/gunshot.wav"/><Relationship Id="rId6" Type="http://schemas.openxmlformats.org/officeDocument/2006/relationships/audio" Target="../media/glass.wav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audio" Target="../media/laser.wav"/><Relationship Id="rId5" Type="http://schemas.openxmlformats.org/officeDocument/2006/relationships/audio" Target="../media/glass.wav"/><Relationship Id="rId6" Type="http://schemas.openxmlformats.org/officeDocument/2006/relationships/audio" Target="../media/gunshot.wav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audio" Target="../media/laser.wav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audio" Target="../media/applause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image" Target="../media/image12.wmf"/><Relationship Id="rId4" Type="http://schemas.openxmlformats.org/officeDocument/2006/relationships/image" Target="../media/image13.gif"/><Relationship Id="rId5" Type="http://schemas.openxmlformats.org/officeDocument/2006/relationships/audio" Target="../media/drumroll.wav"/><Relationship Id="rId6" Type="http://schemas.openxmlformats.org/officeDocument/2006/relationships/audio" Target="../media/clap.wav"/><Relationship Id="rId7" Type="http://schemas.openxmlformats.org/officeDocument/2006/relationships/audio" Target="../media/clap.wav"/><Relationship Id="rId8" Type="http://schemas.openxmlformats.org/officeDocument/2006/relationships/audio" Target="../media/clap.wav"/><Relationship Id="rId9" Type="http://schemas.openxmlformats.org/officeDocument/2006/relationships/audio" Target="../media/clap.wav"/><Relationship Id="rId10" Type="http://schemas.openxmlformats.org/officeDocument/2006/relationships/audio" Target="../media/clap.wav"/><Relationship Id="rId11" Type="http://schemas.openxmlformats.org/officeDocument/2006/relationships/audio" Target="../media/clap.wav"/><Relationship Id="rId12" Type="http://schemas.openxmlformats.org/officeDocument/2006/relationships/audio" Target="../media/clap.wav"/><Relationship Id="rId13" Type="http://schemas.openxmlformats.org/officeDocument/2006/relationships/audio" Target="../media/clap.wav"/><Relationship Id="rId14" Type="http://schemas.openxmlformats.org/officeDocument/2006/relationships/audio" Target="../media/clap.wav"/><Relationship Id="rId15" Type="http://schemas.openxmlformats.org/officeDocument/2006/relationships/audio" Target="../media/clap.wav"/><Relationship Id="rId16" Type="http://schemas.openxmlformats.org/officeDocument/2006/relationships/audio" Target="../media/clap.wav"/><Relationship Id="rId17" Type="http://schemas.openxmlformats.org/officeDocument/2006/relationships/audio" Target="../media/clap.wav"/><Relationship Id="rId1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4.wmf"/><Relationship Id="rId3" Type="http://schemas.openxmlformats.org/officeDocument/2006/relationships/image" Target="../media/image15.gif"/><Relationship Id="rId4" Type="http://schemas.openxmlformats.org/officeDocument/2006/relationships/audio" Target="../media/glass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audio" Target="../media/explode.wav"/><Relationship Id="rId1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audio" Target="../media/drumroll.wav"/><Relationship Id="rId5" Type="http://schemas.openxmlformats.org/officeDocument/2006/relationships/audio" Target="../media/glass.wav"/><Relationship Id="rId6" Type="http://schemas.openxmlformats.org/officeDocument/2006/relationships/audio" Target="../media/glass.wav"/><Relationship Id="rId7" Type="http://schemas.openxmlformats.org/officeDocument/2006/relationships/audio" Target="../media/glass.wav"/><Relationship Id="rId8" Type="http://schemas.openxmlformats.org/officeDocument/2006/relationships/audio" Target="../media/glass.wav"/><Relationship Id="rId9" Type="http://schemas.openxmlformats.org/officeDocument/2006/relationships/audio" Target="../media/glass.wav"/><Relationship Id="rId10" Type="http://schemas.openxmlformats.org/officeDocument/2006/relationships/audio" Target="../media/glass.wav"/><Relationship Id="rId11" Type="http://schemas.openxmlformats.org/officeDocument/2006/relationships/audio" Target="../media/glass.wav"/><Relationship Id="rId12" Type="http://schemas.openxmlformats.org/officeDocument/2006/relationships/audio" Target="../media/glass.wav"/><Relationship Id="rId13" Type="http://schemas.openxmlformats.org/officeDocument/2006/relationships/audio" Target="../media/glass.wav"/><Relationship Id="rId14" Type="http://schemas.openxmlformats.org/officeDocument/2006/relationships/audio" Target="../media/glass.wav"/><Relationship Id="rId1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image" Target="../media/image4.gif"/><Relationship Id="rId7" Type="http://schemas.openxmlformats.org/officeDocument/2006/relationships/audio" Target="../media/gunshot.wav"/><Relationship Id="rId8" Type="http://schemas.openxmlformats.org/officeDocument/2006/relationships/audio" Target="../media/applause.wav"/><Relationship Id="rId9" Type="http://schemas.openxmlformats.org/officeDocument/2006/relationships/audio" Target="../media/applause.wav"/><Relationship Id="rId10" Type="http://schemas.openxmlformats.org/officeDocument/2006/relationships/audio" Target="../media/applause.wav"/><Relationship Id="rId11" Type="http://schemas.openxmlformats.org/officeDocument/2006/relationships/audio" Target="../media/applause.wav"/><Relationship Id="rId12" Type="http://schemas.openxmlformats.org/officeDocument/2006/relationships/audio" Target="../media/applause.wav"/><Relationship Id="rId13" Type="http://schemas.openxmlformats.org/officeDocument/2006/relationships/audio" Target="../media/applause.wav"/><Relationship Id="rId14" Type="http://schemas.openxmlformats.org/officeDocument/2006/relationships/audio" Target="../media/applause.wav"/><Relationship Id="rId15" Type="http://schemas.openxmlformats.org/officeDocument/2006/relationships/audio" Target="../media/applause.wav"/><Relationship Id="rId16" Type="http://schemas.openxmlformats.org/officeDocument/2006/relationships/audio" Target="../media/applause.wav"/><Relationship Id="rId17" Type="http://schemas.openxmlformats.org/officeDocument/2006/relationships/audio" Target="../media/applause.wav"/><Relationship Id="rId18" Type="http://schemas.openxmlformats.org/officeDocument/2006/relationships/audio" Target="../media/applause.wav"/><Relationship Id="rId19" Type="http://schemas.openxmlformats.org/officeDocument/2006/relationships/audio" Target="../media/applause.wav"/><Relationship Id="rId20" Type="http://schemas.openxmlformats.org/officeDocument/2006/relationships/audio" Target="../media/applause.wav"/><Relationship Id="rId2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audio" Target="../media/ricochet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audio" Target="../media/carbrake.wav"/><Relationship Id="rId11" Type="http://schemas.openxmlformats.org/officeDocument/2006/relationships/audio" Target="../media/carbrake.wav"/><Relationship Id="rId12" Type="http://schemas.openxmlformats.org/officeDocument/2006/relationships/audio" Target="../media/carbrake.wav"/><Relationship Id="rId13" Type="http://schemas.openxmlformats.org/officeDocument/2006/relationships/audio" Target="../media/carbrake.wav"/><Relationship Id="rId14" Type="http://schemas.openxmlformats.org/officeDocument/2006/relationships/audio" Target="../media/carbrake.wav"/><Relationship Id="rId15" Type="http://schemas.openxmlformats.org/officeDocument/2006/relationships/audio" Target="../media/carbrake.wav"/><Relationship Id="rId16" Type="http://schemas.openxmlformats.org/officeDocument/2006/relationships/audio" Target="../media/carbrake.wav"/><Relationship Id="rId17" Type="http://schemas.openxmlformats.org/officeDocument/2006/relationships/audio" Target="../media/carbrake.wav"/><Relationship Id="rId18" Type="http://schemas.openxmlformats.org/officeDocument/2006/relationships/audio" Target="../media/carbrake.wav"/><Relationship Id="rId19" Type="http://schemas.openxmlformats.org/officeDocument/2006/relationships/audio" Target="../media/carbrake.wav"/><Relationship Id="rId2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-868680"/>
            <a:ext cx="6703920" cy="33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12574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cc"/>
                </a:solidFill>
                <a:uFillTx/>
                <a:latin typeface="Times New Roman"/>
              </a:rPr>
              <a:t>План –конспект урока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962520" y="3504960"/>
            <a:ext cx="36576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Тема: «Треугольник» 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класс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3429000"/>
            <a:ext cx="2590560" cy="914400"/>
          </a:xfrm>
          <a:prstGeom prst="rtTriangle">
            <a:avLst/>
          </a:prstGeom>
          <a:solidFill>
            <a:srgbClr val="0000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4800600"/>
            <a:ext cx="1752480" cy="1447920"/>
          </a:xfrm>
          <a:prstGeom prst="triangle">
            <a:avLst>
              <a:gd name="adj" fmla="val 50000"/>
            </a:avLst>
          </a:prstGeom>
          <a:solidFill>
            <a:srgbClr val="cc66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14800" y="4419720"/>
            <a:ext cx="3962520" cy="1676160"/>
          </a:xfrm>
          <a:prstGeom prst="rtTriangle">
            <a:avLst/>
          </a:prstGeom>
          <a:solidFill>
            <a:srgbClr val="0000ff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0" y="3962520"/>
            <a:ext cx="1219320" cy="129528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6669000"/>
            <a:ext cx="9144000" cy="189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940360" y="1268280"/>
            <a:ext cx="3203640" cy="11574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500"/>
                            </p:stCondLst>
                            <p:childTnLst>
                              <p:par>
                                <p:cTn id="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08000" y="0"/>
            <a:ext cx="5940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Закрепление материал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510552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Задача. Земельный участок треугольной формы имеет периметр 1750м. Одна из сторон равна 560м, другая – 780м. Вычислите третью сторону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95280" cy="12477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6095880" y="2743200"/>
            <a:ext cx="2057400" cy="3276720"/>
          </a:xfrm>
          <a:prstGeom prst="triangle">
            <a:avLst>
              <a:gd name="adj" fmla="val 50000"/>
            </a:avLst>
          </a:prstGeom>
          <a:solidFill>
            <a:srgbClr val="cc66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2484360" y="765000"/>
            <a:ext cx="5112000" cy="2222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6000"/>
                            </p:stCondLst>
                            <p:childTnLst>
                              <p:par>
                                <p:cTn id="42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08000" y="259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Задание на дом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495680" y="2514240"/>
            <a:ext cx="4114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п. 35 учебник Э.Р.Нурка и А.Э. Тельгмаа; дайте определение треугольника; решите задачи №№652, 631, 634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2590920"/>
            <a:ext cx="2743200" cy="3581280"/>
          </a:xfrm>
          <a:prstGeom prst="rtTriangle">
            <a:avLst/>
          </a:prstGeom>
          <a:solidFill>
            <a:srgbClr val="66ff33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2808000" cy="1432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8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6003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Подведение итогов 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              урока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280" y="990720"/>
            <a:ext cx="558036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                          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                     </a:t>
            </a:r>
            <a:r>
              <a:rPr b="0" lang="ru-RU" sz="2000" spc="-1" strike="noStrike">
                <a:solidFill>
                  <a:srgbClr val="eaeaea"/>
                </a:solidFill>
                <a:latin typeface="Arial Cyr"/>
              </a:rPr>
              <a:t> </a:t>
            </a:r>
            <a:r>
              <a:rPr b="0" lang="ru-RU" sz="3600" spc="-1" strike="noStrike">
                <a:solidFill>
                  <a:srgbClr val="eaeaea"/>
                </a:solidFill>
                <a:latin typeface="Arial Cyr"/>
              </a:rPr>
              <a:t>Оценка работы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 Cyr"/>
              </a:rPr>
              <a:t>               </a:t>
            </a:r>
            <a:r>
              <a:rPr b="0" lang="ru-RU" sz="3600" spc="-1" strike="noStrike">
                <a:solidFill>
                  <a:srgbClr val="eaeaea"/>
                </a:solidFill>
                <a:latin typeface="Arial Cyr"/>
              </a:rPr>
              <a:t>учащихся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                                             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Cyr"/>
              </a:rPr>
              <a:t>  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                         </a:t>
            </a:r>
            <a:r>
              <a:rPr b="0" lang="en-US" sz="2000" spc="-1" strike="noStrike">
                <a:solidFill>
                  <a:srgbClr val="eaeaea"/>
                </a:solidFill>
                <a:latin typeface="Arial Cyr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                                                     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666880" y="3352680"/>
            <a:ext cx="4953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3657600"/>
            <a:ext cx="7696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7524720" y="0"/>
            <a:ext cx="1371600" cy="13222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7391520" y="2819520"/>
            <a:ext cx="1143000" cy="3657600"/>
          </a:xfrm>
          <a:prstGeom prst="rtTriangle">
            <a:avLst/>
          </a:prstGeom>
          <a:solidFill>
            <a:srgbClr val="0000ff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2819520"/>
            <a:ext cx="1066680" cy="3581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3635280" y="4797360"/>
            <a:ext cx="2016360" cy="14446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500"/>
                            </p:stCondLst>
                            <p:childTnLst>
                              <p:par>
                                <p:cTn id="4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24000" y="765000"/>
            <a:ext cx="4524480" cy="75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Цель урока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1. Повторить чтение и измерение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углов,технику вычислительных навыков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2. Ввести понятие треугольника как геометрической фигуры.Выяснить условия возможности построения треугольника,т.е. Неравенство треугольника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3. Воспитывать логическое мышление через поисковые и проблемные ситуации; рационально расходовать время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4. Ввести линию развивающего, опережающего обучения на протяжении всего урока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380360" y="476280"/>
            <a:ext cx="1143000" cy="1101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6518160"/>
            <a:ext cx="9144000" cy="428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7331040" y="4005360"/>
            <a:ext cx="1812960" cy="17938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0" y="228240"/>
            <a:ext cx="59612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Ход урок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74674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                                  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« Числа –это боги»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                                                                 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Платон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1. Вводная часть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2. Устный сче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3. Проверка знаний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4. Изучение нового материал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5. Нахождение периметра геометрических    фигур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6. Закрепление материал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7. Задание на дом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8. Подведение итогов урока. Оценка работы учащихся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                   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948360" y="2778120"/>
            <a:ext cx="2195640" cy="2173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55640" y="228240"/>
            <a:ext cx="552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Вводная часть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одтвердите высказывание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ЛАТОН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ледующими примерами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1. Каждый человек начинает день с числа и использует его в течение всего дня. Например, 02.02.02 г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2.Сравните температуру воздуха предыдущего и сегодняшнего дня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</a:t>
            </a: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п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=-22*С,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=-15*C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, -22+7=-15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(Опережающее обучение-сложение чисел с разными знаками.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61320" y="3284640"/>
            <a:ext cx="2182680" cy="2395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95640" y="228600"/>
            <a:ext cx="5881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Устный счет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784872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1. Вычислите: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(420+180):10=60,        420+180:10=438,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4*(160-90)=280,           85*85=7225,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(-85)*(-85)=7225,         -85*85=-7225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2.Решите уравнения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а)Х*Х=64;                     б)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а*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=64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3.Назовите вид углов и определите величину неизвестных углов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  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           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146*     Р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 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?      50*                             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      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А             О                С     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   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?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O      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4.По раздвижной модели покажите угол:острый,тупой,прямой,развернутый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308720" y="260280"/>
            <a:ext cx="1447920" cy="13939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62120" y="4952880"/>
            <a:ext cx="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81680" y="4419720"/>
            <a:ext cx="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47640" y="5445000"/>
            <a:ext cx="2819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556000" y="4292280"/>
            <a:ext cx="985680" cy="11523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148360" y="4723920"/>
            <a:ext cx="2376360" cy="10810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5508360" y="4508280"/>
            <a:ext cx="1600200" cy="14475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6948360" y="1844640"/>
            <a:ext cx="1871640" cy="3995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0" y="6669000"/>
            <a:ext cx="9144000" cy="255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3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5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7000"/>
                            </p:stCondLst>
                            <p:childTnLst>
                              <p:par>
                                <p:cTn id="10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7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" dur="1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9000"/>
                            </p:stCondLst>
                            <p:childTnLst>
                              <p:par>
                                <p:cTn id="1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5" dur="10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" dur="10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" dur="1000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40000" y="151920"/>
            <a:ext cx="505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Проверка знаний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00400" y="1295280"/>
            <a:ext cx="45720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eaeaea"/>
                </a:solidFill>
                <a:latin typeface="Times New Roman"/>
              </a:rPr>
              <a:t>Самостоятельная работ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карточка1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1.Определите вид угла измерьте его величину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А              В              С                   О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       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2.Вычислите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&lt;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АОВ:                            Р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                                                         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?    30*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                                 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А             О               С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3.Вычислите 37*11+2035:5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Карточка2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Решите уравнения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435+Х=623;         Х-46=32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543-Х=128;          1521:Х=9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Х:37=14;              48*Х=240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308720" y="333360"/>
            <a:ext cx="1295640" cy="12477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34120" y="4267080"/>
            <a:ext cx="220968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705720" y="3657240"/>
            <a:ext cx="609480" cy="6094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4800600"/>
            <a:ext cx="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3657600"/>
            <a:ext cx="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38480" y="358128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038480" y="2971440"/>
            <a:ext cx="0" cy="6094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358128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4800240" y="3047760"/>
            <a:ext cx="228600" cy="5331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43600" y="3581280"/>
            <a:ext cx="6858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943600" y="2971440"/>
            <a:ext cx="0" cy="6094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05720" y="3581280"/>
            <a:ext cx="9144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50920" y="3357720"/>
            <a:ext cx="2166840" cy="24382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0" y="6669000"/>
            <a:ext cx="9144000" cy="189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8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500"/>
                            </p:stCondLst>
                            <p:childTnLst>
                              <p:par>
                                <p:cTn id="19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6000"/>
                            </p:stCondLst>
                            <p:childTnLst>
                              <p:par>
                                <p:cTn id="1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6500"/>
                            </p:stCondLst>
                            <p:childTnLst>
                              <p:par>
                                <p:cTn id="2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7000"/>
                            </p:stCondLst>
                            <p:childTnLst>
                              <p:par>
                                <p:cTn id="20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835280" y="151920"/>
            <a:ext cx="619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Изучение нового материала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315200" cy="739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«Геометрия-основа строительства»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1.Вводная часть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.(Межпредметная связь с историей.Необходимость  в жилье; строительство храмов, дворцов. Применение геометрических форм в строительстве, в моделях рисунка выкройки: косынки, фартука, сарафана.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Times New Roman"/>
              </a:rPr>
              <a:t>Наглядный материал: 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репродукции храмов, дворцов </a:t>
            </a: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XII-XIII 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вв.; составление рисунка из геометрических форм( треугольники, прямоугольники, квадраты, овалы); выкройки косынки, фартука, сарафана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2. Введение понятия треугольника и его элементов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3. Построение треугольника: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а) соедините три точки, не лежащие на одной прямой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б) соедините три точки, лежащие на одной прямой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4. Свойство сторон треугольника: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                 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а +</a:t>
            </a: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b&gt; c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Показать фрагмент диафильма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61722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3300"/>
                </a:solidFill>
                <a:uFillTx/>
                <a:latin typeface="Times New Roman"/>
                <a:hlinkClick r:id="rId1" action="ppaction://hlinksldjump"/>
              </a:rPr>
              <a:t>.</a:t>
            </a:r>
            <a:r>
              <a:rPr b="0" lang="en-US" sz="2000" spc="-1" strike="noStrike" u="sng">
                <a:solidFill>
                  <a:srgbClr val="eaeaea"/>
                </a:solidFill>
                <a:uFillTx/>
                <a:latin typeface="Times New Roman"/>
              </a:rPr>
              <a:t>                                      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6381720"/>
            <a:ext cx="9144000" cy="6271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443640" y="4797360"/>
            <a:ext cx="2305080" cy="1728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0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500"/>
                            </p:stCondLst>
                            <p:childTnLst>
                              <p:par>
                                <p:cTn id="2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000"/>
                            </p:stCondLst>
                            <p:childTnLst>
                              <p:par>
                                <p:cTn id="2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500"/>
                            </p:stCondLst>
                            <p:childTnLst>
                              <p:par>
                                <p:cTn id="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0"/>
                            </p:stCondLst>
                            <p:childTnLst>
                              <p:par>
                                <p:cTn id="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Определение вида треугольников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7848720" cy="52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Определите вид треугольника по углам и сторонам.                      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Используйте плакат с разными видами треугольников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а)                        б)                                        в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остроугольный                тупоугольный                  прямоугольный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                     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г)                                            д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                      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равносторонний                         равнобедренный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9320" y="6172200"/>
            <a:ext cx="83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3300"/>
                </a:solidFill>
                <a:uFillTx/>
                <a:latin typeface="Times New Roman"/>
                <a:hlinkClick r:id="rId2" action="ppaction://hlinksldjump"/>
              </a:rPr>
              <a:t>назад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Times New Roman"/>
                <a:hlinkClick r:id="rId3" action="ppaction://hlinksldjump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3809880"/>
            <a:ext cx="13716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56840" y="3048120"/>
            <a:ext cx="685800" cy="7617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048120"/>
            <a:ext cx="685800" cy="7617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843280" y="3809520"/>
            <a:ext cx="1347840" cy="507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2514240" y="2666880"/>
            <a:ext cx="328680" cy="11937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759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14600" y="2666880"/>
            <a:ext cx="1676520" cy="11430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410080" y="3715920"/>
            <a:ext cx="1754280" cy="176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410080" y="2590560"/>
            <a:ext cx="0" cy="11430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2590920"/>
            <a:ext cx="1752840" cy="11430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791320"/>
            <a:ext cx="152388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1599840" y="4724280"/>
            <a:ext cx="762120" cy="10670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362320" y="4724280"/>
            <a:ext cx="761760" cy="10670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4191120"/>
            <a:ext cx="761760" cy="16002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00600" y="5791320"/>
            <a:ext cx="152388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800240" y="4191120"/>
            <a:ext cx="762120" cy="16002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0" y="6669000"/>
            <a:ext cx="9144000" cy="189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7885080" y="4653000"/>
            <a:ext cx="1001880" cy="1871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6012000" y="0"/>
            <a:ext cx="3132000" cy="863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1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5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9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500"/>
                            </p:stCondLst>
                            <p:childTnLst>
                              <p:par>
                                <p:cTn id="30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3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7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3500"/>
                            </p:stCondLst>
                            <p:childTnLst>
                              <p:par>
                                <p:cTn id="30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1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4000"/>
                            </p:stCondLst>
                            <p:childTnLst>
                              <p:par>
                                <p:cTn id="3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5" dur="5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500"/>
                            </p:stCondLst>
                            <p:childTnLst>
                              <p:par>
                                <p:cTn id="31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9" dur="5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0"/>
                            </p:stCondLst>
                            <p:childTnLst>
                              <p:par>
                                <p:cTn id="32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3" dur="500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500"/>
                            </p:stCondLst>
                            <p:childTnLst>
                              <p:par>
                                <p:cTn id="3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7" dur="500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000"/>
                            </p:stCondLst>
                            <p:childTnLst>
                              <p:par>
                                <p:cTn id="32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1" dur="500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6500"/>
                            </p:stCondLst>
                            <p:childTnLst>
                              <p:par>
                                <p:cTn id="33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5" dur="500"/>
                                        <p:tgtEl>
                                          <p:spTgt spid="1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945880" y="228600"/>
            <a:ext cx="597564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Нахождение периметра геометрических фигур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1280" y="1523520"/>
            <a:ext cx="6780240" cy="449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53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aeaea"/>
                </a:solidFill>
                <a:latin typeface="Times New Roman"/>
              </a:rPr>
              <a:t>а) периметр прямоугольника;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aeaea"/>
                </a:solidFill>
                <a:latin typeface="Times New Roman"/>
              </a:rPr>
              <a:t>б) периметр квадрата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aeaea"/>
                </a:solidFill>
                <a:latin typeface="Times New Roman"/>
              </a:rPr>
              <a:t>в) периметр треугольника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Ученики делают вывод о нахождении периметра треугольника: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р = а +</a:t>
            </a:r>
            <a:r>
              <a:rPr b="0" i="1" lang="en-US" sz="1600" spc="-1" strike="noStrike">
                <a:solidFill>
                  <a:srgbClr val="eaeaea"/>
                </a:solidFill>
                <a:latin typeface="Times New Roman"/>
              </a:rPr>
              <a:t>b +c</a:t>
            </a: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,  - сумма длин всех сторон.                                                   1.Найдите периметр моделей треугольников ( из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математических конвертов)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2.Решение задач на периметр треугольника: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                  </a:t>
            </a: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х                  х                                                         7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                                                                        </a:t>
            </a: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                           </a:t>
            </a: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7                                                                    5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2                         4                                                 х                    х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                             </a:t>
            </a: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х                                                                    х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8080" y="2666880"/>
            <a:ext cx="6782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52480" y="1752480"/>
            <a:ext cx="5791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1889280"/>
            <a:ext cx="3368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81640" y="1889280"/>
            <a:ext cx="180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81640" y="1889280"/>
            <a:ext cx="180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3880" y="5486400"/>
            <a:ext cx="106704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523880" y="4648320"/>
            <a:ext cx="533520" cy="8380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4648320"/>
            <a:ext cx="533520" cy="8380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5486400"/>
            <a:ext cx="19051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343400" y="4648320"/>
            <a:ext cx="2362320" cy="8380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343400" y="4648320"/>
            <a:ext cx="457200" cy="8380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95280" y="6629400"/>
            <a:ext cx="23623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1295280" y="6095880"/>
            <a:ext cx="457200" cy="533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52480" y="6095880"/>
            <a:ext cx="1905120" cy="533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6629400"/>
            <a:ext cx="12193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257440" y="5791320"/>
            <a:ext cx="609480" cy="8380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5791320"/>
            <a:ext cx="609840" cy="8380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6095880"/>
            <a:ext cx="152280" cy="1526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6095880" y="6095880"/>
            <a:ext cx="152640" cy="1526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6858000"/>
            <a:ext cx="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867280" y="6553080"/>
            <a:ext cx="0" cy="76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7280" y="6477120"/>
            <a:ext cx="0" cy="2286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588000" y="234792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5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5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5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45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5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60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6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70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7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800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7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6T14:10:22Z</dcterms:created>
  <dc:creator>Торгашов Геннадий Ильич</dc:creator>
  <dc:description/>
  <dc:language>en-US</dc:language>
  <cp:lastModifiedBy>Пользователь</cp:lastModifiedBy>
  <dcterms:modified xsi:type="dcterms:W3CDTF">2012-01-08T09:36:03Z</dcterms:modified>
  <cp:revision>5</cp:revision>
  <dc:subject/>
  <dc:title>План –конспект урока.</dc:title>
</cp:coreProperties>
</file>