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gif" ContentType="image/gif"/>
  <Override PartName="/ppt/media/image16.gif" ContentType="image/gif"/>
  <Override PartName="/ppt/media/image12.wmf" ContentType="image/x-wmf"/>
  <Override PartName="/ppt/media/image17.gif" ContentType="image/gif"/>
  <Override PartName="/ppt/media/camera.wav" ContentType="audio/x-wav"/>
  <Override PartName="/ppt/media/image18.png" ContentType="image/png"/>
  <Override PartName="/ppt/media/type.wav" ContentType="audio/x-wav"/>
  <Override PartName="/ppt/media/image25.gif" ContentType="image/gif"/>
  <Override PartName="/ppt/media/image15.gif" ContentType="image/gif"/>
  <Override PartName="/ppt/media/explode.wav" ContentType="audio/x-wav"/>
  <Override PartName="/ppt/media/glass.wav" ContentType="audio/x-wav"/>
  <Override PartName="/ppt/media/applause.wav" ContentType="audio/x-wav"/>
  <Override PartName="/ppt/media/carbrake.wav" ContentType="audio/x-wav"/>
  <Override PartName="/ppt/media/image23.gif" ContentType="image/gif"/>
  <Override PartName="/ppt/media/gunshot.wav" ContentType="audio/x-wav"/>
  <Override PartName="/ppt/media/image24.gif" ContentType="image/gif"/>
  <Override PartName="/ppt/media/image22.gif" ContentType="image/gif"/>
  <Override PartName="/ppt/media/projctor.wav" ContentType="audio/x-wav"/>
  <Override PartName="/ppt/media/image8.gif" ContentType="image/gif"/>
  <Override PartName="/ppt/media/ricochet.wav" ContentType="audio/x-wav"/>
  <Override PartName="/ppt/media/image13.gif" ContentType="image/gif"/>
  <Override PartName="/ppt/media/clap.wav" ContentType="audio/x-wav"/>
  <Override PartName="/ppt/media/cashreg.wav" ContentType="audio/x-wav"/>
  <Override PartName="/ppt/media/image10.gif" ContentType="image/gif"/>
  <Override PartName="/ppt/media/image5.wmf" ContentType="image/x-wmf"/>
  <Override PartName="/ppt/media/laser.wav" ContentType="audio/x-wav"/>
  <Override PartName="/ppt/media/image9.gif" ContentType="image/gif"/>
  <Override PartName="/ppt/media/image26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7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4.gif" ContentType="image/gif"/>
  <Override PartName="/ppt/media/drumroll.wav" ContentType="audio/x-wav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7EC-3403-415B-B77A-3E9A0105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F6D-24A4-4112-89DD-C8045789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5F4-F19A-485E-BCFC-ECDDACF3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85B-47BC-46F2-A8EA-F7C22FA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75E4-49A1-41E8-B5B4-2BC498A7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3E3-1008-4CC4-B384-1217B11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232-2F7B-40C4-84FA-6C639A7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F76-0160-4089-A7FE-206EE5A7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A9C-0F76-49FA-8521-6A4F7E6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6CD4-DEB7-4833-B256-47C7C3C6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AE36-5E96-4E56-862F-C494745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003-5A55-445B-B3E3-DA73390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4654-19A9-47BB-8356-035FD76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41E-913F-41C7-9E9C-C7F73A6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470-CD63-4820-8D94-65F63A2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7931-43A7-4A77-9B55-48241F71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A32-B56A-4352-A33B-B1D4955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29B-2BD3-48D2-8B6B-4B54AC9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0BC-B376-405D-ABC3-6A9952D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AEA-77A0-4D4F-A76B-6E37D88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A55-E5E0-43A0-B465-9EBD231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093-2C99-413B-A06D-A4B607F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506-6327-421A-A608-081CB19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E74-FAB3-47F3-A135-A8299DE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EB2-F7F3-43FB-A590-87034D50C81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F270-3A7F-42E9-8F7E-88E500853B3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wmf"/><Relationship Id="rId3" Type="http://schemas.openxmlformats.org/officeDocument/2006/relationships/image" Target="../media/image26.gif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laser.wav"/><Relationship Id="rId5" Type="http://schemas.openxmlformats.org/officeDocument/2006/relationships/audio" Target="../media/glass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laser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audio" Target="../media/drumroll.wav"/><Relationship Id="rId6" Type="http://schemas.openxmlformats.org/officeDocument/2006/relationships/audio" Target="../media/clap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audio" Target="../media/clap.wav"/><Relationship Id="rId12" Type="http://schemas.openxmlformats.org/officeDocument/2006/relationships/audio" Target="../media/clap.wav"/><Relationship Id="rId13" Type="http://schemas.openxmlformats.org/officeDocument/2006/relationships/audio" Target="../media/clap.wav"/><Relationship Id="rId14" Type="http://schemas.openxmlformats.org/officeDocument/2006/relationships/audio" Target="../media/clap.wav"/><Relationship Id="rId15" Type="http://schemas.openxmlformats.org/officeDocument/2006/relationships/audio" Target="../media/clap.wav"/><Relationship Id="rId16" Type="http://schemas.openxmlformats.org/officeDocument/2006/relationships/audio" Target="../media/clap.wav"/><Relationship Id="rId17" Type="http://schemas.openxmlformats.org/officeDocument/2006/relationships/audio" Target="../media/clap.wav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audio" Target="../media/glas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drumroll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4.gif"/><Relationship Id="rId7" Type="http://schemas.openxmlformats.org/officeDocument/2006/relationships/audio" Target="../media/gunshot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audio" Target="../media/ricochet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carbrake.wav"/><Relationship Id="rId16" Type="http://schemas.openxmlformats.org/officeDocument/2006/relationships/audio" Target="../media/carbrake.wav"/><Relationship Id="rId17" Type="http://schemas.openxmlformats.org/officeDocument/2006/relationships/audio" Target="../media/carbrake.wav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868680"/>
            <a:ext cx="67039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2574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План –конспект урока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62520" y="35049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Тема: «Треугольник»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класс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429000"/>
            <a:ext cx="2590560" cy="91440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800600"/>
            <a:ext cx="1752480" cy="14479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419720"/>
            <a:ext cx="3962520" cy="167616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3962520"/>
            <a:ext cx="1219320" cy="129528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3203640" cy="11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940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51055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Задача. Земельный участок треугольной формы имеет периметр 1750м. Одна из сторон равна 560м, другая – 780м. Вычислите третью сторон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5880" y="2743200"/>
            <a:ext cx="2057400" cy="32767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484360" y="765000"/>
            <a:ext cx="5112000" cy="222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на дом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95680" y="25142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п. 35 учебник Э.Р.Нурка и А.Э. Тельгмаа; дайте определение треугольника; решите задачи №№652, 631, 634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590920"/>
            <a:ext cx="2743200" cy="3581280"/>
          </a:xfrm>
          <a:prstGeom prst="rtTriangle">
            <a:avLst/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280800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003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одведение итогов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          урока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990720"/>
            <a:ext cx="55803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</a:t>
            </a:r>
            <a:r>
              <a:rPr b="0" lang="ru-RU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Оценка работ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              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учащихс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  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</a:t>
            </a: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352680"/>
            <a:ext cx="495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65760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391520" y="2819520"/>
            <a:ext cx="1143000" cy="365760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1066680" cy="3581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0163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4000" y="765000"/>
            <a:ext cx="452448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Цель урок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1. Повторить чтение и измерени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углов,технику вычислительных навы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2. Ввести понятие треугольника как геометрической фигуры.Выяснить условия возможности построения треугольника,т.е. Неравенство треугольни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3. Воспитывать логическое мышление через поисковые и проблемные ситуации; рационально расходовать врем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4. Ввести линию развивающего, опережающего обучения на протяжении всего ур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143000" cy="110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51816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31040" y="4005360"/>
            <a:ext cx="181296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5961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 Числа –это боги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лат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1. Вводная част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2. Устный сч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3. Проверка зна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4. Изучение нового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5. Нахождение периметра геометрических    фигу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6. Закрепление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7. Задание на до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8. Подведение итогов урока. Оценка работы учащих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2778120"/>
            <a:ext cx="2195640" cy="217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5640" y="228240"/>
            <a:ext cx="552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Вводная ча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дтвердите высказывание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ТОН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ледующими пример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Каждый человек начинает день с числа и использует его в течение всего дня. Например, 02.02.02 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Сравните температуру воздуха предыдущего и сегодняшнего дн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=-22*С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-15*C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-22+7=-15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Опережающее обучение-сложение чисел с разными знаками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61320" y="3284640"/>
            <a:ext cx="2182680" cy="239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58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Устный сче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Вычислите: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420+180):10=60,        420+180:10=438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*(160-90)=280,           85*85=7225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-85)*(-85)=7225,         -85*85=-7225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Решите уравнени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)Х*Х=64;                     б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=6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Назовите вид углов и определите величину неизвестных углов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46*     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      50*                            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             О                С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O     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.По раздвижной модели покажите угол:острый,тупой,прямой,развернутый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447920" cy="1393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49528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419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445000"/>
            <a:ext cx="2819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6000" y="4292280"/>
            <a:ext cx="985680" cy="1152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48360" y="4723920"/>
            <a:ext cx="2376360" cy="108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508360" y="4508280"/>
            <a:ext cx="160020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1871640" cy="39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40000" y="151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оверка зна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04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1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.Определите вид угла измерьте его величин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 В              С                   О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Вычислите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&lt;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ОВ:                            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?    30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О               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Вычислите 37*11+2035:5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ешите уравнения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35+Х=623;         Х-46=3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43-Х=128;          1521:Х=9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:37=14;              48*Х=240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95640" cy="124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4120" y="4267080"/>
            <a:ext cx="2209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05720" y="3657240"/>
            <a:ext cx="60948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4800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657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3848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3047760"/>
            <a:ext cx="228600" cy="533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94360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81280"/>
            <a:ext cx="914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166840" cy="243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19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зучение нового материал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31520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«Геометрия-основа строительства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1.Вводная часть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(Межпредметная связь с историей.Необходимость  в жилье; строительство храмов, дворцов. Применение геометрических форм в строительстве, в моделях рисунка выкройки: косынки, фартука, сарафана.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Наглядный материал: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репродукции храмов, дворцов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II-XIII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в.; составление рисунка из геометрических форм( треугольники, прямоугольники, квадраты, овалы); выкройки косынки, фартука, сарафан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2. Введение понятия треугольника и его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3. Построение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) соедините три точки, не лежащие на одной прямо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б) соедините три точки, лежащие на одной прямо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4. Свойство сторон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 +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&gt; c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оказать фрагмент диафильм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1722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.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627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пределение вида треугольников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8487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пределите вид треугольника по углам и сторонам.          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Используйте плакат с разными видами треугольников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а)                        б)                                        в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строугольный                тупоугольный                  прямоуголь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г)                                            д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равносторонний                         равнобедрен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9320" y="6172200"/>
            <a:ext cx="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809880"/>
            <a:ext cx="13716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684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43280" y="3809520"/>
            <a:ext cx="1347840" cy="50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514240" y="2666880"/>
            <a:ext cx="328680" cy="1193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75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666880"/>
            <a:ext cx="167652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715920"/>
            <a:ext cx="1754280" cy="17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10080" y="2590560"/>
            <a:ext cx="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590920"/>
            <a:ext cx="175284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599840" y="4724280"/>
            <a:ext cx="76212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4724280"/>
            <a:ext cx="76176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191120"/>
            <a:ext cx="76176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240" y="4191120"/>
            <a:ext cx="76212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885080" y="4653000"/>
            <a:ext cx="1001880" cy="187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45880" y="228600"/>
            <a:ext cx="59756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ахождение периметра геометрических фигу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678024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а) периметр прямоугольника;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б) периметр квадрат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в) периметр треугольник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Ученики делают вывод о нахождении периметра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р = а +</a:t>
            </a:r>
            <a:r>
              <a:rPr b="0" i="1" lang="en-US" sz="1600" spc="-1" strike="noStrike">
                <a:solidFill>
                  <a:srgbClr val="eaeaea"/>
                </a:solidFill>
                <a:latin typeface="Times New Roman"/>
              </a:rPr>
              <a:t>b +c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,  - сумма длин всех сторон.                                                   1.Найдите периметр моделей треугольников ( из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математических конвертов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.Решение задач на периметр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х                                                         7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7                                                                    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                         4                                                 х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                              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666880"/>
            <a:ext cx="678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75248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889280"/>
            <a:ext cx="336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86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5486400"/>
            <a:ext cx="19051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648320"/>
            <a:ext cx="23623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648320"/>
            <a:ext cx="45720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629400"/>
            <a:ext cx="2362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95280" y="6095880"/>
            <a:ext cx="45720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6095880"/>
            <a:ext cx="190512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629400"/>
            <a:ext cx="1219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57440" y="5791320"/>
            <a:ext cx="60948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791320"/>
            <a:ext cx="60984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095880"/>
            <a:ext cx="15228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95880" y="6095880"/>
            <a:ext cx="15264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6858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67280" y="65530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64771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588000" y="234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4:10:22Z</dcterms:created>
  <dc:creator>Торгашов Геннадий Ильич</dc:creator>
  <dc:description/>
  <dc:language>en-US</dc:language>
  <cp:lastModifiedBy>Пользователь</cp:lastModifiedBy>
  <dcterms:modified xsi:type="dcterms:W3CDTF">2012-01-08T09:36:03Z</dcterms:modified>
  <cp:revision>5</cp:revision>
  <dc:subject/>
  <dc:title>План –конспект урока.</dc:title>
</cp:coreProperties>
</file>