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13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C6E-944F-444A-B59D-8F165D679C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67E5-65E9-4416-B539-98157210E3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F6A-FE3D-4C0F-98B2-A4A71C55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952-63EC-422F-9ACA-2C472231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F3E-954E-4B82-8126-CB8CF7C2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B33-FC30-4CAE-A3E3-EB584784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FF04-3785-4DB5-8604-8B1E072A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2EB3-58F6-41A5-856E-6DAA6B6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BCF5-A7DF-44EC-B2A4-CE917C82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6DC5-8ED2-4CA9-BF4D-608AE8F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00E4-E710-4996-87E5-637F82DB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C3DA-1EA4-4600-BAC7-9E5751D4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7F4-F5E6-45EF-AC80-2B35772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26B-A219-441F-899E-04C278A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846-2C8D-4758-8F3C-3A9B1B4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5864-9032-4499-8B8A-C93586D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162-4641-4972-B01D-6B3530B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A351-E72D-43B3-9343-C6EE7B05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1BCC-CAFF-4F49-AB6A-10B3FBBB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87EE-63D2-4B2E-8C25-9A6B7AD2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273F-F209-4775-8F0C-22EAAE5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84B9-037C-43EF-8B67-F1B9B5C5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1AA4-10BF-4D2E-B3A7-949F64E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1311-DB8D-4450-9F6E-6C29922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8C9-1478-4D6F-8D79-1318F08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04AA-E77E-4C4D-AC9C-5F36E662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0366-C48B-44EC-9261-ED333F2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761E-796F-4A58-BE87-26E6984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8EB7-6557-4F12-B264-6948202C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0831-28F0-4787-AB3C-052313F4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44B2-1CE5-4C98-81F1-8E912641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4D17-8D14-4B6A-9ECD-79DA6F9B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6C661-66B0-4770-B889-67523A62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B7BC-9507-4606-90C1-39FDB59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82AF-66BB-4E34-A119-F3884A5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94E-B72F-44BD-BCAA-B2AA447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3BEFB-9903-407A-883A-E2295D0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29069-13BA-49BC-9D28-9F61A9F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92C5-F8A9-4F33-A4E4-62AC2567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B1DC-D024-4CDC-81A5-5CF4CF8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3813-FF44-4C5C-A28E-39A1DED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40DD-C07A-45B0-8495-87CD4B2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C43F-293D-4140-8ED6-1EE2DC48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CA63-0D3A-4438-B8E9-0F44F657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C451-3303-4F88-BFD8-48508449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CA5ED-2529-4D4F-8683-7146A092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D9F-C748-4876-BA4A-B9212BB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B78E-36F9-4B3C-9298-957BB4F4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A4B0-A17C-43F9-9B4A-3E06B0B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6042-DCBF-426A-A4A3-BC54501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B7DE-C3B2-4EDE-B68B-FAB0D08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1F09-DD41-4F89-92D7-0B62FB08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AA6D0-014E-47C8-80CE-B01EB65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21993-DF04-46E7-A560-16D6574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BB1B-3E42-4F55-BC12-9BE90E7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A78B-DD0D-42B7-99AC-B77861A3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EEE8-EB1C-44B0-A511-AC124E38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074-ADDD-4B30-BC39-6FFF6F4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D0FF1-A5B5-4069-A9F1-418BB85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4E452-4796-400F-870D-6A9D9A74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108D-3872-4FD0-B48E-00DCCD1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EED9-528B-444C-AA6B-5BF40EC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0FC1-0093-4B6E-A94E-924FA692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056FD-6096-491C-A98A-F3AC7072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55E1-B864-413A-97FF-5EC4F90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4822-AE08-41F1-9C75-73D0F91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EF2A-E065-4625-ACA9-D3612AB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28C30-AA76-4683-A418-3E03F40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DFB-1C12-4D48-87C0-6800749F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0FE6-999B-42F5-99E2-FC84A3B1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DF0EB-56FF-45D2-B9DF-8AC4152C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A821-01D7-422D-A6E7-A0A7CD29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B454-6BD5-48CD-A1D1-4F9F0170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297F-459E-47F2-A110-EC314E84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0148-63D1-401E-9C2F-D008DDC2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BB12-6DCE-4827-8C45-C2DDD4C4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7F25-A33D-40C0-AD77-6144079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1E420-2C81-4437-820E-AA9A2F0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815F-755E-4E68-896B-48A4034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B30-8397-418B-9152-AAD8F80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7D24-F0C8-440A-AD4F-6872435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11D0-8354-4632-BAF0-E8D7D16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1228-2D99-487F-A90B-AC2E29CD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AF24-246F-4CCD-9C28-A6669810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BD42-7C4B-4205-B183-57B7674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3FB04-8E99-426B-A20C-DAE3728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FD6A-4686-40C6-8EDE-21D04B7D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107B-07E5-4B78-8C36-DFFFCC1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4B050-168E-4901-9AEA-D411F86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7D97-5A91-4E37-BF47-E1A4BFC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2E3-5B32-475B-8DC1-FF9099F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2B98-AD93-424F-8204-E4B51FB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DFBB-00B2-41BB-9B36-3F99E99F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56DF-7077-4318-A896-43E834E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A7CC-616E-4B4C-B25E-53DCE8F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E04B-BC9B-4EC4-B804-A001F91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C6B06-7A95-4661-AC9F-1904198D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FCF51-D894-438E-B83E-8A49A056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E80-9DFE-463B-9275-1D38C39E66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27A3-F1DE-4ED9-86C3-8BAF6ECB58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5DF0-D752-432C-BA18-F221F31354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BCD-CF05-44BA-B779-A1B7B1F4D1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3AD6-6106-4DA6-B26B-D30AAB63E2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49B-F9C6-4412-B493-28A3D8F3FD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B268-7776-435B-BAE0-798339CDD4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22AB-CE9C-470E-834D-D2A21799C2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360" y="2599920"/>
            <a:ext cx="426240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АЙОННОГО  МО  ЯКИМЧУК Г.В., УЧИТЕЛЬ ВЫСШЕЙ КВАЛИФИКАЦИОННОЙ КАТЕГОРИИ 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 15»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77960" y="62028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тодический совет по тем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«Повышение качества знаний учащихся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Интерес к учению проявляется только тогда, когда есть вдохновение, рождающееся от успеха»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Сухомлинский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Picture 5" descr="00036097"/>
          <p:cNvPicPr/>
          <p:nvPr/>
        </p:nvPicPr>
        <p:blipFill>
          <a:blip r:embed="rId1"/>
          <a:stretch/>
        </p:blipFill>
        <p:spPr>
          <a:xfrm>
            <a:off x="5429160" y="3214800"/>
            <a:ext cx="312264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7b7c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Одной из форм работы учителей математики, которые приводят к повышению качества знаний наших учащихся-  это анализ результатов   контроля знаний, с целью коррекции содержания образования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Проводился предварительный контроль готовности к итоговой  аттестации выпускников основной  и  средней школы в виде тренировки экзаменов по  математике в 9 и 11 классах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;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отслеживание динамики обученности учащихся, коррекция деятельности учителя и учеников для предупреждения неуспеваемости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Были выявлены группы риска, в которые вошли учащиеся получившие «2» по результатам пробных  экзаменов, составлены индивидуальные  маршруты ликвидации пробелов знан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573" descr="Рисунок5"/>
          <p:cNvPicPr/>
          <p:nvPr/>
        </p:nvPicPr>
        <p:blipFill>
          <a:blip r:embed="rId1"/>
          <a:stretch/>
        </p:blipFill>
        <p:spPr>
          <a:xfrm>
            <a:off x="142920" y="1500120"/>
            <a:ext cx="1353960" cy="2071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иаграмма выполнения заданий В в ходе репетиционных экзаменов по математик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Picture 24" descr="Рисунок7"/>
          <p:cNvPicPr/>
          <p:nvPr/>
        </p:nvPicPr>
        <p:blipFill>
          <a:blip r:embed="rId1"/>
          <a:stretch/>
        </p:blipFill>
        <p:spPr>
          <a:xfrm>
            <a:off x="0" y="1433520"/>
            <a:ext cx="2592360" cy="320976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8282160" cy="49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600" y="1523880"/>
            <a:ext cx="69231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Улучшения качества образования через использование инновационных технологий , основная цель которых стимулирование познавательной деятельности старшеклассников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Балльно – рейтинговая технология в оценивании достижений старшеклассни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3" descr="Рисунок12"/>
          <p:cNvPicPr/>
          <p:nvPr/>
        </p:nvPicPr>
        <p:blipFill>
          <a:blip r:embed="rId1"/>
          <a:stretch/>
        </p:blipFill>
        <p:spPr>
          <a:xfrm>
            <a:off x="0" y="1428840"/>
            <a:ext cx="177948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ВИДЫ КОНТРОЛЯ И КРИТЕРИИ ОЦЕНКИ.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116000" y="1268280"/>
          <a:ext cx="7313760" cy="5241960"/>
        </p:xfrm>
        <a:graphic>
          <a:graphicData uri="http://schemas.openxmlformats.org/drawingml/2006/table">
            <a:tbl>
              <a:tblPr/>
              <a:tblGrid>
                <a:gridCol w="2100240"/>
                <a:gridCol w="3843360"/>
                <a:gridCol w="137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рвый уровень(Репродуктив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устный 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к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шение несложных зада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верно выполненное задание 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работа учащегося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бучающей самостоя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торо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менение знаний по образц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бучающ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ый тест по домашнему зад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ая правильная задача 2 бал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Трети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вень промежуточного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Четвертый уров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ворческий уров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лан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ополнительной литературы и 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ое примен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самостоятельного изучения 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 сложных заданий, предложенных в контрольной рабо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в групп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на конкретные дости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личностному росту и приобретению новых зн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40 бал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езентацией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оектом 2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роекта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5" descr="Рисунок17"/>
          <p:cNvPicPr/>
          <p:nvPr/>
        </p:nvPicPr>
        <p:blipFill>
          <a:blip r:embed="rId1"/>
          <a:stretch/>
        </p:blipFill>
        <p:spPr>
          <a:xfrm>
            <a:off x="6072120" y="0"/>
            <a:ext cx="16430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9520" y="642960"/>
            <a:ext cx="7764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2000"/>
          </a:bodyPr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Corbel"/>
              </a:rPr>
              <a:t>10 класс. 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загружайте ученика домашними заданиями, и так есть о чем думат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Создать хорошую атмосферу на уроке. Интересно строить план уро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В первую очередь заинтересовать любого учени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кричать, не отвлекаться на поведение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нять ученика. Индивидуальная работ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ерять только то, чему научила, а не о чем догадались, додумалис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ходить к своей работе с оптимистической точки зрения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говорить с учеником. Позвонить родителям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одить дополнительные консультаци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обращать внимания на форму, а лучше объяснять материал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сле объяснения должна быть самост. работа для закрепления знаний, а не для оценк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Если ученик не понял – объясняй индивидуально, он не виноват. Сама так объяснил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робнее останавливаться на темах, которые будут в ЕГЭ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Объяснять МНЕ МОИ ошибки, а не всего класса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1714680" y="0"/>
            <a:ext cx="70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КАКИЕ ДЕЙСТВИЯ ДОЛЖЕН ПРЕДПРИНЯТЬ УЧИТЕЛЬ, ЧТОБЫ ТВОЕ КАЧЕСТВО ЗНАНИЙ, ТВОИ ОЦЕНКИ СТАЛИ ЛУЧШЕ?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1" name="Picture 5" descr="Рисунок10"/>
          <p:cNvPicPr/>
          <p:nvPr/>
        </p:nvPicPr>
        <p:blipFill>
          <a:blip r:embed="rId1"/>
          <a:stretch/>
        </p:blipFill>
        <p:spPr>
          <a:xfrm>
            <a:off x="-214200" y="3714840"/>
            <a:ext cx="1828800" cy="2857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Рисунок8"/>
          <p:cNvPicPr/>
          <p:nvPr/>
        </p:nvPicPr>
        <p:blipFill>
          <a:blip r:embed="rId2"/>
          <a:stretch/>
        </p:blipFill>
        <p:spPr>
          <a:xfrm>
            <a:off x="0" y="1557360"/>
            <a:ext cx="1638360" cy="180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Corbel"/>
              </a:rPr>
              <a:t>Какие действия должен предпринять лично ты сам, чтобы твое качество знаний, твои оценки стали лучше</a:t>
            </a:r>
            <a:r>
              <a:rPr b="1" lang="ru-RU" sz="3900" spc="-1" strike="noStrike">
                <a:solidFill>
                  <a:srgbClr val="c32d2e"/>
                </a:solidFill>
                <a:latin typeface="Corbel"/>
              </a:rPr>
              <a:t>?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10 класс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заинтересованным в предмет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Внимательно слушать, думать. Присутствовать на уроках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Относиться ответственно. Подавить лень. Взяться за у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целеустремленным. Работать над собой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Учить правила, формулы, темы. Читать, практиковаться, вникать в сут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Репетитор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Рисунок12"/>
          <p:cNvPicPr/>
          <p:nvPr/>
        </p:nvPicPr>
        <p:blipFill>
          <a:blip r:embed="rId1"/>
          <a:stretch/>
        </p:blipFill>
        <p:spPr>
          <a:xfrm>
            <a:off x="-25560" y="1000080"/>
            <a:ext cx="1525680" cy="12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Рисунок1"/>
          <p:cNvPicPr/>
          <p:nvPr/>
        </p:nvPicPr>
        <p:blipFill>
          <a:blip r:embed="rId2"/>
          <a:stretch/>
        </p:blipFill>
        <p:spPr>
          <a:xfrm>
            <a:off x="0" y="4286160"/>
            <a:ext cx="1359000" cy="2100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6851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т желания учителя или желания ученика в большей степени зависит качество знаний учащихся? </a:t>
            </a:r>
            <a:br>
              <a:rPr sz="28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Можно подвести коня к водопою, но нельзя заставить коня пить; от желания ученика зависит в основном зависит качество знаний учащихся, но если учитель не заинтересован в хорошем уровне знаний, а ученику не даны способности от природы, знаний не буд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5" descr="Рисунок10"/>
          <p:cNvPicPr/>
          <p:nvPr/>
        </p:nvPicPr>
        <p:blipFill>
          <a:blip r:embed="rId1"/>
          <a:stretch/>
        </p:blipFill>
        <p:spPr>
          <a:xfrm>
            <a:off x="6715080" y="4768920"/>
            <a:ext cx="1428840" cy="17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09:56Z</dcterms:created>
  <dc:creator>Bill Gates</dc:creator>
  <dc:description/>
  <dc:language>en-US</dc:language>
  <cp:lastModifiedBy>Bill Gates</cp:lastModifiedBy>
  <cp:lastPrinted>2011-09-17T11:02:44Z</cp:lastPrinted>
  <dcterms:modified xsi:type="dcterms:W3CDTF">2011-09-27T16:55:48Z</dcterms:modified>
  <cp:revision>25</cp:revision>
  <dc:subject/>
  <dc:title>Слайд 1</dc:title>
</cp:coreProperties>
</file>