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7.gif" ContentType="image/gif"/>
  <Override PartName="/ppt/media/image12.gif" ContentType="image/gif"/>
  <Override PartName="/ppt/media/image8.wmf" ContentType="image/x-wmf"/>
  <Override PartName="/ppt/media/image10.gif" ContentType="image/gif"/>
  <Override PartName="/ppt/media/image13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ftr" idx="2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 type="sldNum" idx="2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416F-A15F-43C8-97AF-B345DC5AF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706F-70E2-44FD-A16E-2E30981EC4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13F-AF94-41FC-B6D2-D678501B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4E7-DEB6-45F8-82F3-C82301FA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48C-D8D8-46D0-8E87-F6E37F41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327-E073-4DEA-A015-2894C96E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1CD-4983-4778-9D8A-63F3BDB6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5AD1-62D9-4927-871D-9A464F6C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39E-4C79-4DDB-AD59-F55655C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A04-179E-4B10-BEF9-0E9CC7D8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FF51-8FC3-4BF4-997D-DBEBF24B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D9FF-694F-4454-9746-B0668CED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C42F-DED0-4FB9-935A-66932E8E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8B2D-B6A9-4AC9-BE0B-27B558CA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56B2-86C9-4778-9714-44AA4667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A875-BD7E-4AC4-B360-5A2808D7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B7E5-4DD5-4DF9-BDE5-98D2BBE0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36A-8FFB-44A4-BC16-174DC20A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99A8-842D-4517-8C8A-51FBA1A6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4DF40-2105-429C-A15A-5D809C05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2D92-FCE0-42E5-A482-819961E4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62E5-060D-4E51-B907-EE1E4D17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2533-9B24-46C3-89BA-BD16AD2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D0A4-7CB0-4934-8402-2B92FD82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473-69D4-4ACE-A471-47395518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9746-8B2E-4BC3-AEA9-45537499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4A76-7205-470B-90DF-ED66024A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333B-2994-498F-92BA-BD5FBBD6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0CE4-A5C3-41CA-8779-AECC8EF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F1E8-2328-4AA0-A582-7E0E73D8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1124B-EBC5-4F4F-A2F6-1F021A4C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2F8D-4140-4B35-B7D3-B59D8458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6A52-3B08-47E3-8BDD-01000CB0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B7CB-90DB-4C52-A47E-0D16DA9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3559-9310-456B-9459-DB87E737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BF0-0B5C-4892-B190-EF383BC2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FA70-C1A0-447C-8CB0-D45792A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CE25-63AD-4663-82F5-CDDC923C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3FAA5-106C-4942-9B0B-B43385DE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57B5-CE61-4DF4-8C0C-55BF0621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4265-DA08-4E81-BE82-8B6193D5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CE192-54F9-44C1-B6D2-5FA62F9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DBD05-70E5-4DE3-81BB-79601B31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042BC-233E-4DFC-B59C-3BCACE03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10145-69BE-4EEF-A00E-2545300D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7F1C0-EFFF-464F-A435-078AE8CC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D28-0818-4B2B-AECA-119830B7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6E11-EEB6-40B4-9592-1299234A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1CB21-ABA3-4383-B065-BD10B9E1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307E0-811E-44A4-BD88-EA9B0E31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D1E6C-37AD-492C-83CF-D4D7480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561A-8909-4C10-8A1E-A0ECF081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2BD0-77E1-4B07-801C-843B8EB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54A80-11AE-42AE-A03F-4623ED2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562A-6C12-484D-83BF-04624A8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35C9-E04E-4757-A843-E46A932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0224-4123-4EDF-B4CD-7B67AB53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842-70ED-41BB-A7E9-CBAD1FF5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7B4F-853A-431B-82C0-06DA0FA8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271F-F387-4036-8F03-06577C40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FBB24-CCB6-42CB-BD01-2245C23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94BAF-85EB-46B6-B7F4-34863F27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1AAF0-7D44-45A1-89BE-E10A118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F077-D010-4BF7-8559-8A5093E6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B8B9-7460-496B-927B-0E1F51ED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5A7B-B507-4E28-B25D-B56DD3F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CB5C-7342-4F59-BB06-2E2458C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6AFBA-6D26-46F4-B40C-BD9314B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C1A-5803-44E7-B743-0829C37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F2FC-48B5-4041-B810-63B2D922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ADD9-7074-4C99-9DEF-FD05CFAB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D7C1C-DCA5-46CC-8192-C1B035B3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3AF9-175C-4E81-BF33-B404AB9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E3ED6-A1A9-4057-AF7C-2B78B37A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F182-F58A-4EB8-94CA-B8225B22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54033-DC67-4D6F-BB29-2D47380B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9A617-96E8-4E06-BB3A-B7E1BCFC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371D2-C5E5-4D26-B179-9EED8BBE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E5D7-238F-4A19-869A-8A97916C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824-C1B5-4F8F-94B9-AE97877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E0F43-DAA0-4319-A5E4-3AD45B8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BC005-DEA6-4AF4-A519-01F195F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6BBE1-F73C-48B8-92A5-38388933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278E-3658-4442-9AC9-3CA7BE11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45254-44CD-42E7-9264-C8478EBF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14DF-D8A3-4C8F-B4FC-E769C600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6391E-89CC-44E5-A54F-86E576C8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5047B-81F1-4274-8FF6-3BAA734C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B61CA-F227-49E1-9EB5-843235A7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404F-D2BC-49BB-8D25-5548FEB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FB6-9EE8-4C47-A8B5-0F9E9723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6B48-3BE7-40F2-9C8C-43CB86E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5F63-7F29-4FC2-9ECF-4050FC7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43A80-795B-49FB-A3CC-FEA8A89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93EC-5158-4FD5-BC3E-E6857DE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FF30-624B-422E-8986-C1A09B3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86CC-A29B-4CCF-90A6-984C4CB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2144E-30E9-4D86-A420-926F3A65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332-FE79-4956-A4BE-9254E5CD80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0F3C-373C-4882-B7B5-B0252F1F87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A29-A8AB-443D-8F40-3D4FB85B9A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E1AF-9095-493B-922F-F330CE817A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F2B1-A212-4B88-94A9-88816B78950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52E5-DF58-419F-952A-459409C9E5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D56D-CA1A-4450-BD2A-817A33287EB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76AC-9D08-4239-83B7-2B95AA45C5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360" y="2599920"/>
            <a:ext cx="4262400" cy="31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 ПОДГОТОВИЛ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РАЙОННОГО  МО  ЯКИМЧУК Г.В., УЧИТЕЛЬ ВЫСШЕЙ КВАЛИФИКАЦИОННОЙ КАТЕГОРИИ </a:t>
            </a: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 15»</a:t>
            </a:r>
            <a:br>
              <a:rPr sz="1100"/>
            </a:b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77960" y="620280"/>
            <a:ext cx="64008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тодический совет по тем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«Повышение качества знаний учащихся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7640" indent="0" algn="ctr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Интерес к учению проявляется только тогда, когда есть вдохновение, рождающееся от успеха»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Сухомлинский</a:t>
            </a:r>
            <a:br>
              <a:rPr sz="4400"/>
            </a:b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6" name="Picture 5" descr="00036097"/>
          <p:cNvPicPr/>
          <p:nvPr/>
        </p:nvPicPr>
        <p:blipFill>
          <a:blip r:embed="rId1"/>
          <a:stretch/>
        </p:blipFill>
        <p:spPr>
          <a:xfrm>
            <a:off x="5429160" y="3214800"/>
            <a:ext cx="3122640" cy="3468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17b7c"/>
                </a:solidFill>
                <a:latin typeface="Corbel"/>
              </a:rPr>
              <a:t>Формы работ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6d7d"/>
                </a:solidFill>
                <a:latin typeface="Corbel"/>
              </a:rPr>
              <a:t> 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Одной из форм работы учителей математики, которые приводят к повышению качества знаний наших учащихся-  это анализ результатов   контроля знаний, с целью коррекции содержания образования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Проводился предварительный контроль готовности к итоговой  аттестации выпускников основной  и  средней школы в виде тренировки экзаменов по  математике в 9 и 11 классах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;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отслеживание динамики обученности учащихся, коррекция деятельности учителя и учеников для предупреждения неуспеваемости</a:t>
            </a:r>
            <a:r>
              <a:rPr b="1" lang="en-US" sz="2000" spc="-1" strike="noStrike">
                <a:solidFill>
                  <a:srgbClr val="2a6d7d"/>
                </a:solidFill>
                <a:latin typeface="Gill Sans MT"/>
              </a:rPr>
              <a:t>.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  </a:t>
            </a:r>
            <a:r>
              <a:rPr b="1" lang="ru-RU" sz="2000" spc="-1" strike="noStrike">
                <a:solidFill>
                  <a:srgbClr val="2a6d7d"/>
                </a:solidFill>
                <a:latin typeface="Corbel"/>
              </a:rPr>
              <a:t>Были выявлены группы риска, в которые вошли учащиеся получившие «2» по результатам пробных  экзаменов, составлены индивидуальные  маршруты ликвидации пробелов знани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573" descr="Рисунок5"/>
          <p:cNvPicPr/>
          <p:nvPr/>
        </p:nvPicPr>
        <p:blipFill>
          <a:blip r:embed="rId1"/>
          <a:stretch/>
        </p:blipFill>
        <p:spPr>
          <a:xfrm>
            <a:off x="142920" y="1500120"/>
            <a:ext cx="1353960" cy="2071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Диаграмма выполнения заданий В в ходе репетиционных экзаменов по математик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Picture 24" descr="Рисунок7"/>
          <p:cNvPicPr/>
          <p:nvPr/>
        </p:nvPicPr>
        <p:blipFill>
          <a:blip r:embed="rId1"/>
          <a:stretch/>
        </p:blipFill>
        <p:spPr>
          <a:xfrm>
            <a:off x="0" y="1433520"/>
            <a:ext cx="2592360" cy="320976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5" descr=""/>
          <p:cNvPicPr/>
          <p:nvPr/>
        </p:nvPicPr>
        <p:blipFill>
          <a:blip r:embed="rId2"/>
          <a:stretch/>
        </p:blipFill>
        <p:spPr>
          <a:xfrm>
            <a:off x="500040" y="1571760"/>
            <a:ext cx="8282160" cy="4929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Формы работы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600" y="1523880"/>
            <a:ext cx="69231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Улучшения качества образования через использование инновационных технологий , основная цель которых стимулирование познавательной деятельности старшеклассников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Информационные технолог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2a6d7d"/>
                </a:solidFill>
                <a:latin typeface="Corbel"/>
              </a:rPr>
              <a:t>Балльно – рейтинговая технология в оценивании достижений старшеклассник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3" descr="Рисунок12"/>
          <p:cNvPicPr/>
          <p:nvPr/>
        </p:nvPicPr>
        <p:blipFill>
          <a:blip r:embed="rId1"/>
          <a:stretch/>
        </p:blipFill>
        <p:spPr>
          <a:xfrm>
            <a:off x="0" y="1428840"/>
            <a:ext cx="1779480" cy="15001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572314"/>
                </a:solidFill>
                <a:latin typeface="Corbel"/>
              </a:rPr>
              <a:t>ВИДЫ КОНТРОЛЯ И КРИТЕРИИ ОЦЕНКИ.</a:t>
            </a: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116000" y="1268280"/>
          <a:ext cx="7313760" cy="5241960"/>
        </p:xfrm>
        <a:graphic>
          <a:graphicData uri="http://schemas.openxmlformats.org/drawingml/2006/table">
            <a:tbl>
              <a:tblPr/>
              <a:tblGrid>
                <a:gridCol w="2100240"/>
                <a:gridCol w="3843360"/>
                <a:gridCol w="1370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св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ервый уровень(Репродуктив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чный устный от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к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ешение несложных зада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е верно выполненное задание 2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5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я работа учащегося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бучающей самостоя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торо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менение знаний по образц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бучающ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ый тест по домашнему зад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ая правильная задача 2 бал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Третий уров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Уровень промежуточного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оч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е зад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 до 5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Четвертый уров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ворческий уровен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ланиров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дополнительной литературы и К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ое примен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самостоятельного изучения 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я сложных заданий, предложенных в контрольной рабо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в групп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сть на конкретные дости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к личностному росту и приобретению новых зн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40 бал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боту над презентацией 2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работу над проектом 20 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проекта 20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8" name="Picture 5" descr="Рисунок17"/>
          <p:cNvPicPr/>
          <p:nvPr/>
        </p:nvPicPr>
        <p:blipFill>
          <a:blip r:embed="rId1"/>
          <a:stretch/>
        </p:blipFill>
        <p:spPr>
          <a:xfrm>
            <a:off x="6072120" y="0"/>
            <a:ext cx="16430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379520" y="642960"/>
            <a:ext cx="7764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2000"/>
          </a:bodyPr>
          <a:p>
            <a:pPr marL="162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Corbel"/>
              </a:rPr>
              <a:t>10 класс. 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загружайте ученика домашними заданиями, и так есть о чем думать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Создать хорошую атмосферу на уроке. Интересно строить план урок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В первую очередь заинтересовать любого ученик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кричать, не отвлекаться на поведение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нять ученика. Индивидуальная работ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роверять только то, чему научила, а не о чем догадались, додумались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дходить к своей работе с оптимистической точки зрения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говорить с учеником. Позвонить родителям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роводить дополнительные консультации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Не обращать внимания на форму, а лучше объяснять материал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сле объяснения должна быть самост. работа для закрепления знаний, а не для оценки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Если ученик не понял – объясняй индивидуально, он не виноват. Сама так объяснила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Подробнее останавливаться на темах, которые будут в ЕГЭ.</a:t>
            </a:r>
            <a:br>
              <a:rPr sz="1700"/>
            </a:br>
            <a:r>
              <a:rPr b="1" lang="ru-RU" sz="1700" spc="-1" strike="noStrike">
                <a:solidFill>
                  <a:srgbClr val="2a6d7d"/>
                </a:solidFill>
                <a:latin typeface="Corbel"/>
              </a:rPr>
              <a:t>* Объяснять МНЕ МОИ ошибки, а не всего класса.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16200" indent="0">
              <a:lnSpc>
                <a:spcPts val="22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оугольник 3"/>
          <p:cNvSpPr/>
          <p:nvPr/>
        </p:nvSpPr>
        <p:spPr>
          <a:xfrm>
            <a:off x="1714680" y="0"/>
            <a:ext cx="7072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КАКИЕ ДЕЙСТВИЯ ДОЛЖЕН ПРЕДПРИНЯТЬ УЧИТЕЛЬ, ЧТОБЫ ТВОЕ КАЧЕСТВО ЗНАНИЙ, ТВОИ ОЦЕНКИ СТАЛИ ЛУЧШЕ?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1" name="Picture 5" descr="Рисунок10"/>
          <p:cNvPicPr/>
          <p:nvPr/>
        </p:nvPicPr>
        <p:blipFill>
          <a:blip r:embed="rId1"/>
          <a:stretch/>
        </p:blipFill>
        <p:spPr>
          <a:xfrm>
            <a:off x="-214200" y="3714840"/>
            <a:ext cx="1828800" cy="2857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Рисунок8"/>
          <p:cNvPicPr/>
          <p:nvPr/>
        </p:nvPicPr>
        <p:blipFill>
          <a:blip r:embed="rId2"/>
          <a:stretch/>
        </p:blipFill>
        <p:spPr>
          <a:xfrm>
            <a:off x="0" y="1557360"/>
            <a:ext cx="1638360" cy="1803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32d2e"/>
                </a:solidFill>
                <a:latin typeface="Corbel"/>
              </a:rPr>
              <a:t>Какие действия должен предпринять лично ты сам, чтобы твое качество знаний, твои оценки стали лучше</a:t>
            </a:r>
            <a:r>
              <a:rPr b="1" lang="ru-RU" sz="3900" spc="-1" strike="noStrike">
                <a:solidFill>
                  <a:srgbClr val="c32d2e"/>
                </a:solidFill>
                <a:latin typeface="Corbel"/>
              </a:rPr>
              <a:t>?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10 класс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Быть заинтересованным в предмет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Внимательно слушать, думать. Присутствовать на уроках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Относиться ответственно. Подавить лень. Взяться за у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Быть целеустремленным. Работать над собой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Учить правила, формулы, темы. Читать, практиковаться, вникать в сут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42551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5519"/>
                </a:solidFill>
                <a:latin typeface="Arial"/>
                <a:ea typeface="Times New Roman"/>
              </a:rPr>
              <a:t>Репетитор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3" descr="Рисунок12"/>
          <p:cNvPicPr/>
          <p:nvPr/>
        </p:nvPicPr>
        <p:blipFill>
          <a:blip r:embed="rId1"/>
          <a:stretch/>
        </p:blipFill>
        <p:spPr>
          <a:xfrm>
            <a:off x="-25560" y="1000080"/>
            <a:ext cx="1525680" cy="12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Рисунок1"/>
          <p:cNvPicPr/>
          <p:nvPr/>
        </p:nvPicPr>
        <p:blipFill>
          <a:blip r:embed="rId2"/>
          <a:stretch/>
        </p:blipFill>
        <p:spPr>
          <a:xfrm>
            <a:off x="0" y="4286160"/>
            <a:ext cx="1359000" cy="2100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5" dur="indefinite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0" dur="indefinite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4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5" dur="indefinite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indefinite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6851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т желания учителя или желания ученика в большей степени зависит качество знаний учащихся? </a:t>
            </a:r>
            <a:br>
              <a:rPr sz="28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1c4853"/>
                </a:solidFill>
                <a:latin typeface="Corbel"/>
              </a:rPr>
              <a:t>Можно подвести коня к водопою, но нельзя заставить коня пить; от желания ученика зависит в основном зависит качество знаний учащихся, но если учитель не заинтересован в хорошем уровне знаний, а ученику не даны способности от природы, знаний не буде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5" descr="Рисунок10"/>
          <p:cNvPicPr/>
          <p:nvPr/>
        </p:nvPicPr>
        <p:blipFill>
          <a:blip r:embed="rId1"/>
          <a:stretch/>
        </p:blipFill>
        <p:spPr>
          <a:xfrm>
            <a:off x="6715080" y="4768920"/>
            <a:ext cx="1428840" cy="1757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09:56Z</dcterms:created>
  <dc:creator>Bill Gates</dc:creator>
  <dc:description/>
  <dc:language>en-US</dc:language>
  <cp:lastModifiedBy>Bill Gates</cp:lastModifiedBy>
  <cp:lastPrinted>2011-09-17T11:02:44Z</cp:lastPrinted>
  <dcterms:modified xsi:type="dcterms:W3CDTF">2011-09-27T16:55:48Z</dcterms:modified>
  <cp:revision>25</cp:revision>
  <dc:subject/>
  <dc:title>Слайд 1</dc:title>
</cp:coreProperties>
</file>