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12.gif" ContentType="image/gif"/>
  <Override PartName="/ppt/media/image8.wmf" ContentType="image/x-wmf"/>
  <Override PartName="/ppt/media/image10.gif" ContentType="image/gif"/>
  <Override PartName="/ppt/media/image13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BD9B-E266-45A0-ADF6-AC9500A1E2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0A1E-BDB3-4340-B43F-EB3F8F7159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CF2-086E-4C79-95DE-F23863F2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200-C4AA-46F8-9BB2-51CE8624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156-AA61-44E1-9A6D-5FECAA96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30B-7281-4DE6-A0FC-6ED7E29A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DCD6-68C1-478C-BF02-8A1B782E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4E40-7B18-44EA-9A6E-283BA47F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15F6-C76F-4BAE-BA67-60487E98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A7D5-DD3F-40B4-84C3-CFACAE1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6448-96A9-4061-811D-B70CDB4A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4811-7A11-4C74-8EFD-F131AF55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5941-C4D0-4488-9218-D7659E5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1C3-1ED7-41DB-9262-B894DBE8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F6E3-04F8-4C47-B5CD-A341A829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F9BB-E200-4A83-99F1-F6633EA0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DA77-E7D6-4AC1-B51E-8982B7CA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0820-40B1-4571-9E04-D897EF9B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AB5D-92FB-471D-A2FE-65F761A7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0CAA-DFD1-46CB-A430-AB100F7C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0C78-A3BE-47C0-8E2D-F8230061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C3AE-D2AB-4EE9-83F7-8FAC81C5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5CEF-6EF9-464F-B006-80BBB08B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29F8-0056-4AA7-9E10-34BC83AD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014-BB94-4742-A259-76E5BC4F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3133-2E37-494D-AD4E-A32A6266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5215-4EB9-4B8E-BE81-344D97E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27FB-BE3D-4CF6-8175-2193DFE8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6281-7DD7-486E-8FB9-C5CD060E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E94B-4553-4EA9-9BB2-B7220CED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C088-33D5-4814-AA74-B452A614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01F3-069B-4282-9483-3DE60FC0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DFA99-878C-448A-9EC4-476DFB67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39DA4-FCD7-4A2E-9211-A41E1018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91DB3-0B90-478D-872D-23590785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79E-DA2E-4695-8CB7-2FB65039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977C-2C76-4199-A795-005221EB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0CF3-15D2-48D6-AC67-C63E24F6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702CC-ED67-46BE-ADDF-FC276733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16C2-AB15-47F3-8E97-241010EB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0E0DE-9604-4F97-ACC9-C5F0B330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9B232-24F5-402D-AB62-0D7B297C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077F9-3AE4-42EA-AD4B-EA773511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2E18C-BFDB-42A7-BB7B-DA730699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E91B-FD97-4456-B2A4-86EF3A62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38CF7-8249-4122-98A1-FE60B9F2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C52-5FE6-4EA3-A471-0A69D287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A8A99-9AAA-477E-A6D0-1EA3D62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DC789-0EE5-4DA7-8D4D-BE4D85D9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16EEA-49B1-4D22-B23D-72165391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39632-8B06-498F-BF76-40310848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A5235-6CA3-43F4-A87E-99173F19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DC4B8-6EF5-48E0-8FB5-4D0CF2FC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8288F-45C1-4551-B235-3AA4884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E7257-64E7-46CE-9D73-B141F7D2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63857-BEBC-4467-A429-A167E80B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DDED5-A2C9-47B2-B6D3-2681DFFB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E8A-19CD-44A4-A438-1BB0402A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A90CA-1DDC-4B7A-B3A2-03C40629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AEB17-B77A-40C9-BDF8-F395E220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44B8D-A0C1-4D91-810C-435B76E2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CBF2F-4EAB-4784-925A-BE90755B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80020-73B1-4DF2-A0CE-8D17C1E7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F3626-9747-40D3-BBEC-902F2FCD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EECE-3EF1-486E-9D15-619FBD3B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51846-4EA0-4F97-B755-DCF594C2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D5F6C-DBBF-4633-A039-FA19F6CD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FF474-1645-4C46-B376-EE9FBAE3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7E7-CE2F-45AB-8FF3-CE57DF57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9387B-89C1-4AE3-A1A9-00122024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76895-C456-4898-B271-E882260F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E1BA5-22C6-484F-AB32-1A698A93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A2C14-277B-445E-BD14-9BAC3006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6D19B-2CC9-4D15-BEF3-13BB0E72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3BED-4E88-4310-89D6-249D6234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DA8A2-E2DA-4B8A-A663-46E35F6B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B9699-F666-42C9-95FE-CFDCD8A7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B704C-6C49-4672-94DE-C1647F4A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BD108-7CDF-445E-A699-8BBF0E6F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523-CB30-4853-8F4A-FF45CA17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406B5-798B-4130-9E92-70AAC30B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EE597-481F-481A-B94C-B973BB0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5E1E1-AD76-422A-9358-69DCD328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4CA0D-8371-45B0-951D-C90ADD8E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B7221-7257-4769-A136-21548E3B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EDCA1-DDF6-4247-A13B-D51A6F18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7178A-B56D-4A40-AA94-B5F8C1C2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19E6D-FE26-4DDE-AF67-A9F90C69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0D455-EE3E-4EC0-A1DB-11D5248B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DD532-011E-4BD6-9A8D-FBBE62C9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98C-42CF-4036-B5E5-D5A4ECBA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7F8D9-1C47-4F74-ABAB-9BFA2A05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39CFA-973A-46D5-A623-97198CF4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236B1-D256-47D0-AF48-D8A34A1A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D1671-D420-4104-AA55-4E17799B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5671A-18A4-4ADE-ACC4-113CBD85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6ED2E-509C-43E6-A252-775FF7C7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A1468-F7D6-4437-B5FE-A5BC22CB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404D-64D9-4BA0-A6BD-611D65D168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CA7B-710F-4BA5-A48F-1BE4FC20F2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477A-0EAC-4D69-A233-DC720FFE153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FAC0-184D-4CCB-8D41-61EF7D80CF6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56E1-F9D0-48E4-AC71-1DF87717CC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EBEE-3F00-45C6-9232-56BCF2C150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2676-64B0-4B46-A7FE-52D49E75FD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A557-04B7-4154-8A33-E8A132A7C5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360" y="2599920"/>
            <a:ext cx="4262400" cy="31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 ПОДГОТОВИЛА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РАЙОННОГО  МО  ЯКИМЧУК Г.В., УЧИТЕЛЬ ВЫСШЕЙ КВАЛИФИКАЦИОННОЙ КАТЕГОРИИ </a:t>
            </a:r>
            <a:br>
              <a:rPr sz="1100"/>
            </a:b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№ 15»</a:t>
            </a:r>
            <a:br>
              <a:rPr sz="1100"/>
            </a:b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77960" y="620280"/>
            <a:ext cx="64008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тодический совет по тем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«Повышение качества знаний учащихся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Интерес к учению проявляется только тогда, когда есть вдохновение, рождающееся от успеха»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Сухомлинский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6" name="Picture 5" descr="00036097"/>
          <p:cNvPicPr/>
          <p:nvPr/>
        </p:nvPicPr>
        <p:blipFill>
          <a:blip r:embed="rId1"/>
          <a:stretch/>
        </p:blipFill>
        <p:spPr>
          <a:xfrm>
            <a:off x="5429160" y="3214800"/>
            <a:ext cx="3122640" cy="34686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17b7c"/>
                </a:solidFill>
                <a:latin typeface="Corbel"/>
              </a:rPr>
              <a:t>Формы работ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6d7d"/>
                </a:solidFill>
                <a:latin typeface="Corbel"/>
              </a:rPr>
              <a:t>  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Одной из форм работы учителей математики, которые приводят к повышению качества знаний наших учащихся-  это анализ результатов   контроля знаний, с целью коррекции содержания образования</a:t>
            </a:r>
            <a:r>
              <a:rPr b="1" lang="en-US" sz="2000" spc="-1" strike="noStrike">
                <a:solidFill>
                  <a:srgbClr val="2a6d7d"/>
                </a:solidFill>
                <a:latin typeface="Gill Sans MT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 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Проводился предварительный контроль готовности к итоговой  аттестации выпускников основной  и  средней школы в виде тренировки экзаменов по  математике в 9 и 11 классах</a:t>
            </a:r>
            <a:r>
              <a:rPr b="1" lang="en-US" sz="2000" spc="-1" strike="noStrike">
                <a:solidFill>
                  <a:srgbClr val="2a6d7d"/>
                </a:solidFill>
                <a:latin typeface="Gill Sans MT"/>
              </a:rPr>
              <a:t>;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 отслеживание динамики обученности учащихся, коррекция деятельности учителя и учеников для предупреждения неуспеваемости</a:t>
            </a:r>
            <a:r>
              <a:rPr b="1" lang="en-US" sz="2000" spc="-1" strike="noStrike">
                <a:solidFill>
                  <a:srgbClr val="2a6d7d"/>
                </a:solidFill>
                <a:latin typeface="Gill Sans MT"/>
              </a:rPr>
              <a:t>.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Были выявлены группы риска, в которые вошли учащиеся получившие «2» по результатам пробных  экзаменов, составлены индивидуальные  маршруты ликвидации пробелов знан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573" descr="Рисунок5"/>
          <p:cNvPicPr/>
          <p:nvPr/>
        </p:nvPicPr>
        <p:blipFill>
          <a:blip r:embed="rId1"/>
          <a:stretch/>
        </p:blipFill>
        <p:spPr>
          <a:xfrm>
            <a:off x="142920" y="1500120"/>
            <a:ext cx="1353960" cy="2071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Диаграмма выполнения заданий В в ходе репетиционных экзаменов по математик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1" name="Picture 24" descr="Рисунок7"/>
          <p:cNvPicPr/>
          <p:nvPr/>
        </p:nvPicPr>
        <p:blipFill>
          <a:blip r:embed="rId1"/>
          <a:stretch/>
        </p:blipFill>
        <p:spPr>
          <a:xfrm>
            <a:off x="0" y="1433520"/>
            <a:ext cx="2592360" cy="320976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5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8282160" cy="492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Формы работ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600" y="1523880"/>
            <a:ext cx="69231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Улучшения качества образования через использование инновационных технологий , основная цель которых стимулирование познавательной деятельности старшеклассников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Информационные технолог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Балльно – рейтинговая технология в оценивании достижений старшеклассник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3" descr="Рисунок12"/>
          <p:cNvPicPr/>
          <p:nvPr/>
        </p:nvPicPr>
        <p:blipFill>
          <a:blip r:embed="rId1"/>
          <a:stretch/>
        </p:blipFill>
        <p:spPr>
          <a:xfrm>
            <a:off x="0" y="1428840"/>
            <a:ext cx="1779480" cy="15001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ВИДЫ КОНТРОЛЯ И КРИТЕРИИ ОЦЕНКИ.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116000" y="1268280"/>
          <a:ext cx="7313760" cy="5241960"/>
        </p:xfrm>
        <a:graphic>
          <a:graphicData uri="http://schemas.openxmlformats.org/drawingml/2006/table">
            <a:tbl>
              <a:tblPr/>
              <a:tblGrid>
                <a:gridCol w="2100240"/>
                <a:gridCol w="3843360"/>
                <a:gridCol w="1370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св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ервый уровень(Репродуктив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чный устный от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к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ешение несложных зада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ое верно выполненное задание 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5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ая работа учащегося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обучающей самостоя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торо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менение знаний по образц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оч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бучающ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очный тест по домашнему зад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ая правильная задача 2 бал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Трети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ровень промежуточного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оч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ое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 до 5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Четвертый уровен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ворческий уровен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планиро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дополнительной литературы и К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ое примен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самостоятельного изучения 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я сложных заданий, предложенных в контрольной рабо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в групп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на конкретные дости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к личностному росту и приобретению новых зна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40 бал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аботу над презентацией 2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аботу над проектом 20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проекта 2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8" name="Picture 5" descr="Рисунок17"/>
          <p:cNvPicPr/>
          <p:nvPr/>
        </p:nvPicPr>
        <p:blipFill>
          <a:blip r:embed="rId1"/>
          <a:stretch/>
        </p:blipFill>
        <p:spPr>
          <a:xfrm>
            <a:off x="6072120" y="0"/>
            <a:ext cx="164304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379520" y="642960"/>
            <a:ext cx="77644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2000"/>
          </a:bodyPr>
          <a:p>
            <a:pPr marL="1620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Corbel"/>
              </a:rPr>
              <a:t>10 класс. 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Не загружайте ученика домашними заданиями, и так есть о чем думать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Создать хорошую атмосферу на уроке. Интересно строить план урок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В первую очередь заинтересовать любого ученик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Не кричать, не отвлекаться на поведение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нять ученика. Индивидуальная работ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роверять только то, чему научила, а не о чем догадались, додумались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дходить к своей работе с оптимистической точки зрения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говорить с учеником. Позвонить родителям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роводить дополнительные консультации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Не обращать внимания на форму, а лучше объяснять материал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сле объяснения должна быть самост. работа для закрепления знаний, а не для оценки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Если ученик не понял – объясняй индивидуально, он не виноват. Сама так объяснил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дробнее останавливаться на темах, которые будут в ЕГЭ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Объяснять МНЕ МОИ ошибки, а не всего класса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1620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оугольник 3"/>
          <p:cNvSpPr/>
          <p:nvPr/>
        </p:nvSpPr>
        <p:spPr>
          <a:xfrm>
            <a:off x="1714680" y="0"/>
            <a:ext cx="7072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КАКИЕ ДЕЙСТВИЯ ДОЛЖЕН ПРЕДПРИНЯТЬ УЧИТЕЛЬ, ЧТОБЫ ТВОЕ КАЧЕСТВО ЗНАНИЙ, ТВОИ ОЦЕНКИ СТАЛИ ЛУЧШЕ?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1" name="Picture 5" descr="Рисунок10"/>
          <p:cNvPicPr/>
          <p:nvPr/>
        </p:nvPicPr>
        <p:blipFill>
          <a:blip r:embed="rId1"/>
          <a:stretch/>
        </p:blipFill>
        <p:spPr>
          <a:xfrm>
            <a:off x="-214200" y="3714840"/>
            <a:ext cx="1828800" cy="2857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Рисунок8"/>
          <p:cNvPicPr/>
          <p:nvPr/>
        </p:nvPicPr>
        <p:blipFill>
          <a:blip r:embed="rId2"/>
          <a:stretch/>
        </p:blipFill>
        <p:spPr>
          <a:xfrm>
            <a:off x="0" y="1557360"/>
            <a:ext cx="1638360" cy="1803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32d2e"/>
                </a:solidFill>
                <a:latin typeface="Corbel"/>
              </a:rPr>
              <a:t>Какие действия должен предпринять лично ты сам, чтобы твое качество знаний, твои оценки стали лучше</a:t>
            </a:r>
            <a:r>
              <a:rPr b="1" lang="ru-RU" sz="3900" spc="-1" strike="noStrike">
                <a:solidFill>
                  <a:srgbClr val="c32d2e"/>
                </a:solidFill>
                <a:latin typeface="Corbel"/>
              </a:rPr>
              <a:t>?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10 класс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Быть заинтересованным в предмете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Внимательно слушать, думать. Присутствовать на уроках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Относиться ответственно. Подавить лень. Взяться за ум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Быть целеустремленным. Работать над собой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Учить правила, формулы, темы. Читать, практиковаться, вникать в суть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Репетитор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3" descr="Рисунок12"/>
          <p:cNvPicPr/>
          <p:nvPr/>
        </p:nvPicPr>
        <p:blipFill>
          <a:blip r:embed="rId1"/>
          <a:stretch/>
        </p:blipFill>
        <p:spPr>
          <a:xfrm>
            <a:off x="-25560" y="1000080"/>
            <a:ext cx="1525680" cy="1285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Рисунок1"/>
          <p:cNvPicPr/>
          <p:nvPr/>
        </p:nvPicPr>
        <p:blipFill>
          <a:blip r:embed="rId2"/>
          <a:stretch/>
        </p:blipFill>
        <p:spPr>
          <a:xfrm>
            <a:off x="0" y="4286160"/>
            <a:ext cx="1359000" cy="2100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5" dur="indefinite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5" dur="indefinite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68518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От желания учителя или желания ученика в большей степени зависит качество знаний учащихся? </a:t>
            </a:r>
            <a:br>
              <a:rPr sz="28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  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Можно подвести коня к водопою, но нельзя заставить коня пить; от желания ученика зависит в основном зависит качество знаний учащихся, но если учитель не заинтересован в хорошем уровне знаний, а ученику не даны способности от природы, знаний не буде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Picture 5" descr="Рисунок10"/>
          <p:cNvPicPr/>
          <p:nvPr/>
        </p:nvPicPr>
        <p:blipFill>
          <a:blip r:embed="rId1"/>
          <a:stretch/>
        </p:blipFill>
        <p:spPr>
          <a:xfrm>
            <a:off x="6715080" y="4768920"/>
            <a:ext cx="1428840" cy="175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09:56Z</dcterms:created>
  <dc:creator>Bill Gates</dc:creator>
  <dc:description/>
  <dc:language>en-US</dc:language>
  <cp:lastModifiedBy>Bill Gates</cp:lastModifiedBy>
  <cp:lastPrinted>2011-09-17T11:02:44Z</cp:lastPrinted>
  <dcterms:modified xsi:type="dcterms:W3CDTF">2011-09-27T16:55:48Z</dcterms:modified>
  <cp:revision>25</cp:revision>
  <dc:subject/>
  <dc:title>Слайд 1</dc:title>
</cp:coreProperties>
</file>