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FB907-2573-40CA-973D-F4854BD9D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746D8-AB85-4B28-9FCD-FF2D4A124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5CCDB-F2F6-4F0A-85CB-1D15397B7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ECD4A-0BBC-48A3-A1B0-F81C9635E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8B34C-0137-445B-AE78-99E4E3878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C5E0E-BA87-45B8-BBB5-D8C107E89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6EEFC-28E5-497C-BBC7-DA093BF79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D97E0-5C38-4D70-A01D-BF32C01FB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C2D88-B783-4E32-A6E1-746D12DBD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81680-D17B-47D4-9275-8A433AA2A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81F20-C9BE-44AE-9230-18B12B919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39EAF-A1DB-460E-B50B-36C30AFE1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8C560-412C-4449-9921-206E2D994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EF09D-E07E-4E59-95B1-7A664077B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6EDBE-A253-41AB-92E1-0E8EB2CD4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15377-6717-493E-9A15-495B0D55A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60594-584F-404A-98FE-67250EDA7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97796-E521-4B12-9C45-3E38DD279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5D2EE-E33B-46CB-8A50-B9ECC9A60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0239F-CBAC-4229-8763-BF860CEA3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FE73C-087D-4813-B902-40B7008FE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01C79-B7F1-4A51-90BB-552A15AB8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B444C-DE63-44AA-A626-AD869B958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24A00-F7E2-4802-AC27-6547B61A0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10788-6085-467F-9C2D-A9CB58FD2567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DEA41-E25D-494B-B7AA-E1771BC2FA65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Промышленный переворот в Англии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7 класс. Составитель Бревнова Н.Ю.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Промышленный переворот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826920" y="2492280"/>
            <a:ext cx="1657440" cy="90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Рост числа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безземельных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рестьян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771640" y="2924280"/>
            <a:ext cx="57636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26920" y="2421000"/>
            <a:ext cx="0" cy="10080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826920" y="3429000"/>
            <a:ext cx="165744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826920" y="2421000"/>
            <a:ext cx="165744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484360" y="2421000"/>
            <a:ext cx="0" cy="10080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3708360" y="2492280"/>
            <a:ext cx="1368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Рост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городского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населения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492360" y="2421000"/>
            <a:ext cx="0" cy="10080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492360" y="2421000"/>
            <a:ext cx="180036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492360" y="3429000"/>
            <a:ext cx="180036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292720" y="2421000"/>
            <a:ext cx="0" cy="10080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435640" y="2924280"/>
            <a:ext cx="50472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516720" y="2565360"/>
            <a:ext cx="1030320" cy="67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Рост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городов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156360" y="2492280"/>
            <a:ext cx="0" cy="93672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156360" y="3429000"/>
            <a:ext cx="158436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156360" y="2492280"/>
            <a:ext cx="158436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7740720" y="2492280"/>
            <a:ext cx="0" cy="93672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956720" y="2924280"/>
            <a:ext cx="71892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755640" y="3933720"/>
            <a:ext cx="2232000" cy="67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Рост потребления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фабричной продукции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84360" y="3789360"/>
            <a:ext cx="0" cy="10080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84360" y="3789360"/>
            <a:ext cx="244764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84360" y="4797360"/>
            <a:ext cx="244764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132000" y="3789360"/>
            <a:ext cx="0" cy="10080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203640" y="4292640"/>
            <a:ext cx="36036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3708360" y="3860640"/>
            <a:ext cx="2160720" cy="83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Появление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системы машинного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производства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635280" y="3789360"/>
            <a:ext cx="0" cy="107964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635280" y="3789360"/>
            <a:ext cx="230508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635280" y="4869000"/>
            <a:ext cx="230508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940360" y="3789360"/>
            <a:ext cx="0" cy="107964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012000" y="4292640"/>
            <a:ext cx="28872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443640" y="4005360"/>
            <a:ext cx="187164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рост английской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промышленности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372360" y="3789360"/>
            <a:ext cx="0" cy="115236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372360" y="4941720"/>
            <a:ext cx="2016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372360" y="3789360"/>
            <a:ext cx="2016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8388360" y="3789360"/>
            <a:ext cx="0" cy="115236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8459640" y="4292640"/>
            <a:ext cx="36036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826920" y="5373720"/>
            <a:ext cx="2160720" cy="37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развитие торговли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5640" y="5229360"/>
            <a:ext cx="0" cy="72072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55640" y="5950080"/>
            <a:ext cx="230364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55640" y="5229360"/>
            <a:ext cx="230364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059280" y="5229360"/>
            <a:ext cx="0" cy="72072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132000" y="5589720"/>
            <a:ext cx="36036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3851280" y="5300640"/>
            <a:ext cx="151272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Складывание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финансого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опитала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708360" y="5229360"/>
            <a:ext cx="0" cy="10080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708360" y="5229360"/>
            <a:ext cx="180036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708360" y="6237360"/>
            <a:ext cx="180036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5508720" y="5229360"/>
            <a:ext cx="0" cy="10080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Промышленный переворот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Процесс перехода от ручного труда к машинному, от мануфактуры к фабрике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Мануфактура-предприятие с разделением труда, применением наемного труда, под одним руководством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Фабрика- крупное механизированное промышленное предприятие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Буржуазия-класс капиталистических собственников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Промышленный переворот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66"/>
                </a:solidFill>
                <a:latin typeface="Arial"/>
              </a:rPr>
              <a:t>Промышленная революция была подготовлена и изобретениями разного рода механизмов. Их применение обеспечивало большую экономию ресурсов, в особенности трудовых , и рост производительности труда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66"/>
                </a:solidFill>
                <a:latin typeface="Arial"/>
              </a:rPr>
              <a:t>Авторами многих изобретений особенно в первые десятилетия промышленного переворота, были рабочие, ремесленники и предприниматели,  в совершенстве владевшие своей профессией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66"/>
                </a:solidFill>
                <a:latin typeface="Arial"/>
              </a:rPr>
              <a:t>Промышленная революция началась в хлопчатобумажной промышленности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Технические изобретения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474480" indent="-47448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1765г.-механическая прялка Джеймса Харгривса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474480" indent="-47448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1767- прядильная машина Хейса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474480" indent="-47448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1769г- паровая машина Джеймса Уатта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474480" indent="-47448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1779- Мюль-машина Сэмюела Кромптон(для выработки тонкой и прочной пряжи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474480" indent="-47448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1792г.- механический станок Эдмунда Картрайта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474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Обобщение по теме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В ходе аграрной и промышленной революций становилось больше предпринимателей и наемных рабочих. К концу 18 века  Англия стала первой промышленной страной мира, где наглядно проступали черты индустриального общества. В мире началась новая эпоха- индустриальная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Аграрная революция в Англии :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66"/>
                </a:solidFill>
                <a:latin typeface="Arial"/>
              </a:rPr>
              <a:t>Сосредоточение земли в руках крупных собственников;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66"/>
                </a:solidFill>
                <a:latin typeface="Arial"/>
              </a:rPr>
              <a:t>Использование в сельском хозяйстве труда наемных рабочих;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66"/>
                </a:solidFill>
                <a:latin typeface="Arial"/>
              </a:rPr>
              <a:t>Исчезновение крестьянства;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66"/>
                </a:solidFill>
                <a:latin typeface="Arial"/>
              </a:rPr>
              <a:t>Рост продуктивности сельского хозяйства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Для возникновения капиталистического производства </a:t>
            </a:r>
            <a:br>
              <a:rPr sz="3200"/>
            </a:b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требуется: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Лично свободные люди, лишенные орудий труда и готовые работать за заработную плату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Накопление богатства- капитала, необходимого для организации крупных предприятий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Рост финансового капитала, для дальнейшего развития производства и торговли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12913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Изменения в сельском хозяйстве Англии.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-360" y="2637000"/>
            <a:ext cx="7334280" cy="34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76720" y="3068640"/>
            <a:ext cx="28872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1547640" y="2492280"/>
            <a:ext cx="113364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С XVI  в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Англия -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главны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поставщик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сукн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995640" y="2781360"/>
            <a:ext cx="1533600" cy="77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Рост цен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на английскую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шерст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796000" y="3068640"/>
            <a:ext cx="36036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588000" y="2708280"/>
            <a:ext cx="1457280" cy="77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Рос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производств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сукн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8244000" y="3068640"/>
            <a:ext cx="35856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32000" y="4437000"/>
            <a:ext cx="133344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Рос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потребност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 овечье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шерст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987640" y="4869000"/>
            <a:ext cx="50472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3924360" y="4437000"/>
            <a:ext cx="161928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Рос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необходимост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 обширны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пастбища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724360" y="4869000"/>
            <a:ext cx="36036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6443640" y="4437000"/>
            <a:ext cx="192420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Борьб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землевладельце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с крестьянам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за землю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459640" y="4869000"/>
            <a:ext cx="28764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116000" y="2492280"/>
            <a:ext cx="0" cy="15130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116000" y="4005360"/>
            <a:ext cx="187164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116000" y="2492280"/>
            <a:ext cx="187164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987640" y="2492280"/>
            <a:ext cx="0" cy="15130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708360" y="2492280"/>
            <a:ext cx="0" cy="144144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708360" y="2492280"/>
            <a:ext cx="187164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580000" y="2492280"/>
            <a:ext cx="0" cy="12970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708360" y="3933720"/>
            <a:ext cx="187164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580000" y="3716280"/>
            <a:ext cx="0" cy="21744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443640" y="2421000"/>
            <a:ext cx="0" cy="143964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443640" y="3860640"/>
            <a:ext cx="165744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443640" y="2421000"/>
            <a:ext cx="165744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8101080" y="2421000"/>
            <a:ext cx="0" cy="143964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116000" y="4365720"/>
            <a:ext cx="0" cy="12240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116000" y="4365720"/>
            <a:ext cx="187164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116000" y="5589720"/>
            <a:ext cx="187164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987640" y="4365720"/>
            <a:ext cx="0" cy="12240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80000" y="4365720"/>
            <a:ext cx="0" cy="12240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780000" y="4365720"/>
            <a:ext cx="1800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780000" y="5589720"/>
            <a:ext cx="1800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580000" y="4365720"/>
            <a:ext cx="0" cy="12240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300720" y="4292640"/>
            <a:ext cx="0" cy="12970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300720" y="4292640"/>
            <a:ext cx="208764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300720" y="5589720"/>
            <a:ext cx="208764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8388360" y="4292640"/>
            <a:ext cx="0" cy="12970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Изменения в сельском хозяйстве Англии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826920" y="2349360"/>
            <a:ext cx="7693200" cy="37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71640" y="3213000"/>
            <a:ext cx="1780920" cy="77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Насильственны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сгон крестьян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с земл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87640" y="3573360"/>
            <a:ext cx="36036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564000" y="3141720"/>
            <a:ext cx="3066840" cy="102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Сгон крестьян дворянам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с их наделов и превращени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этих земель в пастбищ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для овец - огораживани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659640" y="3716280"/>
            <a:ext cx="36036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948360" y="3357720"/>
            <a:ext cx="20671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Появление свободных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людей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042920" y="4941720"/>
            <a:ext cx="2076480" cy="77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Наличи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свободных рабочи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рук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492360" y="5300640"/>
            <a:ext cx="43200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427640" y="4869000"/>
            <a:ext cx="2076480" cy="77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Появление рын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свободной рабоче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сил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826920" y="3141720"/>
            <a:ext cx="0" cy="1079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826920" y="3141720"/>
            <a:ext cx="216072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826920" y="4221000"/>
            <a:ext cx="216072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987640" y="3141720"/>
            <a:ext cx="0" cy="1079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419640" y="3068640"/>
            <a:ext cx="0" cy="136836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419640" y="4437000"/>
            <a:ext cx="3240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419640" y="3068640"/>
            <a:ext cx="3240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659640" y="3068640"/>
            <a:ext cx="0" cy="136836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877080" y="3141720"/>
            <a:ext cx="215892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9036000" y="3141720"/>
            <a:ext cx="0" cy="93492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877080" y="3141720"/>
            <a:ext cx="0" cy="93492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877080" y="4076640"/>
            <a:ext cx="226692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900000" y="4797360"/>
            <a:ext cx="0" cy="10080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900000" y="4797360"/>
            <a:ext cx="230364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00000" y="5805360"/>
            <a:ext cx="230364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203640" y="4797360"/>
            <a:ext cx="0" cy="10080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211640" y="4724280"/>
            <a:ext cx="0" cy="12258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211640" y="4724280"/>
            <a:ext cx="230508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211640" y="5950080"/>
            <a:ext cx="230508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516720" y="4724280"/>
            <a:ext cx="0" cy="12258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Английские пословицы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3366"/>
                </a:solidFill>
                <a:latin typeface="Arial"/>
              </a:rPr>
              <a:t>«Овцы пожирают людей»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3366"/>
                </a:solidFill>
                <a:latin typeface="Arial"/>
              </a:rPr>
              <a:t>«Копыто овцы превращает песок в золото»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3366"/>
                </a:solidFill>
                <a:latin typeface="Arial"/>
              </a:rPr>
              <a:t>«Нет деревни, есть пастбище».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Томас Мор «Об огораживании»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«Ваши овцы, обычно такие кроткие, довольные очень не многим, теперь стали такими прожорливыми и неукротимыми, что поедают людей. С тех пор как всего один обжора, ненасытная и жестокая язва Отечества, уничтожает поля, он выбрасывает вон крестьян, лишает их надела различными способами.»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66"/>
                </a:solidFill>
                <a:latin typeface="Arial"/>
              </a:rPr>
              <a:t>Победа в Англии крупной земельной собственности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.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900000" y="2492280"/>
            <a:ext cx="158436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Лендлорд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рупный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землевладелец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843280" y="2997360"/>
            <a:ext cx="36036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692360" y="3789360"/>
            <a:ext cx="0" cy="43020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635280" y="2708280"/>
            <a:ext cx="1224000" cy="601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Арендатор -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фермер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219640" y="2997360"/>
            <a:ext cx="43200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6156360" y="2708280"/>
            <a:ext cx="12952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рестьянин-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батрак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356000" y="3645000"/>
            <a:ext cx="0" cy="36036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877080" y="3429000"/>
            <a:ext cx="0" cy="50472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4360" y="4365720"/>
            <a:ext cx="215892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Сдает землю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 арендуи получает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арендную плату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3348000" y="4221000"/>
            <a:ext cx="223200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Предприниматель.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брабатывает землю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лендлорда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084720" y="4292640"/>
            <a:ext cx="208944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Нанимаеться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на работу к фермеру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за зар. плату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826920" y="2421000"/>
            <a:ext cx="0" cy="115236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826920" y="2421000"/>
            <a:ext cx="172908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826920" y="3573360"/>
            <a:ext cx="172908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556000" y="2421000"/>
            <a:ext cx="0" cy="115236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419640" y="2421000"/>
            <a:ext cx="0" cy="10080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419640" y="2421000"/>
            <a:ext cx="151272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932360" y="2421000"/>
            <a:ext cx="0" cy="10080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419640" y="3429000"/>
            <a:ext cx="151272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867280" y="2421000"/>
            <a:ext cx="0" cy="93672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867280" y="2421000"/>
            <a:ext cx="165744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867280" y="3357720"/>
            <a:ext cx="165744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524720" y="2421000"/>
            <a:ext cx="0" cy="93672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11280" y="4292640"/>
            <a:ext cx="0" cy="10810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11280" y="4292640"/>
            <a:ext cx="230508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11280" y="5373720"/>
            <a:ext cx="230508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916360" y="4292640"/>
            <a:ext cx="0" cy="10810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203640" y="4149720"/>
            <a:ext cx="0" cy="115092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203640" y="5300640"/>
            <a:ext cx="2448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203640" y="4149720"/>
            <a:ext cx="2448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651640" y="4149720"/>
            <a:ext cx="0" cy="115092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940360" y="4221000"/>
            <a:ext cx="0" cy="115272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940360" y="4221000"/>
            <a:ext cx="2232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940360" y="5373720"/>
            <a:ext cx="2232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8172360" y="4221000"/>
            <a:ext cx="0" cy="115272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следствие: Рациональное использование земельных ресурсов.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06520" indent="-50652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Выращивание корма для скота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06520" indent="-50652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Использование песчаных почв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06520" indent="-50652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Переход к эффективному севообороту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06520" indent="-50652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Рост продуктивности сельского хозяйства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06520" indent="-50652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Значительное улучшение снабжения продовольствием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06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06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Вывод: Аграрный переворот подготовил промышленный переворот в городе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06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1T09:26:58Z</dcterms:created>
  <dc:creator>Admin</dc:creator>
  <dc:description/>
  <dc:language>en-US</dc:language>
  <cp:lastModifiedBy>Admin</cp:lastModifiedBy>
  <dcterms:modified xsi:type="dcterms:W3CDTF">2013-03-01T06:38:09Z</dcterms:modified>
  <cp:revision>9</cp:revision>
  <dc:subject/>
  <dc:title>Промышленный переворот в Англии</dc:title>
</cp:coreProperties>
</file>