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276-2055-4F42-9D44-BC3019A4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530-2160-41F0-8305-E8B50699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960-0F2D-4615-B9C7-45F3D9D3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738-2117-42EA-953F-BFBB4C3D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B07-C77A-4B9F-B991-6BD08930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FBE-9F1D-4B6A-B668-7F050EA6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430E-F65C-4BEE-B666-80E079D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A68F-2A88-4B0E-9C33-58A1AD27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C93D-F382-42BD-939B-B286BCD6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AB33-2E5A-47B5-A32A-E53406EA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6F53-9530-4914-804E-4589F7F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A8C-D8E5-4C2A-89B1-8D65007D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B05C-DDD8-40DC-A5F9-6824C3D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889C-6A4C-438D-995A-3E93C64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0F1B-8AC6-4E63-9597-1122515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229A-5D00-4F97-A2E5-65596FD4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C0FE-3D65-49CE-9EB0-6BA535D3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5A7-0A9C-4C7B-81F4-9028157A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305-60E3-487C-8837-4D899204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143-A3E6-4E50-B86E-C3854E91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E4D-FFC6-49E6-BCCC-6F175E0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EC0-6A17-442E-9647-A46D020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9CA-E4FA-46AB-AC87-6B003D2E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960-C457-4212-B74B-98A167A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06E-C5A0-40B5-9713-261B72727E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77C0-147F-4654-A371-9F34D969A4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омышленный переворот в Англи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 класс. Составитель Бревнова Н.Ю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мышленный переворо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26920" y="2492280"/>
            <a:ext cx="165744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числ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земель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ьян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1640" y="29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429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08360" y="2492280"/>
            <a:ext cx="136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ск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елени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242100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360" y="342900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92428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16720" y="2565360"/>
            <a:ext cx="10303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ов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2492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342900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249228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492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292428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640" y="3933720"/>
            <a:ext cx="2232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потреблени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абричной продукц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78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789360"/>
            <a:ext cx="24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797360"/>
            <a:ext cx="24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78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292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708360" y="3860640"/>
            <a:ext cx="216072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ы машинн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одств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378936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378936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486900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378936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429264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43640" y="400536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английской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мышленнос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72360" y="378936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4941720"/>
            <a:ext cx="20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72360" y="3789360"/>
            <a:ext cx="20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8360" y="378936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9640" y="4292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920" y="5373720"/>
            <a:ext cx="2160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 торговл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522936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95008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5229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522936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5589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51280" y="5300640"/>
            <a:ext cx="1512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ладывание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нанс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итал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22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8360" y="522936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623736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522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ромышленный переворо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оцесс перехода от ручного труда к машинному, от мануфактуры к фабр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Мануфактура-предприятие с разделением труда, применением наемного труда, под одним руководст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Фабрика- крупное механизированное промышленное предприя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Буржуазия-класс капиталистических собствен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мышленный переворо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омышленная революция была подготовлена и изобретениями разного рода механизмов. Их применение обеспечивало большую экономию ресурсов, в особенности трудовых , и рост производительности тру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Авторами многих изобретений особенно в первые десятилетия промышленного переворота, были рабочие, ремесленники и предприниматели,  в совершенстве владевшие своей професси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омышленная революция началась в хлопчатобумажной промышлен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хнические изобретения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5г.-механическая прялка Джеймса Харгрив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7- прядильная машина Хей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9г- паровая машина Джеймса Уат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79- Мюль-машина Сэмюела Кромптон(для выработки тонкой и прочной пряж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92г.- механический станок Эдмунда Картрай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общение по те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В ходе аграрной и промышленной революций становилось больше предпринимателей и наемных рабочих. К концу 18 века  Англия стала первой промышленной страной мира, где наглядно проступали черты индустриального общества. В мире началась новая эпоха- индустриаль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грарная революция в Англии 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Сосредоточение земли в руках крупных собствен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спользование в сельском хозяйстве труда наемных рабочих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счезновение крестьян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Рост продуктивности сельского хозяй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возникновения капиталистического производств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реб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Лично свободные люди, лишенные орудий труда и готовые работать за заработную плату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Накопление богатства- капитала, необходимого для организации крупных предприят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Рост финансового капитала, для дальнейшего развития производства и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менения в сельском хозяйстве Англ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2637000"/>
            <a:ext cx="733428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06864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47640" y="2492280"/>
            <a:ext cx="1133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XVI 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лия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в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тав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к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95640" y="2781360"/>
            <a:ext cx="15336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ц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английску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ер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3068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0" y="2708280"/>
            <a:ext cx="1457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од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к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4000" y="3068640"/>
            <a:ext cx="358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4437000"/>
            <a:ext cx="1333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треб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овечь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ер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486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24360" y="4437000"/>
            <a:ext cx="161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обходим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обшир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стбищ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86900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43640" y="4437000"/>
            <a:ext cx="1924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рь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евладель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крестья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зем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9640" y="4869000"/>
            <a:ext cx="287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492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400536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49228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492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2492280"/>
            <a:ext cx="0" cy="144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49228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3933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71628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3640" y="2421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86064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2421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4365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589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436572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58972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429264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429264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558972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8360" y="429264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менения в сельском хозяйстве Англ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71640" y="3213000"/>
            <a:ext cx="17809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иль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гон крест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3573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4000" y="3141720"/>
            <a:ext cx="3066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гон крестьян дворя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их наделов и превращ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их земель в пастби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вец - огоражи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3716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948360" y="3357720"/>
            <a:ext cx="206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свобод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юд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42920" y="4941720"/>
            <a:ext cx="207648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лич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бодных рабоч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5300640"/>
            <a:ext cx="43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27640" y="4869000"/>
            <a:ext cx="2076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ры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бодной рабо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22100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14172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06864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43700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306864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306864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3141720"/>
            <a:ext cx="215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36000" y="3141720"/>
            <a:ext cx="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3141720"/>
            <a:ext cx="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076640"/>
            <a:ext cx="226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797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797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5805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4797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72428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72428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595008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72428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глийские пословиц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Овцы пожирают людей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Копыто овцы превращает песок в золото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Нет деревни, есть пастбище»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омас Мор «Об огораживани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«Ваши овцы, обычно такие кроткие, довольные очень не многим, теперь стали такими прожорливыми и неукротимыми, что поедают людей. С тех пор как всего один обжора, ненасытная и жестокая язва Отечества, уничтожает поля, он выбрасывает вон крестьян, лишает их надела различными способами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беда в Англии крупной земельной собственност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000" y="249228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длорд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пны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евладелец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997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3789360"/>
            <a:ext cx="0" cy="43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35280" y="2708280"/>
            <a:ext cx="1224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ендатор 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ермер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2997360"/>
            <a:ext cx="43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56360" y="270828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ьянин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трак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645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342900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360" y="4365720"/>
            <a:ext cx="215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дает зем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рендуи получае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ендную плат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48000" y="4221000"/>
            <a:ext cx="223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приниматель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батывает зем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длорд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84720" y="4292640"/>
            <a:ext cx="208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нимаетьс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работу к фермеру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зар. плат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421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42100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57336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2421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421000"/>
            <a:ext cx="151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3429000"/>
            <a:ext cx="151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242100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35772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42100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4292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29264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37372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4292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4149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300640"/>
            <a:ext cx="244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4149720"/>
            <a:ext cx="244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4149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22100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422100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72360" y="422100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ледствие: Рациональное использование земельных ресурс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ыращивание корма для ско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Использование песчаных поч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ереход к эффективному севооборо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Рост продуктивности сельского хозяй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Значительное улучшение снабжения продовольстви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ывод: Аграрный переворот подготовил промышленный переворот в гор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9:26:58Z</dcterms:created>
  <dc:creator>Admin</dc:creator>
  <dc:description/>
  <dc:language>en-US</dc:language>
  <cp:lastModifiedBy>Admin</cp:lastModifiedBy>
  <dcterms:modified xsi:type="dcterms:W3CDTF">2013-03-01T06:38:09Z</dcterms:modified>
  <cp:revision>9</cp:revision>
  <dc:subject/>
  <dc:title>Промышленный переворот в Англии</dc:title>
</cp:coreProperties>
</file>