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B2C-2A01-473E-ACD2-07F3FF59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282-AAFF-44BC-88F8-F8B8B193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CCB-485A-4F6D-85B5-30681A48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FC8-5FAF-4E9F-BC00-0ED7C8B7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F19C-17FD-4F04-98F7-D047905F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D44F-B894-4437-AA23-F795E5D6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E611-53E0-4376-9202-5C0EB7D8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542E-CBAE-43F8-9C59-EC699879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C58D-6417-4A11-B111-F6F5080E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446C-C413-438E-B80A-E62BFCAB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FA85-13BC-4272-B9FD-0819D1C0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7CB-54C4-48B0-98FA-20D85DCF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6293-55AA-4F05-A09F-9CED433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EAAD-31F0-4683-B907-FDD1B80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2F53-F95C-4AE9-9102-5168D4F0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FC7B-951A-429C-B1AC-6AE8DA26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5671-DFE0-4DA5-9568-02B8D80E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98F-D6F9-414C-9977-FD867E44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29B-1BED-433E-8765-104609AD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826-519B-47AF-8D94-DA0FB93A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A48-7993-4A8F-BE57-FF0C4710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6C1-A6A2-47A1-92B6-E06B6BA4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89D-EDB7-4C04-8C2F-6FB99039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781-3694-40F5-93AE-0872B659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9E78-1D8E-4D35-A5CE-DECFB849B7D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6E25-558A-47EE-8FFD-EFA42A42C9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Промышленный переворот в Англии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7 класс. Составитель Бревнова Н.Ю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мышленный переворо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26920" y="2492280"/>
            <a:ext cx="1657440" cy="9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числ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зземель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естьян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1640" y="29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3429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08360" y="2492280"/>
            <a:ext cx="136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одск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еления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242100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360" y="342900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9272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292428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16720" y="2565360"/>
            <a:ext cx="103032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одов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2492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342900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2492280"/>
            <a:ext cx="158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249228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6720" y="292428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5640" y="3933720"/>
            <a:ext cx="2232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потреблени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абричной продукц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78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3789360"/>
            <a:ext cx="244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4360" y="4797360"/>
            <a:ext cx="244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78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4292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708360" y="3860640"/>
            <a:ext cx="216072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стемы машинн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зводств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3789360"/>
            <a:ext cx="0" cy="107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378936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486900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3789360"/>
            <a:ext cx="0" cy="107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2000" y="4292640"/>
            <a:ext cx="28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43640" y="4005360"/>
            <a:ext cx="187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английской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мышленнос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72360" y="378936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4941720"/>
            <a:ext cx="20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72360" y="3789360"/>
            <a:ext cx="20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8360" y="378936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59640" y="4292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6920" y="5373720"/>
            <a:ext cx="216072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витие торговл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522936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95008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5229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5229360"/>
            <a:ext cx="0" cy="72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5589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51280" y="5300640"/>
            <a:ext cx="1512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кладывание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нансого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питал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22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08360" y="522936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08360" y="6237360"/>
            <a:ext cx="180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08720" y="5229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ромышленный переворот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роцесс перехода от ручного труда к машинному, от мануфактуры к фабр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Мануфактура-предприятие с разделением труда, применением наемного труда, под одним руководств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Фабрика- крупное механизированное промышленное предприят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Буржуазия-класс капиталистических собственник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мышленный переворот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ромышленная революция была подготовлена и изобретениями разного рода механизмов. Их применение обеспечивало большую экономию ресурсов, в особенности трудовых , и рост производительности тру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Авторами многих изобретений особенно в первые десятилетия промышленного переворота, были рабочие, ремесленники и предприниматели,  в совершенстве владевшие своей професси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ромышленная революция началась в хлопчатобумажной промышлен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хнические изобретения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5г.-механическая прялка Джеймса Харгрив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7- прядильная машина Хей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69г- паровая машина Джеймса Уат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79- Мюль-машина Сэмюела Кромптон(для выработки тонкой и прочной пряж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-474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792г.- механический станок Эдмунда Картрай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7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общение по тем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В ходе аграрной и промышленной революций становилось больше предпринимателей и наемных рабочих. К концу 18 века  Англия стала первой промышленной страной мира, где наглядно проступали черты индустриального общества. В мире началась новая эпоха- индустриальн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грарная революция в Англии 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Сосредоточение земли в руках крупных собствен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спользование в сельском хозяйстве труда наемных рабочих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Исчезновение крестьян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Рост продуктивности сельского хозяй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возникновения капиталистического производства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ребу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Лично свободные люди, лишенные орудий труда и готовые работать за заработную плату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Накопление богатства- капитала, необходимого для организации крупных предприят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Рост финансового капитала, для дальнейшего развития производства и торгов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зменения в сельском хозяйстве Англи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2637000"/>
            <a:ext cx="733428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068640"/>
            <a:ext cx="288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47640" y="2492280"/>
            <a:ext cx="1133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XVI 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глия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лав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тавщ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к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95640" y="2781360"/>
            <a:ext cx="15336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 ц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английску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ер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306864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0" y="2708280"/>
            <a:ext cx="1457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звод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ук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44000" y="3068640"/>
            <a:ext cx="358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32000" y="4437000"/>
            <a:ext cx="1333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треб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овечь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ер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4869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24360" y="4437000"/>
            <a:ext cx="1619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обходим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обшир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астбищ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486900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43640" y="4437000"/>
            <a:ext cx="1924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рьб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евладельце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крестья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земл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59640" y="4869000"/>
            <a:ext cx="287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2492280"/>
            <a:ext cx="0" cy="15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400536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49228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492280"/>
            <a:ext cx="0" cy="15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2492280"/>
            <a:ext cx="0" cy="144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49228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3933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3716280"/>
            <a:ext cx="0" cy="217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3640" y="242100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386064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2421000"/>
            <a:ext cx="0" cy="1439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4365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589720"/>
            <a:ext cx="1871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4365720"/>
            <a:ext cx="180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5589720"/>
            <a:ext cx="180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436572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429264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4292640"/>
            <a:ext cx="208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5589720"/>
            <a:ext cx="2087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8360" y="4292640"/>
            <a:ext cx="0" cy="1297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зменения в сельском хозяйстве Англ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71640" y="3213000"/>
            <a:ext cx="17809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сильств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гон крестья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зем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3573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4000" y="3141720"/>
            <a:ext cx="3066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гон крестьян дворя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их наделов и превращ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их земель в пастбищ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ля овец - огоражи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59640" y="371628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948360" y="3357720"/>
            <a:ext cx="2067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свободных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юд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42920" y="4941720"/>
            <a:ext cx="207648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лич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бодных рабочи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5300640"/>
            <a:ext cx="43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27640" y="4869000"/>
            <a:ext cx="20764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вление ры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бодной рабоч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314172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14172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221000"/>
            <a:ext cx="216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3141720"/>
            <a:ext cx="0" cy="107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068640"/>
            <a:ext cx="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43700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306864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3068640"/>
            <a:ext cx="0" cy="1368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77080" y="3141720"/>
            <a:ext cx="215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36000" y="3141720"/>
            <a:ext cx="0" cy="93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3141720"/>
            <a:ext cx="0" cy="934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076640"/>
            <a:ext cx="2266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797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797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5805360"/>
            <a:ext cx="2303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479736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472428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72428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595008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16720" y="4724280"/>
            <a:ext cx="0" cy="122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Английские пословиц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Овцы пожирают людей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Копыто овцы превращает песок в золото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«Нет деревни, есть пастбище»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омас Мор «Об огораживани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«Ваши овцы, обычно такие кроткие, довольные очень не многим, теперь стали такими прожорливыми и неукротимыми, что поедают людей. С тех пор как всего один обжора, ненасытная и жестокая язва Отечества, уничтожает поля, он выбрасывает вон крестьян, лишает их надела различными способами.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обеда в Англии крупной земельной собственности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00000" y="249228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ндлорд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пны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емлевладелец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2997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3789360"/>
            <a:ext cx="0" cy="43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35280" y="2708280"/>
            <a:ext cx="12240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ендатор -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ермер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2997360"/>
            <a:ext cx="43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56360" y="2708280"/>
            <a:ext cx="129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естьянин-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трак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645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3429000"/>
            <a:ext cx="0" cy="504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360" y="4365720"/>
            <a:ext cx="21589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дает землю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рендуи получает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ендную плат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348000" y="4221000"/>
            <a:ext cx="223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дприниматель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рабатывает землю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ндлорд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84720" y="4292640"/>
            <a:ext cx="208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нимаеться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работу к фермеру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зар. плат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2421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2421000"/>
            <a:ext cx="172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3573360"/>
            <a:ext cx="1729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6000" y="2421000"/>
            <a:ext cx="0" cy="1152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2421000"/>
            <a:ext cx="151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2421000"/>
            <a:ext cx="0" cy="1008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3429000"/>
            <a:ext cx="1512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242100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421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335772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24720" y="2421000"/>
            <a:ext cx="0" cy="936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4292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29264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5373720"/>
            <a:ext cx="2305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6360" y="4292640"/>
            <a:ext cx="0" cy="1081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4149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300640"/>
            <a:ext cx="244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3640" y="4149720"/>
            <a:ext cx="2448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51640" y="4149720"/>
            <a:ext cx="0" cy="11509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422100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422100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40360" y="5373720"/>
            <a:ext cx="223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172360" y="422100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ледствие: Рациональное использование земельных ресурсов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ыращивание корма для ско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Использование песчаных поч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Переход к эффективному севооборот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Рост продуктивности сельского хозяйств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Значительное улучшение снабжения продовольствие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ывод: Аграрный переворот подготовил промышленный переворот в город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9:26:58Z</dcterms:created>
  <dc:creator>Admin</dc:creator>
  <dc:description/>
  <dc:language>en-US</dc:language>
  <cp:lastModifiedBy>Admin</cp:lastModifiedBy>
  <dcterms:modified xsi:type="dcterms:W3CDTF">2013-03-01T06:38:09Z</dcterms:modified>
  <cp:revision>9</cp:revision>
  <dc:subject/>
  <dc:title>Промышленный переворот в Англии</dc:title>
</cp:coreProperties>
</file>