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4CF-243F-48E9-BFD9-A9CBCA0E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1AC-FDF2-4FDB-BC7E-A253FC7A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4D8-7941-441A-87D9-9C2A48D0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B8F-83AA-4CA8-9C6F-5D7D863C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17495-DC46-43B1-977B-5721C61F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300C2-A53E-44D1-BC58-043B7CE5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BDCD7-583D-47D6-97A3-98F37F32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3C7F6-C15B-42F1-984D-C690029A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08E02-5398-40AE-AED8-1A198953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38337-7731-4F17-AB7A-514B34E5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38290-D64C-4026-8831-52CB104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A80-72F2-43BE-92A2-C6019086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D7F03-15AF-4350-94F0-0DFE5C8A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61D18-0488-43B2-A191-8446E49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AB471-8AD1-4B46-8D63-09FD31C2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21754-52D3-4FE5-9ED4-AA7DA9E0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930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86240" y="449568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60020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930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86240" y="4973400"/>
            <a:ext cx="218340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A2354-A10B-4810-8338-CAFC07D1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48B-EDD4-47B4-8BAF-80EC7928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C59-2C93-4776-8503-ACF30EE9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323-CAAF-4D14-B121-3C2C792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A66-2D5C-412D-8EF1-A42D4A9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2CD-6B09-4D89-ACA5-49F8E567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5280" y="497340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CF0-0228-4E3E-A5DA-BA02A3A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5280" y="4495680"/>
            <a:ext cx="330912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973400"/>
            <a:ext cx="6781680" cy="4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5F1-B6CC-4785-B022-CA887D5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ccc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4B4-065E-441A-8034-4405964F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DDFA-BE01-47ED-B56B-0014140DB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cccccc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cccccc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cc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348000" y="692280"/>
            <a:ext cx="554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Детские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молодежные общественные организации как партне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Georgia"/>
              </a:rPr>
              <a:t>ученического самоу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95640" cy="4702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1341360"/>
            <a:ext cx="8137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Комментарии к статье 32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а) Школа именно координирует, а не внедряет программы од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общественного объедин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б) Школа открывает возможности для деятельности других общественных объедин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eorgia"/>
              </a:rPr>
              <a:t>в) Школа в праве приостановить реализацию программы той или иной общественной организации, если это противоречит программе развития и воспитательной системе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7280" y="1628640"/>
            <a:ext cx="77346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татья 50. Права и социальная защита обучающихся,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4. Обучающиеся всех образовательных учреждений имеют право … </a:t>
            </a:r>
            <a:r>
              <a:rPr b="0" lang="en-US" sz="3600" spc="-1" strike="noStrike" u="sng">
                <a:solidFill>
                  <a:srgbClr val="000066"/>
                </a:solidFill>
                <a:uFillTx/>
                <a:latin typeface="Georgia"/>
              </a:rPr>
              <a:t>на участие в управлении образовательным учреждением</a:t>
            </a: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, на уважение своего человеческого достоинства, на свободу информации, на свободное выражение собственных мнений и убеж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1484280"/>
            <a:ext cx="81360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татья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Каждый имеет право на объединение. Свобода деятельности общественных объединений гарант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2. </a:t>
            </a:r>
            <a:r>
              <a:rPr b="1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Никто не может быть принужден к вступлению в какое-либо объединение или пребыванию в 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73000" y="333360"/>
            <a:ext cx="61365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76360" y="981000"/>
            <a:ext cx="6121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Жела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плодотворн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Georgia"/>
              </a:rPr>
              <a:t>партнерства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268280"/>
            <a:ext cx="727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Отсутствие у большинства педагогов  четких представлений об особенностях деятельности детских и молодежных  общественных организаций в общеобразователь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чреждени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о специфике 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взаим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 орган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чен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самоуправл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02440" y="260280"/>
            <a:ext cx="4350240" cy="7034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1b00"/>
                </a:solidFill>
                <a:latin typeface="Georgia"/>
              </a:rPr>
              <a:t>Су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32360" y="3338640"/>
            <a:ext cx="3959280" cy="325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260280"/>
            <a:ext cx="79930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ятельность детских и молодежных  общественных организаций в общеобразовательном учреждении прямо не рекомендована Министерством образования и региональными органами управления образованием</a:t>
            </a:r>
            <a:r>
              <a:rPr b="0" lang="en-US" sz="3600" spc="-1" strike="noStrike">
                <a:solidFill>
                  <a:srgbClr val="000066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42920" y="404640"/>
            <a:ext cx="777708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ятельность детских и молодежных  общественных организаций в общеобразовательном учреждении и есть функционирование ученического самоуп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476280"/>
            <a:ext cx="81356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61b00"/>
                </a:solidFill>
                <a:uFillTx/>
                <a:latin typeface="Georgia"/>
              </a:rPr>
              <a:t>Точка зрения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Georgia"/>
              </a:rPr>
              <a:t>Детские и молодежные  общественные организации действуют самостоятельно и являются основными партнерами ученического самоуправления в общеобразовательном учрежде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260280"/>
            <a:ext cx="572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Какой точки зрения придерживаетесь лично 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Готовы ли Вы привести аргумен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в ее пользу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8837" t="0" r="0" b="0"/>
          <a:stretch/>
        </p:blipFill>
        <p:spPr>
          <a:xfrm>
            <a:off x="5867280" y="260280"/>
            <a:ext cx="3079800" cy="604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4360" y="1413000"/>
            <a:ext cx="8135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Школьное учен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самоуправление и детские и молодежные общественные организации опираются на различные законы Р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</a:rPr>
              <a:t>1. Закон РФ "Об образовании"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</a:rPr>
              <a:t>2. Закон РФ "Об общественных объединениях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77400" y="189000"/>
            <a:ext cx="52084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авовые основы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08000" cy="693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125360"/>
            <a:ext cx="8209080" cy="58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Правовые основы шко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66"/>
                </a:solidFill>
                <a:uFillTx/>
                <a:latin typeface="Georgia"/>
              </a:rPr>
              <a:t>ученического само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Конституция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buClr>
                <a:srgbClr val="0000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2. Закон РФ "Об образовании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3. Типовое положение об общеобразовательном учреж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4. Устав обще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7400" y="189000"/>
            <a:ext cx="5208480" cy="520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Правовые основы партне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7c1ff"/>
            </a:gs>
            <a:gs pos="50000">
              <a:srgbClr val="ffffff"/>
            </a:gs>
            <a:gs pos="100000">
              <a:srgbClr val="97c1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32000" y="134136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Статья 32. Компетенция и ответственность образовательного учреждения</a:t>
            </a: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Georgia"/>
              </a:rPr>
              <a:t>21) координация в образовательном учреждении деятельности общественных (в том числе детских и молодежных) организаций (объединений), не запрещенных законо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89000"/>
            <a:ext cx="6553440" cy="5814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Georgia"/>
              </a:rPr>
              <a:t>Закон РФ "Об образовани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22:27Z</dcterms:created>
  <dc:creator>Alex</dc:creator>
  <dc:description/>
  <dc:language>en-US</dc:language>
  <cp:lastModifiedBy>ruslan</cp:lastModifiedBy>
  <dcterms:modified xsi:type="dcterms:W3CDTF">2008-12-30T08:01:45Z</dcterms:modified>
  <cp:revision>72</cp:revision>
  <dc:subject/>
  <dc:title>Слайд 1</dc:title>
</cp:coreProperties>
</file>