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522-89BF-48E5-84A7-AD0FCD78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5BD-0AE8-4591-B040-EC9A453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CE8-C333-4510-AACA-CAAE6E65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A2-66B0-4157-AFF7-C5CD3CB4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C40C4-128E-4FE5-B223-2F9DE7F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F1725-144E-4166-B5BA-64A79E9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FE7C5-AD31-4A8B-B15D-9968B31D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927C7-28D7-4A25-8A45-894EBF5E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A009-71CA-469A-A831-35C1BFF3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5D5EE-83A3-4A6C-8278-B63771B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F72A4-67F6-45FB-8A94-C01AB146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AB2-3EBA-4C37-A581-52FAE67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56CE6-8313-433B-BE4F-B348F597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474B9-18E3-44CD-881D-AD27918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BC87-189E-40AE-941C-1958CB9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3142D-D48B-4539-9B90-B48967B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E0A55-4B4E-4D75-866C-9E3371F4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404-7FDC-469A-8CA6-AC3C242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781-C25F-4855-A300-A878BC66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2B8-AA04-4A19-942E-E4BA9EA2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DE4-A6E6-47A3-89C7-8F740806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04A-45EB-4F70-88B9-D7B3F361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A80-8598-486B-96D2-719E78B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83F-2E9A-45A6-AB2D-4DAA2B5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F5B8-F2AE-4C97-907B-437590CB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3E8-0176-4F60-8B64-4A058BF6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48000" y="692280"/>
            <a:ext cx="554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Детски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молодежные общественные организации как партн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ученического самоу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5640" cy="4702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341360"/>
            <a:ext cx="813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Комментарии к статье 32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а) Школа именно координирует, а не внедряет программы 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общественного объеди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б) Школа открывает возможности для деятельности других общественных объеди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в) Школа в праве приостановить реализацию программы той или иной общественной организации, если это противоречит программе развития и воспитательной системе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1628640"/>
            <a:ext cx="77346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татья 50. Права и социальная защита обучающихся,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4. Обучающиеся всех образовательных учреждений имеют право … </a:t>
            </a:r>
            <a:r>
              <a:rPr b="0" lang="en-US" sz="3600" spc="-1" strike="noStrike" u="sng">
                <a:solidFill>
                  <a:srgbClr val="000066"/>
                </a:solidFill>
                <a:uFillTx/>
                <a:latin typeface="Georgia"/>
              </a:rPr>
              <a:t>на участие в управлении образовательным учреждением</a:t>
            </a: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, на уважение своего человеческого достоинства, на свободу информации, на свободное выражение собственных мнений и уб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484280"/>
            <a:ext cx="8136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татья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Каждый имеет право на объединение. Свобода деятельности общественных объединений гарант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2.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Никто не может быть принужден к вступлению в какое-либо объединение или пребыванию в 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73000" y="333360"/>
            <a:ext cx="61365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360" y="981000"/>
            <a:ext cx="6121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Жела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лодотвор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артнерства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68280"/>
            <a:ext cx="72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тсутствие у большинства педагогов  четких представлений об особенностях деятельности детских и молодежных  общественных организаций в общеобразовате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реждени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 специфике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взаим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 орга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ен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амоуправл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2440" y="260280"/>
            <a:ext cx="435024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1b00"/>
                </a:solidFill>
                <a:latin typeface="Georgia"/>
              </a:rPr>
              <a:t>Су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3338640"/>
            <a:ext cx="3959280" cy="325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260280"/>
            <a:ext cx="79930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прямо не рекомендована Министерством образования и региональными органами управления образованием</a:t>
            </a:r>
            <a:r>
              <a:rPr b="0" lang="en-US" sz="36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404640"/>
            <a:ext cx="77770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и есть функционирование ученического само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476280"/>
            <a:ext cx="81356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тские и молодежные  общественные организации действуют самостоятельно и являются основными партнерами ученического самоуправления в общеобразовательном учреж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572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Какой точки зрения придерживаетесь лично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Готовы ли Вы привести арг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в ее пользу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837" t="0" r="0" b="0"/>
          <a:stretch/>
        </p:blipFill>
        <p:spPr>
          <a:xfrm>
            <a:off x="5867280" y="260280"/>
            <a:ext cx="3079800" cy="604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413000"/>
            <a:ext cx="813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Школьное учен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амоуправление и детские и молодежные общественные организации опираются на различные законы Р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1. Закон РФ "Об образовании"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2. Закон РФ "Об общественных объединениях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125360"/>
            <a:ext cx="820908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Правовые основы шк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ученического само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Конституц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2. Закон РФ "Об образовании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3. Типовое положение об общеобразовательном учреж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4. Устав обще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32000" y="1341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татья 32. Компетенция и ответственность образовательного учреждения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21) координация в образовательном учреждении деятельности общественных (в том числе детских и молодежных) организаций (объединений), не запрещенных закон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2:27Z</dcterms:created>
  <dc:creator>Alex</dc:creator>
  <dc:description/>
  <dc:language>en-US</dc:language>
  <cp:lastModifiedBy>ruslan</cp:lastModifiedBy>
  <dcterms:modified xsi:type="dcterms:W3CDTF">2008-12-30T08:01:45Z</dcterms:modified>
  <cp:revision>72</cp:revision>
  <dc:subject/>
  <dc:title>Слайд 1</dc:title>
</cp:coreProperties>
</file>