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536A-C180-4AF5-BAC1-077632637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67816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600200" y="4973400"/>
            <a:ext cx="67816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D3CF-2248-4603-A958-968A861F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600200" y="497340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75280" y="497340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EF27-2A71-4ABA-90DA-3DC25B3BA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93040" y="449568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86240" y="449568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600200" y="497340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93040" y="497340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86240" y="497340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EA21-A256-486E-A18C-771067CD6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DF649-A56C-4B2A-8C37-F4D83CC1D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600200" y="4495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8D1BB-09E8-43B4-A51B-CE7CF6CF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C2EB0B-CF27-4566-8AE7-39ADA859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C76CD-AA8A-4B1C-BEA8-57CF3061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54837-F4A5-455B-8C5C-5A20B47D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8746A-CD5E-4034-8631-8A09B4B1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97340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6C8FE-CA31-4764-9EDF-4AB857D9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600200" y="4495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FA28-4CD8-48CB-A72F-A972F119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75280" y="497340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C228F-86B1-45EA-BD59-0F9A3F37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600200" y="4973400"/>
            <a:ext cx="67816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E142E-3892-42AF-B9D5-034E5E31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67816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600200" y="4973400"/>
            <a:ext cx="67816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531B8-9DB6-4D0A-BB96-4B93E9EE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600200" y="497340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75280" y="497340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2DB53-5D1E-44CA-BA3B-3772528A8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93040" y="449568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86240" y="449568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600200" y="497340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93040" y="497340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86240" y="497340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73686-36EB-4112-B308-0B0DC1EB5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45F7-2838-4AE3-9ADB-F3BFF5F5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888D-2CF3-420A-B208-5B1FAA4C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C509-8E39-4C39-9EDE-132D8136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C61F-4729-4208-BD80-210116A7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600200" y="497340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E99F-7A06-468E-962B-B2D21546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5280" y="497340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9372-C244-4D76-96AC-3BDC1BF8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600200" y="4973400"/>
            <a:ext cx="67816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EF5F-7095-4E91-BB13-104FCB12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cc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cccc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cccc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cc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3386-0822-4B94-AB9F-7B9DD7885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8B05-6C4F-4CB5-BBB5-21DA2B1F2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algn="ctr">
              <a:spcBef>
                <a:spcPts val="451"/>
              </a:spcBef>
              <a:buClr>
                <a:srgbClr val="cccccc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algn="ctr">
              <a:spcBef>
                <a:spcPts val="400"/>
              </a:spcBef>
              <a:buClr>
                <a:srgbClr val="cccccc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algn="ctr">
              <a:spcBef>
                <a:spcPts val="400"/>
              </a:spcBef>
              <a:buClr>
                <a:srgbClr val="cc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348000" y="692280"/>
            <a:ext cx="5545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Georgia"/>
              </a:rPr>
              <a:t>Детские 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Georgia"/>
              </a:rPr>
              <a:t>молодежные общественные организации как партнер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Georgia"/>
              </a:rPr>
              <a:t>ученического самоупра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3095640" cy="4702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26920" y="1341360"/>
            <a:ext cx="8137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Georgia"/>
              </a:rPr>
              <a:t>Комментарии к статье 32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eorgia"/>
              </a:rPr>
              <a:t>а) Школа именно координирует, а не внедряет программы од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eorgia"/>
              </a:rPr>
              <a:t>общественного объедин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eorgia"/>
              </a:rPr>
              <a:t>б) Школа открывает возможности для деятельности других общественных объедин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eorgia"/>
              </a:rPr>
              <a:t>в) Школа в праве приостановить реализацию программы той или иной общественной организации, если это противоречит программе развития и воспитательной системе образовательного учре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11280" y="189000"/>
            <a:ext cx="6553440" cy="5814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Закон РФ "Об образовании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87280" y="1628640"/>
            <a:ext cx="773460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Georgia"/>
              </a:rPr>
              <a:t>Статья 50. Права и социальная защита обучающихся, воспитан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Georgia"/>
              </a:rPr>
              <a:t>4. Обучающиеся всех образовательных учреждений имеют право … </a:t>
            </a:r>
            <a:r>
              <a:rPr b="0" lang="en-US" sz="3600" spc="-1" strike="noStrike" u="sng">
                <a:solidFill>
                  <a:srgbClr val="000066"/>
                </a:solidFill>
                <a:uFillTx/>
                <a:latin typeface="Georgia"/>
              </a:rPr>
              <a:t>на участие в управлении образовательным учреждением</a:t>
            </a:r>
            <a:r>
              <a:rPr b="0" lang="en-US" sz="2800" spc="-1" strike="noStrike">
                <a:solidFill>
                  <a:srgbClr val="000066"/>
                </a:solidFill>
                <a:latin typeface="Georgia"/>
              </a:rPr>
              <a:t>, на уважение своего человеческого достоинства, на свободу информации, на свободное выражение собственных мнений и убежд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11280" y="189000"/>
            <a:ext cx="6553440" cy="5814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Закон РФ "Об образовании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008000" cy="693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00000" y="1484280"/>
            <a:ext cx="813600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Статья 3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6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Georgia"/>
              </a:rPr>
              <a:t>Каждый имеет право на объединение. Свобода деятельности общественных объединений гарантиру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Georgia"/>
              </a:rPr>
              <a:t>2.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Georgia"/>
              </a:rPr>
              <a:t>Никто не может быть принужден к вступлению в какое-либо объединение или пребыванию в н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73000" y="333360"/>
            <a:ext cx="613656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Конституция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76360" y="981000"/>
            <a:ext cx="61214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Georgia"/>
              </a:rPr>
              <a:t>Желае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Georgia"/>
              </a:rPr>
              <a:t>плодотворног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Georgia"/>
              </a:rPr>
              <a:t>партнерства 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9280" y="1268280"/>
            <a:ext cx="7272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Georgia"/>
              </a:rPr>
              <a:t>     </a:t>
            </a:r>
            <a:r>
              <a:rPr b="1" lang="en-US" sz="2800" spc="-1" strike="noStrike">
                <a:solidFill>
                  <a:srgbClr val="000066"/>
                </a:solidFill>
                <a:latin typeface="Georgia"/>
              </a:rPr>
              <a:t>Отсутствие у большинства педагогов  четких представлений об особенностях деятельности детских и молодежных  общественных организаций в общеобразователь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Georgia"/>
              </a:rPr>
              <a:t>учреждении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Georgia"/>
              </a:rPr>
              <a:t>о специфике 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Georgia"/>
              </a:rPr>
              <a:t>взаимоотнош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Georgia"/>
              </a:rPr>
              <a:t>с орган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Georgia"/>
              </a:rPr>
              <a:t>учениче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Georgia"/>
              </a:rPr>
              <a:t>самоуправления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02440" y="260280"/>
            <a:ext cx="4350240" cy="70344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1b00"/>
                </a:solidFill>
                <a:latin typeface="Georgia"/>
              </a:rPr>
              <a:t>Суть пробл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932360" y="3338640"/>
            <a:ext cx="3959280" cy="3259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00000" y="260280"/>
            <a:ext cx="799308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61b00"/>
                </a:solidFill>
                <a:uFillTx/>
                <a:latin typeface="Georgia"/>
              </a:rPr>
              <a:t>Точка зрения №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Деятельность детских и молодежных  общественных организаций в общеобразовательном учреждении прямо не рекомендована Министерством образования и региональными органами управления образованием</a:t>
            </a:r>
            <a:r>
              <a:rPr b="0" lang="en-US" sz="3600" spc="-1" strike="noStrike">
                <a:solidFill>
                  <a:srgbClr val="000066"/>
                </a:solidFill>
                <a:latin typeface="Georg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42920" y="404640"/>
            <a:ext cx="777708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61b00"/>
                </a:solidFill>
                <a:uFillTx/>
                <a:latin typeface="Georgia"/>
              </a:rPr>
              <a:t>Точка зрения №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Деятельность детских и молодежных  общественных организаций в общеобразовательном учреждении и есть функционирование ученического самоуправ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4360" y="476280"/>
            <a:ext cx="81356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61b00"/>
                </a:solidFill>
                <a:uFillTx/>
                <a:latin typeface="Georgia"/>
              </a:rPr>
              <a:t>Точка зрения №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Детские и молодежные  общественные организации действуют самостоятельно и являются основными партнерами ученического самоуправления в общеобразовательном учрежден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9280" y="260280"/>
            <a:ext cx="57247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Какой точки зрения придерживаетесь лично В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Готовы ли Вы привести аргумен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в ее пользу 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8837" t="0" r="0" b="0"/>
          <a:stretch/>
        </p:blipFill>
        <p:spPr>
          <a:xfrm>
            <a:off x="5867280" y="260280"/>
            <a:ext cx="3079800" cy="6048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008000" cy="693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84360" y="1413000"/>
            <a:ext cx="81356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Школьное учениче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самоуправление и детские и молодежные общественные организации опираются на различные законы Р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Georgia"/>
              </a:rPr>
              <a:t>1. Закон РФ "Об образовании"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Georgia"/>
              </a:rPr>
              <a:t>2. Закон РФ "Об общественных объединениях"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77400" y="189000"/>
            <a:ext cx="5208480" cy="52056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Правовые основы партне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008000" cy="693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55640" y="1125360"/>
            <a:ext cx="8209080" cy="58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Georgia"/>
              </a:rPr>
              <a:t>Правовые основы школь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Georgia"/>
              </a:rPr>
              <a:t>ученического самоуправ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  <a:buClr>
                <a:srgbClr val="00006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Конституция РФ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  <a:buClr>
                <a:srgbClr val="00006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2. Закон РФ "Об образовании"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3. Типовое положение об общеобразовательном учрежд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4. Устав общеобразовательного учре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77400" y="189000"/>
            <a:ext cx="5208480" cy="52056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Правовые основы партне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32000" y="1341360"/>
            <a:ext cx="763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Статья 32. Компетенция и ответственность образовательного учреждения</a:t>
            </a:r>
            <a:r>
              <a:rPr b="0" lang="en-US" sz="3200" spc="-1" strike="noStrike">
                <a:solidFill>
                  <a:srgbClr val="000066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Georgia"/>
              </a:rPr>
              <a:t>21) координация в образовательном учреждении деятельности общественных (в том числе детских и молодежных) организаций (объединений), не запрещенных законо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189000"/>
            <a:ext cx="6553440" cy="5814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Закон РФ "Об образовании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0:22:27Z</dcterms:created>
  <dc:creator>Alex</dc:creator>
  <dc:description/>
  <dc:language>en-US</dc:language>
  <cp:lastModifiedBy>ruslan</cp:lastModifiedBy>
  <dcterms:modified xsi:type="dcterms:W3CDTF">2008-12-30T08:01:45Z</dcterms:modified>
  <cp:revision>72</cp:revision>
  <dc:subject/>
  <dc:title>Слайд 1</dc:title>
</cp:coreProperties>
</file>