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221-AF4F-405A-84E8-0F2071E5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194-9498-4744-B35F-5C8EEEFD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D84-6922-4F32-9F91-EEFA80EB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293-F3EB-43A6-96C7-D775CB22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C77-466F-4B68-A592-5309ACDF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938-6354-4031-93A5-073DAF7E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381-8FFB-4DA9-890D-A1DF706A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816-F050-422A-A084-5AACFF87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7B1-5C63-42E8-BDD6-72509D46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FA1-15C1-46B5-A299-8126CAA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B76-0253-4BF6-A246-7161AFEB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E9F-9C45-4E6E-BDF8-1691AD43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E670-310C-43F3-986A-6FA7A6B8E3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5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412"/>
                </a:solidFill>
                <a:latin typeface="Times New Roman"/>
              </a:rPr>
              <a:t>Световые квант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47240" y="0"/>
            <a:ext cx="50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Теория фотоэфф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26920" y="981000"/>
            <a:ext cx="5832360" cy="5032440"/>
            <a:chOff x="826920" y="981000"/>
            <a:chExt cx="5832360" cy="503244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26920" y="981000"/>
                  <a:ext cx="2349360" cy="503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h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в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А</m:t>
                                  </m:r>
                                </m:e>
                                <m:sub>
                                  <m:r>
                                    <m:t xml:space="preserve">в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c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hc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в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3634920" y="4365720"/>
              <a:ext cx="302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 красная граница фотоэффект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03280" y="3429000"/>
              <a:ext cx="216000" cy="237636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761640" y="981000"/>
            <a:ext cx="4842720" cy="1407240"/>
            <a:chOff x="3761640" y="981000"/>
            <a:chExt cx="4842720" cy="1407240"/>
          </a:xfrm>
        </p:grpSpPr>
        <p:sp>
          <p:nvSpPr>
            <p:cNvPr id="229" name=""/>
            <p:cNvSpPr/>
            <p:nvPr/>
          </p:nvSpPr>
          <p:spPr>
            <a:xfrm>
              <a:off x="3761640" y="1341360"/>
              <a:ext cx="79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сл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3640" y="1197000"/>
              <a:ext cx="21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 фотоэффект не наступа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932360" y="981000"/>
                  <a:ext cx="13683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λ</m:t>
                          </m:r>
                          <m:r>
                            <m:t xml:space="preserve">&gt;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sub>
                          </m:sSub>
                        </m:e>
                        <m:e>
                          <m:r>
                            <m:t xml:space="preserve">ν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716360" y="1125360"/>
              <a:ext cx="1728720" cy="1008360"/>
            </a:xfrm>
            <a:prstGeom prst="bracePair">
              <a:avLst>
                <a:gd name="adj" fmla="val 8333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947240" y="0"/>
            <a:ext cx="50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Теория фотоэфф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042920" y="1557360"/>
                <a:ext cx="3014640" cy="378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r>
                          <m:t xml:space="preserve">hν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hν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e>
                          <m:sub>
                            <m:r>
                              <m:t xml:space="preserve">з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187280" y="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Рентгеновские спек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6335640" cy="4321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07960" y="78588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9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льгельм Рентг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068720" y="836640"/>
            <a:ext cx="3885840" cy="1457280"/>
            <a:chOff x="4068720" y="836640"/>
            <a:chExt cx="3885840" cy="1457280"/>
          </a:xfrm>
        </p:grpSpPr>
        <p:sp>
          <p:nvSpPr>
            <p:cNvPr id="241" name=""/>
            <p:cNvSpPr/>
            <p:nvPr/>
          </p:nvSpPr>
          <p:spPr>
            <a:xfrm>
              <a:off x="4570200" y="90792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1640" y="90792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38560" y="1268280"/>
              <a:ext cx="431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51640" y="1268280"/>
              <a:ext cx="502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68720" y="836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38560" y="1413000"/>
              <a:ext cx="215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25080" y="83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7667280" y="1341360"/>
              <a:ext cx="287280" cy="287280"/>
              <a:chOff x="7667280" y="1341360"/>
              <a:chExt cx="287280" cy="287280"/>
            </a:xfrm>
          </p:grpSpPr>
          <p:sp>
            <p:nvSpPr>
              <p:cNvPr id="249" name=""/>
              <p:cNvSpPr/>
              <p:nvPr/>
            </p:nvSpPr>
            <p:spPr>
              <a:xfrm>
                <a:off x="7667280" y="1484280"/>
                <a:ext cx="2872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11640" y="1341360"/>
                <a:ext cx="0" cy="2872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5435280" y="836640"/>
              <a:ext cx="482040" cy="504720"/>
              <a:chOff x="5435280" y="836640"/>
              <a:chExt cx="482040" cy="504720"/>
            </a:xfrm>
          </p:grpSpPr>
          <p:sp>
            <p:nvSpPr>
              <p:cNvPr id="252" name=""/>
              <p:cNvSpPr/>
              <p:nvPr/>
            </p:nvSpPr>
            <p:spPr>
              <a:xfrm>
                <a:off x="5435280" y="1197000"/>
                <a:ext cx="142560" cy="144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506560" y="1268280"/>
                <a:ext cx="36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4" name=""/>
                  <p:cNvSpPr txBox="1"/>
                  <p:nvPr/>
                </p:nvSpPr>
                <p:spPr>
                  <a:xfrm>
                    <a:off x="5577840" y="836640"/>
                    <a:ext cx="33948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5" name=""/>
            <p:cNvSpPr/>
            <p:nvPr/>
          </p:nvSpPr>
          <p:spPr>
            <a:xfrm>
              <a:off x="6803640" y="177336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528000">
              <a:off x="6587280" y="1557000"/>
              <a:ext cx="1008360" cy="144000"/>
            </a:xfrm>
            <a:custGeom>
              <a:avLst/>
              <a:gdLst/>
              <a:ahLst/>
              <a:rect l="l" t="t" r="r" b="b"/>
              <a:pathLst>
                <a:path w="2994" h="492">
                  <a:moveTo>
                    <a:pt x="0" y="454"/>
                  </a:moveTo>
                  <a:cubicBezTo>
                    <a:pt x="151" y="227"/>
                    <a:pt x="303" y="0"/>
                    <a:pt x="454" y="0"/>
                  </a:cubicBezTo>
                  <a:cubicBezTo>
                    <a:pt x="605" y="0"/>
                    <a:pt x="757" y="454"/>
                    <a:pt x="908" y="454"/>
                  </a:cubicBezTo>
                  <a:cubicBezTo>
                    <a:pt x="1059" y="454"/>
                    <a:pt x="1210" y="0"/>
                    <a:pt x="1361" y="0"/>
                  </a:cubicBezTo>
                  <a:cubicBezTo>
                    <a:pt x="1512" y="0"/>
                    <a:pt x="1664" y="454"/>
                    <a:pt x="1815" y="454"/>
                  </a:cubicBezTo>
                  <a:cubicBezTo>
                    <a:pt x="1966" y="454"/>
                    <a:pt x="2117" y="0"/>
                    <a:pt x="2268" y="0"/>
                  </a:cubicBezTo>
                  <a:cubicBezTo>
                    <a:pt x="2419" y="0"/>
                    <a:pt x="2601" y="416"/>
                    <a:pt x="2722" y="454"/>
                  </a:cubicBezTo>
                  <a:cubicBezTo>
                    <a:pt x="2843" y="492"/>
                    <a:pt x="2918" y="359"/>
                    <a:pt x="2994" y="2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9652400">
              <a:off x="6514560" y="1412640"/>
              <a:ext cx="1007640" cy="144360"/>
            </a:xfrm>
            <a:custGeom>
              <a:avLst/>
              <a:gdLst/>
              <a:ahLst/>
              <a:rect l="l" t="t" r="r" b="b"/>
              <a:pathLst>
                <a:path w="2994" h="492">
                  <a:moveTo>
                    <a:pt x="0" y="454"/>
                  </a:moveTo>
                  <a:cubicBezTo>
                    <a:pt x="151" y="227"/>
                    <a:pt x="303" y="0"/>
                    <a:pt x="454" y="0"/>
                  </a:cubicBezTo>
                  <a:cubicBezTo>
                    <a:pt x="605" y="0"/>
                    <a:pt x="757" y="454"/>
                    <a:pt x="908" y="454"/>
                  </a:cubicBezTo>
                  <a:cubicBezTo>
                    <a:pt x="1059" y="454"/>
                    <a:pt x="1210" y="0"/>
                    <a:pt x="1361" y="0"/>
                  </a:cubicBezTo>
                  <a:cubicBezTo>
                    <a:pt x="1512" y="0"/>
                    <a:pt x="1664" y="454"/>
                    <a:pt x="1815" y="454"/>
                  </a:cubicBezTo>
                  <a:cubicBezTo>
                    <a:pt x="1966" y="454"/>
                    <a:pt x="2117" y="0"/>
                    <a:pt x="2268" y="0"/>
                  </a:cubicBezTo>
                  <a:cubicBezTo>
                    <a:pt x="2419" y="0"/>
                    <a:pt x="2601" y="416"/>
                    <a:pt x="2722" y="454"/>
                  </a:cubicBezTo>
                  <a:cubicBezTo>
                    <a:pt x="2843" y="492"/>
                    <a:pt x="2918" y="359"/>
                    <a:pt x="2994" y="2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87280" y="0"/>
            <a:ext cx="63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Рентгеновские спектр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ергия излучения не может быть больше энергии электр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405080" y="907920"/>
            <a:ext cx="3886200" cy="1457280"/>
            <a:chOff x="1405080" y="907920"/>
            <a:chExt cx="3886200" cy="1457280"/>
          </a:xfrm>
        </p:grpSpPr>
        <p:sp>
          <p:nvSpPr>
            <p:cNvPr id="262" name=""/>
            <p:cNvSpPr/>
            <p:nvPr/>
          </p:nvSpPr>
          <p:spPr>
            <a:xfrm>
              <a:off x="1906560" y="97920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88000" y="979200"/>
              <a:ext cx="0" cy="649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74920" y="1339560"/>
              <a:ext cx="431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88000" y="1339560"/>
              <a:ext cx="50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05080" y="907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74920" y="1484280"/>
              <a:ext cx="215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61440" y="907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5003640" y="1412640"/>
              <a:ext cx="287640" cy="287280"/>
              <a:chOff x="5003640" y="1412640"/>
              <a:chExt cx="287640" cy="287280"/>
            </a:xfrm>
          </p:grpSpPr>
          <p:sp>
            <p:nvSpPr>
              <p:cNvPr id="270" name=""/>
              <p:cNvSpPr/>
              <p:nvPr/>
            </p:nvSpPr>
            <p:spPr>
              <a:xfrm>
                <a:off x="5003640" y="1555560"/>
                <a:ext cx="2876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148360" y="1412640"/>
                <a:ext cx="0" cy="2872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71640" y="907920"/>
              <a:ext cx="482760" cy="504720"/>
              <a:chOff x="2771640" y="907920"/>
              <a:chExt cx="482760" cy="504720"/>
            </a:xfrm>
          </p:grpSpPr>
          <p:sp>
            <p:nvSpPr>
              <p:cNvPr id="273" name=""/>
              <p:cNvSpPr/>
              <p:nvPr/>
            </p:nvSpPr>
            <p:spPr>
              <a:xfrm>
                <a:off x="2771640" y="1268280"/>
                <a:ext cx="142920" cy="144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43280" y="133956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5" name=""/>
                  <p:cNvSpPr txBox="1"/>
                  <p:nvPr/>
                </p:nvSpPr>
                <p:spPr>
                  <a:xfrm>
                    <a:off x="2914560" y="907920"/>
                    <a:ext cx="33984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6" name=""/>
            <p:cNvSpPr/>
            <p:nvPr/>
          </p:nvSpPr>
          <p:spPr>
            <a:xfrm>
              <a:off x="4140000" y="184464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528000">
              <a:off x="3924000" y="1628280"/>
              <a:ext cx="1008360" cy="144360"/>
            </a:xfrm>
            <a:custGeom>
              <a:avLst/>
              <a:gdLst/>
              <a:ahLst/>
              <a:rect l="l" t="t" r="r" b="b"/>
              <a:pathLst>
                <a:path w="2994" h="492">
                  <a:moveTo>
                    <a:pt x="0" y="454"/>
                  </a:moveTo>
                  <a:cubicBezTo>
                    <a:pt x="151" y="227"/>
                    <a:pt x="303" y="0"/>
                    <a:pt x="454" y="0"/>
                  </a:cubicBezTo>
                  <a:cubicBezTo>
                    <a:pt x="605" y="0"/>
                    <a:pt x="757" y="454"/>
                    <a:pt x="908" y="454"/>
                  </a:cubicBezTo>
                  <a:cubicBezTo>
                    <a:pt x="1059" y="454"/>
                    <a:pt x="1210" y="0"/>
                    <a:pt x="1361" y="0"/>
                  </a:cubicBezTo>
                  <a:cubicBezTo>
                    <a:pt x="1512" y="0"/>
                    <a:pt x="1664" y="454"/>
                    <a:pt x="1815" y="454"/>
                  </a:cubicBezTo>
                  <a:cubicBezTo>
                    <a:pt x="1966" y="454"/>
                    <a:pt x="2117" y="0"/>
                    <a:pt x="2268" y="0"/>
                  </a:cubicBezTo>
                  <a:cubicBezTo>
                    <a:pt x="2419" y="0"/>
                    <a:pt x="2601" y="416"/>
                    <a:pt x="2722" y="454"/>
                  </a:cubicBezTo>
                  <a:cubicBezTo>
                    <a:pt x="2843" y="492"/>
                    <a:pt x="2918" y="359"/>
                    <a:pt x="2994" y="2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652400">
              <a:off x="3850920" y="1484280"/>
              <a:ext cx="1008000" cy="144360"/>
            </a:xfrm>
            <a:custGeom>
              <a:avLst/>
              <a:gdLst/>
              <a:ahLst/>
              <a:rect l="l" t="t" r="r" b="b"/>
              <a:pathLst>
                <a:path w="2994" h="492">
                  <a:moveTo>
                    <a:pt x="0" y="454"/>
                  </a:moveTo>
                  <a:cubicBezTo>
                    <a:pt x="151" y="227"/>
                    <a:pt x="303" y="0"/>
                    <a:pt x="454" y="0"/>
                  </a:cubicBezTo>
                  <a:cubicBezTo>
                    <a:pt x="605" y="0"/>
                    <a:pt x="757" y="454"/>
                    <a:pt x="908" y="454"/>
                  </a:cubicBezTo>
                  <a:cubicBezTo>
                    <a:pt x="1059" y="454"/>
                    <a:pt x="1210" y="0"/>
                    <a:pt x="1361" y="0"/>
                  </a:cubicBezTo>
                  <a:cubicBezTo>
                    <a:pt x="1512" y="0"/>
                    <a:pt x="1664" y="454"/>
                    <a:pt x="1815" y="454"/>
                  </a:cubicBezTo>
                  <a:cubicBezTo>
                    <a:pt x="1966" y="454"/>
                    <a:pt x="2117" y="0"/>
                    <a:pt x="2268" y="0"/>
                  </a:cubicBezTo>
                  <a:cubicBezTo>
                    <a:pt x="2419" y="0"/>
                    <a:pt x="2601" y="416"/>
                    <a:pt x="2722" y="454"/>
                  </a:cubicBezTo>
                  <a:cubicBezTo>
                    <a:pt x="2843" y="492"/>
                    <a:pt x="2918" y="359"/>
                    <a:pt x="2994" y="2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5280" y="3500280"/>
                <a:ext cx="2665440" cy="260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v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4572000" y="39337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чет постоянной Пла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67280" y="4581360"/>
                <a:ext cx="18716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U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08000" y="44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Эффект Компто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90792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тур Хол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00360" y="479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1b0a"/>
                </a:solidFill>
                <a:latin typeface="Times New Roman"/>
              </a:rPr>
              <a:t>hv</a:t>
            </a:r>
            <a:r>
              <a:rPr b="1" i="1" lang="ru-RU" sz="1400" spc="-1" strike="noStrike">
                <a:solidFill>
                  <a:srgbClr val="fc1b0a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3434000">
            <a:off x="1793520" y="4896720"/>
            <a:ext cx="1297080" cy="144360"/>
          </a:xfrm>
          <a:custGeom>
            <a:avLst/>
            <a:gdLst/>
            <a:ahLst/>
            <a:rect l="l" t="t" r="r" b="b"/>
            <a:pathLst>
              <a:path w="2994" h="492">
                <a:moveTo>
                  <a:pt x="0" y="454"/>
                </a:moveTo>
                <a:cubicBezTo>
                  <a:pt x="151" y="227"/>
                  <a:pt x="303" y="0"/>
                  <a:pt x="454" y="0"/>
                </a:cubicBezTo>
                <a:cubicBezTo>
                  <a:pt x="605" y="0"/>
                  <a:pt x="757" y="454"/>
                  <a:pt x="908" y="454"/>
                </a:cubicBezTo>
                <a:cubicBezTo>
                  <a:pt x="1059" y="454"/>
                  <a:pt x="1210" y="0"/>
                  <a:pt x="1361" y="0"/>
                </a:cubicBezTo>
                <a:cubicBezTo>
                  <a:pt x="1512" y="0"/>
                  <a:pt x="1664" y="454"/>
                  <a:pt x="1815" y="454"/>
                </a:cubicBezTo>
                <a:cubicBezTo>
                  <a:pt x="1966" y="454"/>
                  <a:pt x="2117" y="0"/>
                  <a:pt x="2268" y="0"/>
                </a:cubicBezTo>
                <a:cubicBezTo>
                  <a:pt x="2419" y="0"/>
                  <a:pt x="2601" y="416"/>
                  <a:pt x="2722" y="454"/>
                </a:cubicBezTo>
                <a:cubicBezTo>
                  <a:pt x="2843" y="492"/>
                  <a:pt x="2918" y="359"/>
                  <a:pt x="2994" y="227"/>
                </a:cubicBezTo>
              </a:path>
            </a:pathLst>
          </a:custGeom>
          <a:noFill/>
          <a:ln w="38160">
            <a:solidFill>
              <a:srgbClr val="fc1b0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655400">
            <a:off x="539280" y="4365360"/>
            <a:ext cx="1008000" cy="144360"/>
          </a:xfrm>
          <a:custGeom>
            <a:avLst/>
            <a:gdLst/>
            <a:ahLst/>
            <a:rect l="l" t="t" r="r" b="b"/>
            <a:pathLst>
              <a:path w="2994" h="492">
                <a:moveTo>
                  <a:pt x="0" y="454"/>
                </a:moveTo>
                <a:cubicBezTo>
                  <a:pt x="151" y="227"/>
                  <a:pt x="303" y="0"/>
                  <a:pt x="454" y="0"/>
                </a:cubicBezTo>
                <a:cubicBezTo>
                  <a:pt x="605" y="0"/>
                  <a:pt x="757" y="454"/>
                  <a:pt x="908" y="454"/>
                </a:cubicBezTo>
                <a:cubicBezTo>
                  <a:pt x="1059" y="454"/>
                  <a:pt x="1210" y="0"/>
                  <a:pt x="1361" y="0"/>
                </a:cubicBezTo>
                <a:cubicBezTo>
                  <a:pt x="1512" y="0"/>
                  <a:pt x="1664" y="454"/>
                  <a:pt x="1815" y="454"/>
                </a:cubicBezTo>
                <a:cubicBezTo>
                  <a:pt x="1966" y="454"/>
                  <a:pt x="2117" y="0"/>
                  <a:pt x="2268" y="0"/>
                </a:cubicBezTo>
                <a:cubicBezTo>
                  <a:pt x="2419" y="0"/>
                  <a:pt x="2601" y="416"/>
                  <a:pt x="2722" y="454"/>
                </a:cubicBezTo>
                <a:cubicBezTo>
                  <a:pt x="2843" y="492"/>
                  <a:pt x="2918" y="359"/>
                  <a:pt x="2994" y="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2205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ота света уменьшается при его рассеянии на электро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19280" y="4221000"/>
            <a:ext cx="288720" cy="287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79640" y="3645000"/>
            <a:ext cx="79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43280" y="3357720"/>
            <a:ext cx="288720" cy="287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44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v</a:t>
            </a:r>
            <a:r>
              <a:rPr b="1" i="1" lang="ru-RU" sz="1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5280" y="5734080"/>
                <a:ext cx="19731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r>
                      <m:t xml:space="preserve">hΔ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3851280" y="3716280"/>
            <a:ext cx="50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яется закон сохранения импуль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572000" y="4797360"/>
                <a:ext cx="2521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357360" y="0"/>
            <a:ext cx="21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Фотон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24000" y="1052640"/>
                <a:ext cx="287964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o</m:t>
                        </m:r>
                      </m:e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250920" y="2781360"/>
            <a:ext cx="6877080" cy="1822320"/>
            <a:chOff x="250920" y="2781360"/>
            <a:chExt cx="6877080" cy="182232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250920" y="2781360"/>
                  <a:ext cx="2733480" cy="18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ν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h</m:t>
                          </m:r>
                          <m:f>
                            <m:num>
                              <m:r>
                                <m:t xml:space="preserve">c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4140360" y="3068640"/>
                  <a:ext cx="2987640" cy="130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hν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t xml:space="preserve">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sSub>
                            <m:e>
                              <m:r>
                                <m:t xml:space="preserve">cλ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2" name=""/>
            <p:cNvSpPr/>
            <p:nvPr/>
          </p:nvSpPr>
          <p:spPr>
            <a:xfrm>
              <a:off x="3419640" y="2852640"/>
              <a:ext cx="288720" cy="1727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24000" y="4653000"/>
                <a:ext cx="23763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ν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643280" y="1052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тоны – частицы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195640" y="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Давление све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95280" y="1125360"/>
                <a:ext cx="2108160" cy="29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ν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3635280" y="836640"/>
            <a:ext cx="5257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0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р Николаевич Лебед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пыты по измерению давления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6000" y="2708280"/>
            <a:ext cx="914400" cy="3168720"/>
            <a:chOff x="5796000" y="2708280"/>
            <a:chExt cx="914400" cy="3168720"/>
          </a:xfrm>
        </p:grpSpPr>
        <p:grpSp>
          <p:nvGrpSpPr>
            <p:cNvPr id="310" name=""/>
            <p:cNvGrpSpPr/>
            <p:nvPr/>
          </p:nvGrpSpPr>
          <p:grpSpPr>
            <a:xfrm>
              <a:off x="5796000" y="3139920"/>
              <a:ext cx="914400" cy="2498400"/>
              <a:chOff x="5796000" y="3139920"/>
              <a:chExt cx="914400" cy="2498400"/>
            </a:xfrm>
          </p:grpSpPr>
          <p:sp>
            <p:nvSpPr>
              <p:cNvPr id="311" name=""/>
              <p:cNvSpPr/>
              <p:nvPr/>
            </p:nvSpPr>
            <p:spPr>
              <a:xfrm>
                <a:off x="6081120" y="3139920"/>
                <a:ext cx="291960" cy="67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" y="8868"/>
                    </a:moveTo>
                    <a:arcTo wR="10800" hR="10800" stAng="-10181742" swAng="9719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" y="8868"/>
                    </a:moveTo>
                    <a:arcTo wR="10800" hR="10800" stAng="-10181742" swAng="9719427"/>
                  </a:path>
                </a:pathLst>
              </a:custGeom>
              <a:gradFill rotWithShape="0">
                <a:gsLst>
                  <a:gs pos="0">
                    <a:srgbClr val="bbdada"/>
                  </a:gs>
                  <a:gs pos="50000">
                    <a:srgbClr val="dbffff"/>
                  </a:gs>
                  <a:gs pos="100000">
                    <a:srgbClr val="bbdad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0800000">
                <a:off x="6082200" y="4962600"/>
                <a:ext cx="291960" cy="67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" y="8868"/>
                    </a:moveTo>
                    <a:arcTo wR="10800" hR="10800" stAng="-10181742" swAng="9719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" y="8868"/>
                    </a:moveTo>
                    <a:arcTo wR="10800" hR="10800" stAng="-10181742" swAng="9719427"/>
                  </a:path>
                </a:pathLst>
              </a:custGeom>
              <a:gradFill rotWithShape="0">
                <a:gsLst>
                  <a:gs pos="0">
                    <a:srgbClr val="bbdada"/>
                  </a:gs>
                  <a:gs pos="50000">
                    <a:srgbClr val="dbffff"/>
                  </a:gs>
                  <a:gs pos="100000">
                    <a:srgbClr val="bbda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96000" y="3427200"/>
                <a:ext cx="914400" cy="1944720"/>
              </a:xfrm>
              <a:custGeom>
                <a:avLst/>
                <a:gdLst>
                  <a:gd name="textAreaLeft" fmla="*/ 108720 w 914400"/>
                  <a:gd name="textAreaRight" fmla="*/ 805680 w 914400"/>
                  <a:gd name="textAreaTop" fmla="*/ 108720 h 1944720"/>
                  <a:gd name="textAreaBottom" fmla="*/ 1836000 h 1944720"/>
                </a:gdLst>
                <a:ahLst/>
                <a:rect l="textAreaLeft" t="textAreaTop" r="textAreaRight" b="textAreaBottom"/>
                <a:pathLst>
                  <a:path w="21600" h="45929">
                    <a:moveTo>
                      <a:pt x="8775" y="0"/>
                    </a:moveTo>
                    <a:arcTo wR="8775" hR="8775" stAng="16200000" swAng="-5400000"/>
                    <a:lnTo>
                      <a:pt x="0" y="37154"/>
                    </a:lnTo>
                    <a:arcTo wR="8775" hR="8775" stAng="10800000" swAng="-5400000"/>
                    <a:lnTo>
                      <a:pt x="12825" y="45929"/>
                    </a:lnTo>
                    <a:arcTo wR="8775" hR="8775" stAng="5400000" swAng="-5400000"/>
                    <a:lnTo>
                      <a:pt x="21600" y="8775"/>
                    </a:lnTo>
                    <a:arcTo wR="8775" hR="8775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bdada"/>
                  </a:gs>
                  <a:gs pos="50000">
                    <a:srgbClr val="dbffff"/>
                  </a:gs>
                  <a:gs pos="100000">
                    <a:srgbClr val="bbdad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227640" y="2851200"/>
              <a:ext cx="0" cy="302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867280" y="3860280"/>
              <a:ext cx="720720" cy="142920"/>
              <a:chOff x="5867280" y="3860280"/>
              <a:chExt cx="720720" cy="142920"/>
            </a:xfrm>
          </p:grpSpPr>
          <p:sp>
            <p:nvSpPr>
              <p:cNvPr id="316" name=""/>
              <p:cNvSpPr/>
              <p:nvPr/>
            </p:nvSpPr>
            <p:spPr>
              <a:xfrm rot="10800000">
                <a:off x="6231960" y="3860280"/>
                <a:ext cx="356040" cy="14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0800000">
                <a:off x="5867280" y="3860280"/>
                <a:ext cx="35604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867280" y="4579560"/>
              <a:ext cx="720720" cy="142920"/>
              <a:chOff x="5867280" y="4579560"/>
              <a:chExt cx="720720" cy="142920"/>
            </a:xfrm>
          </p:grpSpPr>
          <p:sp>
            <p:nvSpPr>
              <p:cNvPr id="319" name=""/>
              <p:cNvSpPr/>
              <p:nvPr/>
            </p:nvSpPr>
            <p:spPr>
              <a:xfrm rot="10800000">
                <a:off x="6231960" y="4579560"/>
                <a:ext cx="356040" cy="142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0800000">
                <a:off x="5867280" y="4579560"/>
                <a:ext cx="356040" cy="142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940360" y="2708280"/>
              <a:ext cx="372960" cy="358560"/>
            </a:xfrm>
            <a:custGeom>
              <a:avLst/>
              <a:gdLst>
                <a:gd name="textAreaLeft" fmla="*/ 49680 w 372960"/>
                <a:gd name="textAreaRight" fmla="*/ 323280 w 372960"/>
                <a:gd name="textAreaTop" fmla="*/ 64440 h 358560"/>
                <a:gd name="textAreaBottom" fmla="*/ 24984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59" stAng="-5400000" swAng="-5400000"/>
                  <a:lnTo>
                    <a:pt x="0" y="11165"/>
                  </a:lnTo>
                  <a:arcTo wR="21600" hR="7759" stAng="10800000" swAng="-1135349"/>
                  <a:lnTo>
                    <a:pt x="5974" y="19198"/>
                  </a:lnTo>
                  <a:lnTo>
                    <a:pt x="21600" y="17221"/>
                  </a:lnTo>
                  <a:lnTo>
                    <a:pt x="5974" y="10440"/>
                  </a:lnTo>
                  <a:lnTo>
                    <a:pt x="5974" y="13116"/>
                  </a:lnTo>
                  <a:arcTo wR="21600" hR="7759" stAng="9664651" swAng="858137"/>
                  <a:lnTo>
                    <a:pt x="527" y="9462"/>
                  </a:lnTo>
                  <a:arcTo wR="21600" hR="7759" stAng="-10522787" swAng="5122787"/>
                  <a:close/>
                </a:path>
                <a:path fill="darkenLess" w="21600" h="21600">
                  <a:moveTo>
                    <a:pt x="21600" y="0"/>
                  </a:moveTo>
                  <a:arcTo wR="21600" hR="7759" stAng="-5400000" swAng="-5400000"/>
                  <a:lnTo>
                    <a:pt x="0" y="7759"/>
                  </a:lnTo>
                  <a:arcTo wR="21600" hR="7759" stAng="10800000" swAng="-277213"/>
                  <a:lnTo>
                    <a:pt x="527" y="9462"/>
                  </a:lnTo>
                  <a:arcTo wR="21600" hR="7759" stAng="-10522787" swAng="5122787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95280" y="4437000"/>
            <a:ext cx="3961080" cy="1976400"/>
            <a:chOff x="395280" y="4437000"/>
            <a:chExt cx="3961080" cy="197640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395280" y="4437000"/>
                  <a:ext cx="3961080" cy="19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E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hv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e>
                        <m:e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Дж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м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Н</m:t>
                              </m:r>
                              <m:r>
                                <m:t xml:space="preserve">⋅</m:t>
                              </m:r>
                              <m:r>
                                <m:t xml:space="preserve">м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м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Н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м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П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16320" y="4986720"/>
              <a:ext cx="36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– концентрация фотон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195640" y="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Давление све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920" y="1125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ражающая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00720" y="1125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глощающая поверх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3429000"/>
            <a:ext cx="223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9640" y="2349360"/>
            <a:ext cx="792360" cy="1008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332000" y="2349000"/>
            <a:ext cx="792000" cy="1008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32000" y="2276640"/>
            <a:ext cx="0" cy="1152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02320" y="2565360"/>
            <a:ext cx="480960" cy="459720"/>
            <a:chOff x="202320" y="2565360"/>
            <a:chExt cx="480960" cy="459720"/>
          </a:xfrm>
        </p:grpSpPr>
        <p:sp>
          <p:nvSpPr>
            <p:cNvPr id="334" name=""/>
            <p:cNvSpPr/>
            <p:nvPr/>
          </p:nvSpPr>
          <p:spPr>
            <a:xfrm>
              <a:off x="202320" y="2565360"/>
              <a:ext cx="4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Р</a:t>
              </a: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1440" y="261936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61360" y="2492280"/>
            <a:ext cx="442080" cy="459720"/>
            <a:chOff x="2061360" y="2492280"/>
            <a:chExt cx="442080" cy="459720"/>
          </a:xfrm>
        </p:grpSpPr>
        <p:sp>
          <p:nvSpPr>
            <p:cNvPr id="337" name=""/>
            <p:cNvSpPr/>
            <p:nvPr/>
          </p:nvSpPr>
          <p:spPr>
            <a:xfrm>
              <a:off x="2061360" y="2492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43080" y="254484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V="1">
            <a:off x="2700360" y="206064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0360" y="1916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330120" y="3594240"/>
                <a:ext cx="2148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6154560" y="3429000"/>
            <a:ext cx="223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2349360"/>
            <a:ext cx="792360" cy="10083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36000" y="2276640"/>
            <a:ext cx="0" cy="1152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106320" y="2565360"/>
            <a:ext cx="480960" cy="459720"/>
            <a:chOff x="6106320" y="2565360"/>
            <a:chExt cx="480960" cy="459720"/>
          </a:xfrm>
        </p:grpSpPr>
        <p:sp>
          <p:nvSpPr>
            <p:cNvPr id="346" name=""/>
            <p:cNvSpPr/>
            <p:nvPr/>
          </p:nvSpPr>
          <p:spPr>
            <a:xfrm>
              <a:off x="6106320" y="2565360"/>
              <a:ext cx="48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Р</a:t>
              </a: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5440" y="2619360"/>
              <a:ext cx="360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8604360" y="206064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6337440" y="3594240"/>
                <a:ext cx="19396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Δ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604360" y="1916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19640" y="3933720"/>
                <a:ext cx="1571400" cy="225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P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826920" y="0"/>
            <a:ext cx="74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Arial"/>
              </a:rPr>
              <a:t>Корпускулярно – волновой дуализ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8080" y="162864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 - вол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69400" y="162864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 – поток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7280" y="2060640"/>
            <a:ext cx="432000" cy="647640"/>
          </a:xfrm>
          <a:prstGeom prst="downArrow">
            <a:avLst>
              <a:gd name="adj1" fmla="val 50000"/>
              <a:gd name="adj2" fmla="val 7973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51640" y="2060640"/>
            <a:ext cx="431640" cy="647640"/>
          </a:xfrm>
          <a:prstGeom prst="downArrow">
            <a:avLst>
              <a:gd name="adj1" fmla="val 50000"/>
              <a:gd name="adj2" fmla="val 798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4680" y="2637000"/>
            <a:ext cx="22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фер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фрак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яр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75280" y="2637000"/>
            <a:ext cx="496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ффект (красная границ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отковолновая граница рентгеновских спек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 Компт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4000" y="501336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льс Бор – принцип дополнительности: для описания того или иного явления надо использовать или волновую или корпускулярную теорию света, но не ту и другую одноврем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826920" y="0"/>
            <a:ext cx="74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Arial"/>
              </a:rPr>
              <a:t>Корпускулярно – волновой дуализ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0920" y="1844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3 г. Луи де-Бройль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с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ела обнаруживают свойства волны и част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95280" y="2924280"/>
            <a:ext cx="8424720" cy="1285920"/>
            <a:chOff x="395280" y="2924280"/>
            <a:chExt cx="8424720" cy="1285920"/>
          </a:xfrm>
        </p:grpSpPr>
        <mc:AlternateContent>
          <mc:Choice xmlns:a14="http://schemas.microsoft.com/office/drawing/2010/main" Requires="a14">
            <p:sp>
              <p:nvSpPr>
                <p:cNvPr id="365" name=""/>
                <p:cNvSpPr txBox="1"/>
                <p:nvPr/>
              </p:nvSpPr>
              <p:spPr>
                <a:xfrm>
                  <a:off x="395280" y="2924280"/>
                  <a:ext cx="525636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mυ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limLow>
                        <m:e/>
                        <m:lim/>
                      </m:limLow>
                      <m:r>
                        <m:t xml:space="preserve">⇒</m:t>
                      </m:r>
                      <m:limLow>
                        <m:e/>
                        <m:lim/>
                      </m:limLow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Б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m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66" name=""/>
            <p:cNvSpPr/>
            <p:nvPr/>
          </p:nvSpPr>
          <p:spPr>
            <a:xfrm>
              <a:off x="5940360" y="3213000"/>
              <a:ext cx="287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- дебройлевская длина волн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50920" y="5734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27 г. – первые наблюдения дифракции электр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4437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м меньше масса, тем больше длина волны – длина волны фотонов име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ально измерим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еличи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06520" y="0"/>
            <a:ext cx="433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Световые ква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981000"/>
            <a:ext cx="6553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пловое изл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нтовая теор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эфф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нтгеновские спект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 Компт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вление св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пускулярно-волновой ду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4572000" y="1125360"/>
            <a:ext cx="1008000" cy="36072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720"/>
              <a:gd name="textAreaBottom" fmla="*/ 270720 h 36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3132000" y="2421000"/>
            <a:ext cx="1008360" cy="36036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067280" y="364500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2268360" y="4292640"/>
            <a:ext cx="1008360" cy="36036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3708360" y="494172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7020000" y="558972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140360" y="170028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5076720" y="299736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43280" y="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тоэффек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34136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341360"/>
            <a:ext cx="244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раф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о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авн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335772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263700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206064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1413000"/>
            <a:ext cx="1008000" cy="3603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57565"/>
              </a:gs>
              <a:gs pos="100000">
                <a:srgbClr val="b9ffd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52360" y="981000"/>
            <a:ext cx="3349800" cy="2601720"/>
            <a:chOff x="252360" y="981000"/>
            <a:chExt cx="3349800" cy="2601720"/>
          </a:xfrm>
        </p:grpSpPr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9760" y="3151080"/>
                  <a:ext cx="39240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 flipV="1">
              <a:off x="544320" y="1079280"/>
              <a:ext cx="0" cy="20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4320" y="3079440"/>
              <a:ext cx="302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2360" y="9810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4960" y="3028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8200" y="1414440"/>
              <a:ext cx="2579760" cy="1649160"/>
            </a:xfrm>
            <a:custGeom>
              <a:avLst/>
              <a:gdLst/>
              <a:ahLst/>
              <a:rect l="l" t="t" r="r" b="b"/>
              <a:pathLst>
                <a:path w="2858" h="2231">
                  <a:moveTo>
                    <a:pt x="0" y="2231"/>
                  </a:moveTo>
                  <a:cubicBezTo>
                    <a:pt x="68" y="2208"/>
                    <a:pt x="136" y="2185"/>
                    <a:pt x="181" y="2140"/>
                  </a:cubicBezTo>
                  <a:cubicBezTo>
                    <a:pt x="226" y="2095"/>
                    <a:pt x="234" y="2118"/>
                    <a:pt x="272" y="1959"/>
                  </a:cubicBezTo>
                  <a:cubicBezTo>
                    <a:pt x="310" y="1800"/>
                    <a:pt x="348" y="1475"/>
                    <a:pt x="408" y="1188"/>
                  </a:cubicBezTo>
                  <a:cubicBezTo>
                    <a:pt x="468" y="901"/>
                    <a:pt x="567" y="432"/>
                    <a:pt x="635" y="235"/>
                  </a:cubicBezTo>
                  <a:cubicBezTo>
                    <a:pt x="703" y="38"/>
                    <a:pt x="756" y="16"/>
                    <a:pt x="817" y="8"/>
                  </a:cubicBezTo>
                  <a:cubicBezTo>
                    <a:pt x="878" y="0"/>
                    <a:pt x="945" y="122"/>
                    <a:pt x="998" y="190"/>
                  </a:cubicBezTo>
                  <a:cubicBezTo>
                    <a:pt x="1051" y="258"/>
                    <a:pt x="1081" y="318"/>
                    <a:pt x="1134" y="416"/>
                  </a:cubicBezTo>
                  <a:cubicBezTo>
                    <a:pt x="1187" y="514"/>
                    <a:pt x="1247" y="650"/>
                    <a:pt x="1315" y="779"/>
                  </a:cubicBezTo>
                  <a:cubicBezTo>
                    <a:pt x="1383" y="908"/>
                    <a:pt x="1436" y="1037"/>
                    <a:pt x="1542" y="1188"/>
                  </a:cubicBezTo>
                  <a:cubicBezTo>
                    <a:pt x="1648" y="1339"/>
                    <a:pt x="1806" y="1550"/>
                    <a:pt x="1950" y="1686"/>
                  </a:cubicBezTo>
                  <a:cubicBezTo>
                    <a:pt x="2094" y="1822"/>
                    <a:pt x="2253" y="1928"/>
                    <a:pt x="2404" y="2004"/>
                  </a:cubicBezTo>
                  <a:cubicBezTo>
                    <a:pt x="2555" y="2080"/>
                    <a:pt x="2706" y="2110"/>
                    <a:pt x="2858" y="2140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547640" y="-393480"/>
            <a:ext cx="4606920" cy="346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76" y="21107"/>
                </a:moveTo>
                <a:arcTo wR="10800" hR="10800" stAng="6442215" swAng="4357785"/>
                <a:lnTo>
                  <a:pt x="10800" y="10800"/>
                </a:lnTo>
                <a:close/>
              </a:path>
              <a:path fill="none" w="21600" h="21600">
                <a:moveTo>
                  <a:pt x="7576" y="21107"/>
                </a:moveTo>
                <a:arcTo wR="10800" hR="10800" stAng="6442215" swAng="4357785"/>
              </a:path>
            </a:pathLst>
          </a:custGeom>
          <a:noFill/>
          <a:ln w="381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9800" y="-1113120"/>
            <a:ext cx="930960" cy="4187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81" y="12964"/>
                </a:moveTo>
                <a:arcTo wR="10800" hR="10800" stAng="693580" swAng="4970435"/>
                <a:lnTo>
                  <a:pt x="10800" y="10800"/>
                </a:lnTo>
                <a:close/>
              </a:path>
              <a:path fill="none" w="21600" h="21600">
                <a:moveTo>
                  <a:pt x="21381" y="12964"/>
                </a:moveTo>
                <a:arcTo wR="10800" hR="10800" stAng="693580" swAng="4970435"/>
              </a:path>
            </a:pathLst>
          </a:custGeom>
          <a:noFill/>
          <a:ln w="3816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92920" y="-133200"/>
            <a:ext cx="48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Тепловое излуч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745080" y="620640"/>
            <a:ext cx="5398920" cy="2770200"/>
            <a:chOff x="3745080" y="620640"/>
            <a:chExt cx="5398920" cy="277020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4932360" y="907920"/>
                  <a:ext cx="2565360" cy="168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hν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T</m:t>
                                  </m:r>
                                </m:den>
                              </m:f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e>
                        <m:e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hν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4356000" y="620640"/>
              <a:ext cx="453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896 г. – Вильгельм Ви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4946760" y="281628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3745080" y="2565360"/>
              <a:ext cx="539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Хорошо описывает высокочастотную часть спектр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4000" y="3860640"/>
            <a:ext cx="5184720" cy="2625840"/>
            <a:chOff x="324000" y="3860640"/>
            <a:chExt cx="5184720" cy="2625840"/>
          </a:xfrm>
        </p:grpSpPr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11280" y="4437000"/>
                  <a:ext cx="338436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T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dω</m:t>
                          </m:r>
                        </m:e>
                        <m:e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sSup>
                            <m:e>
                              <m:r>
                                <m:t xml:space="preserve">ν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limLow>
                            <m:e/>
                            <m:lim/>
                          </m:limLow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ω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πν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324000" y="3860640"/>
              <a:ext cx="47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900 г. Релей, Джеймс Джин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0360" y="5661000"/>
              <a:ext cx="514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Хорошо описывает низкочастотную часть спектр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967280" y="5157720"/>
            <a:ext cx="4176720" cy="1328760"/>
            <a:chOff x="4967280" y="5157720"/>
            <a:chExt cx="4176720" cy="1328760"/>
          </a:xfrm>
        </p:grpSpPr>
        <p:sp>
          <p:nvSpPr>
            <p:cNvPr id="80" name=""/>
            <p:cNvSpPr/>
            <p:nvPr/>
          </p:nvSpPr>
          <p:spPr>
            <a:xfrm>
              <a:off x="5651640" y="5661000"/>
              <a:ext cx="331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льтрафиолетовая катастроф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4967280" y="5157720"/>
                  <a:ext cx="417672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если</m:t>
                      </m:r>
                      <m:limLow>
                        <m:e/>
                        <m:lim/>
                      </m:limLow>
                      <m:r>
                        <m:t xml:space="preserve">ω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  <m:r>
                        <m:t xml:space="preserve">,</m:t>
                      </m:r>
                      <m:limLow>
                        <m:e/>
                        <m:lim/>
                      </m:limLow>
                      <m:r>
                        <m:rPr>
                          <m:lit/>
                          <m:nor/>
                        </m:rPr>
                        <m:t xml:space="preserve">то</m:t>
                      </m:r>
                      <m:limLow>
                        <m:e/>
                        <m:lim/>
                      </m:limLow>
                      <m:r>
                        <m:t xml:space="preserve">I</m:t>
                      </m:r>
                      <m:r>
                        <m:t xml:space="preserve">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92880" y="-63360"/>
            <a:ext cx="44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вантовая те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3120" y="2298600"/>
            <a:ext cx="83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т излучается, распространяется и поглощается порциями – кван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851280" y="2997360"/>
                <a:ext cx="130644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940360" y="32130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энергия одного кванта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2997360"/>
            <a:ext cx="432000" cy="1512720"/>
          </a:xfrm>
          <a:custGeom>
            <a:avLst/>
            <a:gdLst>
              <a:gd name="textAreaLeft" fmla="*/ 0 w 432000"/>
              <a:gd name="textAreaRight" fmla="*/ 155880 w 4320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50920" y="4726080"/>
            <a:ext cx="6775200" cy="693720"/>
            <a:chOff x="250920" y="4726080"/>
            <a:chExt cx="6775200" cy="693720"/>
          </a:xfrm>
        </p:grpSpPr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250920" y="4797360"/>
                  <a:ext cx="360036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63</m:t>
                      </m:r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Дж</m:t>
                      </m:r>
                      <m:r>
                        <m:t xml:space="preserve">⋅</m:t>
                      </m:r>
                      <m:r>
                        <m:t xml:space="preserve">с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3879720" y="472608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постоянная План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99160" y="7858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00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000" y="12891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 План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50920" y="5586480"/>
                <a:ext cx="45370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Дж</m:t>
                    </m:r>
                    <m:r>
                      <m:t xml:space="preserve">⋅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780000" y="1197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квант» - пор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00280" y="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Фотоэффек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133720"/>
            <a:ext cx="85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тоэффект – это явление вылета электронов из вещества под действием с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36880" y="1484280"/>
            <a:ext cx="19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рих Гер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843280" y="3573360"/>
            <a:ext cx="1871640" cy="287280"/>
            <a:chOff x="2843280" y="3573360"/>
            <a:chExt cx="1871640" cy="287280"/>
          </a:xfrm>
        </p:grpSpPr>
        <p:sp>
          <p:nvSpPr>
            <p:cNvPr id="100" name=""/>
            <p:cNvSpPr/>
            <p:nvPr/>
          </p:nvSpPr>
          <p:spPr>
            <a:xfrm>
              <a:off x="2843280" y="3573360"/>
              <a:ext cx="1871640" cy="0"/>
            </a:xfrm>
            <a:prstGeom prst="line">
              <a:avLst/>
            </a:prstGeom>
            <a:ln w="38160">
              <a:solidFill>
                <a:srgbClr val="005e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43280" y="3716280"/>
              <a:ext cx="1871640" cy="0"/>
            </a:xfrm>
            <a:prstGeom prst="line">
              <a:avLst/>
            </a:prstGeom>
            <a:ln w="38160">
              <a:solidFill>
                <a:srgbClr val="005e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43280" y="3860640"/>
              <a:ext cx="1871640" cy="0"/>
            </a:xfrm>
            <a:prstGeom prst="line">
              <a:avLst/>
            </a:prstGeom>
            <a:ln w="38160">
              <a:solidFill>
                <a:srgbClr val="005ee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995640" y="3357720"/>
            <a:ext cx="1440000" cy="2519280"/>
            <a:chOff x="3995640" y="3357720"/>
            <a:chExt cx="1440000" cy="2519280"/>
          </a:xfrm>
        </p:grpSpPr>
        <p:grpSp>
          <p:nvGrpSpPr>
            <p:cNvPr id="104" name=""/>
            <p:cNvGrpSpPr/>
            <p:nvPr/>
          </p:nvGrpSpPr>
          <p:grpSpPr>
            <a:xfrm>
              <a:off x="3995640" y="3357720"/>
              <a:ext cx="1440000" cy="2519280"/>
              <a:chOff x="3995640" y="3357720"/>
              <a:chExt cx="1440000" cy="2519280"/>
            </a:xfrm>
          </p:grpSpPr>
          <p:sp>
            <p:nvSpPr>
              <p:cNvPr id="105" name=""/>
              <p:cNvSpPr/>
              <p:nvPr/>
            </p:nvSpPr>
            <p:spPr>
              <a:xfrm>
                <a:off x="3995640" y="4149720"/>
                <a:ext cx="1440000" cy="1440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714920" y="5589720"/>
                <a:ext cx="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83280" y="5877000"/>
                <a:ext cx="865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14920" y="4005360"/>
                <a:ext cx="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43640" y="3357720"/>
                <a:ext cx="144360" cy="7189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acaca"/>
                  </a:gs>
                  <a:gs pos="100000">
                    <a:srgbClr val="808080"/>
                  </a:gs>
                </a:gsLst>
                <a:lin ang="10800000"/>
              </a:gra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140360" y="4328280"/>
              <a:ext cx="1148760" cy="111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86" y="21600"/>
                  </a:moveTo>
                  <a:arcTo wR="10800" hR="10800" stAng="5372558" swAng="5534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86" y="21600"/>
                  </a:moveTo>
                  <a:arcTo wR="10800" hR="10800" stAng="5372558" swAng="5534995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67280" y="486900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14920" y="537372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211640" y="508428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427640" y="5229360"/>
              <a:ext cx="712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643280" y="41497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86900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869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4797360"/>
            <a:ext cx="144720" cy="144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40000" y="4869000"/>
            <a:ext cx="1150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1431720" cy="1431720"/>
          </a:xfrm>
          <a:prstGeom prst="rect">
            <a:avLst/>
          </a:prstGeom>
          <a:ln w="57240">
            <a:solidFill>
              <a:srgbClr val="002412"/>
            </a:solidFill>
            <a:miter/>
          </a:ln>
        </p:spPr>
      </p:pic>
      <p:grpSp>
        <p:nvGrpSpPr>
          <p:cNvPr id="121" name=""/>
          <p:cNvGrpSpPr/>
          <p:nvPr/>
        </p:nvGrpSpPr>
        <p:grpSpPr>
          <a:xfrm>
            <a:off x="1354320" y="3357720"/>
            <a:ext cx="1633320" cy="1251720"/>
            <a:chOff x="1354320" y="3357720"/>
            <a:chExt cx="1633320" cy="1251720"/>
          </a:xfrm>
        </p:grpSpPr>
        <p:grpSp>
          <p:nvGrpSpPr>
            <p:cNvPr id="122" name=""/>
            <p:cNvGrpSpPr/>
            <p:nvPr/>
          </p:nvGrpSpPr>
          <p:grpSpPr>
            <a:xfrm>
              <a:off x="1619280" y="3357720"/>
              <a:ext cx="1368360" cy="792000"/>
              <a:chOff x="1619280" y="3357720"/>
              <a:chExt cx="1368360" cy="792000"/>
            </a:xfrm>
          </p:grpSpPr>
          <p:sp>
            <p:nvSpPr>
              <p:cNvPr id="123" name=""/>
              <p:cNvSpPr/>
              <p:nvPr/>
            </p:nvSpPr>
            <p:spPr>
              <a:xfrm>
                <a:off x="1619280" y="3429000"/>
                <a:ext cx="1224000" cy="64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71640" y="3357720"/>
                <a:ext cx="216000" cy="792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54320" y="4149720"/>
              <a:ext cx="160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свети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050920" y="9079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8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2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Фотоэффек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211640" y="3068640"/>
            <a:ext cx="4659840" cy="2747880"/>
            <a:chOff x="4211640" y="3068640"/>
            <a:chExt cx="4659840" cy="2747880"/>
          </a:xfrm>
        </p:grpSpPr>
        <p:sp>
          <p:nvSpPr>
            <p:cNvPr id="130" name=""/>
            <p:cNvSpPr/>
            <p:nvPr/>
          </p:nvSpPr>
          <p:spPr>
            <a:xfrm flipV="1">
              <a:off x="6063480" y="3174480"/>
              <a:ext cx="0" cy="212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1640" y="5294880"/>
              <a:ext cx="444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30760" y="4217400"/>
              <a:ext cx="3850920" cy="1077480"/>
            </a:xfrm>
            <a:custGeom>
              <a:avLst/>
              <a:gdLst/>
              <a:ahLst/>
              <a:rect l="l" t="t" r="r" b="b"/>
              <a:pathLst>
                <a:path w="2358" h="922">
                  <a:moveTo>
                    <a:pt x="2358" y="15"/>
                  </a:moveTo>
                  <a:cubicBezTo>
                    <a:pt x="2006" y="7"/>
                    <a:pt x="1655" y="0"/>
                    <a:pt x="1451" y="15"/>
                  </a:cubicBezTo>
                  <a:cubicBezTo>
                    <a:pt x="1247" y="30"/>
                    <a:pt x="1216" y="53"/>
                    <a:pt x="1133" y="106"/>
                  </a:cubicBezTo>
                  <a:cubicBezTo>
                    <a:pt x="1050" y="159"/>
                    <a:pt x="1027" y="220"/>
                    <a:pt x="952" y="333"/>
                  </a:cubicBezTo>
                  <a:cubicBezTo>
                    <a:pt x="877" y="446"/>
                    <a:pt x="839" y="688"/>
                    <a:pt x="680" y="786"/>
                  </a:cubicBezTo>
                  <a:cubicBezTo>
                    <a:pt x="521" y="884"/>
                    <a:pt x="260" y="903"/>
                    <a:pt x="0" y="922"/>
                  </a:cubicBez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85600" y="3890160"/>
              <a:ext cx="2295720" cy="716040"/>
            </a:xfrm>
            <a:custGeom>
              <a:avLst/>
              <a:gdLst/>
              <a:ahLst/>
              <a:rect l="l" t="t" r="r" b="b"/>
              <a:pathLst>
                <a:path w="1406" h="613">
                  <a:moveTo>
                    <a:pt x="0" y="613"/>
                  </a:moveTo>
                  <a:cubicBezTo>
                    <a:pt x="83" y="435"/>
                    <a:pt x="166" y="257"/>
                    <a:pt x="272" y="159"/>
                  </a:cubicBezTo>
                  <a:cubicBezTo>
                    <a:pt x="378" y="61"/>
                    <a:pt x="446" y="46"/>
                    <a:pt x="635" y="23"/>
                  </a:cubicBezTo>
                  <a:cubicBezTo>
                    <a:pt x="824" y="0"/>
                    <a:pt x="1115" y="11"/>
                    <a:pt x="1406" y="2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11800" y="3527640"/>
              <a:ext cx="2369520" cy="1183680"/>
            </a:xfrm>
            <a:custGeom>
              <a:avLst/>
              <a:gdLst/>
              <a:ahLst/>
              <a:rect l="l" t="t" r="r" b="b"/>
              <a:pathLst>
                <a:path w="1451" h="1013">
                  <a:moveTo>
                    <a:pt x="0" y="1013"/>
                  </a:moveTo>
                  <a:cubicBezTo>
                    <a:pt x="90" y="816"/>
                    <a:pt x="181" y="620"/>
                    <a:pt x="272" y="469"/>
                  </a:cubicBezTo>
                  <a:cubicBezTo>
                    <a:pt x="363" y="318"/>
                    <a:pt x="416" y="182"/>
                    <a:pt x="544" y="106"/>
                  </a:cubicBezTo>
                  <a:cubicBezTo>
                    <a:pt x="672" y="30"/>
                    <a:pt x="892" y="30"/>
                    <a:pt x="1043" y="15"/>
                  </a:cubicBezTo>
                  <a:cubicBezTo>
                    <a:pt x="1194" y="0"/>
                    <a:pt x="1322" y="7"/>
                    <a:pt x="1451" y="15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3480" y="4235040"/>
              <a:ext cx="963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3760" y="306864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23920" y="4021920"/>
              <a:ext cx="4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34800" y="5293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16600" y="5293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96480" y="5295960"/>
              <a:ext cx="5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11280" y="1484280"/>
            <a:ext cx="3673080" cy="3119400"/>
            <a:chOff x="611280" y="1484280"/>
            <a:chExt cx="3673080" cy="3119400"/>
          </a:xfrm>
        </p:grpSpPr>
        <p:grpSp>
          <p:nvGrpSpPr>
            <p:cNvPr id="142" name=""/>
            <p:cNvGrpSpPr/>
            <p:nvPr/>
          </p:nvGrpSpPr>
          <p:grpSpPr>
            <a:xfrm>
              <a:off x="1017360" y="1484280"/>
              <a:ext cx="2921760" cy="1561680"/>
              <a:chOff x="1017360" y="1484280"/>
              <a:chExt cx="2921760" cy="1561680"/>
            </a:xfrm>
          </p:grpSpPr>
          <p:sp>
            <p:nvSpPr>
              <p:cNvPr id="143" name=""/>
              <p:cNvSpPr/>
              <p:nvPr/>
            </p:nvSpPr>
            <p:spPr>
              <a:xfrm rot="16200000">
                <a:off x="1071360" y="2223000"/>
                <a:ext cx="768960" cy="876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" y="10562"/>
                    </a:moveTo>
                    <a:arcTo wR="10800" hR="10800" stAng="-10724206" swAng="110122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" y="10562"/>
                    </a:moveTo>
                    <a:arcTo wR="10800" hR="10800" stAng="-10724206" swAng="11012265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5400000">
                <a:off x="3115080" y="2218320"/>
                <a:ext cx="770400" cy="8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" y="10051"/>
                    </a:moveTo>
                    <a:arcTo wR="10800" hR="10800" stAng="-10561540" swAng="105615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" y="10051"/>
                    </a:moveTo>
                    <a:arcTo wR="10800" hR="10800" stAng="-10561540" swAng="10561540"/>
                  </a:path>
                </a:pathLst>
              </a:custGeom>
              <a:noFill/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27040" y="3042720"/>
                <a:ext cx="210744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1471680" y="1591200"/>
                <a:ext cx="784440" cy="67140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498040" y="2272680"/>
                <a:ext cx="103644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498040" y="1976040"/>
                <a:ext cx="345240" cy="29628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275200" y="1484280"/>
                <a:ext cx="657000" cy="44352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217600" y="1484280"/>
                <a:ext cx="94680" cy="14616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2843640" y="1922040"/>
                <a:ext cx="120240" cy="5364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356840" y="240984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81200" y="2409840"/>
              <a:ext cx="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1280" y="2654280"/>
              <a:ext cx="74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81200" y="2654280"/>
              <a:ext cx="745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1280" y="2654280"/>
              <a:ext cx="0" cy="194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1280" y="4603680"/>
              <a:ext cx="114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33880" y="4603680"/>
              <a:ext cx="195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280" y="4114800"/>
              <a:ext cx="114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0040" y="4017960"/>
              <a:ext cx="630720" cy="195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45160" y="3481200"/>
              <a:ext cx="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94280" y="3238560"/>
              <a:ext cx="573480" cy="487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97840" y="3238560"/>
              <a:ext cx="573840" cy="487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91120" y="4114800"/>
              <a:ext cx="189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84360" y="411480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280" y="3481200"/>
              <a:ext cx="28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3481200"/>
              <a:ext cx="1720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7120" y="2654280"/>
              <a:ext cx="0" cy="82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8120" y="3481200"/>
              <a:ext cx="45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332000" y="1339920"/>
            <a:ext cx="1530000" cy="1439640"/>
            <a:chOff x="1332000" y="1339920"/>
            <a:chExt cx="1530000" cy="1439640"/>
          </a:xfrm>
        </p:grpSpPr>
        <p:sp>
          <p:nvSpPr>
            <p:cNvPr id="171" name=""/>
            <p:cNvSpPr/>
            <p:nvPr/>
          </p:nvSpPr>
          <p:spPr>
            <a:xfrm flipH="1">
              <a:off x="1332000" y="1339920"/>
              <a:ext cx="1376640" cy="1224000"/>
            </a:xfrm>
            <a:prstGeom prst="line">
              <a:avLst/>
            </a:prstGeom>
            <a:ln w="28440">
              <a:solidFill>
                <a:srgbClr val="005ee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332000" y="1484280"/>
              <a:ext cx="1530000" cy="1295280"/>
            </a:xfrm>
            <a:prstGeom prst="line">
              <a:avLst/>
            </a:prstGeom>
            <a:ln w="28440">
              <a:solidFill>
                <a:srgbClr val="005ee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692360" y="2492280"/>
            <a:ext cx="1531080" cy="358920"/>
            <a:chOff x="1692360" y="2492280"/>
            <a:chExt cx="1531080" cy="358920"/>
          </a:xfrm>
        </p:grpSpPr>
        <p:grpSp>
          <p:nvGrpSpPr>
            <p:cNvPr id="174" name=""/>
            <p:cNvGrpSpPr/>
            <p:nvPr/>
          </p:nvGrpSpPr>
          <p:grpSpPr>
            <a:xfrm>
              <a:off x="2151000" y="2708280"/>
              <a:ext cx="460080" cy="142920"/>
              <a:chOff x="2151000" y="2708280"/>
              <a:chExt cx="460080" cy="142920"/>
            </a:xfrm>
          </p:grpSpPr>
          <p:sp>
            <p:nvSpPr>
              <p:cNvPr id="175" name=""/>
              <p:cNvSpPr/>
              <p:nvPr/>
            </p:nvSpPr>
            <p:spPr>
              <a:xfrm>
                <a:off x="2151000" y="2708280"/>
                <a:ext cx="1530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28400" y="2779560"/>
                <a:ext cx="38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2763360" y="2563920"/>
              <a:ext cx="460080" cy="142560"/>
              <a:chOff x="2763360" y="2563920"/>
              <a:chExt cx="460080" cy="142560"/>
            </a:xfrm>
          </p:grpSpPr>
          <p:sp>
            <p:nvSpPr>
              <p:cNvPr id="178" name=""/>
              <p:cNvSpPr/>
              <p:nvPr/>
            </p:nvSpPr>
            <p:spPr>
              <a:xfrm>
                <a:off x="2763360" y="2563920"/>
                <a:ext cx="153000" cy="14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40760" y="2634840"/>
                <a:ext cx="38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692360" y="2492280"/>
              <a:ext cx="460080" cy="142920"/>
              <a:chOff x="1692360" y="2492280"/>
              <a:chExt cx="460080" cy="142920"/>
            </a:xfrm>
          </p:grpSpPr>
          <p:sp>
            <p:nvSpPr>
              <p:cNvPr id="181" name=""/>
              <p:cNvSpPr/>
              <p:nvPr/>
            </p:nvSpPr>
            <p:spPr>
              <a:xfrm>
                <a:off x="1692360" y="2492280"/>
                <a:ext cx="15300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69760" y="2563560"/>
                <a:ext cx="38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1476360" y="4437000"/>
            <a:ext cx="1071000" cy="431640"/>
            <a:chOff x="1476360" y="4437000"/>
            <a:chExt cx="1071000" cy="431640"/>
          </a:xfrm>
        </p:grpSpPr>
        <p:grpSp>
          <p:nvGrpSpPr>
            <p:cNvPr id="184" name=""/>
            <p:cNvGrpSpPr/>
            <p:nvPr/>
          </p:nvGrpSpPr>
          <p:grpSpPr>
            <a:xfrm>
              <a:off x="1705680" y="4437000"/>
              <a:ext cx="573120" cy="390600"/>
              <a:chOff x="1705680" y="4437000"/>
              <a:chExt cx="573120" cy="390600"/>
            </a:xfrm>
          </p:grpSpPr>
          <p:sp>
            <p:nvSpPr>
              <p:cNvPr id="185" name=""/>
              <p:cNvSpPr/>
              <p:nvPr/>
            </p:nvSpPr>
            <p:spPr>
              <a:xfrm>
                <a:off x="1705680" y="453564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818720" y="44370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818720" y="4633920"/>
                <a:ext cx="34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164320" y="453564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78800" y="44370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476360" y="4724280"/>
              <a:ext cx="15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394360" y="4724280"/>
              <a:ext cx="153000" cy="144360"/>
              <a:chOff x="2394360" y="4724280"/>
              <a:chExt cx="153000" cy="144360"/>
            </a:xfrm>
          </p:grpSpPr>
          <p:sp>
            <p:nvSpPr>
              <p:cNvPr id="192" name=""/>
              <p:cNvSpPr/>
              <p:nvPr/>
            </p:nvSpPr>
            <p:spPr>
              <a:xfrm>
                <a:off x="2394360" y="4795920"/>
                <a:ext cx="153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69960" y="472428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1476360" y="4436640"/>
            <a:ext cx="1069200" cy="433800"/>
            <a:chOff x="1476360" y="4436640"/>
            <a:chExt cx="1069200" cy="433800"/>
          </a:xfrm>
        </p:grpSpPr>
        <p:grpSp>
          <p:nvGrpSpPr>
            <p:cNvPr id="195" name=""/>
            <p:cNvGrpSpPr/>
            <p:nvPr/>
          </p:nvGrpSpPr>
          <p:grpSpPr>
            <a:xfrm>
              <a:off x="1706040" y="4436640"/>
              <a:ext cx="573480" cy="390600"/>
              <a:chOff x="1706040" y="4436640"/>
              <a:chExt cx="573480" cy="390600"/>
            </a:xfrm>
          </p:grpSpPr>
          <p:sp>
            <p:nvSpPr>
              <p:cNvPr id="196" name=""/>
              <p:cNvSpPr/>
              <p:nvPr/>
            </p:nvSpPr>
            <p:spPr>
              <a:xfrm flipV="1">
                <a:off x="2279520" y="453348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166480" y="44366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820880" y="4630320"/>
                <a:ext cx="345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1820520" y="4533480"/>
                <a:ext cx="0" cy="19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1706040" y="443664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394000" y="4797360"/>
              <a:ext cx="15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476360" y="4726080"/>
              <a:ext cx="153360" cy="144360"/>
              <a:chOff x="1476360" y="4726080"/>
              <a:chExt cx="153360" cy="144360"/>
            </a:xfrm>
          </p:grpSpPr>
          <p:sp>
            <p:nvSpPr>
              <p:cNvPr id="203" name=""/>
              <p:cNvSpPr/>
              <p:nvPr/>
            </p:nvSpPr>
            <p:spPr>
              <a:xfrm>
                <a:off x="1476360" y="4797720"/>
                <a:ext cx="15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51960" y="4726080"/>
                <a:ext cx="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2998440" y="587700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ток насы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задерживающее напр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98100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87-1889 гг. – Александр Григорьевич Стол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600280" y="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Фотоэффек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836640"/>
            <a:ext cx="866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ы фотоэффек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электронов, вырываемых светом с поверхности металла за 1 с, прямо пропорционально поглощаемой за это время энергии световой вол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симальная кинетическая энергия фотоэлектронов линейно возрастает с частотой света и не зависит от его интенсив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55640" y="4221000"/>
            <a:ext cx="7364520" cy="1296000"/>
            <a:chOff x="755640" y="4221000"/>
            <a:chExt cx="7364520" cy="1296000"/>
          </a:xfrm>
        </p:grpSpPr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55640" y="4221000"/>
                  <a:ext cx="1944720" cy="110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mυ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eU</m:t>
                          </m:r>
                        </m:e>
                        <m:sub>
                          <m:r>
                            <m:t xml:space="preserve">з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"/>
            <p:cNvSpPr/>
            <p:nvPr/>
          </p:nvSpPr>
          <p:spPr>
            <a:xfrm>
              <a:off x="2843280" y="4508640"/>
              <a:ext cx="527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ксимальное значение кинетической энергии электрон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9ffd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47240" y="0"/>
            <a:ext cx="502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412"/>
                </a:solidFill>
                <a:latin typeface="Times New Roman"/>
              </a:rPr>
              <a:t>Теория фотоэфф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1519200" cy="1942920"/>
          </a:xfrm>
          <a:prstGeom prst="rect">
            <a:avLst/>
          </a:prstGeom>
          <a:ln w="57240">
            <a:solidFill>
              <a:srgbClr val="002412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80360" y="260280"/>
            <a:ext cx="1458720" cy="1943280"/>
          </a:xfrm>
          <a:prstGeom prst="rect">
            <a:avLst/>
          </a:prstGeom>
          <a:ln w="57240">
            <a:solidFill>
              <a:srgbClr val="002412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2019600" y="19890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ьберт Эйнштей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95640" y="1484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05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411280" y="2637000"/>
                <a:ext cx="2664000" cy="18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r>
                          <m:t xml:space="preserve">hν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m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084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работа выхода - энергия, которую необходимо затратить электрону для вылета с поверхности ве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35640" y="371628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авнение Эйнштейна для фотоэфф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28000" y="6453360"/>
            <a:ext cx="934920" cy="264960"/>
          </a:xfrm>
          <a:custGeom>
            <a:avLst/>
            <a:gdLst>
              <a:gd name="textAreaLeft" fmla="*/ 213480 w 934920"/>
              <a:gd name="textAreaRight" fmla="*/ 721440 w 934920"/>
              <a:gd name="textAreaTop" fmla="*/ 60480 h 264960"/>
              <a:gd name="textAreaBottom" fmla="*/ 204480 h 26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5ffc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я</cp:lastModifiedBy>
  <dcterms:modified xsi:type="dcterms:W3CDTF">2001-01-04T20:22:42Z</dcterms:modified>
  <cp:revision>19</cp:revision>
  <dc:subject/>
  <dc:title>PowerPoint Presentation</dc:title>
</cp:coreProperties>
</file>