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D38-B2B4-4018-9C67-DCAD46A1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5CF-9DA8-49B6-9CEC-9F2BD526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A5C-6B98-4B5C-A288-9D91C413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6A1-99CC-4E82-BE5E-03F4891E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FC48-B0B8-4C40-B5B3-DFAE4E3A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4790-1625-401E-9FA0-41879F23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B4FA-633E-42E0-89B4-E2C344BE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2DB1-3ABB-4428-942B-C2F2C524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BE18-57DA-4C64-B155-F8A43D5D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8246-6811-4ACB-ABC9-A4ED1E63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716E-9C72-43EF-AC21-F004A580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81F-949C-4747-940C-75EE8D5C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57FF-0609-4856-ABDA-34D35969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84E0-E787-43B7-9EA4-3BE05F2F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B944-55AB-4546-868F-D7BE4E9F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909F-98DB-42E6-A297-93590FD1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1BDE-832C-4CEB-8EE3-FBFC083B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F4A-DA82-4D8E-86D9-27625FC0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32E-C52F-4A59-AF26-D35D6E52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467-1C52-4FD4-970A-AB63A96E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C85-6A6F-4C62-932A-D298976E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191-4380-4FD0-BECD-E3FBBB1A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FEC-D9AF-4005-BA9B-0D663ABF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49F-EC18-429E-8007-B7F91A98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C6BC-7C0A-486C-8471-BC3D75AF8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AEBD-2ADE-41B4-A5E7-09403C414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ГОСУДАРСТВЕННОЕ  БЮДЖЕТНОЕ ОБРАЗОВАТЕЛЬНОЕ  УЧРЕЖДЕНИЕ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СРЕДНЯЯ ОБЩЕОБРАЗОВАТЕЛЬНАЯ  ШКОЛА С УГЛУБЛЕННЫМ ИЗУЧЕНИЕМ  ФРАНЦУЗСКОГО  ЯЗЫКА № 1244  САО ГОРОДА МОСКВЫ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ЕКТНАЯ 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нников Григорий, Косарев Алекс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7 класс «А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итковская Александра, Руденко Ан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7 класс «Б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СИММЕТРИЯ В ЖИВОЙ ПРИРОД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310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АСПОРТ  ПРОЕКТНОЙ  РАБОТЫ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800748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Цель проекта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изучить научно-популярную литературу и исследовать проявление симметрии в растительном и животном ми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дачи проект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учить понятие симметр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анализировать информацию, содержащуюся в печатных изданиях по этой тем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ть какие виды симметрии встречаются в животном и растительном ми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казать взаимосвязь видов симметрии в живой природ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явить межпредметные связи между учебными предметами: геометрией и биологи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делать выво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симметрия в растительном и животном ми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исследование особенностей различных типов симметрии в растительном и животном ми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ебный год: 2011 - 201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уководители проекта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лова Наталия Александровна (учитель биологии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асовская Наталья Петровна (учитель математик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Arial Black"/>
              </a:rPr>
              <a:t>Симметрия в пространстве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3057840" cy="600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35640" y="3357720"/>
            <a:ext cx="3100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ЕВАЯ СИММЕТР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1932120" cy="1947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2894040" cy="183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2349360"/>
            <a:ext cx="35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НТРАЛЬНАЯ   СИММЕ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116000" y="2852640"/>
            <a:ext cx="2409840" cy="819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11280" y="3933720"/>
            <a:ext cx="3927240" cy="1446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64000" y="58053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ЕРКАЛЬНО-ПОВОРОТН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СИММЕ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566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НОСН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СИММЕ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Исследование некоторых растений и животных на предмет выявления симметрии</a:t>
            </a: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ffffb7"/>
                </a:solidFill>
                <a:latin typeface="Arial Black"/>
              </a:rPr>
              <a:t>Симметрия в мире растений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560" y="4365360"/>
            <a:ext cx="36766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Цветок капусты. Центральная (лучевая) симметрия и поворотная симметрия 4 порядка (угол поворота 90º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492000" y="4437000"/>
            <a:ext cx="3095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Цветок гороха посевного – пример двусторонней (зеркальной) симметрии у раст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2376360" cy="1793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492360" y="1916280"/>
            <a:ext cx="1836720" cy="2447640"/>
          </a:xfrm>
          <a:prstGeom prst="rect">
            <a:avLst/>
          </a:prstGeom>
          <a:ln w="0">
            <a:noFill/>
          </a:ln>
        </p:spPr>
      </p:pic>
      <p:pic>
        <p:nvPicPr>
          <p:cNvPr id="118" name="DSCN3471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2556000" cy="191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588000" y="4365720"/>
            <a:ext cx="273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Цветок вишни. Центральная  (лучевая) симметрия  и поворотная 5 порядка (угол поворота 72º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Симметрия в мире растений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4436640"/>
            <a:ext cx="2808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утовчатое расположение листьев на стебле (хвощ) – пример центральной (лучевой) симмет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2158920" cy="2881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564000" y="1628640"/>
            <a:ext cx="1938240" cy="2595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76720" y="450864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рона ели. Симметрия конуса и двусторонняя симметр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300720" y="1484280"/>
            <a:ext cx="1974960" cy="266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796000" y="4508640"/>
            <a:ext cx="316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чередное расположение листьев на стебле Гибискуса китайского – пример винтовой симметрии у раст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Симметрия в мире растений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1914480" cy="2522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59280" y="1341360"/>
            <a:ext cx="2609640" cy="1947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11280" y="4005360"/>
            <a:ext cx="3960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Шишки хвойных растений и лист рябины – пример переносной симметрии у растений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227640" y="1341360"/>
            <a:ext cx="2422800" cy="324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932360" y="4724280"/>
            <a:ext cx="2529000" cy="1911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55640" y="5013360"/>
            <a:ext cx="331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истья растений: монстеры привлекательной, клена, дуба, орешника и березы – примеры двусторонней (зеркальной) симметрии у раст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b7"/>
                </a:solidFill>
                <a:latin typeface="Arial Black"/>
              </a:rPr>
              <a:t>Симметрия в жизни животных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000" y="4325760"/>
            <a:ext cx="39272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орская звезда и панцирь морского ежа – пример вращательной (радиальной, лучевой) симметрии у животны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2398680" cy="1801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2009880" cy="2708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804000" y="1268280"/>
            <a:ext cx="1866960" cy="252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43280" y="4076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усторонняя (зеркальная) симметрия  у человека и мух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012000" y="4869000"/>
            <a:ext cx="2808000" cy="1852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57080" y="609300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симметрия – амеба про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b7"/>
                </a:solidFill>
                <a:latin typeface="Arial Black"/>
              </a:rPr>
              <a:t>Симметрия в жизни животных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4000" y="5300280"/>
            <a:ext cx="424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тамерия (переносная симметрия)  у кольчатого  черв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2630520" cy="1981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340000" y="2852640"/>
            <a:ext cx="2773440" cy="2073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580000" y="1197000"/>
            <a:ext cx="2735280" cy="2044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651640" y="4149720"/>
            <a:ext cx="2550960" cy="2111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148360" y="3246480"/>
            <a:ext cx="36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ращательно-поступательная симметрия раковины брюхоногого моллюска Рапа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6021360"/>
            <a:ext cx="51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ты осы – конструкторский шедевр, состоящий из ряда шестигранных ячеек. Переносная симметр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ыводы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800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мметрией обладают объекты и явления живой прир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ет несколько основных типов симметрии, которые могут сочетаться друг с другом, так как живой мир многообразен и неповтор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живой природе огромное большинство живых организмов обнаруживает  сочетание различных видов симме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мметрия позволяет живым организмам лучше приспособиться к среде обитания и просто выжить, причем у неподвижных и малоподвижных организмов распространена лучевая (радиальная) симметрия или симметрия относительно точки, а у активно передвигающихся организмов – двусторонняя (зеркальная) симмет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имо симметрии в живой природе на микроуровне встречается и асиммет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ная работа расширила наш кругозор и помогла взглянуть на окружающий мир глазами исследова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на практике увидели межпредметные связи между математикой и биологией, повысился интерес к изучению этих предметов в шк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решили продолжить эту тему в следующем году, включив в исследования и тела неживой прир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, что исследование продолжаетс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58:18Z</dcterms:created>
  <dc:creator>Наталия Орлова</dc:creator>
  <dc:description/>
  <dc:language>en-US</dc:language>
  <cp:lastModifiedBy>Наталия Орлова</cp:lastModifiedBy>
  <dcterms:modified xsi:type="dcterms:W3CDTF">2012-01-04T13:28:55Z</dcterms:modified>
  <cp:revision>4</cp:revision>
  <dc:subject/>
  <dc:title>ГОСУДАРСТВЕННОЕ  ОБРАЗОВАТЕЛЬНОЕ  УЧРЕЖДЕНИЕ СРЕДНЯЯ ОБЩЕОБРАЗОВАТЕЛЬНАЯ  ШКОЛА С УГЛУБЛЕННЫМ ИЗУЧЕНИЕМ  ФРАНЦУЗСКОГО  ЯЗЫКА № 1244  САО ГОРОДА МОСКВЫ</dc:title>
</cp:coreProperties>
</file>