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9A3-9045-4F9B-8090-AEB33CCA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5DF-818A-45AD-B40B-6643D575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DD3-D480-4E1B-B44E-7D8A6A70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C44-C967-44FE-8BE0-2CCA7263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F054-080E-4F87-B80D-7CE1B3B2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D4E8-AD42-41DE-BF76-5ADA57B4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C3C7-990E-4B7A-9636-1BC4B44C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518D-E849-4896-8273-318BD256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DB34-20C9-4584-B84E-055E9648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102A-FE9F-441A-946A-B569795F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0713-9413-4319-B2B4-D4DF7419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87F-77DE-40D2-937D-CF84E34E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134F-AF61-4F60-8B88-D2EE92F1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15AE-FD23-4F90-944C-7DA2F933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8937-3C50-40A1-A975-17D604AB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7DF9-C4F8-4051-9712-677A0CE1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2557-3EF1-4DF3-BA69-7F0F8C01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3C6-34A7-49BB-912B-DC3F5128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563-B3AF-4775-BFA8-58322C09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B77-66C8-4BFE-BC6B-F7F4791B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0CE-B1D9-480D-A9B1-DF2110A4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33B-C3B1-4455-BCE0-6C53C41D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797-A096-4240-B345-7813A2E8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BAD-AB36-4A73-81AB-74C654D1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1C43-BBFB-49B2-BABD-DBA36F153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967C-3A1D-4A06-999B-CEB8F2885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ГОСУДАРСТВЕННОЕ  БЮДЖЕТНОЕ ОБРАЗОВАТЕЛЬНОЕ  УЧРЕЖДЕНИЕ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СРЕДНЯЯ ОБЩЕОБРАЗОВАТЕЛЬНАЯ  ШКОЛА С УГЛУБЛЕННЫМ ИЗУЧЕНИЕМ  ФРАНЦУЗСКОГО  ЯЗЫКА № 1244  САО ГОРОДА МОСКВЫ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ЕКТНАЯ 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нников Григорий, Косарев Алекс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7 класс «А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итковская Александра, Руденко Ан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7 класс «Б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СИММЕТРИЯ В ЖИВОЙ ПРИРОД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310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АСПОРТ  ПРОЕКТНОЙ  РАБОТЫ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00748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Цель проекта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изучить научно-популярную литературу и исследовать проявление симметрии в растительном и живот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дачи проект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учить понятие симметр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анализировать информацию, содержащуюся в печатных изданиях по этой те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ть какие виды симметрии встречаются в животном и раститель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казать взаимосвязь видов симметрии в живой природ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явить межпредметные связи между учебными предметами: геометрией и биологи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делать выво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симметрия в растительном и живот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исследование особенностей различных типов симметрии в растительном и живот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бный год: 2011 - 201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уководители проекта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лова Наталия Александровна (учитель биологи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асовская Наталья Петровна (учитель математик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 Black"/>
              </a:rPr>
              <a:t>Симметрия в пространстве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3057840" cy="600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35640" y="3357720"/>
            <a:ext cx="3100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ЕВАЯ СИММЕТР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1932120" cy="1947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2894040" cy="183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2349360"/>
            <a:ext cx="35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НТРАЛЬНАЯ   СИММЕ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16000" y="2852640"/>
            <a:ext cx="2409840" cy="819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11280" y="3933720"/>
            <a:ext cx="3927240" cy="1446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64000" y="5805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ЕРКАЛЬНО-ПОВОРОТН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СИММЕ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566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НОСН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СИММЕ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Исследование некоторых растений и животных на предмет выявления симметрии</a:t>
            </a: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ffffb7"/>
                </a:solidFill>
                <a:latin typeface="Arial Black"/>
              </a:rPr>
              <a:t>Симметрия в мире растений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560" y="4365360"/>
            <a:ext cx="36766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веток капусты. Центральная (лучевая) симметрия и поворотная симметрия 4 порядка (угол поворота 90º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492000" y="4437000"/>
            <a:ext cx="3095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веток гороха посевного – пример двусторонней (зеркальной) симметрии у раст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2376360" cy="1793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492360" y="1916280"/>
            <a:ext cx="1836720" cy="2447640"/>
          </a:xfrm>
          <a:prstGeom prst="rect">
            <a:avLst/>
          </a:prstGeom>
          <a:ln w="0">
            <a:noFill/>
          </a:ln>
        </p:spPr>
      </p:pic>
      <p:pic>
        <p:nvPicPr>
          <p:cNvPr id="118" name="DSCN3471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588000" y="4365720"/>
            <a:ext cx="273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веток вишни. Центральная  (лучевая) симметрия  и поворотная 5 порядка (угол поворота 72º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Симметрия в мире растений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4436640"/>
            <a:ext cx="2808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утовчатое расположение листьев на стебле (хвощ) – пример центральной (лучевой) симмет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2158920" cy="288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64000" y="1628640"/>
            <a:ext cx="1938240" cy="2595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76720" y="450864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рона ели. Симметрия конуса и двусторонняя симметр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300720" y="1484280"/>
            <a:ext cx="1974960" cy="266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796000" y="4508640"/>
            <a:ext cx="316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чередное расположение листьев на стебле Гибискуса китайского – пример винтовой симметрии у раст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Симметрия в мире растений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1914480" cy="2522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59280" y="1341360"/>
            <a:ext cx="2609640" cy="1947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11280" y="4005360"/>
            <a:ext cx="396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Шишки хвойных растений и лист рябины – пример переносной симметрии у растений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227640" y="1341360"/>
            <a:ext cx="2422800" cy="324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932360" y="4724280"/>
            <a:ext cx="2529000" cy="1911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55640" y="5013360"/>
            <a:ext cx="331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истья растений: монстеры привлекательной, клена, дуба, орешника и березы – примеры двусторонней (зеркальной) симметрии у раст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 Black"/>
              </a:rPr>
              <a:t>Симметрия в жизни животных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000" y="4325760"/>
            <a:ext cx="39272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орская звезда и панцирь морского ежа – пример вращательной (радиальной, лучевой) симметрии у животн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2398680" cy="1801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2009880" cy="2708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804000" y="1268280"/>
            <a:ext cx="1866960" cy="252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43280" y="40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усторонняя (зеркальная) симметрия  у человека и мух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012000" y="4869000"/>
            <a:ext cx="2808000" cy="1852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57080" y="609300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симметрия – амеба про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 Black"/>
              </a:rPr>
              <a:t>Симметрия в жизни животных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4000" y="530028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тамерия (переносная симметрия)  у кольчатого  черв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2630520" cy="1981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340000" y="2852640"/>
            <a:ext cx="2773440" cy="2073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580000" y="1197000"/>
            <a:ext cx="2735280" cy="2044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651640" y="4149720"/>
            <a:ext cx="2550960" cy="2111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48360" y="324648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ащательно-поступательная симметрия раковины брюхоногого моллюска Рапа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6021360"/>
            <a:ext cx="51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ты осы – конструкторский шедевр, состоящий из ряда шестигранных ячеек. Переносная симметр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ыводы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800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мметрией обладают объекты и явления живой при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ет несколько основных типов симметрии, которые могут сочетаться друг с другом, так как живой мир многообразен и неповтор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живой природе огромное большинство живых организмов обнаруживает  сочетание различных видов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мметрия позволяет живым организмам лучше приспособиться к среде обитания и просто выжить, причем у неподвижных и малоподвижных организмов распространена лучевая (радиальная) симметрия или симметрия относительно точки, а у активно передвигающихся организмов – двусторонняя (зеркальная) симмет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имо симметрии в живой природе на микроуровне встречается и асиммет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ная работа расширила наш кругозор и помогла взглянуть на окружающий мир глазами исследова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на практике увидели межпредметные связи между математикой и биологией, повысился интерес к изучению этих предметов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решили продолжить эту тему в следующем году, включив в исследования и тела неживой при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, что исследование продолжаетс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58:18Z</dcterms:created>
  <dc:creator>Наталия Орлова</dc:creator>
  <dc:description/>
  <dc:language>en-US</dc:language>
  <cp:lastModifiedBy>Наталия Орлова</cp:lastModifiedBy>
  <dcterms:modified xsi:type="dcterms:W3CDTF">2012-01-04T13:28:55Z</dcterms:modified>
  <cp:revision>4</cp:revision>
  <dc:subject/>
  <dc:title>ГОСУДАРСТВЕННОЕ  ОБРАЗОВАТЕЛЬНОЕ  УЧРЕЖДЕНИЕ СРЕДНЯЯ ОБЩЕОБРАЗОВАТЕЛЬНАЯ  ШКОЛА С УГЛУБЛЕННЫМ ИЗУЧЕНИЕМ  ФРАНЦУЗСКОГО  ЯЗЫКА № 1244  САО ГОРОДА МОСКВЫ</dc:title>
</cp:coreProperties>
</file>