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032-594A-4B40-8B2F-102AB44F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E8B-5E24-4358-B6D6-A0B28F82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0E8-8B55-4712-9289-3748EE0D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CAD-19CF-4029-91E6-F1AF24EF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06E4-217E-4A30-B909-15BCB5C3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8477-12E2-4085-8D9D-0BC87B7A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8844-0397-45DC-A9B1-7D15FA0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E4D3-37D9-45E9-9283-6285897D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521B-E058-4C88-9BC7-EA3BB02E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BD3D-D646-4E6A-A29B-79BEE479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839B-CE1F-4DFA-BF71-771E02E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A35-0FFF-416A-9E20-76A92768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7747-1B8D-44E5-AD27-4BCAFA0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FD4C-419B-4294-AD5F-9032553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22CF-2472-4D8F-A3E2-CC096D5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A605-5B29-494D-B6AF-FA027CF8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287A-F942-4563-A862-26751FA2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F85-E9C3-4269-AAC7-6EB177C8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307-1C82-4552-9814-52088D92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3C0-AC41-4CC0-AC37-4AA6F80B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574-22EF-4F8D-9598-538AE927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673-0489-4341-90B2-07ACAB3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6AC-0939-4911-9FDA-685DDDF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ECB-B013-4A09-AA97-E369A02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C6AF-2029-466D-A003-510A3A2EC5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1B6F-4E56-48DA-AC44-BEBFE47AFD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Arial Unicode MS"/>
              </a:rPr>
              <a:t>Проект</a:t>
            </a:r>
            <a:br>
              <a:rPr sz="4800"/>
            </a:br>
            <a:br>
              <a:rPr sz="4800"/>
            </a:br>
            <a:r>
              <a:rPr b="0" lang="en-US" sz="4000" spc="-1" strike="noStrike">
                <a:solidFill>
                  <a:srgbClr val="b2b2b2"/>
                </a:solidFill>
                <a:latin typeface="Arial Narrow"/>
              </a:rPr>
              <a:t>«Поэзия Серебряного века в современной музыке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Будникова Ан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Бадей Кристи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уководитель: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Забелина Ю.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К. Д. Бальмо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86856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80200" y="521640"/>
            <a:ext cx="47178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ТЕР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жить не могу настоящи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люблю беспокойные сны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солнечным блеском палящи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 И под влажным мерцаньем луны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жить не хочу настоящи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внимаю намекам струны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ветам и деревьям шумящи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И легендам приморской волны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ланьем томясь несказанны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в неясном грядущем живу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дыхаю в рассвете туманно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И с вечернею тучкой плыву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часто в восторге нежданно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Поцелуем тревожу листву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в бегстве живу неустанно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В ненасытной тревоге живу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. С. Гумиле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и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Сегодня, я вижу, особенно грустен твой взгляд,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руки особенно тонки, колени обняв.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ослушай: далеко, далеко, на озере Чад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зысканный бродит жираф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Ему грациозная стройность и нега дана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шкуру его украшает волшебный узор,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С которым равняться осмелится только луна,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Дробясь и качаясь на влаге широких озе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Вдали он подобен цветным парусам корабл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бег его плавен, как радостный птичий полет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Я знаю, что много чудесного видит земл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Когда на закате он прячется в мраморный грот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Я знаю веселые сказки таинственных стран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ро черную деву, про страсть молодого вожд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Но ты слишком долго вдыхала тяжелый туман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Ты верить не хочешь во что-нибудь, кроме дождя.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как я тебе расскажу про тропический сад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ро стройные пальмы, про запах немыслимых трав... -                                                                        Ты плачешь? Послушай... далеко, на озере Чад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зысканный бродит жираф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.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172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267440" cy="63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жала руки под тёмной вуалью</a:t>
            </a:r>
            <a:br>
              <a:rPr sz="28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жала руки под тёмной вуалью..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Отчего ты сегодня бледна?»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Оттого, что я терпкой печалью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поила его допьяна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забуду? Он вышел, шатаясь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кривился мучительно рот..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 сбежала, перил не касаясь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 бежала за ним до ворот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дыхаясь, я крикнула: «Шутка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сё, что было. Уйдёшь, я умру»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лыбнулся спокойно и жутко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сказал мне: «Не стой на ветру».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380880"/>
            <a:ext cx="4419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. А. Ахмат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693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имняя ночь</a:t>
            </a:r>
            <a:br>
              <a:rPr sz="2800"/>
            </a:b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ело, мело по всей земле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Во все пределы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ак летом роем мошкор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Летит на пламя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летались хлопья со двор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 оконной раме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Метель лепила на столе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ружки и стрелы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озаренный потолок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Ложились тени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крещенья рук, скркщенья ног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удьбы скрещенья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падали два башмачк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о стуком на пол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воск слезами с ночник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платье капал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все терялось в снежной мгле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едой и белой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свечку дуло из угла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жар соблазн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Вздымал, как ангел, два крыл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рестообразно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Мело весь месяц в февра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то и дело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4191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Л. Пастерн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Борис Пастернак"/>
          <p:cNvPicPr/>
          <p:nvPr/>
        </p:nvPicPr>
        <p:blipFill>
          <a:blip r:embed="rId1"/>
          <a:stretch/>
        </p:blipFill>
        <p:spPr>
          <a:xfrm>
            <a:off x="533520" y="1219320"/>
            <a:ext cx="3552840" cy="5257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Борис Пастернак"/>
          <p:cNvPicPr/>
          <p:nvPr/>
        </p:nvPicPr>
        <p:blipFill>
          <a:blip r:embed="rId2"/>
          <a:stretch/>
        </p:blipFill>
        <p:spPr>
          <a:xfrm>
            <a:off x="457200" y="1219320"/>
            <a:ext cx="355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95680" y="228600"/>
            <a:ext cx="4191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ВЫЙ МАРШ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орачивайтесь в марш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весной не место кляузе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ише, ораторы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аш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в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оварищ маузер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овольно жить законо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анным Адамом и Ев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лячу истории загони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Эй, синеблузы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Рей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За океаны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л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у броненосцев на рейд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уплены острые кили?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ус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скалясь короно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здымает британский лев в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ммуне не быть покоренн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. В. Маяк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968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0" y="277920"/>
            <a:ext cx="41148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ические розы</a:t>
            </a:r>
            <a:br>
              <a:rPr sz="28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те времена, когда роились гре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сердцах людей, прозрачны и ясны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были ро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ей любви, и славы, и весны!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шли лета, и всюду льются слезы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т ни страны, ни тех, кто жил в стране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ныне ро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споминаний о минувшем дне!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о дни идут - уже стихают грозы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ернуться в дом Россия ищет троп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будут розы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ей страной мне брошенные в гроб!</a:t>
            </a:r>
            <a:br>
              <a:rPr sz="1600"/>
            </a:b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4191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 В. Северя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635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0" y="277560"/>
            <a:ext cx="3657600" cy="62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жалею, не зову, не плачу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е жалею, не зову, не плачу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пройдет, как с белых яблонь ды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вяданья золотом охваченны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не буду больше молоды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 теперь не так уж будешь битьс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рдце, тронутое холодком,И страна березового ситц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заманит шляться босик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ух бродяжий! ты все реже, реж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шевеливаешь пламень ус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, моя утраченная свежес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йство глаз и половодье чувств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теперь скупее стал в желанья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знь моя, иль ты приснилась мне?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овно я весенней гулкой ранью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скакал на розовом коне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мы, все мы в этом мире тленны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хо льется с кленов листьев медь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дь же ты вовек благословенн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пришло процвесть и умереть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. А. Есе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57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23920" y="277560"/>
            <a:ext cx="3962520" cy="63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е нравится, что вы больны не мной</a:t>
            </a:r>
            <a:br>
              <a:rPr sz="28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, что вы больны не м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, что я больна не в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никогда тяжелый шар зем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уплывет под нашими ногам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Мне нравится, что можно быть смешной -Распущенной - и не играть слов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не краснеть удушливой вол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легка соприкоснувшись рукавам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 еще, что вы при м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койно обнимаете другую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прочите мне в адовом ог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еть за то, что я не вас целую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имя нежное мое, мой нежный, 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поминаете ни днем, ни ночью - всуе..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никогда в церковной тиши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пропоют над нами: аллилуйя!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асибо вам и сердцем и рук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вы меня - не зная сами! –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к любите: за мой ночной пок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редкость встреч закатными час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наши не-гулянья под лу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солнце, не у нас над головами,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вы больны - увы! - не м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я больна - увы! - не вами!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40384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. И. Цвета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098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рика серебряного века многообразна и очень музыкальна. Сам эпитет “серебряный век” звучит как колокольчик. Серебряный век подарил нам целое созвездие поэтов. Поэтов-музыкантов. Стихи серебряного века — это музыка слов, которая звучит и продолжает жить в 21 веке. В этих стихах не было ни одного лишнего звука, ни одной ненужной запятой, не к месту поставленной т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наш бурный век, когда стремительно развивается наука, увеличивается ритм жизни, вопрос о влиянии искусства на человека остается актуальным. Одним из видов искусства является музыка. Следует отметить , что в современной музыке развивается тенденция к использованию поэзии Серебряного века в связи с тем, что  темы, затрагиваемые поэтами , актуальны и сейч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2743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лубже изучить поэзию Серебряного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казать роль стихотворений поэзии Серебряного века в современной музы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Обоснование выбора тем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 уроках литературы мы познакомились с поэзией Серебряного века и ее яркими представителями. Углубившись в изучение, мы узнали, что в настоящее время очень часто композиторы используют стихи поэтов ХХ века в своих произве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Новизна проекта и задач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узыка и поэзия –  это всегда переплетающиеся явления, которые        имеют своё развитие. В современной музыке много направлений: поп-музыка, рок, реп и др. Наша   задача- выяснить и показать на примерах использование поэзии Серебряного века современными композиторами.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Гипотез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оэзия Серебряного века оказывает влияние на развитие современной музы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5400" spc="-1" strike="noStrike">
                <a:solidFill>
                  <a:srgbClr val="ffffff"/>
                </a:solidFill>
                <a:latin typeface="Blackadder ITC"/>
              </a:rPr>
              <a:t>«Серебряный век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1720800" cy="259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754280" cy="25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79920" y="4343400"/>
            <a:ext cx="14889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978440" y="1219320"/>
            <a:ext cx="1730160" cy="259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162920" y="43434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162920" y="1219320"/>
            <a:ext cx="179856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Борис Пастернак"/>
          <p:cNvPicPr/>
          <p:nvPr/>
        </p:nvPicPr>
        <p:blipFill>
          <a:blip r:embed="rId7"/>
          <a:stretch/>
        </p:blipFill>
        <p:spPr>
          <a:xfrm>
            <a:off x="152280" y="4343400"/>
            <a:ext cx="154476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1828800" y="4343400"/>
            <a:ext cx="1596960" cy="2309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410080" y="4343400"/>
            <a:ext cx="15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Я. Брюсов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ядущие гун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Где вы, грядущие гунн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Что тучей нависли над миром!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лышу ваш топот чугунный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 еще не открытым Памирам.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а нас ордой опьянелой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Рухните с темных становий -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Оживить одряхлевшее тело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олной пылающей крови.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ставьте, невольники воли,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Шалаши у дворцов, как бывало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сколосите веселое поле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а месте тронного зала.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ложите книги кострами,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ляшите в их радостном свете,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Творите мерзость во храме, -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ы во всем неповинны, как дети!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А мы, мудрецы и поэт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Хранители тайны и вер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Унесем зажженные светы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 катакомбы, в пустыни, в пещеры.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И что, под бурей летучей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д этой грозой разрушений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охранит играющий Случай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Из наших заветных творений?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Бесследно все сгибнет, быть может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Что ведомо было одним нам,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о вас, кто меня уничтожит,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стречаю приветственным гимном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10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190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ЗНАКОМКА 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 вечерам над ресторана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ячий воздух дик и глух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правит окриками пьяны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есенний и тлетворный дух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дали, над пылью переулочно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д скукой загородных дач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уть золотится крендель булочно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раздается детский плач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каждый вечер, за шлагбаумами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ламывая котелки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реди канав гуляют с дама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спытанные остряки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д озером скрипят уключин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раздается женский визг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 в небе, ко всему приученны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ессмысленно кривится диск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каждый вечер друг единственный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моем стакане отражен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влагой терпкой и таинственной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я, смирен и оглушен.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.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530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8:27:45Z</dcterms:created>
  <dc:creator>USER</dc:creator>
  <dc:description/>
  <dc:language>en-US</dc:language>
  <cp:lastModifiedBy>Customer</cp:lastModifiedBy>
  <dcterms:modified xsi:type="dcterms:W3CDTF">2012-08-11T12:37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