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987-5936-47AC-8BED-AFF2763B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1A8-9E65-4A99-8FFF-43B1D9ED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0D2-8F64-4C40-A0F4-29885CEF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DF4-2864-4A75-A58C-C59F9086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8615-E0A0-4951-A0A3-4BD872E9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30D7-5685-43BD-970F-F2D9060F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96A8-7A8B-492D-A331-D52A7309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EA61-227F-4F98-837F-766BAE5D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ED57-162A-4F6E-8D75-812FAE00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3B30-05A6-432C-B07B-F0510AF8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FE82-EABE-47E2-8F57-F6CB9C4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A56-3BED-421C-AD5C-F1F7F223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E3D2-0FB5-46B3-ACC0-15D44CA0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3D5E-6876-44AC-8DBB-0300A9E1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A884-9C38-4D58-94EC-57E5F821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36CF-7FAD-4E40-A5CA-663BFA0A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2B20-69FF-4289-BDDF-B30BC918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807-F901-4416-A36C-5C0CCAE0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7CC-180F-47DD-85B9-0FA25E5E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574-5310-4170-82D2-DE1DBB5A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FE0-A181-4371-8B0F-296741D6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EDA-53B9-4205-AF05-76F1F62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FAC-451D-4175-884B-D75921DE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4D9-D953-4001-A871-52E79C81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914D-3E09-4784-80C9-F9D8023D58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66D9-DED6-49B1-8F09-3A41238806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Arial Unicode MS"/>
              </a:rPr>
              <a:t>Проект</a:t>
            </a:r>
            <a:br>
              <a:rPr sz="4800"/>
            </a:br>
            <a:br>
              <a:rPr sz="4800"/>
            </a:br>
            <a:r>
              <a:rPr b="0" lang="en-US" sz="4000" spc="-1" strike="noStrike">
                <a:solidFill>
                  <a:srgbClr val="b2b2b2"/>
                </a:solidFill>
                <a:latin typeface="Arial Narrow"/>
              </a:rPr>
              <a:t>«Поэзия Серебряного века в современной музыке»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43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Будникова Ан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Бадей Кристи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уководитель: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Забелина Ю.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К. Д. Бальмо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86856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80200" y="521640"/>
            <a:ext cx="47178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ТЕР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жить не могу настоящим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Я люблю беспокойные сны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 солнечным блеском палящи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 И под влажным мерцаньем луны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жить не хочу настоящим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Я внимаю намекам струны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ветам и деревьям шумящи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И легендам приморской волны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ланьем томясь несказанным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Я в неясном грядущем живу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дыхаю в рассвете туманно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И с вечернею тучкой плыву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часто в восторге нежданно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Поцелуем тревожу листву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в бегстве живу неустанном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В ненасытной тревоге живу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. С. Гумиле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Жира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Сегодня, я вижу, особенно грустен твой взгляд,  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 руки особенно тонки, колени обняв.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Послушай: далеко, далеко, на озере Чад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зысканный бродит жираф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Ему грациозная стройность и нега дана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 шкуру его украшает волшебный узор,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С которым равняться осмелится только луна,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Дробясь и качаясь на влаге широких озер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Вдали он подобен цветным парусам корабля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 бег его плавен, как радостный птичий полет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Я знаю, что много чудесного видит земля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Когда на закате он прячется в мраморный грот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Я знаю веселые сказки таинственных стран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Про черную деву, про страсть молодого вождя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Но ты слишком долго вдыхала тяжелый туман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Ты верить не хочешь во что-нибудь, кроме дождя.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 как я тебе расскажу про тропический сад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Про стройные пальмы, про запах немыслимых трав... -                                                                        Ты плачешь? Послушай... далеко, на озере Чад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зысканный бродит жираф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.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172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267440" cy="63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жала руки под тёмной вуалью</a:t>
            </a:r>
            <a:br>
              <a:rPr sz="28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жала руки под тёмной вуалью..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Отчего ты сегодня бледна?»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— Оттого, что я терпкой печалью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поила его допьяна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забуду? Он вышел, шатаясь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кривился мучительно рот..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Я сбежала, перил не касаясь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Я бежала за ним до ворот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дыхаясь, я крикнула: «Шутка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сё, что было. Уйдёшь, я умру»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лыбнулся спокойно и жутко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сказал мне: «Не стой на ветру».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380880"/>
            <a:ext cx="4419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. А. Ахмат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693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имняя ночь</a:t>
            </a:r>
            <a:br>
              <a:rPr sz="2800"/>
            </a:b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ело, мело по всей земле 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Во все пределы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 на сто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Как летом роем мошкор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Летит на пламя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летались хлопья со двор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К оконной раме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Метель лепила на столе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Кружки и стрелы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 на сто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На озаренный потолок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Ложились тени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крещенья рук, скркщенья ног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удьбы скрещенья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падали два башмачк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о стуком на пол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воск слезами с ночник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На платье капал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все терялось в снежной мгле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едой и белой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 на сто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На свечку дуло из угла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жар соблазн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Вздымал, как ангел, два крыл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Крестообразно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Мело весь месяц в февра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то и дело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 на сто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4191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Л. Пастерн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Борис Пастернак"/>
          <p:cNvPicPr/>
          <p:nvPr/>
        </p:nvPicPr>
        <p:blipFill>
          <a:blip r:embed="rId1"/>
          <a:stretch/>
        </p:blipFill>
        <p:spPr>
          <a:xfrm>
            <a:off x="533520" y="1219320"/>
            <a:ext cx="3552840" cy="5257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Борис Пастернак"/>
          <p:cNvPicPr/>
          <p:nvPr/>
        </p:nvPicPr>
        <p:blipFill>
          <a:blip r:embed="rId2"/>
          <a:stretch/>
        </p:blipFill>
        <p:spPr>
          <a:xfrm>
            <a:off x="457200" y="1219320"/>
            <a:ext cx="3552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95680" y="228600"/>
            <a:ext cx="4191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ВЫЙ МАРШ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орачивайтесь в марш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весной не место кляузе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Тише, ораторы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аш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во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товарищ маузер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овольно жить законо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анным Адамом и Ево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лячу истории загони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Эй, синеблузы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Рейт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За океаны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л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у броненосцев на рейд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туплены острые кили?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усть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скалясь короно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здымает британский лев во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оммуне не быть покоренно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4191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. В. Маяк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968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0" y="277920"/>
            <a:ext cx="41148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лассические розы</a:t>
            </a:r>
            <a:br>
              <a:rPr sz="28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те времена, когда роились грез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сердцах людей, прозрачны и ясны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к хороши, как свежи были роз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ей любви, и славы, и весны!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шли лета, и всюду льются слезы..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ет ни страны, ни тех, кто жил в стране..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к хороши, как свежи ныне роз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споминаний о минувшем дне!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о дни идут - уже стихают грозы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ернуться в дом Россия ищет троп..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к хороши, как свежи будут розы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ей страной мне брошенные в гроб!</a:t>
            </a:r>
            <a:br>
              <a:rPr sz="1600"/>
            </a:b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380520"/>
            <a:ext cx="4191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. В. Северя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635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0" y="277560"/>
            <a:ext cx="3657600" cy="62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жалею, не зову, не плачу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е жалею, не зову, не плачу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пройдет, как с белых яблонь ды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вяданья золотом охваченны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не буду больше молоды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 теперь не так уж будешь битьс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рдце, тронутое холодком,И страна березового ситц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заманит шляться босико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ух бродяжий! ты все реже, реж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шевеливаешь пламень ус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, моя утраченная свежесть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уйство глаз и половодье чувств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теперь скупее стал в желаньях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знь моя, иль ты приснилась мне?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овно я весенней гулкой ранью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скакал на розовом коне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мы, все мы в этом мире тленны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ихо льется с кленов листьев медь..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удь же ты вовек благословенно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пришло процвесть и умереть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3809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. А. Есе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57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23920" y="277560"/>
            <a:ext cx="3962520" cy="63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е нравится, что вы больны не мной</a:t>
            </a:r>
            <a:br>
              <a:rPr sz="28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е нравится, что вы больны не м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е нравится, что я больна не вами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никогда тяжелый шар зем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уплывет под нашими ногам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Мне нравится, что можно быть смешной -Распущенной - и не играть словами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не краснеть удушливой вол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легка соприкоснувшись рукавами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е нравится еще, что вы при м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койно обнимаете другую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прочите мне в адовом ог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реть за то, что я не вас целую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имя нежное мое, мой нежный, 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поминаете ни днем, ни ночью - всуе..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никогда в церковной тиши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пропоют над нами: аллилуйя!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асибо вам и сердцем и рук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то, что вы меня - не зная сами! –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к любите: за мой ночной пок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редкость встреч закатными часами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наши не-гулянья под лу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солнце, не у нас над головами,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то, что вы больны - увы! - не м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то, что я больна - увы! - не вами!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403848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. И. Цвета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8098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рика серебряного века многообразна и очень музыкальна. Сам эпитет “серебряный век” звучит как колокольчик. Серебряный век подарил нам целое созвездие поэтов. Поэтов-музыкантов. Стихи серебряного века — это музыка слов, которая звучит и продолжает жить в 21 веке. В этих стихах не было ни одного лишнего звука, ни одной ненужной запятой, не к месту поставленной т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Актуальность проек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 наш бурный век, когда стремительно развивается наука, увеличивается ритм жизни, вопрос о влиянии искусства на человека остается актуальным. Одним из видов искусства является музыка. Следует отметить , что в современной музыке развивается тенденция к использованию поэзии Серебряного века в связи с тем, что  темы, затрагиваемые поэтами , актуальны и сейч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2743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Цел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лубже изучить поэзию Серебряного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казать роль стихотворений поэзии Серебряного века в современной музы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Обоснование выбора тем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 уроках литературы мы познакомились с поэзией Серебряного века и ее яркими представителями. Углубившись в изучение, мы узнали, что в настоящее время очень часто композиторы используют стихи поэтов ХХ века в своих произве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Новизна проекта и задач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узыка и поэзия –  это всегда переплетающиеся явления, которые        имеют своё развитие. В современной музыке много направлений: поп-музыка, рок, реп и др. Наша   задача- выяснить и показать на примерах использование поэзии Серебряного века современными композиторами.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Гипотез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Поэзия Серебряного века оказывает влияние на развитие современной музы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5400" spc="-1" strike="noStrike">
                <a:solidFill>
                  <a:srgbClr val="ffffff"/>
                </a:solidFill>
                <a:latin typeface="Blackadder ITC"/>
              </a:rPr>
              <a:t>«Серебряный век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1720800" cy="259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1754280" cy="259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79920" y="4343400"/>
            <a:ext cx="14889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978440" y="1219320"/>
            <a:ext cx="1730160" cy="259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162920" y="434340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7162920" y="1219320"/>
            <a:ext cx="1798560" cy="2514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Борис Пастернак"/>
          <p:cNvPicPr/>
          <p:nvPr/>
        </p:nvPicPr>
        <p:blipFill>
          <a:blip r:embed="rId7"/>
          <a:stretch/>
        </p:blipFill>
        <p:spPr>
          <a:xfrm>
            <a:off x="152280" y="4343400"/>
            <a:ext cx="154476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1828800" y="4343400"/>
            <a:ext cx="1596960" cy="2309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410080" y="4343400"/>
            <a:ext cx="15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Я. Брюсов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ядущие гунн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Где вы, грядущие гунны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Что тучей нависли над миром!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Слышу ваш топот чугунный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По еще не открытым Памирам.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На нас ордой опьянелой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Рухните с темных становий -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Оживить одряхлевшее тело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олной пылающей крови.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Поставьте, невольники воли,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Шалаши у дворцов, как бывало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сколосите веселое поле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На месте тронного зала.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Сложите книги кострами,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Пляшите в их радостном свете,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Творите мерзость во храме, -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ы во всем неповинны, как дети!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А мы, мудрецы и поэты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Хранители тайны и веры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Унесем зажженные светы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 катакомбы, в пустыни, в пещеры.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И что, под бурей летучей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Под этой грозой разрушений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Сохранит играющий Случай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Из наших заветных творений?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Бесследно все сгибнет, быть может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Что ведомо было одним нам,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Но вас, кто меня уничтожит,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стречаю приветственным гимном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10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4190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ЗНАКОМКА 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 вечерам над ресторанам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рячий воздух дик и глух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правит окриками пьяным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есенний и тлетворный дух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дали, над пылью переулочной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д скукой загородных дач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Чуть золотится крендель булочной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раздается детский плач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каждый вечер, за шлагбаумами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ламывая котелки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реди канав гуляют с дамам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спытанные остряки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д озером скрипят уключин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раздается женский визг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А в небе, ко всему приученный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Бессмысленно кривится диск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каждый вечер друг единственный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моем стакане отражен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влагой терпкой и таинственной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к я, смирен и оглушен.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.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530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8:27:45Z</dcterms:created>
  <dc:creator>USER</dc:creator>
  <dc:description/>
  <dc:language>en-US</dc:language>
  <cp:lastModifiedBy>Customer</cp:lastModifiedBy>
  <dcterms:modified xsi:type="dcterms:W3CDTF">2012-08-11T12:37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