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71F-86A4-45BA-8606-82E0F3DE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131-C8D3-460B-982D-47B4616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CA0-C7D7-4CEA-BD68-CE410755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624-AAC1-4E12-97FD-B192F3B3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0503-E418-45AD-BE0D-512AC61C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C330-93C1-48C5-B25C-AF3B2F2B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693B-55CF-4930-AD83-A008748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E25-5786-4621-916B-6FD82BE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49AA-2C2C-46E8-86C4-CC3A0CED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A0F-B97E-4F0F-94F8-9D1BB889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E600-E0CD-4F7E-A94D-AAEB408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9EE-EFEC-4E03-8770-BB8F604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F04-730A-4A30-8714-4D6B9F9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F592-E80F-4041-9D19-F68D364C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1640-53A3-4600-8F59-5EF876E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CC22-5050-4A62-B256-B7BCDC91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5021-BC78-4413-8360-1CA811F6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0B0-283B-4114-9235-449BD34D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565-A71B-43B0-A797-DC77CA3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96B-06C2-42ED-AB6D-A46C30F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00A-6053-44CD-A55A-8977D04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F0A-CFF5-486B-9A02-2F0F16E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E2E-3B75-48A3-983A-9EFFF90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AB4-0935-477F-8942-598AA87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036-9AF6-46D3-9AE6-3E4C4B516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EEB-8AE4-4D2A-8CA1-FF034CBC03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2b2b2"/>
                </a:solidFill>
                <a:latin typeface="Arial Unicode MS"/>
              </a:rPr>
              <a:t>Проект</a:t>
            </a:r>
            <a:br>
              <a:rPr sz="4800"/>
            </a:br>
            <a:br>
              <a:rPr sz="4800"/>
            </a:br>
            <a:r>
              <a:rPr b="0" lang="en-US" sz="4000" spc="-1" strike="noStrike">
                <a:solidFill>
                  <a:srgbClr val="b2b2b2"/>
                </a:solidFill>
                <a:latin typeface="Arial Narrow"/>
              </a:rPr>
              <a:t>«Поэзия Серебряного века в современной музыке»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удникова Ан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адей Кристи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уководитель: 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Забелина Ю.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3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К. Д. Бальмон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386856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480200" y="521640"/>
            <a:ext cx="47178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ТЕР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мог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люблю беспокойные с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солнечным блеском пал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 И под влажным мерцаньем лу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жить не хочу настоящи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нимаю намекам струны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ветам и деревьям шумящи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легендам приморской волны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еланьем томясь несказанны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Я в неясном грядущем живу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дыхаю в рассвете тум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И с вечернею тучкой плыву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часто в восторге нежданном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Поцелуем тревожу листву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в бегстве живу неустанном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             В ненасытной тревоге живу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. С. Гумиле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Жира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егодня, я вижу, особенно грустен твой взгляд,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руки особенно тонки, колени обняв.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ослушай: далеко, далеко, на озере Чад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Ему грациозная стройность и нега дана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шкуру его украшает волшебный узор,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С которым равняться осмелится только луна,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Дробясь и качаясь на влаге широких озер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Вдали он подобен цветным парусам кораб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бег его плавен, как радостный птичий поле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, что много чудесного видит земл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Когда на закате он прячется в мраморный грот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Я знаю веселые сказки таинственных стран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черную деву, про страсть молодого вождя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Но ты слишком долго вдыхала тяжелый туман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Ты верить не хочешь во что-нибудь, кроме дождя.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 как я тебе расскажу про тропический сад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Про стройные пальмы, про запах немыслимых трав... -                                                                        Ты плачешь? Послушай... далеко, на озере Чад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Изысканный бродит жираф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.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172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26744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жала руки под тёмной вуалью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жала руки под тёмной вуалью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«Отчего ты сегодня бледна?»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— Оттого, что я терпкой печалью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апоила его допьяна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забуду? Он вышел, шат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скривился мучительно рот..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сбежала, перил не касаясь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Я бежала за ним до ворот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дыхаясь, я крикнула: «Шутка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сё, что было. Уйдёшь, я умру»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лыбнулся спокойно и жутко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 сказал мне: «Не стой на ветру»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380880"/>
            <a:ext cx="4419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А. А. Ахмат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6939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имняя ночь</a:t>
            </a:r>
            <a:br>
              <a:rPr sz="2800"/>
            </a:b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ело, мело по всей земле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о все пред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ак летом роем мошк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етит на пламя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летались хлопья со двор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 оконной раме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тель лепила на сто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ужки и стрелы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озаренный потолок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Ложились тени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крещенья рук, скркщенья ног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удьбы скрещенья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падали два башмач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о стуком на пол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оск слезами с ночник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платье капал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все терялось в снежной мгле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едой и белой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На свечку дуло из угла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жар соблазн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Вздымал, как ангел, два крыла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Крестообразно.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Мело весь месяц в февра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И то и дело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 на столе, 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b2b2b2"/>
                </a:solidFill>
                <a:latin typeface="Arial"/>
              </a:rPr>
              <a:t>Свеча горела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533160"/>
            <a:ext cx="4191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. Л. Пастерн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Борис Пастернак"/>
          <p:cNvPicPr/>
          <p:nvPr/>
        </p:nvPicPr>
        <p:blipFill>
          <a:blip r:embed="rId1"/>
          <a:stretch/>
        </p:blipFill>
        <p:spPr>
          <a:xfrm>
            <a:off x="533520" y="1219320"/>
            <a:ext cx="3552840" cy="525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Борис Пастернак"/>
          <p:cNvPicPr/>
          <p:nvPr/>
        </p:nvPicPr>
        <p:blipFill>
          <a:blip r:embed="rId2"/>
          <a:stretch/>
        </p:blipFill>
        <p:spPr>
          <a:xfrm>
            <a:off x="457200" y="121932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95680" y="228600"/>
            <a:ext cx="4191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ВЫЙ МАРШ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орачивайтесь в марш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есной не место кляуз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ише, оратор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аш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в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товарищ маузер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овольно жить законом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анным Адамом и Е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лячу истории загони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Эй, синеблузы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Рейте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За океаны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у броненосцев на рейд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туплены острые кили?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у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скалясь короно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вздымает британский лев в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ммуне не быть покоренно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Левой!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. В. Маяков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68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0" y="277920"/>
            <a:ext cx="41148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лассические розы</a:t>
            </a:r>
            <a:br>
              <a:rPr sz="28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те времена, когда роились гре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сердцах людей, прозрачны и ясн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ыли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любви, и славы, и весны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шли лета, и всюду льются слезы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т ни страны, ни тех, кто жил в стране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ныне роз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споминаний о минувшем дне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 дни идут - уже стихают грозы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рнуться в дом Россия ищет троп..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хороши, как свежи будут розы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оей страной мне брошенные в гроб!</a:t>
            </a:r>
            <a:br>
              <a:rPr sz="1600"/>
            </a:b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4191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 В. Северя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635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0" y="277560"/>
            <a:ext cx="365760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жалею, не зову, не плачу</a:t>
            </a:r>
            <a:br>
              <a:rPr sz="28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е жалею, не зову, не плачу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пройдет, как с белых яблонь 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вяданья золотом охваченный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не буду больше молоды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ы теперь не так уж будешь биться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рдце, тронутое холодком,И страна березового ситц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заманит шляться босиком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ух бродяжий! ты все реже, реж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шевеливаешь пламень ус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, моя утраченная свежесть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йство глаз и половодье чувств!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теперь скупее стал в желаньях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знь моя, иль ты приснилась мне?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овно я весенней гулкой ранью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скакал на розовом коне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мы, все мы в этом мире тленны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ихо льется с кленов листьев медь..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удь же ты вовек благословенно,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пришло процвесть и умереть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3809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. А. Есен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5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723920" y="277560"/>
            <a:ext cx="3962520" cy="63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</a:t>
            </a:r>
            <a:br>
              <a:rPr sz="28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вы больны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, что я больна не 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тяжелый шар земн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уплывет под нашими ногами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Мне нравится, что можно быть смешной -Распущенной - и не играть слов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не краснеть удушливой вол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легка соприкоснувшись рукавами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не нравится еще, что вы при м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койно обнимаете другую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чите мне в адовом ог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реть за то, что я не вас целую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имя нежное мое, мой нежный, 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поминаете ни днем, ни ночью - всуе..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никогда в церковной тишин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пропоют над нами: аллилуйя!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асибо вам и сердцем и рукой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меня - не зная сами! –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к любите: за мой ночной пок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редкость встреч закатными часами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наши не-гулянья под лу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солнце, не у нас над головами,-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вы больны - увы! - не м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то, что я больна - увы! - не вами!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403848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. И. Цвета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809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рика серебряного века многообразна и очень музыкальна. Сам эпитет “серебряный век” звучит как колокольчик. Серебряный век подарил нам целое созвездие поэтов. Поэтов-музыкантов. Стихи серебряного века — это музыка слов, которая звучит и продолжает жить в 21 веке. В этих стихах не было ни одного лишнего звука, ни одной ненужной запятой, не к месту поставленной т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 наш бурный век, когда стремительно развивается наука, увеличивается ритм жизни, вопрос о влиянии искусства на человека остается актуальным. Одним из видов искусства является музыка. Следует отметить , что в современной музыке развивается тенденция к использованию поэзии Серебряного века в связи с тем, что  темы, затрагиваемые поэтами , актуальны и сейч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лубже изучить поэзию Серебряного 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казать роль стихотворений поэзии Серебряного века в современной музы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Обоснование выбора тем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а уроках литературы мы познакомились с поэзией Серебряного века и ее яркими представителями. Углубившись в изучение, мы узнали, что в настоящее время очень часто композиторы используют стихи поэтов ХХ века в своих произве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Новизна проекта и задач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узыка и поэзия –  это всегда переплетающиеся явления, которые        имеют своё развитие. В современной музыке много направлений: поп-музыка, рок, реп и др. Наша   задача- выяснить и показать на примерах использование поэзии Серебряного века современными композиторами.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Гипотез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оэзия Серебряного века оказывает влияние на развитие современной му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ffffff"/>
                </a:solidFill>
                <a:latin typeface="Blackadder ITC"/>
              </a:rPr>
              <a:t>«Серебряный век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1720800" cy="2590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1754280" cy="259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79920" y="4343400"/>
            <a:ext cx="14889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978440" y="1219320"/>
            <a:ext cx="1730160" cy="259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162920" y="434340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7162920" y="1219320"/>
            <a:ext cx="179856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Борис Пастернак"/>
          <p:cNvPicPr/>
          <p:nvPr/>
        </p:nvPicPr>
        <p:blipFill>
          <a:blip r:embed="rId7"/>
          <a:stretch/>
        </p:blipFill>
        <p:spPr>
          <a:xfrm>
            <a:off x="152280" y="4343400"/>
            <a:ext cx="15447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1828800" y="4343400"/>
            <a:ext cx="1596960" cy="2309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5410080" y="4343400"/>
            <a:ext cx="15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Я. Брюсов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ядущие гун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Где вы, грядущие гунн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тучей нависли над миром!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ышу ваш топот чугунный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 еще не открытым Памирам.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нас ордой опьянелой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Рухните с темных становий -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Оживить одряхлевшее тело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олной пылающей крови.             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ставьте, невольники воли,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Шалаши у дворцов, как бывало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колосите веселое поле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а месте тронного зала.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ложите книги кострами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ляшите в их радостном свете,       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Творите мерзость во храме, -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ы во всем неповинны, как дети!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А мы, мудрецы и поэт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Хранители тайны и веры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Унесем зажженные светы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 катакомбы, в пустыни, в пещеры.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 что, под бурей летуче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Под этой грозой разрушений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охранит играющий Случай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Из наших заветных творений?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Бесследно все сгибнет, быть может,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Что ведомо было одним нам,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Но вас, кто меня уничтожит,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Встречаю приветственным гимном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10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19076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ЗНАКОМКА </a:t>
            </a:r>
            <a:br>
              <a:rPr sz="24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вечерам над ресторан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орячий воздух дик и глух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правит окриками пьяны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есенний и тлетворный дух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дали, над пылью пере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скукой загородных дач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уть золотится крендель булочно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детский плач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, за шлагбаумам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ламывая котелки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еди канав гуляют с дамами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пытанные остряки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д озером скрипят уключины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раздается женский визг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 в небе, ко всему приученный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Бессмысленно кривится дис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каждый вечер друг единственны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моем стакане отражен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влагой терпкой и таинственной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ак я, смирен и оглушен.</a:t>
            </a:r>
            <a:endParaRPr b="0" lang="en-US" sz="1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.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30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8:27:45Z</dcterms:created>
  <dc:creator>USER</dc:creator>
  <dc:description/>
  <dc:language>en-US</dc:language>
  <cp:lastModifiedBy>Customer</cp:lastModifiedBy>
  <dcterms:modified xsi:type="dcterms:W3CDTF">2012-08-11T12:3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