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3D6-33AF-4EB8-BF33-92CDD87A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ED3-1A6E-49C0-B8F5-FBCB9AE3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126-F8AD-4497-9E11-76DD0E5A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BFC-1CCF-466F-8F93-3B78E051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F56-EA15-4A80-8386-DFFB3EB0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C39-9DF6-444E-9BD9-FF6FCA65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688-AE3D-4E9B-9F00-9DFB53F9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B3F-5F22-4B16-BF7E-94E799E7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770-1E3B-4626-A2D2-CF51E0F3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DA7-ABB9-43AB-96C2-8F9A4B6B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5EB-7D4F-4A1D-A7BB-7D6A56FB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63E-C08F-4FE5-8673-6EF51DB3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1F0E-27E9-41E9-BD34-64B8BBEA7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99"/>
                </a:solidFill>
                <a:latin typeface="Arial"/>
              </a:rPr>
              <a:t>УРОК – ИГР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4632480"/>
            <a:ext cx="487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читель англий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МОУ «СОШ №7» г. Лысь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лосова Наталья Леонт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о материалам преподавателей Аркского педагогического коллед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914400"/>
            <a:ext cx="8686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OLYMPIC GAME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teacher reads a text. The contestants should listen to the text attentively. They should repeat sentence by sentence in turn to retell the text up to the 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team which gives the most correct and full sentences is the win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14600" y="30492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AC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ach team gets a card with a situation for discussion. It can be a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first team gives their own solution of the problem. In turn the opponents must try to give arguments against this so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next team does the sa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judge decides which team has been more active and has given the best defence of their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33720" y="152280"/>
            <a:ext cx="4038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FENC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contestants of the teams should give one part of an English proverb on the top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opponents have to complete the proverb and give the Russian vari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winner is the team which has given the most number of proverb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20880" y="4724280"/>
            <a:ext cx="930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example: A friend in need                  is a friend ind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friend to all                      is a friend to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man is known                  by the company he ke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y are rich                      who have fri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tter an open enemy        than a false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362320" y="15228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ENNI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17521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participants of each team write a poem and presen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7680" y="3352680"/>
            <a:ext cx="901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For example:                 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                             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sociable    gener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                         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understand   trust    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                        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Life’s boring without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                                     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Happines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666880" y="380880"/>
            <a:ext cx="2971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UDO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38080" y="304920"/>
            <a:ext cx="76964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GOOD LUCK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Как организовать работу учащихся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заключительном уроке по теме, 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рок был необычным и увлекатель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се учащиеся проявили 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продемонстрировали сформиров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мпетенции: языко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ече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циокультур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мпенсатор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чебно-познаватель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ыла возможность применить раз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ормы организации работы уча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современные технологи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6840" y="228600"/>
            <a:ext cx="8830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Такой урок можно провести в форм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The Olympic Game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Учащиеся работают в группах /коман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езжают на игры из разных стран/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парах, индивидуа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Жюри или учитель оценивают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Конкурсам присвоены названия ви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по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Содержание конкурсов учитель мож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енять согласно изученной те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1294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ach participant should say 10 /20/ words in such a way that every other word begins with a letter that is at the end of the previous w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contestant who is the first to complete the task will be the win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5400" y="5840280"/>
            <a:ext cx="92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example: Frien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– dut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– youn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g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– generou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. . 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33720" y="22860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UNN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4475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ach contestant should write and pronounce the longest and the most difficult wo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participant whose word has the largest number of letters is the win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160" y="563868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example: Friendship, misunderstand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ustworthy .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76520" y="152280"/>
            <a:ext cx="5790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EIGHT LIFT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ach group thinks of 5 words /nouns, verbs or adjectives/ and exchanges the lists. The opponents must find antonyms or synonyms to the given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winner is the team that has more correct variants than the oth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95288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example: Antonyms    a friend – an enemy     Synonyms   true - clo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th – lie                                          like - enj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oung – old                                      funny - am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ace – war                                     boring - d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appy - sad                                  convince - persu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33720" y="228600"/>
            <a:ext cx="4876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RESTL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ach team has got a long word. Using the letters of this word the participants should make up new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team which makes up the most number of the words is the win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800" y="5237280"/>
            <a:ext cx="88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example: friendship – friend, ship, pen, f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ine, her, fish, hip, ride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362320" y="22860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ONG JUMP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distance of the flight will be determined according to the number of words used in each sentence. The sentence may be compound, but it must have a definite logical mea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winner is the team that has constructed the longest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1160" y="5565600"/>
            <a:ext cx="90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example: It goes without saying good friends are people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end a lot of time together and are always read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 a helpful hand to one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3880" y="15228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AVELIN THROW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contestants of each team think of 5 questions on the topic. The participant who reads the questions throws a disc /a ball / to one of the participants of the other team and asks a question. The opponents answer and throw the disc and ask their own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he winner is the team which has the most correct questions and answ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47920" y="228600"/>
            <a:ext cx="6095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ISCUS THROW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3-25T12:51:2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