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D74-8D13-444A-892F-08B02979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893-1C0A-4ADE-8F7F-B406A139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ABE-73DE-4C19-A838-1AF85260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758-6815-4A7E-B246-F63FC2C1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78D-0438-4935-90B4-3B1B5ED3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C65-23E1-4DB9-B00B-B2372728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943-5881-42D3-ABD8-3B303617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558-AA93-4931-A293-6EE2C9B2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B5E-2580-437E-9472-BB4E0F67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AE8-AA92-49E6-BB93-D7282AD9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FBB-82BB-4F29-811C-CF267BD6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9F7-489A-4E2E-8CEE-3F04C6BA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24D9-83F4-445D-9800-995EA763C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99"/>
                </a:solidFill>
                <a:latin typeface="Arial"/>
              </a:rPr>
              <a:t>УРОК – ИГР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63248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МОУ «СОШ №7» г. Лысь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лосова Наталья Леонт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о материалам преподавателей Аркского педагогического коллед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914400"/>
            <a:ext cx="8686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OLYMPIC GAME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teacher reads a text. The contestants should listen to the text attentively. They should repeat sentence by sentence in turn to retell the text up to the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team which gives the most correct and full sentences is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14600" y="3049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AC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team gets a card with a situation for discussion. It can be a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first team gives their own solution of the problem. In turn the opponents must try to give arguments against this s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next team does the sa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judge decides which team has been more active and has given the best defence of their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33720" y="1522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FENC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contestants of the teams should give one part of an English proverb on the top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opponents have to complete the proverb and give the Russian vari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which has given the most number of proverb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0880" y="4724280"/>
            <a:ext cx="930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example: A friend in need                  is 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friend to all                      is a friend to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man is known                  by the company he ke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y are rich                      who have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tter an open enemy        than a false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62320" y="15228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NNI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articipants of each team write a poem and presen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7680" y="3352680"/>
            <a:ext cx="901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For example:                 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sociable    gener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understand   trust   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Life’s boring without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Happine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666880" y="380880"/>
            <a:ext cx="2971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UDO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38080" y="304920"/>
            <a:ext cx="76964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GOOD LUCK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Как организовать работу учащихся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заключительном уроке по теме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 был необычным и увлекатель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е учащиеся проявили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продемонстрировали сформир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мпетенции: языко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ече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циокультур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мпенсатор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чебно-познаватель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ыла возможность применить раз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ормы организации работы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современные технологи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6840" y="228600"/>
            <a:ext cx="8830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Такой урок можно провести в форм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The Olympic Gam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Учащиеся работают в группах /ком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езжают на игры из разных стран/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парах, индивиду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Жюри или учитель оценивают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Конкурсам присвоены названия ви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Содержание конкурсов учитель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енять согласно изученной т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participant should say 10 /20/ words in such a way that every other word begins with a letter that is at the end of the previous w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contestant who is the first to complete the task will be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400" y="5840280"/>
            <a:ext cx="92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example: Frien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– dut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youn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generou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. . 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33720" y="22860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UNN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contestant should write and pronounce the longest and the most difficult w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participant whose word has the largest number of letters is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160" y="56386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example: Friendship, misunderstand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ustworthy .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76520" y="152280"/>
            <a:ext cx="5790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IGHT LIFT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group thinks of 5 words /nouns, verbs or adjectives/ and exchanges the lists. The opponents must find antonyms or synonyms to the given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that has more correct variants than the oth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528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example: Antonyms    a friend – an enemy     Synonyms   true - clo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th – lie                                          like - enj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ng – old                                      funny - am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ace – war                                     boring - d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appy - sad                                  convince - persu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3720" y="22860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RESTL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team has got a long word. Using the letters of this word the participants should make up new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team which makes up the most number of the words is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800" y="5237280"/>
            <a:ext cx="88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example: friendship – friend, ship, pen, f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ine, her, fish, hip, ride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62320" y="2286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ONG JUMP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distance of the flight will be determined according to the number of words used in each sentence. The sentence may be compound, but it must have a definite logical mea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that has constructed the longest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1160" y="5565600"/>
            <a:ext cx="90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example: It goes without saying good friends are people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end a lot of time together and are always read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 a helpful hand to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15228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AVELIN THROW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contestants of each team think of 5 questions on the topic. The participant who reads the questions throws a disc /a ball / to one of the participants of the other team and asks a question. The opponents answer and throw the disc and ask their own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which has the most correct questions and ans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47920" y="228600"/>
            <a:ext cx="6095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ISCUS THROW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3-25T12:51:2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