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258-897C-4806-AAF3-52D2007A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25F-D148-4E4B-99CE-4EBD3B8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1A6-2913-4CF5-8180-D51C147B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A92-FEFC-4747-A431-D90E42AF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966-F054-4D41-B2F2-2BC6793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B96-205A-45C3-A730-6E2AE70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A6-EABE-4748-9031-21546C41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2A0-0750-45BD-9993-1BE72C8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161-3FD9-4202-906E-037B20A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041-9DC4-4C9D-B77B-A5B3F3E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A42-61DE-4EF2-8BDC-4FDA94D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E83-3DCA-48B0-B100-4C0F3F4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961C-351D-472E-A55D-21DE2B7E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Arial"/>
              </a:rPr>
              <a:t>УРОК – ИГР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3248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У «СОШ №7» г. Лысь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лосова Наталья Леонт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 материалам преподавателей Аркского педагогического коллед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914400"/>
            <a:ext cx="8686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OLYMPIC GAME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teacher reads a text. The contestants should listen to the text attentively. They should repeat sentence by sentence in turn to retell the text up to the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gives the most correct and full sentence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1460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gets a card with a situation for discussion. It can be a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first team gives their own solution of the problem. In turn the opponents must try to give arguments against this s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next team does the sa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judge decides which team has been more active and has given the best defence of their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NC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the teams should give one part of an English proverb on the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opponents have to complete the proverb and give the Russian vari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given the most number of pro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0880" y="4724280"/>
            <a:ext cx="930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A friend in need                  is 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riend to all                      is a friend to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man is known                  by the company he ke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are rich                      who have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ter an open enemy        than a false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62320" y="1522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NNI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articipants of each team write a poem and presen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680" y="3352680"/>
            <a:ext cx="901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For example:                 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sociable    gen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understand   trust  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Life’s boring without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Happi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380880"/>
            <a:ext cx="2971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UDO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304920"/>
            <a:ext cx="7696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LUCK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ак организовать работу учащих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ключительном уроке по теме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был необычным и увлека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 учащиеся проявили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продемонстрировали сформир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тенции: языко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че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циокульту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нсато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ебно-позна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ыла возможность применить раз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ы организации работы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овременные технолог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6840" y="228600"/>
            <a:ext cx="883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Такой урок можно провести в форм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Olympic Gam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Учащиеся работают в группах /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езжают на игры из разных стран/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арах, 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Жюри или учитель оценивают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Конкурсам присвоены названия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Содержание конкурсов учитель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енять согласно изученной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participant should say 10 /20/ words in such a way that every other word begins with a letter that is at the end of the previous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contestant who is the first to complete the task will be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400" y="5840280"/>
            <a:ext cx="92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– dut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you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genero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. . 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UN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contestant should write and pronounce the longest and the most difficult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participant whose word has the largest number of letter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160" y="5638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, misunder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ustworthy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1522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IGHT LIFT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group thinks of 5 words /nouns, verbs or adjectives/ and exchanges the lists. The opponents must find antonyms or synonyms to the given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more correct variants than the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: Antonyms    a friend – an enemy     Synonyms   true - cl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 – lie                                          like - en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ng – old                                      funny - am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ce – war                                     boring - d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ppy - sad                                  convince - persu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ESTL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has got a long word. Using the letters of this word the participants should make up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makes up the most number of the word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00" y="5237280"/>
            <a:ext cx="88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 – friend, ship, pen, f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ine, her, fish, hip, rid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6232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NG JUMP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distance of the flight will be determined according to the number of words used in each sentence. The sentence may be compound, but it must have a definite logical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constructed the longes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1160" y="5565600"/>
            <a:ext cx="90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It goes without saying good friends are people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nd a lot of time together and are always read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a helpful hand to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5228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AVELIN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each team think of 5 questions on the topic. The participant who reads the questions throws a disc /a ball / to one of the participants of the other team and asks a question. The opponents answer and throw the disc and ask their own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the most correct questions and ans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ISCUS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25T12:51:2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