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226-798D-4863-87AA-36448859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7A9-3554-4CB9-A723-40FAC4F7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A29-CA65-4C94-A109-1ECA1961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1276-312D-4AA8-921F-2F5D1CCC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3A1C-96CC-452D-B0CC-4405F7A8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EA29-8602-450D-A83B-BEFB1129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A12F-EE0D-4AF9-907D-ED4A0FE4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38B3-F35A-437E-9CE1-94F150E8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87A2-FA42-4E77-A287-1DBFFD70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4806-B9C7-4200-AF65-62740E66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F02C-9250-494F-ADE2-6BCC5702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C41E-E370-4A12-9A3B-49B58205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CF90-6A1D-4810-B384-FE8DB9B2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8719-1DCF-4534-B397-1A5A550D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BFEF-B24A-4C08-96C2-D4F92824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6CCA-EA32-4695-B043-FDA26BC4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3B23-2893-48C7-9366-844246AA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7E1-FA15-40FD-B6C5-E61F7623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CF4-3DEB-4C8E-9D48-DBB58759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C7B-125E-4416-8139-654EF04F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B54-8C2C-4DD5-9419-A3287E8A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B444-40C9-48AD-9AAA-3E384CF8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286-D63B-4420-B84C-CC5BC38C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D78-5779-4B37-BEC9-D38E3999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B2CC-D3B6-4C06-953B-E98A1243AD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9879-B96F-42D1-89A9-93D8E5FE02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765000"/>
            <a:ext cx="79880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Почему портится зрение и можно ли его сохранить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1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боту выполни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еница 5«в» класс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ирфайсалова Анастас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уководитель Литвиновская Н.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948360" y="21337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77080" y="2637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64720" y="126828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Результаты анкетирования в   4 «в» класс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844640"/>
          <a:ext cx="8486640" cy="4883040"/>
        </p:xfrm>
        <a:graphic>
          <a:graphicData uri="http://schemas.openxmlformats.org/drawingml/2006/table">
            <a:tbl>
              <a:tblPr/>
              <a:tblGrid>
                <a:gridCol w="5616360"/>
                <a:gridCol w="2870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стояние зрения на конец 4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худшилось у 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меют заболевание гл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алость глаз к концу д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ремя у телевиз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часа (среднее по класс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ремя у компьют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нают о специальных упражнени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лают упраж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юбимые ц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ний, зеленый, черный, 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Возрастные нормы занятий у компьюте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82600" y="2017800"/>
          <a:ext cx="7772400" cy="43210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ремя занят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мин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-5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мин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-7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 мин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-9 кла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-30 мин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Упражнения для гла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профилактики близорукости и дальнозорк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средоточение взгля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ращения глаз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вижение в сторо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пражнения на расслаб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пражнения после работы за компьютер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ши глаза настолько драгоценны, что мы просто обязаны их беречь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ужно уметь контролировать время, проведенное за телевизором и компьютеро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жедневные упражнения для глаз помогут сохранить хорошее зрение надолг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21840" y="285480"/>
            <a:ext cx="765036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Цель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Tahoma"/>
              </a:rPr>
              <a:t>Узнать, как сохранить зрение ребенку или взрослому человеку на долгие годы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221840" y="285480"/>
            <a:ext cx="765036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Выяснить, каким образом мы види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Узнать, что влияет на качество зр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Определить способы и упражнения для тренировки зр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221840" y="285480"/>
            <a:ext cx="765036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едмет исследования - гла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ahoma"/>
              </a:rPr>
              <a:t>Гипотеза: при правильном и бережном отношении к глазам человек может сохранить зрение на долгие годы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96280" y="45000"/>
            <a:ext cx="7542000" cy="8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Каким образом мы видим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81374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95640" y="549360"/>
            <a:ext cx="46800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3399"/>
                </a:solidFill>
                <a:latin typeface="Tahoma"/>
              </a:rPr>
              <a:t>Болезни глаз</a:t>
            </a:r>
            <a:endParaRPr b="0" lang="en-US" sz="5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39640" y="4653000"/>
            <a:ext cx="453708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близорукост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дальнозоркост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50920" y="1773360"/>
            <a:ext cx="53290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217440" y="0"/>
            <a:ext cx="958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Факторы, угрожающие зрени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194480" y="1584000"/>
            <a:ext cx="7794000" cy="4885200"/>
            <a:chOff x="1194480" y="1584000"/>
            <a:chExt cx="7794000" cy="4885200"/>
          </a:xfrm>
        </p:grpSpPr>
        <p:sp>
          <p:nvSpPr>
            <p:cNvPr id="117" name="_s103441"/>
            <p:cNvSpPr/>
            <p:nvPr/>
          </p:nvSpPr>
          <p:spPr>
            <a:xfrm flipH="1" flipV="1">
              <a:off x="3168720" y="3808800"/>
              <a:ext cx="963000" cy="20340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40"/>
            <p:cNvSpPr/>
            <p:nvPr/>
          </p:nvSpPr>
          <p:spPr>
            <a:xfrm>
              <a:off x="1194480" y="2947320"/>
              <a:ext cx="2023920" cy="13165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f0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компьют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439"/>
            <p:cNvSpPr/>
            <p:nvPr/>
          </p:nvSpPr>
          <p:spPr>
            <a:xfrm flipH="1">
              <a:off x="3903840" y="4746240"/>
              <a:ext cx="593640" cy="53136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438"/>
            <p:cNvSpPr/>
            <p:nvPr/>
          </p:nvSpPr>
          <p:spPr>
            <a:xfrm>
              <a:off x="2295000" y="5153400"/>
              <a:ext cx="2024640" cy="13158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f0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Травмы гл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437"/>
            <p:cNvSpPr/>
            <p:nvPr/>
          </p:nvSpPr>
          <p:spPr>
            <a:xfrm>
              <a:off x="5685120" y="4746240"/>
              <a:ext cx="592920" cy="53136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436"/>
            <p:cNvSpPr/>
            <p:nvPr/>
          </p:nvSpPr>
          <p:spPr>
            <a:xfrm>
              <a:off x="5863320" y="5153400"/>
              <a:ext cx="2023920" cy="13158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f0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телевизо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3435"/>
            <p:cNvSpPr/>
            <p:nvPr/>
          </p:nvSpPr>
          <p:spPr>
            <a:xfrm flipV="1">
              <a:off x="6050880" y="3808800"/>
              <a:ext cx="963000" cy="20340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3434"/>
            <p:cNvSpPr/>
            <p:nvPr/>
          </p:nvSpPr>
          <p:spPr>
            <a:xfrm>
              <a:off x="6964560" y="2947320"/>
              <a:ext cx="2023920" cy="1316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f0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Воспаление гл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433"/>
            <p:cNvSpPr/>
            <p:nvPr/>
          </p:nvSpPr>
          <p:spPr>
            <a:xfrm flipV="1">
              <a:off x="5091480" y="2900160"/>
              <a:ext cx="0" cy="658080"/>
            </a:xfrm>
            <a:prstGeom prst="line">
              <a:avLst/>
            </a:prstGeom>
            <a:ln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432"/>
            <p:cNvSpPr/>
            <p:nvPr/>
          </p:nvSpPr>
          <p:spPr>
            <a:xfrm>
              <a:off x="4079160" y="1584000"/>
              <a:ext cx="2024640" cy="13158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f0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Слабое освещ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431"/>
            <p:cNvSpPr/>
            <p:nvPr/>
          </p:nvSpPr>
          <p:spPr>
            <a:xfrm>
              <a:off x="4079160" y="3558240"/>
              <a:ext cx="2024640" cy="13158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ahoma"/>
                </a:rPr>
                <a:t>глаз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5:05:17Z</dcterms:created>
  <dc:creator>1</dc:creator>
  <dc:description/>
  <dc:language>en-US</dc:language>
  <cp:lastModifiedBy>1</cp:lastModifiedBy>
  <dcterms:modified xsi:type="dcterms:W3CDTF">2007-01-10T10:58:19Z</dcterms:modified>
  <cp:revision>5</cp:revision>
  <dc:subject/>
  <dc:title>Почему портится зрение и можно ли его сохранить</dc:title>
</cp:coreProperties>
</file>