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7501-7050-4D21-9394-967190B40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B43B-466E-4788-A898-B1FA8586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0F35-326D-4A4E-884F-D9E54985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8452-93F7-4DE7-8991-F29BF9B84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9CF2-603E-4415-920A-25B838964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84DA-36AC-4BEA-A2E1-4D19124A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A759-DC2F-4493-9F4B-53088E5D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1B70-7DAC-46C1-BCA3-6BDBA626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57D6-E042-4DF4-98BA-B2F70E17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C2D9-9973-40B6-9501-8BD11BD2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41CF-AAD9-4E93-8852-104D7132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7118-0E61-44AA-A5C2-33CACDC6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8C8A-54E5-465A-BC69-3A5FED1C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9C15-1575-442E-990D-828EC63E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673B-5BB5-4092-AD0C-D6B6029D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EDCC-8DEB-4717-BD1B-09E8DDFDC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04D8-2083-42A0-84C2-E2349A86A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AEB8-859F-4FB0-B5DE-DCCE9F35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C810-68DA-4D14-A2B0-1F61B50F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6C5A-D5A8-401F-B8B8-2FCA3A2A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C184-3785-4D57-8073-05E63832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E98A-F323-4484-AE06-261030D5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65D6-29CA-4C35-9C5A-F34B9CDA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58CF-67CA-4D08-9252-FFBAF1FB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3A95-F735-497F-B7E2-94D1BCB92E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4BF7-D5B4-4B07-A8E4-7427DE8247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280" y="765000"/>
            <a:ext cx="79880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Почему портится зрение и можно ли его сохранить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1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боту выполни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еница 5«в» класс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ирфайсалова Анастас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Руководитель Литвиновская Н.Ю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948360" y="213372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77080" y="263700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64720" y="126828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Результаты анкетирования в   4 «в» класс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1844640"/>
          <a:ext cx="8486640" cy="4883040"/>
        </p:xfrm>
        <a:graphic>
          <a:graphicData uri="http://schemas.openxmlformats.org/drawingml/2006/table">
            <a:tbl>
              <a:tblPr/>
              <a:tblGrid>
                <a:gridCol w="5616360"/>
                <a:gridCol w="2870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про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стояние зрения на конец 4 кла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худшилось у 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меют заболевание гл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талость глаз к концу д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ремя у телевиз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 часа (среднее по классу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ремя у компьют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ча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нают о специальных упражнени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лают упраж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юбимые ц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иний, зеленый, черный, кр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Возрастные нормы занятий у компьюте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182600" y="2017800"/>
          <a:ext cx="7772400" cy="43210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ремя занят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 мину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-5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 мину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-7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 мину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-9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-30 мину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Упражнения для глаз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ля профилактики близорукости и дальнозорк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средоточение взгляд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ращения глаза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вижение в сторо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пражнения на расслабл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пражнения после работы за компьютер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Вывод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ши глаза настолько драгоценны, что мы просто обязаны их беречь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ужно уметь контролировать время, проведенное за телевизором и компьютером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Ежедневные упражнения для глаз помогут сохранить хорошее зрение надолг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221840" y="285480"/>
            <a:ext cx="7650360" cy="13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Цель: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ahoma"/>
              </a:rPr>
              <a:t>Узнать, как сохранить зрение ребенку или взрослому человеку на долгие годы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221840" y="285480"/>
            <a:ext cx="7650360" cy="13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Выяснить, каким образом мы види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Узнать, что влияет на качество зрен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Определить способы и упражнения для тренировки зрен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221840" y="285480"/>
            <a:ext cx="7650360" cy="13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едмет исследования - глаз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ahoma"/>
              </a:rPr>
              <a:t>Гипотеза: при правильном и бережном отношении к глазам человек может сохранить зрение на долгие годы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96280" y="45000"/>
            <a:ext cx="7542000" cy="8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Каким образом мы видим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813744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640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95640" y="549360"/>
            <a:ext cx="46800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99"/>
                </a:solidFill>
                <a:latin typeface="Tahoma"/>
              </a:rPr>
              <a:t>Болезни глаз</a:t>
            </a:r>
            <a:endParaRPr b="0" lang="en-US" sz="5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339640" y="4653000"/>
            <a:ext cx="453708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близорукост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дальнозоркост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50920" y="1773360"/>
            <a:ext cx="53290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217440" y="0"/>
            <a:ext cx="958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Факторы, угрожающие зрени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194480" y="1584000"/>
            <a:ext cx="7794000" cy="4885200"/>
            <a:chOff x="1194480" y="1584000"/>
            <a:chExt cx="7794000" cy="4885200"/>
          </a:xfrm>
        </p:grpSpPr>
        <p:sp>
          <p:nvSpPr>
            <p:cNvPr id="117" name="_s103441"/>
            <p:cNvSpPr/>
            <p:nvPr/>
          </p:nvSpPr>
          <p:spPr>
            <a:xfrm flipH="1" flipV="1">
              <a:off x="3168720" y="3808800"/>
              <a:ext cx="963000" cy="203400"/>
            </a:xfrm>
            <a:prstGeom prst="line">
              <a:avLst/>
            </a:prstGeom>
            <a:ln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3440"/>
            <p:cNvSpPr/>
            <p:nvPr/>
          </p:nvSpPr>
          <p:spPr>
            <a:xfrm>
              <a:off x="1194480" y="2947320"/>
              <a:ext cx="2023920" cy="13165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f0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компьюте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3439"/>
            <p:cNvSpPr/>
            <p:nvPr/>
          </p:nvSpPr>
          <p:spPr>
            <a:xfrm flipH="1">
              <a:off x="3903840" y="4746240"/>
              <a:ext cx="593640" cy="531360"/>
            </a:xfrm>
            <a:prstGeom prst="line">
              <a:avLst/>
            </a:prstGeom>
            <a:ln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3438"/>
            <p:cNvSpPr/>
            <p:nvPr/>
          </p:nvSpPr>
          <p:spPr>
            <a:xfrm>
              <a:off x="2295000" y="5153400"/>
              <a:ext cx="2024640" cy="13158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f0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Травмы гла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3437"/>
            <p:cNvSpPr/>
            <p:nvPr/>
          </p:nvSpPr>
          <p:spPr>
            <a:xfrm>
              <a:off x="5685120" y="4746240"/>
              <a:ext cx="592920" cy="531360"/>
            </a:xfrm>
            <a:prstGeom prst="line">
              <a:avLst/>
            </a:prstGeom>
            <a:ln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03436"/>
            <p:cNvSpPr/>
            <p:nvPr/>
          </p:nvSpPr>
          <p:spPr>
            <a:xfrm>
              <a:off x="5863320" y="5153400"/>
              <a:ext cx="2023920" cy="13158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f0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телевизо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03435"/>
            <p:cNvSpPr/>
            <p:nvPr/>
          </p:nvSpPr>
          <p:spPr>
            <a:xfrm flipV="1">
              <a:off x="6050880" y="3808800"/>
              <a:ext cx="963000" cy="203400"/>
            </a:xfrm>
            <a:prstGeom prst="line">
              <a:avLst/>
            </a:prstGeom>
            <a:ln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03434"/>
            <p:cNvSpPr/>
            <p:nvPr/>
          </p:nvSpPr>
          <p:spPr>
            <a:xfrm>
              <a:off x="6964560" y="2947320"/>
              <a:ext cx="2023920" cy="13165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f0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Воспаление гла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3433"/>
            <p:cNvSpPr/>
            <p:nvPr/>
          </p:nvSpPr>
          <p:spPr>
            <a:xfrm flipV="1">
              <a:off x="5091480" y="2900160"/>
              <a:ext cx="0" cy="658080"/>
            </a:xfrm>
            <a:prstGeom prst="line">
              <a:avLst/>
            </a:prstGeom>
            <a:ln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03432"/>
            <p:cNvSpPr/>
            <p:nvPr/>
          </p:nvSpPr>
          <p:spPr>
            <a:xfrm>
              <a:off x="4079160" y="1584000"/>
              <a:ext cx="2024640" cy="13158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f0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Слабое освещ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3431"/>
            <p:cNvSpPr/>
            <p:nvPr/>
          </p:nvSpPr>
          <p:spPr>
            <a:xfrm>
              <a:off x="4079160" y="3558240"/>
              <a:ext cx="2024640" cy="13158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ahoma"/>
                </a:rPr>
                <a:t>глаз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15:05:17Z</dcterms:created>
  <dc:creator>1</dc:creator>
  <dc:description/>
  <dc:language>en-US</dc:language>
  <cp:lastModifiedBy>1</cp:lastModifiedBy>
  <dcterms:modified xsi:type="dcterms:W3CDTF">2007-01-10T10:58:19Z</dcterms:modified>
  <cp:revision>5</cp:revision>
  <dc:subject/>
  <dc:title>Почему портится зрение и можно ли его сохранить</dc:title>
</cp:coreProperties>
</file>