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844-A31E-4502-A8AD-EBA60C2C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645-2DE5-48AB-A169-7BED62FD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003-26D1-479D-B9F9-A5D1FD46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23C-B87E-4CFB-B766-9809689B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8539-0E27-40B1-B56C-D67F7B8F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17DE-C177-471A-83E2-0591B4B8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7799-AA97-4DFB-8FBC-972C4FC6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9247-ED79-4164-82D2-3E9D588A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C65B-F896-46E7-AA2E-C5539BEF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BEF0-97EB-4AC1-B896-83EC983D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0CE6-0B85-4170-90C9-191E3CD0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6B6-4421-417D-8E97-63CBA7A3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ED78-450C-4223-987A-15AA6F2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0D05-81A8-44B6-BBB6-2EFD9E05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84E5-25A6-4C47-9FFF-19EC2834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06D8-CEBE-4D01-B1E3-AA036385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F123-B09F-4E02-A9C4-0D7B32B4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E95-13F7-4BE3-B7BC-684F6BE6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AAC-9C7C-4A17-BAE9-778DC054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52B-4167-475E-A5E8-5E494879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5B2-CC14-4986-AA3B-6052BA69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00D-5B50-4593-BC6B-07BF7146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91E-12C2-47C4-8765-6E087B4E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559-79E9-4725-9C71-ADA23148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F300-0219-48ED-B016-AEC985AC64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ADB6-3011-4698-90FB-47B2DD1AF3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79880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Почему портится зрение и можно ли его сохранить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у выполни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еница 5«в» класс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ирфайсалова Анастас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уководитель Литвиновская Н.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948360" y="2133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7080" y="2637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64720" y="1268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Результаты анкетирования в   4 «в» класс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844640"/>
          <a:ext cx="8486640" cy="4883040"/>
        </p:xfrm>
        <a:graphic>
          <a:graphicData uri="http://schemas.openxmlformats.org/drawingml/2006/table">
            <a:tbl>
              <a:tblPr/>
              <a:tblGrid>
                <a:gridCol w="5616360"/>
                <a:gridCol w="2870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стояние зрения на конец 4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худшилось у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еют заболевание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лость глаз к концу д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 у телевиз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часа (среднее по класс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 у компью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ют о специальных упражнен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ают упра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юбимые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ний, зеленый, черный, 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озрастные нормы занятий у компьюте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82600" y="2017800"/>
          <a:ext cx="7772400" cy="4321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 занят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-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-7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-9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-30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Упражнения для гла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профилактики близорукости и дальнозорк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средоточение взгля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ращения глаз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вижение в сторо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пражнения на расслаб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пражнения после работы за компьютер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ши глаза настолько драгоценны, что мы просто обязаны их беречь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ужно уметь контролировать время, проведенное за телевизором и компьютер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жедневные упражнения для глаз помогут сохранить хорошее зрение надол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Цель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ahoma"/>
              </a:rPr>
              <a:t>Узнать, как сохранить зрение ребенку или взрослому человеку на долгие год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ыяснить, каким образом мы види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Узнать, что влияет на качество зр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Определить способы и упражнения для тренировки зр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едмет исследования - гла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ahoma"/>
              </a:rPr>
              <a:t>Гипотеза: при правильном и бережном отношении к глазам человек может сохранить зрение на долгие год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96280" y="45000"/>
            <a:ext cx="75420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аким образом мы видим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81374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95640" y="549360"/>
            <a:ext cx="46800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Tahoma"/>
              </a:rPr>
              <a:t>Болезни глаз</a:t>
            </a:r>
            <a:endParaRPr b="0" lang="en-US" sz="5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39640" y="4653000"/>
            <a:ext cx="453708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близоруко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дальнозорко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1773360"/>
            <a:ext cx="5329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217440" y="0"/>
            <a:ext cx="958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Факторы, угрожающие зрени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94480" y="1584000"/>
            <a:ext cx="7794000" cy="4885200"/>
            <a:chOff x="1194480" y="1584000"/>
            <a:chExt cx="7794000" cy="4885200"/>
          </a:xfrm>
        </p:grpSpPr>
        <p:sp>
          <p:nvSpPr>
            <p:cNvPr id="117" name="_s103441"/>
            <p:cNvSpPr/>
            <p:nvPr/>
          </p:nvSpPr>
          <p:spPr>
            <a:xfrm flipH="1" flipV="1">
              <a:off x="3168720" y="3808800"/>
              <a:ext cx="963000" cy="2034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40"/>
            <p:cNvSpPr/>
            <p:nvPr/>
          </p:nvSpPr>
          <p:spPr>
            <a:xfrm>
              <a:off x="1194480" y="2947320"/>
              <a:ext cx="2023920" cy="1316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омпьют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439"/>
            <p:cNvSpPr/>
            <p:nvPr/>
          </p:nvSpPr>
          <p:spPr>
            <a:xfrm flipH="1">
              <a:off x="3903840" y="4746240"/>
              <a:ext cx="593640" cy="53136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8"/>
            <p:cNvSpPr/>
            <p:nvPr/>
          </p:nvSpPr>
          <p:spPr>
            <a:xfrm>
              <a:off x="2295000" y="5153400"/>
              <a:ext cx="2024640" cy="1315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Травмы гл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437"/>
            <p:cNvSpPr/>
            <p:nvPr/>
          </p:nvSpPr>
          <p:spPr>
            <a:xfrm>
              <a:off x="5685120" y="4746240"/>
              <a:ext cx="592920" cy="53136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436"/>
            <p:cNvSpPr/>
            <p:nvPr/>
          </p:nvSpPr>
          <p:spPr>
            <a:xfrm>
              <a:off x="5863320" y="5153400"/>
              <a:ext cx="2023920" cy="1315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телевиз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435"/>
            <p:cNvSpPr/>
            <p:nvPr/>
          </p:nvSpPr>
          <p:spPr>
            <a:xfrm flipV="1">
              <a:off x="6050880" y="3808800"/>
              <a:ext cx="963000" cy="2034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434"/>
            <p:cNvSpPr/>
            <p:nvPr/>
          </p:nvSpPr>
          <p:spPr>
            <a:xfrm>
              <a:off x="6964560" y="2947320"/>
              <a:ext cx="2023920" cy="1316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Воспаление гл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433"/>
            <p:cNvSpPr/>
            <p:nvPr/>
          </p:nvSpPr>
          <p:spPr>
            <a:xfrm flipV="1">
              <a:off x="5091480" y="2900160"/>
              <a:ext cx="0" cy="65808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432"/>
            <p:cNvSpPr/>
            <p:nvPr/>
          </p:nvSpPr>
          <p:spPr>
            <a:xfrm>
              <a:off x="4079160" y="1584000"/>
              <a:ext cx="2024640" cy="1315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Слабое осве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431"/>
            <p:cNvSpPr/>
            <p:nvPr/>
          </p:nvSpPr>
          <p:spPr>
            <a:xfrm>
              <a:off x="4079160" y="3558240"/>
              <a:ext cx="2024640" cy="1315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глаз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5:05:17Z</dcterms:created>
  <dc:creator>1</dc:creator>
  <dc:description/>
  <dc:language>en-US</dc:language>
  <cp:lastModifiedBy>1</cp:lastModifiedBy>
  <dcterms:modified xsi:type="dcterms:W3CDTF">2007-01-10T10:58:19Z</dcterms:modified>
  <cp:revision>5</cp:revision>
  <dc:subject/>
  <dc:title>Почему портится зрение и можно ли его сохранить</dc:title>
</cp:coreProperties>
</file>