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9.png" ContentType="image/png"/>
  <Override PartName="/ppt/media/image6.png" ContentType="image/png"/>
  <Override PartName="/ppt/media/image7.wmf" ContentType="image/x-wmf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532-9B66-4652-B326-37488933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3E2-80C4-49D8-B7B7-1E5FFDC9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485-BB88-4CC1-8E7B-25BA4F83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EFC-A2DC-4B7E-ABFC-0714D074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C514-C58B-4364-8190-84E6AF91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0F92-F52A-4A77-A7E1-F36997FC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818A-DCE3-4CAB-9994-3351DF1F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24D7-F279-459E-AAB1-685296C4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3748-B48B-4B03-890F-3FFC2075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635F-0A2B-4BC8-98FB-CAAAAAC9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E536-63BC-443A-A6A4-50E3EA3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1DF-2756-4B97-9B22-FFA530A4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3AD9-6FD7-403C-89A6-3D2E4A91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285D-B3D6-4E7A-ACAE-CF392657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B266-5A44-427E-9A93-CA9544A2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4011-392F-4036-863D-C095093D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CE0D-8C4B-4DEA-A445-1AE23614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FA4-C3C2-45F9-BB0F-154F8F85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BA3-41A1-4190-B6B0-89431F08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76B-EB6E-4519-8943-85B6E3DC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14B-7372-4D8D-A9A2-55041E3E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420-73FE-460A-BDFF-D641875F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C34-5F8C-434F-88DB-41EA6449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CFE-0361-45C5-B682-7B13A66C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2779-0DE0-483B-A599-5370E40829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FDC6-D156-41A0-8D97-D9BCA929E0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5c5ff"/>
                </a:solidFill>
                <a:latin typeface="Times New Roman"/>
              </a:rPr>
              <a:t>Повторение</a:t>
            </a:r>
            <a:br>
              <a:rPr sz="5400"/>
            </a:br>
            <a:r>
              <a:rPr b="1" lang="ru-RU" sz="5400" spc="-1" strike="noStrike">
                <a:solidFill>
                  <a:srgbClr val="c5c5ff"/>
                </a:solidFill>
                <a:latin typeface="Times New Roman"/>
              </a:rPr>
              <a:t>Орфограммы в корне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а занятий элективного кур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Рисунок 3" descr="знания.wmf"/>
          <p:cNvPicPr/>
          <p:nvPr/>
        </p:nvPicPr>
        <p:blipFill>
          <a:blip r:embed="rId1"/>
          <a:stretch/>
        </p:blipFill>
        <p:spPr>
          <a:xfrm>
            <a:off x="152280" y="228600"/>
            <a:ext cx="2359080" cy="249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Ответьте на вопросы по теме: «Чередующиеся гласные в корне»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какие 4 группы делятся чередующиеся гласные в корн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суффикса 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чём происходит зависимость от суффикса 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исключения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согласного зву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оисходит зависимос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исключения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удар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кажите прави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исключения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смысла, с их значения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овите исключение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Распределительный диктант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914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яем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дующие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pic>
        <p:nvPicPr>
          <p:cNvPr id="164" name="пров и черед.wma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женщина на трибуне.gif"/>
          <p:cNvPicPr/>
          <p:nvPr/>
        </p:nvPicPr>
        <p:blipFill>
          <a:blip r:embed="rId2"/>
          <a:stretch/>
        </p:blipFill>
        <p:spPr>
          <a:xfrm>
            <a:off x="3886200" y="3581280"/>
            <a:ext cx="1754280" cy="20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320992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61452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280" y="304920"/>
          <a:ext cx="8839440" cy="586728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я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дующие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3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ой - об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оножка - 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ой - от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бушка - 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тый - 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ение - 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вать - 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 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чком - 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вать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на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ть - рас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ь - на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гор - 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с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 - с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ять пальто - при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по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у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о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ем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в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ть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ов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61452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304920"/>
          <a:ext cx="8839440" cy="586728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я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дующие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3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ть в бане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ть шов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ать задуманное - п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ть - 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ать - 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ь песок - на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ть колесо - про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pic>
        <p:nvPicPr>
          <p:cNvPr id="170" name="Рисунок 4" descr="будильник.gif"/>
          <p:cNvPicPr/>
          <p:nvPr/>
        </p:nvPicPr>
        <p:blipFill>
          <a:blip r:embed="rId1"/>
          <a:stretch/>
        </p:blipFill>
        <p:spPr>
          <a:xfrm>
            <a:off x="5791320" y="2895480"/>
            <a:ext cx="1828800" cy="20257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5" descr="доклад.wmf"/>
          <p:cNvPicPr/>
          <p:nvPr/>
        </p:nvPicPr>
        <p:blipFill>
          <a:blip r:embed="rId2"/>
          <a:stretch/>
        </p:blipFill>
        <p:spPr>
          <a:xfrm>
            <a:off x="1600200" y="3276720"/>
            <a:ext cx="1371600" cy="2379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Распределительный диктант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уффикс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огласн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удар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мыс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Безымянный.wma" descr=""/>
          <p:cNvPicPr/>
          <p:nvPr/>
        </p:nvPicPr>
        <p:blipFill>
          <a:blip r:embed="rId1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312354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Согласные в корн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76" name="Рисунок 4" descr="мужик за столом.wmf"/>
          <p:cNvPicPr/>
          <p:nvPr/>
        </p:nvPicPr>
        <p:blipFill>
          <a:blip r:embed="rId1"/>
          <a:stretch/>
        </p:blipFill>
        <p:spPr>
          <a:xfrm>
            <a:off x="2438280" y="1295280"/>
            <a:ext cx="441972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Правописание согласных в корне слова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какие 3 группы делятся согласные с точки зрения орфографи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Непроизносимые, сомнительные, удво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е согласные можно провери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Сомнительные и некоторые непроизносим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м образом проверяются согласны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одбирается такое проверочное слово, чтобы после этой согласной стояла глас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необходимо делать с удвоенными согласным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Запоминать или проверять по орфографическому словар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Вставьте пропущенные буквы, объясните орфограммы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c5ff"/>
                </a:solidFill>
                <a:latin typeface="Times New Roman"/>
              </a:rPr>
              <a:t>Внесите изменения в таблицу, перераспределив слова и вставив пропущенные буквы</a:t>
            </a:r>
            <a:endParaRPr b="1" lang="en-US" sz="32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2743200"/>
                <a:gridCol w="3124080"/>
                <a:gridCol w="2362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мн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роизносим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дво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…кие вол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у…ств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…ств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…кий челов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ре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…ти под уз…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…кие зву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р…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…ств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ревя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а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…лограм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…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о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ара..ельные прям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те…иг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о…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…ни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с…ни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вес…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ерс…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5c5ff"/>
                </a:solidFill>
                <a:latin typeface="Times New Roman"/>
              </a:rPr>
              <a:t>И-Ы после Ц</a:t>
            </a:r>
            <a:endParaRPr b="1" lang="en-US" sz="80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84" name="Рисунок 4" descr="человечек пишет.gif"/>
          <p:cNvPicPr/>
          <p:nvPr/>
        </p:nvPicPr>
        <p:blipFill>
          <a:blip r:embed="rId1"/>
          <a:stretch/>
        </p:blipFill>
        <p:spPr>
          <a:xfrm>
            <a:off x="2971800" y="2286000"/>
            <a:ext cx="299232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Цели урока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торить и обобщить знания по теме «Виды орфограмм в корне слов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ить обобщающие таблицы по данной те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ренироваться на практике в написании слов с различными видами орфограмм в корне 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Вспомните правило </a:t>
            </a:r>
            <a:br>
              <a:rPr sz="4000"/>
            </a:b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«И – Ы после Ц»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9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корне (цир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ловах на –ция (акация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Цыган, цыплёнок, на цыпочках, цыц, цыкну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уффиксах (лисицы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окончаниях (спицы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Вставьте и объясните орфограммы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енький ц…плёнок, ц…анистый калий, ц…ганская песня, демонстрац…я, иллюминац…я, куц…й хвост, лисиц…на нора, ц…кнуть на собаку, острые спиц…, ц…рковое представление, ц…фровой диктант, ц…ркуль, милиц…онер, благоухающая акац…я, круглолиц…й мальчик, бледноли…й брат м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-Е-Ё после шипящих во всех частях речи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90" name="Рисунок 4" descr="учёный с указкой.png"/>
          <p:cNvPicPr/>
          <p:nvPr/>
        </p:nvPicPr>
        <p:blipFill>
          <a:blip r:embed="rId1"/>
          <a:stretch/>
        </p:blipFill>
        <p:spPr>
          <a:xfrm>
            <a:off x="2666880" y="2133720"/>
            <a:ext cx="3602160" cy="370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c5ff"/>
                </a:solidFill>
                <a:latin typeface="Times New Roman"/>
              </a:rPr>
              <a:t>Гласные после шипящих. </a:t>
            </a:r>
            <a:br>
              <a:rPr sz="2800"/>
            </a:br>
            <a:r>
              <a:rPr b="1" lang="ru-RU" sz="2800" spc="-1" strike="noStrike">
                <a:solidFill>
                  <a:srgbClr val="c5c5ff"/>
                </a:solidFill>
                <a:latin typeface="Times New Roman"/>
              </a:rPr>
              <a:t>Вспомните алгоритм рассуждения</a:t>
            </a:r>
            <a:endParaRPr b="1" lang="en-US" sz="28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92" name="Прямоугольник 6"/>
          <p:cNvSpPr/>
          <p:nvPr/>
        </p:nvSpPr>
        <p:spPr>
          <a:xfrm>
            <a:off x="685800" y="0"/>
            <a:ext cx="7620120" cy="6094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ень или не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Стрелка вниз 7"/>
          <p:cNvSpPr/>
          <p:nvPr/>
        </p:nvSpPr>
        <p:spPr>
          <a:xfrm>
            <a:off x="2286000" y="60948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Стрелка вниз 8"/>
          <p:cNvSpPr/>
          <p:nvPr/>
        </p:nvSpPr>
        <p:spPr>
          <a:xfrm>
            <a:off x="5943600" y="60948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Овал 9"/>
          <p:cNvSpPr/>
          <p:nvPr/>
        </p:nvSpPr>
        <p:spPr>
          <a:xfrm>
            <a:off x="2057400" y="106668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Овал 10"/>
          <p:cNvSpPr/>
          <p:nvPr/>
        </p:nvSpPr>
        <p:spPr>
          <a:xfrm>
            <a:off x="5715000" y="10666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Прямоугольник 11"/>
          <p:cNvSpPr/>
          <p:nvPr/>
        </p:nvSpPr>
        <p:spPr>
          <a:xfrm>
            <a:off x="0" y="1828800"/>
            <a:ext cx="4343400" cy="3808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лючение или нет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12"/>
          <p:cNvSpPr/>
          <p:nvPr/>
        </p:nvSpPr>
        <p:spPr>
          <a:xfrm>
            <a:off x="4800600" y="1828800"/>
            <a:ext cx="4343400" cy="3808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гольная форма ли нет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Овал 13"/>
          <p:cNvSpPr/>
          <p:nvPr/>
        </p:nvSpPr>
        <p:spPr>
          <a:xfrm>
            <a:off x="762120" y="220968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Овал 14"/>
          <p:cNvSpPr/>
          <p:nvPr/>
        </p:nvSpPr>
        <p:spPr>
          <a:xfrm>
            <a:off x="2743200" y="22096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7772400" y="22096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Овал 16"/>
          <p:cNvSpPr/>
          <p:nvPr/>
        </p:nvSpPr>
        <p:spPr>
          <a:xfrm>
            <a:off x="5257800" y="220968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8-конечная звезда 17"/>
          <p:cNvSpPr/>
          <p:nvPr/>
        </p:nvSpPr>
        <p:spPr>
          <a:xfrm>
            <a:off x="762120" y="304812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8-конечная звезда 18"/>
          <p:cNvSpPr/>
          <p:nvPr/>
        </p:nvSpPr>
        <p:spPr>
          <a:xfrm>
            <a:off x="2743200" y="297180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5" name="Прямая со стрелкой 22"/>
          <p:cNvCxnSpPr>
            <a:stCxn id="202" idx="4"/>
            <a:endCxn id="204" idx="0"/>
          </p:cNvCxnSpPr>
          <p:nvPr/>
        </p:nvCxnSpPr>
        <p:spPr>
          <a:xfrm flipH="1">
            <a:off x="3657240" y="2971800"/>
            <a:ext cx="2057760" cy="45792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206" name="Прямая со стрелкой 24"/>
          <p:cNvCxnSpPr/>
          <p:nvPr/>
        </p:nvCxnSpPr>
        <p:spPr>
          <a:xfrm flipH="1">
            <a:off x="8229240" y="2895120"/>
            <a:ext cx="2160" cy="68652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207" name="Прямоугольник 25"/>
          <p:cNvSpPr/>
          <p:nvPr/>
        </p:nvSpPr>
        <p:spPr>
          <a:xfrm>
            <a:off x="4800600" y="3657600"/>
            <a:ext cx="4343400" cy="3808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ударением или нет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Овал 26"/>
          <p:cNvSpPr/>
          <p:nvPr/>
        </p:nvSpPr>
        <p:spPr>
          <a:xfrm>
            <a:off x="4876920" y="411480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9" name="Прямая со стрелкой 28"/>
          <p:cNvCxnSpPr>
            <a:stCxn id="208" idx="2"/>
          </p:cNvCxnSpPr>
          <p:nvPr/>
        </p:nvCxnSpPr>
        <p:spPr>
          <a:xfrm flipH="1" flipV="1">
            <a:off x="1523520" y="3657240"/>
            <a:ext cx="3353760" cy="83880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210" name="Овал 29"/>
          <p:cNvSpPr/>
          <p:nvPr/>
        </p:nvSpPr>
        <p:spPr>
          <a:xfrm>
            <a:off x="7772400" y="40384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8-конечная звезда 30"/>
          <p:cNvSpPr/>
          <p:nvPr/>
        </p:nvSpPr>
        <p:spPr>
          <a:xfrm>
            <a:off x="7772400" y="487692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сключения!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пюшон, трущоба, чащоба, шорты, шорох, крыжовник, обжора, жор, жом, жох, шорник, шомпол, чопорный, чокнутый, джонка, шов, мажор, трещотка, шоссе, шоколад, Шотландия, жокей, жонглёр, боржоми, джоуль, крюшон, изжог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914400" y="4648320"/>
            <a:ext cx="3124080" cy="10666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жёг руку - глаг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4952880" y="4648320"/>
            <a:ext cx="3124440" cy="10666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жог руки - су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бъясните устно орфограммы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…рник,  круч…ная, беч…вка, туш…нка, собач…нка, мальч…нка, лавч…нка, ж…ваный, ж…м, воротнич…к, напряж…ный, сплоч…ность, волч…нок, внуч…нок, коч…вка, душ…нка, упрощ…нность, протяж…нность, реш…тка, подш…рсток, кош…лка, печ…нка, прож…рлив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Найдите ошибки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жёр, тренажор, учащонный, чащоба, трещётка, рубашонка, распашонка, галчёнок, лишён, кручоный, дешёвый, шолковый, жжёный, изжога, жонглёр, мощёная, камышовый, расчётливый, чопорный, сожжонный, товарищем, замшевый, парчёвое, тиражё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жёр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ренажо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чащон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чащоба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рещёт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рубашонка, распашонка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галчёно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лишён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ручо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дешёвый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шолков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жжёный, изжога, жонглёр, мощёная, камышовый, расчётливый, чопорный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жжон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оварищем, замшевый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арчёвое, тиражё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В2. Выпишите слова с чередующейся гласной в корн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В2. Выпишите слова с непроверяемой безударной гласной в корне</a:t>
            </a:r>
            <a:endParaRPr b="1" lang="en-US" sz="3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тветьте на вопросы: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такое орфограмм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место в слове, в котором можно сделать ошиб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ие виды орфограмм вы знает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фограммы в корне, в приставках, в суффиксах, в окончаниях, слитные – раздельные – дефисные напис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В2. Выпишите слова с проверяемой безударной гласной корня</a:t>
            </a:r>
            <a:endParaRPr b="1" lang="en-US" sz="3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7"/>
          <p:cNvGrpSpPr/>
          <p:nvPr/>
        </p:nvGrpSpPr>
        <p:grpSpPr>
          <a:xfrm>
            <a:off x="0" y="228600"/>
            <a:ext cx="8991360" cy="4643640"/>
            <a:chOff x="0" y="228600"/>
            <a:chExt cx="8991360" cy="4643640"/>
          </a:xfrm>
        </p:grpSpPr>
        <p:cxnSp>
          <p:nvCxnSpPr>
            <p:cNvPr id="128" name="_s25628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521840" y="2457000"/>
              <a:ext cx="611640" cy="419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25626"/>
            <p:cNvCxnSpPr>
              <a:stCxn id="132" idx="0"/>
              <a:endCxn id="130" idx="2"/>
            </p:cNvCxnSpPr>
            <p:nvPr/>
          </p:nvCxnSpPr>
          <p:spPr>
            <a:xfrm flipV="1">
              <a:off x="6127560" y="2360880"/>
              <a:ext cx="1491840" cy="1750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25624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6349680" y="1703160"/>
              <a:ext cx="611640" cy="1927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25622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2187720" y="1786680"/>
              <a:ext cx="689760" cy="1682280"/>
            </a:xfrm>
            <a:prstGeom prst="bentConnector3">
              <a:avLst>
                <a:gd name="adj1" fmla="val 499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25620"/>
            <p:cNvCxnSpPr>
              <a:stCxn id="139" idx="0"/>
              <a:endCxn id="137" idx="2"/>
            </p:cNvCxnSpPr>
            <p:nvPr/>
          </p:nvCxnSpPr>
          <p:spPr>
            <a:xfrm flipV="1" rot="16200000">
              <a:off x="966600" y="3007440"/>
              <a:ext cx="1678680" cy="229320"/>
            </a:xfrm>
            <a:prstGeom prst="bentConnector3">
              <a:avLst>
                <a:gd name="adj1" fmla="val 814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25618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996840" y="2199960"/>
              <a:ext cx="611640" cy="777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25616"/>
            <p:cNvCxnSpPr>
              <a:stCxn id="130" idx="0"/>
              <a:endCxn id="143" idx="2"/>
            </p:cNvCxnSpPr>
            <p:nvPr/>
          </p:nvCxnSpPr>
          <p:spPr>
            <a:xfrm flipV="1" rot="16200000">
              <a:off x="5734080" y="-286560"/>
              <a:ext cx="534240" cy="323892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25614"/>
            <p:cNvCxnSpPr>
              <a:stCxn id="145" idx="0"/>
              <a:endCxn id="143" idx="2"/>
            </p:cNvCxnSpPr>
            <p:nvPr/>
          </p:nvCxnSpPr>
          <p:spPr>
            <a:xfrm flipV="1" rot="16200000">
              <a:off x="4654800" y="790920"/>
              <a:ext cx="534240" cy="108396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25613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3786840" y="1006200"/>
              <a:ext cx="534240" cy="65376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25612"/>
            <p:cNvCxnSpPr>
              <a:stCxn id="137" idx="0"/>
              <a:endCxn id="143" idx="2"/>
            </p:cNvCxnSpPr>
            <p:nvPr/>
          </p:nvCxnSpPr>
          <p:spPr>
            <a:xfrm flipH="1" flipV="1" rot="5400000">
              <a:off x="2769840" y="-12240"/>
              <a:ext cx="534240" cy="269064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25608"/>
            <p:cNvSpPr/>
            <p:nvPr/>
          </p:nvSpPr>
          <p:spPr>
            <a:xfrm>
              <a:off x="3352680" y="228600"/>
              <a:ext cx="2057400" cy="837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иды орфограмм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 корн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_s25609"/>
            <p:cNvSpPr/>
            <p:nvPr/>
          </p:nvSpPr>
          <p:spPr>
            <a:xfrm>
              <a:off x="532800" y="1600560"/>
              <a:ext cx="2316960" cy="6825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езударны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глас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25610"/>
            <p:cNvSpPr/>
            <p:nvPr/>
          </p:nvSpPr>
          <p:spPr>
            <a:xfrm>
              <a:off x="3069360" y="1600560"/>
              <a:ext cx="1315800" cy="6825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-и после 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25611"/>
            <p:cNvSpPr/>
            <p:nvPr/>
          </p:nvSpPr>
          <p:spPr>
            <a:xfrm>
              <a:off x="4604760" y="1600560"/>
              <a:ext cx="1719360" cy="6825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Гласные посл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шипящи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_s25615"/>
            <p:cNvSpPr/>
            <p:nvPr/>
          </p:nvSpPr>
          <p:spPr>
            <a:xfrm>
              <a:off x="6628680" y="1600560"/>
              <a:ext cx="198144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оглас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25617"/>
            <p:cNvSpPr/>
            <p:nvPr/>
          </p:nvSpPr>
          <p:spPr>
            <a:xfrm>
              <a:off x="0" y="2894400"/>
              <a:ext cx="1829160" cy="9889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оверяем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25619"/>
            <p:cNvSpPr/>
            <p:nvPr/>
          </p:nvSpPr>
          <p:spPr>
            <a:xfrm>
              <a:off x="989640" y="3961800"/>
              <a:ext cx="1858320" cy="83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епроверяем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_s25621"/>
            <p:cNvSpPr/>
            <p:nvPr/>
          </p:nvSpPr>
          <p:spPr>
            <a:xfrm>
              <a:off x="2362320" y="2972520"/>
              <a:ext cx="2021400" cy="9169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Чередующиеся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25623"/>
            <p:cNvSpPr/>
            <p:nvPr/>
          </p:nvSpPr>
          <p:spPr>
            <a:xfrm>
              <a:off x="4604760" y="2972520"/>
              <a:ext cx="217620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епроизносим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_s25625"/>
            <p:cNvSpPr/>
            <p:nvPr/>
          </p:nvSpPr>
          <p:spPr>
            <a:xfrm>
              <a:off x="4800960" y="4111560"/>
              <a:ext cx="265500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омнитель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25627"/>
            <p:cNvSpPr/>
            <p:nvPr/>
          </p:nvSpPr>
          <p:spPr>
            <a:xfrm>
              <a:off x="7085880" y="2972520"/>
              <a:ext cx="190548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двоен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яемые безударные гласны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50" name="Рисунок 2" descr="книга и карандаш.wmf"/>
          <p:cNvPicPr/>
          <p:nvPr/>
        </p:nvPicPr>
        <p:blipFill>
          <a:blip r:embed="rId1"/>
          <a:stretch/>
        </p:blipFill>
        <p:spPr>
          <a:xfrm>
            <a:off x="2819520" y="2209680"/>
            <a:ext cx="3314520" cy="3130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Проверяемые безударные гласные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оверить проверяемые безударные гласны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до изменить форму слова или подобрать такое родственное слово, чтобы эта гласная была под удар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одборе проверочного слова необходимо учитывать значение сл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берите проверочные сл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…ваются воло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бёнок разв…ва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…скать ребё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…скать бель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…дить морковь нагряд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…дить ружь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в…тить стихотвор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в…тить фонари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…лить гу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п…лоть гря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Устный диктант</a:t>
            </a:r>
            <a:br>
              <a:rPr sz="4400"/>
            </a:b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бъясните орфограммы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…гровый закат, нав…вать проволоку, нав…вать воспоминания, возм…щать утрату, поместить в кл…довой, преод…леть преграду, отд…лённая местность, х…лодная р…са, охл…дить кип…ток, изл…ваться ручьём, изв…ваться змеёй, изв…няться, неподр…жаемая игра, подр…жать на морозе, ут…шение в горе, ут…хомириться, уг…дать ответ, уг…дить другу, скр…пя сердце, скр…пя колёсами, сл…паться в комок, сл…пит глаза, разр…дить посевы, разр…дить обстановку, пренебр…жительное отношение, дов…рять и пров…рять, п…тнистый, п…тачок, обн…жать, н…жевая р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Чередующиеся гласны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57" name="Рисунок 7" descr="книги 3.wmf"/>
          <p:cNvPicPr/>
          <p:nvPr/>
        </p:nvPicPr>
        <p:blipFill>
          <a:blip r:embed="rId1"/>
          <a:stretch/>
        </p:blipFill>
        <p:spPr>
          <a:xfrm>
            <a:off x="2590920" y="2133720"/>
            <a:ext cx="403848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c5ff"/>
                </a:solidFill>
                <a:latin typeface="Times New Roman"/>
              </a:rPr>
              <a:t>Чередующиеся гласные</a:t>
            </a:r>
            <a:endParaRPr b="1" lang="en-US" sz="32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762120"/>
          <a:ext cx="9144000" cy="58672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уффикса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огласн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уда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мыс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р-б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р-п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р-д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р-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р-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ист-бле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ил-сти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т-ч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с-к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аг-ло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Сочетание, сочет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-ращ-р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как-ско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Росток, Ростислав, Росткино, ростовщик, отрасль; скачок, скач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, клон, тв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, пл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Выгарки, пригарь, зорянка, зоревать, пловец, пловчиха,  ут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 – макать, опускать в жидкость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К – мокрый, пропитанный жидкостью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ВН – равный одинак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ВН – ровный, глад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равн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7:18:20Z</dcterms:created>
  <dc:creator>1</dc:creator>
  <dc:description/>
  <dc:language>en-US</dc:language>
  <cp:lastModifiedBy>ZooM</cp:lastModifiedBy>
  <dcterms:modified xsi:type="dcterms:W3CDTF">2013-11-15T18:26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