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9.png" ContentType="image/png"/>
  <Override PartName="/ppt/media/image6.png" ContentType="image/png"/>
  <Override PartName="/ppt/media/image7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BF5-D291-4B15-B9AC-C1F7A0D2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2A-66AD-40A3-B6D7-DE6FE5C0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80F-FA77-4615-9E83-58F9D596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F8D-E20B-48AD-93FE-FE7CCF65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D94-0090-4638-8EF7-609FD77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1A7-B2B9-4ED6-821B-788E95D3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D4A-519F-42BD-8C8F-AAF017CB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604-0EB3-4EAC-A456-B8E905B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A3E-D86D-4BBB-BE20-19F8C59D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67D7-BAC4-4A34-A460-A879A265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905D-616A-487B-B3DD-A5ABB49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CB4-0C5D-472F-9EEA-3947BA1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BA4-EF7A-441F-899A-B9438A36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55F-0B4E-4480-A260-DE934AC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C710-4DEC-4708-B06B-036B23D8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51DE-D749-4966-BC34-00F14270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FB9B-14C0-423C-9D5F-6C085331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007-DEF2-46A9-9DBA-EBCBE329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48D-9BE2-428D-8D29-2B81D2CB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132-E8BE-4381-BA7E-379AB98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FCE-3BE1-4DAF-81A4-BE86A30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0DF-F7DD-4325-8D8D-D8D7B64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F2F-BA00-4E35-8A95-C0CB8702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55A-C615-4FAE-9D7C-942C236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986E-A0B0-4559-8DE6-554A9106CD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78E-2887-4AB7-B192-ADA4FE1FBE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Повторение</a:t>
            </a:r>
            <a:br>
              <a:rPr sz="5400"/>
            </a:b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Орфограммы в корне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занятий элективного кур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Рисунок 3" descr="знания.wmf"/>
          <p:cNvPicPr/>
          <p:nvPr/>
        </p:nvPicPr>
        <p:blipFill>
          <a:blip r:embed="rId1"/>
          <a:stretch/>
        </p:blipFill>
        <p:spPr>
          <a:xfrm>
            <a:off x="152280" y="228600"/>
            <a:ext cx="235908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Ответьте на вопросы по теме: «Чередующиеся гласные в корне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4 группы делятся чередующиеся гласные в корн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уффикса 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чём происходит зависимость от суффикса 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огласного зву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исходит зависимос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уда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кажите прави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исключения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числите корни, зависящие от смысла, с их знач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зовите исключение из этого прав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91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64" name="пров и черед.wma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5" descr="женщина на трибуне.gif"/>
          <p:cNvPicPr/>
          <p:nvPr/>
        </p:nvPicPr>
        <p:blipFill>
          <a:blip r:embed="rId2"/>
          <a:stretch/>
        </p:blipFill>
        <p:spPr>
          <a:xfrm>
            <a:off x="3886200" y="3581280"/>
            <a:ext cx="1754280" cy="207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32099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б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ножка - 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ной - от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ушка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тый - 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ние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вать - з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чком - 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вать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а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ть - рас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ь - н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ор - 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 - с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ть пальто - при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по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л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ш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ем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в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ов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61452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304920"/>
          <a:ext cx="8839440" cy="58672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яем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3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ть в бане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ть шов - п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задуманное - пл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ать - т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ть песок - на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ть колесо - прок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pic>
        <p:nvPicPr>
          <p:cNvPr id="170" name="Рисунок 4" descr="будильник.gif"/>
          <p:cNvPicPr/>
          <p:nvPr/>
        </p:nvPicPr>
        <p:blipFill>
          <a:blip r:embed="rId1"/>
          <a:stretch/>
        </p:blipFill>
        <p:spPr>
          <a:xfrm>
            <a:off x="5791320" y="2895480"/>
            <a:ext cx="1828800" cy="20257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доклад.wmf"/>
          <p:cNvPicPr/>
          <p:nvPr/>
        </p:nvPicPr>
        <p:blipFill>
          <a:blip r:embed="rId2"/>
          <a:stretch/>
        </p:blipFill>
        <p:spPr>
          <a:xfrm>
            <a:off x="1600200" y="3276720"/>
            <a:ext cx="137160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Распределительный диктант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Безымянный.wma" descr=""/>
          <p:cNvPicPr/>
          <p:nvPr/>
        </p:nvPicPr>
        <p:blipFill>
          <a:blip r:embed="rId1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31235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Согласные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76" name="Рисунок 4" descr="мужик за столом.wmf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авописание согласных в корне слова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акие 3 группы делятся согласные с точки зрения орфограф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епроизносимые, сомнительные, удво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е согласные можно провер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Сомнительные и некоторые непроизносим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м образом проверяются со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дбирается такое проверочное слово, чтобы после этой согласной стояла глас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необходимо делать с удвоенными согласны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Запоминать или проверять по орфографическому словар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ставьте пропущенные буквы, 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Внесите изменения в таблицу, перераспределив слова и вставив пропущенные буквы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2743200"/>
                <a:gridCol w="3124080"/>
                <a:gridCol w="2362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мнитель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роизноси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дво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волос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у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ча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…кий челов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ре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…ти под уз…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…кие зву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…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…ств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ревя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…логра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…ио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..ельные прям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те…иге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о…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…ни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с…ни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е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рс…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5c5ff"/>
                </a:solidFill>
                <a:latin typeface="Times New Roman"/>
              </a:rPr>
              <a:t>И-Ы после Ц</a:t>
            </a:r>
            <a:endParaRPr b="1" lang="en-US" sz="8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84" name="Рисунок 4" descr="человечек пишет.gif"/>
          <p:cNvPicPr/>
          <p:nvPr/>
        </p:nvPicPr>
        <p:blipFill>
          <a:blip r:embed="rId1"/>
          <a:stretch/>
        </p:blipFill>
        <p:spPr>
          <a:xfrm>
            <a:off x="2971800" y="2286000"/>
            <a:ext cx="299232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Цели урока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торить и обобщить знания по теме «Виды орфограмм в корне слов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авить обобщающие таблицы по данной тем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тренироваться на практике в написании слов с различными видами орфограмм в корне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помните правило </a:t>
            </a:r>
            <a:br>
              <a:rPr sz="4000"/>
            </a:b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«И – Ы после Ц»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49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корне (цир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ловах на –ция (акаци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Цыган, цыплёнок, на цыпочках, цыц, цыкну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ффиксах (лисицын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99f3ff"/>
                        </a:buClr>
                        <a:buSzPct val="6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окончаниях (спиц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Вставьте и объясните орфограммы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енький ц…плёнок, ц…анистый калий, ц…ганская песня, демонстрац…я, иллюминац…я, куц…й хвост, лисиц…на нора, ц…кнуть на собаку, острые спиц…, ц…рковое представление, ц…фровой диктант, ц…ркуль, милиц…онер, благоухающая акац…я, круглолиц…й мальчик, бледноли…й брат м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-Е-Ё после шипящих во всех частях реч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90" name="Рисунок 4" descr="учёный с указкой.png"/>
          <p:cNvPicPr/>
          <p:nvPr/>
        </p:nvPicPr>
        <p:blipFill>
          <a:blip r:embed="rId1"/>
          <a:stretch/>
        </p:blipFill>
        <p:spPr>
          <a:xfrm>
            <a:off x="2666880" y="2133720"/>
            <a:ext cx="36021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Гласные после шипящих. </a:t>
            </a:r>
            <a:br>
              <a:rPr sz="2800"/>
            </a:br>
            <a:r>
              <a:rPr b="1" lang="ru-RU" sz="2800" spc="-1" strike="noStrike">
                <a:solidFill>
                  <a:srgbClr val="c5c5ff"/>
                </a:solidFill>
                <a:latin typeface="Times New Roman"/>
              </a:rPr>
              <a:t>Вспомните алгоритм рассуждения</a:t>
            </a:r>
            <a:endParaRPr b="1" lang="en-US" sz="2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92" name="Прямоугольник 6"/>
          <p:cNvSpPr/>
          <p:nvPr/>
        </p:nvSpPr>
        <p:spPr>
          <a:xfrm>
            <a:off x="685800" y="0"/>
            <a:ext cx="7620120" cy="6094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ень или нет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Стрелка вниз 7"/>
          <p:cNvSpPr/>
          <p:nvPr/>
        </p:nvSpPr>
        <p:spPr>
          <a:xfrm>
            <a:off x="22860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Стрелка вниз 8"/>
          <p:cNvSpPr/>
          <p:nvPr/>
        </p:nvSpPr>
        <p:spPr>
          <a:xfrm>
            <a:off x="5943600" y="60948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Овал 9"/>
          <p:cNvSpPr/>
          <p:nvPr/>
        </p:nvSpPr>
        <p:spPr>
          <a:xfrm>
            <a:off x="2057400" y="1066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Овал 10"/>
          <p:cNvSpPr/>
          <p:nvPr/>
        </p:nvSpPr>
        <p:spPr>
          <a:xfrm>
            <a:off x="5715000" y="1066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лючение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4800600" y="18288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гольная форма 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Овал 13"/>
          <p:cNvSpPr/>
          <p:nvPr/>
        </p:nvSpPr>
        <p:spPr>
          <a:xfrm>
            <a:off x="76212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Овал 14"/>
          <p:cNvSpPr/>
          <p:nvPr/>
        </p:nvSpPr>
        <p:spPr>
          <a:xfrm>
            <a:off x="27432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7772400" y="22096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Овал 16"/>
          <p:cNvSpPr/>
          <p:nvPr/>
        </p:nvSpPr>
        <p:spPr>
          <a:xfrm>
            <a:off x="5257800" y="220968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8-конечная звезда 17"/>
          <p:cNvSpPr/>
          <p:nvPr/>
        </p:nvSpPr>
        <p:spPr>
          <a:xfrm>
            <a:off x="762120" y="30481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8-конечная звезда 18"/>
          <p:cNvSpPr/>
          <p:nvPr/>
        </p:nvSpPr>
        <p:spPr>
          <a:xfrm>
            <a:off x="2743200" y="297180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Прямая со стрелкой 22"/>
          <p:cNvCxnSpPr>
            <a:stCxn id="202" idx="4"/>
            <a:endCxn id="204" idx="0"/>
          </p:cNvCxnSpPr>
          <p:nvPr/>
        </p:nvCxnSpPr>
        <p:spPr>
          <a:xfrm flipH="1">
            <a:off x="3657240" y="2971800"/>
            <a:ext cx="2057760" cy="4579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cxnSp>
        <p:nvCxnSpPr>
          <p:cNvPr id="206" name="Прямая со стрелкой 24"/>
          <p:cNvCxnSpPr/>
          <p:nvPr/>
        </p:nvCxnSpPr>
        <p:spPr>
          <a:xfrm flipH="1">
            <a:off x="8229240" y="2895120"/>
            <a:ext cx="2160" cy="68652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07" name="Прямоугольник 25"/>
          <p:cNvSpPr/>
          <p:nvPr/>
        </p:nvSpPr>
        <p:spPr>
          <a:xfrm>
            <a:off x="4800600" y="3657600"/>
            <a:ext cx="4343400" cy="3808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 ударением или не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Овал 26"/>
          <p:cNvSpPr/>
          <p:nvPr/>
        </p:nvSpPr>
        <p:spPr>
          <a:xfrm>
            <a:off x="4876920" y="4114800"/>
            <a:ext cx="914400" cy="762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9" name="Прямая со стрелкой 28"/>
          <p:cNvCxnSpPr>
            <a:stCxn id="208" idx="2"/>
          </p:cNvCxnSpPr>
          <p:nvPr/>
        </p:nvCxnSpPr>
        <p:spPr>
          <a:xfrm flipH="1" flipV="1">
            <a:off x="1523520" y="3657240"/>
            <a:ext cx="3353760" cy="838800"/>
          </a:xfrm>
          <a:prstGeom prst="straightConnector1">
            <a:avLst/>
          </a:prstGeom>
          <a:ln w="38160">
            <a:solidFill>
              <a:srgbClr val="dadada"/>
            </a:solidFill>
            <a:miter/>
            <a:tailEnd len="med" type="arrow" w="med"/>
          </a:ln>
        </p:spPr>
      </p:cxnSp>
      <p:sp>
        <p:nvSpPr>
          <p:cNvPr id="210" name="Овал 29"/>
          <p:cNvSpPr/>
          <p:nvPr/>
        </p:nvSpPr>
        <p:spPr>
          <a:xfrm>
            <a:off x="7772400" y="4038480"/>
            <a:ext cx="91440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8-конечная звезда 30"/>
          <p:cNvSpPr/>
          <p:nvPr/>
        </p:nvSpPr>
        <p:spPr>
          <a:xfrm>
            <a:off x="7772400" y="48769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ключения!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пюшон, трущоба, чащоба, шорты, шорох, крыжовник, обжора, жор, жом, жох, шорник, шомпол, чопорный, чокнутый, джонка, шов, мажор, трещотка, шоссе, шоколад, Шотландия, жокей, жонглёр, боржоми, джоуль, крюшон, изжог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914400" y="4648320"/>
            <a:ext cx="312408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ёг руку - 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4952880" y="4648320"/>
            <a:ext cx="3124440" cy="10666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жог руки - су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устно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…рник,  круч…ная, беч…вка, туш…нка, собач…нка, мальч…нка, лавч…нка, ж…ваный, ж…м, воротнич…к, напряж…ный, сплоч…ность, волч…нок, внуч…нок, коч…вка, душ…нка, упрощ…нность, протяж…нность, реш…тка, подш…рсток, кош…лка, печ…нка, прож…рлив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Найдите ошибки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тренажор, учащонный, чащоба, трещётка, рубашонка, распашонка, галчёнок, лишён, кручоный, дешёвый, шолковый, жжёный, изжога, жонглёр, мощёная, камышовый, расчётливый, чопорный, сожжонный, товарищем, замшевый, парчёвое, тиражё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жёр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нажо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ащ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чащоб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трещёт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рубашонка, распашонка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галчёно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лишён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кручо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дешё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шолков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жжёный, изжога, жонглёр, мощёная, камышовый, расчётливый, чопорн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ожжонны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оварищем, замшевый,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арчёвое, тиражё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В2. Выпишите слова с чередующейся гласной в корн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непроверяемой безударной гласной в корне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тветьте на вопросы: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орфограмм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место в слове, в котором можно сделать ошиб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виды орфограмм вы знает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фограммы в корне, в приставках, в суффиксах, в окончаниях, слитные – раздельные – дефисные напис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c5ff"/>
                </a:solidFill>
                <a:latin typeface="Times New Roman"/>
              </a:rPr>
              <a:t>В2. Выпишите слова с проверяемой безударной гласной корня</a:t>
            </a:r>
            <a:endParaRPr b="1" lang="en-US" sz="3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7"/>
          <p:cNvGrpSpPr/>
          <p:nvPr/>
        </p:nvGrpSpPr>
        <p:grpSpPr>
          <a:xfrm>
            <a:off x="0" y="228600"/>
            <a:ext cx="8991360" cy="4643640"/>
            <a:chOff x="0" y="228600"/>
            <a:chExt cx="8991360" cy="4643640"/>
          </a:xfrm>
        </p:grpSpPr>
        <p:cxnSp>
          <p:nvCxnSpPr>
            <p:cNvPr id="128" name="_s25628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521840" y="2457000"/>
              <a:ext cx="611640" cy="41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1" name="_s25626"/>
            <p:cNvCxnSpPr>
              <a:stCxn id="132" idx="0"/>
              <a:endCxn id="130" idx="2"/>
            </p:cNvCxnSpPr>
            <p:nvPr/>
          </p:nvCxnSpPr>
          <p:spPr>
            <a:xfrm flipV="1">
              <a:off x="6127560" y="2360880"/>
              <a:ext cx="1491840" cy="1750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25624"/>
            <p:cNvCxnSpPr>
              <a:stCxn id="134" idx="0"/>
              <a:endCxn id="130" idx="2"/>
            </p:cNvCxnSpPr>
            <p:nvPr/>
          </p:nvCxnSpPr>
          <p:spPr>
            <a:xfrm flipH="1" flipV="1" rot="5400000">
              <a:off x="6349680" y="1703160"/>
              <a:ext cx="611640" cy="192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2562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2187720" y="1786680"/>
              <a:ext cx="689760" cy="1682280"/>
            </a:xfrm>
            <a:prstGeom prst="bentConnector3">
              <a:avLst>
                <a:gd name="adj1" fmla="val 499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25620"/>
            <p:cNvCxnSpPr>
              <a:stCxn id="139" idx="0"/>
              <a:endCxn id="137" idx="2"/>
            </p:cNvCxnSpPr>
            <p:nvPr/>
          </p:nvCxnSpPr>
          <p:spPr>
            <a:xfrm flipV="1" rot="16200000">
              <a:off x="966600" y="3007440"/>
              <a:ext cx="1678680" cy="229320"/>
            </a:xfrm>
            <a:prstGeom prst="bentConnector3">
              <a:avLst>
                <a:gd name="adj1" fmla="val 814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25618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996840" y="2199960"/>
              <a:ext cx="611640" cy="777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_s25616"/>
            <p:cNvCxnSpPr>
              <a:stCxn id="130" idx="0"/>
              <a:endCxn id="143" idx="2"/>
            </p:cNvCxnSpPr>
            <p:nvPr/>
          </p:nvCxnSpPr>
          <p:spPr>
            <a:xfrm flipV="1" rot="16200000">
              <a:off x="5734080" y="-286560"/>
              <a:ext cx="534240" cy="3238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25614"/>
            <p:cNvCxnSpPr>
              <a:stCxn id="145" idx="0"/>
              <a:endCxn id="143" idx="2"/>
            </p:cNvCxnSpPr>
            <p:nvPr/>
          </p:nvCxnSpPr>
          <p:spPr>
            <a:xfrm flipV="1" rot="16200000">
              <a:off x="4654800" y="790920"/>
              <a:ext cx="534240" cy="10839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25613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3786840" y="1006200"/>
              <a:ext cx="534240" cy="6537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5612"/>
            <p:cNvCxnSpPr>
              <a:stCxn id="137" idx="0"/>
              <a:endCxn id="143" idx="2"/>
            </p:cNvCxnSpPr>
            <p:nvPr/>
          </p:nvCxnSpPr>
          <p:spPr>
            <a:xfrm flipH="1" flipV="1" rot="5400000">
              <a:off x="2769840" y="-12240"/>
              <a:ext cx="534240" cy="269064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3" name="_s25608"/>
            <p:cNvSpPr/>
            <p:nvPr/>
          </p:nvSpPr>
          <p:spPr>
            <a:xfrm>
              <a:off x="3352680" y="228600"/>
              <a:ext cx="2057400" cy="837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иды орфограмм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 корн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_s25609"/>
            <p:cNvSpPr/>
            <p:nvPr/>
          </p:nvSpPr>
          <p:spPr>
            <a:xfrm>
              <a:off x="532800" y="1600560"/>
              <a:ext cx="23169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езударны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25610"/>
            <p:cNvSpPr/>
            <p:nvPr/>
          </p:nvSpPr>
          <p:spPr>
            <a:xfrm>
              <a:off x="3069360" y="1600560"/>
              <a:ext cx="131580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Ы-и после ц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25611"/>
            <p:cNvSpPr/>
            <p:nvPr/>
          </p:nvSpPr>
          <p:spPr>
            <a:xfrm>
              <a:off x="4604760" y="1600560"/>
              <a:ext cx="1719360" cy="6825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ласные после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шипящи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25615"/>
            <p:cNvSpPr/>
            <p:nvPr/>
          </p:nvSpPr>
          <p:spPr>
            <a:xfrm>
              <a:off x="6628680" y="1600560"/>
              <a:ext cx="198144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глас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25617"/>
            <p:cNvSpPr/>
            <p:nvPr/>
          </p:nvSpPr>
          <p:spPr>
            <a:xfrm>
              <a:off x="0" y="2894400"/>
              <a:ext cx="1829160" cy="988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25619"/>
            <p:cNvSpPr/>
            <p:nvPr/>
          </p:nvSpPr>
          <p:spPr>
            <a:xfrm>
              <a:off x="989640" y="3961800"/>
              <a:ext cx="1858320" cy="83880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веряе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25621"/>
            <p:cNvSpPr/>
            <p:nvPr/>
          </p:nvSpPr>
          <p:spPr>
            <a:xfrm>
              <a:off x="2362320" y="2972520"/>
              <a:ext cx="2021400" cy="9169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Чередующиеся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25623"/>
            <p:cNvSpPr/>
            <p:nvPr/>
          </p:nvSpPr>
          <p:spPr>
            <a:xfrm>
              <a:off x="4604760" y="2972520"/>
              <a:ext cx="21762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епроизносим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25625"/>
            <p:cNvSpPr/>
            <p:nvPr/>
          </p:nvSpPr>
          <p:spPr>
            <a:xfrm>
              <a:off x="4800960" y="4111560"/>
              <a:ext cx="265500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омнитель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25627"/>
            <p:cNvSpPr/>
            <p:nvPr/>
          </p:nvSpPr>
          <p:spPr>
            <a:xfrm>
              <a:off x="7085880" y="2972520"/>
              <a:ext cx="1905480" cy="7606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двоенны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0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2819520" y="2209680"/>
            <a:ext cx="3314520" cy="313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5c5ff"/>
                </a:solidFill>
                <a:latin typeface="Times New Roman"/>
              </a:rPr>
              <a:t>Проверяемые безударные гласные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проверить проверяемые безударные гласны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изменить форму слова или подобрать такое родственное слово, чтобы эта гласная была под удар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дборе проверочного слова необходимо учитывать значение 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берите проверочные сл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…ваются воло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ёнок разв…в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ребён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…скать бел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морковь нагряд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…дить ружь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стихотво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в…тить фонари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…лить гу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п…лоть гря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Устный диктант</a:t>
            </a:r>
            <a:br>
              <a:rPr sz="4400"/>
            </a:b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Объясните орфограммы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…гровый закат, нав…вать проволоку, нав…вать воспоминания, возм…щать утрату, поместить в кл…довой, преод…леть преграду, отд…лённая местность, х…лодная р…са, охл…дить кип…ток, изл…ваться ручьём, изв…ваться змеёй, изв…няться, неподр…жаемая игра, подр…жать на морозе, ут…шение в горе, ут…хомириться, уг…дать ответ, уг…дить другу, скр…пя сердце, скр…пя колёсами, сл…паться в комок, сл…пит глаза, разр…дить посевы, разр…дить обстановку, пренебр…жительное отношение, дов…рять и пров…рять, п…тнистый, п…тачок, обн…жать, н…жевая р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57" name="Рисунок 7" descr="книги 3.wmf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c5ff"/>
                </a:solidFill>
                <a:latin typeface="Times New Roman"/>
              </a:rPr>
              <a:t>Чередующиеся гласные</a:t>
            </a:r>
            <a:endParaRPr b="1" lang="en-US" sz="3200" spc="-1" strike="noStrike">
              <a:solidFill>
                <a:srgbClr val="c5c5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762120"/>
          <a:ext cx="9144000" cy="58672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уффикса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оглас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уда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ни, зависящие от смыс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ир-б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р-п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р-д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р-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р-м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лист-бле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ил-сти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т-ч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с-к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аг-ло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Сочетание, сочет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-ращ-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как-ско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осток, Ростислав, Росткино, ростовщик, отрасль; скачок, скач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, клон, тв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, пл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Выгарки, пригарь, зорянка, зоревать, пловец, пловчиха,  ут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 – макать, опускать в жидкость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К – мокрый, пропитанный жидкостью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ВН – равный одинаков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ВН – ровный, глад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Л! равн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250" autoRev="1" fill="hold"/>
                                        <p:tgtEl>
                                          <p:spTgt spid="1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7:18:20Z</dcterms:created>
  <dc:creator>1</dc:creator>
  <dc:description/>
  <dc:language>en-US</dc:language>
  <cp:lastModifiedBy>ZooM</cp:lastModifiedBy>
  <dcterms:modified xsi:type="dcterms:W3CDTF">2013-11-15T18:26:1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