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gif" ContentType="image/gif"/>
  <Override PartName="/ppt/media/image8.wmf" ContentType="image/x-wmf"/>
  <Override PartName="/ppt/media/image9.png" ContentType="image/png"/>
  <Override PartName="/ppt/media/image6.png" ContentType="image/png"/>
  <Override PartName="/ppt/media/image7.wmf" ContentType="image/x-wmf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FD2-986D-4EC9-83E0-B75AB5FC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B8F7-0D0A-4860-AC7A-F06C68A7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C05D-673B-4AE9-8E7E-D5E0A96D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999-7C2D-4223-B0EA-9DB2785F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01B1-A3DC-4D7E-840B-68818C78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DF46-69A7-4718-B552-F103D67F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B100-2BDD-449E-A4D6-4D1C0250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43B2-E69F-4514-A5C0-4E286D15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A6D7-AEB6-4C42-A8D0-18C715CA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54A0-747D-4216-8CBB-EA451B9D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5CDA-0570-48F6-BF31-46B4E2C1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8D8-100F-4AC4-A9AD-B861C7B9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E5F2-8075-4406-AA4A-5D22B201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444B-24DE-4D03-8EA8-FC8770F1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AFBA-DDF9-4A93-A210-025E1F78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1F8D-05CD-447B-8217-9FCAB612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6284-BB28-4E33-95A0-2A019176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B9B-3C78-48DC-8B6C-02EF5884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E97-AB74-4370-B0EF-98760545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5EA8-73FB-45E4-8C9B-63D23B6A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614-5C50-42A1-8566-A86D4275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B772-3F8B-4A86-BDFE-AE6A263C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36AE-7A8D-4C0C-8402-0AC0249A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4AAC-A740-4A8B-B301-391BBCE3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9FD1-B8D5-49ED-BD82-DD7456EE41E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41C6-D4FB-44D0-9DF3-B6AA7877307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5c5ff"/>
                </a:solidFill>
                <a:latin typeface="Times New Roman"/>
              </a:rPr>
              <a:t>Повторение</a:t>
            </a:r>
            <a:br>
              <a:rPr sz="5400"/>
            </a:br>
            <a:r>
              <a:rPr b="1" lang="ru-RU" sz="5400" spc="-1" strike="noStrike">
                <a:solidFill>
                  <a:srgbClr val="c5c5ff"/>
                </a:solidFill>
                <a:latin typeface="Times New Roman"/>
              </a:rPr>
              <a:t>Орфограммы в корне</a:t>
            </a:r>
            <a:endParaRPr b="1" lang="en-US" sz="5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стема занятий элективного кур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Рисунок 3" descr="знания.wmf"/>
          <p:cNvPicPr/>
          <p:nvPr/>
        </p:nvPicPr>
        <p:blipFill>
          <a:blip r:embed="rId1"/>
          <a:stretch/>
        </p:blipFill>
        <p:spPr>
          <a:xfrm>
            <a:off x="152280" y="228600"/>
            <a:ext cx="2359080" cy="2494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Ответьте на вопросы по теме: «Чередующиеся гласные в корне»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какие 4 группы делятся чередующиеся гласные в корн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числите корни, зависящие от суффикса 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чём происходит зависимость от суффикса 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числите исключения из этого прави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числите корни, зависящие от согласного зву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происходит зависимос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числите исключения из этого прави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числите корни, зависящие от удар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кажите прави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числите исключения из этого прави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числите корни, зависящие от смысла, с их значения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зовите исключение из этого прави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Распределительный диктант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600200"/>
          <a:ext cx="8229600" cy="914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ряем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дующие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pic>
        <p:nvPicPr>
          <p:cNvPr id="164" name="пров и черед.wma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" descr="женщина на трибуне.gif"/>
          <p:cNvPicPr/>
          <p:nvPr/>
        </p:nvPicPr>
        <p:blipFill>
          <a:blip r:embed="rId2"/>
          <a:stretch/>
        </p:blipFill>
        <p:spPr>
          <a:xfrm>
            <a:off x="3886200" y="3581280"/>
            <a:ext cx="1754280" cy="207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320992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614520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Проверь себя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52280" y="304920"/>
          <a:ext cx="8839440" cy="586728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ряем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дующие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3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ной - об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ноножка - 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ной - от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бушка - г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стый - г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з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ение - з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з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вать - з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 р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чком - р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вать - 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на - 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ь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ть - рас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ть - на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гор - 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с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ть - с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ять пальто - при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по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л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г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л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ш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ну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ро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ем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вщ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ть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ов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614520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Проверь себя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280" y="304920"/>
          <a:ext cx="8839440" cy="586728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ряем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дующие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3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ть в бане - 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ть шов - 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ать задуманное - п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ть - т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ать - т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ть песок - на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ть колесо - про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pic>
        <p:nvPicPr>
          <p:cNvPr id="170" name="Рисунок 4" descr="будильник.gif"/>
          <p:cNvPicPr/>
          <p:nvPr/>
        </p:nvPicPr>
        <p:blipFill>
          <a:blip r:embed="rId1"/>
          <a:stretch/>
        </p:blipFill>
        <p:spPr>
          <a:xfrm>
            <a:off x="5791320" y="2895480"/>
            <a:ext cx="1828800" cy="20257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5" descr="доклад.wmf"/>
          <p:cNvPicPr/>
          <p:nvPr/>
        </p:nvPicPr>
        <p:blipFill>
          <a:blip r:embed="rId2"/>
          <a:stretch/>
        </p:blipFill>
        <p:spPr>
          <a:xfrm>
            <a:off x="1600200" y="3276720"/>
            <a:ext cx="1371600" cy="2379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Распределительный диктант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2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суффикс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согласно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удар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смыс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4" name="Безымянный.wma" descr=""/>
          <p:cNvPicPr/>
          <p:nvPr/>
        </p:nvPicPr>
        <p:blipFill>
          <a:blip r:embed="rId1"/>
          <a:stretch/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312354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Согласные в корне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76" name="Рисунок 4" descr="мужик за столом.wmf"/>
          <p:cNvPicPr/>
          <p:nvPr/>
        </p:nvPicPr>
        <p:blipFill>
          <a:blip r:embed="rId1"/>
          <a:stretch/>
        </p:blipFill>
        <p:spPr>
          <a:xfrm>
            <a:off x="2438280" y="1295280"/>
            <a:ext cx="4419720" cy="4743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Правописание согласных в корне слова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какие 3 группы делятся согласные с точки зрения орфографи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Непроизносимые, сомнительные, удвоен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ие согласные можно провери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Сомнительные и некоторые непроизносим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им образом проверяются согласны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Подбирается такое проверочное слово, чтобы после этой согласной стояла глас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необходимо делать с удвоенными согласным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Запоминать или проверять по орфографическому словар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Вставьте пропущенные буквы, объясните орфограммы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5c5ff"/>
                </a:solidFill>
                <a:latin typeface="Times New Roman"/>
              </a:rPr>
              <a:t>Внесите изменения в таблицу, перераспределив слова и вставив пропущенные буквы</a:t>
            </a:r>
            <a:endParaRPr b="1" lang="en-US" sz="32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2743200"/>
                <a:gridCol w="3124080"/>
                <a:gridCol w="23623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мни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произносим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двоен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…кие вол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у…ствов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а…ствов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…кий челове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ре…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е…ти под уз…ц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…кие зву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р…ц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…ствов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ревя…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а…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и…лограм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…и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о…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ара..ельные прям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те…иге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о…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с…ниц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с…ниц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вес…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ерс…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5c5ff"/>
                </a:solidFill>
                <a:latin typeface="Times New Roman"/>
              </a:rPr>
              <a:t>И-Ы после Ц</a:t>
            </a:r>
            <a:endParaRPr b="1" lang="en-US" sz="80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84" name="Рисунок 4" descr="человечек пишет.gif"/>
          <p:cNvPicPr/>
          <p:nvPr/>
        </p:nvPicPr>
        <p:blipFill>
          <a:blip r:embed="rId1"/>
          <a:stretch/>
        </p:blipFill>
        <p:spPr>
          <a:xfrm>
            <a:off x="2971800" y="2286000"/>
            <a:ext cx="2992320" cy="3157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Цели урока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торить и обобщить знания по теме «Виды орфограмм в корне слов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авить обобщающие таблицы по данной тем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тренироваться на практике в написании слов с различными видами орфограмм в корне сл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Вспомните правило </a:t>
            </a:r>
            <a:br>
              <a:rPr sz="4000"/>
            </a:b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«И – Ы после Ц»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4952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99f3ff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корне (цир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99f3ff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словах на –ция (акация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Л! Цыган, цыплёнок, на цыпочках, цыц, цыкну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99f3ff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суффиксах (лисицын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99f3ff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окончаниях (спицы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Вставьте и объясните орфограммы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ленький ц…плёнок, ц…анистый калий, ц…ганская песня, демонстрац…я, иллюминац…я, куц…й хвост, лисиц…на нора, ц…кнуть на собаку, острые спиц…, ц…рковое представление, ц…фровой диктант, ц…ркуль, милиц…онер, благоухающая акац…я, круглолиц…й мальчик, бледноли…й брат мо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О-Е-Ё после шипящих во всех частях речи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90" name="Рисунок 4" descr="учёный с указкой.png"/>
          <p:cNvPicPr/>
          <p:nvPr/>
        </p:nvPicPr>
        <p:blipFill>
          <a:blip r:embed="rId1"/>
          <a:stretch/>
        </p:blipFill>
        <p:spPr>
          <a:xfrm>
            <a:off x="2666880" y="2133720"/>
            <a:ext cx="3602160" cy="3700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5943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5c5ff"/>
                </a:solidFill>
                <a:latin typeface="Times New Roman"/>
              </a:rPr>
              <a:t>Гласные после шипящих. </a:t>
            </a:r>
            <a:br>
              <a:rPr sz="2800"/>
            </a:br>
            <a:r>
              <a:rPr b="1" lang="ru-RU" sz="2800" spc="-1" strike="noStrike">
                <a:solidFill>
                  <a:srgbClr val="c5c5ff"/>
                </a:solidFill>
                <a:latin typeface="Times New Roman"/>
              </a:rPr>
              <a:t>Вспомните алгоритм рассуждения</a:t>
            </a:r>
            <a:endParaRPr b="1" lang="en-US" sz="28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92" name="Прямоугольник 6"/>
          <p:cNvSpPr/>
          <p:nvPr/>
        </p:nvSpPr>
        <p:spPr>
          <a:xfrm>
            <a:off x="685800" y="0"/>
            <a:ext cx="7620120" cy="60948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рень или нет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Стрелка вниз 7"/>
          <p:cNvSpPr/>
          <p:nvPr/>
        </p:nvSpPr>
        <p:spPr>
          <a:xfrm>
            <a:off x="2286000" y="609480"/>
            <a:ext cx="380880" cy="45720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Стрелка вниз 8"/>
          <p:cNvSpPr/>
          <p:nvPr/>
        </p:nvSpPr>
        <p:spPr>
          <a:xfrm>
            <a:off x="5943600" y="609480"/>
            <a:ext cx="380880" cy="45720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Овал 9"/>
          <p:cNvSpPr/>
          <p:nvPr/>
        </p:nvSpPr>
        <p:spPr>
          <a:xfrm>
            <a:off x="2057400" y="1066680"/>
            <a:ext cx="914400" cy="762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Овал 10"/>
          <p:cNvSpPr/>
          <p:nvPr/>
        </p:nvSpPr>
        <p:spPr>
          <a:xfrm>
            <a:off x="5715000" y="1066680"/>
            <a:ext cx="91440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Прямоугольник 11"/>
          <p:cNvSpPr/>
          <p:nvPr/>
        </p:nvSpPr>
        <p:spPr>
          <a:xfrm>
            <a:off x="0" y="1828800"/>
            <a:ext cx="4343400" cy="38088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ключение или нет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Прямоугольник 12"/>
          <p:cNvSpPr/>
          <p:nvPr/>
        </p:nvSpPr>
        <p:spPr>
          <a:xfrm>
            <a:off x="4800600" y="1828800"/>
            <a:ext cx="4343400" cy="38088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гольная форма ли нет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Овал 13"/>
          <p:cNvSpPr/>
          <p:nvPr/>
        </p:nvSpPr>
        <p:spPr>
          <a:xfrm>
            <a:off x="762120" y="2209680"/>
            <a:ext cx="914400" cy="762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Овал 14"/>
          <p:cNvSpPr/>
          <p:nvPr/>
        </p:nvSpPr>
        <p:spPr>
          <a:xfrm>
            <a:off x="2743200" y="2209680"/>
            <a:ext cx="91440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Овал 15"/>
          <p:cNvSpPr/>
          <p:nvPr/>
        </p:nvSpPr>
        <p:spPr>
          <a:xfrm>
            <a:off x="7772400" y="2209680"/>
            <a:ext cx="91440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Овал 16"/>
          <p:cNvSpPr/>
          <p:nvPr/>
        </p:nvSpPr>
        <p:spPr>
          <a:xfrm>
            <a:off x="5257800" y="2209680"/>
            <a:ext cx="914400" cy="762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8-конечная звезда 17"/>
          <p:cNvSpPr/>
          <p:nvPr/>
        </p:nvSpPr>
        <p:spPr>
          <a:xfrm>
            <a:off x="762120" y="3048120"/>
            <a:ext cx="914400" cy="914400"/>
          </a:xfrm>
          <a:custGeom>
            <a:avLst/>
            <a:gdLst>
              <a:gd name="textAreaLeft" fmla="*/ 214560 w 914400"/>
              <a:gd name="textAreaRight" fmla="*/ 699840 w 914400"/>
              <a:gd name="textAreaTop" fmla="*/ 214560 h 914400"/>
              <a:gd name="textAreaBottom" fmla="*/ 699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8-конечная звезда 18"/>
          <p:cNvSpPr/>
          <p:nvPr/>
        </p:nvSpPr>
        <p:spPr>
          <a:xfrm>
            <a:off x="2743200" y="2971800"/>
            <a:ext cx="914400" cy="914400"/>
          </a:xfrm>
          <a:custGeom>
            <a:avLst/>
            <a:gdLst>
              <a:gd name="textAreaLeft" fmla="*/ 214560 w 914400"/>
              <a:gd name="textAreaRight" fmla="*/ 699840 w 914400"/>
              <a:gd name="textAreaTop" fmla="*/ 214560 h 914400"/>
              <a:gd name="textAreaBottom" fmla="*/ 699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5" name="Прямая со стрелкой 22"/>
          <p:cNvCxnSpPr>
            <a:stCxn id="202" idx="4"/>
            <a:endCxn id="204" idx="0"/>
          </p:cNvCxnSpPr>
          <p:nvPr/>
        </p:nvCxnSpPr>
        <p:spPr>
          <a:xfrm flipH="1">
            <a:off x="3657240" y="2971800"/>
            <a:ext cx="2057760" cy="457920"/>
          </a:xfrm>
          <a:prstGeom prst="straightConnector1">
            <a:avLst/>
          </a:prstGeom>
          <a:ln w="38160">
            <a:solidFill>
              <a:srgbClr val="dadada"/>
            </a:solidFill>
            <a:miter/>
            <a:tailEnd len="med" type="arrow" w="med"/>
          </a:ln>
        </p:spPr>
      </p:cxnSp>
      <p:cxnSp>
        <p:nvCxnSpPr>
          <p:cNvPr id="206" name="Прямая со стрелкой 24"/>
          <p:cNvCxnSpPr/>
          <p:nvPr/>
        </p:nvCxnSpPr>
        <p:spPr>
          <a:xfrm flipH="1">
            <a:off x="8229240" y="2895120"/>
            <a:ext cx="2160" cy="686520"/>
          </a:xfrm>
          <a:prstGeom prst="straightConnector1">
            <a:avLst/>
          </a:prstGeom>
          <a:ln w="38160">
            <a:solidFill>
              <a:srgbClr val="dadada"/>
            </a:solidFill>
            <a:miter/>
            <a:tailEnd len="med" type="arrow" w="med"/>
          </a:ln>
        </p:spPr>
      </p:cxnSp>
      <p:sp>
        <p:nvSpPr>
          <p:cNvPr id="207" name="Прямоугольник 25"/>
          <p:cNvSpPr/>
          <p:nvPr/>
        </p:nvSpPr>
        <p:spPr>
          <a:xfrm>
            <a:off x="4800600" y="3657600"/>
            <a:ext cx="4343400" cy="38088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 ударением или нет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Овал 26"/>
          <p:cNvSpPr/>
          <p:nvPr/>
        </p:nvSpPr>
        <p:spPr>
          <a:xfrm>
            <a:off x="4876920" y="4114800"/>
            <a:ext cx="914400" cy="762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9" name="Прямая со стрелкой 28"/>
          <p:cNvCxnSpPr>
            <a:stCxn id="208" idx="2"/>
          </p:cNvCxnSpPr>
          <p:nvPr/>
        </p:nvCxnSpPr>
        <p:spPr>
          <a:xfrm flipH="1" flipV="1">
            <a:off x="1523520" y="3657240"/>
            <a:ext cx="3353760" cy="838800"/>
          </a:xfrm>
          <a:prstGeom prst="straightConnector1">
            <a:avLst/>
          </a:prstGeom>
          <a:ln w="38160">
            <a:solidFill>
              <a:srgbClr val="dadada"/>
            </a:solidFill>
            <a:miter/>
            <a:tailEnd len="med" type="arrow" w="med"/>
          </a:ln>
        </p:spPr>
      </p:cxnSp>
      <p:sp>
        <p:nvSpPr>
          <p:cNvPr id="210" name="Овал 29"/>
          <p:cNvSpPr/>
          <p:nvPr/>
        </p:nvSpPr>
        <p:spPr>
          <a:xfrm>
            <a:off x="7772400" y="4038480"/>
            <a:ext cx="91440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8-конечная звезда 30"/>
          <p:cNvSpPr/>
          <p:nvPr/>
        </p:nvSpPr>
        <p:spPr>
          <a:xfrm>
            <a:off x="7772400" y="4876920"/>
            <a:ext cx="914400" cy="914400"/>
          </a:xfrm>
          <a:custGeom>
            <a:avLst/>
            <a:gdLst>
              <a:gd name="textAreaLeft" fmla="*/ 214560 w 914400"/>
              <a:gd name="textAreaRight" fmla="*/ 699840 w 914400"/>
              <a:gd name="textAreaTop" fmla="*/ 214560 h 914400"/>
              <a:gd name="textAreaBottom" fmla="*/ 699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сключения!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пюшон, трущоба, чащоба, шорты, шорох, крыжовник, обжора, жор, жом, жох, шорник, шомпол, чопорный, чокнутый, джонка, шов, мажор, трещотка, шоссе, шоколад, Шотландия, жокей, жонглёр, боржоми, джоуль, крюшон, изжог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914400" y="4648320"/>
            <a:ext cx="3124080" cy="106668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жёг руку - глаго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4952880" y="4648320"/>
            <a:ext cx="3124440" cy="106668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жог руки - су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Объясните устно орфограммы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Ш…рник,  круч…ная, беч…вка, туш…нка, собач…нка, мальч…нка, лавч…нка, ж…ваный, ж…м, воротнич…к, напряж…ный, сплоч…ность, волч…нок, внуч…нок, коч…вка, душ…нка, упрощ…нность, протяж…нность, реш…тка, подш…рсток, кош…лка, печ…нка, прож…рливы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Найдите ошибки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жёр, тренажор, учащонный, чащоба, трещётка, рубашонка, распашонка, галчёнок, лишён, кручоный, дешёвый, шолковый, жжёный, изжога, жонглёр, мощёная, камышовый, расчётливый, чопорный, сожжонный, товарищем, замшевый, парчёвое, тиражё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Проверь себя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жёр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тренажор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чащонны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чащоба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трещётк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рубашонка, распашонка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галчёнок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лишён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кручоны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дешёвый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шолковы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жжёный, изжога, жонглёр, мощёная, камышовый, расчётливый, чопорный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ожжонны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товарищем, замшевый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арчёвое, тиражё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В2. Выпишите слова с чередующейся гласной в корне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5c5ff"/>
                </a:solidFill>
                <a:latin typeface="Times New Roman"/>
              </a:rPr>
              <a:t>В2. Выпишите слова с непроверяемой безударной гласной в корне</a:t>
            </a:r>
            <a:endParaRPr b="1" lang="en-US" sz="36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Ответьте на вопросы: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такое орфограмм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место в слове, в котором можно сделать ошиб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ие виды орфограмм вы знает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рфограммы в корне, в приставках, в суффиксах, в окончаниях, слитные – раздельные – дефисные напис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5c5ff"/>
                </a:solidFill>
                <a:latin typeface="Times New Roman"/>
              </a:rPr>
              <a:t>В2. Выпишите слова с проверяемой безударной гласной корня</a:t>
            </a:r>
            <a:endParaRPr b="1" lang="en-US" sz="36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Organization Chart 7"/>
          <p:cNvGrpSpPr/>
          <p:nvPr/>
        </p:nvGrpSpPr>
        <p:grpSpPr>
          <a:xfrm>
            <a:off x="0" y="228600"/>
            <a:ext cx="8991360" cy="4643640"/>
            <a:chOff x="0" y="228600"/>
            <a:chExt cx="8991360" cy="4643640"/>
          </a:xfrm>
        </p:grpSpPr>
        <p:cxnSp>
          <p:nvCxnSpPr>
            <p:cNvPr id="128" name="_s25628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7521840" y="2457000"/>
              <a:ext cx="611640" cy="419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1" name="_s25626"/>
            <p:cNvCxnSpPr>
              <a:stCxn id="132" idx="0"/>
              <a:endCxn id="130" idx="2"/>
            </p:cNvCxnSpPr>
            <p:nvPr/>
          </p:nvCxnSpPr>
          <p:spPr>
            <a:xfrm flipV="1">
              <a:off x="6127560" y="2360880"/>
              <a:ext cx="1491840" cy="1750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25624"/>
            <p:cNvCxnSpPr>
              <a:stCxn id="134" idx="0"/>
              <a:endCxn id="130" idx="2"/>
            </p:cNvCxnSpPr>
            <p:nvPr/>
          </p:nvCxnSpPr>
          <p:spPr>
            <a:xfrm flipH="1" flipV="1" rot="5400000">
              <a:off x="6349680" y="1703160"/>
              <a:ext cx="611640" cy="1927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5" name="_s25622"/>
            <p:cNvCxnSpPr>
              <a:stCxn id="136" idx="0"/>
              <a:endCxn id="137" idx="2"/>
            </p:cNvCxnSpPr>
            <p:nvPr/>
          </p:nvCxnSpPr>
          <p:spPr>
            <a:xfrm flipV="1" rot="16200000">
              <a:off x="2187720" y="1786680"/>
              <a:ext cx="689760" cy="1682280"/>
            </a:xfrm>
            <a:prstGeom prst="bentConnector3">
              <a:avLst>
                <a:gd name="adj1" fmla="val 499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_s25620"/>
            <p:cNvCxnSpPr>
              <a:stCxn id="139" idx="0"/>
              <a:endCxn id="137" idx="2"/>
            </p:cNvCxnSpPr>
            <p:nvPr/>
          </p:nvCxnSpPr>
          <p:spPr>
            <a:xfrm flipV="1" rot="16200000">
              <a:off x="966600" y="3007440"/>
              <a:ext cx="1678680" cy="229320"/>
            </a:xfrm>
            <a:prstGeom prst="bentConnector3">
              <a:avLst>
                <a:gd name="adj1" fmla="val 8146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25618"/>
            <p:cNvCxnSpPr>
              <a:stCxn id="141" idx="0"/>
              <a:endCxn id="137" idx="2"/>
            </p:cNvCxnSpPr>
            <p:nvPr/>
          </p:nvCxnSpPr>
          <p:spPr>
            <a:xfrm flipH="1" flipV="1" rot="5400000">
              <a:off x="996840" y="2199960"/>
              <a:ext cx="611640" cy="777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_s25616"/>
            <p:cNvCxnSpPr>
              <a:stCxn id="130" idx="0"/>
              <a:endCxn id="143" idx="2"/>
            </p:cNvCxnSpPr>
            <p:nvPr/>
          </p:nvCxnSpPr>
          <p:spPr>
            <a:xfrm flipV="1" rot="16200000">
              <a:off x="5734080" y="-286560"/>
              <a:ext cx="534240" cy="323892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25614"/>
            <p:cNvCxnSpPr>
              <a:stCxn id="145" idx="0"/>
              <a:endCxn id="143" idx="2"/>
            </p:cNvCxnSpPr>
            <p:nvPr/>
          </p:nvCxnSpPr>
          <p:spPr>
            <a:xfrm flipV="1" rot="16200000">
              <a:off x="4654800" y="790920"/>
              <a:ext cx="534240" cy="108396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25613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3786840" y="1006200"/>
              <a:ext cx="534240" cy="65376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25612"/>
            <p:cNvCxnSpPr>
              <a:stCxn id="137" idx="0"/>
              <a:endCxn id="143" idx="2"/>
            </p:cNvCxnSpPr>
            <p:nvPr/>
          </p:nvCxnSpPr>
          <p:spPr>
            <a:xfrm flipH="1" flipV="1" rot="5400000">
              <a:off x="2769840" y="-12240"/>
              <a:ext cx="534240" cy="269064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3" name="_s25608"/>
            <p:cNvSpPr/>
            <p:nvPr/>
          </p:nvSpPr>
          <p:spPr>
            <a:xfrm>
              <a:off x="3352680" y="228600"/>
              <a:ext cx="2057400" cy="8377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иды орфограмм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 корн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_s25609"/>
            <p:cNvSpPr/>
            <p:nvPr/>
          </p:nvSpPr>
          <p:spPr>
            <a:xfrm>
              <a:off x="532800" y="1600560"/>
              <a:ext cx="2316960" cy="6825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Безударные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гласны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_s25610"/>
            <p:cNvSpPr/>
            <p:nvPr/>
          </p:nvSpPr>
          <p:spPr>
            <a:xfrm>
              <a:off x="3069360" y="1600560"/>
              <a:ext cx="1315800" cy="6825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Ы-и после ц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_s25611"/>
            <p:cNvSpPr/>
            <p:nvPr/>
          </p:nvSpPr>
          <p:spPr>
            <a:xfrm>
              <a:off x="4604760" y="1600560"/>
              <a:ext cx="1719360" cy="6825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Гласные после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шипящи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_s25615"/>
            <p:cNvSpPr/>
            <p:nvPr/>
          </p:nvSpPr>
          <p:spPr>
            <a:xfrm>
              <a:off x="6628680" y="1600560"/>
              <a:ext cx="1981440" cy="760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Согласны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25617"/>
            <p:cNvSpPr/>
            <p:nvPr/>
          </p:nvSpPr>
          <p:spPr>
            <a:xfrm>
              <a:off x="0" y="2894400"/>
              <a:ext cx="1829160" cy="9889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роверяемы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_s25619"/>
            <p:cNvSpPr/>
            <p:nvPr/>
          </p:nvSpPr>
          <p:spPr>
            <a:xfrm>
              <a:off x="989640" y="3961800"/>
              <a:ext cx="1858320" cy="8388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Непроверяемы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_s25621"/>
            <p:cNvSpPr/>
            <p:nvPr/>
          </p:nvSpPr>
          <p:spPr>
            <a:xfrm>
              <a:off x="2362320" y="2972520"/>
              <a:ext cx="2021400" cy="9169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Чередующиеся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_s25623"/>
            <p:cNvSpPr/>
            <p:nvPr/>
          </p:nvSpPr>
          <p:spPr>
            <a:xfrm>
              <a:off x="4604760" y="2972520"/>
              <a:ext cx="2176200" cy="760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Непроизносимы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_s25625"/>
            <p:cNvSpPr/>
            <p:nvPr/>
          </p:nvSpPr>
          <p:spPr>
            <a:xfrm>
              <a:off x="4800960" y="4111560"/>
              <a:ext cx="2655000" cy="760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Сомнительны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_s25627"/>
            <p:cNvSpPr/>
            <p:nvPr/>
          </p:nvSpPr>
          <p:spPr>
            <a:xfrm>
              <a:off x="7085880" y="2972520"/>
              <a:ext cx="1905480" cy="760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двоенны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Проверяемые безударные гласные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50" name="Рисунок 2" descr="книга и карандаш.wmf"/>
          <p:cNvPicPr/>
          <p:nvPr/>
        </p:nvPicPr>
        <p:blipFill>
          <a:blip r:embed="rId1"/>
          <a:stretch/>
        </p:blipFill>
        <p:spPr>
          <a:xfrm>
            <a:off x="2819520" y="2209680"/>
            <a:ext cx="3314520" cy="3130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Проверяемые безударные гласные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проверить проверяемые безударные гласны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до изменить форму слова или подобрать такое родственное слово, чтобы эта гласная была под ударе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одборе проверочного слова необходимо учитывать значение сл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берите проверочные сло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…ваются волос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бёнок разв…вает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…скать ребён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…скать бельё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р…дить морковь нагрядк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р…дить ружьё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в…тить стихотвор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в…тить фонари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…лить гу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п…лоть гряд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Устный диктант</a:t>
            </a:r>
            <a:br>
              <a:rPr sz="4400"/>
            </a:b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Объясните орфограммы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…гровый закат, нав…вать проволоку, нав…вать воспоминания, возм…щать утрату, поместить в кл…довой, преод…леть преграду, отд…лённая местность, х…лодная р…са, охл…дить кип…ток, изл…ваться ручьём, изв…ваться змеёй, изв…няться, неподр…жаемая игра, подр…жать на морозе, ут…шение в горе, ут…хомириться, уг…дать ответ, уг…дить другу, скр…пя сердце, скр…пя колёсами, сл…паться в комок, сл…пит глаза, разр…дить посевы, разр…дить обстановку, пренебр…жительное отношение, дов…рять и пров…рять, п…тнистый, п…тачок, обн…жать, н…жевая ра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Чередующиеся гласные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57" name="Рисунок 7" descr="книги 3.wmf"/>
          <p:cNvPicPr/>
          <p:nvPr/>
        </p:nvPicPr>
        <p:blipFill>
          <a:blip r:embed="rId1"/>
          <a:stretch/>
        </p:blipFill>
        <p:spPr>
          <a:xfrm>
            <a:off x="2590920" y="2133720"/>
            <a:ext cx="4038480" cy="3467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5c5ff"/>
                </a:solidFill>
                <a:latin typeface="Times New Roman"/>
              </a:rPr>
              <a:t>Чередующиеся гласные</a:t>
            </a:r>
            <a:endParaRPr b="1" lang="en-US" sz="32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762120"/>
          <a:ext cx="9144000" cy="58672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суффикса 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согласн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удар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смыс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ир-б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р-п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р-д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р-т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р-м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лист-бле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ил-сти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т-ч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с-к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аг-лож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Л! Сочетание, сочет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т-ращ-ро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как-ско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Л! Росток, Ростислав, Росткино, ростовщик, отрасль; скачок, скач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, клон, тво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р, пл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Л! Выгарки, пригарь, зорянка, зоревать, пловец, пловчиха,  утва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к – макать, опускать в жидкость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К – мокрый, пропитанный жидкостью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ВН – равный одинаков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ВН – ровный, глад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Л! равн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2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7:18:20Z</dcterms:created>
  <dc:creator>1</dc:creator>
  <dc:description/>
  <dc:language>en-US</dc:language>
  <cp:lastModifiedBy>ZooM</cp:lastModifiedBy>
  <dcterms:modified xsi:type="dcterms:W3CDTF">2013-11-15T18:26:1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