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C608-76EC-4D80-BCD9-D76AD603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8D2F-0426-48E4-A9F4-ED24F5AB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88A9-4EC3-4075-B4F2-B75776AA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AB99-EA6A-4562-978B-9DC82D8E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9313-B952-4B33-9A64-FAEFA76D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71AE-B5E0-48C3-BC5B-D3FC5714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41FA-3973-429E-B642-3BE3A1E3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17AA-94AB-4767-A048-EDEFC19A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81CD-08C0-4DA9-8722-5DEE9811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BD5D-AFB1-46FE-B14E-8E80F4DF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4AA3-AD28-42DE-911F-C6CE16CA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2C91-DCF1-4D45-92E7-C94FE8D3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2B8C-BE47-47AE-B961-326E3284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0D56-D03F-433D-80B7-E0ABA1A9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2A1C-4931-4E03-A08E-1FD2C906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A0FE-BA4A-4FAE-9FC0-C55C8A85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22AA-81F8-460A-AA13-4AD83326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1AEB-73AB-4037-B3A9-8D8595FD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4766-1B2A-4F8D-86BA-BECCC705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0274-2C36-492F-BFB5-1F0D4CD1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0B65-E089-4EB6-9F22-4E9F240A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F320-1682-4F88-840C-751C5010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78DE-D847-4CE5-857C-82976867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5C12-0E29-4B91-BF85-83FBA646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6139-7F34-45EA-9E09-7AC92A5C0EE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FF10-4794-417B-B736-9C5DD910D6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полярные транзистор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755640" y="3789360"/>
            <a:ext cx="770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ры: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юханова Инна, Николаева Екатер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ТФ, группа 21301, 2003-2004 уч.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Untitled-9"/>
          <p:cNvPicPr/>
          <p:nvPr/>
        </p:nvPicPr>
        <p:blipFill>
          <a:blip r:embed="rId1"/>
          <a:srcRect l="18209" t="0" r="18209" b="24297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4920" y="18864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нергетическую диаграмму транзистора можно построить на основе энергетической диаграммы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p-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руктуры, причем каждый переход имеет свой потенциальный барьер, препятствующий переходу основных носителей в соседнюю обла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ояние транзистора, при котором отсутствует напряжение на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p-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ереходе между эмиттером и базой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(Э - Б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называют равновесным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(рис.а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В равновесном состоянии на обоих переходах устанавливается динамическое равновесие между потоками дырок и электронов, протекающих в обе сторон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5"/>
          <p:cNvPicPr/>
          <p:nvPr/>
        </p:nvPicPr>
        <p:blipFill>
          <a:blip r:embed="rId1"/>
          <a:srcRect l="0" t="0" r="2564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06280" y="360000"/>
            <a:ext cx="8686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абочем режиме на переходы транзистора подаются постоянные напряжения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Uэб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Uкб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которые создаются источниками э.д.c.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Еэ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Е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эмиттерной и коллекторных цеп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подаче на эмиттерный переход прямого напряжения смещения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Uэб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тенциальный барьер этого перехода уменьшается и нарушается равновесное состояние. В результате начнётся взаимная инжекция носителей в базу и эмиттер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При этом в базу инжектируются дырки, которые преодолевают уменьшившийся потенциальный барьер. Эти дырки проходят через базу и далее через коллекторный переход в коллектор, образуя коллекторный ток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I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протекающий через нагрузочное сопротивление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R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Небольшая часть дырок рекомбинирует в базе, образуя ток базы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Iб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Этот ток очень мал, так как база имеет незначительную длину (меньше длины свободного пробега) и рекомбинация в ней мал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362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пределение носителей Pn, инжектированных эмиттером в базу, изменяется по линейному закону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едует отметить, что реальное распределение носителей несколько отличается от линейного закона, что объясняется процессом рекомбинации некоторого числа дырок с электронами. На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ис.2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ндексом "0" обозначены равновесные концентрации носителей. Распределение носителей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Np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области эмиттера аналогично их распределению в диоде при прямом включении, а распределение в области коллектора такое же, как в диоде при обратном включении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рис.2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Все рассмотренные законы распределения носителей действительны только для бездрейфового транзистор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7"/>
          <p:cNvPicPr/>
          <p:nvPr/>
        </p:nvPicPr>
        <p:blipFill>
          <a:blip r:embed="rId1"/>
          <a:srcRect l="0" t="0" r="1538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оки в транзистор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36280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зультате снижения потенциального барьера на эмиттерном переходе из эмиттера в базу начинается диффузионное движение основных носителей. Так как дырок(электронов) в эмиттере (базе) много больше, чем в базе(эмиттере), то коэффициент инжекции весьма высок. Концентрация дырок в базе увеличивается. Появившийся вблизи эмитерного перехода объемный положительный заряд почти мгновенно компенсируется зарядом электронов входящих в базу от источника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Uэ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Цепь тока Эмиттер-База замкнута. Электроны, устремившиеся в базу, создают вблизи эмитерного перехода объемный отрицательный заряд. Около перехода образуется область повышенной концентрации дырок и электронов. Они начинают диффундировать в сторону коллектора. Так как база узкая, то дырки (неосновные носители) не успевают прорекомбинировать и, попадая в ускоряющее поле коллекторного перехода, втягиваются в коллектор. Этот процесс называется экстракция. Электроны же, число которых равно числу ушедших в коллектор дырок, устремляются в базовый вывод. Цепь коллектор-база замкну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8"/>
          <p:cNvPicPr/>
          <p:nvPr/>
        </p:nvPicPr>
        <p:blipFill>
          <a:blip r:embed="rId1"/>
          <a:srcRect l="0" t="0" r="4616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Схема замещения транзистора и ее параметры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62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смотрим значение толщины базы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W'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коллектора d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d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k'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ри различных значениях коллекторного напряжения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Uкб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U'кб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 помощью диаграмм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рис.2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идно, что при заданном значении тока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Iэ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а входе и изменении напряжения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Uкб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а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U'кб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дновременно с сокращением ширины базы изменяется распределение концентрации зарядов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P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так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ямая 1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ереходит в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ямую 2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имеющую больший угол наклона. Такому изменению распределения соответствует увеличение эмитерного напряжения. Следовательно, коллекторное напряжение, модулируя толщину базы, одновременно воздействует на эмитерное напряж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2"/>
          <p:cNvPicPr/>
          <p:nvPr/>
        </p:nvPicPr>
        <p:blipFill>
          <a:blip r:embed="rId1"/>
          <a:srcRect l="0" t="0" r="0" b="252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Untitled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Untitled-6"/>
          <p:cNvPicPr/>
          <p:nvPr/>
        </p:nvPicPr>
        <p:blipFill>
          <a:blip r:embed="rId1"/>
          <a:srcRect l="0" t="0" r="42495" b="48595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включении транзистора по схеме с общей базой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рис.1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ходным является ток эмиттера, а выходным - коллектор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Vкб=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то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Iэ ~ [ exp( q * Vэб / k * T ) - 1 ]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рис.2, кривая 1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При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Vкб &lt; 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Vэб=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эмитерный ток, как следует из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2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тличается от нуля. Обычно при работе транзистора в режиме усиления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| Vкб | &gt; 2,3k * T / q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но тогда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p(W) = -p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а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p = p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Таким образом, в рассматриваемой ситуации в базе транзистора существует градиент концентрации дырок и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Iэ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е равно 0. Для компенсации этого тока на эмитерный переход необходимо подать смещение в запорном направлении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 рис. 2, кривая 2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2122200" y="62064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Схема с общей баз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9"/>
          <p:cNvPicPr/>
          <p:nvPr/>
        </p:nvPicPr>
        <p:blipFill>
          <a:blip r:embed="rId1"/>
          <a:srcRect l="0" t="0" r="3590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6840" y="401400"/>
            <a:ext cx="84358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 выходные характеристики при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Iэ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е равному 0 начинаются в области положительных значений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Vкб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( рис. 3, кривые 2 и 3 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Поскольку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a0 ~ 1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Iк0&lt;&lt;IЭ&lt; i&gt;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, то из (5) видно, что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Iк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Iэ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и фактически не зависит от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Vкб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в области его отрицательных значений. При достаточно больших обратных смещениях на коллекторном переходе в нем развивается обычно лавинный пробой и на выходной характеристике появляется участок резкой зависимости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Iк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от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Vкб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(рис. 3). Большой ток может протекать через транзистор и в случае прокола базы, когда эмиттерный и коллекторный переходы сомкнутся за счет расширения ООЗ последнего при увеличении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Vкб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10"/>
          <p:cNvPicPr/>
          <p:nvPr/>
        </p:nvPicPr>
        <p:blipFill>
          <a:blip r:embed="rId1"/>
          <a:srcRect l="0" t="0" r="4616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Untitled-7"/>
          <p:cNvPicPr/>
          <p:nvPr/>
        </p:nvPicPr>
        <p:blipFill>
          <a:blip r:embed="rId1"/>
          <a:srcRect l="0" t="0" r="36425" b="32397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хема с общим эмиттером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На практике довольно часто используются транзисторы, включенные по схеме с общим эмиттеро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 этой схеме входным является ток базы, а выходным, как и в предыдущем случае, ток коллектора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Анализ общего вида входных характеристик, представляющих собой зависимость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Iб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от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Vбэ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при фиксированных значениях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Vкэ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Если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Vкэ=0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, то входная характеристика должна изображаться кривой, выходящей из начала .координат (рис. 5, кривая 1), так как при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Vбэ = 0 Vбк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Iк0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также равны нулю. При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Vкэ &lt; 0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Vбэ = 0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коллектор должен быть смещен в запорном направлении. Тогда при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Vбэ = 0 Iб = - Iк0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, то есть начало входной характеристики располагается в области отрицательных значений тока (рис. 5, кривая 2). В целом ход зависимости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Iб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от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Vбэ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определяется эмиттерным током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( Iэ exp(q * Vбэ / k * T) - 1 )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, и по своей форме входные характеристики подобны вольтамперной характеристике р-n-перехода, смещенного в пропускном направлении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11"/>
          <p:cNvPicPr/>
          <p:nvPr/>
        </p:nvPicPr>
        <p:blipFill>
          <a:blip r:embed="rId1"/>
          <a:srcRect l="0" t="0" r="4616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4358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и перемещении вдоль выходной характеристики в сторону увеличения тока падение напряжения на коллекторном переходе Vkб в области малых значений Vкэ положительно, затем переходит через нуль, меняет знак на противоположный и непрерывно увеличивается. По мере увеличения Vкб, за счет расширения ООЗ коллекторного перехода уменьшается ширина базы транзистора и, следовательно, увеличивается a0 . Это приводит к существенному росту Во [см. (6)] и Iк [см. (8)] при увеличении Vкэ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инцип рабо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 ключ разомкнут, ток в цепи эмиттера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далее Э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тсутствует. При этом в цепи коллектора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К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меется небольшой ток, называемый обратным током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обозначаемый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Iкб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Этот ток очень мал, так как при обратном смещении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ерехода потенциальный барьер велик и непреодолим для основных носителей- дырок коллектора и свободных электронов базы.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легирован примесью значительно сильнее, чем база. Вследствие этого неосновных носителей в коллекторе значительно меньше, чем в базе, и обратный ток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оздаётся главным образом неосновными носителями: дырками, генерируемыми в базе в результате тепловых колебаний, и электронами, генерируемыми в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Untitled-8"/>
          <p:cNvPicPr/>
          <p:nvPr/>
        </p:nvPicPr>
        <p:blipFill>
          <a:blip r:embed="rId1"/>
          <a:srcRect l="0" t="0" r="24279" b="24297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хема с общим коллекторо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 этой схеме включения так же, как и в предыдущем случае, управляющим (или входным) является ток базы, но роль выходного играет ток эмиттер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скольку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a0 ~ 1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, то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B0*&gt;&gt;1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. Входной ток в данном случае практически не зависит от входного напряжения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ыходные характеристики подобны характеристикам транзистора, включенного по схеме с общим эмиттером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ранзистор, включенный по схеме с общим коллектором, обладает высоким сопротивлением на входе и малым на выходе. Это свойство транзистора используется для согласования схем с различными сопротивлениями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12"/>
          <p:cNvPicPr/>
          <p:nvPr/>
        </p:nvPicPr>
        <p:blipFill>
          <a:blip r:embed="rId1"/>
          <a:srcRect l="0" t="0" r="3590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абота на высокой частоте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ы охарактеризовать частотные свойства транзистора широко используются частотные характеристики; представляющие собой зависимость модуля коэффициента передачи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т частоты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АЧХ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фазы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Y(a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ФЧХ) (рис.1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С увеличением частоты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увеличивается сдвиг по фазе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обусловленный влиянием инерционных процессов при прохождении неосновных носителей через базу; и в конечном счете уменьшается коэффициент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В схеме с общим эмиттером величина коэффициента передачи тока базы в более сильной степени зависит от частоты, что приводит к уменьшению граничной частоты в схеме с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Э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Уменьшение коэффициента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роисходит в результате того, что с повышением частоты ток коллектора отстает от тока эмиттера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13"/>
          <p:cNvPicPr/>
          <p:nvPr/>
        </p:nvPicPr>
        <p:blipFill>
          <a:blip r:embed="rId1"/>
          <a:srcRect l="0" t="0" r="46161" b="504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араметры транзистора как элемента цеп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280" y="1980720"/>
            <a:ext cx="889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нзистор является управляемым элементом цепи. Если на входе транзистора нет управляющего сигнала, то он является пассивным элементом. Если к входу транзистора приложено переменное напряжение, то транзистор приобретает свойства активного элемента и отдаёт мощность нагрузке. В усилительном режиме на входе транзистора действует переменное напряжение, поэтому он является активным четырёхполюснико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переменные напряжения на переходах транзистора достаточно малы, токи в нём оказываются линейными функциями этих напряжений. Транзистор можно рассматривать как линейный четырёхполюсни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менные величины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i1, u1, i2, u2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характеризующие электрические свойства транзистора, взаимно связаны. Если любые две из них заданы, то оставшиеся определяются однозначно по параметрам транзистора. За независимые переменные можно принять две любые из этих величин, а две другие - представить в виде функции независимых переменны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21"/>
          <p:cNvPicPr/>
          <p:nvPr/>
        </p:nvPicPr>
        <p:blipFill>
          <a:blip r:embed="rId1"/>
          <a:srcRect l="0" t="0" r="4103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91440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рассматриваемого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p-n-p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транзистора принято отрицательное напряжение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-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откладывать вправо по оси абсцисс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ходные характеристики, соответствующие отрицательным значениям напряжения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-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в правом верхнем квадранте идут почти горизонтально, но с небольшим подъем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22"/>
          <p:cNvPicPr/>
          <p:nvPr/>
        </p:nvPicPr>
        <p:blipFill>
          <a:blip r:embed="rId1"/>
          <a:srcRect l="0" t="0" r="4616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тенциальная диаграмм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ффективная толщина базы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Wэф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т.е. расстояние между границами обедненных слоев, меньше толщины базы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Увеличение отрицательного напряжения на коллекторе расширяет обедненный слой коллекторного перехода и, следовательно, вызывает уменьшение эффективной толщины баз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явление носит название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эффекта Эрл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Модуляция толщины базы объясняет некоторый подъём выходных характеристик при увеличении отрицательного напряжения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К-Б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Коллекторный ток при этом увеличивается, так как меньшая часть дырок теряется в базе вследствие рекомбинации с электрон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Принцип действия транзистора</a:t>
            </a:r>
            <a:br>
              <a:rPr sz="3600"/>
            </a:b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в качестве усилител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ранзисто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это полупроводниковый прибор, имеющий два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-n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хода, расположенных в одном полупроводниковом монокристалле на расстоянии, значительно меньшем диффузионной длины неосновных носителей заряда. На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ис. 1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казано включение транзистора типа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-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 схеме с общей баз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вый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-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ход называется эмиттерным переходом, а его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ласть - эмиттером. Правый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-n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ход называется коллекторным переходом, а его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p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ласть - коллектором. Заключенная между эмиттером и коллектором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n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ласть называется базой транзистора. Транзистор, у которого эмиттер и коллектор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n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ипа, а база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p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ипа, называется транзистором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n-p-n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ипа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06:55:43Z</dcterms:created>
  <dc:creator>Анна</dc:creator>
  <dc:description/>
  <dc:language>en-US</dc:language>
  <cp:lastModifiedBy>ZooM</cp:lastModifiedBy>
  <dcterms:modified xsi:type="dcterms:W3CDTF">2013-11-27T23:07:04Z</dcterms:modified>
  <cp:revision>30</cp:revision>
  <dc:subject/>
  <dc:title>Биполярные транзисторы.</dc:title>
</cp:coreProperties>
</file>