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474-4464-48BB-A0BF-81A9B212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CBE-C328-4A9D-9C25-12192E8D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B63-53DA-47DD-AC32-FD19FBF0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D4E-3138-4EDB-A90A-7BC4E8F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78C-8EE0-415E-985F-C5B60073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507F-541B-44BE-A770-0833B45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9825-4DDE-4271-BB61-23A2749A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020-C7EC-4309-A60E-EC2F6D5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1759-3BB9-4CE9-8C2D-CAF7DF5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CBAD-02B9-4BB5-989E-AC2252E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712-CEBA-40B0-8E5D-00549E8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52F-F7F1-4F38-BFF4-943ABB9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344-42C4-4398-B9F4-7D969D0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05C-C6DE-40BE-A5BC-1D026EC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8547-BED3-440A-A5CD-F880166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4140-0C18-4662-8C67-FF1CE98B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250-8F6A-4219-8A62-0E992C5A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F4D-865A-4245-83EA-FA621AD7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0F3-C498-4D7B-A445-4D8459A0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E93-E155-4033-96BB-A45E1F67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46E-291E-454D-B69C-A2D6DE9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EB7-3FF3-4E66-AEF8-CDF16440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984-EBE1-46BB-8F95-1D2866A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883-A396-48ED-B752-90804B7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55D2-AF87-4453-AFF8-1B3AA33817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AE5A-59B6-4706-B9DD-922C551253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полярные транзистор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55640" y="378936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ы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ханова Инна, Николаева Екате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ТФ, группа 21301, 2003-2004 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Untitled-9"/>
          <p:cNvPicPr/>
          <p:nvPr/>
        </p:nvPicPr>
        <p:blipFill>
          <a:blip r:embed="rId1"/>
          <a:srcRect l="18209" t="0" r="18209" b="24297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етическую диаграмму транзистора можно построить на основе энергетической диаграммы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p-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руктуры, причем каждый переход имеет свой потенциальный барьер, препятствующий переходу основных носителей в соседнюю обла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транзистора, при котором отсутствует напряжение н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p-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ереходе между эмиттером и базой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Э - Б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азывают равновесным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рис.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В равновесном состоянии на обоих переходах устанавливается динамическое равновесие между потоками дырок и электронов, протекающих в обе сторо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"/>
          <p:cNvPicPr/>
          <p:nvPr/>
        </p:nvPicPr>
        <p:blipFill>
          <a:blip r:embed="rId1"/>
          <a:srcRect l="0" t="0" r="256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06280" y="36000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бочем режиме на переходы транзистора подаются постоянные напряж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э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создаются источниками э.д.c.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миттерной и коллекторных цеп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даче на эмиттерный переход прямого напряжения смещ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э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тенциальный барьер этого перехода уменьшается и нарушается равновесное состояние. В результате начнётся взаимная инжекция носителей в базу и эмитт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 этом в базу инжектируются дырки, которые преодолевают уменьшившийся потенциальный барьер. Эти дырки проходят через базу и далее через коллекторный переход в коллектор, образуя коллекторный ток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ротекающий через нагрузочное сопротивлени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R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ебольшая часть дырок рекомбинирует в базе, образуя ток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Этот ток очень мал, так как база имеет незначительную длину (меньше длины свободного пробега) и рекомбинация в ней м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еделение носителей Pn, инжектированных эмиттером в базу, изменяется по линейному закону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дует отметить, что реальное распределение носителей несколько отличается от линейного закона, что объясняется процессом рекомбинации некоторого числа дырок с электронами. Н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ис.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ндексом "0" обозначены равновесные концентрации носителей. Распределение носителей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области эмиттера аналогично их распределению в диоде при прямом включении, а распределение в области коллектора такое же, как в диоде при обратном включен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се рассмотренные законы распределения носителей действительны только для бездрейфового транзис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7"/>
          <p:cNvPicPr/>
          <p:nvPr/>
        </p:nvPicPr>
        <p:blipFill>
          <a:blip r:embed="rId1"/>
          <a:srcRect l="0" t="0" r="1538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оки в транзистор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28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снижения потенциального барьера на эмиттерном переходе из эмиттера в базу начинается диффузионное движение основных носителей. Так как дырок(электронов) в эмиттере (базе) много больше, чем в базе(эмиттере), то коэффициент инжекции весьма высок. Концентрация дырок в базе увеличивается. Появившийся вблизи эмитерного перехода объемный положительный заряд почти мгновенно компенсируется зарядом электронов входящих в базу от источник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Uэ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Цепь тока Эмиттер-База замкнута. Электроны, устремившиеся в базу, создают вблизи эмитерного перехода объемный отрицательный заряд. Около перехода образуется область повышенной концентрации дырок и электронов. Они начинают диффундировать в сторону коллектора. Так как база узкая, то дырки (неосновные носители) не успевают прорекомбинировать и, попадая в ускоряющее поле коллекторного перехода, втягиваются в коллектор. Этот процесс называется экстракция. Электроны же, число которых равно числу ушедших в коллектор дырок, устремляются в базовый вывод. Цепь коллектор-база замкну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8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хема замещения транзистора и ее параметр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62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м значение толщины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'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коллектора 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k'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 различных значениях коллекторного напряж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'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помощью диаграм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но, что при заданном значении ток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входе и изменении напряж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U'к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дновременно с сокращением ширины базы изменяется распределение концентрации зарядов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P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ак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ямая 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ходит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ямую 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меющую больший угол наклона. Такому изменению распределения соответствует увеличение эмитерного напряжения. Следовательно, коллекторное напряжение, модулируя толщину базы, одновременно воздействует на эмитерное напря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"/>
          <p:cNvPicPr/>
          <p:nvPr/>
        </p:nvPicPr>
        <p:blipFill>
          <a:blip r:embed="rId1"/>
          <a:srcRect l="0" t="0" r="0" b="25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Untitled-6"/>
          <p:cNvPicPr/>
          <p:nvPr/>
        </p:nvPicPr>
        <p:blipFill>
          <a:blip r:embed="rId1"/>
          <a:srcRect l="0" t="0" r="42495" b="48595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ключении транзистора по схеме с общей базо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ходным является ток эмиттера, а выходным - коллекто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Vкб=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э ~ [ exp( q * Vэб / k * T ) - 1 ]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рис.2, кривая 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Vкб &lt; 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Vэб=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митерный ток, как следует и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личается от нуля. Обычно при работе транзистора в режиме усилени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| Vкб | &gt; 2,3k * T / q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о тогд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p(W) = -p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p = p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Таким образом, в рассматриваемой ситуации в базе транзистора существует градиент концентрации дырок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 равно 0. Для компенсации этого тока на эмитерный переход необходимо подать смещение в запорном направлен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 рис. 2, кривая 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122200" y="62064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хема с общей баз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9"/>
          <p:cNvPicPr/>
          <p:nvPr/>
        </p:nvPicPr>
        <p:blipFill>
          <a:blip r:embed="rId1"/>
          <a:srcRect l="0" t="0" r="359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1400"/>
            <a:ext cx="8435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выходные характеристики пр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равному 0 начинаются в области положительных значений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 рис. 3, кривые 2 и 3 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Поскольку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a0 ~ 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к0&lt;&lt;IЭ&lt; i&gt;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то из (5) вид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к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э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и фактически не зависит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в области его отрицательных значений. При достаточно больших обратных смещениях на коллекторном переходе в нем развивается обычно лавинный пробой и на выходной характеристике появляется участок резкой зависимост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Iк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(рис. 3). Большой ток может протекать через транзистор и в случае прокола базы, когда эмиттерный и коллекторный переходы сомкнутся за счет расширения ООЗ последнего при увеличени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Vкб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0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Untitled-7"/>
          <p:cNvPicPr/>
          <p:nvPr/>
        </p:nvPicPr>
        <p:blipFill>
          <a:blip r:embed="rId1"/>
          <a:srcRect l="0" t="0" r="36425" b="32397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хема с общим эмиттером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а практике довольно часто используются транзисторы, включенные по схеме с общим эмитте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этой схеме входным является ток базы, а выходным, как и в предыдущем случае, ток коллектор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нализ общего вида входных характеристик, представляющих собой зависимость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б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при фиксированных значениях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кэ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кэ=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то входная характеристика должна изображаться кривой, выходящей из начала .координат (рис. 5, кривая 1), так как пр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 = 0 Vбк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к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также равны нулю. Пр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кэ &lt; 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 = 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коллектор должен быть смещен в запорном направлении. Тогда пр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 = 0 Iб = - Iк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то есть начало входной характеристики располагается в области отрицательных значений тока (рис. 5, кривая 2). В целом ход зависимост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б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Vбэ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определяется эмиттерным током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( Iэ exp(q * Vбэ / k * T) - 1 )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, и по своей форме входные характеристики подобны вольтамперной характеристике р-n-перехода, смещенного в пропускном направлени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1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 перемещении вдоль выходной характеристики в сторону увеличения тока падение напряжения на коллекторном переходе Vkб в области малых значений Vкэ положительно, затем переходит через нуль, меняет знак на противоположный и непрерывно увеличивается. По мере увеличения Vкб, за счет расширения ООЗ коллекторного перехода уменьшается ширина базы транзистора и, следовательно, увеличивается a0 . Это приводит к существенному росту Во [см. (6)] и Iк [см. (8)] при увеличении Vкэ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нцип раб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ключ разомкнут, ток в цепи эмиттер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далее Э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сутствует. При этом в цепи коллектор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К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меется небольшой ток, называемый обратным токо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обозначаемый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Iкб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Этот ток очень мал, так как при обратном смещен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хода потенциальный барьер велик и непреодолим для основных носителей- дырок коллектора и свободных электронов базы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гирован примесью значительно сильнее, чем база. Вследствие этого неосновных носителей в коллекторе значительно меньше, чем в базе, и обратный ток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здаётся главным образом неосновными носителями: дырками, генерируемыми в базе в результате тепловых колебаний, и электронами, генерируемыми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Untitled-8"/>
          <p:cNvPicPr/>
          <p:nvPr/>
        </p:nvPicPr>
        <p:blipFill>
          <a:blip r:embed="rId1"/>
          <a:srcRect l="0" t="0" r="24279" b="24297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хема с общим коллектор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этой схеме включения так же, как и в предыдущем случае, управляющим (или входным) является ток базы, но роль выходного играет ток эмитте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скольку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0 ~ 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B0*&gt;&gt;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. Входной ток в данном случае практически не зависит от входного напряж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ыходные характеристики подобны характеристикам транзистора, включенного по схеме с общим эмиттером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анзистор, включенный по схеме с общим коллектором, обладает высоким сопротивлением на входе и малым на выходе. Это свойство транзистора используется для согласования схем с различными сопротивлениям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2"/>
          <p:cNvPicPr/>
          <p:nvPr/>
        </p:nvPicPr>
        <p:blipFill>
          <a:blip r:embed="rId1"/>
          <a:srcRect l="0" t="0" r="359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на высокой частот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охарактеризовать частотные свойства транзистора широко используются частотные характеристики; представляющие собой зависимость модуля коэффициента передач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 частоты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АЧХ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ф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Y(a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ФЧХ) (рис.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 увеличением частот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величивается сдвиг по фаз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бусловленный влиянием инерционных процессов при прохождении неосновных носителей через базу; и в конечном счете уменьшается коэффициен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 схеме с общим эмиттером величина коэффициента передачи тока базы в более сильной степени зависит от частоты, что приводит к уменьшению граничной частоты в схеме с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Уменьшение коэффициент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оисходит в результате того, что с повышением частоты ток коллектора отстает от тока эмиттер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3"/>
          <p:cNvPicPr/>
          <p:nvPr/>
        </p:nvPicPr>
        <p:blipFill>
          <a:blip r:embed="rId1"/>
          <a:srcRect l="0" t="0" r="46161" b="504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раметры транзистора как элемента цеп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280" y="1980720"/>
            <a:ext cx="889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зистор является управляемым элементом цепи. Если на входе транзистора нет управляющего сигнала, то он является пассивным элементом. Если к входу транзистора приложено переменное напряжение, то транзистор приобретает свойства активного элемента и отдаёт мощность нагрузке. В усилительном режиме на входе транзистора действует переменное напряжение, поэтому он является активным четырёхполюсни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еременные напряжения на переходах транзистора достаточно малы, токи в нём оказываются линейными функциями этих напряжений. Транзистор можно рассматривать как линейный четырёхполюсн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менные величины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i1, u1, i2, u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характеризующие электрические свойства транзистора, взаимно связаны. Если любые две из них заданы, то оставшиеся определяются однозначно по параметрам транзистора. За независимые переменные можно принять две любые из этих величин, а две другие - представить в виде функции независимых перемен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1"/>
          <p:cNvPicPr/>
          <p:nvPr/>
        </p:nvPicPr>
        <p:blipFill>
          <a:blip r:embed="rId1"/>
          <a:srcRect l="0" t="0" r="4103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ассматриваемог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p-n-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ранзистора принято отрицательное напряжени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-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кладывать вправо по оси абсцис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ходные характеристики, соответствующие отрицательным значениям напряжени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-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в правом верхнем квадранте идут почти горизонтально, но с небольшим подъем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2"/>
          <p:cNvPicPr/>
          <p:nvPr/>
        </p:nvPicPr>
        <p:blipFill>
          <a:blip r:embed="rId1"/>
          <a:srcRect l="0" t="0" r="4616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тенциальная диа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ная толщина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э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.е. расстояние между границами обедненных слоев, меньше толщины базы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Увеличение отрицательного напряжения на коллекторе расширяет обедненный слой коллекторного перехода и, следовательно, вызывает уменьшение эффективной толщины ба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явление носит названи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ффекта Эр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Модуляция толщины базы объясняет некоторый подъём выходных характеристик при увеличении отрицательного напряжени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-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оллекторный ток при этом увеличивается, так как меньшая часть дырок теряется в базе вследствие рекомбинации с электро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ринцип действия транзистора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 качестве усилител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анзис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полупроводниковый прибор, имеющий дв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а, расположенных в одном полупроводниковом монокристалле на расстоянии, значительно меньшем диффузионной длины неосновных носителей заряда. Н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ис. 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казано включение транзистора тип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схеме с общей баз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 называется эмиттерным переходом, а его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- эмиттером. Прав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-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 называется коллекторным переходом, а его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p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- коллектором. Заключенная между эмиттером и коллекторо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называется базой транзистора. Транзистор, у которого эмиттер и коллектор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а, а баз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p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а, называется транзисторо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n-p-n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06:55:43Z</dcterms:created>
  <dc:creator>Анна</dc:creator>
  <dc:description/>
  <dc:language>en-US</dc:language>
  <cp:lastModifiedBy>ZooM</cp:lastModifiedBy>
  <dcterms:modified xsi:type="dcterms:W3CDTF">2013-11-27T23:07:04Z</dcterms:modified>
  <cp:revision>30</cp:revision>
  <dc:subject/>
  <dc:title>Биполярные транзисторы.</dc:title>
</cp:coreProperties>
</file>