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5C2-AD40-481D-A559-AB2D49B0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BC8-E267-443E-9BE7-808BB631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7BB-4017-4137-B04F-28CA0BD6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712-4F0C-4B1B-9832-BA924D3D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20CE-B0A1-4E96-96FD-D580A146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5D33-9167-468E-8A1F-67C2E9F7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258C-F304-44AB-A312-996310F4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2AD2-C4AA-41EE-B544-E2BE169C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1270-7C8C-4F6D-B191-B2006509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5017-A293-4CCD-98F5-88C26BE6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CC8C-C360-4531-9CB8-791FB907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141-A361-45F3-85A4-0C0BA850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29C4-BFEF-44BF-BF80-AF2C4056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383F-BFFA-425A-A0C0-62DD319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7E06-97D7-46EA-B067-F68C40D6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1298-5297-47C6-AB81-4DDAF971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7A23-8FC4-4894-85C3-98AEE7A4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3A08-A252-4D26-914D-908B0C08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D0CD-8BEA-40E0-9300-1F470A0A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F791-A09C-450B-9A4A-5EC1BEED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3142-86D8-4BBA-ACB2-A88227FE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59B9-F7E3-4BC9-B2B6-80C700E9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6D1-4B61-45A3-94EE-69A07922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78B3-233E-45DA-861D-44A719C5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F757-4B57-4C09-87BE-18D89202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A93B-F53E-436C-BF72-0979A07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9FA9-9752-4A2C-AB51-66709AD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F975-DBF3-4641-98D2-5591D609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EA07-BC54-4AFE-A346-93F045E0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9294-695F-4227-9A93-4EDBA097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08AB6-11EC-42E4-9A1B-66749278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0388-61A5-4EBD-98D4-F7497941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0847B-3BED-4596-80D9-C598324B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D86-2D6F-4351-B721-0BF69074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276B-DC85-4BEA-A811-44D82347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12E42-960E-400C-978A-321D78C7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5BB9-9B66-49A8-B3D2-477D9346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1268B-C554-41DA-9D20-BC552CFC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8EE47-26A7-46D2-A155-F39DA00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919D-CE3E-4EDD-B722-BBA4866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7755-559B-4FC6-8F6A-CA2239D3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291BB-0D5E-448A-8930-8F359FFF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6672-2345-486E-BB3F-67BB5C4D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06D-5637-4679-B9AE-B635C09F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FE5-E10F-442C-9C2A-7BDF72F9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BD4-234E-4D65-B17C-F7A8918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BD4-3BB6-4F92-BA95-7DC18B59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C91-219C-458F-9924-0C5703B3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038-F076-423A-9784-3F9B6654DA1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1DE4-E7C3-4A73-83FE-19A4AE5C332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AA4A-97E2-4506-A5E1-1A2AC90CDB7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0680-16EC-488D-9E0B-D9E99AEE856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-6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1 команде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олубь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лухарь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тка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илин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усь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журавль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робей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рона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юк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иса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на вопросы 1 коман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олубь… (ворку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лухарь… (току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тка… (кряка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н… (уха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усь… (гогоч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журавль… (курлыч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робей… (чирика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рона… (карка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ндюк… (кулдыка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лиса… (лает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2 команде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дведь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за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нь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винья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лень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он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ар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узнечик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шмель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чела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на вопросы 2 коман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дведь… (рев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за… (бле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нь… (рж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винья… (хрюка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лень… (хорка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он… (труби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ар… (пищит, крыльями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узнечик… (стрекоч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шмель… (жужжит, гуди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чела… (жужжит, гуди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твертый гей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Конкурс капитанов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«Бегущие минутки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адание – за 1 минуту дать большее количество правильных ответ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для капитана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 команды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. У кого есть язык (язычок), но нет рт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. У кого есть горлышко, но нет шейки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. У кого есть зубы, но нет языка, рт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4. У кого есть ушко, но нет головы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. У кого есть кисти, но нет рук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6. У кого есть спинка, но нет животик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7. У кого есть ножки, но нет ручек и головы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. У кого есть ручки, но нет ножек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9. У кого есть нос (носик), но нет лиц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0. У кого есть лицо, но нет головы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1. У кого есть ребра, но нет позвоночник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2. У кого есть головка, но нет волос, ручек и ножек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3. У кого есть почки, но нет желудка и печени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для капитана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 команды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. У кого есть язык (язычок), но нет рта? (У колокола, у ботинка, у пламен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. У кого есть горлышко, но нет шейки? (У бутылки, у графин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. У кого есть зубы, но нет языка, рта? (У пилы, у расчески, у шестеренк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4. У кого есть ушко, но нет головы? (У иголк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. У кого есть кисти, но нет рук? (У винограда, у рябины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6. У кого есть спинка, но нет животика? (У стула, у дивана, у кресл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7. У кого есть ножки, но нет ручек и головы? (У стола, у табуреток, у диван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. У кого есть ручки, но нет ножек? (У дверей, у окон, у чашек и кружек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9. У кого есть нос (носик), но нет лица? (У корабля, у чайник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0. У кого есть лицо, но нет головы? (У ткани, у одежды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1. У кого есть ребра, но нет позвоночника? (У куба, у призмы, у пирамиды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2. У кого есть головка, но нет волос, ручек и ножек? (У спички, у булавки, у луковицы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3. У кого есть почки, но нет желудка и печени? (У дерева, у кустарник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для капитана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2 команды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. У кого есть косточки, но нет скелет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. Какие ноготки не царапаются и не знают маникюр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. Чьи глазки разноцветные и никогда не моргаю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4. У кого голос есть, а головы и тела не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. У кого нет ни кулаков, ни бицепсов, а любого силача с ног свали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6. Из какой чашечки невозможно пить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7. Кто без языка говорит и пое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. Кто бежит без ног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9. Кто без рук, без ног, а двери и окна открывает, деревья ломает, шапки срывает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0. Кто без крыльев летит, без ног бежит, без хвоста и плавников плыве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1. Кто без глаз, а слезами плаче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2. Кто не имеет ни легких, ни жабр, а дышит и вздыхае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3. У кого есть усы, но нет лиц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для капитана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2 команды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. У кого есть косточки, но нет скелета? (У абрикоса, у вишен, у сливы и пр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. Какие ноготки не царапаются и не знают маникюра? (Цветы ноготки, иначе – календул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. Чьи глазки разноцветные и никогда не моргают? (Цветы анютины глазк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4. У кого голос есть, а головы и тела нет? (У эх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. У кого нет ни кулаков, ни бицепсов, а любого силача с ног свалит? (У сн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6. Из какой чашечки невозможно пить? (Из коленной чашечк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7. Кто без языка говорит и поет? (Радио, магнитофон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. Кто бежит без ног? (Река, ручей, время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9. Кто без рук, без ног, а двери и окна открывает, деревья ломает, шапки срывает? (Ветер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0. Кто без крыльев летит, без ног бежит, без хвоста и плавников плывет? (Облак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1. Кто без глаз, а слезами плачет? (Туча, облако, сосулька, свеч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2. Кто не имеет ни легких, ни жабр, а дышит и вздыхает? (Тесто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3. У кого есть усы, но нет лица? (У клубники, огурцов, кабачков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ведение итогов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Награждение победителей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игр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развивать творческие способности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расширять знания по предмету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прививать познавательный интерес к предмету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расширять кругозор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учить работе в группа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До новых встреч!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ервый гейм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Приветствие команд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максимальная оценка 5 балов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торой гей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Разминка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«Хвостатая викторина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Задание – отгадайте животное по описанию его хво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1 команд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Этому замечательному прыгуну его хвост помогает держать равновеси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На хвосте этого представителя семейства кошачьих есть пушистая кисточка, а в ней острый когот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Его хвостик летом серый, а зимой белы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Ее хвост похож на хлыст, им здорово отгонять кусачих насекомы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. Нос пятачком, хвостик крючк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6. Ее пушистый рыжий хвостик весело мелькает между зеленых веток и служит своей хозяйке парашютом во время прыжков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 Про трусишку говорят, что он дрожит, точно ее хвостик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8. Он ловил хвостом рыбу в проруб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9. У этого великана нос намного длиннее, чем хвост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 Ее длинный пушистый хвост хорошо заметает следы своей хитрой хозяйки, особенно на снег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ы на вопросы 1 коман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. 1. Этому замечательному прыгуну его хвост помогает держать равновесие.                              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Кенгуру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На хвосте этого представителя семейства кошачьих есть пушистая кисточка, а в ней острый коготь.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Лев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Его хвостик летом серый, а зимой белый.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Заяц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Ее хвост похож на хлыст, им здорово отгонять кусачих насекомы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Корова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Нос пятачком, хвостик крючком.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Свинья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. Ее пушистый рыжий хвостик весело мелькает между зеленых веток и служит своей хозяйке парашютом во время прыжков.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Белка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. Про трусишку говорят, что он дрожит, точно ее хвостик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Овца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. Он ловил хвостом рыбу в проруби.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Волк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. У этого великана нос намного длиннее, чем хвост.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Слон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. Ее длинный пушистый хвост хорошо заметает следы своей хитрой хозяйки, особенно на снегу.                 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Лиса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2 команде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Для этого речного строителя его хвост является и рулем, и веслом, в нем же он накапливает жир на зиму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Это ночное животное спит, обмотав голову хвостом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Черные треугольнички на белой пушистой королевской мантии – это кончики их хвостов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 Это животное все легко узнают по черным кольцам на его хвосте, число которых колеблется от 5 до 10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5. Под хвостом этого животного есть железа, которая содержит на удивление противно пахнущую жидкость, которую он выпрыскивает, подняв хвост, на противника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6. Длинный голый хвост этого животного, напоминающего крысу, заменяет ему пятую лапу. Живя на деревьях, он постоянно пускает его в ход, обвивая цепкими кольцами то одну, то другую ветвь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7. Этот прыгучий зверек имеет голову зайца, туловище и передние лапы мыши, задние лапы – птицы, а хвост – льва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8. Одним взмахом хвоста она разбила золотое яичк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9. Хвост этих грызунов является отличным средством для добычи пищи из малодоступных мест: хвост просовывается, окунается в сладость, а потом обсасывается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0. Это колючее животное начинает трясти хвостом при встрече с неприятелем. Длинные иголки при этом отрываются и летят во все стороны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ы на вопросы 2 коман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Для этого речного строителя его хвост является и рулем, и веслом, в нем же он накапливает жир на зиму.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Бобр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Это ночное животное спит, обмотав голову хвостом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Лемур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Черные треугольнички на белой пушистой королевской мантии – это кончики их хвостов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Горностаи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 Это животное все легко узнают по черным кольцам на его хвосте, число которых колеблется от 5 до 10.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Енот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5. Под хвостом этого животного есть железа, которая содержит на удивление противно пахнущую жидкость, которую он выпрыскивает, подняв хвост, на противника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Скунс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6. Длинный голый хвост этого животного, напоминающего крысу, заменяет ему пятую лапу. Живя на деревьях, он постоянно пускает его в ход, обвивая цепкими кольцами то одну, то другую ветвь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Опоссум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7. Этот прыгучий зверек имеет голову зайца, туловище и передние лапы мыши, задние лапы – птицы, а хвост – льва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Тушканчик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8. Одним взмахом хвоста она разбила золотое яичко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Мышь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9. Хвост этих грызунов является отличным средством для добычи пищи из малодоступных мест: хвост просовывается, окунается в сладость, а потом обсасывается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Мыши и крысы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0. Это колючее животное начинает трясти хвостом при встрече с неприятелем. Длинные иголки при этом отрываются и летят во все стороны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Дикобраз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ретий гей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ctr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6600" spc="-1" strike="noStrike">
                <a:solidFill>
                  <a:srgbClr val="000000"/>
                </a:solidFill>
                <a:latin typeface="Constantia"/>
              </a:rPr>
              <a:t>«Кто как разгова-ривает»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дание – вспомните, как «разгова-ривают» следующие птицы и звери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34:07Z</dcterms:created>
  <dc:creator>Саша</dc:creator>
  <dc:description/>
  <dc:language>en-US</dc:language>
  <cp:lastModifiedBy>1</cp:lastModifiedBy>
  <dcterms:modified xsi:type="dcterms:W3CDTF">2013-12-25T01:25:00Z</dcterms:modified>
  <cp:revision>19</cp:revision>
  <dc:subject/>
  <dc:title>Игра «Счастливый случай»</dc:title>
</cp:coreProperties>
</file>