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36D-B969-47A7-A9C1-CE514BD3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9CE-95CF-4E26-98A5-67830BED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E81-5C05-4FB9-AACD-E5B0050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51C-1CB2-4640-B0DB-88EA3901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B970-F1BF-4711-95CB-6E5192FC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7FED-1D49-4950-A131-F7C5936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E370-F4DF-45FC-BCB8-CD2D8E5E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C677-BD5D-4869-8CD5-9EFFBDCE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5800-EE47-41C1-BDC9-78689E8B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0DCA-B582-4D3D-B29E-73CFBFF4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6BB3-9108-4DD2-BCD5-A9EC2B8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731-A6BE-43FD-8362-00183C5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83FE-DF12-45D1-8BAE-65BAC29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9393-1C52-4888-AA35-69C2223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9932-AA42-4E6F-BAD4-2B3A5C0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A85E-D9C9-4732-8750-6CEEFBE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CBF-2B9C-4FE0-AFA4-0DEC2A77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DA9A-C924-40D3-BD24-419D7CA9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71E1-8BB1-4899-8251-1EF2A85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65DD-0659-498D-9309-1CF7F4B6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9E42-29E3-456B-A0B7-06F0EABD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145A-5C06-4D44-8EF8-36DE4A51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684-C7FB-4432-96D1-3E8C6A6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5310-05EE-4CCB-9D11-E7EE44F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0F41-8EB4-496B-A118-275597C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7805-B34D-4A8E-95C6-CA9C307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BB90-7040-4DD0-ACFA-B9E24BC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DA2A-EEA1-41ED-AA2D-4B2019C4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5143-14A6-4153-B96E-96BE09FB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6A3E-345A-44EC-9E22-33DFF06A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A3DB-8B67-446B-A35F-A321F731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9786-130E-4FCA-912B-2FC5C18E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9EBF-62D1-4363-A75B-F249A05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FDE-7156-442D-96EC-295010C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C82A-9D63-4E4A-B45F-FC0B5969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78A5-DFD7-45D0-A8EE-C35DC6E4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929A-276D-460E-BCC6-F16913F7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9289-5550-4F54-8AB2-6CCA42E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42EA-990C-4633-B20F-D02B41D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1611-75F3-42D9-A2B9-1207A69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C269-092D-4C14-BF4F-C2C4D911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982F-7FFE-4278-89C1-E1EA0325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E6B1-2DC6-4BCE-B328-2CA120DF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43B-F528-4044-A2D1-4CE53C8C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2C1-A90F-4EDB-89BB-2C8BD8DF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ADE-F0D1-49A9-947F-403A2CF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72E-4D0C-4869-B122-7E0E598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164-97BB-41D2-A10D-D0A7E14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2A3-26FA-45A3-B43F-FEC5F8062DC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35F6-1B5A-41EB-8629-E19210CE8F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03F-CB14-48F0-A648-CA1898EE57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920-4DDF-434D-9A9B-23BF865D6B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-6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1 команде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олуб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лухар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тка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илин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ус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уравль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робей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рона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юк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иса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на вопросы 1 коман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олубь… (ворку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лухарь… (току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тка… (кря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н… (ух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усь… (гогоч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журавль… (курлыч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робей… (чири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рона… (кар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дюк… (кулдыкает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иса… (лает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2 команде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двед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за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винья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ен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н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ар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узнечик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мель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чела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на вопросы 2 коман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дведь… (рев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за… (бле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ь… (рж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винья… (хрюка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ень… (хорка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н… (труби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ар… (пищит, крыльями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узнечик… (стрекоче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мель… (жужжит, гуди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чела… (жужжит, гуди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твертый гейм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Конкурс капитанов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«Бегущие минутки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адание – за 1 минуту дать большее количество правильных ответ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язык (язычок), но нет рт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У кого есть горлышко, но нет шейки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У кого есть зубы, но нет языка, рт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есть ушко, но нет головы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есть кисти, но нет рук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У кого есть спинка, но нет животик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У кого есть ножки, но нет ручек и головы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У кого есть ручки, но нет ножек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У кого есть нос (носик), но нет лиц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У кого есть лицо, но нет головы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У кого есть ребра, но нет позвоночник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У кого есть головка, но нет волос, ручек и ножек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почки, но нет желудка и печени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язык (язычок), но нет рта? (У колокола, у ботинка, у пламен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У кого есть горлышко, но нет шейки? (У бутылки, у графин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У кого есть зубы, но нет языка, рта? (У пилы, у расчески, у шестерен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есть ушко, но нет головы? (У игол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есть кисти, но нет рук? (У винограда, у рябин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У кого есть спинка, но нет животика? (У стула, у дивана, у кресл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У кого есть ножки, но нет ручек и головы? (У стола, у табуреток, у диван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У кого есть ручки, но нет ножек? (У дверей, у окон, у чашек и кружек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У кого есть нос (носик), но нет лица? (У корабля, у чайник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У кого есть лицо, но нет головы? (У ткани, у одежд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У кого есть ребра, но нет позвоночника? (У куба, у призмы, у пирамид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У кого есть головка, но нет волос, ручек и ножек? (У спички, у булавки, у луковицы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почки, но нет желудка и печени? (У дерева, у кустарник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2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косточки, но нет скелет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Какие ноготки не царапаются и не знают маникюр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Чьи глазки разноцветные и никогда не моргаю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голос есть, а головы и тела н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нет ни кулаков, ни бицепсов, а любого силача с ног свали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Из какой чашечки невозможно пить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Кто без языка говорит и по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Кто бежит без ног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Кто без рук, без ног, а двери и окна открывает, деревья ломает, шапки срывает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Кто без крыльев летит, без ног бежит, без хвоста и плавников плыв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Кто без глаз, а слезами плач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Кто не имеет ни легких, ни жабр, а дышит и вздыхает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усы, но нет лица?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для капита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2 команды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 У кого есть косточки, но нет скелета? (У абрикоса, у вишен, у сливы и пр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Какие ноготки не царапаются и не знают маникюра? (Цветы ноготки, иначе – календул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. Чьи глазки разноцветные и никогда не моргают? (Цветы анютины глаз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. У кого голос есть, а головы и тела нет? (У эх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. У кого нет ни кулаков, ни бицепсов, а любого силача с ног свалит? (У сн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6. Из какой чашечки невозможно пить? (Из коленной чашеч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7. Кто без языка говорит и поет? (Радио, магнитофон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8. Кто бежит без ног? (Река, ручей, время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9. Кто без рук, без ног, а двери и окна открывает, деревья ломает, шапки срывает? (Ветер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0. Кто без крыльев летит, без ног бежит, без хвоста и плавников плывет? (Облак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1. Кто без глаз, а слезами плачет? (Туча, облако, сосулька, свеча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2. Кто не имеет ни легких, ни жабр, а дышит и вздыхает? (Тесто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3. У кого есть усы, но нет лица? (У клубники, огурцов, кабачков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ведение итого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Награждение победителей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игр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азвивать творческие способности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расширять знания по предмету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прививать познавательный интерес к предмету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расширять кругозор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учить работе в групп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До новых встреч!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вый гейм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Приветствие команд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максимальная оценка 5 балов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торой гей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Разминка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Хвостатая викторина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Задание – отгадайте животное по описанию его хво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1 команд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Этому замечательному прыгуну его хвост помогает держать равновеси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На хвосте этого представителя семейства кошачьих есть пушистая кисточка, а в ней острый кого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Его хвостик летом серый, а зимой белы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Ее хвост похож на хлыст, им здорово отгонять кусачих насекомы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Нос пятачком, хвостик крючк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Ее пушистый рыжий хвостик весело мелькает между зеленых веток и служит своей хозяйке парашютом во время прыжк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 Про трусишку говорят, что он дрожит, точно ее хвости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8. Он ловил хвостом рыбу в проруб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9. У этого великана нос намного длиннее, чем хвос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 Ее длинный пушистый хвост хорошо заметает следы своей хитрой хозяйки, особенно на снег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ы на вопросы 1 коман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. 1. Этому замечательному прыгуну его хвост помогает держать равновесие.             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Кенгуру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На хвосте этого представителя семейства кошачьих есть пушистая кисточка, а в ней острый коготь.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Лев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Его хвостик летом серый, а зимой белый.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Заяц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Ее хвост похож на хлыст, им здорово отгонять кусачих насекомы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Коров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Нос пятачком, хвостик крючком.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Свинья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 Ее пушистый рыжий хвостик весело мелькает между зеленых веток и служит своей хозяйке парашютом во время прыжков.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Белк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. Про трусишку говорят, что он дрожит, точно ее хвостик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Овц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 Он ловил хвостом рыбу в проруби.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Волк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. У этого великана нос намного длиннее, чем хвост.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Слон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 Ее длинный пушистый хвост хорошо заметает следы своей хитрой хозяйки, особенно на снегу.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(Лиса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2 команде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Для этого речного строителя его хвост является и рулем, и веслом, в нем же он накапливает жир на зиму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Это ночное животное спит, обмотав голову хвосто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Черные треугольнички на белой пушистой королевской мантии – это кончики их хвостов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Это животное все легко узнают по черным кольцам на его хвосте, число которых колеблется от 5 до 10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5. Под хвостом этого животного есть железа, которая содержит на удивление противно пахнущую жидкость, которую он выпрыскивает, подняв хвост, на противника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6. Длинный голый хвост этого животного, напоминающего крысу, заменяет ему пятую лапу. Живя на деревьях, он постоянно пускает его в ход, обвивая цепкими кольцами то одну, то другую ветвь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7. Этот прыгучий зверек имеет голову зайца, туловище и передние лапы мыши, задние лапы – птицы, а хвост – льва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8. Одним взмахом хвоста она разбила золотое яичк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9. Хвост этих грызунов является отличным средством для добычи пищи из малодоступных мест: хвост просовывается, окунается в сладость, а потом обсасывается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0. Это колючее животное начинает трясти хвостом при встрече с неприятелем. Длинные иголки при этом отрываются и летят во все стороны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ы на вопросы 2 коман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Для этого речного строителя его хвост является и рулем, и веслом, в нем же он накапливает жир на зиму.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Бобр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Это ночное животное спит, обмотав голову хвостом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Лемур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Черные треугольнички на белой пушистой королевской мантии – это кончики их хвостов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Горностаи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Это животное все легко узнают по черным кольцам на его хвосте, число которых колеблется от 5 до 10.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Енот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5. Под хвостом этого животного есть железа, которая содержит на удивление противно пахнущую жидкость, которую он выпрыскивает, подняв хвост, на противника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Скунс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6. Длинный голый хвост этого животного, напоминающего крысу, заменяет ему пятую лапу. Живя на деревьях, он постоянно пускает его в ход, обвивая цепкими кольцами то одну, то другую ветвь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Опоссум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7. Этот прыгучий зверек имеет голову зайца, туловище и передние лапы мыши, задние лапы – птицы, а хвост – льва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Тушканчик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8. Одним взмахом хвоста она разбила золотое яичко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Мышь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9. Хвост этих грызунов является отличным средством для добычи пищи из малодоступных мест: хвост просовывается, окунается в сладость, а потом обсасывается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Мыши и крысы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0. Это колючее животное начинает трясти хвостом при встрече с неприятелем. Длинные иголки при этом отрываются и летят во все стороны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(Дикобраз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тий гей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6600" spc="-1" strike="noStrike">
                <a:solidFill>
                  <a:srgbClr val="000000"/>
                </a:solidFill>
                <a:latin typeface="Constantia"/>
              </a:rPr>
              <a:t>«Кто как разгова-ривает»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дание – вспомните, как «разгова-ривают» следующие птицы и звери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34:07Z</dcterms:created>
  <dc:creator>Саша</dc:creator>
  <dc:description/>
  <dc:language>en-US</dc:language>
  <cp:lastModifiedBy>1</cp:lastModifiedBy>
  <dcterms:modified xsi:type="dcterms:W3CDTF">2013-12-25T01:25:00Z</dcterms:modified>
  <cp:revision>19</cp:revision>
  <dc:subject/>
  <dc:title>Игра «Счастливый случай»</dc:title>
</cp:coreProperties>
</file>