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366-76FA-41D8-B536-F5B8BD07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1F4-7A47-48C5-A2FE-6D869C2F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55D-43B6-4F3E-8F53-8DFFF2A4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96A-4A24-444F-992B-395013BD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7F76A-A71A-4807-831C-0C0DADEB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1257D-3513-4B28-8EB4-7FB0F2B8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83F12-2B45-4C51-BF1D-05D3D554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BF4C7-6459-47E1-9446-6EF5F5E0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EB79D-EF93-4C80-A7F4-F8D81D10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1E382-6432-4F19-99C1-9CD7662B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7509D-C7E6-4697-8929-95AE092A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41A-4023-49A8-84D9-764EF2AB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949D1-CCB8-48E9-B164-E65A974B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E3A64-DEC5-4DEC-90C9-CF8E03D5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E3603-0625-4ADB-9A24-BCE9B94A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DA94C-BAB4-4657-AF2E-FE5BB8E9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D79C4-035C-466B-9BCA-D6138BCD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B2F-9EE9-43FC-90E8-2E94226E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47D-D9F8-417A-8261-9B25C19D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7EF8-06AD-4787-BF58-906FBF19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5A5-7108-4937-BCEF-B6126BE1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7D90-BD90-47F4-A125-D8D5DB99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B9DC-A213-4A91-9DFD-459C85CD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A27-338F-49BF-A3DE-FE9DA9C1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0A67-2EED-414D-87FE-35EFD66DD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5B38-33A6-41AA-B617-1944479B8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Вредная и полезная еда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изова Кат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ирясова Св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удзиловская Васили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арамонова Даш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6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498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998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498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998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Все заменяется-и продукты тож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46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32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ПЛЮСЫ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рыхлители способны регулирова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слотность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36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МИНУСЫ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даются не во всех магазинах, тогда как сода есть всегда и везд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хое молоко долго хранится и не занимает много мест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нее жирное по сравнению с обычны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0000">
    <p:wheel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404640"/>
          <a:ext cx="8147160" cy="5735880"/>
        </p:xfrm>
        <a:graphic>
          <a:graphicData uri="http://schemas.openxmlformats.org/drawingml/2006/table">
            <a:tbl>
              <a:tblPr/>
              <a:tblGrid>
                <a:gridCol w="4073400"/>
                <a:gridCol w="4073760"/>
              </a:tblGrid>
              <a:tr h="20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ПЛЮС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монная кислота дешевый и практичный заменитель лимон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МИНУС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отличие от лимона лишена витаминов,антиоксидантов,минеральных вещест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ахарозаменители помогают избежать кариеса и снизить вес, уменьшить риск сахарного диабет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м, кто борется с лишним весом, не годятся заменители Сахара-ксилит и сорбит, обладающие сладким вкусом и немалой калорийностью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евые продукты альтернатива молочным продуктам, когда организм не усваивает лактозу или молочный белок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кус у всех соевых продуктов своеобразный, поэтому он понравится далеко не все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0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1062720" indent="-21240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ahoma"/>
              </a:rPr>
              <a:t>Теперь вы узнали какая еда вредная, а какая полезная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68360" y="2986200"/>
            <a:ext cx="5040360" cy="3762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3533760"/>
            <a:ext cx="836280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i="1" lang="en-US" sz="4000" spc="-1" strike="noStrike">
                <a:solidFill>
                  <a:srgbClr val="33cccc"/>
                </a:solidFill>
                <a:latin typeface="Tahoma"/>
              </a:rPr>
              <a:t>ЧИПС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Чипсы убийственно калорийны(в 100г.-до 500 ккал),сдобрены солью и другими пищевыми добавками, содержат концераген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2844720" y="5516280"/>
            <a:ext cx="8229600" cy="1981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24000" y="0"/>
            <a:ext cx="813564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йтинг самых вредных продуктов.</a:t>
            </a:r>
            <a:endParaRPr b="0" i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10000">
    <p:wheel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600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00c600"/>
                </a:solidFill>
                <a:latin typeface="Tahoma"/>
              </a:rPr>
              <a:t>СЛАДКАЯ ГАЗИРОВ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вероятно, но факт: в 2-хлитровой пластиковой бутылке растворены 30(!) кусочков рафинада. Сильно газированная вода, особенно холодная, способствует спазму пищевода и травмирует его, вызывая микроскопические кровоизлияния и разрывы слизистой оболо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634000" y="3191040"/>
            <a:ext cx="2067120" cy="1542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6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креплявшая зубы и десны, когда ее изготавливали из чикла-смолы центрально-американского дерева, вряд ли может считаться полезной теперь, когда ее делают из ПВА(поливинилацетатного пластика)с добавлением синтетических ароматизаторов, красителей и подсластити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90840" y="297648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изводят из отходов переработки рыбы, которые желируют и подкрашивают розовыми полосками. Кошки такое не едя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БОЛЕЗНИ СЕРДЦА И СОСУ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АБРИКО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держи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громное количеств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ета-каротина,из-за чего снижает риск инфаркта и инсуль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ЯБЛОКО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огат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лием, необходимы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дечной мышц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ЛОСОСЬ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стоящее хранилище витамина Е,стоящего на страже здоровья каждой клеточки серд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ЧЕСНОК_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держит аллицин, защищающий сердечно-сосудистую систе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920" y="0"/>
            <a:ext cx="75153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ЙТИНГ ЗДОРОВЫХ ПРОДУКТОВ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 advTm="10000">
    <p:wheel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en-US" sz="4400" spc="-1" strike="noStrike">
                <a:solidFill>
                  <a:srgbClr val="000099"/>
                </a:solidFill>
                <a:latin typeface="Tahoma"/>
              </a:rPr>
              <a:t>ОЖИР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АНАНАС_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дезь ферментов, способствующих сжиганию жи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АПУСТА_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ладает тем же действием благодаря тартроновой кисл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КАБАЧОК ЦУККИНИ-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язан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налогичным эффектом содержащимся в нем магнию и каротиноид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ahoma"/>
              </a:rPr>
              <a:t>УКРЕПЛЕНИЕ ИММУНИТЕ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АПЕЛЬСИНЫ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дезь витамина С.наиболее полезен апельсиновый сок. Витамина С больше в плодах среднего размера по сравнению с очень крупн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РЕПЧАТЫЙ ЛУК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го фитонциды обладают противовирусным действ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ГРИБЫ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щитное действие обеспечивает удачная комбинация цинка и селе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ahoma"/>
              </a:rPr>
              <a:t>БОРЬБА СО СТРЕССО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БАНАН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держит магний и природные эндорфины,способствующие восстановлению душевного равновес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ЕРСИК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счет неоцина смягчает стрессовые реак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ЛИСТЬЯ ЗЕЛЕНОГО САЛАТА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держащееся в них вещество лактофлавин помогает успокоить головную бо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4:27:40Z</dcterms:created>
  <dc:creator>сергей</dc:creator>
  <dc:description/>
  <dc:language>en-US</dc:language>
  <cp:lastModifiedBy>Vlad</cp:lastModifiedBy>
  <dcterms:modified xsi:type="dcterms:W3CDTF">2009-08-23T22:33:15Z</dcterms:modified>
  <cp:revision>4</cp:revision>
  <dc:subject/>
  <dc:title>Вредная  еда.</dc:title>
</cp:coreProperties>
</file>