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5202-B732-4409-998E-56D5BF335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C0FA-97CF-4D36-A537-8EC43411F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831B-2ABF-4CAF-8A5D-AD6343BF4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A773-7F63-4429-98ED-A426977BB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CFF8FF-F04E-4DEC-82EF-692139A35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9EDF99-BDC4-4F42-A811-5F54B5785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357BE7-B7E2-4AC4-A7FC-0543771ED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EED962-3BD5-4715-98DD-7F1E3A7C0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693F78-9296-4EFB-8823-FDEF74CB2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04E510-AB87-45DF-A09E-7FC11FBFB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175261-2C0E-41D4-B2D0-FA7935C9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5307-6FB0-403F-861D-7C81AF519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25E78E-9CA3-4FB8-8818-19D2537E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820D44-3F38-4705-ACC1-15B615D5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2CD2BC-1BDB-4FF5-A3CD-0CEC25495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9C3755-FF75-449F-9716-62E32E5D2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E95513-D98F-432F-9E61-2FF6760F7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4A15-4195-4D0A-A0C4-8214813CF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BAC3-3BBE-415C-B4BE-0E76831C7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8109-296B-4FA4-8D96-D9E0ACD64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4A61-B46F-4A5C-982A-508B3F038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F55E-1A51-445E-A320-62E823B9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C6C9-23DB-491E-BAED-1865E43D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26E4-2D57-4A71-AB99-1F63EC59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BB3BE-F0DC-49C1-81D2-6DE4BA623B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4A83B-F0C7-46AA-8630-EFDC9F92FD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Tahoma"/>
              </a:rPr>
              <a:t>Вредная и полезная еда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Авторы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изова Кат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ирясова Све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удзиловская Василис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арамонова Даш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6000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998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498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998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498"/>
                            </p:stCondLst>
                            <p:childTnLst>
                              <p:par>
                                <p:cTn id="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998"/>
                            </p:stCondLst>
                            <p:childTnLst>
                              <p:par>
                                <p:cTn id="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Все заменяется-и продукты тож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1905120"/>
          <a:ext cx="8229600" cy="41148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46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</a:t>
                      </a:r>
                      <a:r>
                        <a:rPr b="0" lang="en-US" sz="3200" spc="-1" strike="noStrike">
                          <a:solidFill>
                            <a:srgbClr val="00c600"/>
                          </a:solidFill>
                          <a:latin typeface="Tahoma"/>
                        </a:rPr>
                        <a:t>ПЛЮСЫ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азрыхлители способны регулировать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ислотность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</a:t>
                      </a:r>
                      <a:r>
                        <a:rPr b="0" lang="en-US" sz="3600" spc="-1" strike="noStrike">
                          <a:solidFill>
                            <a:srgbClr val="00c600"/>
                          </a:solidFill>
                          <a:latin typeface="Tahoma"/>
                        </a:rPr>
                        <a:t>МИНУСЫ.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одаются не во всех магазинах, тогда как сода есть всегда и везде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ухое молоко долго хранится и не занимает много места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нее жирное по сравнению с обычным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 advTm="10000">
    <p:wheel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768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0" dur="768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2" dur="768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4" dur="768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404640"/>
          <a:ext cx="8147160" cy="5735880"/>
        </p:xfrm>
        <a:graphic>
          <a:graphicData uri="http://schemas.openxmlformats.org/drawingml/2006/table">
            <a:tbl>
              <a:tblPr/>
              <a:tblGrid>
                <a:gridCol w="4073400"/>
                <a:gridCol w="4073760"/>
              </a:tblGrid>
              <a:tr h="202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c600"/>
                          </a:solidFill>
                          <a:latin typeface="Tahoma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c600"/>
                          </a:solidFill>
                          <a:latin typeface="Tahoma"/>
                        </a:rPr>
                        <a:t>ПЛЮСЫ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имонная кислота дешевый и практичный заменитель лимон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c600"/>
                          </a:solidFill>
                          <a:latin typeface="Tahoma"/>
                        </a:rPr>
                        <a:t>МИНУСЫ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 отличие от лимона лишена витаминов,антиоксидантов,минеральных веществ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5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ахарозаменители помогают избежать кариеса и снизить вес, уменьшить риск сахарного диабет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ем, кто борется с лишним весом, не годятся заменители Сахара-ксилит и сорбит, обладающие сладким вкусом и немалой калорийностью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5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евые продукты альтернатива молочным продуктам, когда организм не усваивает лактозу или молочный белок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кус у всех соевых продуктов своеобразный, поэтому он понравится далеко не всем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 advTm="10000"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40464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2" marL="1062720" indent="-21240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ahoma"/>
              </a:rPr>
              <a:t>Теперь вы узнали какая еда вредная, а какая полезная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268360" y="2986200"/>
            <a:ext cx="5040360" cy="37623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heel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95280" y="3533760"/>
            <a:ext cx="8362800" cy="33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0" i="1" lang="en-US" sz="4000" spc="-1" strike="noStrike">
                <a:solidFill>
                  <a:srgbClr val="33cccc"/>
                </a:solidFill>
                <a:latin typeface="Tahoma"/>
              </a:rPr>
              <a:t>ЧИПСЫ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Чипсы убийственно калорийны(в 100г.-до 500 ккал),сдобрены солью и другими пищевыми добавками, содержат концерагены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-2844720" y="5516280"/>
            <a:ext cx="8229600" cy="19810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324000" y="0"/>
            <a:ext cx="8135640" cy="28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ейтинг самых вредных продуктов.</a:t>
            </a:r>
            <a:endParaRPr b="0" i="1" lang="en-US" sz="1800" spc="1" strike="noStrike">
              <a:ln w="0">
                <a:noFill/>
              </a:ln>
              <a:solidFill>
                <a:srgbClr val="993366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 advTm="10000">
    <p:wheel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600"/>
                </a:solidFill>
                <a:latin typeface="Tahoma"/>
              </a:rPr>
              <a:t>      </a:t>
            </a:r>
            <a:r>
              <a:rPr b="0" lang="en-US" sz="4400" spc="-1" strike="noStrike">
                <a:solidFill>
                  <a:srgbClr val="00c600"/>
                </a:solidFill>
                <a:latin typeface="Tahoma"/>
              </a:rPr>
              <a:t>СЛАДКАЯ ГАЗИРОВК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евероятно, но факт: в 2-хлитровой пластиковой бутылке растворены 30(!) кусочков рафинада. Сильно газированная вода, особенно холодная, способствует спазму пищевода и травмирует его, вызывая микроскопические кровоизлияния и разрывы слизистой оболоч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634000" y="3191040"/>
            <a:ext cx="2067120" cy="15429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heel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60"/>
                            </p:stCondLst>
                            <p:childTnLst>
                              <p:par>
                                <p:cTn id="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креплявшая зубы и десны, когда ее изготавливали из чикла-смолы центрально-американского дерева, вряд ли может считаться полезной теперь, когда ее делают из ПВА(поливинилацетатного пластика)с добавлением синтетических ароматизаторов, красителей и подсластитил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590840" y="2976480"/>
            <a:ext cx="1771560" cy="19717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heel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изводят из отходов переработки рыбы, которые желируют и подкрашивают розовыми полосками. Кошки такое не едя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wheel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99"/>
                </a:solidFill>
                <a:latin typeface="Tahoma"/>
              </a:rPr>
              <a:t>БОЛЕЗНИ СЕРДЦА И СОСУД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АБРИКОС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держит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громное количество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ета-каротина,из-за чего снижает риск инфаркта и инсуль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ЯБЛОКО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огато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алием, необходимым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ердечной мышц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ЛОСОСЬ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стоящее хранилище витамина Е,стоящего на страже здоровья каждой клеточки сердц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ЧЕСНОК_-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держит аллицин, защищающий сердечно-сосудистую систем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26920" y="0"/>
            <a:ext cx="751536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РЕЙТИНГ ЗДОРОВЫХ ПРОДУКТОВ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 advTm="10000">
    <p:wheel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9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98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98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98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98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98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i="1" lang="en-US" sz="4400" spc="-1" strike="noStrike">
                <a:solidFill>
                  <a:srgbClr val="000099"/>
                </a:solidFill>
                <a:latin typeface="Tahoma"/>
              </a:rPr>
              <a:t>ОЖИРЕНИЕ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АНАНАС_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ладезь ферментов, способствующих сжиганию жир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КАПУСТА_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бладает тем же действием благодаря тартроновой кислот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КАБАЧОК ЦУККИНИ-о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язан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аналогичным эффектом содержащимся в нем магнию и каротиноида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wheel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ahoma"/>
              </a:rPr>
              <a:t>УКРЕПЛЕНИЕ ИММУНИТЕТ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АПЕЛЬСИНЫ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ладезь витамина С.наиболее полезен апельсиновый сок. Витамина С больше в плодах среднего размера по сравнению с очень крупны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РЕПЧАТЫЙ ЛУК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его фитонциды обладают противовирусным действие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ГРИБЫ-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ащитное действие обеспечивает удачная комбинация цинка и селе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wheel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6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6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67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ahoma"/>
              </a:rPr>
              <a:t>БОРЬБА СО СТРЕССОМ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БАНАН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одержит магний и природные эндорфины,способствующие восстановлению душевного равновес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ПЕРСИК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асчет неоцина смягчает стрессовые реакц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ЛИСТЬЯ ЗЕЛЕНОГО САЛАТА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одержащееся в них вещество лактофлавин помогает успокоить головную бол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wheel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0T14:27:40Z</dcterms:created>
  <dc:creator>сергей</dc:creator>
  <dc:description/>
  <dc:language>en-US</dc:language>
  <cp:lastModifiedBy>Vlad</cp:lastModifiedBy>
  <dcterms:modified xsi:type="dcterms:W3CDTF">2009-08-23T22:33:15Z</dcterms:modified>
  <cp:revision>4</cp:revision>
  <dc:subject/>
  <dc:title>Вредная  еда.</dc:title>
</cp:coreProperties>
</file>