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1F1-F130-43FF-958E-54927348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A12-8BBD-4A76-99C5-D1A64A7D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2BD-1460-4E86-BD34-DAE1238E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1D28-B924-48C6-BA39-6A756FB5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E7A1D-E725-4EC8-B4D2-909875E8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FA5FA-0EF7-43B3-AA03-1A7DB452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76095-3F68-4541-8BD6-1B0378D7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658B3-78FC-4A77-9D0A-9E621E3D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00D88-7913-45E0-866E-A3988417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E0967-B812-4058-923E-8569477B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A8924-4A11-4B10-B049-BC1F3DA9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DF88-C207-4FA3-9C5B-395B2899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01BA7-D2B7-497F-9784-F95F221B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FCDC4-220F-4E97-B763-ACD42BE2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07BBA-F2A7-4A5A-9182-92D622B0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BF194-6197-46CC-908F-10D3EF10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3BB82-6584-4DB9-AB83-7557D8CE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8BC-9505-44B5-88BF-3072E7D9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DFE-4F52-48ED-AFBF-1C5814AC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E9A0-24EB-49B0-AB3F-375872C9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992-3147-4BA6-87E6-2FE429BF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B3AF-C66D-4BD4-A8B8-E0D464A1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545-417A-4F74-BCE7-89CFA2C9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FA20-EAFC-4A04-B1D4-AA417020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C779-01B2-4625-8794-6AE59C464F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463A-D934-4D02-850C-9F330E070D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Вредная и полезная еда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вто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изова Кат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ирясова Св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удзиловская Васили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арамонова Даш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6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98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998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498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998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Все заменяется-и продукты тож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46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3200" spc="-1" strike="noStrike">
                          <a:solidFill>
                            <a:srgbClr val="00c600"/>
                          </a:solidFill>
                          <a:latin typeface="Tahoma"/>
                        </a:rPr>
                        <a:t>ПЛЮСЫ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рыхлители способны регулирова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ислотность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3600" spc="-1" strike="noStrike">
                          <a:solidFill>
                            <a:srgbClr val="00c600"/>
                          </a:solidFill>
                          <a:latin typeface="Tahoma"/>
                        </a:rPr>
                        <a:t>МИНУСЫ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даются не во всех магазинах, тогда как сода есть всегда и везд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хое молоко долго хранится и не занимает много мест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нее жирное по сравнению с обычны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0000">
    <p:wheel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768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768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404640"/>
          <a:ext cx="8147160" cy="5735880"/>
        </p:xfrm>
        <a:graphic>
          <a:graphicData uri="http://schemas.openxmlformats.org/drawingml/2006/table">
            <a:tbl>
              <a:tblPr/>
              <a:tblGrid>
                <a:gridCol w="4073400"/>
                <a:gridCol w="4073760"/>
              </a:tblGrid>
              <a:tr h="20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600"/>
                          </a:solidFill>
                          <a:latin typeface="Tahom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c600"/>
                          </a:solidFill>
                          <a:latin typeface="Tahoma"/>
                        </a:rPr>
                        <a:t>ПЛЮС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монная кислота дешевый и практичный заменитель лимон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c600"/>
                          </a:solidFill>
                          <a:latin typeface="Tahoma"/>
                        </a:rPr>
                        <a:t>МИНУС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отличие от лимона лишена витаминов,антиоксидантов,минеральных вещест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ахарозаменители помогают избежать кариеса и снизить вес, уменьшить риск сахарного диабет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м, кто борется с лишним весом, не годятся заменители Сахара-ксилит и сорбит, обладающие сладким вкусом и немалой калорийностью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евые продукты альтернатива молочным продуктам, когда организм не усваивает лактозу или молочный белок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кус у всех соевых продуктов своеобразный, поэтому он понравится далеко не все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0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2" marL="1062720" indent="-21240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Теперь вы узнали какая еда вредная, а какая полезная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68360" y="2986200"/>
            <a:ext cx="5040360" cy="3762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280" y="3533760"/>
            <a:ext cx="836280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i="1" lang="en-US" sz="4000" spc="-1" strike="noStrike">
                <a:solidFill>
                  <a:srgbClr val="33cccc"/>
                </a:solidFill>
                <a:latin typeface="Tahoma"/>
              </a:rPr>
              <a:t>ЧИПС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Чипсы убийственно калорийны(в 100г.-до 500 ккал),сдобрены солью и другими пищевыми добавками, содержат концераген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2844720" y="5516280"/>
            <a:ext cx="8229600" cy="1981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24000" y="0"/>
            <a:ext cx="813564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йтинг самых вредных продуктов.</a:t>
            </a:r>
            <a:endParaRPr b="0" i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10000">
    <p:wheel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00c600"/>
                </a:solidFill>
                <a:latin typeface="Tahoma"/>
              </a:rPr>
              <a:t>СЛАДКАЯ ГАЗИРОВ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вероятно, но факт: в 2-хлитровой пластиковой бутылке растворены 30(!) кусочков рафинада. Сильно газированная вода, особенно холодная, способствует спазму пищевода и травмирует его, вызывая микроскопические кровоизлияния и разрывы слизистой оболоч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634000" y="3191040"/>
            <a:ext cx="2067120" cy="1542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6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креплявшая зубы и десны, когда ее изготавливали из чикла-смолы центрально-американского дерева, вряд ли может считаться полезной теперь, когда ее делают из ПВА(поливинилацетатного пластика)с добавлением синтетических ароматизаторов, красителей и подсластити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90840" y="297648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изводят из отходов переработки рыбы, которые желируют и подкрашивают розовыми полосками. Кошки такое не едя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heel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БОЛЕЗНИ СЕРДЦА И СОСУ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АБРИКО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держи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громное количеств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ета-каротина,из-за чего снижает риск инфаркта и инсуль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ЯБЛОКО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гат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лием, необходимы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дечной мышц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ЛОСОСЬ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стоящее хранилище витамина Е,стоящего на страже здоровья каждой клеточки серд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ЧЕСНОК_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держит аллицин, защищающий сердечно-сосудистую систем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26920" y="0"/>
            <a:ext cx="751536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ЙТИНГ ЗДОРОВЫХ ПРОДУКТОВ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 advTm="10000">
    <p:wheel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98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en-US" sz="4400" spc="-1" strike="noStrike">
                <a:solidFill>
                  <a:srgbClr val="000099"/>
                </a:solidFill>
                <a:latin typeface="Tahoma"/>
              </a:rPr>
              <a:t>ОЖИРЕ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АНАНАС_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ладезь ферментов, способствующих сжиганию жи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КАПУСТА_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ладает тем же действием благодаря тартроновой кисло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КАБАЧОК ЦУККИНИ-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язан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налогичным эффектом содержащимся в нем магнию и каротиноид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heel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ahoma"/>
              </a:rPr>
              <a:t>УКРЕПЛЕНИЕ ИММУНИТЕ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АПЕЛЬСИНЫ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ладезь витамина С.наиболее полезен апельсиновый сок. Витамина С больше в плодах среднего размера по сравнению с очень крупны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РЕПЧАТЫЙ ЛУК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го фитонциды обладают противовирусным действи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ГРИБЫ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щитное действие обеспечивает удачная комбинация цинка и селе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heel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ahoma"/>
              </a:rPr>
              <a:t>БОРЬБА СО СТРЕССО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БАНАН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держит магний и природные эндорфины,способствующие восстановлению душевного равновес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ПЕРСИК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счет неоцина смягчает стрессовые реак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ЛИСТЬЯ ЗЕЛЕНОГО САЛАТА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держащееся в них вещество лактофлавин помогает успокоить головную бо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heel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4:27:40Z</dcterms:created>
  <dc:creator>сергей</dc:creator>
  <dc:description/>
  <dc:language>en-US</dc:language>
  <cp:lastModifiedBy>Vlad</cp:lastModifiedBy>
  <dcterms:modified xsi:type="dcterms:W3CDTF">2009-08-23T22:33:15Z</dcterms:modified>
  <cp:revision>4</cp:revision>
  <dc:subject/>
  <dc:title>Вредная  еда.</dc:title>
</cp:coreProperties>
</file>