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01C-9E3A-4093-B08F-039C2F2E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744-F2C1-47FF-905F-9F77EE29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BF8-90B8-4E39-BA77-D54D6D3B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BF2-05F6-4E92-A857-B31722C7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FC73-7FB2-4BD9-BCFE-C54F74FA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F99E-51A3-468B-9E2A-E36BEBC2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0D4E-A945-4474-A5C9-3705E62D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489B-527B-494D-A7D0-0CF30B1D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3976-8138-4530-828C-5AB17637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7512-747F-4466-A782-A3E29F7D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3FBC-1A48-40A5-8452-47643A4D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7D4-592D-47AA-9017-4C4BB3AC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48C6-B6F9-43DB-8F75-FB9CABF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2EAA-D0BD-42F1-AA5F-9171189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4395-78C6-4234-964B-90F7ACEC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DB26-22AE-44E6-A048-C6007729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22D6-5F08-48E4-870D-05C6F7E9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D29-C5AB-4D25-B893-0CB5CD6A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26F-33A0-4D3F-90D1-AEB20FC9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2C1-C37B-450B-B282-4D42E461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D91-4757-4947-92E9-62425327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113-5D72-4B6A-A33C-A4973970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99A-19F0-4B45-A0FB-7F5FF26F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AE9-6400-484B-B962-FD2F7D5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F287-2861-4F05-9B2F-5B61E68DC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5CE8-A3AB-47EF-97FC-67077B60E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200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Сочинение по картине В.М.Васнецова </a:t>
            </a:r>
            <a:br>
              <a:rPr sz="4400"/>
            </a:b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«Иван-царевич на Сером Волке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0000" y="5949720"/>
            <a:ext cx="518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тник Л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Из какой сказки эти слова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ушай меня, Иван-царевич, не бойся – час удачный, все сторожа спят. Увидишь в тереме окошко, на окошке стоит золотая клетка. А в клетке сидит Жар-птица, золотые зёрнышки клюёт. Хвост то раскроет, то закроет, то раскроет, то закроет. Ты птицу возьми, за пазуху положи, да смотри, клетки не трогай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3754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южеты русских народных сказок привлекали многих художников, но особенно много внимания уделял им в своём творчестве Виктор Михайлович Васнец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27640" y="620640"/>
            <a:ext cx="43210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71516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 мотивам русских народных сказок и былин В.М.Васнецов создаёт картин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3827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гаты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816360" cy="273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3280" y="1916280"/>
            <a:ext cx="4176720" cy="237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95840" y="5084640"/>
            <a:ext cx="36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итязь на распут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11640" y="907560"/>
            <a:ext cx="2881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и царевны подземного цар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ая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18472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24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А как называются эти картины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456000" cy="4753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345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Чем отличаются названия сказки и картины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азка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Иван-царевич и серый волк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ртина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Иван-царевич на Сером Волк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3738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2:14:41Z</dcterms:created>
  <dc:creator>Luda</dc:creator>
  <dc:description/>
  <dc:language>en-US</dc:language>
  <cp:lastModifiedBy>Учитель</cp:lastModifiedBy>
  <dcterms:modified xsi:type="dcterms:W3CDTF">2009-03-15T12:00:07Z</dcterms:modified>
  <cp:revision>7</cp:revision>
  <dc:subject/>
  <dc:title>Сочинение по картине В.М.Васнецова  «Иван-царевич на Сером Волке»</dc:title>
</cp:coreProperties>
</file>