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98B-A055-4C08-BBEF-520D8EDE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235-B26B-4CA5-939A-E934EE6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C46-88EF-437A-9BE2-247D08A6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C16-55AB-466B-B0DF-331A5DF3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A2F0-92BC-465E-B80D-649FF73D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D16-19AF-46FA-BE89-3150A759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51C3-304E-44A2-BB4F-89E2959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378-7F3B-4073-9C94-2BE88023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D634-568B-467A-AE8F-FB73CA05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CA0-95FE-432F-A05B-04BDFAC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77B-3925-45B0-8A02-8F83CBE5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FA9-7792-443A-A74D-D84E9F9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ABF-B89C-4BA8-AAC5-7286280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4E7-7C1B-4A74-B8E4-140D2E8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D2D-8986-45C5-A0E6-6E009DD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678F-BE52-4FEB-BBEB-720C8F98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0A74-4AF7-428C-840A-A9EF1995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32D-4EB5-4BC9-A3B2-562A1DF8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D95-C4BA-4983-9FA2-3F7116F9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CF7-D1B1-4C43-803A-85B884D6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F74-C527-4F41-A11C-D6B63109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035-731D-4628-A431-156408D7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280-8DA3-49B6-B710-D7C9459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124-E2F6-43FC-BF55-A597814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D49-DAC5-4B46-8B8B-1C2E829D8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F13-D9A2-431F-9FE3-AEFDC7F47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очинение по картине В.М.Васнецова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«Иван-царевич на Сером Волк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0000" y="5949720"/>
            <a:ext cx="518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тник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Из какой сказки эти слов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ушай меня, Иван-царевич, не бойся – час удачный, все сторожа спят. Увидишь в тереме окошко, на окошке стоит золотая клетка. А в клетке сидит Жар-птица, золотые зёрнышки клюёт. Хвост то раскроет, то закроет, то раскроет, то закроет. Ты птицу возьми, за пазуху положи, да смотри, клетки не трогай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3754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южеты русских народных сказок привлекали многих художников, но особенно много внимания уделял им в своём творчестве Виктор Михайлович Васне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21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7151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 мотивам русских народных сказок и былин В.М.Васнецов создаёт карти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3827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ы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816360" cy="273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4176720" cy="23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95840" y="508464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тязь на распут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11640" y="907560"/>
            <a:ext cx="288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и царевны подземного ц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а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18472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А как называются эти картины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456000" cy="475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ем отличаются названия сказки и картин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азк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и серый вол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ин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на Сером Волк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738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14:41Z</dcterms:created>
  <dc:creator>Luda</dc:creator>
  <dc:description/>
  <dc:language>en-US</dc:language>
  <cp:lastModifiedBy>Учитель</cp:lastModifiedBy>
  <dcterms:modified xsi:type="dcterms:W3CDTF">2009-03-15T12:00:07Z</dcterms:modified>
  <cp:revision>7</cp:revision>
  <dc:subject/>
  <dc:title>Сочинение по картине В.М.Васнецова  «Иван-царевич на Сером Волке»</dc:title>
</cp:coreProperties>
</file>