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13A-D18F-46D2-ABA1-02BB9C55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C3AA-1800-44D5-BE4D-A20D254C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52B0-B8EF-4DAC-AF88-908F5431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04B-C4C7-4AF1-A0A8-4C021A05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614A-3FF5-428A-8666-AFFC04C7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8CF7-A7FA-48FA-8D09-04DEAA32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C7B2-E61D-4A22-88D8-CC34C2EF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9C4D-F4AA-4328-AF05-565062CB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085C-1687-439D-BC55-6C91C6AA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BC6E-7EED-47C6-916E-F955B2CE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7642-B595-4FAB-BFA0-1E451D3A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6BB-7418-4344-B679-E46971C1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1EBC-6F5A-4B1A-9A85-DD8E591D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1AA2-BE36-41B6-82C6-AE4DB213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5520-A75A-44EF-BEFF-A958146A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71EF-888B-4BFB-B2B9-66A97F1E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0C93-2760-497D-A7C0-4F6C2A0A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6F3-54C2-42B8-B107-FFFFB66E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3919-8485-4F4D-A90F-DCCBC66F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84F-4E00-4012-9ED3-88E7BF4F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C83-3CCF-42E2-9322-6F56EC90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031-A738-42D4-9FC0-29BDF3A2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F7A-9C08-497A-88A8-37850735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58F-0716-4E66-A3EC-B7ACF72A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0DDD-A104-4F2F-9608-7DC59BCFC5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FCCA-846C-402A-ACD8-C9E90918B7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2007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Сочинение по картине В.М.Васнецова </a:t>
            </a:r>
            <a:br>
              <a:rPr sz="4400"/>
            </a:b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«Иван-царевич на Сером Волке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80000" y="5949720"/>
            <a:ext cx="5184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тник Л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Из какой сказки эти слова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ушай меня, Иван-царевич, не бойся – час удачный, все сторожа спят. Увидишь в тереме окошко, на окошке стоит золотая клетка. А в клетке сидит Жар-птица, золотые зёрнышки клюёт. Хвост то раскроет, то закроет, то раскроет, то закроет. Ты птицу возьми, за пазуху положи, да смотри, клетки не трогай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1052640"/>
            <a:ext cx="3754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южеты русских народных сказок привлекали многих художников, но особенно много внимания уделял им в своём творчестве Виктор Михайлович Васнец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427640" y="620640"/>
            <a:ext cx="43210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380520"/>
            <a:ext cx="771516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о мотивам русских народных сказок и былин В.М.Васнецов создаёт картин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3827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огатыр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816360" cy="273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43280" y="1916280"/>
            <a:ext cx="4176720" cy="2376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95840" y="5084640"/>
            <a:ext cx="36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итязь на распут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11640" y="907560"/>
            <a:ext cx="2881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и царевны подземного цар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ая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5184720" cy="3024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424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А как называются эти картины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456000" cy="4753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932360" y="1628640"/>
            <a:ext cx="3456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Чем отличаются названия сказки и картины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казка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Иван-царевич и серый волк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ртина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Иван-царевич на Сером Волк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3738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2:14:41Z</dcterms:created>
  <dc:creator>Luda</dc:creator>
  <dc:description/>
  <dc:language>en-US</dc:language>
  <cp:lastModifiedBy>Учитель</cp:lastModifiedBy>
  <dcterms:modified xsi:type="dcterms:W3CDTF">2009-03-15T12:00:07Z</dcterms:modified>
  <cp:revision>7</cp:revision>
  <dc:subject/>
  <dc:title>Сочинение по картине В.М.Васнецова  «Иван-царевич на Сером Волке»</dc:title>
</cp:coreProperties>
</file>