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9802-880F-43C9-8A21-94BE7A56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11A7-5573-4B6D-80E1-878757DB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356-54A6-47DC-8B26-25A8B6F2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151-5732-4077-A1DB-E3C6B850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28FB-2E8D-446C-85D1-C795FF84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1640-9BD3-4428-90E2-6B74C66E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663C-F175-4EB2-A02E-028A234B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5A70-673C-4D4B-A739-1D551550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4D5C-8CD4-49E2-ACB7-69F1A11B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8AA6-B07F-4F77-AA22-8E2F54AD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7A6B-AF12-448F-B8AC-CC98F167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7DF-61BE-4681-BC32-9F07E77C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1CF0-B524-4E19-9530-1F611BC2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5925-4AFA-44E7-86F1-2ADA7C8D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91A3-477B-48A8-98AA-151BD235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1A6D-D818-4996-82CB-0CB87EB6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4162-1EFC-4ACF-BA19-3B0B5B34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E11C-0C62-4C2D-8E31-540DD7EB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E7A-6B80-45BE-9BCA-E176A582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B5F-0B74-4B19-8D8D-887BE4C5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AB3-62EA-4221-B4E9-24035A92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85D-BF1C-44D4-B445-E603210F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BB2-7C43-4712-9276-F206897F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221-5862-4131-9A1E-8142EB49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eef961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eef961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99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99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9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99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48E0-34AA-4DD1-86A6-A6B6963A4ED9}" type="slidenum">
              <a:rPr b="0" lang="ru-RU" sz="1200" spc="-1" strike="noStrike">
                <a:solidFill>
                  <a:srgbClr val="99ff9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9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99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9ff99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0963-37DB-47F6-93C2-A18E7F539388}" type="slidenum">
              <a:rPr b="0" lang="ru-RU" sz="1200" spc="-1" strike="noStrike">
                <a:solidFill>
                  <a:srgbClr val="99ff9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1518840"/>
            <a:ext cx="7632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99"/>
                </a:solidFill>
                <a:latin typeface="Garamond"/>
              </a:rPr>
              <a:t>Выпуклость и вогнутость функции</a:t>
            </a:r>
            <a:endParaRPr b="0" lang="en-US" sz="38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4782960"/>
            <a:ext cx="457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3213000"/>
            <a:ext cx="59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резентация к уроку  по учебнику «Алгебра и начала анализа, 10-11»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од редакцией Ш.А.Алимова ,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§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53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478296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Автор презентации Бартош Наталья Владимировна,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учитель математики 587 гимназии г. Санкт-Петербурга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2920" y="277560"/>
            <a:ext cx="5545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99"/>
                </a:solidFill>
                <a:latin typeface="Garamond"/>
              </a:rPr>
              <a:t>Выпуклая      вниз</a:t>
            </a:r>
            <a:br>
              <a:rPr sz="2700"/>
            </a:br>
            <a:r>
              <a:rPr b="0" i="1" lang="en-US" sz="2700" spc="-1" strike="noStrike">
                <a:solidFill>
                  <a:srgbClr val="ffff99"/>
                </a:solidFill>
                <a:latin typeface="Garamond"/>
              </a:rPr>
              <a:t>(вогнутая кривая)</a:t>
            </a:r>
            <a:endParaRPr b="0" lang="en-US" sz="27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317664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Кривая называется </a:t>
            </a:r>
            <a:r>
              <a:rPr b="0" i="1" lang="en-US" sz="2200" spc="-1" strike="noStrike">
                <a:solidFill>
                  <a:srgbClr val="ffff99"/>
                </a:solidFill>
                <a:latin typeface="Arial"/>
              </a:rPr>
              <a:t>выпуклой  вниз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в точке х = а,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если  в некоторой окрестности этой точки </a:t>
            </a:r>
            <a:r>
              <a:rPr b="0" i="1" lang="en-US" sz="2200" spc="-1" strike="noStrike">
                <a:solidFill>
                  <a:srgbClr val="99ff99"/>
                </a:solidFill>
                <a:latin typeface="Arial"/>
              </a:rPr>
              <a:t>она расположена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99ff99"/>
                </a:solidFill>
                <a:uFillTx/>
                <a:latin typeface="Arial"/>
              </a:rPr>
              <a:t>над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ff99"/>
                </a:solidFill>
                <a:latin typeface="Arial"/>
              </a:rPr>
              <a:t>своей касательной</a:t>
            </a:r>
            <a:r>
              <a:rPr b="0" lang="en-US" sz="26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32000" y="2206440"/>
            <a:ext cx="352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26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5157720"/>
            <a:ext cx="375444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84800" y="2276280"/>
            <a:ext cx="0" cy="360036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35640" y="3141720"/>
            <a:ext cx="12952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06960" y="3141720"/>
            <a:ext cx="0" cy="2016000"/>
          </a:xfrm>
          <a:prstGeom prst="line">
            <a:avLst/>
          </a:prstGeom>
          <a:ln w="9360">
            <a:solidFill>
              <a:srgbClr val="99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89520" y="5180040"/>
            <a:ext cx="28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eef961"/>
                </a:solidFill>
                <a:latin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284800" y="2275920"/>
            <a:ext cx="151272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5"/>
                </a:moveTo>
                <a:arcTo wR="10800" hR="10800" stAng="-10798304" swAng="10649185"/>
                <a:lnTo>
                  <a:pt x="10800" y="10800"/>
                </a:lnTo>
                <a:close/>
              </a:path>
              <a:path fill="none" w="21600" h="21600">
                <a:moveTo>
                  <a:pt x="0" y="10795"/>
                </a:moveTo>
                <a:arcTo wR="10800" hR="10800" stAng="-10798304" swAng="10649185"/>
              </a:path>
            </a:pathLst>
          </a:cu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2920" y="277560"/>
            <a:ext cx="70563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Garamond"/>
              </a:rPr>
              <a:t>Кривая выпуклая вверх на интервале</a:t>
            </a:r>
            <a:br>
              <a:rPr sz="2800"/>
            </a:br>
            <a:r>
              <a:rPr b="0" i="1" lang="en-US" sz="2800" spc="-1" strike="noStrike">
                <a:solidFill>
                  <a:srgbClr val="ffff99"/>
                </a:solidFill>
                <a:latin typeface="Garamond"/>
              </a:rPr>
              <a:t>(выпуклая)</a:t>
            </a:r>
            <a:endParaRPr b="0" lang="en-US" sz="28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352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5229360"/>
            <a:ext cx="597708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835280" y="1844280"/>
            <a:ext cx="0" cy="360036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3280" y="52293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ef961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a  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           b</a:t>
            </a:r>
            <a:r>
              <a:rPr b="0" lang="ru-RU" sz="1800" spc="-1" strike="noStrike">
                <a:solidFill>
                  <a:srgbClr val="eef961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99ff99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9400" y="2352600"/>
            <a:ext cx="6050160" cy="426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36" y="1863"/>
                </a:moveTo>
                <a:arcTo wR="10800" hR="10800" stAng="-7449592" swAng="6677195"/>
                <a:lnTo>
                  <a:pt x="10800" y="10800"/>
                </a:lnTo>
                <a:close/>
              </a:path>
              <a:path fill="none" w="21600" h="21600">
                <a:moveTo>
                  <a:pt x="4736" y="1863"/>
                </a:moveTo>
                <a:arcTo wR="10800" hR="10800" stAng="-7449592" swAng="6677195"/>
              </a:path>
            </a:pathLst>
          </a:cu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95640" y="2708280"/>
            <a:ext cx="0" cy="2521080"/>
          </a:xfrm>
          <a:prstGeom prst="line">
            <a:avLst/>
          </a:prstGeom>
          <a:ln w="3240">
            <a:solidFill>
              <a:srgbClr val="99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0" y="3978360"/>
            <a:ext cx="0" cy="1251000"/>
          </a:xfrm>
          <a:prstGeom prst="line">
            <a:avLst/>
          </a:prstGeom>
          <a:ln w="3240">
            <a:solidFill>
              <a:srgbClr val="99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900000" y="1844280"/>
            <a:ext cx="6912000" cy="86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403280" y="1520640"/>
            <a:ext cx="2746440" cy="1657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2152800"/>
            <a:ext cx="5040360" cy="555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1844640"/>
            <a:ext cx="2952720" cy="2808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03280" y="277560"/>
            <a:ext cx="64087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Garamond"/>
              </a:rPr>
              <a:t>Кривая выпуклая вниз на интервале</a:t>
            </a:r>
            <a:br>
              <a:rPr sz="2800"/>
            </a:br>
            <a:r>
              <a:rPr b="0" i="1" lang="en-US" sz="2800" spc="-1" strike="noStrike">
                <a:solidFill>
                  <a:srgbClr val="ffff99"/>
                </a:solidFill>
                <a:latin typeface="Garamond"/>
              </a:rPr>
              <a:t>(вогнутая)</a:t>
            </a:r>
            <a:endParaRPr b="0" lang="en-US" sz="28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352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5229360"/>
            <a:ext cx="648180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835280" y="1844280"/>
            <a:ext cx="0" cy="360036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52293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eef961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a  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f961"/>
                </a:solidFill>
                <a:latin typeface="Times New Roman"/>
              </a:rPr>
              <a:t>    b</a:t>
            </a:r>
            <a:r>
              <a:rPr b="0" lang="ru-RU" sz="1800" spc="-1" strike="noStrike">
                <a:solidFill>
                  <a:srgbClr val="eef961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99ff99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 rot="265800">
            <a:off x="1073880" y="570240"/>
            <a:ext cx="6263640" cy="388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32" y="1935"/>
                </a:moveTo>
                <a:arcTo wR="10800" hR="10800" stAng="-7489700" swAng="7067715"/>
                <a:lnTo>
                  <a:pt x="10800" y="10800"/>
                </a:lnTo>
                <a:close/>
              </a:path>
              <a:path fill="none" w="21600" h="21600">
                <a:moveTo>
                  <a:pt x="4632" y="1935"/>
                </a:moveTo>
                <a:arcTo wR="10800" hR="10800" stAng="-7489700" swAng="7067715"/>
              </a:path>
            </a:pathLst>
          </a:cu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2924280"/>
            <a:ext cx="0" cy="2305080"/>
          </a:xfrm>
          <a:prstGeom prst="line">
            <a:avLst/>
          </a:prstGeom>
          <a:ln w="3240">
            <a:solidFill>
              <a:srgbClr val="99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3933720"/>
            <a:ext cx="0" cy="1292400"/>
          </a:xfrm>
          <a:prstGeom prst="line">
            <a:avLst/>
          </a:prstGeom>
          <a:ln w="3240">
            <a:solidFill>
              <a:srgbClr val="99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3789360"/>
            <a:ext cx="4032000" cy="1655640"/>
          </a:xfrm>
          <a:prstGeom prst="line">
            <a:avLst/>
          </a:prstGeom>
          <a:ln w="19080">
            <a:solidFill>
              <a:srgbClr val="cf14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4381560"/>
            <a:ext cx="6050160" cy="127080"/>
          </a:xfrm>
          <a:prstGeom prst="line">
            <a:avLst/>
          </a:prstGeom>
          <a:ln w="19080">
            <a:solidFill>
              <a:srgbClr val="cf14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059280" y="3499920"/>
            <a:ext cx="5257800" cy="1559160"/>
          </a:xfrm>
          <a:prstGeom prst="line">
            <a:avLst/>
          </a:prstGeom>
          <a:ln w="19080">
            <a:solidFill>
              <a:srgbClr val="cf14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643280" y="2707920"/>
            <a:ext cx="3673800" cy="2521080"/>
          </a:xfrm>
          <a:prstGeom prst="line">
            <a:avLst/>
          </a:prstGeom>
          <a:ln w="19080">
            <a:solidFill>
              <a:srgbClr val="cf14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280" y="1417680"/>
            <a:ext cx="771516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Garamond"/>
              </a:rPr>
              <a:t>Как найти интервалы выпуклости и вогнутости?</a:t>
            </a:r>
            <a:endParaRPr b="0" lang="en-US" sz="3600" spc="-1" strike="noStrike">
              <a:solidFill>
                <a:srgbClr val="ffff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3235" t="15851" r="0" b="0"/>
          <a:stretch/>
        </p:blipFill>
        <p:spPr>
          <a:xfrm>
            <a:off x="4033800" y="2637000"/>
            <a:ext cx="5076720" cy="3439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796000" y="407664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80280" y="361944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32640" y="316224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6520" y="48690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46846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7920" y="4791240"/>
            <a:ext cx="38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2444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График функции у = </a:t>
            </a:r>
            <a:r>
              <a:rPr b="0" lang="en-US" sz="2800" spc="-1" strike="noStrike">
                <a:solidFill>
                  <a:srgbClr val="eef961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 (х) – вогнутая кривая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2637000"/>
            <a:ext cx="287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Величина  углов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1,  </a:t>
            </a:r>
            <a:r>
              <a:rPr b="0" lang="el-GR" sz="24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2,  </a:t>
            </a:r>
            <a:r>
              <a:rPr b="0" lang="el-GR" sz="24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3…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растет,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увеличиваются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и тангенсы этих углов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2682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В точках М1, М2, М3… проведены касательные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5280" y="5649840"/>
            <a:ext cx="25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8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3235" t="15851" r="9651" b="0"/>
          <a:stretch/>
        </p:blipFill>
        <p:spPr>
          <a:xfrm>
            <a:off x="4573440" y="2924280"/>
            <a:ext cx="4570560" cy="3152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156360" y="422748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32800" y="380196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169400" y="339084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51440" y="497376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24720" y="479124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74320" y="4791240"/>
            <a:ext cx="38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2444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График функции у = </a:t>
            </a:r>
            <a:r>
              <a:rPr b="0" lang="en-US" sz="2800" spc="-1" strike="noStrike">
                <a:solidFill>
                  <a:srgbClr val="eef961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 (х) – вогнутая кривая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8110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В точках М1, М2, М3… проведены касательные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75280" y="5649840"/>
            <a:ext cx="25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000" spc="-1" strike="noStrike" baseline="-25000">
                <a:solidFill>
                  <a:srgbClr val="0033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4080" y="1316160"/>
            <a:ext cx="57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тангенсы  углов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1,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2,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3… </a:t>
            </a:r>
            <a:r>
              <a:rPr b="0" i="1" lang="ru-RU" sz="2000" spc="-1" strike="noStrike">
                <a:solidFill>
                  <a:srgbClr val="ffff99"/>
                </a:solidFill>
                <a:latin typeface="Arial"/>
              </a:rPr>
              <a:t>увеличиваются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2360" y="1814400"/>
            <a:ext cx="621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tg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= 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′(х) ,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следовательно, возрастает функция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′(х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720" y="284328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Если  функция возрастает, то ее производная положительна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366228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роизводная функции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′(х) – это   производная производной  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′(х))′ =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′′(х)   и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′′(х)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47912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Если график функции – вогнутая кривая, то вторая производная этой функции – положительна.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292720" y="57196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5f5f5f"/>
                </a:solidFill>
                <a:latin typeface="Arial"/>
              </a:rPr>
              <a:t>α</a:t>
            </a:r>
            <a:r>
              <a:rPr b="0" lang="ru-RU" sz="1800" spc="-1" strike="noStrike" baseline="-25000">
                <a:solidFill>
                  <a:srgbClr val="5f5f5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6200" y="276120"/>
            <a:ext cx="78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График функции у = </a:t>
            </a:r>
            <a:r>
              <a:rPr b="0" lang="en-US" sz="2800" spc="-1" strike="noStrike">
                <a:solidFill>
                  <a:srgbClr val="eef961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eef961"/>
                </a:solidFill>
                <a:latin typeface="Arial"/>
              </a:rPr>
              <a:t> (х) – выпуклая кривая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213372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tg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= 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′(х) ,  следовательно, убывает функция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′(х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6200" y="944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В точках М1, М2, … проведены касательные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3139920"/>
            <a:ext cx="43210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роизводная  функции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= f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′(х)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′(х))′ =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′′(х)   -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отрицательна, т.е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′′(х)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&lt; 0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10116" t="13711" r="0" b="0"/>
          <a:stretch/>
        </p:blipFill>
        <p:spPr>
          <a:xfrm>
            <a:off x="4572000" y="2908440"/>
            <a:ext cx="4572000" cy="3178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383520" y="404820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77400" y="3591000"/>
            <a:ext cx="4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04360" y="4978440"/>
            <a:ext cx="45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10480" y="4978440"/>
            <a:ext cx="45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α</a:t>
            </a:r>
            <a:r>
              <a:rPr b="0" lang="ru-RU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61920" y="5708520"/>
            <a:ext cx="25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00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9720" y="1514520"/>
            <a:ext cx="49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тангенсы  углов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1,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2,  </a:t>
            </a:r>
            <a:r>
              <a:rPr b="0" lang="el-GR" sz="2000" spc="-1" strike="noStrike">
                <a:solidFill>
                  <a:srgbClr val="99ff99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3… </a:t>
            </a:r>
            <a:r>
              <a:rPr b="0" i="1" lang="ru-RU" sz="2000" spc="-1" strike="noStrike">
                <a:solidFill>
                  <a:srgbClr val="ffff99"/>
                </a:solidFill>
                <a:latin typeface="Arial"/>
              </a:rPr>
              <a:t>убывают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4529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Если график функции – выпуклая кривая, то вторая производная этой функции – отрицательна.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Если вторая производная функции  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у = </a:t>
            </a: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 (х) 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на данном интервале положительна, то кривая вогнута   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99ff99"/>
                </a:solidFill>
                <a:latin typeface="Arial"/>
              </a:rPr>
              <a:t>а если отрицательна – выпукла в этом промежутке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Точки,  в которых выпуклость 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меняется на вогнутость или наоборот,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называются </a:t>
            </a:r>
            <a:r>
              <a:rPr b="0" lang="en-US" sz="2400" spc="-1" strike="noStrike">
                <a:solidFill>
                  <a:srgbClr val="eef961"/>
                </a:solidFill>
                <a:latin typeface="Arial"/>
              </a:rPr>
              <a:t>точками перегиба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Garamond"/>
              </a:rPr>
              <a:t>Правило нахождения интервалов 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Garamond"/>
              </a:rPr>
              <a:t>выпуклости и вогнутости графика функции:</a:t>
            </a:r>
            <a:endParaRPr b="0" lang="en-US" sz="28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0004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Найти: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Вторую производную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Точки,  в которых она равна нулю или не существует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Интервалы, на которые область определения разбивается этими точками 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Знаки второй производной в каждом интервале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Если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'‘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х)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0, то кривая выпукла,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если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'‘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х)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0 – вогнута.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2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45440" y="254304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Вариант 1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40464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3130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x³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y = e 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342108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y = ln (x² +1)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13190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Построить график функции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50520" y="252576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Вариант 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Исследование функции с помощью второй производной</a:t>
            </a:r>
            <a:endParaRPr b="0" lang="en-US" sz="24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338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754280" y="1417680"/>
            <a:ext cx="58420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Интервалы выпуклости: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-3, 0) и  (2, 5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Интервалы вогнутости: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-∞, -3), (0, 2) и  (5, +∞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70200" y="3930480"/>
            <a:ext cx="3743280" cy="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986920" y="3894840"/>
            <a:ext cx="7164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2483640" y="3894840"/>
            <a:ext cx="7164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526560" y="3894840"/>
            <a:ext cx="7164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211640" y="3894120"/>
            <a:ext cx="712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38000" y="4389480"/>
            <a:ext cx="4327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0920" y="4390920"/>
            <a:ext cx="4327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041280" y="4190400"/>
            <a:ext cx="4327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625280" y="4091400"/>
            <a:ext cx="43308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852200" y="4190400"/>
            <a:ext cx="432720" cy="39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70160" y="4051440"/>
            <a:ext cx="3814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-3     0       2         5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72560" y="4843440"/>
            <a:ext cx="51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х = -3, х = 0, х = 2  х = 5 – точки перегиба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58320" y="3429000"/>
            <a:ext cx="4100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+         -      +         -          +               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f‘‘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324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График функции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у =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(х) –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огнутая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кривая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22560" y="549360"/>
            <a:ext cx="3529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График функции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у =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(х) –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"/>
              </a:rPr>
              <a:t>выпуклая 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кривая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350028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2720" y="346392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24000" y="3317760"/>
            <a:ext cx="6984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29080" y="350028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54920" y="339084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6720" y="3317760"/>
            <a:ext cx="71280" cy="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54560" y="3427560"/>
            <a:ext cx="71640" cy="7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366560" y="3574080"/>
            <a:ext cx="151380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8" y="8079"/>
                </a:moveTo>
                <a:arcTo wR="10800" hR="10800" stAng="-9924430" swAng="9274898"/>
                <a:lnTo>
                  <a:pt x="10800" y="10800"/>
                </a:lnTo>
                <a:close/>
              </a:path>
              <a:path fill="none" w="21600" h="21600">
                <a:moveTo>
                  <a:pt x="348" y="8079"/>
                </a:moveTo>
                <a:arcTo wR="10800" hR="10800" stAng="-9924430" swAng="9274898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38120" y="4006800"/>
            <a:ext cx="151200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8" y="7968"/>
                </a:moveTo>
                <a:arcTo wR="10800" hR="10800" stAng="-9887774" swAng="8201557"/>
                <a:lnTo>
                  <a:pt x="10800" y="10800"/>
                </a:lnTo>
                <a:close/>
              </a:path>
              <a:path fill="none" w="21600" h="21600">
                <a:moveTo>
                  <a:pt x="378" y="7968"/>
                </a:moveTo>
                <a:arcTo wR="10800" hR="10800" stAng="-9887774" swAng="8201557"/>
              </a:path>
            </a:pathLst>
          </a:cu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6440" y="2130480"/>
            <a:ext cx="98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«+»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812000" y="2421000"/>
            <a:ext cx="107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«-»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69 C -0.00156 0.02777 0.00208 0.03796 -0.01024 0.05439 C -0.01354 0.06736 -0.01389 0.0618 -0.01163 0.07106 C -0.01163 0.07199 -0.01441 0.11018 -0.01441 0.12477 E">
                                      <p:cBhvr>
                                        <p:cTn id="610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22222E-006 C 0.01198 0.00533 0.00764 0.02338 0.00417 0.03704 C 0.00521 0.07547 0.00695 0.10463 0.00695 0.1426 E">
                                      <p:cBhvr>
                                        <p:cTn id="616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0.00833 C 0.00156 0.0213 0.01146 0.09213 -0.0066 0.10833 C -0.01215 0.13079 -0.04167 0.1169 -0.05938 0.11759 C -0.06476 0.12222 -0.06354 0.11898 -0.06354 0.12685 E">
                                      <p:cBhvr>
                                        <p:cTn id="622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7407E-006 C 0.00538 0.00717 0.00538 0.01041 0.00695 0.02037 C 0.00642 0.04375 0.00747 0.06736 0.00556 0.09074 C 0.00521 0.09514 -2.22222E-006 0.10185 -2.22222E-006 0.10185 C 0.00052 0.1074 -0.00121 0.11412 0.00139 0.11852 C 0.00208 0.11967 0.01667 0.12222 0.01945 0.12222 E">
                                      <p:cBhvr>
                                        <p:cTn id="628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5.18519E-006 C -0.00052 0.02036 -0.00069 0.04073 -0.00139 0.0611 C -0.00139 0.06157 -0.00451 0.08773 -0.00139 0.09259 C 0.00017 0.0949 0.0033 0.09374 0.00556 0.09444 C 0.0099 0.09837 0.01441 0.09884 0.01667 0.10555 C 0.01788 0.10902 0.01944 0.11666 0.01944 0.11666 C 0.01997 0.15439 0.02674 0.39259 0.01944 0.39259 E">
                                      <p:cBhvr>
                                        <p:cTn id="658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C -0.00052 0.00371 -0.00052 0.00764 -0.00139 0.01111 C -0.00191 0.0132 -0.00399 0.01435 -0.00417 0.01667 C -0.00434 0.01829 -0.00191 0.02755 -0.00139 0.02963 C -0.00174 0.03797 -0.00226 0.07685 -0.00556 0.08889 C -0.00608 0.09074 -0.00833 0.09051 -0.00972 0.09074 C -0.02136 0.0919 -0.03281 0.0919 -0.04445 0.0926 C -0.05104 0.10556 -0.04479 0.10324 -0.06111 0.10556 C -0.0625 0.10625 -0.06424 0.10602 -0.06528 0.10741 C -0.06632 0.1088 -0.06597 0.11111 -0.06667 0.11297 C -0.06892 0.11922 -0.06945 0.11852 -0.07361 0.12222 C -0.07778 0.13889 -0.0717 0.15718 -0.07917 0.17222 C -0.08004 0.20533 -0.07396 0.22084 -0.08889 0.24074 C -0.09097 0.24908 -0.09375 0.25648 -0.09583 0.26482 C -0.09497 0.31135 -0.09306 0.35741 -0.09306 0.40371 E">
                                      <p:cBhvr>
                                        <p:cTn id="664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18519E-006 C 0.00295 0.01158 0.00052 0.03056 0.00556 0.04075 C 0.0092 0.04792 0.00781 0.04422 0.00972 0.05186 C 0.00781 0.08982 0.01389 0.07663 -0.01111 0.07964 C -0.01962 0.08334 -0.02413 0.08913 -0.03194 0.0926 C -0.03715 0.10279 -0.04427 0.10857 -0.04722 0.12038 C -0.04774 0.13033 -0.04705 0.14029 -0.04861 0.15001 C -0.0493 0.15441 -0.05226 0.15741 -0.05417 0.16112 C -0.05503 0.16297 -0.05694 0.16667 -0.05694 0.16667 C -0.06302 0.19908 -0.05399 0.22454 -0.06944 0.25186 C -0.06996 0.25417 -0.07222 0.26274 -0.07222 0.26482 C -0.07187 0.27593 -0.06944 0.29816 -0.06944 0.29816 C -0.06996 0.30441 -0.07014 0.31066 -0.07083 0.31667 C -0.07101 0.31853 -0.07222 0.32038 -0.07222 0.32223 C -0.07222 0.32917 -0.06823 0.3345 -0.06667 0.34075 C -0.06719 0.3507 -0.06632 0.36066 -0.06805 0.37038 C -0.0684 0.37223 -0.07187 0.37038 -0.07222 0.37223 C -0.07292 0.37593 -0.07153 0.37964 -0.07083 0.38334 C -0.07048 0.38519 -0.06944 0.3889 -0.06944 0.3889 E">
                                      <p:cBhvr>
                                        <p:cTn id="670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Найти интервалы выпуклости и вогнутости и точки перегиба</a:t>
            </a:r>
            <a:endParaRPr b="0" lang="en-US" sz="24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3672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ариант 1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у = х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³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- 12х + 4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29200" y="1699920"/>
            <a:ext cx="40384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ариант 2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у = ¼ х</a:t>
            </a:r>
            <a:r>
              <a:rPr b="0" lang="ru-RU" sz="2000" spc="-1" strike="noStrike" baseline="30000">
                <a:solidFill>
                  <a:srgbClr val="99ff99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– 3/2 х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²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23860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Проверка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Вариант 1</a:t>
            </a:r>
            <a:endParaRPr b="0" lang="en-US" sz="24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1359000"/>
            <a:ext cx="2879640" cy="33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у = х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³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- 12х + 4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х – любое число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f'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х) = 3х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²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- 1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f''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х) = 6х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6х = 0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х = 0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446360" y="836280"/>
            <a:ext cx="3870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Интервалы выпуклости: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-∞, 0)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Интервалы вогнутости: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(0, +∞)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41840" y="405144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869080" y="4021200"/>
            <a:ext cx="712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522480" y="3802680"/>
            <a:ext cx="43272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 rot="10447800">
            <a:off x="5117760" y="4314600"/>
            <a:ext cx="4309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9" y="7556"/>
                </a:moveTo>
                <a:arcTo wR="10800" hR="10800" stAng="-9751109" swAng="7987480"/>
                <a:lnTo>
                  <a:pt x="10800" y="10800"/>
                </a:lnTo>
                <a:close/>
              </a:path>
              <a:path fill="none" w="21600" h="21600">
                <a:moveTo>
                  <a:pt x="499" y="7556"/>
                </a:moveTo>
                <a:arcTo wR="10800" hR="10800" stAng="-9751109" swAng="798748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30720" y="3540240"/>
            <a:ext cx="282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-            +               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‘‘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88440" y="4092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0                  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43840" y="5235480"/>
            <a:ext cx="282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х = 0 – точка перегиба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8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60120" y="498240"/>
            <a:ext cx="2530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Проверка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Garamond"/>
              </a:rPr>
              <a:t>Вариант 2</a:t>
            </a:r>
            <a:endParaRPr b="0" lang="en-US" sz="24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2879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у = ¼ х</a:t>
            </a:r>
            <a:r>
              <a:rPr b="0" lang="ru-RU" sz="2000" spc="-1" strike="noStrike" baseline="30000">
                <a:solidFill>
                  <a:srgbClr val="99ff99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– </a:t>
            </a:r>
            <a:r>
              <a:rPr b="0" lang="ru-RU" sz="1500" spc="-1" strike="noStrike">
                <a:solidFill>
                  <a:srgbClr val="99ff99"/>
                </a:solidFill>
                <a:latin typeface="Arial"/>
              </a:rPr>
              <a:t>3/2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х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²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х – любое число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'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х) = х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³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- 3х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''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(х) = 3х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²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- 3 =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3(х – 1)(х + 1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х = 1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х = -1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00720" y="1417320"/>
            <a:ext cx="4186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Интервалы выпуклости: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(-1, 1)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Интервалы вогнутости: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(-∞, -1) и  (1, +∞)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+          -           +       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f‘‘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99ff99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99ff99"/>
                </a:solidFill>
                <a:latin typeface="Arial"/>
              </a:rPr>
              <a:t>-</a:t>
            </a:r>
            <a:r>
              <a:rPr b="0" lang="ru-RU" sz="1700" spc="-1" strike="noStrike">
                <a:solidFill>
                  <a:srgbClr val="99ff99"/>
                </a:solidFill>
                <a:latin typeface="Arial"/>
              </a:rPr>
              <a:t>1              1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            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99ff99"/>
                </a:solidFill>
                <a:latin typeface="Arial"/>
              </a:rPr>
              <a:t>х = 1 и х = -1   – точки перегиба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41840" y="3952800"/>
            <a:ext cx="3314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5904000" y="3916440"/>
            <a:ext cx="712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290720" y="3856680"/>
            <a:ext cx="43308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 rot="10447800">
            <a:off x="6143400" y="4217760"/>
            <a:ext cx="4309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9" y="7556"/>
                </a:moveTo>
                <a:arcTo wR="10800" hR="10800" stAng="-9751109" swAng="7987480"/>
                <a:lnTo>
                  <a:pt x="10800" y="10800"/>
                </a:lnTo>
                <a:close/>
              </a:path>
              <a:path fill="none" w="21600" h="21600">
                <a:moveTo>
                  <a:pt x="499" y="7556"/>
                </a:moveTo>
                <a:arcTo wR="10800" hR="10800" stAng="-9751109" swAng="798748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6837480" y="3916440"/>
            <a:ext cx="712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985640" y="3856680"/>
            <a:ext cx="43308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3" y="6477"/>
                </a:moveTo>
                <a:arcTo wR="10800" hR="10800" stAng="-9384105" swAng="8095685"/>
                <a:lnTo>
                  <a:pt x="10800" y="10800"/>
                </a:lnTo>
                <a:close/>
              </a:path>
              <a:path fill="none" w="21600" h="21600">
                <a:moveTo>
                  <a:pt x="903" y="6477"/>
                </a:moveTo>
                <a:arcTo wR="10800" hR="10800" stAng="-9384105" swAng="8095685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1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1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1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98756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Garamond"/>
              </a:rPr>
              <a:t>Спасибо за работу</a:t>
            </a:r>
            <a:br>
              <a:rPr sz="4200"/>
            </a:br>
            <a:r>
              <a:rPr b="0" lang="en-US" sz="4200" spc="-1" strike="noStrike">
                <a:solidFill>
                  <a:srgbClr val="ffff99"/>
                </a:solidFill>
                <a:latin typeface="Garamond"/>
              </a:rPr>
              <a:t>Успехов!</a:t>
            </a:r>
            <a:endParaRPr b="0" lang="en-US" sz="4200" spc="-1" strike="noStrike">
              <a:solidFill>
                <a:srgbClr val="ffff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14438" b="31737"/>
          <a:stretch/>
        </p:blipFill>
        <p:spPr>
          <a:xfrm>
            <a:off x="1979640" y="1844640"/>
            <a:ext cx="5543640" cy="4122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5640" y="620640"/>
            <a:ext cx="33116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x³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9ff99"/>
                </a:solidFill>
                <a:latin typeface="Arial"/>
              </a:rPr>
              <a:t>y = e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0" r="0" b="35340"/>
          <a:stretch/>
        </p:blipFill>
        <p:spPr>
          <a:xfrm>
            <a:off x="900000" y="1413000"/>
            <a:ext cx="7309080" cy="4144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2588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y = ln (x² +1)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60440"/>
            <a:ext cx="4427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Дана функция у = </a:t>
            </a:r>
            <a:r>
              <a:rPr b="0" lang="en-US" sz="2500" spc="-1" strike="noStrike">
                <a:solidFill>
                  <a:srgbClr val="ffff99"/>
                </a:solidFill>
                <a:latin typeface="Garamond"/>
              </a:rPr>
              <a:t>f</a:t>
            </a: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99"/>
                </a:solidFill>
                <a:latin typeface="Garamond"/>
              </a:rPr>
              <a:t>(x</a:t>
            </a: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)</a:t>
            </a:r>
            <a:endParaRPr b="0" lang="en-US" sz="25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4037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На интервале (а, b)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функция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у =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(x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непрерывна и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дифференцируема,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ричем  </a:t>
            </a:r>
            <a:r>
              <a:rPr b="1" lang="ru-RU" sz="1800" spc="-1" strike="noStrike">
                <a:solidFill>
                  <a:srgbClr val="99ff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'(x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остройте эскиз графика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функции 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у =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(x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   интервале (а, b)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003640" y="1600200"/>
            <a:ext cx="0" cy="45259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37000" y="5229360"/>
            <a:ext cx="4038840" cy="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5322960"/>
            <a:ext cx="33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а  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 b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5229360"/>
            <a:ext cx="0" cy="936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44000" y="5229360"/>
            <a:ext cx="0" cy="936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19640" y="1989000"/>
            <a:ext cx="3097440" cy="27352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965240"/>
            <a:ext cx="3097440" cy="2759040"/>
          </a:xfrm>
          <a:custGeom>
            <a:avLst/>
            <a:gdLst/>
            <a:ahLst/>
            <a:rect l="l" t="t" r="r" b="b"/>
            <a:pathLst>
              <a:path w="1951" h="1738">
                <a:moveTo>
                  <a:pt x="0" y="1738"/>
                </a:moveTo>
                <a:cubicBezTo>
                  <a:pt x="26" y="1647"/>
                  <a:pt x="53" y="1557"/>
                  <a:pt x="91" y="1466"/>
                </a:cubicBezTo>
                <a:cubicBezTo>
                  <a:pt x="129" y="1375"/>
                  <a:pt x="167" y="1285"/>
                  <a:pt x="227" y="1194"/>
                </a:cubicBezTo>
                <a:cubicBezTo>
                  <a:pt x="287" y="1103"/>
                  <a:pt x="363" y="1013"/>
                  <a:pt x="454" y="922"/>
                </a:cubicBezTo>
                <a:cubicBezTo>
                  <a:pt x="545" y="831"/>
                  <a:pt x="635" y="756"/>
                  <a:pt x="771" y="650"/>
                </a:cubicBezTo>
                <a:cubicBezTo>
                  <a:pt x="907" y="544"/>
                  <a:pt x="1119" y="378"/>
                  <a:pt x="1270" y="287"/>
                </a:cubicBezTo>
                <a:cubicBezTo>
                  <a:pt x="1421" y="196"/>
                  <a:pt x="1573" y="151"/>
                  <a:pt x="1679" y="106"/>
                </a:cubicBezTo>
                <a:cubicBezTo>
                  <a:pt x="1785" y="61"/>
                  <a:pt x="1860" y="30"/>
                  <a:pt x="1905" y="15"/>
                </a:cubicBezTo>
                <a:cubicBezTo>
                  <a:pt x="1950" y="0"/>
                  <a:pt x="1943" y="15"/>
                  <a:pt x="1951" y="15"/>
                </a:cubicBezTo>
              </a:path>
            </a:pathLst>
          </a:custGeom>
          <a:noFill/>
          <a:ln w="28440">
            <a:solidFill>
              <a:srgbClr val="eef96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1989000"/>
            <a:ext cx="3097440" cy="2735280"/>
          </a:xfrm>
          <a:custGeom>
            <a:avLst/>
            <a:gdLst/>
            <a:ahLst/>
            <a:rect l="l" t="t" r="r" b="b"/>
            <a:pathLst>
              <a:path w="1860" h="1633">
                <a:moveTo>
                  <a:pt x="1860" y="0"/>
                </a:moveTo>
                <a:cubicBezTo>
                  <a:pt x="1852" y="52"/>
                  <a:pt x="1844" y="105"/>
                  <a:pt x="1814" y="181"/>
                </a:cubicBezTo>
                <a:cubicBezTo>
                  <a:pt x="1784" y="257"/>
                  <a:pt x="1731" y="362"/>
                  <a:pt x="1678" y="453"/>
                </a:cubicBezTo>
                <a:cubicBezTo>
                  <a:pt x="1625" y="544"/>
                  <a:pt x="1565" y="643"/>
                  <a:pt x="1497" y="726"/>
                </a:cubicBezTo>
                <a:cubicBezTo>
                  <a:pt x="1429" y="809"/>
                  <a:pt x="1338" y="884"/>
                  <a:pt x="1270" y="952"/>
                </a:cubicBezTo>
                <a:cubicBezTo>
                  <a:pt x="1202" y="1020"/>
                  <a:pt x="1180" y="1066"/>
                  <a:pt x="1089" y="1134"/>
                </a:cubicBezTo>
                <a:cubicBezTo>
                  <a:pt x="998" y="1202"/>
                  <a:pt x="840" y="1300"/>
                  <a:pt x="726" y="1361"/>
                </a:cubicBezTo>
                <a:cubicBezTo>
                  <a:pt x="612" y="1422"/>
                  <a:pt x="529" y="1452"/>
                  <a:pt x="408" y="1497"/>
                </a:cubicBezTo>
                <a:cubicBezTo>
                  <a:pt x="287" y="1542"/>
                  <a:pt x="68" y="1610"/>
                  <a:pt x="0" y="1633"/>
                </a:cubicBezTo>
              </a:path>
            </a:pathLst>
          </a:custGeom>
          <a:noFill/>
          <a:ln w="28440">
            <a:solidFill>
              <a:srgbClr val="99ff33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8243280" y="1965240"/>
            <a:ext cx="73080" cy="6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182560" y="4689360"/>
            <a:ext cx="73080" cy="6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1928880"/>
            <a:ext cx="3192480" cy="2795400"/>
          </a:xfrm>
          <a:custGeom>
            <a:avLst/>
            <a:gdLst/>
            <a:ahLst/>
            <a:rect l="l" t="t" r="r" b="b"/>
            <a:pathLst>
              <a:path w="2011" h="1761">
                <a:moveTo>
                  <a:pt x="0" y="1761"/>
                </a:moveTo>
                <a:cubicBezTo>
                  <a:pt x="45" y="1598"/>
                  <a:pt x="91" y="1436"/>
                  <a:pt x="272" y="1308"/>
                </a:cubicBezTo>
                <a:cubicBezTo>
                  <a:pt x="453" y="1180"/>
                  <a:pt x="877" y="1164"/>
                  <a:pt x="1089" y="990"/>
                </a:cubicBezTo>
                <a:cubicBezTo>
                  <a:pt x="1301" y="816"/>
                  <a:pt x="1398" y="424"/>
                  <a:pt x="1542" y="265"/>
                </a:cubicBezTo>
                <a:cubicBezTo>
                  <a:pt x="1686" y="106"/>
                  <a:pt x="1891" y="76"/>
                  <a:pt x="1951" y="38"/>
                </a:cubicBezTo>
                <a:cubicBezTo>
                  <a:pt x="2011" y="0"/>
                  <a:pt x="1958" y="19"/>
                  <a:pt x="1905" y="38"/>
                </a:cubicBezTo>
              </a:path>
            </a:pathLst>
          </a:custGeom>
          <a:noFill/>
          <a:ln w="28440">
            <a:solidFill>
              <a:srgbClr val="ff3399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360" y="166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460440"/>
            <a:ext cx="4427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Дана функция у = </a:t>
            </a:r>
            <a:r>
              <a:rPr b="0" lang="en-US" sz="2500" spc="-1" strike="noStrike">
                <a:solidFill>
                  <a:srgbClr val="ffff99"/>
                </a:solidFill>
                <a:latin typeface="Garamond"/>
              </a:rPr>
              <a:t>f</a:t>
            </a: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99"/>
                </a:solidFill>
                <a:latin typeface="Garamond"/>
              </a:rPr>
              <a:t>(x</a:t>
            </a:r>
            <a:r>
              <a:rPr b="0" lang="ru-RU" sz="2500" spc="-1" strike="noStrike">
                <a:solidFill>
                  <a:srgbClr val="ffff99"/>
                </a:solidFill>
                <a:latin typeface="Garamond"/>
              </a:rPr>
              <a:t>)</a:t>
            </a:r>
            <a:endParaRPr b="0" lang="en-US" sz="25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38926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Чем отличается поведение линий?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Одна из них – отрезок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рямой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Другая проходит над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отрезком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Третья – под отрезком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А четвертая – частично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над отрезком, частично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99"/>
                </a:solidFill>
                <a:latin typeface="Arial"/>
              </a:rPr>
              <a:t>под ним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003640" y="1600200"/>
            <a:ext cx="0" cy="45259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37000" y="5229360"/>
            <a:ext cx="4038840" cy="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5322960"/>
            <a:ext cx="33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а  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 b 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5229360"/>
            <a:ext cx="0" cy="936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44000" y="5229360"/>
            <a:ext cx="0" cy="93600"/>
          </a:xfrm>
          <a:prstGeom prst="line">
            <a:avLst/>
          </a:prstGeom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219640" y="1989000"/>
            <a:ext cx="3097440" cy="27352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9640" y="1965240"/>
            <a:ext cx="3097440" cy="2759040"/>
          </a:xfrm>
          <a:custGeom>
            <a:avLst/>
            <a:gdLst/>
            <a:ahLst/>
            <a:rect l="l" t="t" r="r" b="b"/>
            <a:pathLst>
              <a:path w="1951" h="1738">
                <a:moveTo>
                  <a:pt x="0" y="1738"/>
                </a:moveTo>
                <a:cubicBezTo>
                  <a:pt x="26" y="1647"/>
                  <a:pt x="53" y="1557"/>
                  <a:pt x="91" y="1466"/>
                </a:cubicBezTo>
                <a:cubicBezTo>
                  <a:pt x="129" y="1375"/>
                  <a:pt x="167" y="1285"/>
                  <a:pt x="227" y="1194"/>
                </a:cubicBezTo>
                <a:cubicBezTo>
                  <a:pt x="287" y="1103"/>
                  <a:pt x="363" y="1013"/>
                  <a:pt x="454" y="922"/>
                </a:cubicBezTo>
                <a:cubicBezTo>
                  <a:pt x="545" y="831"/>
                  <a:pt x="635" y="756"/>
                  <a:pt x="771" y="650"/>
                </a:cubicBezTo>
                <a:cubicBezTo>
                  <a:pt x="907" y="544"/>
                  <a:pt x="1119" y="378"/>
                  <a:pt x="1270" y="287"/>
                </a:cubicBezTo>
                <a:cubicBezTo>
                  <a:pt x="1421" y="196"/>
                  <a:pt x="1573" y="151"/>
                  <a:pt x="1679" y="106"/>
                </a:cubicBezTo>
                <a:cubicBezTo>
                  <a:pt x="1785" y="61"/>
                  <a:pt x="1860" y="30"/>
                  <a:pt x="1905" y="15"/>
                </a:cubicBezTo>
                <a:cubicBezTo>
                  <a:pt x="1950" y="0"/>
                  <a:pt x="1943" y="15"/>
                  <a:pt x="1951" y="15"/>
                </a:cubicBezTo>
              </a:path>
            </a:pathLst>
          </a:custGeom>
          <a:noFill/>
          <a:ln w="28440">
            <a:solidFill>
              <a:srgbClr val="eef96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1989000"/>
            <a:ext cx="3097440" cy="2735280"/>
          </a:xfrm>
          <a:custGeom>
            <a:avLst/>
            <a:gdLst/>
            <a:ahLst/>
            <a:rect l="l" t="t" r="r" b="b"/>
            <a:pathLst>
              <a:path w="1860" h="1633">
                <a:moveTo>
                  <a:pt x="1860" y="0"/>
                </a:moveTo>
                <a:cubicBezTo>
                  <a:pt x="1852" y="52"/>
                  <a:pt x="1844" y="105"/>
                  <a:pt x="1814" y="181"/>
                </a:cubicBezTo>
                <a:cubicBezTo>
                  <a:pt x="1784" y="257"/>
                  <a:pt x="1731" y="362"/>
                  <a:pt x="1678" y="453"/>
                </a:cubicBezTo>
                <a:cubicBezTo>
                  <a:pt x="1625" y="544"/>
                  <a:pt x="1565" y="643"/>
                  <a:pt x="1497" y="726"/>
                </a:cubicBezTo>
                <a:cubicBezTo>
                  <a:pt x="1429" y="809"/>
                  <a:pt x="1338" y="884"/>
                  <a:pt x="1270" y="952"/>
                </a:cubicBezTo>
                <a:cubicBezTo>
                  <a:pt x="1202" y="1020"/>
                  <a:pt x="1180" y="1066"/>
                  <a:pt x="1089" y="1134"/>
                </a:cubicBezTo>
                <a:cubicBezTo>
                  <a:pt x="998" y="1202"/>
                  <a:pt x="840" y="1300"/>
                  <a:pt x="726" y="1361"/>
                </a:cubicBezTo>
                <a:cubicBezTo>
                  <a:pt x="612" y="1422"/>
                  <a:pt x="529" y="1452"/>
                  <a:pt x="408" y="1497"/>
                </a:cubicBezTo>
                <a:cubicBezTo>
                  <a:pt x="287" y="1542"/>
                  <a:pt x="68" y="1610"/>
                  <a:pt x="0" y="1633"/>
                </a:cubicBezTo>
              </a:path>
            </a:pathLst>
          </a:custGeom>
          <a:noFill/>
          <a:ln w="28440">
            <a:solidFill>
              <a:srgbClr val="99ff33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8243280" y="1965240"/>
            <a:ext cx="73080" cy="6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5182560" y="4689360"/>
            <a:ext cx="73080" cy="6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9640" y="1928880"/>
            <a:ext cx="3192480" cy="2795400"/>
          </a:xfrm>
          <a:custGeom>
            <a:avLst/>
            <a:gdLst/>
            <a:ahLst/>
            <a:rect l="l" t="t" r="r" b="b"/>
            <a:pathLst>
              <a:path w="2011" h="1761">
                <a:moveTo>
                  <a:pt x="0" y="1761"/>
                </a:moveTo>
                <a:cubicBezTo>
                  <a:pt x="45" y="1598"/>
                  <a:pt x="91" y="1436"/>
                  <a:pt x="272" y="1308"/>
                </a:cubicBezTo>
                <a:cubicBezTo>
                  <a:pt x="453" y="1180"/>
                  <a:pt x="877" y="1164"/>
                  <a:pt x="1089" y="990"/>
                </a:cubicBezTo>
                <a:cubicBezTo>
                  <a:pt x="1301" y="816"/>
                  <a:pt x="1398" y="424"/>
                  <a:pt x="1542" y="265"/>
                </a:cubicBezTo>
                <a:cubicBezTo>
                  <a:pt x="1686" y="106"/>
                  <a:pt x="1891" y="76"/>
                  <a:pt x="1951" y="38"/>
                </a:cubicBezTo>
                <a:cubicBezTo>
                  <a:pt x="2011" y="0"/>
                  <a:pt x="1958" y="19"/>
                  <a:pt x="1905" y="38"/>
                </a:cubicBezTo>
              </a:path>
            </a:pathLst>
          </a:custGeom>
          <a:noFill/>
          <a:ln w="28440">
            <a:solidFill>
              <a:srgbClr val="ff3399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16225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0920" y="333000"/>
            <a:ext cx="79930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В математике для обозначения такого поведения существуют специальные понятия: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i="1" lang="en-US" sz="3400" spc="-1" strike="noStrike">
                <a:solidFill>
                  <a:srgbClr val="ffff99"/>
                </a:solidFill>
                <a:latin typeface="Arial"/>
              </a:rPr>
              <a:t>выпуклости и</a:t>
            </a:r>
            <a:endParaRPr b="0" lang="en-US" sz="34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3400" spc="-1" strike="noStrike">
                <a:solidFill>
                  <a:srgbClr val="ffff99"/>
                </a:solidFill>
                <a:latin typeface="Arial"/>
              </a:rPr>
              <a:t>вогнутости</a:t>
            </a:r>
            <a:endParaRPr b="0" lang="en-US" sz="3400" spc="-1" strike="noStrike">
              <a:solidFill>
                <a:srgbClr val="99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3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3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43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графика функции</a:t>
            </a:r>
            <a:endParaRPr b="0" lang="en-US" sz="32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56144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99"/>
                </a:solidFill>
                <a:latin typeface="Garamond"/>
              </a:rPr>
              <a:t>Выпуклость и вогнутость функции</a:t>
            </a:r>
            <a:endParaRPr b="0" lang="en-US" sz="50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36680" y="4436640"/>
            <a:ext cx="6764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Геометрический смысл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второй производной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277560"/>
            <a:ext cx="55450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99"/>
                </a:solidFill>
                <a:latin typeface="Garamond"/>
              </a:rPr>
              <a:t>Выпуклая      вверх</a:t>
            </a:r>
            <a:br>
              <a:rPr sz="2700"/>
            </a:br>
            <a:r>
              <a:rPr b="0" i="1" lang="en-US" sz="2700" spc="-1" strike="noStrike">
                <a:solidFill>
                  <a:srgbClr val="ffff99"/>
                </a:solidFill>
                <a:latin typeface="Garamond"/>
              </a:rPr>
              <a:t>(выпуклая кривая)</a:t>
            </a:r>
            <a:endParaRPr b="0" lang="en-US" sz="2700" spc="-1" strike="noStrike">
              <a:solidFill>
                <a:srgbClr val="ffff9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3176640" cy="38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Кривая называется </a:t>
            </a:r>
            <a:r>
              <a:rPr b="0" i="1" lang="en-US" sz="2200" spc="-1" strike="noStrike">
                <a:solidFill>
                  <a:srgbClr val="ffff99"/>
                </a:solidFill>
                <a:latin typeface="Arial"/>
              </a:rPr>
              <a:t>выпуклой вверх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в точке х = а,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если  в некоторой окрестности этой точки </a:t>
            </a:r>
            <a:r>
              <a:rPr b="0" i="1" lang="en-US" sz="2200" spc="-1" strike="noStrike">
                <a:solidFill>
                  <a:srgbClr val="99ff99"/>
                </a:solidFill>
                <a:latin typeface="Arial"/>
              </a:rPr>
              <a:t>она расположена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99ff99"/>
                </a:solidFill>
                <a:uFillTx/>
                <a:latin typeface="Arial"/>
              </a:rPr>
              <a:t>под</a:t>
            </a:r>
            <a:endParaRPr b="0" lang="en-US" sz="2200" spc="-1" strike="noStrike">
              <a:solidFill>
                <a:srgbClr val="99ff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ff99"/>
                </a:solidFill>
                <a:latin typeface="Arial"/>
              </a:rPr>
              <a:t>своей касательной</a:t>
            </a:r>
            <a:r>
              <a:rPr b="0" lang="en-US" sz="26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32000" y="2206440"/>
            <a:ext cx="3524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ff99"/>
                </a:solidFill>
                <a:latin typeface="Arial"/>
              </a:rPr>
              <a:t>у</a:t>
            </a:r>
            <a:endParaRPr b="0" lang="en-US" sz="26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5157720"/>
            <a:ext cx="375444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84800" y="2276280"/>
            <a:ext cx="0" cy="360036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3141720"/>
            <a:ext cx="12952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06960" y="3141720"/>
            <a:ext cx="0" cy="2016000"/>
          </a:xfrm>
          <a:prstGeom prst="line">
            <a:avLst/>
          </a:prstGeom>
          <a:ln w="9360">
            <a:solidFill>
              <a:srgbClr val="99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89520" y="5180040"/>
            <a:ext cx="28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а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eef961"/>
                </a:solidFill>
                <a:latin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99ff9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84800" y="3141720"/>
            <a:ext cx="151272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5"/>
                </a:moveTo>
                <a:arcTo wR="10800" hR="10800" stAng="-10798304" swAng="10649185"/>
                <a:lnTo>
                  <a:pt x="10800" y="10800"/>
                </a:lnTo>
                <a:close/>
              </a:path>
              <a:path fill="none" w="21600" h="21600">
                <a:moveTo>
                  <a:pt x="0" y="10795"/>
                </a:moveTo>
                <a:arcTo wR="10800" hR="10800" stAng="-10798304" swAng="10649185"/>
              </a:path>
            </a:pathLst>
          </a:cu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06:02:33Z</dcterms:created>
  <dc:creator>Nataliy</dc:creator>
  <dc:description/>
  <dc:language>en-US</dc:language>
  <cp:lastModifiedBy>Наталья</cp:lastModifiedBy>
  <dcterms:modified xsi:type="dcterms:W3CDTF">2011-01-31T07:59:11Z</dcterms:modified>
  <cp:revision>54</cp:revision>
  <dc:subject/>
  <dc:title>Выпуклость и вогнутость функции</dc:title>
</cp:coreProperties>
</file>