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9.png" ContentType="image/png"/>
  <Override PartName="/ppt/media/image17.png" ContentType="image/png"/>
  <Override PartName="/ppt/media/image26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5E38-BE77-4990-9CCE-BCAFB7AA81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F09B-D991-4A9F-B3F5-B445C3624F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DC4-A75D-41D8-9518-CECE158A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D93-B125-4985-B9EE-EFE00997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152B-FB10-47AB-B204-493169FE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4BA-59FB-425C-9F04-6717B76A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231-7410-46DA-A631-53F35FD6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9DD4-C22F-4727-B273-D6BB7229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587F-1B48-4DC9-8AB8-E184C4AB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6BBA-F5C1-46C7-8626-90165F67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A3D9-78CF-4C43-911D-F867E330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2315-45C8-4A25-A01B-F39C65EC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4CB-7302-4511-81C7-FA0CE797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527-88FA-4A1A-AD40-09E5776F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B0DC-85C7-44B8-BB84-8F865E7717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ru.wikipedia.org/wiki/&#1050;&#1072;&#1091;&#1089;&#1090;&#1080;&#1082;_(&#1082;&#1086;&#1084;&#1087;&#1072;&#1085;&#1080;&#1103;)" TargetMode="External"/><Relationship Id="rId3" Type="http://schemas.openxmlformats.org/officeDocument/2006/relationships/hyperlink" Target="http://ru.wikipedia.org/wiki/&#1060;&#1077;&#1085;&#1086;&#1083;" TargetMode="External"/><Relationship Id="rId4" Type="http://schemas.openxmlformats.org/officeDocument/2006/relationships/hyperlink" Target="http://ru.wikipedia.org/wiki/&#1040;&#1085;&#1090;&#1080;&#1086;&#1082;&#1089;&#1080;&#1076;&#1072;&#1085;&#1090;" TargetMode="External"/><Relationship Id="rId5" Type="http://schemas.openxmlformats.org/officeDocument/2006/relationships/hyperlink" Target="http://ru.wikipedia.org/wiki/&#1050;&#1072;&#1091;&#1095;&#1091;&#1082;" TargetMode="External"/><Relationship Id="rId6" Type="http://schemas.openxmlformats.org/officeDocument/2006/relationships/hyperlink" Target="http://ru.wikipedia.org/wiki/&#1040;&#1075;&#1080;&#1076;&#1086;&#1083;" TargetMode="External"/><Relationship Id="rId7" Type="http://schemas.openxmlformats.org/officeDocument/2006/relationships/hyperlink" Target="http://ru.wikipedia.org/wiki/&#1062;&#1077;&#1084;&#1077;&#1085;&#1090;" TargetMode="External"/><Relationship Id="rId8" Type="http://schemas.openxmlformats.org/officeDocument/2006/relationships/hyperlink" Target="http://ru.wikipedia.org/wiki/&#1050;&#1083;&#1080;&#1085;&#1082;&#1077;&#1088;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ru.wikipedia.org/wiki/&#1040;&#1093;&#1084;&#1077;&#1090;&#1086;&#1074;,_&#1057;&#1087;&#1072;&#1088;&#1090;&#1072;&#1082;_&#1043;&#1072;&#1083;&#1077;&#1077;&#1074;&#1080;&#1095;" TargetMode="External"/><Relationship Id="rId3" Type="http://schemas.openxmlformats.org/officeDocument/2006/relationships/hyperlink" Target="http://ru.wikipedia.org/wiki/&#1041;&#1077;&#1088;&#1105;&#1079;&#1072;" TargetMode="External"/><Relationship Id="rId4" Type="http://schemas.openxmlformats.org/officeDocument/2006/relationships/hyperlink" Target="http://ru.wikipedia.org/wiki/&#1043;&#1086;&#1088;&#1086;&#1076;&#1072;-&#1084;&#1080;&#1083;&#1083;&#1080;&#1086;&#1085;&#1077;&#1088;&#1099;_&#1056;&#1086;&#1089;&#1089;&#1080;&#1080;" TargetMode="External"/><Relationship Id="rId5" Type="http://schemas.openxmlformats.org/officeDocument/2006/relationships/hyperlink" Target="http://ru.wikipedia.org/wiki/&#1057;&#1072;&#1084;&#1072;&#1088;&#1072;" TargetMode="External"/><Relationship Id="rId6" Type="http://schemas.openxmlformats.org/officeDocument/2006/relationships/hyperlink" Target="http://ru.wikipedia.org/wiki/1987_&#1075;&#1086;&#1076;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93560" y="133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Рисунок 3" descr="st1.jpg"/>
          <p:cNvPicPr/>
          <p:nvPr/>
        </p:nvPicPr>
        <p:blipFill>
          <a:blip r:embed="rId2"/>
          <a:stretch/>
        </p:blipFill>
        <p:spPr>
          <a:xfrm>
            <a:off x="1143000" y="1500120"/>
            <a:ext cx="640728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0" y="9284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ономический потенциал города во многом определяют крупные химические и нефтехимические предприятия. B 2008 году химиками и нефтехимиками отправлено товарной продукции на сумму 37 млрд. 340 млн.рублей. Предприятие «Сода» в 2008 году отгрузило продукции на 13 млрд. 788 млн руб. Акционерным обществом </a:t>
            </a:r>
            <a:r>
              <a:rPr b="0" lang="ru-RU" sz="14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«Каустик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было отгружено продукции на 10 млрд. 344 млн рублей. Стерлитамакским нефтехимическим заводом отгружено потребителям продукции на 3 млрд. 868 млн рублей. СНХЗ остается единственным в России поставщиком </a:t>
            </a:r>
            <a:r>
              <a:rPr b="0" lang="ru-RU" sz="14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фенольн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антиоксидант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ля производства </a:t>
            </a:r>
            <a:r>
              <a:rPr b="0" lang="ru-RU" sz="1400" spc="-1" strike="noStrike" u="sng">
                <a:solidFill>
                  <a:srgbClr val="410082"/>
                </a:solidFill>
                <a:uFillTx/>
                <a:latin typeface="Times New Roman"/>
                <a:hlinkClick r:id="rId5"/>
              </a:rPr>
              <a:t>каучук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продолжает развитие производства стабилизаторов серии «</a:t>
            </a:r>
            <a:r>
              <a:rPr b="0" lang="ru-RU" sz="1400" spc="-1" strike="noStrike" u="sng">
                <a:solidFill>
                  <a:srgbClr val="410082"/>
                </a:solidFill>
                <a:uFillTx/>
                <a:latin typeface="Times New Roman"/>
                <a:hlinkClick r:id="rId6"/>
              </a:rPr>
              <a:t>Агидо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1000" indent="-398520"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шиностроительная и станкостроительная отрасли производства в городе представлены крупными акционерными обществами: «Стерлитамакский станкостроительный завод», «Красный пролетарий», «Вагоноремонтный завод», «Завод Строймаш», «Концерн Инмаш». Кроме того, в городе работают мощные предприятия стройиндустрии и стройматериалов. Обществом «Строительные материалы» в течение 6 месяцев отгружено </a:t>
            </a:r>
            <a:r>
              <a:rPr b="0" lang="ru-RU" sz="1400" spc="-1" strike="noStrike" u="sng">
                <a:solidFill>
                  <a:srgbClr val="410082"/>
                </a:solidFill>
                <a:uFillTx/>
                <a:latin typeface="Times New Roman"/>
                <a:hlinkClick r:id="rId7"/>
              </a:rPr>
              <a:t>цемен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400" spc="-1" strike="noStrike" u="sng">
                <a:solidFill>
                  <a:srgbClr val="410082"/>
                </a:solidFill>
                <a:uFillTx/>
                <a:latin typeface="Times New Roman"/>
                <a:hlinkClick r:id="rId8"/>
              </a:rPr>
              <a:t>клинкер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другой продукции на сумму 2 млрд рублей. При этом содовикам впервые за последние 14 лет удалось достичь объема производства цемента свыше 1 млн тонн. Работают строительные организации, крупнейшее из которых — это ОАО «Стерлитамакстрой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1000" indent="-398520"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ироко представлена пищевая промышленность. Комбинат «СТАЛК» (спирто-водочное производство), пивоваренный завод «Шихан» (до 2005 года), «Стерлитамакский хлебокомбинат», отметивший в 2009 году 100-летие, также на территории города находятся 2 крупных молочных комбината, более 4 колбасных завод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1000" indent="-398520"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мышленным сектором города произведено и отгружено продукции на 43,2 млрд.рублей, индекс промышленного производства 85,7 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1000" indent="-398520"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4" descr="pic040.jpg"/>
          <p:cNvPicPr/>
          <p:nvPr/>
        </p:nvPicPr>
        <p:blipFill>
          <a:blip r:embed="rId2"/>
          <a:stretch/>
        </p:blipFill>
        <p:spPr>
          <a:xfrm>
            <a:off x="428760" y="1857240"/>
            <a:ext cx="4038480" cy="382608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5" descr="x_db557036.jpg"/>
          <p:cNvPicPr/>
          <p:nvPr/>
        </p:nvPicPr>
        <p:blipFill>
          <a:blip r:embed="rId3"/>
          <a:stretch/>
        </p:blipFill>
        <p:spPr>
          <a:xfrm>
            <a:off x="4714920" y="1714680"/>
            <a:ext cx="36208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3" descr="x_e83eb3ed.jpg"/>
          <p:cNvPicPr/>
          <p:nvPr/>
        </p:nvPicPr>
        <p:blipFill>
          <a:blip r:embed="rId2"/>
          <a:stretch/>
        </p:blipFill>
        <p:spPr>
          <a:xfrm>
            <a:off x="1071720" y="20718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-182520"/>
            <a:ext cx="8242560" cy="1609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42920" y="16426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70-х годах в связи с плохой экологической обстановкой в городе, в плане развития Стерлитамака, появились проекты по озеленению города. Существовала даже программа, при которой каждый школьник должен был посадить дерево, и по словам бывшего мэра </a:t>
            </a: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Ахметов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школьник, посадивший дерево в детстве, будет по-другому относиться к проблемам загрязнения родного города в будущем. В результате чего к 2007 году количество традиционно русских деревьев </a:t>
            </a: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берёз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величилось на 350 % и превысило данный показатель такого </a:t>
            </a: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города-миллионик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ак </a:t>
            </a: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5"/>
              </a:rPr>
              <a:t>Сама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6"/>
              </a:rPr>
              <a:t>1987 год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иняты постановления Совмина СССР, которые призваны были улучшить экологическую обстановку в городе. В настоящее время, существует множество программ по озеленению и благоустройству Стерлитамака, республиканским и городским бюджетами выделяются необходимые средства для выполнения данных задач, привлекаются граждан в сферу озеленения и благоустройства гор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терлитамаке, реализуется федеральная программа реформирования ЖКХ. В городе она функционирует с 2008 года, но уже горожанам и гостям города ярко представлен результат, это разноцветные, яркие «хрущёвки», с застеклёнными пластиковыми рамами балконами, с новыми черепичными крышами, с оптимизированными лифтами, новыми сточными трубами и отремонтированными подъезд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2007 году Федеральным агентством по строительству и ЖКХ по итогам Всероссийского конкурса на звание «Самый благоустроенный город России», Стерлитамаку присуждено первое место среди городов с населением до миллиона человек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[3]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За 15 лет Стерлитамак из списка самых загрязнённых городов перешёл в список самых чистых и зелёных городов России. Одной из причин столь резкого улучшения экологии и благоустроенности стала стратегия администрации города в отношении основных промышленных предприятий — каждому из 17 крупнейших заводов был «прикреплён» район города, который они должны обслуживать. Другой причиной стала агитация за соблюдение чистоты на улицах, психология жителей города, ответственное отношение служб города к своим обязанност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2009 году МУП «Управление парковым хозяйством» Стерлитамака заняло первое место в российском конкурсе «Хрустальное колесо 2009» среди парков России и стран СНГ в номинации «Лучший парк развлечений с количеством посетителей от 100 тыс. до 250 тыс. человек в год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15280" cy="144612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8" descr="56084f36c6df.jpg"/>
          <p:cNvPicPr/>
          <p:nvPr/>
        </p:nvPicPr>
        <p:blipFill>
          <a:blip r:embed="rId2"/>
          <a:stretch/>
        </p:blipFill>
        <p:spPr>
          <a:xfrm>
            <a:off x="1420920" y="1639800"/>
            <a:ext cx="6107040" cy="4065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0" descr="b50ae67300f5b5cc4bd3e685c1837825_db275e0c7ca9fae629e5d187c91d49cb.jpg"/>
          <p:cNvPicPr/>
          <p:nvPr/>
        </p:nvPicPr>
        <p:blipFill>
          <a:blip r:embed="rId3"/>
          <a:stretch/>
        </p:blipFill>
        <p:spPr>
          <a:xfrm>
            <a:off x="1500120" y="164304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2" descr="x_f939019b.jpg"/>
          <p:cNvPicPr/>
          <p:nvPr/>
        </p:nvPicPr>
        <p:blipFill>
          <a:blip r:embed="rId4"/>
          <a:stretch/>
        </p:blipFill>
        <p:spPr>
          <a:xfrm>
            <a:off x="1000080" y="1643040"/>
            <a:ext cx="6715080" cy="50371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4" descr="6fc7eb19c8c2.jpg"/>
          <p:cNvPicPr/>
          <p:nvPr/>
        </p:nvPicPr>
        <p:blipFill>
          <a:blip r:embed="rId5"/>
          <a:stretch/>
        </p:blipFill>
        <p:spPr>
          <a:xfrm>
            <a:off x="857160" y="1490760"/>
            <a:ext cx="7950240" cy="53672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5" descr="1230980306foto1_big.jpg"/>
          <p:cNvPicPr/>
          <p:nvPr/>
        </p:nvPicPr>
        <p:blipFill>
          <a:blip r:embed="rId6"/>
          <a:stretch/>
        </p:blipFill>
        <p:spPr>
          <a:xfrm>
            <a:off x="857160" y="1446120"/>
            <a:ext cx="7215120" cy="541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олее двух веков назад - в 1766 году от Ашкадарской пристани вниз по реке Белой отправился первый караван из 30 барок, загруженных илецкой солью для центральных губерний России. С этим годом связано и основание Стерлитамака, название которого произошло от соединения двух слов: "Стерли" - река в черте города и башкирскогослова "тамак", что означает горловина, устье. Город вскоре превратился в торговый центр, так как располагался на пересечении двух важных трактов: Оренбург - Уфа и Верхнеуральск - Бугульма - Казань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1407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840" y="6426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о революции Стерлитамак был одноэтажным, деревянным, имел 6 православных храмов и 5 мусульманских мечетей, женскую гимназию и реальное училище, 18 предприятий и 6 врачей. Хотя к концу ХIХ века и начала развиваться фабрично-заводская промышленность, городская экономика так и не получила настоящего развит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Рисунок 3" descr="st2.jpg"/>
          <p:cNvPicPr/>
          <p:nvPr/>
        </p:nvPicPr>
        <p:blipFill>
          <a:blip r:embed="rId1"/>
          <a:stretch/>
        </p:blipFill>
        <p:spPr>
          <a:xfrm>
            <a:off x="1857240" y="3000240"/>
            <a:ext cx="471492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ктябрьская события 1917 года изменили унылую и однообразную жизнь маленького городка, затерявшегося в башкирских степях. 23 марта 1919 года был подписан декрет об образовании Башкирской АССР, и Стерлитамак стал столицей молодой автономной республики.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Содержимое 4" descr="st3.jpg"/>
          <p:cNvPicPr/>
          <p:nvPr/>
        </p:nvPicPr>
        <p:blipFill>
          <a:blip r:embed="rId1"/>
          <a:stretch/>
        </p:blipFill>
        <p:spPr>
          <a:xfrm>
            <a:off x="357120" y="3714840"/>
            <a:ext cx="7336080" cy="26496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357120" y="21420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Aharoni"/>
              </a:rPr>
              <a:t>Монумент "Освобождение" героям гражданской вой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3163680" cy="1225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оевые революционные традиции были продолжены в годы Великой Отечественной войны. Высокого звания Героя Советского Союза удостоены 25 жителей города и района, защищавших нашу Родину. С фронтов не вернулись 10 тысяч стерлитамакцев, их имена вписаны в "Книгу памяти", в их честь 9 мая 1967 года зажжен Вечный огонь славы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Содержимое 4" descr="st4.jpg"/>
          <p:cNvPicPr/>
          <p:nvPr/>
        </p:nvPicPr>
        <p:blipFill>
          <a:blip r:embed="rId2"/>
          <a:stretch/>
        </p:blipFill>
        <p:spPr>
          <a:xfrm>
            <a:off x="4071960" y="642960"/>
            <a:ext cx="34401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3146400" cy="1170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ремя отсчитывает годы и десятилетия, растет и набирает силы Стерлитамак, в котором сегодня проживает 260 тысяч жителей более 30 национальностей. Он стал вторым после Уфы индустриальным и культурным городом Башкирии, получил прочную репутацию труженика. Его индустриальное лицо сегодня определяют не только предприятия большой химии. Получили свое развитие машиностроение, пищевая и легкая промышленность, строительная индустрия. Город выпускает соду, синтетический каучук, трубоукладчики, станки-роботы, строительные материал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Содержимое 4" descr="st5.jpg"/>
          <p:cNvPicPr/>
          <p:nvPr/>
        </p:nvPicPr>
        <p:blipFill>
          <a:blip r:embed="rId2"/>
          <a:stretch/>
        </p:blipFill>
        <p:spPr>
          <a:xfrm>
            <a:off x="3500280" y="1488960"/>
            <a:ext cx="487872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-6480" y="414360"/>
            <a:ext cx="8291520" cy="17985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13840" y="2786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ОРЕЦ  КУЛЬТУРЫ  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28720" y="2857320"/>
            <a:ext cx="404172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АМАТИЧЕСКИЙ ТЕАТ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Содержимое 7" descr="st6.jpg"/>
          <p:cNvPicPr/>
          <p:nvPr/>
        </p:nvPicPr>
        <p:blipFill>
          <a:blip r:embed="rId2"/>
          <a:stretch/>
        </p:blipFill>
        <p:spPr>
          <a:xfrm>
            <a:off x="142920" y="3857760"/>
            <a:ext cx="4040280" cy="257796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6" descr="st7.jpg"/>
          <p:cNvPicPr/>
          <p:nvPr/>
        </p:nvPicPr>
        <p:blipFill>
          <a:blip r:embed="rId3"/>
          <a:stretch/>
        </p:blipFill>
        <p:spPr>
          <a:xfrm>
            <a:off x="4429080" y="3786120"/>
            <a:ext cx="40417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281160" y="212760"/>
            <a:ext cx="8240400" cy="199404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4" descr="01.jpg"/>
          <p:cNvPicPr/>
          <p:nvPr/>
        </p:nvPicPr>
        <p:blipFill>
          <a:blip r:embed="rId2"/>
          <a:stretch/>
        </p:blipFill>
        <p:spPr>
          <a:xfrm>
            <a:off x="857160" y="2357280"/>
            <a:ext cx="2643120" cy="361332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5" descr="abdrahimov.jpeg"/>
          <p:cNvPicPr/>
          <p:nvPr/>
        </p:nvPicPr>
        <p:blipFill>
          <a:blip r:embed="rId3"/>
          <a:stretch/>
        </p:blipFill>
        <p:spPr>
          <a:xfrm>
            <a:off x="4357800" y="2143080"/>
            <a:ext cx="270828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8:19:59Z</dcterms:created>
  <dc:creator>Алмаз</dc:creator>
  <dc:description/>
  <dc:language>en-US</dc:language>
  <cp:lastModifiedBy>User</cp:lastModifiedBy>
  <dcterms:modified xsi:type="dcterms:W3CDTF">2012-01-25T16:49:49Z</dcterms:modified>
  <cp:revision>13</cp:revision>
  <dc:subject/>
  <dc:title>стерлитамак</dc:title>
</cp:coreProperties>
</file>