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46866-447B-475B-A4C9-B931AB58F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CB93A-5416-4D62-9439-BA549CCB6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8C508-2DEE-4EB1-96C2-4C5887946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60169-A00C-4B32-831C-30479BC17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E673A-6E6F-4DA8-9817-045234DC0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CBF51-9B82-400F-8071-1C03F05B5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C06FC-BE5C-4E7F-96F0-636BC5852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362BC-0233-41B5-BC22-3C3B08DFD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92D8A-C9DB-4E7E-95EC-522B59DAD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0B425-74E7-43EA-87F9-D89A04E96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D7EF3-F5B1-443E-8F29-8888EA3DE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21BE2-BB7D-4E2A-BBFB-5557BCE9F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B8DDB-1906-466C-BE0B-A1C051407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7D373-CE1E-40D6-B475-343B2F387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272B3-BEE9-49A8-8431-E8DA0A122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61EB6-64FC-4395-A349-8328529F6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09CEC-1068-415B-9226-697DAE5EE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7CEE8-7893-463E-BCF2-B9BD8F281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8A4BF-D4F4-41CB-84DC-723BDE58A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B57F7-0568-466D-B2F2-3FCCE8DE9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75EEF-24E7-45F8-A729-7C522B220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3DD0D-EC2E-456B-AE0B-B8FA18797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DB04A-EF52-43AB-8CDD-7BB304FAB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AFD22-B45C-4896-A3F0-259B177B7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86DBA-067B-4F0E-95A3-EBCD0BF667A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606BB-E068-4931-837F-3EDA1B6519E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66ff"/>
                </a:solidFill>
                <a:latin typeface="Times New Roman"/>
              </a:rPr>
              <a:t>Экскурсия по экспозиции         </a:t>
            </a:r>
            <a:br>
              <a:rPr sz="3100"/>
            </a:br>
            <a:r>
              <a:rPr b="1" lang="en-US" sz="3100" spc="-1" strike="noStrike">
                <a:solidFill>
                  <a:srgbClr val="ff66ff"/>
                </a:solidFill>
                <a:latin typeface="Times New Roman"/>
              </a:rPr>
              <a:t> «Церковная утварь»</a:t>
            </a:r>
            <a:endParaRPr b="0" lang="en-US" sz="31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1908000" y="1341360"/>
            <a:ext cx="2514600" cy="270684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648320" y="162864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lvl="1" marL="698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00"/>
                </a:solidFill>
                <a:latin typeface="Tahoma"/>
              </a:rPr>
              <a:t>*Икона</a:t>
            </a:r>
            <a:r>
              <a:rPr b="0" lang="en-US" sz="2800" spc="-1" strike="noStrike">
                <a:solidFill>
                  <a:srgbClr val="990000"/>
                </a:solidFill>
                <a:latin typeface="Tahoma"/>
              </a:rPr>
              <a:t>             </a:t>
            </a:r>
            <a:r>
              <a:rPr b="0" lang="ru-RU" sz="2800" spc="-1" strike="noStrike">
                <a:solidFill>
                  <a:srgbClr val="990000"/>
                </a:solidFill>
                <a:latin typeface="Tahoma"/>
              </a:rPr>
              <a:t>«Николай</a:t>
            </a:r>
            <a:r>
              <a:rPr b="0" lang="en-US" sz="2800" spc="-1" strike="noStrike">
                <a:solidFill>
                  <a:srgbClr val="990000"/>
                </a:solidFill>
                <a:latin typeface="Tahoma"/>
              </a:rPr>
              <a:t>         </a:t>
            </a:r>
            <a:r>
              <a:rPr b="0" lang="en-US" sz="2800" spc="-1" strike="noStrike">
                <a:solidFill>
                  <a:srgbClr val="99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99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990000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990000"/>
                </a:solidFill>
                <a:latin typeface="Tahoma"/>
              </a:rPr>
              <a:t>Чудотворец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00"/>
                </a:solidFill>
                <a:latin typeface="Tahoma"/>
              </a:rPr>
              <a:t>*Священное Евангели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826920" y="4149720"/>
            <a:ext cx="2210040" cy="251460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8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1258920" y="981000"/>
            <a:ext cx="6553080" cy="491508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2700360" y="6237360"/>
            <a:ext cx="525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Рисунки и шрифт книг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826920" y="620640"/>
            <a:ext cx="7128000" cy="534672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2340000" y="6237360"/>
            <a:ext cx="46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Верхняя часть листа книг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507960" y="380880"/>
            <a:ext cx="8128080" cy="609624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2916360" y="6381720"/>
            <a:ext cx="35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Книга в развёрнутом вид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507960" y="380880"/>
            <a:ext cx="8128080" cy="609624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3708360" y="609300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80"/>
                </a:solidFill>
                <a:latin typeface="Times New Roman"/>
              </a:rPr>
              <a:t>Церковная утвар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07960" y="380880"/>
            <a:ext cx="812808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1476360" y="260280"/>
            <a:ext cx="6400800" cy="609624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2843280" y="6400800"/>
            <a:ext cx="44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Ритуальный  церковный крес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0" y="1268280"/>
            <a:ext cx="4932360" cy="4191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708360" y="5877000"/>
            <a:ext cx="35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Лампад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3635280" y="1268280"/>
            <a:ext cx="525636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755640" y="1700280"/>
            <a:ext cx="784872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990000"/>
                </a:solidFill>
                <a:latin typeface="Times New Roman"/>
              </a:rPr>
              <a:t>Благодарим за просмотр!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990000"/>
                </a:solidFill>
                <a:latin typeface="Times New Roman"/>
              </a:rPr>
              <a:t>      </a:t>
            </a:r>
            <a:r>
              <a:rPr b="0" lang="en-US" sz="5400" spc="-1" strike="noStrike">
                <a:solidFill>
                  <a:srgbClr val="990000"/>
                </a:solidFill>
                <a:latin typeface="Times New Roman"/>
              </a:rPr>
              <a:t>До новых встреч!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" descr=""/>
          <p:cNvPicPr/>
          <p:nvPr/>
        </p:nvPicPr>
        <p:blipFill>
          <a:blip r:embed="rId2"/>
          <a:stretch/>
        </p:blipFill>
        <p:spPr>
          <a:xfrm>
            <a:off x="0" y="692280"/>
            <a:ext cx="8964720" cy="446400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sp>
        <p:nvSpPr>
          <p:cNvPr id="118" name=""/>
          <p:cNvSpPr/>
          <p:nvPr/>
        </p:nvSpPr>
        <p:spPr>
          <a:xfrm>
            <a:off x="1042920" y="5661000"/>
            <a:ext cx="720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Храм православных прихожан с. Новотроицког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1606680" y="189000"/>
            <a:ext cx="5545080" cy="604836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2700360" y="6237360"/>
            <a:ext cx="43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Times New Roman"/>
              </a:rPr>
              <a:t>Николай Чудотворе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611280" y="1557360"/>
            <a:ext cx="8137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Перед вами экспонат Новотроицкого краеведческого музея из экспозиции «Церковная утварь» - икона Николай Чудотворец. Икона (от греч. -образ, вид, изображение) -это живописное или рельефное символическое изображение Иисуса Христа, Богоматери и святых, которым церковь придает священный характер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Николай Чудотворец - один из самых почитаемых святых в России и во всём христианском мире. В православной традиции именуется также Николаем Угодником. Ещё при жизни святитель Николай прославился многими подвигами и чудесами. Поэтому день его погребения - 19 декабря – стал общехристианским праздником. Покровительство Николая Угодника распространялось, прежде всего, на плавающих и путешествующих, на «всех сирых и убогих», на скотоводство и земледелие, считался он также и «хранителем земных вод». Ему посвящено огромное число храмов, монастырей, икон, многие из которых почитаются как чудотворны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545480" y="260280"/>
            <a:ext cx="5546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1" i="1" lang="en-US" sz="4400" spc="-1" strike="noStrike">
                <a:solidFill>
                  <a:srgbClr val="cc3300"/>
                </a:solidFill>
                <a:latin typeface="Times New Roman"/>
              </a:rPr>
              <a:t>Икона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3300"/>
                </a:solidFill>
                <a:latin typeface="Times New Roman"/>
              </a:rPr>
              <a:t>Николая Чудотворц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050920" y="549360"/>
            <a:ext cx="5688000" cy="5303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68360" y="6021360"/>
            <a:ext cx="6696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      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Священное Евангелие 18 в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900000" y="1263960"/>
            <a:ext cx="698688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Евангелие (от греч. - добрая весть, благовествование) - это название раннехристианских сочинений, повествующих о земной жизни Иисуса Христа. Евангелие - это книга для чтения и для богослужения. Древнейший перевод Евангелия был осуществлён славянскими просветителями Кириллом 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Мефодием в 863 году. Древнейший список древнерусского Евангелия сохранился до наших дне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29800" y="552600"/>
            <a:ext cx="7174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3300"/>
                </a:solidFill>
                <a:latin typeface="Times New Roman"/>
              </a:rPr>
              <a:t>Cвященное Евангелие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1042920" y="765000"/>
            <a:ext cx="6872400" cy="51548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1835280" y="623736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Верхняя часть титульного листа книг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258920" y="765000"/>
            <a:ext cx="7016760" cy="526284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2411280" y="6165720"/>
            <a:ext cx="54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Середина титульного листа книг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1187280" y="765000"/>
            <a:ext cx="6983640" cy="523728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08000" y="6165720"/>
            <a:ext cx="554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Нижняя часть титульного листа книг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1116000" y="692280"/>
            <a:ext cx="7056360" cy="529272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2627280" y="6237360"/>
            <a:ext cx="525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Страница из Священного Евангел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7T12:51:34Z</dcterms:created>
  <dc:creator>Кириллов Сергей Матвеевич</dc:creator>
  <dc:description/>
  <dc:language>en-US</dc:language>
  <cp:lastModifiedBy>Кириллов Сергей Матвеевич</cp:lastModifiedBy>
  <dcterms:modified xsi:type="dcterms:W3CDTF">2009-03-27T14:19:36Z</dcterms:modified>
  <cp:revision>3</cp:revision>
  <dc:subject/>
  <dc:title>Слайд 1</dc:title>
</cp:coreProperties>
</file>