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A42-7993-4987-BA37-C1D62896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BF4-AEA0-4295-9288-80E9A027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973-468E-48D1-81D0-BF9CBBB0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A7C-C065-4B72-8FE6-BC5A9995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F16-8FB5-417C-B083-7FE7A9F5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32A5-3755-4221-91A1-C1936DDC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64C8-F093-46B5-8CA2-84FA001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8540-C463-42B0-911A-50472A84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C38B-FAC1-46BE-9B3B-543766D1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6A2D-FEE3-4528-9A9F-9A6652E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E2BD-99C6-4AA1-9C51-27823CC8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7C1-3EAA-458E-B1BE-448DE8AE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96B2-DAAF-4B91-8BF7-E4A90AB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A322-9BB4-448D-94FF-CF63A4A4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1FDE-80E5-4616-93FA-30235526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70BC-A416-4ECB-8550-04591D53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3EC2-0836-4D23-A7D3-C9780CDE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7F0-F4BA-473E-8734-6A275DFF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714-84E9-446B-AF6C-57D5C30C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A6D-851A-4344-93F5-B665511D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325-49A0-46E7-ABC9-88613B66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CD1-295F-4095-8D4B-D008EDCC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D8C-02FD-4301-99E6-1C9013F9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8AD-A174-4BD4-B4A2-F18D8F48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2F85-8769-4256-B27F-2F507DAE6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9346-5ADF-4B0E-8101-C23E300CAC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66ff"/>
                </a:solidFill>
                <a:latin typeface="Times New Roman"/>
              </a:rPr>
              <a:t>Экскурсия по экспозиции         </a:t>
            </a:r>
            <a:br>
              <a:rPr sz="3100"/>
            </a:br>
            <a:r>
              <a:rPr b="1" lang="en-US" sz="3100" spc="-1" strike="noStrike">
                <a:solidFill>
                  <a:srgbClr val="ff66ff"/>
                </a:solidFill>
                <a:latin typeface="Times New Roman"/>
              </a:rPr>
              <a:t> «Церковная утварь»</a:t>
            </a:r>
            <a:endParaRPr b="0" lang="en-US" sz="31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908000" y="1341360"/>
            <a:ext cx="2514600" cy="2706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2864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*Икона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«Николай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Чудотворец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*Священное Еванг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2210040" cy="2514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6553080" cy="4915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00360" y="6237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Рисунки и шрифт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128000" cy="534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40000" y="6237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Верхняя часть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916360" y="6381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Книга в развёрнутом ви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8360" y="609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Церковная ут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6400800" cy="6096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43280" y="64008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Ритуальный  церковный кр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932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08360" y="587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Лампа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635280" y="1268280"/>
            <a:ext cx="5256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1700280"/>
            <a:ext cx="78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Благодарим за просмотр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До новых встреч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" descr=""/>
          <p:cNvPicPr/>
          <p:nvPr/>
        </p:nvPicPr>
        <p:blipFill>
          <a:blip r:embed="rId2"/>
          <a:stretch/>
        </p:blipFill>
        <p:spPr>
          <a:xfrm>
            <a:off x="0" y="692280"/>
            <a:ext cx="8964720" cy="4464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8" name=""/>
          <p:cNvSpPr/>
          <p:nvPr/>
        </p:nvSpPr>
        <p:spPr>
          <a:xfrm>
            <a:off x="1042920" y="566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Храм православных прихожан с. Новотроиц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06680" y="189000"/>
            <a:ext cx="5545080" cy="6048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00360" y="6237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Николай Чудотвор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155736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еред вами экспонат Новотроицкого краеведческого музея из экспозиции «Церковная утварь» - икона Николай Чудотворец. Икона (от греч. -образ, вид, изображение) -это живописное или рельефное символическое изображение Иисуса Христа, Богоматери и святых, которым церковь придает священный характ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Николай Чудотворец - один из самых почитаемых святых в России и во всём христианском мире. В православной традиции именуется также Николаем Угодником. Ещё при жизни святитель Николай прославился многими подвигами и чудесами. Поэтому день его погребения - 19 декабря – стал общехристианским праздником. Покровительство Николая Угодника распространялось, прежде всего, на плавающих и путешествующих, на «всех сирых и убогих», на скотоводство и земледелие, считался он также и «хранителем земных вод». Ему посвящено огромное число храмов, монастырей, икон, многие из которых почитаются как чудотвор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5480" y="260280"/>
            <a:ext cx="554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Икон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Николая Чудотвор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549360"/>
            <a:ext cx="5688000" cy="5303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68360" y="6021360"/>
            <a:ext cx="66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Священное Евангелие 18 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1263960"/>
            <a:ext cx="698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вангелие (от греч. - добрая весть, благовествование) - это название раннехристианских сочинений, повествующих о земной жизни Иисуса Христа. Евангелие - это книга для чтения и для богослужения. Древнейший перевод Евангелия был осуществлён славянскими просветителями Кириллом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фодием в 863 году. Древнейший список древнерусского Евангелия сохранился до наших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800" y="552600"/>
            <a:ext cx="717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Times New Roman"/>
              </a:rPr>
              <a:t>Cвященное Евангел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765000"/>
            <a:ext cx="6872400" cy="515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35280" y="6237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Верхняя часть титульного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7016760" cy="5262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11280" y="61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Середина титульного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7280" y="765000"/>
            <a:ext cx="6983640" cy="5237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8000" y="6165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Нижняя часть титульного листа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27280" y="6237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Страница из Священного Еванг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2:51:34Z</dcterms:created>
  <dc:creator>Кириллов Сергей Матвеевич</dc:creator>
  <dc:description/>
  <dc:language>en-US</dc:language>
  <cp:lastModifiedBy>Кириллов Сергей Матвеевич</cp:lastModifiedBy>
  <dcterms:modified xsi:type="dcterms:W3CDTF">2009-03-27T14:19:36Z</dcterms:modified>
  <cp:revision>3</cp:revision>
  <dc:subject/>
  <dc:title>Слайд 1</dc:title>
</cp:coreProperties>
</file>