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C34-AD87-41D6-982E-F1A1C08E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5AD-5D86-404F-82D9-011FD77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1DD-F2C4-4F19-B504-0340E5AC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B95-D7B2-4948-A750-D545F4FB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19F0-0B90-42C2-B735-BC622608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F23-CCB7-4034-BA84-3EA82AA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914F-B5F1-47BE-928E-5D2C0303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C60-A65F-4881-AE50-725CDDE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5334-6248-43E1-81C6-0753878F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EEA2-0BD4-4891-887D-A41BB2F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4854-BC7A-4F87-8E3D-5379728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B4C-C585-4168-9A36-DA13540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358-9A78-4F24-89F8-F27547DF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AEC5-2B50-4DFF-A025-FD9E3254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185D-73FA-4539-958F-A6AC817E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F89-979E-4537-BF34-3BA723AE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BCC7-F5D7-48BF-9A62-6842522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D9A-30F0-4863-B23B-A8BD15F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D29-CA5F-4A44-9199-12576C5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4FD-DE55-4B97-9AD3-0EA5C154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C62-B5E5-492F-8E9D-ED9FDA5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92D-3306-4815-B560-994502E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B7D-2348-4F23-B21C-EA19698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181-15DE-4585-A678-99D05B6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6874-AB5B-493E-A354-BB33ADA25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1CB-ECEA-43F2-AEDC-05E776047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Экскурсия по экспозиции         </a:t>
            </a:r>
            <a:br>
              <a:rPr sz="3100"/>
            </a:b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 «Церковная утварь»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2514600" cy="2706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286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Икона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«Николай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Чудотвор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Священное Еванг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0036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сунки и шрифт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40000" y="6237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16360" y="6381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нига в развёрнутом ви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8360" y="609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Церковная ут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0800" cy="609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6400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туальный  церковный к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932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0836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Ламп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635280" y="126828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70028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Благодарим за просмотр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До новых встреч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" descr=""/>
          <p:cNvPicPr/>
          <p:nvPr/>
        </p:nvPicPr>
        <p:blipFill>
          <a:blip r:embed="rId2"/>
          <a:stretch/>
        </p:blipFill>
        <p:spPr>
          <a:xfrm>
            <a:off x="0" y="692280"/>
            <a:ext cx="8964720" cy="44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8" name=""/>
          <p:cNvSpPr/>
          <p:nvPr/>
        </p:nvSpPr>
        <p:spPr>
          <a:xfrm>
            <a:off x="1042920" y="566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Храм православных прихожан с. Новотроиц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6680" y="189000"/>
            <a:ext cx="5545080" cy="604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0360" y="6237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Николай Чудо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55736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д вами экспонат Новотроицкого краеведческого музея из экспозиции «Церковная утварь» - икона Николай Чудотворец. Икона (от греч. -образ, вид, изображение) -это живописное или рельефное символическое изображение Иисуса Христа, Богоматери и святых, которым церковь придает священный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иколай Чудотворец - один из самых почитаемых святых в России и во всём христианском мире. В православной традиции именуется также Николаем Угодником. Ещё при жизни святитель Николай прославился многими подвигами и чудесами. Поэтому день его погребения - 19 декабря – стал общехристианским праздником. Покровительство Николая Угодника распространялось, прежде всего, на плавающих и путешествующих, на «всех сирых и убогих», на скотоводство и земледелие, считался он также и «хранителем земных вод». Ему посвящено огромное число храмов, монастырей, икон, многие из которых почитаются как чудотвор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5480" y="260280"/>
            <a:ext cx="554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Ико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Николая Чудотвор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688000" cy="530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68360" y="602136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вященное Евангелие 18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263960"/>
            <a:ext cx="69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вангелие (от греч. - добрая весть, благовествование) - это название раннехристианских сочинений, повествующих о земной жизни Иисуса Христа. Евангелие - это книга для чтения и для богослужения. Древнейший перевод Евангелия был осуществлён славянскими просветителями Кириллом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фодием в 863 году. Древнейший список древнерусского Евангелия сохранился до наших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800" y="552600"/>
            <a:ext cx="717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Cвященное Евангел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6872400" cy="515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6237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016760" cy="526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11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ередина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983640" cy="5237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8000" y="6165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Ниж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2728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траница из Священного Еванг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51:34Z</dcterms:created>
  <dc:creator>Кириллов Сергей Матвеевич</dc:creator>
  <dc:description/>
  <dc:language>en-US</dc:language>
  <cp:lastModifiedBy>Кириллов Сергей Матвеевич</cp:lastModifiedBy>
  <dcterms:modified xsi:type="dcterms:W3CDTF">2009-03-27T14:19:36Z</dcterms:modified>
  <cp:revision>3</cp:revision>
  <dc:subject/>
  <dc:title>Слайд 1</dc:title>
</cp:coreProperties>
</file>