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A96-1F21-4F28-A311-519DD9B1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334-D49E-48C9-8C97-164E69B6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775-581A-47A6-A8DA-E7F8FE2C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0F9-2F8B-4785-8C46-4C046052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48A-279E-4948-A16E-44695F41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10C-9A64-4730-9225-35BFD94D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7FD-3F81-4A7C-B552-4D809D58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D1A-B10F-4C23-8117-16FEF635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D4C-FB9E-4398-9C87-F7C52D13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ADC-0D9F-4528-B59C-5A54A497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C14-7CBE-4750-AA02-9FF9C6C4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60F-A9BC-4AA8-842D-7F56E7AD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3137-519B-4EA7-B153-C0B63CC036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9144000" cy="70009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Синдром дефицита внимания с гиперактивность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Этиология   СДВ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ричины биологического характер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влияние окружающей среды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психоциальные воздейств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имптомокомплекс СДВ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вниматель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перактив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пульсив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удности в обучении и межличностных      отношения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СДВГ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бычно сочетается с поведенческими и тревожными расстройствами, задержками в формировании языка и речи, а также школьных навык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сихопатологические состояни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ложняющие течение СДВ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84060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51:39Z</dcterms:created>
  <dc:creator>ПН</dc:creator>
  <dc:description/>
  <dc:language>en-US</dc:language>
  <cp:lastModifiedBy>ПН</cp:lastModifiedBy>
  <dcterms:modified xsi:type="dcterms:W3CDTF">2009-11-18T18:08:54Z</dcterms:modified>
  <cp:revision>3</cp:revision>
  <dc:subject/>
  <dc:title>Синдром дефицита внимания с гиперактивностью</dc:title>
</cp:coreProperties>
</file>