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F84-5825-4C72-926B-0DEB0B8F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08F-D3FC-43E4-AE94-E452D61D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C44-7EB1-481B-AE7E-05175989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2A3-38BC-41E9-A9C7-0C22EACC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966-736B-4F0F-B0A9-DBCA91E2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630-BC5D-4EDC-B21E-E54B59AD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268-40F8-4FD9-BB8E-689EAF44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7AE-6F06-47B8-ABE0-903AECB7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E5D-04D5-4CED-AF7C-6917B915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7EB-152B-48C9-B74C-D039A8A8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04E-C8D8-4D53-9DDC-4EBD541B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11A-0628-4E3F-ABFC-E8790B9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C52B-D3FF-425F-9C9B-8860629E3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9144000" cy="70009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Синдром дефицита внимания с гиперактивность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Этиология   СДВ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ричины биологического характер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влияние окружающей среды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психоциальные воз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имптомокомплекс СДВ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вниматель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ерактив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мпульсив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ности в обучении и межличностных      отношения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СДВГ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бычно сочетается с поведенческими и тревожными расстройствами, задержками в формировании языка и речи, а также школьных навык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сихопатологические состояни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ложняющие течение СДВ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384120" y="1530360"/>
            <a:ext cx="84060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51:39Z</dcterms:created>
  <dc:creator>ПН</dc:creator>
  <dc:description/>
  <dc:language>en-US</dc:language>
  <cp:lastModifiedBy>ПН</cp:lastModifiedBy>
  <dcterms:modified xsi:type="dcterms:W3CDTF">2009-11-18T18:08:54Z</dcterms:modified>
  <cp:revision>3</cp:revision>
  <dc:subject/>
  <dc:title>Синдром дефицита внимания с гиперактивностью</dc:title>
</cp:coreProperties>
</file>