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480-95FE-4302-973F-CEA91D14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A70-469F-4C55-B6CE-5397248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272-0921-4CFB-882A-2911E472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CCE-7731-4667-8538-EAC9D1A3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56D-C284-4E90-B622-F05E2EDA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1ED-E055-4523-88AA-2B8CDE3B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587-AF05-48A0-BAE1-E3767477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025-5CCF-48C5-904D-6E066C0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369-11E9-40C9-8160-CC7A662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0F6-A356-4D89-9B6C-6284F74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8CE-05FD-46F5-87C2-C0FC186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421-1DCD-4D84-BB76-E4AA950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D6B-C61A-40FE-B8CD-4D1D02CD6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70009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индром дефицита внимания с гиперактивность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иология   СДВ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ричины биологического характер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лияние окружающей среды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сихоциальные воз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имптомокомплекс СДВ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ниматель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актив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пульсив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ности в обучении и межличностных      отношени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ДВГ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бычно сочетается с поведенческими и тревожными расстройствами, задержками в формировании языка и речи, а также школьных навык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патологические состояни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ложняющие течение СДВ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4060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51:39Z</dcterms:created>
  <dc:creator>ПН</dc:creator>
  <dc:description/>
  <dc:language>en-US</dc:language>
  <cp:lastModifiedBy>ПН</cp:lastModifiedBy>
  <dcterms:modified xsi:type="dcterms:W3CDTF">2009-11-18T18:08:54Z</dcterms:modified>
  <cp:revision>3</cp:revision>
  <dc:subject/>
  <dc:title>Синдром дефицита внимания с гиперактивностью</dc:title>
</cp:coreProperties>
</file>