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74A-6740-459F-9B02-3252C270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DE4-7500-4FC7-87A1-BB2C1C53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AAF-B01D-432F-A4AF-5D9A37C9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04E-24A1-448C-86CD-410F1D31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CA42-C792-485A-9C0F-88AFD4FC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5E73-F709-49EA-95E9-39ACC3BA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F2A9-3F5D-46C8-BDF0-EDF24E98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5015-7420-4684-9A7C-1104A21F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E3A8-4142-4E0E-B478-F432A867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C0B5-099C-4DAC-BA57-A6BA6033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D38A-57E2-4B28-A597-D268DA00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297-0292-4211-99F4-0C78DCF9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EB6D-0A0E-4028-81F7-260A60E3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E54F-44F1-4310-BE7D-B4A6D556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B173-B882-46A5-A6AD-667280E0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4274-DA03-40AA-9719-1D585FA6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D696-5BA2-427F-8B18-8130C4F0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C53-188A-466C-8BF5-79259BD4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EFD-8951-4123-A793-A8477C0D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F25-1BC3-4217-A39C-C1C62A30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80C-27D9-46FE-8F71-E04EC2B9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749-41C3-401E-99D5-8CB4850F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C47-8103-4A1A-85E6-282C393C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327-2709-4A03-9EE6-72E9C1A1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5AB4-B684-4ECA-823B-B5DD767743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ED18-8AE9-4FC4-B373-70447162DE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66"/>
                </a:solidFill>
                <a:uFillTx/>
                <a:latin typeface="Arial"/>
              </a:rPr>
              <a:t>Философский </a:t>
            </a:r>
            <a:br>
              <a:rPr sz="4800"/>
            </a:br>
            <a:r>
              <a:rPr b="1" lang="ru-RU" sz="4800" spc="-1" strike="noStrike" u="sng">
                <a:solidFill>
                  <a:srgbClr val="006666"/>
                </a:solidFill>
                <a:uFillTx/>
                <a:latin typeface="Arial"/>
              </a:rPr>
              <a:t>мистицизм </a:t>
            </a:r>
            <a:r>
              <a:rPr b="1" lang="en-US" sz="4800" spc="-1" strike="noStrike" u="sng">
                <a:solidFill>
                  <a:srgbClr val="006666"/>
                </a:solidFill>
                <a:uFillTx/>
                <a:latin typeface="Arial"/>
              </a:rPr>
              <a:t>XX</a:t>
            </a:r>
            <a:r>
              <a:rPr b="1" lang="ru-RU" sz="4800" spc="-1" strike="noStrike" u="sng">
                <a:solidFill>
                  <a:srgbClr val="006666"/>
                </a:solidFill>
                <a:uFillTx/>
                <a:latin typeface="Arial"/>
              </a:rPr>
              <a:t> век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11280" y="3427200"/>
            <a:ext cx="633744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читель - Кутузова С.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К. Кастанеда: путь м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35280" y="1700280"/>
            <a:ext cx="550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рлос Cесар Сальвадор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ранья Кастанед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12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– 27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4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 –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мериканский писатель и антрополог,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нограф, мыслитель эзотерической ориентаци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 мистик, автор книг-бестселлеров, посвящённых шаманизму и изложению необычного для западного человека мировоззр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Учения дона Хуана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Отдельная реальность»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18173" b="0"/>
          <a:stretch/>
        </p:blipFill>
        <p:spPr>
          <a:xfrm>
            <a:off x="108000" y="1700280"/>
            <a:ext cx="3240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К. Кастанеда: путь м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ение Кастанеды предполагает готовность человека к нестандартному восприятию. Вот как он сам писал об уроке дона Хуана: «Он утверждал, что учит меня видению в противоположность просто смотрению, а остановка мира была первым шагом к видению». Термину «остановка мира» при этом придавался особый смысл: человек должен уметь остановить поток обычных ощущений, чтобы полностью изменить их (напр., увидеть смерть, мертвое тело и т.п.)«Остановка мира» была воспроизведением определенных состояний сознания, в которых реальность повседневной жизни измене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торая проблема - процесс «видения». Кастанеда обращается к опыту древних и их использованию природных наркотиков. Практика их употребления была широко известна. Человек, близкий к природе, не мог не знать о растениях, вызывающих в нем необычный эмоциональный и духовный подъе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станеду интересует сама природа человеческого сознания и то, что человек - творец, ему только нужно сбросить некоторых шоры и скованность психики, чтобы созидать свой мир. Каждый человек погружен в обыденное, как бы приговорен к пожизненному однообразию. Нужно «взорвать» это однообразие. Человеку во все времена было тесно в рамках своего «я». Душа человека - это вселенная, бесконечны ее миры. Бесконечны и способности познавать, возможности языка, знаков, взаимосвязи тела и рассуд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станеда изучал не только мир сознания, но и создал учение о бытии, воспринимаемом этим миром сознания. И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главная его идея состояла в том, что реальность, окружающая нас, призра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е стоит относиться к ней с полной серьезностью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К. Кастанеда: путь м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827000"/>
            <a:ext cx="8209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. Кастанеда исследует новый способ познания, мало кем до сих пор изученный, - с помощью интуиции, интуитивный. Речь идет об одном из способов приобретения эзотерического миропонимания. Этот способ - употребление некоторых растений, обладающих наркотическим эффектом, вызывающих галлюцинации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стик может вызывать разные видения, но это не плод воображения, а реальность. Новый опыт позволяет открыть врата иного бытия. Наша обычная реальность не является единственно возможно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8064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сновной особенностью произведений мистиков нашего века является их включенность в совокупный культурно-философский опыт человечества, тесная связь со многими философскими учениями Востока, Запада, Азии, обращенность к глубокой древности. Кроме того, неорелигия не нуждается в догматике и авторитетах, столь необходимых в религиях мира. Мистическая духовная традиция безусловно возникла не сегодня. Как бы ни спорило человечество о ее правомерности, это реально существующий тип восприятия. Непризнание этого ограничивает полноту человеческого мироощущения, возможности миропозна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 философской стороны, мистика - это вненаучная духовная практика, сознательно снимающая противоположность субъекта и объекта познания и деятельности. Строго говоря, это не тип познания, а сотворение уникальной духовной реальности, уникальной в том смысле, что создается каждым мистиком лично, что наряду с природной реальностью и реальностью культурного мира здесь утверждается существование специфически иной, третьей реальности, явно не имеющей характеристик трансцендентного Бога традиционных религий. Мистик идет путем, противоположным научному. Если ученый в процессе познания старается сознательно исключить или максимально учесть субъективные факторы, то мистик, наоборот, очищает сознание от объективно-научного и других культурных предпосылок мышления, находя "по ту сторону души" искомую сверхэмпирическую реальнос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писок использованной литератур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827000"/>
            <a:ext cx="79930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http://society.polbu.ru/frolov_intphilosophy/ch59_i.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http://ru.wikipedia.or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http://www.occulte.ru/philosophy/367-filosofskijj-misticizm-xx-v..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Общая характер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827000"/>
            <a:ext cx="81378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истици́з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греч.— таинственный) — философское и богословское учение, а также особый способ понимания и восприятия мира, основанный на эмоциях, интуиции и иррационализме. Мистические доктрины встречаются во всех мировых религиях и верованиях и имеют общие черты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яготеют к интуитивизму и символизму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дполагают практику определённых психофизических упражнений или медитаций, необходимых для достижения определенного состояния разума и психик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д мистикой в широком смысле понимают единство необычных ("мистических") состояний психики человека и "мистицизма", то есть "теорий", объясняющих и оправдывающих эти состояни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Общая характер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нец XIX и начало XX века — время кризиса европейского сознани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философии XX в. развиваются различные формы неорелигиозного мистицизма. На первый план выдвигаются нерациональные способы постижения мира, а именно: парапсихологические, телепатические, экстрасенсорные. Большое влияние уделяется духовно-психическим способностям и явлениям, особая ценность придается таким состояниям психики, как экстаз, одержимость, психопатологи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еософская концепция Е.П.Блаватско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80000" y="1989000"/>
            <a:ext cx="52560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лена Петровна Блаватска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31.07.1831 – 26.04.1891) - русская писательница и мыслитель, оккультист, спиритуалист. Под влиянием индийской философии в 1875 г. основала в Нью-Йорке теософское обществ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Тайная доктрина» (1888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Голос безмолвия» (Голос тишины) (1889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Ключ к теософии» (1889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5853" r="0" b="6173"/>
          <a:stretch/>
        </p:blipFill>
        <p:spPr>
          <a:xfrm>
            <a:off x="108000" y="1773360"/>
            <a:ext cx="3600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еософская концепция Е.П.Блаватско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ама Блаватская передавала смысл своей теософии так: «Все, ведущее к единству, есть добро; все, ведущее к разъединению, есть зло»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еософская концепция Е.П.Блаватско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тина не является достоянием какого-то одного народа или какого-то одного учения, одной религии. «Тайная Доктрина является сущностью их всех, она примиряет все религии, снимая с каждой ее внешнюю оболочку, ... указывает на тождественность корня каждой с основою всякой другой великой религии». Блаватская стремилась объединить различные религии через раскрытие тождественности сокровенного (эзотерического) смысла всех религиозных символов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зучение древних текстов, по Блаватской, помогает прогнозированию. В её материалах в символической форме излагается возникновение планет солнечной системы и их движени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ожество становится Вихрем. Вихрь порождает спиралевидное движение. Действительно, испокон веков Вселенная символически выражалась спиралью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оззрение Блаватской построено на анализе древних идей космогенеза и антропогенеза. Использованы древние тексты монастырей и храмов Восто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еософская концепция Е.П.Блаватско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вое учение Блаватская называла теософией, отделяя его тем самым от известных религий. Она полагала, что вообще не было в истории человечества «новых» учений, религиозных основателей ни у одного народа, не было изобретателя новой религии или новой истины, а все предполагаемые изобретатели были лишь передатчиками, посредниками, не учителями. Сами же истины, на которых основывались их учения, были стары, как само человечество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Тайная Доктрина» основана на Станцах Дзиан, т. е. древних книгах, предшествующих Ведам и впервые опубликованных Блаватской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явление и исчезновение Вселенной изображается Блаватской на основе древних текстов, как «Выдыхание» и «Вдыхание» «Великого дыхания» или «Божественного дыхания». Книга Дзиан говорит: «Появление и исчезновение Миров подобно правильному возвращению прилива и отлива». В образной форме древние тексты говорили о том, что Вселенные могут возникать и исчеза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Антропософия Р. Штайнер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48000" y="1699920"/>
            <a:ext cx="5688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удольф Йозеф Лоренц Штайнер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(27.02.1861— 30.03.1925) — австрийский философ-мистик, писатель, эзотерик, создатель духовной науки, известной как антропософ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«Теософия. Введение в сверхчувственное познание мира и назначение человека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«Очерк тайноведения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«Мистерии древности и христианство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3116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Антропософия Р. Штайнер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Философ называл себя «наблюдателем сверхчувственного». Без познания сверхчувственного мира невозможна полнота знания, считал он. Благодаря ему раскрывается «око духа» и появляется «высшее чувство». «Каждое духовное око может быть раскрыто, и лишь вопрос времени, когда оно откроется»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«Высшее знание» дается, по Штайнеру, с помощью «высшего зрения», т. е. определенной степени духовности человека. Должно быть «духовное призвание». Штайнер называл его «божественным» знанием и чувством, «божественной мудростью», т. е. теософией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ловек есть «гражданин трех миров»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воим телом он принадлежит к миру, воспринимаемому органами чувств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воей душой он создает себе свой собственный мир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рез его дух перед ним раскрывается мир, который выше этих обоих миров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ловеку свойственна как физическая, так и духовная наследственность. Как духовный человек, я должен был существовать до моего рождения. В моих предках я не существовал, так как они в духовном отношении совершенно другие люди. «В жизни человеческой Дух является повторением самого себя, с плодами своих прежних переживаний в прошлых жизнях». Он ввел понятие «Самодух». Жизнь есть повторение других, и она приносит с собой то, что Самодух выработал для себя в прошлой жизни. «Жизнедух» переносит душу человека от одного личного бытия в другое. Жизнь души есть последствие судьбы, созданной самим же человеческим духом, которая называется в древних учениях кармой. Дух подчиняется закону перевоплощения, закону повторяющихся земных жизней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Христианство, считал Штайнер, способствовало тому, что истина стала доступной не только отдельно избранным, а всем. Вера и познание в христианстве стоят рядом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3:25:24Z</dcterms:created>
  <dc:creator>Оля</dc:creator>
  <dc:description/>
  <dc:language>en-US</dc:language>
  <cp:lastModifiedBy>ksv</cp:lastModifiedBy>
  <dcterms:modified xsi:type="dcterms:W3CDTF">2011-09-06T10:08:07Z</dcterms:modified>
  <cp:revision>4</cp:revision>
  <dc:subject/>
  <dc:title>бл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