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CC5-B0D7-46BB-9153-3ECB90C5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C83-1F2F-4A44-8325-8B126C12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D67-7053-4004-BFB8-89534500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771-20F0-4AA7-A909-42C8F7E0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A53F-37D4-47EA-BF71-5037E128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D54A-0861-4AC0-B586-4E7990A4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67D7-E527-4870-88BD-9EDC774B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B3A0-3DB7-41D2-BA9E-31505A3A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CBBB-09FC-46D4-814D-3BAAA23C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8ED7-2120-432A-AB35-F2294943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5E28-847F-4321-9112-7D8B9E16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F49-AE06-4181-850B-A33B97BA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8BB4-B75D-4007-AE3D-62595176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1C10-1558-4E30-8002-A5EA8C22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033F-8F77-4844-8CF3-3D73BC30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2CE3-2F5D-4C18-86C0-0CBBAF82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C5DF-271C-4B14-B351-FA6C5C49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E4D-7ACE-4770-9200-7D1598BC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982-3131-484D-89FA-A176CD5C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879-D160-4CE8-8C26-44BFEAE5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22C-7C90-4DF9-B24B-E48051B2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CD1-AF81-40FA-989F-8E0B1221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A93-CC71-4A1B-8789-D7DC7FEA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582-D5AC-4DF2-828E-F2C87B1D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5C80-83F0-4916-94FC-D4F04AF1F5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EBCF-61A0-49B2-9D06-7B12488871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66"/>
                </a:solidFill>
                <a:uFillTx/>
                <a:latin typeface="Arial"/>
              </a:rPr>
              <a:t>Философский </a:t>
            </a:r>
            <a:br>
              <a:rPr sz="4800"/>
            </a:br>
            <a:r>
              <a:rPr b="1" lang="ru-RU" sz="4800" spc="-1" strike="noStrike" u="sng">
                <a:solidFill>
                  <a:srgbClr val="006666"/>
                </a:solidFill>
                <a:uFillTx/>
                <a:latin typeface="Arial"/>
              </a:rPr>
              <a:t>мистицизм </a:t>
            </a:r>
            <a:r>
              <a:rPr b="1" lang="en-US" sz="4800" spc="-1" strike="noStrike" u="sng">
                <a:solidFill>
                  <a:srgbClr val="006666"/>
                </a:solidFill>
                <a:uFillTx/>
                <a:latin typeface="Arial"/>
              </a:rPr>
              <a:t>XX</a:t>
            </a:r>
            <a:r>
              <a:rPr b="1" lang="ru-RU" sz="4800" spc="-1" strike="noStrike" u="sng">
                <a:solidFill>
                  <a:srgbClr val="006666"/>
                </a:solidFill>
                <a:uFillTx/>
                <a:latin typeface="Arial"/>
              </a:rPr>
              <a:t> век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11280" y="3427200"/>
            <a:ext cx="633744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читель - Кутузова С.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К. Кастанеда: путь м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5280" y="1700280"/>
            <a:ext cx="550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рлос Cесар Сальвадор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ранья Кастанед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12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– 27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4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 –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мериканский писатель и антрополог,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нограф, мыслитель эзотерической ориентаци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 мистик, автор книг-бестселлеров, посвящённых шаманизму и изложению необычного для западного человека мировоззр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Учения дона Хуан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Отдельная реальность»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18173" b="0"/>
          <a:stretch/>
        </p:blipFill>
        <p:spPr>
          <a:xfrm>
            <a:off x="108000" y="1700280"/>
            <a:ext cx="3240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К. Кастанеда: путь м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ение Кастанеды предполагает готовность человека к нестандартному восприятию. Вот как он сам писал об уроке дона Хуана: «Он утверждал, что учит меня видению в противоположность просто смотрению, а остановка мира была первым шагом к видению». Термину «остановка мира» при этом придавался особый смысл: человек должен уметь остановить поток обычных ощущений, чтобы полностью изменить их (напр., увидеть смерть, мертвое тело и т.п.)«Остановка мира» была воспроизведением определенных состояний сознания, в которых реальность повседневной жизни измене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торая проблема - процесс «видения». Кастанеда обращается к опыту древних и их использованию природных наркотиков. Практика их употребления была широко известна. Человек, близкий к природе, не мог не знать о растениях, вызывающих в нем необычный эмоциональный и духовный подъе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станеду интересует сама природа человеческого сознания и то, что человек - творец, ему только нужно сбросить некоторых шоры и скованность психики, чтобы созидать свой мир. Каждый человек погружен в обыденное, как бы приговорен к пожизненному однообразию. Нужно «взорвать» это однообразие. Человеку во все времена было тесно в рамках своего «я». Душа человека - это вселенная, бесконечны ее миры. Бесконечны и способности познавать, возможности языка, знаков, взаимосвязи тела и рассуд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станеда изучал не только мир сознания, но и создал учение о бытии, воспринимаемом этим миром сознания. И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главная его идея состояла в том, что реальность, окружающая нас, призра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е стоит относиться к ней с полной серьезностью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К. Кастанеда: путь м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827000"/>
            <a:ext cx="8209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. Кастанеда исследует новый способ познания, мало кем до сих пор изученный, - с помощью интуиции, интуитивный. Речь идет об одном из способов приобретения эзотерического миропонимания. Этот способ - употребление некоторых растений, обладающих наркотическим эффектом, вызывающих галлюцинации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стик может вызывать разные видения, но это не плод воображения, а реальность. Новый опыт позволяет открыть врата иного бытия. Наша обычная реальность не является единственно возможно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8064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сновной особенностью произведений мистиков нашего века является их включенность в совокупный культурно-философский опыт человечества, тесная связь со многими философскими учениями Востока, Запада, Азии, обращенность к глубокой древности. Кроме того, неорелигия не нуждается в догматике и авторитетах, столь необходимых в религиях мира. Мистическая духовная традиция безусловно возникла не сегодня. Как бы ни спорило человечество о ее правомерности, это реально существующий тип восприятия. Непризнание этого ограничивает полноту человеческого мироощущения, возможности миропозн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 философской стороны, мистика - это вненаучная духовная практика, сознательно снимающая противоположность субъекта и объекта познания и деятельности. Строго говоря, это не тип познания, а сотворение уникальной духовной реальности, уникальной в том смысле, что создается каждым мистиком лично, что наряду с природной реальностью и реальностью культурного мира здесь утверждается существование специфически иной, третьей реальности, явно не имеющей характеристик трансцендентного Бога традиционных религий. Мистик идет путем, противоположным научному. Если ученый в процессе познания старается сознательно исключить или максимально учесть субъективные факторы, то мистик, наоборот, очищает сознание от объективно-научного и других культурных предпосылок мышления, находя "по ту сторону души" искомую сверхэмпирическую реальнос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писок использованной литератур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827000"/>
            <a:ext cx="79930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http://society.polbu.ru/frolov_intphilosophy/ch59_i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http://ru.wikipedia.or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http://www.occulte.ru/philosophy/367-filosofskijj-misticizm-xx-v.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Общая характер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827000"/>
            <a:ext cx="81378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истици́з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греч.— таинственный) — философское и богословское учение, а также особый способ понимания и восприятия мира, основанный на эмоциях, интуиции и иррационализме. Мистические доктрины встречаются во всех мировых религиях и верованиях и имеют общие черты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яготеют к интуитивизму и символизму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дполагают практику определённых психофизических упражнений или медитаций, необходимых для достижения определенного состояния разума и психик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д мистикой в широком смысле понимают единство необычных ("мистических") состояний психики человека и "мистицизма", то есть "теорий", объясняющих и оправдывающих эти состояни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Общая характер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нец XIX и начало XX века — время кризиса европейского сознани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философии XX в. развиваются различные формы неорелигиозного мистицизма. На первый план выдвигаются нерациональные способы постижения мира, а именно: парапсихологические, телепатические, экстрасенсорные. Большое влияние уделяется духовно-психическим способностям и явлениям, особая ценность придается таким состояниям психики, как экстаз, одержимость, психопатологи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0" y="1989000"/>
            <a:ext cx="52560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лена Петровна Блаватска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31.07.1831 – 26.04.1891) - русская писательница и мыслитель, оккультист, спиритуалист. Под влиянием индийской философии в 1875 г. основала в Нью-Йорке теософское обществ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Тайная доктрина» (1888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Голос безмолвия» (Голос тишины) (1889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Ключ к теософии» (1889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5853" r="0" b="6173"/>
          <a:stretch/>
        </p:blipFill>
        <p:spPr>
          <a:xfrm>
            <a:off x="108000" y="1773360"/>
            <a:ext cx="3600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ама Блаватская передавала смысл своей теософии так: «Все, ведущее к единству, есть добро; все, ведущее к разъединению, есть зло»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ина не является достоянием какого-то одного народа или какого-то одного учения, одной религии. «Тайная Доктрина является сущностью их всех, она примиряет все религии, снимая с каждой ее внешнюю оболочку, ... указывает на тождественность корня каждой с основою всякой другой великой религии». Блаватская стремилась объединить различные религии через раскрытие тождественности сокровенного (эзотерического) смысла всех религиозных символо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учение древних текстов, по Блаватской, помогает прогнозированию. В её материалах в символической форме излагается возникновение планет солнечной системы и их движени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ожество становится Вихрем. Вихрь порождает спиралевидное движение. Действительно, испокон веков Вселенная символически выражалась спиралью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ззрение Блаватской построено на анализе древних идей космогенеза и антропогенеза. Использованы древние тексты монастырей и храмов Восто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ое учение Блаватская называла теософией, отделяя его тем самым от известных религий. Она полагала, что вообще не было в истории человечества «новых» учений, религиозных основателей ни у одного народа, не было изобретателя новой религии или новой истины, а все предполагаемые изобретатели были лишь передатчиками, посредниками, не учителями. Сами же истины, на которых основывались их учения, были стары, как само человечество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Тайная Доктрина» основана на Станцах Дзиан, т. е. древних книгах, предшествующих Ведам и впервые опубликованных Блаватской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явление и исчезновение Вселенной изображается Блаватской на основе древних текстов, как «Выдыхание» и «Вдыхание» «Великого дыхания» или «Божественного дыхания». Книга Дзиан говорит: «Появление и исчезновение Миров подобно правильному возвращению прилива и отлива». В образной форме древние тексты говорили о том, что Вселенные могут возникать и исчеза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Антропософия Р. Штайнер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48000" y="1699920"/>
            <a:ext cx="5688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удольф Йозеф Лоренц Штайнер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(27.02.1861— 30.03.1925) — австрийский философ-мистик, писатель, эзотерик, создатель духовной науки, известной как антропософ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Теософия. Введение в сверхчувственное познание мира и назначение человек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Очерк тайноведения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Мистерии древности и христианство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3116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Антропософия Р. Штайнер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Философ называл себя «наблюдателем сверхчувственного». Без познания сверхчувственного мира невозможна полнота знания, считал он. Благодаря ему раскрывается «око духа» и появляется «высшее чувство». «Каждое духовное око может быть раскрыто, и лишь вопрос времени, когда оно откроется»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«Высшее знание» дается, по Штайнеру, с помощью «высшего зрения», т. е. определенной степени духовности человека. Должно быть «духовное призвание». Штайнер называл его «божественным» знанием и чувством, «божественной мудростью», т. е. теософие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ловек есть «гражданин трех миров»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воим телом он принадлежит к миру, воспринимаемому органами чувств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воей душой он создает себе свой собственный мир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рез его дух перед ним раскрывается мир, который выше этих обоих миров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ловеку свойственна как физическая, так и духовная наследственность. Как духовный человек, я должен был существовать до моего рождения. В моих предках я не существовал, так как они в духовном отношении совершенно другие люди. «В жизни человеческой Дух является повторением самого себя, с плодами своих прежних переживаний в прошлых жизнях». Он ввел понятие «Самодух». Жизнь есть повторение других, и она приносит с собой то, что Самодух выработал для себя в прошлой жизни. «Жизнедух» переносит душу человека от одного личного бытия в другое. Жизнь души есть последствие судьбы, созданной самим же человеческим духом, которая называется в древних учениях кармой. Дух подчиняется закону перевоплощения, закону повторяющихся земных жизней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Христианство, считал Штайнер, способствовало тому, что истина стала доступной не только отдельно избранным, а всем. Вера и познание в христианстве стоят рядом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3:25:24Z</dcterms:created>
  <dc:creator>Оля</dc:creator>
  <dc:description/>
  <dc:language>en-US</dc:language>
  <cp:lastModifiedBy>ksv</cp:lastModifiedBy>
  <dcterms:modified xsi:type="dcterms:W3CDTF">2011-09-06T10:08:07Z</dcterms:modified>
  <cp:revision>4</cp:revision>
  <dc:subject/>
  <dc:title>б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