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FAA-4FC4-49CC-97A5-1E4E6B81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E4C-9AEE-409D-ABD0-38B0C7B6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C48-A504-4AEB-8544-DA1E2446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404C-8F62-4AC9-AAAB-221DBA60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EB81-46D5-4585-83DC-A324F073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AD83-1172-4087-9AA4-052D4B52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AE28-908B-4EDE-BDD8-2C6FACF2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21BE-A962-4307-99EE-86DE300C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F5E8-9BE8-4194-A7DF-17ADDA08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4DDB-949A-4BED-97BB-513747C2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A40B-61DA-4FA3-B693-C1DA61E5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B4D-1FDD-4165-A7D0-D9A6AE42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672C-377B-4370-BEAE-822B0269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3819-03E5-45DB-A8CD-F5E31282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A3EE-185A-4956-A82B-0A02C653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81AA-9270-40EF-B45E-6272C457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9B95-B7B0-4B05-864A-2377A0A1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ED0-EFBE-4535-B16D-2CD13429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5BC-EE6A-4B1B-972D-FFA85088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54B-F424-405F-A7F6-E3D764B7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9E76-C14B-45CB-A14F-87997F2A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BD1-5A56-4636-BCA8-8CE9A0DC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C038-5F50-442E-97EC-859E6C99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BB9-BD4C-4174-8691-1A940A28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2125-1103-4312-8C64-4F46B38F940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94D3-0FAA-41AD-99D6-71CAE077F0D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63640" y="1268280"/>
            <a:ext cx="5400720" cy="144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Ковалентная неполярная химическая связь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8f2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тонов, возникает –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8f2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йтронов, возникает -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8f2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лектронов, возникает -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2340000" y="620640"/>
            <a:ext cx="4032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 изменении числ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5076720" y="1844640"/>
            <a:ext cx="1440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овый атом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0" name="WordArt 8"/>
          <p:cNvSpPr txBox="1"/>
          <p:nvPr/>
        </p:nvSpPr>
        <p:spPr>
          <a:xfrm>
            <a:off x="4932360" y="3141720"/>
            <a:ext cx="2016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отоп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ого же элемента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1" name="WordArt 10"/>
          <p:cNvSpPr txBox="1"/>
          <p:nvPr/>
        </p:nvSpPr>
        <p:spPr>
          <a:xfrm>
            <a:off x="4788000" y="4508640"/>
            <a:ext cx="20764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он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ого же элемента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669440" cy="1568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200"/>
                </a:solidFill>
                <a:latin typeface="Arial"/>
              </a:rPr>
              <a:t>Какой из двух элементов более сильный: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916000" y="3068280"/>
            <a:ext cx="3887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a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ли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a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ли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g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ли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i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ли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С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708360" y="19155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200"/>
                </a:solidFill>
                <a:latin typeface="Arial"/>
              </a:rPr>
              <a:t>Метал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711960" y="191556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200"/>
                </a:solidFill>
                <a:latin typeface="Arial"/>
              </a:rPr>
              <a:t>Неметал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692316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пределить соединения с ионной связью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842920" y="2637000"/>
            <a:ext cx="40323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LiF,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HCL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a</a:t>
            </a:r>
            <a:r>
              <a:rPr b="1" lang="en-US" sz="2800" spc="-1" strike="noStrike" baseline="-8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,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aO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1" lang="en-US" sz="2800" spc="-1" strike="noStrike" baseline="-8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,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H</a:t>
            </a:r>
            <a:r>
              <a:rPr b="1" lang="en-US" sz="2800" spc="-1" strike="noStrike" baseline="-8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3"/>
          <p:cNvSpPr txBox="1"/>
          <p:nvPr/>
        </p:nvSpPr>
        <p:spPr>
          <a:xfrm>
            <a:off x="1547640" y="2421000"/>
            <a:ext cx="1320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ad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ИОННАЯ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ffad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ad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Ме + неМе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ffad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3203640" y="3357720"/>
            <a:ext cx="2382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ВАЛЕНТНАЯ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неметаллы)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5508720" y="2421000"/>
            <a:ext cx="25160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ЕТАЛЛИЧЕСКАЯ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металлы)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1835280" y="4869000"/>
            <a:ext cx="1827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валентная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еполярная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5148360" y="4797360"/>
            <a:ext cx="1682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валентная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ярная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>
            <a:off x="2268000" y="1484280"/>
            <a:ext cx="1008360" cy="719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5219640" y="1484280"/>
            <a:ext cx="1008000" cy="79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4211640" y="1484280"/>
            <a:ext cx="0" cy="1728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 flipH="1">
            <a:off x="2771280" y="4221000"/>
            <a:ext cx="1008360" cy="648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4716360" y="4221000"/>
            <a:ext cx="86364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WordArt 14"/>
          <p:cNvSpPr txBox="1"/>
          <p:nvPr/>
        </p:nvSpPr>
        <p:spPr>
          <a:xfrm>
            <a:off x="2484360" y="692280"/>
            <a:ext cx="3529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a1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ХИМИЧЕСКАЯ СВЯЗЬ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ffa1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00000" y="2133360"/>
            <a:ext cx="7128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имическая связь, возникающая в результате образования </a:t>
            </a:r>
            <a:r>
              <a:rPr b="0" i="1" lang="ru-RU" sz="3200" spc="-1" strike="noStrike">
                <a:solidFill>
                  <a:srgbClr val="ffe67d"/>
                </a:solidFill>
                <a:latin typeface="Times New Roman"/>
              </a:rPr>
              <a:t>общих электронных пар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называется атомной или ковалентн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55640" y="1844640"/>
            <a:ext cx="7850160" cy="2808360"/>
          </a:xfrm>
          <a:prstGeom prst="rect">
            <a:avLst/>
          </a:prstGeom>
          <a:gradFill rotWithShape="0">
            <a:gsLst>
              <a:gs pos="0">
                <a:srgbClr val="0099cc">
                  <a:alpha val="0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99cc">
                  <a:alpha val="0"/>
                </a:srgbClr>
              </a:gs>
            </a:gsLst>
            <a:lin ang="5400000"/>
          </a:gradFill>
          <a:ln cap="rnd" w="38160">
            <a:solidFill>
              <a:srgbClr val="ffe6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402920" y="2060640"/>
            <a:ext cx="6769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ределить число не спаренных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ē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о формуле 8 –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 –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омер группы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писать атомы, расположив их не спаренными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ē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друг к друг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ставить электронную и структурную формул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Oval 5"/>
          <p:cNvSpPr/>
          <p:nvPr/>
        </p:nvSpPr>
        <p:spPr>
          <a:xfrm>
            <a:off x="1547640" y="333360"/>
            <a:ext cx="5904000" cy="1150920"/>
          </a:xfrm>
          <a:prstGeom prst="ellipse">
            <a:avLst/>
          </a:prstGeom>
          <a:gradFill rotWithShape="0">
            <a:gsLst>
              <a:gs pos="0">
                <a:srgbClr val="ffff00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1835280" y="620640"/>
            <a:ext cx="525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Порядок построения молекул: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9:43:35Z</dcterms:created>
  <dc:creator>User</dc:creator>
  <dc:description/>
  <dc:language>en-US</dc:language>
  <cp:lastModifiedBy>Admin</cp:lastModifiedBy>
  <dcterms:modified xsi:type="dcterms:W3CDTF">2011-08-24T19:24:55Z</dcterms:modified>
  <cp:revision>17</cp:revision>
  <dc:subject/>
  <dc:title>Слайд 1</dc:title>
</cp:coreProperties>
</file>