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C3E-FA06-4505-A02B-2B6BBFA5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A81-6B9F-4C47-8E61-A95A5D31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0BA-E033-4DD9-8946-1F9AA5BE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F4C-0034-4907-BFB4-7616C583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8B2A-E1B9-4F97-860B-78966049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F777-5C1E-4F40-AB6C-BE1AF265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26E0-E458-49ED-BF71-0F5C8D3B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82BD-E043-43BE-94C6-96FC88A9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2AE9-A749-4EA6-94CB-5CA49385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4152-E631-45DA-8EBA-3C867E4C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9C73-C9D9-414F-81F4-9CA34C61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625-BDE1-4DFC-B231-E49F5114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1713-3C8D-41B5-AC42-3E4257FB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8420-E08C-479D-990E-39ABB3FB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0036-6F90-4C58-9CFF-55ECCCC4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C0AF-0CFF-4161-8AEF-5C558C66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6EE7-2466-493F-B66A-20475EB4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DFA-9087-47D4-A7E1-E422AE42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1AB-B8F8-474F-BD84-3D63D308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05A-2D2F-49D7-9734-01F48B91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276-7C00-4D0A-9168-754D58C8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191-822E-4005-B1B5-3D599D2E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416-7D8B-4D85-988C-E4B62CC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FA9-800F-4A1E-97DA-1F2DE6B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A587-1D42-4095-AB9A-B7E52350F11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1601-6204-486B-8C85-42075A92129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63640" y="1268280"/>
            <a:ext cx="540072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Ковалентная неполярная химическая связь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8f2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тонов, возникает –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8f2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йтронов, возникает -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8f2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лектронов, возникает -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2340000" y="620640"/>
            <a:ext cx="4032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изменении числ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5076720" y="1844640"/>
            <a:ext cx="1440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овый атом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0" name="WordArt 8"/>
          <p:cNvSpPr txBox="1"/>
          <p:nvPr/>
        </p:nvSpPr>
        <p:spPr>
          <a:xfrm>
            <a:off x="4932360" y="3141720"/>
            <a:ext cx="2016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отоп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ого же элемент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4788000" y="4508640"/>
            <a:ext cx="20764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он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ого же элемент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669440" cy="1568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200"/>
                </a:solidFill>
                <a:latin typeface="Arial"/>
              </a:rPr>
              <a:t>Какой из двух элементов более сильный: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916000" y="3068280"/>
            <a:ext cx="3887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a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a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g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i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С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708360" y="19155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200"/>
                </a:solidFill>
                <a:latin typeface="Arial"/>
              </a:rPr>
              <a:t>Мет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711960" y="191556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200"/>
                </a:solidFill>
                <a:latin typeface="Arial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692316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пределить соединения с ионной связью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42920" y="2637000"/>
            <a:ext cx="403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LiF,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HCL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a</a:t>
            </a:r>
            <a:r>
              <a:rPr b="1" lang="en-US" sz="2800" spc="-1" strike="noStrike" baseline="-8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,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aO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1" lang="en-US" sz="2800" spc="-1" strike="noStrike" baseline="-8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,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H</a:t>
            </a:r>
            <a:r>
              <a:rPr b="1" lang="en-US" sz="2800" spc="-1" strike="noStrike" baseline="-8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3"/>
          <p:cNvSpPr txBox="1"/>
          <p:nvPr/>
        </p:nvSpPr>
        <p:spPr>
          <a:xfrm>
            <a:off x="1547640" y="2421000"/>
            <a:ext cx="1320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ad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ИОН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ad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ad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Ме + неМе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ad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3203640" y="3357720"/>
            <a:ext cx="238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ВАЛЕНТ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неметаллы)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5508720" y="2421000"/>
            <a:ext cx="25160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ЕТАЛЛИЧЕСК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металлы)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1835280" y="4869000"/>
            <a:ext cx="1827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валент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еполяр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5148360" y="4797360"/>
            <a:ext cx="1682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валент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ярная</a:t>
            </a:r>
            <a:endParaRPr b="1" lang="en-US" sz="2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>
            <a:off x="2268000" y="1484280"/>
            <a:ext cx="1008360" cy="719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5219640" y="1484280"/>
            <a:ext cx="100800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211640" y="1484280"/>
            <a:ext cx="0" cy="1728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>
            <a:off x="2771280" y="4221000"/>
            <a:ext cx="1008360" cy="64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716360" y="4221000"/>
            <a:ext cx="86364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14"/>
          <p:cNvSpPr txBox="1"/>
          <p:nvPr/>
        </p:nvSpPr>
        <p:spPr>
          <a:xfrm>
            <a:off x="2484360" y="692280"/>
            <a:ext cx="3529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a1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ХИМИЧЕСКАЯ СВЯЗЬ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a1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00000" y="2133360"/>
            <a:ext cx="7128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имическая связь, возникающая в результате образования </a:t>
            </a:r>
            <a:r>
              <a:rPr b="0" i="1" lang="ru-RU" sz="3200" spc="-1" strike="noStrike">
                <a:solidFill>
                  <a:srgbClr val="ffe67d"/>
                </a:solidFill>
                <a:latin typeface="Times New Roman"/>
              </a:rPr>
              <a:t>общих электронных па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называется атомной или ковалент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55640" y="1844640"/>
            <a:ext cx="7850160" cy="2808360"/>
          </a:xfrm>
          <a:prstGeom prst="rect">
            <a:avLst/>
          </a:prstGeom>
          <a:gradFill rotWithShape="0">
            <a:gsLst>
              <a:gs pos="0">
                <a:srgbClr val="0099cc">
                  <a:alpha val="0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99cc">
                  <a:alpha val="0"/>
                </a:srgbClr>
              </a:gs>
            </a:gsLst>
            <a:lin ang="5400000"/>
          </a:gradFill>
          <a:ln cap="rnd" w="38160">
            <a:solidFill>
              <a:srgbClr val="ffe6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02920" y="2060640"/>
            <a:ext cx="67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еделить число не спаренных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ē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о формуле 8 –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 –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мер группы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писать атомы, расположив их не спаренными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ē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руг к друг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ставить электронную и структурную формул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1547640" y="333360"/>
            <a:ext cx="5904000" cy="1150920"/>
          </a:xfrm>
          <a:prstGeom prst="ellipse">
            <a:avLst/>
          </a:prstGeom>
          <a:gradFill rotWithShape="0">
            <a:gsLst>
              <a:gs pos="0">
                <a:srgbClr val="ffff00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1835280" y="620640"/>
            <a:ext cx="525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Порядок построения молекул: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9:43:35Z</dcterms:created>
  <dc:creator>User</dc:creator>
  <dc:description/>
  <dc:language>en-US</dc:language>
  <cp:lastModifiedBy>Admin</cp:lastModifiedBy>
  <dcterms:modified xsi:type="dcterms:W3CDTF">2011-08-24T19:24:55Z</dcterms:modified>
  <cp:revision>17</cp:revision>
  <dc:subject/>
  <dc:title>Слайд 1</dc:title>
</cp:coreProperties>
</file>