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CB6-7C7A-4268-B7C1-0890F689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527-D212-4519-B384-FB334A43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262-AA96-44E7-8A7F-6B5B14F5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A35-C45C-491D-A3E8-AEC7BEA1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9C9C-3B07-449F-B07A-FE86963E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F241-A90C-4681-AC92-A2FF5E8F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4D0C-C86B-4303-9219-2AC43A24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1577-0ACC-451B-A5D5-5E24416F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F17B-8EE5-4278-8DD5-BAE66DB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141C-EE6A-4D16-B9CE-C3ED03E1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833-B15D-4B17-A93B-F04A10A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241-A3BE-4272-BDE5-910326F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A709-322C-41B4-A77A-75E798F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AE28-CDD5-4696-89AB-647B225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B856-344A-4A9B-A472-A52EB186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02D-8037-4F90-A96B-BD1F3BAC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6D53-4291-48D5-85A3-F895524B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889-74F0-4AE7-BEB6-76EB854F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ACC-BB3A-4D20-9BD8-6EC4659B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4DE-F309-445D-B802-228BA66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FBD-ADCE-4338-861A-C8AE36A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FE4-DA0A-4BB7-8919-FB96CCE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CDB-543D-4ACA-8C1E-937B3C0C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DF9-134B-47B1-A82B-48CE505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AC28-F045-4641-91DD-66DF662A99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4DF1-B06C-4AC7-B657-1D56924151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емографическая обстановка в мир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ая обстановка в России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97080" y="1125360"/>
            <a:ext cx="6553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ссия вступила в период быстрого снижения ежегодной рождаемости. Совершенно очевид-но, что если в ближайшие годы не удастся переломить эти тенденции, то Россию ожидает гораздо больший демографический «провал», чем в 60-е годы, со всеми вытекающими отсюда последствиями: диспропорциями на брачном «рынке», спадом численности трудовых ресурсов и т.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дети5"/>
          <p:cNvPicPr/>
          <p:nvPr/>
        </p:nvPicPr>
        <p:blipFill>
          <a:blip r:embed="rId1"/>
          <a:stretch/>
        </p:blipFill>
        <p:spPr>
          <a:xfrm>
            <a:off x="5902200" y="836640"/>
            <a:ext cx="3241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3212640"/>
            <a:ext cx="961236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первых, последующее поколение обладает меньшим потенциалом здоровь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о-вторых, больные матери рожают больных детей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третьих, бедные семьи воспроизводят бедных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четвертых, в обществе образовался большой слой маргиналов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пятых, снижение интеллектуального уровня российской популяци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-шестых, эпидемический характер приобрели болезни, имеющие социальную этимологию: СПИД, сифилис, наркомания, туберкулез, алкоголизм, а также суици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дети3"/>
          <p:cNvPicPr/>
          <p:nvPr/>
        </p:nvPicPr>
        <p:blipFill>
          <a:blip r:embed="rId1"/>
          <a:stretch/>
        </p:blipFill>
        <p:spPr>
          <a:xfrm>
            <a:off x="2195640" y="0"/>
            <a:ext cx="43923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alcogol%207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5" descr="Картинка 7 из 15529"/>
          <p:cNvPicPr/>
          <p:nvPr/>
        </p:nvPicPr>
        <p:blipFill>
          <a:blip r:embed="rId2"/>
          <a:stretch/>
        </p:blipFill>
        <p:spPr>
          <a:xfrm>
            <a:off x="250920" y="336600"/>
            <a:ext cx="88027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емографический оптиму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8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тие в последние годы не только поискового, н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нормативного демографического прогнозирования породило  понятие «демографический оптимум», под которым понимается такой режим  воспроизводства населения, когда  демографическая ситуация   может стабилизироваться, оказаться в относительно равно-весном состоянии и в глобальном, и в региональном масштаба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Картинка 16 из 15529"/>
          <p:cNvPicPr/>
          <p:nvPr/>
        </p:nvPicPr>
        <p:blipFill>
          <a:blip r:embed="rId2"/>
          <a:stretch/>
        </p:blipFill>
        <p:spPr>
          <a:xfrm>
            <a:off x="4067280" y="304812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Картинка 47 из 15529"/>
          <p:cNvPicPr/>
          <p:nvPr/>
        </p:nvPicPr>
        <p:blipFill>
          <a:blip r:embed="rId3"/>
          <a:srcRect l="0" t="0" r="0" b="15357"/>
          <a:stretch/>
        </p:blipFill>
        <p:spPr>
          <a:xfrm>
            <a:off x="0" y="0"/>
            <a:ext cx="43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5" descr="Картинка 374 из 15529"/>
          <p:cNvPicPr/>
          <p:nvPr/>
        </p:nvPicPr>
        <p:blipFill>
          <a:blip r:embed="rId4"/>
          <a:stretch/>
        </p:blipFill>
        <p:spPr>
          <a:xfrm>
            <a:off x="0" y="3500280"/>
            <a:ext cx="4248000" cy="2760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7" descr="Картинка 418 из 15529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life%20Russia%201991"/>
          <p:cNvPicPr/>
          <p:nvPr/>
        </p:nvPicPr>
        <p:blipFill>
          <a:blip r:embed="rId1"/>
          <a:srcRect l="3385" t="8445" r="8861" b="0"/>
          <a:stretch/>
        </p:blipFill>
        <p:spPr>
          <a:xfrm>
            <a:off x="539640" y="1844640"/>
            <a:ext cx="7634520" cy="4718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одолжительность жизни в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V="1">
            <a:off x="7596360" y="1773360"/>
            <a:ext cx="863280" cy="20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729920" y="11959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5 л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оотношение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50920" y="1341360"/>
            <a:ext cx="5041800" cy="460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867280" y="4076640"/>
            <a:ext cx="2305080" cy="187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фр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900000" y="2637000"/>
            <a:ext cx="3745080" cy="3241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ислен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селения Аз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286880" y="692280"/>
            <a:ext cx="16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4,5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5078880" y="126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2 : 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Экономически развитые стра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334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1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на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ан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дерланды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ве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цар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4923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39756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564000" y="1628640"/>
            <a:ext cx="2746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203640" y="1773360"/>
            <a:ext cx="2746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012000" y="1628640"/>
            <a:ext cx="27460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5148360" y="1915200"/>
            <a:ext cx="3124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2 груп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встрия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ьгия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тугал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ват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ланд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88200" y="1197720"/>
            <a:ext cx="492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Таблица 1</a:t>
            </a:r>
            <a:br>
              <a:rPr sz="1000"/>
            </a:br>
            <a:r>
              <a:rPr b="1" lang="ru-RU" sz="1000" spc="-1" strike="noStrike">
                <a:solidFill>
                  <a:srgbClr val="333333"/>
                </a:solidFill>
                <a:latin typeface="Verdana"/>
                <a:ea typeface="Times New Roman"/>
              </a:rPr>
              <a:t>Страны Европы с отрицательным естественным приростом населения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-1119240" y="119844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9209160" cy="6654960"/>
        </p:xfrm>
        <a:graphic>
          <a:graphicData uri="http://schemas.openxmlformats.org/drawingml/2006/table">
            <a:tbl>
              <a:tblPr/>
              <a:tblGrid>
                <a:gridCol w="981000"/>
                <a:gridCol w="609840"/>
                <a:gridCol w="1110960"/>
                <a:gridCol w="1959120"/>
                <a:gridCol w="2271600"/>
                <a:gridCol w="22766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рождаем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смертности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Общий коэффициент естественного прироста, 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уммарный коэффициент рождаем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а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Эсто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олга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Венг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Белору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умы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Ита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р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лов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Шве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           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765000"/>
          <a:ext cx="9144000" cy="6212160"/>
        </p:xfrm>
        <a:graphic>
          <a:graphicData uri="http://schemas.openxmlformats.org/drawingml/2006/table">
            <a:tbl>
              <a:tblPr/>
              <a:tblGrid>
                <a:gridCol w="971640"/>
                <a:gridCol w="1439640"/>
                <a:gridCol w="3219480"/>
                <a:gridCol w="1030320"/>
                <a:gridCol w="976320"/>
                <a:gridCol w="150660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исленностьнаселен, млн че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Годовой естественный прирост или убыль (-) населения, млн ч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ое движение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ождаем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Смертность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тественный прирост, 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2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1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8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7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4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4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-6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174"/>
          <p:cNvSpPr/>
          <p:nvPr/>
        </p:nvSpPr>
        <p:spPr>
          <a:xfrm>
            <a:off x="0" y="89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намика численности населени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го естественное движение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graphs246529"/>
          <p:cNvPicPr/>
          <p:nvPr/>
        </p:nvPicPr>
        <p:blipFill>
          <a:blip r:embed="rId1"/>
          <a:srcRect l="0" t="23452" r="0" b="3445"/>
          <a:stretch/>
        </p:blipFill>
        <p:spPr>
          <a:xfrm>
            <a:off x="155520" y="0"/>
            <a:ext cx="85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death%20rate%207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death%20rate%20per%201000%20%20all%20countries%20CI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7:00Z</dcterms:created>
  <dc:creator>XTreme</dc:creator>
  <dc:description/>
  <dc:language>en-US</dc:language>
  <cp:lastModifiedBy>STAR</cp:lastModifiedBy>
  <dcterms:modified xsi:type="dcterms:W3CDTF">2012-09-02T05:55:49Z</dcterms:modified>
  <cp:revision>3</cp:revision>
  <dc:subject/>
  <dc:title>Слайд 1</dc:title>
</cp:coreProperties>
</file>