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6DB-A2CE-4E54-BCE6-35344095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CA1-EA9E-442F-B98B-4899028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5C6-4457-4F0E-8D01-C1A3C99B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7EB-1A83-48CE-B014-07F1E171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9A3-B706-43C5-BBF5-BA763080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211-64FF-41E1-A7AA-F0CAFD05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9E4-F1B7-4740-9C0E-200DBDE6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BFE-373F-40BD-BBD7-8385F400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20D-47D1-4DC9-8322-D160B030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69C-7F80-4204-8143-83E567F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B94-F454-420C-A43B-25600C50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F67-F8A9-45A6-8EC3-196F318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E6BF-1224-490B-B7CC-AADBF752C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0012-021-Kazhdyj-polis-imel-svoj-teatr"/>
          <p:cNvPicPr/>
          <p:nvPr/>
        </p:nvPicPr>
        <p:blipFill>
          <a:blip r:embed="rId1"/>
          <a:stretch/>
        </p:blipFill>
        <p:spPr>
          <a:xfrm>
            <a:off x="3886200" y="3276720"/>
            <a:ext cx="5041800" cy="344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71826815_Maski"/>
          <p:cNvPicPr/>
          <p:nvPr/>
        </p:nvPicPr>
        <p:blipFill>
          <a:blip r:embed="rId2"/>
          <a:stretch/>
        </p:blipFill>
        <p:spPr>
          <a:xfrm>
            <a:off x="0" y="0"/>
            <a:ext cx="4724280" cy="355284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380988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атр и музы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4267080" y="13716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евней Греци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28600" y="579132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енковой Ю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 «А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09480" y="380880"/>
            <a:ext cx="6019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древнегреческой музыки сохранилось лишь несколько полностью записанных сочинений; остальная часть наследия (ок. 40 пьес) сохранилась в виде фрагментов на папирусе, пергаменте, в виде настенной живописи, в эпиграфике на камне и т.д. Полностью сохранились 3 гимна Месомеда, два гимна Аполлону (138 и 128 до н.э.). Сведения о древнегреческой музыке черпаются по большей части из музыкально-теоретических трактатов греков и римлян, из вторичной литературы (трудов древнегреческих мыслителей и поэтов); музыкальными сюжетами богаты памятники греческого изобразительного искусства (скульптура, керамика и т.п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rpheus_sings"/>
          <p:cNvPicPr/>
          <p:nvPr/>
        </p:nvPicPr>
        <p:blipFill>
          <a:blip r:embed="rId1"/>
          <a:stretch/>
        </p:blipFill>
        <p:spPr>
          <a:xfrm>
            <a:off x="3581280" y="2819520"/>
            <a:ext cx="545472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412px-Mousai_Helikon_Staatliche_Antikensammlungen_Schoen80_n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0b05eab71bf7a66aeefda636a8e6efab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kithara"/>
          <p:cNvPicPr/>
          <p:nvPr/>
        </p:nvPicPr>
        <p:blipFill>
          <a:blip r:embed="rId1"/>
          <a:stretch/>
        </p:blipFill>
        <p:spPr>
          <a:xfrm>
            <a:off x="-304920" y="0"/>
            <a:ext cx="5276880" cy="3638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275239430_ryeryosrsr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Kantele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000zd8f7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400px-Aulos_player_MAR_Palermo_NI2271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leyta-pana-ht_enl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profseriestimpani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7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4800600" y="380880"/>
            <a:ext cx="4191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евнегреческий театр один из древнейших театров на территории Европы. Он достиг своего расцвета в V в. до н. э. Наследие, оставленное нам античностью в области литературы и искусства, огромно. Основные роды поэзии - эпос, лирика и драма - возникли в Греции. Античная архитектура, скульптура, литература и театр были предметом изучения и подражания и в последующие века. Значение античного театра выходит далеко за хронологические рамки породившего его обще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greece_241220091747_2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2828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he-mystery-of-modern-acoustic-in-ancient-greek-theatre-solved-2-1"/>
          <p:cNvPicPr/>
          <p:nvPr/>
        </p:nvPicPr>
        <p:blipFill>
          <a:blip r:embed="rId2"/>
          <a:stretch/>
        </p:blipFill>
        <p:spPr>
          <a:xfrm>
            <a:off x="76320" y="3276720"/>
            <a:ext cx="5905440" cy="342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52280" y="2133720"/>
            <a:ext cx="3429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 из сельских празднеств в честь бога Диониса. Вначале Дионис считался богом производительной силы природы, и греки изображали его в виде козла или быка. Однако позже, когда население древней Греции познакомилось с возделыванием виноградников, Дионис стал богом виноделия, а потом и богом поэзии и теа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HOTOLISTE_20090626145543_grece_dionysos_600_"/>
          <p:cNvPicPr/>
          <p:nvPr/>
        </p:nvPicPr>
        <p:blipFill>
          <a:blip r:embed="rId1"/>
          <a:stretch/>
        </p:blipFill>
        <p:spPr>
          <a:xfrm>
            <a:off x="3743280" y="152280"/>
            <a:ext cx="5284800" cy="655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533520" y="152280"/>
            <a:ext cx="45720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колько раз в году происходили празднества, посвященные Дионису, на которых пели дифирамбы (хвалебные песни).Участники мазали лицо винной гущей, надевали маски и козлиные шкуры. Наряду с торжественными и печальными, распевались веселые, а часто непристойные песни. Торжественная часть праздника дала рождение трагедии, веселая и шутливая - комедии.“Трагедия, по свидетельству Аристотеля, ведет свое начало от запевал дифирамба, а комедия от запевал фаллических песен.” Эти запевалы, отвечая на вопросы хора, могли рассказать о каких-либо событиях из жизни бога и побуждать хор к пе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Bacchus-Dionysus"/>
          <p:cNvPicPr/>
          <p:nvPr/>
        </p:nvPicPr>
        <p:blipFill>
          <a:blip r:embed="rId1"/>
          <a:stretch/>
        </p:blipFill>
        <p:spPr>
          <a:xfrm>
            <a:off x="5410080" y="152280"/>
            <a:ext cx="3618000" cy="510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16874_or"/>
          <p:cNvPicPr/>
          <p:nvPr/>
        </p:nvPicPr>
        <p:blipFill>
          <a:blip r:embed="rId2"/>
          <a:stretch/>
        </p:blipFill>
        <p:spPr>
          <a:xfrm>
            <a:off x="152280" y="3178080"/>
            <a:ext cx="5181840" cy="348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800600" y="60199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ка Диониса стала впоследствии символом театр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greenman-masks-06-4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489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371600" y="5029200"/>
            <a:ext cx="6629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вой древнегреческого искусства считают мифологию. В ходе разви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еческой трагедии круг ее сюжетов, помимо мифов о Дионисе, вошли рассказы о судьбах героев древности - Эдипа, Агамемнона, Геракла и Фесея и других. Таким образом греческая драматургия заимствовала свои сюжеты из мифологии. Это объясняется характером греческой мифологии - ее глубокой художественной вырази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0034-034-Teatr-v-Drevnej-Gretsii"/>
          <p:cNvPicPr/>
          <p:nvPr/>
        </p:nvPicPr>
        <p:blipFill>
          <a:blip r:embed="rId1"/>
          <a:stretch/>
        </p:blipFill>
        <p:spPr>
          <a:xfrm>
            <a:off x="1523880" y="152280"/>
            <a:ext cx="6019920" cy="451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531000"/>
            <a:ext cx="701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атр в Греции был государственным учреждением, и организац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 брало на себя само государство, назначая для этих целей специальных людей. Драмы ставили на трех праздниках в честь Диониса: Малых или Сельских Дионисиях (в декабре - в январе); Ленеях (в январе - феврале); Великих или Городских Дионисиях (в марте - апреле). Драматические представления проходили как состязания драматургов. В них участвовали три трагических и комических поэта. Каждый из трагиков должен представить по четыре пьесы: три трагедии и одну сатириковую драму (это веселая пьеса на мифологический сюжет с хором, состоящим из сатир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theatre9"/>
          <p:cNvPicPr/>
          <p:nvPr/>
        </p:nvPicPr>
        <p:blipFill>
          <a:blip r:embed="rId1"/>
          <a:stretch/>
        </p:blipFill>
        <p:spPr>
          <a:xfrm>
            <a:off x="533520" y="2743200"/>
            <a:ext cx="5105160" cy="38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609480" y="5181480"/>
            <a:ext cx="7772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одный характер античного театра определил особенности его организации и устройства. Древнегреческий театр сооружался на открытом воздухе и состоял из 3-х основных частей: орхестры ,тэатрона и скены. Древнейшей из этих частей является орхестра — круглая площадка, на которой выступали хор и актёры. Вначале зрители свободно размещались вокруг орхестры. Позднее появились особые места для публики, расположенные на склонах прилегающих холмов и го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9908030068_1024"/>
          <p:cNvPicPr/>
          <p:nvPr/>
        </p:nvPicPr>
        <p:blipFill>
          <a:blip r:embed="rId1"/>
          <a:stretch/>
        </p:blipFill>
        <p:spPr>
          <a:xfrm>
            <a:off x="120600" y="10008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5800" y="1371600"/>
            <a:ext cx="464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 Древней Греции — составная часть древнегреческой античной культуры. Древнегреческая музыка (наряду с поэзией) оказала большое влияние на развитие европейской профессиональной музыкальной культуры и музыкальной на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1295280" y="304920"/>
            <a:ext cx="6553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 Древней Греци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7" descr="598px-Aulos_player_Louvre_G313"/>
          <p:cNvPicPr/>
          <p:nvPr/>
        </p:nvPicPr>
        <p:blipFill>
          <a:blip r:embed="rId1"/>
          <a:stretch/>
        </p:blipFill>
        <p:spPr>
          <a:xfrm>
            <a:off x="762120" y="2895480"/>
            <a:ext cx="3835440" cy="384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400px-Aulos_player_MAR_Palermo_NI22711"/>
          <p:cNvPicPr/>
          <p:nvPr/>
        </p:nvPicPr>
        <p:blipFill>
          <a:blip r:embed="rId2"/>
          <a:stretch/>
        </p:blipFill>
        <p:spPr>
          <a:xfrm>
            <a:off x="5410080" y="1295280"/>
            <a:ext cx="3606840" cy="54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2-01-28T22:41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