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6F64-2C07-4AC7-8832-A470DB7E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0BF3-75AC-4252-8CCA-157AFF57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A21E-541E-41C0-9F45-8F0297E2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160-C7A1-43A1-B699-CFE04DDB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E384-E098-40E1-82A5-FED1FC28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4394-07BD-4D85-AEF7-72C35182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0F45-CA53-4872-9969-80F2D4A4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E0F-9A63-4501-AE5D-1CB3D7B4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8E01-1DF4-4B2C-B658-00A9F03C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1D4D-AAFC-4533-8F35-63CF64D6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A01A-986F-4973-835D-2D16DD98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775-911A-4E57-BFE0-495FD972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7D92-BE29-4747-88BA-B468AE3DBF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0012-021-Kazhdyj-polis-imel-svoj-teatr"/>
          <p:cNvPicPr/>
          <p:nvPr/>
        </p:nvPicPr>
        <p:blipFill>
          <a:blip r:embed="rId1"/>
          <a:stretch/>
        </p:blipFill>
        <p:spPr>
          <a:xfrm>
            <a:off x="3886200" y="3276720"/>
            <a:ext cx="5041800" cy="3440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71826815_Maski"/>
          <p:cNvPicPr/>
          <p:nvPr/>
        </p:nvPicPr>
        <p:blipFill>
          <a:blip r:embed="rId2"/>
          <a:stretch/>
        </p:blipFill>
        <p:spPr>
          <a:xfrm>
            <a:off x="0" y="0"/>
            <a:ext cx="4724280" cy="3552840"/>
          </a:xfrm>
          <a:prstGeom prst="rect">
            <a:avLst/>
          </a:prstGeom>
          <a:ln w="0">
            <a:noFill/>
          </a:ln>
        </p:spPr>
      </p:pic>
      <p:sp>
        <p:nvSpPr>
          <p:cNvPr id="43" name="WordArt 8"/>
          <p:cNvSpPr txBox="1"/>
          <p:nvPr/>
        </p:nvSpPr>
        <p:spPr>
          <a:xfrm>
            <a:off x="3809880" y="228600"/>
            <a:ext cx="5029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атр и музык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4267080" y="137160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евней Греции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28600" y="579132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тенковой Ю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 «А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609480" y="380880"/>
            <a:ext cx="6019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 древнегреческой музыки сохранилось лишь несколько полностью записанных сочинений; остальная часть наследия (ок. 40 пьес) сохранилась в виде фрагментов на папирусе, пергаменте, в виде настенной живописи, в эпиграфике на камне и т.д. Полностью сохранились 3 гимна Месомеда, два гимна Аполлону (138 и 128 до н.э.). Сведения о древнегреческой музыке черпаются по большей части из музыкально-теоретических трактатов греков и римлян, из вторичной литературы (трудов древнегреческих мыслителей и поэтов); музыкальными сюжетами богаты памятники греческого изобразительного искусства (скульптура, керамика и т.п.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orpheus_sings"/>
          <p:cNvPicPr/>
          <p:nvPr/>
        </p:nvPicPr>
        <p:blipFill>
          <a:blip r:embed="rId1"/>
          <a:stretch/>
        </p:blipFill>
        <p:spPr>
          <a:xfrm>
            <a:off x="3581280" y="2819520"/>
            <a:ext cx="5454720" cy="384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412px-Mousai_Helikon_Staatliche_Antikensammlungen_Schoen80_n1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0b05eab71bf7a66aeefda636a8e6efab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kithara"/>
          <p:cNvPicPr/>
          <p:nvPr/>
        </p:nvPicPr>
        <p:blipFill>
          <a:blip r:embed="rId1"/>
          <a:stretch/>
        </p:blipFill>
        <p:spPr>
          <a:xfrm>
            <a:off x="-304920" y="0"/>
            <a:ext cx="5276880" cy="3638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1275239430_ryeryosrsr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Kantele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36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000zd8f7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400px-Aulos_player_MAR_Palermo_NI22711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fleyta-pana-ht_enl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profseriestimpani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57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4800600" y="380880"/>
            <a:ext cx="41911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евнегреческий театр один из древнейших театров на территории Европы. Он достиг своего расцвета в V в. до н. э. Наследие, оставленное нам античностью в области литературы и искусства, огромно. Основные роды поэзии - эпос, лирика и драма - возникли в Греции. Античная архитектура, скульптура, литература и театр были предметом изучения и подражания и в последующие века. Значение античного театра выходит далеко за хронологические рамки породившего его общест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greece_241220091747_2"/>
          <p:cNvPicPr/>
          <p:nvPr/>
        </p:nvPicPr>
        <p:blipFill>
          <a:blip r:embed="rId1"/>
          <a:stretch/>
        </p:blipFill>
        <p:spPr>
          <a:xfrm>
            <a:off x="152280" y="152280"/>
            <a:ext cx="4419720" cy="2828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the-mystery-of-modern-acoustic-in-ancient-greek-theatre-solved-2-1"/>
          <p:cNvPicPr/>
          <p:nvPr/>
        </p:nvPicPr>
        <p:blipFill>
          <a:blip r:embed="rId2"/>
          <a:stretch/>
        </p:blipFill>
        <p:spPr>
          <a:xfrm>
            <a:off x="76320" y="3276720"/>
            <a:ext cx="5905440" cy="342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52280" y="2133720"/>
            <a:ext cx="34290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 из сельских празднеств в честь бога Диониса. Вначале Дионис считался богом производительной силы природы, и греки изображали его в виде козла или быка. Однако позже, когда население древней Греции познакомилось с возделыванием виноградников, Дионис стал богом виноделия, а потом и богом поэзии и теат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PHOTOLISTE_20090626145543_grece_dionysos_600_"/>
          <p:cNvPicPr/>
          <p:nvPr/>
        </p:nvPicPr>
        <p:blipFill>
          <a:blip r:embed="rId1"/>
          <a:stretch/>
        </p:blipFill>
        <p:spPr>
          <a:xfrm>
            <a:off x="3743280" y="152280"/>
            <a:ext cx="5284800" cy="655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533520" y="152280"/>
            <a:ext cx="457200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колько раз в году происходили празднества, посвященные Дионису, на которых пели дифирамбы (хвалебные песни).Участники мазали лицо винной гущей, надевали маски и козлиные шкуры. Наряду с торжественными и печальными, распевались веселые, а часто непристойные песни. Торжественная часть праздника дала рождение трагедии, веселая и шутливая - комедии.“Трагедия, по свидетельству Аристотеля, ведет свое начало от запевал дифирамба, а комедия от запевал фаллических песен.” Эти запевалы, отвечая на вопросы хора, могли рассказать о каких-либо событиях из жизни бога и побуждать хор к пени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Bacchus-Dionysus"/>
          <p:cNvPicPr/>
          <p:nvPr/>
        </p:nvPicPr>
        <p:blipFill>
          <a:blip r:embed="rId1"/>
          <a:stretch/>
        </p:blipFill>
        <p:spPr>
          <a:xfrm>
            <a:off x="5410080" y="152280"/>
            <a:ext cx="3618000" cy="510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16874_or"/>
          <p:cNvPicPr/>
          <p:nvPr/>
        </p:nvPicPr>
        <p:blipFill>
          <a:blip r:embed="rId2"/>
          <a:stretch/>
        </p:blipFill>
        <p:spPr>
          <a:xfrm>
            <a:off x="152280" y="3178080"/>
            <a:ext cx="5181840" cy="348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4800600" y="601992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ска Диониса стала впоследствии символом театрального искусс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greenman-masks-06-4"/>
          <p:cNvPicPr/>
          <p:nvPr/>
        </p:nvPicPr>
        <p:blipFill>
          <a:blip r:embed="rId1"/>
          <a:stretch/>
        </p:blipFill>
        <p:spPr>
          <a:xfrm>
            <a:off x="609480" y="380880"/>
            <a:ext cx="8077320" cy="489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371600" y="5029200"/>
            <a:ext cx="6629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чвой древнегреческого искусства считают мифологию. В ходе развит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еческой трагедии круг ее сюжетов, помимо мифов о Дионисе, вошли рассказы о судьбах героев древности - Эдипа, Агамемнона, Геракла и Фесея и других. Таким образом греческая драматургия заимствовала свои сюжеты из мифологии. Это объясняется характером греческой мифологии - ее глубокой художественной выразитель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0034-034-Teatr-v-Drevnej-Gretsii"/>
          <p:cNvPicPr/>
          <p:nvPr/>
        </p:nvPicPr>
        <p:blipFill>
          <a:blip r:embed="rId1"/>
          <a:stretch/>
        </p:blipFill>
        <p:spPr>
          <a:xfrm>
            <a:off x="1523880" y="152280"/>
            <a:ext cx="6019920" cy="451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57200" y="531000"/>
            <a:ext cx="701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атр в Греции был государственным учреждением, и организац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атральных представлений брало на себя само государство, назначая для этих целей специальных людей. Драмы ставили на трех праздниках в честь Диониса: Малых или Сельских Дионисиях (в декабре - в январе); Ленеях (в январе - феврале); Великих или Городских Дионисиях (в марте - апреле). Драматические представления проходили как состязания драматургов. В них участвовали три трагических и комических поэта. Каждый из трагиков должен представить по четыре пьесы: три трагедии и одну сатириковую драму (это веселая пьеса на мифологический сюжет с хором, состоящим из сатиров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theatre9"/>
          <p:cNvPicPr/>
          <p:nvPr/>
        </p:nvPicPr>
        <p:blipFill>
          <a:blip r:embed="rId1"/>
          <a:stretch/>
        </p:blipFill>
        <p:spPr>
          <a:xfrm>
            <a:off x="533520" y="2743200"/>
            <a:ext cx="5105160" cy="386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609480" y="5181480"/>
            <a:ext cx="7772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одный характер античного театра определил особенности его организации и устройства. Древнегреческий театр сооружался на открытом воздухе и состоял из 3-х основных частей: орхестры ,тэатрона и скены. Древнейшей из этих частей является орхестра — круглая площадка, на которой выступали хор и актёры. Вначале зрители свободно размещались вокруг орхестры. Позднее появились особые места для публики, расположенные на склонах прилегающих холмов и го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9908030068_1024"/>
          <p:cNvPicPr/>
          <p:nvPr/>
        </p:nvPicPr>
        <p:blipFill>
          <a:blip r:embed="rId1"/>
          <a:stretch/>
        </p:blipFill>
        <p:spPr>
          <a:xfrm>
            <a:off x="120600" y="100080"/>
            <a:ext cx="8915400" cy="500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685800" y="1371600"/>
            <a:ext cx="4648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 Древней Греции — составная часть древнегреческой античной культуры. Древнегреческая музыка (наряду с поэзией) оказала большое влияние на развитие европейской профессиональной музыкальной культуры и музыкальной нау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6"/>
          <p:cNvSpPr txBox="1"/>
          <p:nvPr/>
        </p:nvSpPr>
        <p:spPr>
          <a:xfrm>
            <a:off x="1295280" y="304920"/>
            <a:ext cx="65534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ыка Древней Греции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7" descr="598px-Aulos_player_Louvre_G313"/>
          <p:cNvPicPr/>
          <p:nvPr/>
        </p:nvPicPr>
        <p:blipFill>
          <a:blip r:embed="rId1"/>
          <a:stretch/>
        </p:blipFill>
        <p:spPr>
          <a:xfrm>
            <a:off x="762120" y="2895480"/>
            <a:ext cx="3835440" cy="384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400px-Aulos_player_MAR_Palermo_NI22711"/>
          <p:cNvPicPr/>
          <p:nvPr/>
        </p:nvPicPr>
        <p:blipFill>
          <a:blip r:embed="rId2"/>
          <a:stretch/>
        </p:blipFill>
        <p:spPr>
          <a:xfrm>
            <a:off x="5410080" y="1295280"/>
            <a:ext cx="3606840" cy="541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ля</cp:lastModifiedBy>
  <dcterms:modified xsi:type="dcterms:W3CDTF">2012-01-28T22:41:0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