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3.jpeg" ContentType="image/jpeg"/>
  <Override PartName="/ppt/media/image45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10.gif" ContentType="image/gif"/>
  <Override PartName="/ppt/media/image33.jpeg" ContentType="image/jpeg"/>
  <Override PartName="/ppt/media/image27.jpeg" ContentType="image/jpeg"/>
  <Override PartName="/ppt/media/image36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43.png" ContentType="image/png"/>
  <Override PartName="/ppt/media/image35.png" ContentType="image/png"/>
  <Override PartName="/ppt/media/image5.jpeg" ContentType="image/jpeg"/>
  <Override PartName="/ppt/media/image12.jpeg" ContentType="image/jpeg"/>
  <Override PartName="/ppt/media/image34.png" ContentType="image/png"/>
  <Override PartName="/ppt/media/image46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11.gif" ContentType="image/gif"/>
  <Override PartName="/ppt/media/image4.jpeg" ContentType="image/jpeg"/>
  <Override PartName="/ppt/media/image3.png" ContentType="image/png"/>
  <Override PartName="/ppt/media/image26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27D-F23D-4C65-97EC-04F9F923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6DB4-28EC-4152-A8FC-BC444BAF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55D-AED5-441F-8190-E28B94BE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F1EB-DA55-4DC1-B487-2F3B0CA4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715C-115B-4D48-8BC9-303A5B1D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6642-F11B-4532-A1CD-68DD9B98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B69A-4E74-4DB1-A3F7-ABB70910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B83A-28D0-4167-B062-D159030F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E511-A955-4DA4-A3BC-FC07F53E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F233-A1B9-4D87-BB9D-A3E4FFD2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1BE7-678B-46A5-83DF-6D6D1A05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55F6-D1A3-4592-B555-D6A83D51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3D6B-E1FC-4E09-BD15-33C8C3CFE4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Школьная научная конференция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МОУ СОШ им. К.Карданова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«Шаг в будущ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59280" y="4076280"/>
            <a:ext cx="562752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Проект выполн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ученица 11б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МОУ СОШ  им. К.Кард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Карданова Ма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Руководитель: Кушхова Г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          </a:t>
            </a: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Аушигер 200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1116000" y="2133720"/>
            <a:ext cx="7201080" cy="16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Температура 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живых существ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 Black"/>
              </a:rPr>
              <a:t>Наибольшая и наименьшая температура тела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178440" cy="2336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1220085230419"/>
          <p:cNvPicPr/>
          <p:nvPr/>
        </p:nvPicPr>
        <p:blipFill>
          <a:blip r:embed="rId2"/>
          <a:stretch/>
        </p:blipFill>
        <p:spPr>
          <a:xfrm>
            <a:off x="611280" y="3478320"/>
            <a:ext cx="3600360" cy="25923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4686480" y="5589000"/>
            <a:ext cx="36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Из «Книги рекордов Гиннесс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132000" y="2132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46,5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167840" y="286056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 Black"/>
              </a:rPr>
              <a:t>14,2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920" y="2133360"/>
            <a:ext cx="5184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 степени повышения температуры бывает: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убфебрильная температура (37 -38°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ренно лихорадочная (38 – 39°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соко лихорадочная (39 - 41°С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верхлихорадочная или гиперпиретическая (выше 41°С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7"/>
          <p:cNvSpPr txBox="1"/>
          <p:nvPr/>
        </p:nvSpPr>
        <p:spPr>
          <a:xfrm>
            <a:off x="755640" y="333360"/>
            <a:ext cx="48672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просим у доктора</a:t>
            </a:r>
            <a:endParaRPr b="0" i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риотерапия и криохирург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3673440" cy="2995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3276720" y="1916280"/>
            <a:ext cx="3800520" cy="2514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3"/>
          <a:stretch/>
        </p:blipFill>
        <p:spPr>
          <a:xfrm>
            <a:off x="5364000" y="3914640"/>
            <a:ext cx="3638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2376360" cy="2520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468360" y="260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 Black"/>
              </a:rPr>
              <a:t>Какую температуру воздуха может выдержать челове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564000" y="2060640"/>
            <a:ext cx="518472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9 веке английские физики Благден и Чентри проводили на себе опыты по определению наибольшей температуры воздуха, которую может выдержать человек. Они проводили целые часы в натопленной печи хлебопекар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азалось, что при постепенном нагревании в сухом воздухе человек способен выдержать не только температуру кипения воды но и много выше до 20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 Black"/>
              </a:rPr>
              <a:t>ТЕМПЕРАТУРА ТЕЛ  ЖИВОТ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2543400" cy="316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2"/>
          <a:stretch/>
        </p:blipFill>
        <p:spPr>
          <a:xfrm>
            <a:off x="2411280" y="4476600"/>
            <a:ext cx="3529080" cy="2170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371952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 Black"/>
              </a:rPr>
              <a:t>От 35 до 38° С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1954440" cy="1763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1547640" y="3429000"/>
            <a:ext cx="2267280" cy="1739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3132000" y="1628640"/>
            <a:ext cx="2232000" cy="20383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631440" y="5515560"/>
            <a:ext cx="75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человек, обезьяна, мул, осел, лошадь, крыса, мышь и сл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4"/>
          <a:stretch/>
        </p:blipFill>
        <p:spPr>
          <a:xfrm>
            <a:off x="4788000" y="328464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5"/>
          <a:stretch/>
        </p:blipFill>
        <p:spPr>
          <a:xfrm>
            <a:off x="6227640" y="1628640"/>
            <a:ext cx="23450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 Black"/>
              </a:rPr>
              <a:t>От 37 до 39° 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116000" y="3357720"/>
            <a:ext cx="2819520" cy="18428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728280" y="5804640"/>
            <a:ext cx="73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 Black"/>
              </a:rPr>
              <a:t>крупный рогатый скот, овцы, собаки, кошки, кролики и свин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3059280" y="2133720"/>
            <a:ext cx="2957400" cy="1755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2109960" cy="2813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4"/>
          <a:stretch/>
        </p:blipFill>
        <p:spPr>
          <a:xfrm>
            <a:off x="5003640" y="3573360"/>
            <a:ext cx="2130480" cy="2176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"/>
          <p:cNvPicPr/>
          <p:nvPr/>
        </p:nvPicPr>
        <p:blipFill>
          <a:blip r:embed="rId5"/>
          <a:stretch/>
        </p:blipFill>
        <p:spPr>
          <a:xfrm>
            <a:off x="5940360" y="1125360"/>
            <a:ext cx="294336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 Black"/>
              </a:rPr>
              <a:t>От 40 до 41° 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916560" y="6165000"/>
            <a:ext cx="53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индюк, гусь, утка, сова, пеликан и ястре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6732720" y="162864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468360" y="1743120"/>
            <a:ext cx="2303280" cy="1730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971640" y="3789360"/>
            <a:ext cx="1812960" cy="1925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4"/>
          <a:stretch/>
        </p:blipFill>
        <p:spPr>
          <a:xfrm>
            <a:off x="3851280" y="3933720"/>
            <a:ext cx="1978200" cy="1484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5"/>
          <a:stretch/>
        </p:blipFill>
        <p:spPr>
          <a:xfrm>
            <a:off x="6948360" y="4076640"/>
            <a:ext cx="1430640" cy="227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6"/>
          <a:stretch/>
        </p:blipFill>
        <p:spPr>
          <a:xfrm>
            <a:off x="3419640" y="1773360"/>
            <a:ext cx="2019240" cy="173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 Black"/>
              </a:rPr>
              <a:t>От 42 до 43° 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035160" cy="21398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973080" y="6165000"/>
            <a:ext cx="70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ы, голуби и некоторые распространенные маленькие пти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2268360" y="3573360"/>
            <a:ext cx="3619800" cy="2419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6012000" y="1989000"/>
            <a:ext cx="27572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0" y="1484280"/>
            <a:ext cx="3579840" cy="2386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3635280" y="1197000"/>
            <a:ext cx="5335560" cy="1957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3960720" cy="2631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4"/>
          <a:stretch/>
        </p:blipFill>
        <p:spPr>
          <a:xfrm>
            <a:off x="4716360" y="3274920"/>
            <a:ext cx="4427640" cy="34228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826920" y="187560"/>
            <a:ext cx="76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Как охлаждаются теплокровны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            </a:t>
            </a: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животные в жару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 Black"/>
              </a:rPr>
              <a:t>Цель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Познакомиться глубже с видами медицинских термом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Узнать о значении температуры в жизни человека и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SNC00436"/>
          <p:cNvPicPr/>
          <p:nvPr/>
        </p:nvPicPr>
        <p:blipFill>
          <a:blip r:embed="rId1"/>
          <a:stretch/>
        </p:blipFill>
        <p:spPr>
          <a:xfrm>
            <a:off x="5667480" y="1773360"/>
            <a:ext cx="297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2492280"/>
            <a:ext cx="797868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"/>
          <p:cNvPicPr/>
          <p:nvPr/>
        </p:nvPicPr>
        <p:blipFill>
          <a:blip r:embed="rId1"/>
          <a:stretch/>
        </p:blipFill>
        <p:spPr>
          <a:xfrm>
            <a:off x="5364000" y="2852640"/>
            <a:ext cx="3686400" cy="3810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3"/>
          <a:stretch/>
        </p:blipFill>
        <p:spPr>
          <a:xfrm>
            <a:off x="1835280" y="2708280"/>
            <a:ext cx="3784320" cy="28386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5"/>
          <p:cNvSpPr/>
          <p:nvPr/>
        </p:nvSpPr>
        <p:spPr>
          <a:xfrm>
            <a:off x="473040" y="332280"/>
            <a:ext cx="79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Поведение животных при низких температу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уществуют различные виды медицинских термометров, а именно, ртутные и электро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Температура тела живого организма позволяет судить о его состоя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Температура тел живых существ различна: от 35 до 43 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рофессия врача меня стало привлекать еще бол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 Black"/>
              </a:rPr>
              <a:t>Е = </a:t>
            </a: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mv</a:t>
            </a:r>
            <a:r>
              <a:rPr b="1" lang="ru-RU" sz="3200" spc="-1" strike="noStrike" baseline="30000">
                <a:solidFill>
                  <a:srgbClr val="000099"/>
                </a:solidFill>
                <a:latin typeface="Arial Black"/>
              </a:rPr>
              <a:t>2</a:t>
            </a:r>
            <a:r>
              <a:rPr b="1" lang="ru-RU" sz="3200" spc="-1" strike="noStrike">
                <a:solidFill>
                  <a:srgbClr val="000099"/>
                </a:solidFill>
                <a:latin typeface="Arial Black"/>
              </a:rPr>
              <a:t>/2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 Black"/>
              </a:rPr>
              <a:t>Е = 3/2*</a:t>
            </a: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k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где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= 1,38 •10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Дж/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называется постоянной Больцм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059680" cy="5400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042920" y="76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174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492360" y="692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172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659640" y="765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 1730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2050920" y="980640"/>
            <a:ext cx="863640" cy="5545440"/>
            <a:chOff x="2050920" y="980640"/>
            <a:chExt cx="863640" cy="5545440"/>
          </a:xfrm>
        </p:grpSpPr>
        <p:sp>
          <p:nvSpPr>
            <p:cNvPr id="53" name="Oval 3"/>
            <p:cNvSpPr/>
            <p:nvPr/>
          </p:nvSpPr>
          <p:spPr>
            <a:xfrm>
              <a:off x="2050920" y="5734080"/>
              <a:ext cx="863640" cy="792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4"/>
            <p:cNvGrpSpPr/>
            <p:nvPr/>
          </p:nvGrpSpPr>
          <p:grpSpPr>
            <a:xfrm>
              <a:off x="2195640" y="980640"/>
              <a:ext cx="502920" cy="4753080"/>
              <a:chOff x="2195640" y="980640"/>
              <a:chExt cx="502920" cy="4753080"/>
            </a:xfrm>
          </p:grpSpPr>
          <p:sp>
            <p:nvSpPr>
              <p:cNvPr id="55" name="Line 5"/>
              <p:cNvSpPr/>
              <p:nvPr/>
            </p:nvSpPr>
            <p:spPr>
              <a:xfrm flipV="1">
                <a:off x="2484360" y="980640"/>
                <a:ext cx="0" cy="47530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6"/>
              <p:cNvSpPr/>
              <p:nvPr/>
            </p:nvSpPr>
            <p:spPr>
              <a:xfrm>
                <a:off x="2195640" y="5229360"/>
                <a:ext cx="502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7"/>
              <p:cNvSpPr/>
              <p:nvPr/>
            </p:nvSpPr>
            <p:spPr>
              <a:xfrm>
                <a:off x="2195640" y="1557360"/>
                <a:ext cx="502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Text Box 8"/>
          <p:cNvSpPr/>
          <p:nvPr/>
        </p:nvSpPr>
        <p:spPr>
          <a:xfrm>
            <a:off x="3419640" y="4869000"/>
            <a:ext cx="4824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вление ль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916360" y="141300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пение вод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24000" y="189000"/>
            <a:ext cx="84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КА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С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редложена в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1742г.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B200169"/>
          <p:cNvPicPr/>
          <p:nvPr/>
        </p:nvPicPr>
        <p:blipFill>
          <a:blip r:embed="rId1"/>
          <a:stretch/>
        </p:blipFill>
        <p:spPr>
          <a:xfrm>
            <a:off x="539640" y="0"/>
            <a:ext cx="42642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924360" y="404640"/>
            <a:ext cx="482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PB280031"/>
          <p:cNvPicPr/>
          <p:nvPr/>
        </p:nvPicPr>
        <p:blipFill>
          <a:blip r:embed="rId2"/>
          <a:stretch/>
        </p:blipFill>
        <p:spPr>
          <a:xfrm>
            <a:off x="5940360" y="0"/>
            <a:ext cx="18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Виды медицинских термометр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PB220008"/>
          <p:cNvPicPr/>
          <p:nvPr/>
        </p:nvPicPr>
        <p:blipFill>
          <a:blip r:embed="rId1"/>
          <a:stretch/>
        </p:blipFill>
        <p:spPr>
          <a:xfrm rot="21152400">
            <a:off x="611280" y="4005000"/>
            <a:ext cx="8229600" cy="170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PB280040"/>
          <p:cNvPicPr/>
          <p:nvPr/>
        </p:nvPicPr>
        <p:blipFill>
          <a:blip r:embed="rId2"/>
          <a:stretch/>
        </p:blipFill>
        <p:spPr>
          <a:xfrm rot="21137400">
            <a:off x="250920" y="1989000"/>
            <a:ext cx="8202600" cy="16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PB220008"/>
          <p:cNvPicPr/>
          <p:nvPr/>
        </p:nvPicPr>
        <p:blipFill>
          <a:blip r:embed="rId1"/>
          <a:stretch/>
        </p:blipFill>
        <p:spPr>
          <a:xfrm>
            <a:off x="324000" y="0"/>
            <a:ext cx="194436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Line 6"/>
          <p:cNvSpPr/>
          <p:nvPr/>
        </p:nvSpPr>
        <p:spPr>
          <a:xfrm flipH="1">
            <a:off x="1331640" y="5805360"/>
            <a:ext cx="2879640" cy="432000"/>
          </a:xfrm>
          <a:prstGeom prst="line">
            <a:avLst/>
          </a:prstGeom>
          <a:ln w="57240">
            <a:solidFill>
              <a:srgbClr val="ff33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4356000" y="5445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рт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 flipH="1">
            <a:off x="1331640" y="3357720"/>
            <a:ext cx="2879640" cy="0"/>
          </a:xfrm>
          <a:prstGeom prst="line">
            <a:avLst/>
          </a:prstGeom>
          <a:ln w="57240">
            <a:solidFill>
              <a:srgbClr val="ff33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500720" y="3068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шк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 flipH="1">
            <a:off x="1116000" y="1413000"/>
            <a:ext cx="3240000" cy="936360"/>
          </a:xfrm>
          <a:prstGeom prst="line">
            <a:avLst/>
          </a:prstGeom>
          <a:ln w="57240">
            <a:solidFill>
              <a:srgbClr val="ff33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4356000" y="1052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капиля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 flipH="1">
            <a:off x="1258560" y="4797360"/>
            <a:ext cx="3025800" cy="719280"/>
          </a:xfrm>
          <a:prstGeom prst="line">
            <a:avLst/>
          </a:prstGeom>
          <a:ln w="76320">
            <a:solidFill>
              <a:srgbClr val="0066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4284720" y="4365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Сужение капиля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4" descr="PB220008"/>
          <p:cNvPicPr/>
          <p:nvPr/>
        </p:nvPicPr>
        <p:blipFill>
          <a:blip r:embed="rId2"/>
          <a:stretch/>
        </p:blipFill>
        <p:spPr>
          <a:xfrm>
            <a:off x="6948360" y="765000"/>
            <a:ext cx="1782720" cy="3240360"/>
          </a:xfrm>
          <a:prstGeom prst="rect">
            <a:avLst/>
          </a:prstGeom>
          <a:ln w="0">
            <a:noFill/>
          </a:ln>
        </p:spPr>
      </p:pic>
      <p:sp>
        <p:nvSpPr>
          <p:cNvPr id="77" name="Line 15"/>
          <p:cNvSpPr/>
          <p:nvPr/>
        </p:nvSpPr>
        <p:spPr>
          <a:xfrm flipV="1">
            <a:off x="4932360" y="2420640"/>
            <a:ext cx="2952720" cy="2087640"/>
          </a:xfrm>
          <a:prstGeom prst="line">
            <a:avLst/>
          </a:prstGeom>
          <a:ln w="5724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PB220008"/>
          <p:cNvPicPr/>
          <p:nvPr/>
        </p:nvPicPr>
        <p:blipFill>
          <a:blip r:embed="rId1"/>
          <a:stretch/>
        </p:blipFill>
        <p:spPr>
          <a:xfrm>
            <a:off x="468360" y="2276640"/>
            <a:ext cx="8229600" cy="1709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218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елы измерен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84360" y="3357720"/>
            <a:ext cx="107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755640" y="4005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34</a:t>
            </a:r>
            <a:r>
              <a:rPr b="1" lang="ru-RU" sz="4000" spc="-1" strike="noStrike" baseline="30000">
                <a:solidFill>
                  <a:srgbClr val="0066ff"/>
                </a:solidFill>
                <a:latin typeface="Arial"/>
              </a:rPr>
              <a:t>0</a:t>
            </a: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6804000" y="4005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42</a:t>
            </a:r>
            <a:r>
              <a:rPr b="1" lang="ru-RU" sz="4000" spc="-1" strike="noStrike" baseline="30000">
                <a:solidFill>
                  <a:srgbClr val="ff0000"/>
                </a:solidFill>
                <a:latin typeface="Arial"/>
              </a:rPr>
              <a:t>0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411280" y="5661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а деления-0,1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AG00158_"/>
          <p:cNvPicPr/>
          <p:nvPr/>
        </p:nvPicPr>
        <p:blipFill>
          <a:blip r:embed="rId2"/>
          <a:stretch/>
        </p:blipFill>
        <p:spPr>
          <a:xfrm>
            <a:off x="900000" y="4653000"/>
            <a:ext cx="1079640" cy="1606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AG00164_"/>
          <p:cNvPicPr/>
          <p:nvPr/>
        </p:nvPicPr>
        <p:blipFill>
          <a:blip r:embed="rId3"/>
          <a:stretch/>
        </p:blipFill>
        <p:spPr>
          <a:xfrm>
            <a:off x="6443640" y="5084640"/>
            <a:ext cx="1901880" cy="1440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5"/>
          <p:cNvSpPr/>
          <p:nvPr/>
        </p:nvSpPr>
        <p:spPr>
          <a:xfrm>
            <a:off x="2340000" y="400536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36,6</a:t>
            </a:r>
            <a:r>
              <a:rPr b="1" lang="ru-RU" sz="4000" spc="-1" strike="noStrike" baseline="30000">
                <a:solidFill>
                  <a:srgbClr val="0066ff"/>
                </a:solidFill>
                <a:latin typeface="Arial"/>
              </a:rPr>
              <a:t>0</a:t>
            </a: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4788000" y="4005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37</a:t>
            </a:r>
            <a:r>
              <a:rPr b="1" lang="ru-RU" sz="4000" spc="-1" strike="noStrike" baseline="30000">
                <a:solidFill>
                  <a:srgbClr val="ff0000"/>
                </a:solidFill>
                <a:latin typeface="Arial"/>
              </a:rPr>
              <a:t>0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05:41:49Z</dcterms:created>
  <dc:creator>я</dc:creator>
  <dc:description/>
  <dc:language>en-US</dc:language>
  <cp:lastModifiedBy>Коля</cp:lastModifiedBy>
  <dcterms:modified xsi:type="dcterms:W3CDTF">2013-05-28T20:18:39Z</dcterms:modified>
  <cp:revision>30</cp:revision>
  <dc:subject/>
  <dc:title>БИОЛОГИЯ В МИРЕ ТЕМПЕРАТУР</dc:title>
</cp:coreProperties>
</file>