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36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43.png" ContentType="image/png"/>
  <Override PartName="/ppt/media/image35.png" ContentType="image/png"/>
  <Override PartName="/ppt/media/image5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gif" ContentType="image/gif"/>
  <Override PartName="/ppt/media/image4.jpeg" ContentType="image/jpeg"/>
  <Override PartName="/ppt/media/image3.png" ContentType="image/png"/>
  <Override PartName="/ppt/media/image2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58D-4754-43A9-819F-FC2B721F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DE4-D7B6-44F6-9331-82A1861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BFD-60B6-4FE7-8A83-62A50B21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03-8D70-424D-87E8-DB7C35F0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EF9-19D6-4E2B-B29B-62F84659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0C0-59D6-40E7-AFE4-ED0B964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AC6-A65E-4F62-854A-4CF14975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563-D8AC-4356-8F87-7F9826EF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BDB-A513-4E53-957A-1745BC2F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128-6CC0-4F52-93FC-72A1813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855-5E7F-45CB-A4AC-351B9DE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A89-4050-4730-9629-0AD4E17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B27-560A-4111-8799-BEEB39664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Школьная научная конференц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МОУ СОШ им. К.Карданов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59280" y="4076280"/>
            <a:ext cx="56275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Проект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ученица 11б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ОУ СОШ  им. К.Кар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Карданова 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Руководитель: Кушхова Г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         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Аушигер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116000" y="2133720"/>
            <a:ext cx="72010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Температура 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живых существ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Наибольшая и наименьшая температура тел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178440" cy="23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220085230419"/>
          <p:cNvPicPr/>
          <p:nvPr/>
        </p:nvPicPr>
        <p:blipFill>
          <a:blip r:embed="rId2"/>
          <a:stretch/>
        </p:blipFill>
        <p:spPr>
          <a:xfrm>
            <a:off x="611280" y="347832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686480" y="558900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з «Книги рекордов Гиннес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132000" y="2132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46,5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67840" y="28605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14,2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518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степени повышения температуры бывает: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убфебрильная температура (37 -38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ренно лихорадочная (38 – 39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 лихорадочная (39 - 41°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рхлихорадочная или гиперпиретическая (выше 41°С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755640" y="333360"/>
            <a:ext cx="4867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росим у доктора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риотерапия и криохирург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3673440" cy="299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38005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5364000" y="3914640"/>
            <a:ext cx="363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68360" y="260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Какую температуру воздуха может выдержа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564000" y="2060640"/>
            <a:ext cx="5184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 веке английские физики Благден и Чентри проводили на себе опыты по определению наибольшей температуры воздуха, которую может выдержать человек. Они проводили целые часы в натопленной печи хлебопекар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лось, что при постепенном нагревании в сухом воздухе человек способен выдержать не только температуру кипения воды но и много выше до 2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ТЕМПЕРАТУРА ТЕЛ 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543400" cy="316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2411280" y="4476600"/>
            <a:ext cx="3529080" cy="217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7195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35 до 38° С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1954440" cy="17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2267280" cy="173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132000" y="1628640"/>
            <a:ext cx="2232000" cy="2038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631440" y="5515560"/>
            <a:ext cx="75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человек, обезьяна, мул, осел, лошадь, крыса, мышь и 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5"/>
          <a:stretch/>
        </p:blipFill>
        <p:spPr>
          <a:xfrm>
            <a:off x="6227640" y="1628640"/>
            <a:ext cx="23450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37 до 39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2819520" cy="1842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728280" y="5804640"/>
            <a:ext cx="73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крупный рогатый скот, овцы, собаки, кошки, кролики и 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2957400" cy="175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2109960" cy="281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213048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5940360" y="1125360"/>
            <a:ext cx="2943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40 до 41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6560" y="6165000"/>
            <a:ext cx="53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индюк, гусь, утка, сова, пеликан и ястре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468360" y="1743120"/>
            <a:ext cx="2303280" cy="173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812960" cy="192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4"/>
          <a:stretch/>
        </p:blipFill>
        <p:spPr>
          <a:xfrm>
            <a:off x="3851280" y="3933720"/>
            <a:ext cx="1978200" cy="14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5"/>
          <a:stretch/>
        </p:blipFill>
        <p:spPr>
          <a:xfrm>
            <a:off x="6948360" y="4076640"/>
            <a:ext cx="1430640" cy="22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6"/>
          <a:stretch/>
        </p:blipFill>
        <p:spPr>
          <a:xfrm>
            <a:off x="3419640" y="1773360"/>
            <a:ext cx="2019240" cy="17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42 до 43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35160" cy="2139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73080" y="6165000"/>
            <a:ext cx="70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ы, голуби и некоторые распространенные маленькие пти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619800" cy="2419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012000" y="1989000"/>
            <a:ext cx="2757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3579840" cy="23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635280" y="1197000"/>
            <a:ext cx="5335560" cy="19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960720" cy="263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4716360" y="3274920"/>
            <a:ext cx="4427640" cy="3422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826920" y="187560"/>
            <a:ext cx="76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Как охлаждаются теплокров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животные в жару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ознакомиться глубже с видами медицинских термо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знать о значении температуры в жизни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NC00436"/>
          <p:cNvPicPr/>
          <p:nvPr/>
        </p:nvPicPr>
        <p:blipFill>
          <a:blip r:embed="rId1"/>
          <a:stretch/>
        </p:blipFill>
        <p:spPr>
          <a:xfrm>
            <a:off x="5667480" y="177336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492280"/>
            <a:ext cx="797868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686400" cy="381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3"/>
          <a:stretch/>
        </p:blipFill>
        <p:spPr>
          <a:xfrm>
            <a:off x="1835280" y="2708280"/>
            <a:ext cx="3784320" cy="2838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473040" y="3322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оведение животных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уществуют различные виды медицинских термометров, а именно, ртутные и электро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ература тела живого организма позволяет судить о его состоя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ература тел живых существ различна: от 35 до 43 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фессия врача меня стало привлекать еще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Е = </a:t>
            </a: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mv</a:t>
            </a:r>
            <a:r>
              <a:rPr b="1" lang="ru-RU" sz="3200" spc="-1" strike="noStrike" baseline="30000">
                <a:solidFill>
                  <a:srgbClr val="000099"/>
                </a:solidFill>
                <a:latin typeface="Arial Black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/2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Е = 3/2*</a:t>
            </a: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k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= 1,38 •1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Дж/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зывается постоянной Больцм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5968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42920" y="76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174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492360" y="6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17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659640" y="765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1730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050920" y="980640"/>
            <a:ext cx="863640" cy="5545440"/>
            <a:chOff x="2050920" y="980640"/>
            <a:chExt cx="863640" cy="5545440"/>
          </a:xfrm>
        </p:grpSpPr>
        <p:sp>
          <p:nvSpPr>
            <p:cNvPr id="53" name="Oval 3"/>
            <p:cNvSpPr/>
            <p:nvPr/>
          </p:nvSpPr>
          <p:spPr>
            <a:xfrm>
              <a:off x="2050920" y="5734080"/>
              <a:ext cx="863640" cy="792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2195640" y="980640"/>
              <a:ext cx="502920" cy="4753080"/>
              <a:chOff x="2195640" y="980640"/>
              <a:chExt cx="502920" cy="4753080"/>
            </a:xfrm>
          </p:grpSpPr>
          <p:sp>
            <p:nvSpPr>
              <p:cNvPr id="55" name="Line 5"/>
              <p:cNvSpPr/>
              <p:nvPr/>
            </p:nvSpPr>
            <p:spPr>
              <a:xfrm flipV="1">
                <a:off x="2484360" y="980640"/>
                <a:ext cx="0" cy="4753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"/>
              <p:cNvSpPr/>
              <p:nvPr/>
            </p:nvSpPr>
            <p:spPr>
              <a:xfrm>
                <a:off x="2195640" y="5229360"/>
                <a:ext cx="50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"/>
              <p:cNvSpPr/>
              <p:nvPr/>
            </p:nvSpPr>
            <p:spPr>
              <a:xfrm>
                <a:off x="2195640" y="1557360"/>
                <a:ext cx="50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8"/>
          <p:cNvSpPr/>
          <p:nvPr/>
        </p:nvSpPr>
        <p:spPr>
          <a:xfrm>
            <a:off x="3419640" y="4869000"/>
            <a:ext cx="4824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вление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16360" y="1413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1890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С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едложена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742г.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B200169"/>
          <p:cNvPicPr/>
          <p:nvPr/>
        </p:nvPicPr>
        <p:blipFill>
          <a:blip r:embed="rId1"/>
          <a:stretch/>
        </p:blipFill>
        <p:spPr>
          <a:xfrm>
            <a:off x="539640" y="0"/>
            <a:ext cx="42642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24360" y="40464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B280031"/>
          <p:cNvPicPr/>
          <p:nvPr/>
        </p:nvPicPr>
        <p:blipFill>
          <a:blip r:embed="rId2"/>
          <a:stretch/>
        </p:blipFill>
        <p:spPr>
          <a:xfrm>
            <a:off x="5940360" y="0"/>
            <a:ext cx="18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иды медицинских термомет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B220008"/>
          <p:cNvPicPr/>
          <p:nvPr/>
        </p:nvPicPr>
        <p:blipFill>
          <a:blip r:embed="rId1"/>
          <a:stretch/>
        </p:blipFill>
        <p:spPr>
          <a:xfrm rot="21152400">
            <a:off x="611280" y="4005000"/>
            <a:ext cx="8229600" cy="170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PB280040"/>
          <p:cNvPicPr/>
          <p:nvPr/>
        </p:nvPicPr>
        <p:blipFill>
          <a:blip r:embed="rId2"/>
          <a:stretch/>
        </p:blipFill>
        <p:spPr>
          <a:xfrm rot="21137400">
            <a:off x="250920" y="1989000"/>
            <a:ext cx="820260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B220008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H="1">
            <a:off x="1331640" y="5805360"/>
            <a:ext cx="2879640" cy="43200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356000" y="544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рт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H="1">
            <a:off x="1331640" y="3357720"/>
            <a:ext cx="2879640" cy="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500720" y="306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ш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1116000" y="1413000"/>
            <a:ext cx="3240000" cy="93636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356000" y="10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капи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1258560" y="4797360"/>
            <a:ext cx="3025800" cy="719280"/>
          </a:xfrm>
          <a:prstGeom prst="line">
            <a:avLst/>
          </a:prstGeom>
          <a:ln w="76320">
            <a:solidFill>
              <a:srgbClr val="0066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428472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Сужение капиля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PB220008"/>
          <p:cNvPicPr/>
          <p:nvPr/>
        </p:nvPicPr>
        <p:blipFill>
          <a:blip r:embed="rId2"/>
          <a:stretch/>
        </p:blipFill>
        <p:spPr>
          <a:xfrm>
            <a:off x="6948360" y="765000"/>
            <a:ext cx="1782720" cy="3240360"/>
          </a:xfrm>
          <a:prstGeom prst="rect">
            <a:avLst/>
          </a:prstGeom>
          <a:ln w="0">
            <a:noFill/>
          </a:ln>
        </p:spPr>
      </p:pic>
      <p:sp>
        <p:nvSpPr>
          <p:cNvPr id="77" name="Line 15"/>
          <p:cNvSpPr/>
          <p:nvPr/>
        </p:nvSpPr>
        <p:spPr>
          <a:xfrm flipV="1">
            <a:off x="4932360" y="2420640"/>
            <a:ext cx="2952720" cy="2087640"/>
          </a:xfrm>
          <a:prstGeom prst="line">
            <a:avLst/>
          </a:prstGeom>
          <a:ln w="5724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PB220008"/>
          <p:cNvPicPr/>
          <p:nvPr/>
        </p:nvPicPr>
        <p:blipFill>
          <a:blip r:embed="rId1"/>
          <a:stretch/>
        </p:blipFill>
        <p:spPr>
          <a:xfrm>
            <a:off x="468360" y="2276640"/>
            <a:ext cx="822960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елы измер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4360" y="335772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55640" y="400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1" lang="ru-RU" sz="4000" spc="-1" strike="noStrike" baseline="30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04000" y="400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411280" y="566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а деления-0,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AG00158_"/>
          <p:cNvPicPr/>
          <p:nvPr/>
        </p:nvPicPr>
        <p:blipFill>
          <a:blip r:embed="rId2"/>
          <a:stretch/>
        </p:blipFill>
        <p:spPr>
          <a:xfrm>
            <a:off x="900000" y="4653000"/>
            <a:ext cx="1079640" cy="160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G00164_"/>
          <p:cNvPicPr/>
          <p:nvPr/>
        </p:nvPicPr>
        <p:blipFill>
          <a:blip r:embed="rId3"/>
          <a:stretch/>
        </p:blipFill>
        <p:spPr>
          <a:xfrm>
            <a:off x="6443640" y="5084640"/>
            <a:ext cx="1901880" cy="144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5"/>
          <p:cNvSpPr/>
          <p:nvPr/>
        </p:nvSpPr>
        <p:spPr>
          <a:xfrm>
            <a:off x="2340000" y="4005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36,6</a:t>
            </a:r>
            <a:r>
              <a:rPr b="1" lang="ru-RU" sz="4000" spc="-1" strike="noStrike" baseline="30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788000" y="400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41:49Z</dcterms:created>
  <dc:creator>я</dc:creator>
  <dc:description/>
  <dc:language>en-US</dc:language>
  <cp:lastModifiedBy>Коля</cp:lastModifiedBy>
  <dcterms:modified xsi:type="dcterms:W3CDTF">2013-05-28T20:18:39Z</dcterms:modified>
  <cp:revision>30</cp:revision>
  <dc:subject/>
  <dc:title>БИОЛОГИЯ В МИРЕ ТЕМПЕРАТУР</dc:title>
</cp:coreProperties>
</file>