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45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10.gif" ContentType="image/gif"/>
  <Override PartName="/ppt/media/image33.jpeg" ContentType="image/jpeg"/>
  <Override PartName="/ppt/media/image27.jpeg" ContentType="image/jpeg"/>
  <Override PartName="/ppt/media/image36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43.png" ContentType="image/png"/>
  <Override PartName="/ppt/media/image35.png" ContentType="image/png"/>
  <Override PartName="/ppt/media/image5.jpeg" ContentType="image/jpeg"/>
  <Override PartName="/ppt/media/image12.jpeg" ContentType="image/jpeg"/>
  <Override PartName="/ppt/media/image34.png" ContentType="image/png"/>
  <Override PartName="/ppt/media/image4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1.gif" ContentType="image/gif"/>
  <Override PartName="/ppt/media/image4.jpeg" ContentType="image/jpeg"/>
  <Override PartName="/ppt/media/image3.png" ContentType="image/png"/>
  <Override PartName="/ppt/media/image26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B2D-338E-4658-AF74-D4CD1E77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000-6DC7-4F2E-B63D-46078141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87A-C3F9-449F-893C-07BC522F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C1BC-9CF2-4C7E-BC7F-9072FD8A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C12-F1E9-4482-AD85-3D050526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A36-6781-4F5F-852E-386807D4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060-C40F-41F6-BEBC-4880BE48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005-C577-4722-9C86-F01516D3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E32-CEBC-445F-A2A5-CDD6CF51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80B-2164-4BC8-A9C5-E1D9EDD6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6A5-FB57-421C-96D8-D2E79E1B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828-845F-4F28-BE28-D0840247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F385-AA6F-436B-8E5E-88CF7FF30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Школьная научная конференция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МОУ СОШ им. К.Карданова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«Шаг в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59280" y="4076280"/>
            <a:ext cx="56275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Проект 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ученица 11б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МОУ СОШ  им. К.Кард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Карданова Ма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Руководитель: Кушхова Г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          </a:t>
            </a: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Аушигер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1116000" y="2133720"/>
            <a:ext cx="7201080" cy="16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Температура 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живых существ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Наибольшая и наименьшая температура тела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178440" cy="233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1220085230419"/>
          <p:cNvPicPr/>
          <p:nvPr/>
        </p:nvPicPr>
        <p:blipFill>
          <a:blip r:embed="rId2"/>
          <a:stretch/>
        </p:blipFill>
        <p:spPr>
          <a:xfrm>
            <a:off x="611280" y="3478320"/>
            <a:ext cx="3600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686480" y="558900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Из «Книги рекордов Гиннес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132000" y="2132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46,5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167840" y="28605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14,2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2133360"/>
            <a:ext cx="5184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 степени повышения температуры бывает: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убфебрильная температура (37 -38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ренно лихорадочная (38 – 39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соко лихорадочная (39 - 41°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верхлихорадочная или гиперпиретическая (выше 41°С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7"/>
          <p:cNvSpPr txBox="1"/>
          <p:nvPr/>
        </p:nvSpPr>
        <p:spPr>
          <a:xfrm>
            <a:off x="755640" y="333360"/>
            <a:ext cx="48672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просим у доктора</a:t>
            </a:r>
            <a:endParaRPr b="0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криотерапия и криохирург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3673440" cy="299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380052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3"/>
          <a:stretch/>
        </p:blipFill>
        <p:spPr>
          <a:xfrm>
            <a:off x="5364000" y="3914640"/>
            <a:ext cx="3638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2376360" cy="2520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68360" y="260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Какую температуру воздуха может выдержать челов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564000" y="2060640"/>
            <a:ext cx="5184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 веке английские физики Благден и Чентри проводили на себе опыты по определению наибольшей температуры воздуха, которую может выдержать человек. Они проводили целые часы в натопленной печи хлебопекар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залось, что при постепенном нагревании в сухом воздухе человек способен выдержать не только температуру кипения воды но и много выше до 20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ТЕМПЕРАТУРА ТЕЛ  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2543400" cy="316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2411280" y="4476600"/>
            <a:ext cx="3529080" cy="2170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37195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 Black"/>
              </a:rPr>
              <a:t>От 35 до 38° С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1954440" cy="176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1547640" y="3429000"/>
            <a:ext cx="2267280" cy="1739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3132000" y="1628640"/>
            <a:ext cx="2232000" cy="2038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631440" y="5515560"/>
            <a:ext cx="75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человек, обезьяна, мул, осел, лошадь, крыса, мышь и с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4788000" y="32846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5"/>
          <a:stretch/>
        </p:blipFill>
        <p:spPr>
          <a:xfrm>
            <a:off x="6227640" y="1628640"/>
            <a:ext cx="23450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 Black"/>
              </a:rPr>
              <a:t>От 37 до 39° 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116000" y="3357720"/>
            <a:ext cx="2819520" cy="18428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728280" y="5804640"/>
            <a:ext cx="73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 Black"/>
              </a:rPr>
              <a:t>крупный рогатый скот, овцы, собаки, кошки, кролики и свин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2957400" cy="1755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2109960" cy="2813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4"/>
          <a:stretch/>
        </p:blipFill>
        <p:spPr>
          <a:xfrm>
            <a:off x="5003640" y="3573360"/>
            <a:ext cx="2130480" cy="2176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5"/>
          <a:stretch/>
        </p:blipFill>
        <p:spPr>
          <a:xfrm>
            <a:off x="5940360" y="1125360"/>
            <a:ext cx="294336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 Black"/>
              </a:rPr>
              <a:t>От 40 до 41° 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16560" y="6165000"/>
            <a:ext cx="53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Black"/>
              </a:rPr>
              <a:t>индюк, гусь, утка, сова, пеликан и ястре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6732720" y="1628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468360" y="1743120"/>
            <a:ext cx="2303280" cy="173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1812960" cy="192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4"/>
          <a:stretch/>
        </p:blipFill>
        <p:spPr>
          <a:xfrm>
            <a:off x="3851280" y="3933720"/>
            <a:ext cx="1978200" cy="148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5"/>
          <a:stretch/>
        </p:blipFill>
        <p:spPr>
          <a:xfrm>
            <a:off x="6948360" y="4076640"/>
            <a:ext cx="1430640" cy="22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6"/>
          <a:stretch/>
        </p:blipFill>
        <p:spPr>
          <a:xfrm>
            <a:off x="3419640" y="1773360"/>
            <a:ext cx="2019240" cy="17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 Black"/>
              </a:rPr>
              <a:t>От 42 до 43° 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035160" cy="2139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73080" y="6165000"/>
            <a:ext cx="70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ы, голуби и некоторые распространенные маленькие пти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2268360" y="3573360"/>
            <a:ext cx="3619800" cy="2419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6012000" y="1989000"/>
            <a:ext cx="27572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1484280"/>
            <a:ext cx="3579840" cy="2386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3635280" y="1197000"/>
            <a:ext cx="5335560" cy="19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960720" cy="2631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4"/>
          <a:stretch/>
        </p:blipFill>
        <p:spPr>
          <a:xfrm>
            <a:off x="4716360" y="3274920"/>
            <a:ext cx="4427640" cy="3422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826920" y="187560"/>
            <a:ext cx="76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Как охлаждаются теплокровны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            </a:t>
            </a: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животные в жару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Цель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Познакомиться глубже с видами медицинских термо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знать о значении температуры в жизни человека и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NC00436"/>
          <p:cNvPicPr/>
          <p:nvPr/>
        </p:nvPicPr>
        <p:blipFill>
          <a:blip r:embed="rId1"/>
          <a:stretch/>
        </p:blipFill>
        <p:spPr>
          <a:xfrm>
            <a:off x="5667480" y="1773360"/>
            <a:ext cx="297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2492280"/>
            <a:ext cx="797868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1"/>
          <a:stretch/>
        </p:blipFill>
        <p:spPr>
          <a:xfrm>
            <a:off x="5364000" y="2852640"/>
            <a:ext cx="3686400" cy="3810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3"/>
          <a:stretch/>
        </p:blipFill>
        <p:spPr>
          <a:xfrm>
            <a:off x="1835280" y="2708280"/>
            <a:ext cx="3784320" cy="2838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5"/>
          <p:cNvSpPr/>
          <p:nvPr/>
        </p:nvSpPr>
        <p:spPr>
          <a:xfrm>
            <a:off x="473040" y="332280"/>
            <a:ext cx="79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Поведение животных при низких температу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уществуют различные виды медицинских термометров, а именно, ртутные и электро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емпература тела живого организма позволяет судить о его состоя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емпература тел живых существ различна: от 35 до 43 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офессия врача меня стало привлекать еще б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Е = </a:t>
            </a: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mv</a:t>
            </a:r>
            <a:r>
              <a:rPr b="1" lang="ru-RU" sz="3200" spc="-1" strike="noStrike" baseline="30000">
                <a:solidFill>
                  <a:srgbClr val="000099"/>
                </a:solidFill>
                <a:latin typeface="Arial Black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/2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Е = 3/2*</a:t>
            </a:r>
            <a:r>
              <a:rPr b="1" lang="en-US" sz="3200" spc="-1" strike="noStrike">
                <a:solidFill>
                  <a:srgbClr val="000099"/>
                </a:solidFill>
                <a:latin typeface="Arial Black"/>
              </a:rPr>
              <a:t>k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гд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= 1,38 •10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-23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Дж/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называется постоянной Больцм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59680" cy="5400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042920" y="76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174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492360" y="692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172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659640" y="765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1730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2050920" y="980640"/>
            <a:ext cx="863640" cy="5545440"/>
            <a:chOff x="2050920" y="980640"/>
            <a:chExt cx="863640" cy="5545440"/>
          </a:xfrm>
        </p:grpSpPr>
        <p:sp>
          <p:nvSpPr>
            <p:cNvPr id="53" name="Oval 3"/>
            <p:cNvSpPr/>
            <p:nvPr/>
          </p:nvSpPr>
          <p:spPr>
            <a:xfrm>
              <a:off x="2050920" y="5734080"/>
              <a:ext cx="863640" cy="792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2195640" y="980640"/>
              <a:ext cx="502920" cy="4753080"/>
              <a:chOff x="2195640" y="980640"/>
              <a:chExt cx="502920" cy="4753080"/>
            </a:xfrm>
          </p:grpSpPr>
          <p:sp>
            <p:nvSpPr>
              <p:cNvPr id="55" name="Line 5"/>
              <p:cNvSpPr/>
              <p:nvPr/>
            </p:nvSpPr>
            <p:spPr>
              <a:xfrm flipV="1">
                <a:off x="2484360" y="980640"/>
                <a:ext cx="0" cy="4753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6"/>
              <p:cNvSpPr/>
              <p:nvPr/>
            </p:nvSpPr>
            <p:spPr>
              <a:xfrm>
                <a:off x="2195640" y="5229360"/>
                <a:ext cx="502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7"/>
              <p:cNvSpPr/>
              <p:nvPr/>
            </p:nvSpPr>
            <p:spPr>
              <a:xfrm>
                <a:off x="2195640" y="1557360"/>
                <a:ext cx="502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 Box 8"/>
          <p:cNvSpPr/>
          <p:nvPr/>
        </p:nvSpPr>
        <p:spPr>
          <a:xfrm>
            <a:off x="3419640" y="4869000"/>
            <a:ext cx="4824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вление ль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16360" y="141300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пение в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24000" y="189000"/>
            <a:ext cx="84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КА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С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едложена 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742г.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B200169"/>
          <p:cNvPicPr/>
          <p:nvPr/>
        </p:nvPicPr>
        <p:blipFill>
          <a:blip r:embed="rId1"/>
          <a:stretch/>
        </p:blipFill>
        <p:spPr>
          <a:xfrm>
            <a:off x="539640" y="0"/>
            <a:ext cx="42642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924360" y="404640"/>
            <a:ext cx="48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B280031"/>
          <p:cNvPicPr/>
          <p:nvPr/>
        </p:nvPicPr>
        <p:blipFill>
          <a:blip r:embed="rId2"/>
          <a:stretch/>
        </p:blipFill>
        <p:spPr>
          <a:xfrm>
            <a:off x="5940360" y="0"/>
            <a:ext cx="187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иды медицинских термометр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PB220008"/>
          <p:cNvPicPr/>
          <p:nvPr/>
        </p:nvPicPr>
        <p:blipFill>
          <a:blip r:embed="rId1"/>
          <a:stretch/>
        </p:blipFill>
        <p:spPr>
          <a:xfrm rot="21152400">
            <a:off x="611280" y="4005000"/>
            <a:ext cx="8229600" cy="170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PB280040"/>
          <p:cNvPicPr/>
          <p:nvPr/>
        </p:nvPicPr>
        <p:blipFill>
          <a:blip r:embed="rId2"/>
          <a:stretch/>
        </p:blipFill>
        <p:spPr>
          <a:xfrm rot="21137400">
            <a:off x="250920" y="1989000"/>
            <a:ext cx="820260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PB220008"/>
          <p:cNvPicPr/>
          <p:nvPr/>
        </p:nvPicPr>
        <p:blipFill>
          <a:blip r:embed="rId1"/>
          <a:stretch/>
        </p:blipFill>
        <p:spPr>
          <a:xfrm>
            <a:off x="324000" y="0"/>
            <a:ext cx="19443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Line 6"/>
          <p:cNvSpPr/>
          <p:nvPr/>
        </p:nvSpPr>
        <p:spPr>
          <a:xfrm flipH="1">
            <a:off x="1331640" y="5805360"/>
            <a:ext cx="2879640" cy="432000"/>
          </a:xfrm>
          <a:prstGeom prst="line">
            <a:avLst/>
          </a:prstGeom>
          <a:ln w="57240">
            <a:solidFill>
              <a:srgbClr val="ff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356000" y="5445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рт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H="1">
            <a:off x="1331640" y="3357720"/>
            <a:ext cx="2879640" cy="0"/>
          </a:xfrm>
          <a:prstGeom prst="line">
            <a:avLst/>
          </a:prstGeom>
          <a:ln w="57240">
            <a:solidFill>
              <a:srgbClr val="ff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500720" y="3068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ш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H="1">
            <a:off x="1116000" y="1413000"/>
            <a:ext cx="3240000" cy="936360"/>
          </a:xfrm>
          <a:prstGeom prst="line">
            <a:avLst/>
          </a:prstGeom>
          <a:ln w="57240">
            <a:solidFill>
              <a:srgbClr val="ff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356000" y="105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капиля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>
            <a:off x="1258560" y="4797360"/>
            <a:ext cx="3025800" cy="719280"/>
          </a:xfrm>
          <a:prstGeom prst="line">
            <a:avLst/>
          </a:prstGeom>
          <a:ln w="76320">
            <a:solidFill>
              <a:srgbClr val="0066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4284720" y="4365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Сужение капиля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PB220008"/>
          <p:cNvPicPr/>
          <p:nvPr/>
        </p:nvPicPr>
        <p:blipFill>
          <a:blip r:embed="rId2"/>
          <a:stretch/>
        </p:blipFill>
        <p:spPr>
          <a:xfrm>
            <a:off x="6948360" y="765000"/>
            <a:ext cx="1782720" cy="3240360"/>
          </a:xfrm>
          <a:prstGeom prst="rect">
            <a:avLst/>
          </a:prstGeom>
          <a:ln w="0">
            <a:noFill/>
          </a:ln>
        </p:spPr>
      </p:pic>
      <p:sp>
        <p:nvSpPr>
          <p:cNvPr id="77" name="Line 15"/>
          <p:cNvSpPr/>
          <p:nvPr/>
        </p:nvSpPr>
        <p:spPr>
          <a:xfrm flipV="1">
            <a:off x="4932360" y="2420640"/>
            <a:ext cx="2952720" cy="2087640"/>
          </a:xfrm>
          <a:prstGeom prst="line">
            <a:avLst/>
          </a:prstGeom>
          <a:ln w="5724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PB220008"/>
          <p:cNvPicPr/>
          <p:nvPr/>
        </p:nvPicPr>
        <p:blipFill>
          <a:blip r:embed="rId1"/>
          <a:stretch/>
        </p:blipFill>
        <p:spPr>
          <a:xfrm>
            <a:off x="468360" y="2276640"/>
            <a:ext cx="8229600" cy="170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елы измерени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84360" y="335772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755640" y="4005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34</a:t>
            </a:r>
            <a:r>
              <a:rPr b="1" lang="ru-RU" sz="4000" spc="-1" strike="noStrike" baseline="30000">
                <a:solidFill>
                  <a:srgbClr val="0066ff"/>
                </a:solidFill>
                <a:latin typeface="Arial"/>
              </a:rPr>
              <a:t>0</a:t>
            </a: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04000" y="4005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42</a:t>
            </a:r>
            <a:r>
              <a:rPr b="1" lang="ru-RU" sz="4000" spc="-1" strike="noStrike" baseline="30000">
                <a:solidFill>
                  <a:srgbClr val="ff0000"/>
                </a:solidFill>
                <a:latin typeface="Arial"/>
              </a:rPr>
              <a:t>0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411280" y="5661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а деления-0,1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AG00158_"/>
          <p:cNvPicPr/>
          <p:nvPr/>
        </p:nvPicPr>
        <p:blipFill>
          <a:blip r:embed="rId2"/>
          <a:stretch/>
        </p:blipFill>
        <p:spPr>
          <a:xfrm>
            <a:off x="900000" y="4653000"/>
            <a:ext cx="1079640" cy="1606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AG00164_"/>
          <p:cNvPicPr/>
          <p:nvPr/>
        </p:nvPicPr>
        <p:blipFill>
          <a:blip r:embed="rId3"/>
          <a:stretch/>
        </p:blipFill>
        <p:spPr>
          <a:xfrm>
            <a:off x="6443640" y="5084640"/>
            <a:ext cx="1901880" cy="1440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5"/>
          <p:cNvSpPr/>
          <p:nvPr/>
        </p:nvSpPr>
        <p:spPr>
          <a:xfrm>
            <a:off x="2340000" y="400536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36,6</a:t>
            </a:r>
            <a:r>
              <a:rPr b="1" lang="ru-RU" sz="4000" spc="-1" strike="noStrike" baseline="30000">
                <a:solidFill>
                  <a:srgbClr val="0066ff"/>
                </a:solidFill>
                <a:latin typeface="Arial"/>
              </a:rPr>
              <a:t>0</a:t>
            </a: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4788000" y="4005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7</a:t>
            </a:r>
            <a:r>
              <a:rPr b="1" lang="ru-RU" sz="4000" spc="-1" strike="noStrike" baseline="30000">
                <a:solidFill>
                  <a:srgbClr val="ff0000"/>
                </a:solidFill>
                <a:latin typeface="Arial"/>
              </a:rPr>
              <a:t>0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5:41:49Z</dcterms:created>
  <dc:creator>я</dc:creator>
  <dc:description/>
  <dc:language>en-US</dc:language>
  <cp:lastModifiedBy>Коля</cp:lastModifiedBy>
  <dcterms:modified xsi:type="dcterms:W3CDTF">2013-05-28T20:18:39Z</dcterms:modified>
  <cp:revision>30</cp:revision>
  <dc:subject/>
  <dc:title>БИОЛОГИЯ В МИРЕ ТЕМПЕРАТУР</dc:title>
</cp:coreProperties>
</file>